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CE5-A996-41E3-9D68-D3EBE8FE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1B0-6DC5-4228-9650-132F21A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BE1-E208-4D29-A07A-1B6F8F6D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D7-AC8F-4B29-8C48-6BA955E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DE5-E47E-4391-88D7-F9F108E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CE3-9846-4C54-A766-B1562F85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FB9-AC3C-4CB7-AB15-00174117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C3C-3203-405E-A946-1A8632B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19E-C9D1-4F7F-8561-63FD219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CD6-40BB-454D-B041-3ED8CCE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E2A-F255-4DA6-9101-BD6BE9E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8AD-2EE6-4BF1-BB24-EF4350D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6FE-72FC-40E2-8164-8A0EA072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2040" y="-119160"/>
            <a:ext cx="9929880" cy="709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D88-6F78-4426-83BB-ED77915844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 to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Quarterl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Issues List and added two columns to the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(High, Medium or 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Implemented By (Market Participants or ERC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issue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an issue for TAC consid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DF9-5598-485F-80CF-53B84D7D8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Z Outage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CREZ-related outage has already been entered in the outage sched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 scheduling is not really an issue until the PUCT issues the scheduling orders for the CREZ CC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ce that order is entered, we expect rapid progress on construction due to the PUCT’s aggressive timeline to complete all CREZ transmission lines by the end of 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94C-2D65-40C8-8C8A-8B05535594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Z Outage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lanning wants to take the lead on the outage coordination issue but is resource-constrain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RTWG members thought the possible market consequences related to this issue are significant enough that stakeholders should provide input and assistance to ERCOT’s resource-constrained planning group to ensure that the key issues are addressed and the right economic outcomes ar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A69-10D7-4F70-A8E0-7D239A67CD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Z Outage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TAC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Dan Woodfin to host an RPG discussion and report 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he issue to W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he issue to ROS to consider other reliability-related issu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4C8-B462-41DA-A432-5E8DEBBED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input from ERCOT Board on draft TRIP with the intent to finalize that document during the fall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whitepaper on Wind Ramping Events (possible ways to deal with both low and high ramp rates of wind gen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sults of the “NERC Special Report: Accommodating High Levels of Variable Generation” and determine applicability (if any)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review of solar technologies and their impact on grid planning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809-D75A-4C3A-B980-F5368F694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961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6F1-E466-4DDB-A2CA-BF95C5D84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Henry Durrwachter</cp:lastModifiedBy>
  <dcterms:modified xsi:type="dcterms:W3CDTF">2009-07-02T14:49:18Z</dcterms:modified>
  <cp:revision>18</cp:revision>
  <dc:subject/>
  <dc:title>Slide 1</dc:title>
</cp:coreProperties>
</file>