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5525-E373-47E9-8A3D-68E181C6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46D8-BBDA-4663-97AE-94C61DE3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51E2-9855-46AD-9B00-24306C85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F0E-E261-47F6-A4B4-557E13A5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461-C9A2-494E-8CC2-8D08A7C4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730-22F0-4028-8DAA-E3315F35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3FE-032A-4840-9F5C-F1B82958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F65-DEE3-4451-966C-A043ADCF0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5A9F-6B51-4653-BD7E-D5FDF283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3B64-4A36-4A78-BA8F-E7DC5123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AEF-8325-41B2-97B9-972C17404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AF0-D6CC-4EF1-85F0-D905254E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8013-2218-41A7-9526-51EE22A2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80CD-272B-4A82-833D-E2683DE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BB19-43A3-4FC7-9ECF-6C2D1F7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3EDB-B019-4427-A0BA-E88564D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CE83-41D8-4241-BAD9-86815F2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99E9-F6C4-43E0-A199-B1C5DAF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0F65-FC3E-47CF-8765-8BA4E00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F5E0-DAFD-4389-8A03-68BB07B6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165E-298D-4F0E-9112-DAC7315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D999-3237-4588-B261-6C356AA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ECBC-1929-46C8-8893-AA37AA6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8466-D134-437C-B461-35C60CD3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BA8-5298-441A-8741-38FDBC6E7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3832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Program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ke Cle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r. VP and Chief Technology Offi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Review &amp; Contr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        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of the effort into t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1 (Significant/high volume of changes): 3, 4, 5, 6, 7, 8, 9, 16, 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2 (Moderate): 10, 11, 12, 13, 20, 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r 3 (Low impact): 1, 2, 14, 15, 18, 19, 21, 23, 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lignmen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-level analysis: Bob Spangler, Floyd Tref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business owners for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information to ERCOT Readiness Team for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ERCOT to review late J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, 4, 5, 6: ERCOT to review Sept./O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, 9, 16, 17: ERCOT to review Oct./N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5"/>
          <p:cNvSpPr/>
          <p:nvPr/>
        </p:nvSpPr>
        <p:spPr>
          <a:xfrm>
            <a:off x="2514600" y="14479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isks &amp; Issues to Achieving Nodal’s Major Milesto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Integrated Systems (2-12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Resource constraints for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Handling CMM delays for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rials (2-12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Reconciling protocols, systems and market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Go-Live (12-1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Data Center capacity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Integrity of network model data from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mond 5"/>
          <p:cNvSpPr/>
          <p:nvPr/>
        </p:nvSpPr>
        <p:spPr>
          <a:xfrm>
            <a:off x="457200" y="10666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mond 7"/>
          <p:cNvSpPr/>
          <p:nvPr/>
        </p:nvSpPr>
        <p:spPr>
          <a:xfrm>
            <a:off x="457200" y="365760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iamond 8"/>
          <p:cNvSpPr/>
          <p:nvPr/>
        </p:nvSpPr>
        <p:spPr>
          <a:xfrm>
            <a:off x="457200" y="259092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133800" y="2514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79520" y="109548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Achie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Tes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Control &amp;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s &amp;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969840" y="857160"/>
          <a:ext cx="72025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857160"/>
                    <a:ext cx="72025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MM/NMMS Milestone Sli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79520" y="101916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ive defects found in custom components delivered in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4.1 custom components required for end-to-end testing will be delivered o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unctionality: Credit monitoring (8 custom compon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mplete CMM 4.2 custom components in house and deliver by Febr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unctionality: Internal reports, repor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4.3’s components rolled into 4.1 and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M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delay exiting FAT due to testing-resource constraints (due June 23, delivered June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gnificant Accomplish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Date Placeholder 40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9520" y="101916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Vendor Software Deliveries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5 delivered to iTest July 7 (3 days ahead of sched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6 delivered to iTest Jul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7 exited FAT Jun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 Go-Live on Track for August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Contract Re-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argeted vendor contracts re-nego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RCOT control and over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ed up unfavorable language in contractua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ystem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5410080" y="645804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838080"/>
          <a:ext cx="7696440" cy="522468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4075200"/>
                <a:gridCol w="704520"/>
                <a:gridCol w="471600"/>
                <a:gridCol w="469800"/>
                <a:gridCol w="470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Critical Def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2/Jul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5 final release; currently in FAT and scheduled to exit Aug.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5 Patch 1 preliminary drop to iTest July 7 (scheduled July 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interfaces to test by Sept. 1; test planning unde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Manager UI to exit FAT July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114480" indent="-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1.9 final release; currently in FAT and scheduled to exit Aug. 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of 9 interfaces in iTest, 2 in FAT, 4 in execution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</a:tr>
              <a:tr h="25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ind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 4.1 in FAT; on schedule to exit July 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MM 4.2 components scheduled to exit FAT by July 31; remaining components combined with CMM 4.3 and to exit FAT February 2010 (internal functions only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of 5 interfaces currently in i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tanding release: CMM 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 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151 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testing complete; 7 of 8 interfaces currently in i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ing refactoring completion by September 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testing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ing refactoring completion by August 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ing comple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3 interfaces currently in iTest; 96% of testing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System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5638680" y="645804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990720"/>
          <a:ext cx="6230880" cy="3382920"/>
        </p:xfrm>
        <a:graphic>
          <a:graphicData uri="http://schemas.openxmlformats.org/drawingml/2006/table">
            <a:tbl>
              <a:tblPr/>
              <a:tblGrid>
                <a:gridCol w="777600"/>
                <a:gridCol w="3349800"/>
                <a:gridCol w="731880"/>
                <a:gridCol w="457200"/>
                <a:gridCol w="457200"/>
                <a:gridCol w="457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Critical Def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2/Jul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7 final release; exited FAT June 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3 interfaces have exited FAT and are currently in i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6 Patch 3 deployed to iTest July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13 interfaces’ test plans now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 Patch 3 completed FAT June 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 Patch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b050"/>
                          </a:solidFill>
                          <a:latin typeface="Wingdings 3"/>
                          <a:ea typeface="Wingdings 3"/>
                        </a:rPr>
                        <a:t>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f0f3"/>
                    </a:solidFill>
                  </a:tcPr>
                </a:tc>
              </a:tr>
              <a:tr h="232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test plan for 12 of 13 interfaces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efect patches planned for OS 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.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excluding ROO def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Verification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5486400" y="645804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914400"/>
          <a:ext cx="7238880" cy="5140440"/>
        </p:xfrm>
        <a:graphic>
          <a:graphicData uri="http://schemas.openxmlformats.org/drawingml/2006/table">
            <a:tbl>
              <a:tblPr/>
              <a:tblGrid>
                <a:gridCol w="1706400"/>
                <a:gridCol w="3168720"/>
                <a:gridCol w="592200"/>
                <a:gridCol w="590760"/>
                <a:gridCol w="590400"/>
                <a:gridCol w="590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Critical Def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2/Jul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/Adapter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management strategy undergoing review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-to-system testing of connectors in progress using Common Data 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5 available for I/A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/Level 2 testing running behind, but working on efficiency gains in automation areas, early Level 3 testing and other adjustm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Def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st Def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1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 3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 3"/>
                          <a:ea typeface="Wingdings 3"/>
                        </a:rPr>
                        <a:t>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to-End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E2E testing started with CRR auction settl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E2E testing planned in July (7 functional strings in tot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E2E to start in late Septe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plan to be rolled out at August TAC mee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Go-Live training for TSPs began June 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Trials submission testing begins in October 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Readi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etailed planning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etailed planning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adi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is being fin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performance testing under 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utover validation and implementation under 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grated Test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1239840"/>
          <a:ext cx="6096240" cy="2936880"/>
        </p:xfrm>
        <a:graphic>
          <a:graphicData uri="http://schemas.openxmlformats.org/drawingml/2006/table">
            <a:tbl>
              <a:tblPr/>
              <a:tblGrid>
                <a:gridCol w="914400"/>
                <a:gridCol w="2667240"/>
                <a:gridCol w="1295280"/>
                <a:gridCol w="1219320"/>
              </a:tblGrid>
              <a:tr h="369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s to be Tested: 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installed; one record transferred through connector (“smoke test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ested using a common data set with multiple rec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-to-system functional test; connector tested with system-generated 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2" name="Content Placeholder 2"/>
          <p:cNvSpPr/>
          <p:nvPr/>
        </p:nvSpPr>
        <p:spPr>
          <a:xfrm>
            <a:off x="6629400" y="121932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Comple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. 22, 2009 (Levels 1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. 13, 2009 (Leve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: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Communications</dc:creator>
  <dc:description/>
  <dc:language>en-US</dc:language>
  <cp:lastModifiedBy>TAC 070909</cp:lastModifiedBy>
  <dcterms:modified xsi:type="dcterms:W3CDTF">2009-07-09T17:33:28Z</dcterms:modified>
  <cp:revision>430</cp:revision>
  <dc:subject>April Board Meeting</dc:subject>
  <dc:title>Nodal Program Update</dc:title>
</cp:coreProperties>
</file>