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E422-F2F8-4B0A-8512-42B48B3D3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DD39-A402-418B-B438-7D6EDC79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C1C4-187A-4DCA-96C7-5703FCD96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7480-9148-43FB-AA91-CDC233026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8DE0-8548-4D89-83A2-6FAAE1DE3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3ED6-08F1-4E32-A29B-58A298AE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AD24-A60B-4A1A-9E33-7EB20072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AC6C-F641-4964-9233-1DBA1313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CCAB-9471-4A1A-BB90-11277E83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F9564-5003-4A11-809B-551DE92A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AAF6-B288-46F9-A333-0ACB6C08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B9C7-C773-4358-8380-AFA19894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9942-8C73-4C30-A804-2A48E5E3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8473-CEA1-4D4E-99EE-C20BBD38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A9C0-BBEC-4136-84C4-3724EF7EE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37394-7694-4946-843C-4DC5579C6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3028A-51C3-4D7D-B089-CD5B6BCEE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22E5-24F6-4BF5-ACB5-68C37897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D885-2579-4113-90AE-C37E40C0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BBF2-0437-483E-9C7B-A168D7DB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A5C3-F135-475E-994A-9CC726F8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3ED0-0ABE-4241-B7EA-FA5DBE0E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B830-CA20-42BA-9FCF-F2049D33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6A80-8F96-4685-9A3D-449A248B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F8D8-1030-4D03-A066-C75997BB101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554C-3354-4B63-B4C2-D0C05E13892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Nodal Implementation Team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C Upda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uly 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200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NIT Updat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itial Meeting June 2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ection of Officers for recommendation to TA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n Blackburn – Chai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ames Jackson – Vice Chai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antra: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 Readines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pics discussed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RCOT Readiness Progra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Entry Model CIM go-live progres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ernal Interface Specification v1.19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CCP Handbook v2.09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RCOT and MP Metrics for Market Trial Readines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1143000"/>
            <a:ext cx="8382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NIT Updat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ick Response Meeting July 7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ernal Interface Specification v1.19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cussed the removal of 19 reports from Web Servic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l v1.19 w/ updates to be posted 7/10/2009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date on Market Trials Submission Test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CCP Handbook punted to ROS &amp; QMW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vised NIT Charter –voting/absten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1143000"/>
            <a:ext cx="8382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NIT Updat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posed Langu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2.3.7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IT Segments, and Consumer Sub-segments, that abstain from voting shall not have their votes included in the total number of votes from which the requisite percentage of affirmative votes is required for action.  For a vote to become a recommendation of NIT, there must be (i) greater than 50% affirmative of the remaining non-abstaining votes and (ii) at least 3.0 affirmative votes.  Segments and Sub-segments that are not present shall be included in the total number of votes from which the requisite percentage of affirmative votes is required for action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placed language: An act or decision of NIT requires a simple majority (51%) of the NIT member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1143000"/>
            <a:ext cx="8382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NIT Updat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xt meetings scheduled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thly 7/28, 8/25, 9/28, 10/27, 12/8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+ as neede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ture Topic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RCOT and Market Participant Readiness  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* see mantra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the ready” for the needs of ERCO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rket Trials Submissions, Timeline and Scenari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twork Model release to QSE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ming of the relea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lance TSPs validation and QSE validation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nsitivity to release RARF data in mod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M Go-Live Readines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al Protocol Section 8 Complia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1143000"/>
            <a:ext cx="8382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IT QUESTION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22:38:09Z</dcterms:created>
  <dc:creator>Luminant</dc:creator>
  <dc:description/>
  <dc:language>en-US</dc:language>
  <cp:lastModifiedBy>Luminant</cp:lastModifiedBy>
  <dcterms:modified xsi:type="dcterms:W3CDTF">2009-07-09T14:32:46Z</dcterms:modified>
  <cp:revision>7</cp:revision>
  <dc:subject/>
  <dc:title>Slide 1</dc:title>
</cp:coreProperties>
</file>