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A09B90-4284-4662-BA92-E4406981F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F45D9C-408D-43B2-AB86-6E8C0018F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8FD512-691D-439C-BEDD-3A94BD36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520BCC-F7A4-4A3A-A0A3-A1803BCD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05ADF6-508F-4965-BB23-1E0514A6E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7814E9-82C9-4A26-9C59-AADAE178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519E57-74F5-4393-B335-7F9BFEB7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3D4825F-3E53-4EB3-B4DD-38C02179B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nomcrhelp@erco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rcot.com/gridinfo/transmission/opsys-change-schedul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golive/index.html" TargetMode="External"/><Relationship Id="rId2" Type="http://schemas.openxmlformats.org/officeDocument/2006/relationships/hyperlink" Target="http://nodal.ercot.com/readiness/golive/index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3ED2ACB-5401-4F37-AB78-B2CF1CED3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ngle Entry Model (SEM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-Live Upd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9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C7189CC8-77DE-41AD-9488-556B6130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 and Approv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320" y="1752480"/>
            <a:ext cx="8915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remaining Stakeholder meeting dates for SEM discussion/approval of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- NDSWG - July 14  &amp;  ROS - July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 -  July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-day Market Notice  - Au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- Aug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- Aug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SWG - Aug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 - Aug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ublishes results and sign-off from Directors – Aug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day Market Notice - Aug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 Go-Live - Aug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9600" y="900000"/>
            <a:ext cx="910440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3C5530A-71A6-44B1-A477-BC1386104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32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EN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SEM Go-Li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summary during June – August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9176D64-E0CB-4C01-BEC2-947417026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547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Entry Model (SEM) Go-Live is the switchover on Aug 31, 2009 for TSP submissions of network operations model change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Service Request” submissions via 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“NOMCR” submissions via the NM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ystem of record for model changes becomes NOMCRs on 8/31/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ystem of record for Network operations Model for reliability and dispatch remains Zonal/Genesys system until Dec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19320" y="2895480"/>
            <a:ext cx="15238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09480" y="3733920"/>
            <a:ext cx="26672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 via Service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6320" y="464832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c Requ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362320" y="4648320"/>
            <a:ext cx="19810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pies/Conv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al Model “se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943600" y="2895480"/>
            <a:ext cx="15238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 3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334120" y="3733920"/>
            <a:ext cx="2666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 Change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/NMMS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cludes ICC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4800600" y="464832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ncrement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s  NOM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Svc Req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loads 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7162920" y="4648320"/>
            <a:ext cx="17524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 nodal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20574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9907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1905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6705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7696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 flipH="1">
            <a:off x="66294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76320" y="5715000"/>
            <a:ext cx="42670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Consistency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4800600" y="5715000"/>
            <a:ext cx="4114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4572000" y="2819520"/>
            <a:ext cx="0" cy="3429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1828800" y="508788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553080" y="508788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8900-8A47-4387-ACDE-73B0B70C0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Network Operations Model Maintenance for TSP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5"/>
          <p:cNvSpPr/>
          <p:nvPr/>
        </p:nvSpPr>
        <p:spPr>
          <a:xfrm>
            <a:off x="914400" y="1295280"/>
            <a:ext cx="1676520" cy="12956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mits Service Request to Chang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7"/>
          <p:cNvGrpSpPr/>
          <p:nvPr/>
        </p:nvGrpSpPr>
        <p:grpSpPr>
          <a:xfrm>
            <a:off x="2590920" y="2514600"/>
            <a:ext cx="5181480" cy="2133720"/>
            <a:chOff x="2590920" y="2514600"/>
            <a:chExt cx="5181480" cy="2133720"/>
          </a:xfrm>
        </p:grpSpPr>
        <p:sp>
          <p:nvSpPr>
            <p:cNvPr id="138" name="Rectangle 11"/>
            <p:cNvSpPr/>
            <p:nvPr/>
          </p:nvSpPr>
          <p:spPr>
            <a:xfrm>
              <a:off x="2590920" y="3505320"/>
              <a:ext cx="5181480" cy="11430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RCOT Nodal NMMS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nodal testing model- CIM file for EMS/MMS/et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Down Arrow 13"/>
            <p:cNvSpPr/>
            <p:nvPr/>
          </p:nvSpPr>
          <p:spPr>
            <a:xfrm>
              <a:off x="6019920" y="2514600"/>
              <a:ext cx="838080" cy="1295280"/>
            </a:xfrm>
            <a:prstGeom prst="downArrow">
              <a:avLst>
                <a:gd name="adj1" fmla="val 50000"/>
                <a:gd name="adj2" fmla="val 50001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Down Arrow 8"/>
            <p:cNvSpPr/>
            <p:nvPr/>
          </p:nvSpPr>
          <p:spPr>
            <a:xfrm>
              <a:off x="2971800" y="2514600"/>
              <a:ext cx="838080" cy="1295280"/>
            </a:xfrm>
            <a:prstGeom prst="downArrow">
              <a:avLst>
                <a:gd name="adj1" fmla="val 50000"/>
                <a:gd name="adj2" fmla="val 50001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Down Arrow 9"/>
            <p:cNvSpPr/>
            <p:nvPr/>
          </p:nvSpPr>
          <p:spPr>
            <a:xfrm>
              <a:off x="4495680" y="2514600"/>
              <a:ext cx="838440" cy="12952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10"/>
            <p:cNvSpPr/>
            <p:nvPr/>
          </p:nvSpPr>
          <p:spPr>
            <a:xfrm>
              <a:off x="2666880" y="266688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odic full copy and conversion of 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zonal seed used for nodal system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152280" y="1371600"/>
            <a:ext cx="762120" cy="1143000"/>
          </a:xfrm>
          <a:prstGeom prst="rect">
            <a:avLst/>
          </a:prstGeom>
          <a:solidFill>
            <a:srgbClr val="6699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D388-7392-4673-B718-4BE544114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fter 8/31/2009</a:t>
            </a: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twork Operations Model Maintenance for TSP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2590920" y="3429000"/>
            <a:ext cx="51814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Nodal N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odal testing model- CIM file for EMS/MMS/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2"/>
          <p:cNvGrpSpPr/>
          <p:nvPr/>
        </p:nvGrpSpPr>
        <p:grpSpPr>
          <a:xfrm>
            <a:off x="2894040" y="2514240"/>
            <a:ext cx="4802400" cy="914760"/>
            <a:chOff x="2894040" y="2514240"/>
            <a:chExt cx="4802400" cy="914760"/>
          </a:xfrm>
        </p:grpSpPr>
        <p:grpSp>
          <p:nvGrpSpPr>
            <p:cNvPr id="149" name="Group 40"/>
            <p:cNvGrpSpPr/>
            <p:nvPr/>
          </p:nvGrpSpPr>
          <p:grpSpPr>
            <a:xfrm>
              <a:off x="2894040" y="2514240"/>
              <a:ext cx="4802400" cy="914760"/>
              <a:chOff x="2894040" y="2514240"/>
              <a:chExt cx="4802400" cy="914760"/>
            </a:xfrm>
          </p:grpSpPr>
          <p:cxnSp>
            <p:nvCxnSpPr>
              <p:cNvPr id="150" name="Straight Arrow Connector 14"/>
              <p:cNvCxnSpPr/>
              <p:nvPr/>
            </p:nvCxnSpPr>
            <p:spPr>
              <a:xfrm flipV="1">
                <a:off x="2894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15"/>
              <p:cNvCxnSpPr/>
              <p:nvPr/>
            </p:nvCxnSpPr>
            <p:spPr>
              <a:xfrm flipV="1">
                <a:off x="3122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16"/>
              <p:cNvCxnSpPr/>
              <p:nvPr/>
            </p:nvCxnSpPr>
            <p:spPr>
              <a:xfrm flipV="1">
                <a:off x="33512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3" name="Straight Arrow Connector 17"/>
              <p:cNvCxnSpPr/>
              <p:nvPr/>
            </p:nvCxnSpPr>
            <p:spPr>
              <a:xfrm flipV="1">
                <a:off x="35812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4" name="Straight Arrow Connector 18"/>
              <p:cNvCxnSpPr/>
              <p:nvPr/>
            </p:nvCxnSpPr>
            <p:spPr>
              <a:xfrm flipV="1">
                <a:off x="38098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5" name="Straight Arrow Connector 20"/>
              <p:cNvCxnSpPr/>
              <p:nvPr/>
            </p:nvCxnSpPr>
            <p:spPr>
              <a:xfrm flipV="1">
                <a:off x="4038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6" name="Straight Arrow Connector 22"/>
              <p:cNvCxnSpPr/>
              <p:nvPr/>
            </p:nvCxnSpPr>
            <p:spPr>
              <a:xfrm flipV="1">
                <a:off x="4263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7" name="Straight Arrow Connector 23"/>
              <p:cNvCxnSpPr/>
              <p:nvPr/>
            </p:nvCxnSpPr>
            <p:spPr>
              <a:xfrm flipV="1">
                <a:off x="4492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8" name="Straight Arrow Connector 24"/>
              <p:cNvCxnSpPr/>
              <p:nvPr/>
            </p:nvCxnSpPr>
            <p:spPr>
              <a:xfrm flipV="1">
                <a:off x="4721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9" name="Straight Arrow Connector 25"/>
              <p:cNvCxnSpPr/>
              <p:nvPr/>
            </p:nvCxnSpPr>
            <p:spPr>
              <a:xfrm flipV="1">
                <a:off x="4951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0" name="Straight Arrow Connector 26"/>
              <p:cNvCxnSpPr/>
              <p:nvPr/>
            </p:nvCxnSpPr>
            <p:spPr>
              <a:xfrm flipV="1">
                <a:off x="5180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1" name="Straight Arrow Connector 27"/>
              <p:cNvCxnSpPr/>
              <p:nvPr/>
            </p:nvCxnSpPr>
            <p:spPr>
              <a:xfrm flipV="1">
                <a:off x="5408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2" name="Straight Arrow Connector 28"/>
              <p:cNvCxnSpPr/>
              <p:nvPr/>
            </p:nvCxnSpPr>
            <p:spPr>
              <a:xfrm flipV="1">
                <a:off x="5638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3" name="Straight Arrow Connector 29"/>
              <p:cNvCxnSpPr/>
              <p:nvPr/>
            </p:nvCxnSpPr>
            <p:spPr>
              <a:xfrm flipV="1">
                <a:off x="5865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4" name="Straight Arrow Connector 30"/>
              <p:cNvCxnSpPr/>
              <p:nvPr/>
            </p:nvCxnSpPr>
            <p:spPr>
              <a:xfrm flipV="1">
                <a:off x="6094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5" name="Straight Arrow Connector 31"/>
              <p:cNvCxnSpPr/>
              <p:nvPr/>
            </p:nvCxnSpPr>
            <p:spPr>
              <a:xfrm flipV="1">
                <a:off x="6324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6" name="Straight Arrow Connector 32"/>
              <p:cNvCxnSpPr/>
              <p:nvPr/>
            </p:nvCxnSpPr>
            <p:spPr>
              <a:xfrm flipV="1">
                <a:off x="65530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7" name="Straight Arrow Connector 33"/>
              <p:cNvCxnSpPr/>
              <p:nvPr/>
            </p:nvCxnSpPr>
            <p:spPr>
              <a:xfrm flipV="1">
                <a:off x="6781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8" name="Straight Arrow Connector 34"/>
              <p:cNvCxnSpPr/>
              <p:nvPr/>
            </p:nvCxnSpPr>
            <p:spPr>
              <a:xfrm flipV="1">
                <a:off x="70074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9" name="Straight Arrow Connector 35"/>
              <p:cNvCxnSpPr/>
              <p:nvPr/>
            </p:nvCxnSpPr>
            <p:spPr>
              <a:xfrm flipV="1">
                <a:off x="72360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0" name="Straight Arrow Connector 36"/>
              <p:cNvCxnSpPr/>
              <p:nvPr/>
            </p:nvCxnSpPr>
            <p:spPr>
              <a:xfrm flipV="1">
                <a:off x="74646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1" name="Straight Arrow Connector 37"/>
              <p:cNvCxnSpPr/>
              <p:nvPr/>
            </p:nvCxnSpPr>
            <p:spPr>
              <a:xfrm flipV="1">
                <a:off x="7694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  <p:sp>
          <p:nvSpPr>
            <p:cNvPr id="172" name="TextBox 41"/>
            <p:cNvSpPr/>
            <p:nvPr/>
          </p:nvSpPr>
          <p:spPr>
            <a:xfrm>
              <a:off x="2895480" y="2833560"/>
              <a:ext cx="480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COT enters NOMCRs into zonal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Striped Right Arrow 42"/>
          <p:cNvSpPr/>
          <p:nvPr/>
        </p:nvSpPr>
        <p:spPr>
          <a:xfrm>
            <a:off x="2743200" y="4724280"/>
            <a:ext cx="5029200" cy="1067040"/>
          </a:xfrm>
          <a:prstGeom prst="pi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COT runs consistency checks to ensure models are aligned and maint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1"/>
          <p:cNvGrpSpPr/>
          <p:nvPr/>
        </p:nvGrpSpPr>
        <p:grpSpPr>
          <a:xfrm>
            <a:off x="152280" y="3390840"/>
            <a:ext cx="2438640" cy="1295640"/>
            <a:chOff x="152280" y="3390840"/>
            <a:chExt cx="2438640" cy="1295640"/>
          </a:xfrm>
        </p:grpSpPr>
        <p:sp>
          <p:nvSpPr>
            <p:cNvPr id="175" name="Right Arrow 5"/>
            <p:cNvSpPr/>
            <p:nvPr/>
          </p:nvSpPr>
          <p:spPr>
            <a:xfrm>
              <a:off x="914400" y="3390840"/>
              <a:ext cx="1676520" cy="1295640"/>
            </a:xfrm>
            <a:prstGeom prst="rightArrow">
              <a:avLst>
                <a:gd name="adj1" fmla="val 50000"/>
                <a:gd name="adj2" fmla="val 49992"/>
              </a:avLst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ubmits Model Change Request (NOMC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152280" y="3467160"/>
              <a:ext cx="762120" cy="1143000"/>
            </a:xfrm>
            <a:prstGeom prst="rect">
              <a:avLst/>
            </a:prstGeom>
            <a:solidFill>
              <a:srgbClr val="6699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45"/>
          <p:cNvSpPr/>
          <p:nvPr/>
        </p:nvSpPr>
        <p:spPr>
          <a:xfrm>
            <a:off x="7848720" y="3429000"/>
            <a:ext cx="12952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M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of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6"/>
          <p:cNvSpPr/>
          <p:nvPr/>
        </p:nvSpPr>
        <p:spPr>
          <a:xfrm>
            <a:off x="7010280" y="8380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Nodal Go-Live 12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2"/>
          <p:cNvSpPr/>
          <p:nvPr/>
        </p:nvSpPr>
        <p:spPr>
          <a:xfrm>
            <a:off x="7810560" y="1295280"/>
            <a:ext cx="0" cy="441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03C9-94EE-4E87-9B84-1B850496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twork Operations Model Maintenance for Resource &amp; Q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today and post 8/31/09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2590920" y="3429000"/>
            <a:ext cx="51814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Nodal N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odal testing model- CIM file for EMS/MMS/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43"/>
          <p:cNvGrpSpPr/>
          <p:nvPr/>
        </p:nvGrpSpPr>
        <p:grpSpPr>
          <a:xfrm>
            <a:off x="2894040" y="2514240"/>
            <a:ext cx="4802400" cy="914760"/>
            <a:chOff x="2894040" y="2514240"/>
            <a:chExt cx="4802400" cy="914760"/>
          </a:xfrm>
        </p:grpSpPr>
        <p:grpSp>
          <p:nvGrpSpPr>
            <p:cNvPr id="185" name="Group 40"/>
            <p:cNvGrpSpPr/>
            <p:nvPr/>
          </p:nvGrpSpPr>
          <p:grpSpPr>
            <a:xfrm>
              <a:off x="2894040" y="2514240"/>
              <a:ext cx="4802400" cy="914760"/>
              <a:chOff x="2894040" y="2514240"/>
              <a:chExt cx="4802400" cy="914760"/>
            </a:xfrm>
          </p:grpSpPr>
          <p:cxnSp>
            <p:nvCxnSpPr>
              <p:cNvPr id="186" name="Straight Arrow Connector 14"/>
              <p:cNvCxnSpPr/>
              <p:nvPr/>
            </p:nvCxnSpPr>
            <p:spPr>
              <a:xfrm flipV="1">
                <a:off x="2894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7" name="Straight Arrow Connector 15"/>
              <p:cNvCxnSpPr/>
              <p:nvPr/>
            </p:nvCxnSpPr>
            <p:spPr>
              <a:xfrm flipV="1">
                <a:off x="3122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8" name="Straight Arrow Connector 16"/>
              <p:cNvCxnSpPr/>
              <p:nvPr/>
            </p:nvCxnSpPr>
            <p:spPr>
              <a:xfrm flipV="1">
                <a:off x="33512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9" name="Straight Arrow Connector 17"/>
              <p:cNvCxnSpPr/>
              <p:nvPr/>
            </p:nvCxnSpPr>
            <p:spPr>
              <a:xfrm flipV="1">
                <a:off x="35812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0" name="Straight Arrow Connector 18"/>
              <p:cNvCxnSpPr/>
              <p:nvPr/>
            </p:nvCxnSpPr>
            <p:spPr>
              <a:xfrm flipV="1">
                <a:off x="38098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1" name="Straight Arrow Connector 20"/>
              <p:cNvCxnSpPr/>
              <p:nvPr/>
            </p:nvCxnSpPr>
            <p:spPr>
              <a:xfrm flipV="1">
                <a:off x="4038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2" name="Straight Arrow Connector 22"/>
              <p:cNvCxnSpPr/>
              <p:nvPr/>
            </p:nvCxnSpPr>
            <p:spPr>
              <a:xfrm flipV="1">
                <a:off x="4263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3" name="Straight Arrow Connector 23"/>
              <p:cNvCxnSpPr/>
              <p:nvPr/>
            </p:nvCxnSpPr>
            <p:spPr>
              <a:xfrm flipV="1">
                <a:off x="4492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4" name="Straight Arrow Connector 24"/>
              <p:cNvCxnSpPr/>
              <p:nvPr/>
            </p:nvCxnSpPr>
            <p:spPr>
              <a:xfrm flipV="1">
                <a:off x="4721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5" name="Straight Arrow Connector 25"/>
              <p:cNvCxnSpPr/>
              <p:nvPr/>
            </p:nvCxnSpPr>
            <p:spPr>
              <a:xfrm flipV="1">
                <a:off x="4951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6" name="Straight Arrow Connector 26"/>
              <p:cNvCxnSpPr/>
              <p:nvPr/>
            </p:nvCxnSpPr>
            <p:spPr>
              <a:xfrm flipV="1">
                <a:off x="5180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7" name="Straight Arrow Connector 27"/>
              <p:cNvCxnSpPr/>
              <p:nvPr/>
            </p:nvCxnSpPr>
            <p:spPr>
              <a:xfrm flipV="1">
                <a:off x="5408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8" name="Straight Arrow Connector 28"/>
              <p:cNvCxnSpPr/>
              <p:nvPr/>
            </p:nvCxnSpPr>
            <p:spPr>
              <a:xfrm flipV="1">
                <a:off x="5638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9" name="Straight Arrow Connector 29"/>
              <p:cNvCxnSpPr/>
              <p:nvPr/>
            </p:nvCxnSpPr>
            <p:spPr>
              <a:xfrm flipV="1">
                <a:off x="5865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0" name="Straight Arrow Connector 30"/>
              <p:cNvCxnSpPr/>
              <p:nvPr/>
            </p:nvCxnSpPr>
            <p:spPr>
              <a:xfrm flipV="1">
                <a:off x="6094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1" name="Straight Arrow Connector 31"/>
              <p:cNvCxnSpPr/>
              <p:nvPr/>
            </p:nvCxnSpPr>
            <p:spPr>
              <a:xfrm flipV="1">
                <a:off x="6324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2" name="Straight Arrow Connector 32"/>
              <p:cNvCxnSpPr/>
              <p:nvPr/>
            </p:nvCxnSpPr>
            <p:spPr>
              <a:xfrm flipV="1">
                <a:off x="65530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3" name="Straight Arrow Connector 33"/>
              <p:cNvCxnSpPr/>
              <p:nvPr/>
            </p:nvCxnSpPr>
            <p:spPr>
              <a:xfrm flipV="1">
                <a:off x="6781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4" name="Straight Arrow Connector 34"/>
              <p:cNvCxnSpPr/>
              <p:nvPr/>
            </p:nvCxnSpPr>
            <p:spPr>
              <a:xfrm flipV="1">
                <a:off x="70074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5" name="Straight Arrow Connector 35"/>
              <p:cNvCxnSpPr/>
              <p:nvPr/>
            </p:nvCxnSpPr>
            <p:spPr>
              <a:xfrm flipV="1">
                <a:off x="72360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6" name="Straight Arrow Connector 36"/>
              <p:cNvCxnSpPr/>
              <p:nvPr/>
            </p:nvCxnSpPr>
            <p:spPr>
              <a:xfrm flipV="1">
                <a:off x="74646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7" name="Straight Arrow Connector 37"/>
              <p:cNvCxnSpPr/>
              <p:nvPr/>
            </p:nvCxnSpPr>
            <p:spPr>
              <a:xfrm flipV="1">
                <a:off x="7694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  <p:sp>
          <p:nvSpPr>
            <p:cNvPr id="208" name="TextBox 41"/>
            <p:cNvSpPr/>
            <p:nvPr/>
          </p:nvSpPr>
          <p:spPr>
            <a:xfrm>
              <a:off x="3276720" y="2833560"/>
              <a:ext cx="4190760" cy="36828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COT enters into zonal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45"/>
          <p:cNvSpPr/>
          <p:nvPr/>
        </p:nvSpPr>
        <p:spPr>
          <a:xfrm>
            <a:off x="7848720" y="3429000"/>
            <a:ext cx="12952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M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of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6"/>
          <p:cNvSpPr/>
          <p:nvPr/>
        </p:nvSpPr>
        <p:spPr>
          <a:xfrm>
            <a:off x="7010280" y="8380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Nodal Go-Live 12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45"/>
          <p:cNvGrpSpPr/>
          <p:nvPr/>
        </p:nvGrpSpPr>
        <p:grpSpPr>
          <a:xfrm>
            <a:off x="152280" y="4419720"/>
            <a:ext cx="8991720" cy="1800000"/>
            <a:chOff x="152280" y="4419720"/>
            <a:chExt cx="8991720" cy="1800000"/>
          </a:xfrm>
        </p:grpSpPr>
        <p:sp>
          <p:nvSpPr>
            <p:cNvPr id="212" name="Up Arrow 42"/>
            <p:cNvSpPr/>
            <p:nvPr/>
          </p:nvSpPr>
          <p:spPr>
            <a:xfrm>
              <a:off x="8229600" y="4495680"/>
              <a:ext cx="609480" cy="53352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44"/>
            <p:cNvGrpSpPr/>
            <p:nvPr/>
          </p:nvGrpSpPr>
          <p:grpSpPr>
            <a:xfrm>
              <a:off x="152280" y="4419720"/>
              <a:ext cx="8991720" cy="1800000"/>
              <a:chOff x="152280" y="4419720"/>
              <a:chExt cx="8991720" cy="1800000"/>
            </a:xfrm>
          </p:grpSpPr>
          <p:sp>
            <p:nvSpPr>
              <p:cNvPr id="214" name="Right Arrow 39"/>
              <p:cNvSpPr/>
              <p:nvPr/>
            </p:nvSpPr>
            <p:spPr>
              <a:xfrm>
                <a:off x="914400" y="5153040"/>
                <a:ext cx="2514600" cy="1066680"/>
              </a:xfrm>
              <a:prstGeom prst="rightArrow">
                <a:avLst>
                  <a:gd name="adj1" fmla="val 50000"/>
                  <a:gd name="adj2" fmla="val 5000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ubmits RARF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Resource Asset Reg Form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a Service 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ight Arrow 5"/>
              <p:cNvSpPr/>
              <p:nvPr/>
            </p:nvSpPr>
            <p:spPr>
              <a:xfrm>
                <a:off x="914400" y="4419720"/>
                <a:ext cx="2514600" cy="1066680"/>
              </a:xfrm>
              <a:prstGeom prst="rightArrow">
                <a:avLst>
                  <a:gd name="adj1" fmla="val 50000"/>
                  <a:gd name="adj2" fmla="val 5000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ubmits ICCP Chan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a Service 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ight Arrow Callout 40"/>
              <p:cNvSpPr/>
              <p:nvPr/>
            </p:nvSpPr>
            <p:spPr>
              <a:xfrm rot="16200000">
                <a:off x="5657760" y="2228760"/>
                <a:ext cx="1257120" cy="5715000"/>
              </a:xfrm>
              <a:prstGeom prst="rightArrowCallout">
                <a:avLst>
                  <a:gd name="adj1" fmla="val 25006"/>
                  <a:gd name="adj2" fmla="val 25004"/>
                  <a:gd name="adj3" fmla="val 25000"/>
                  <a:gd name="adj4" fmla="val 6497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RCOT pro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4"/>
              <p:cNvSpPr/>
              <p:nvPr/>
            </p:nvSpPr>
            <p:spPr>
              <a:xfrm>
                <a:off x="152280" y="4572000"/>
                <a:ext cx="762120" cy="685800"/>
              </a:xfrm>
              <a:prstGeom prst="rect">
                <a:avLst/>
              </a:prstGeom>
              <a:solidFill>
                <a:srgbClr val="6699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Q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38"/>
              <p:cNvSpPr/>
              <p:nvPr/>
            </p:nvSpPr>
            <p:spPr>
              <a:xfrm>
                <a:off x="152280" y="5334120"/>
                <a:ext cx="762120" cy="685800"/>
              </a:xfrm>
              <a:prstGeom prst="rect">
                <a:avLst/>
              </a:prstGeom>
              <a:solidFill>
                <a:srgbClr val="6699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Line 42"/>
          <p:cNvSpPr/>
          <p:nvPr/>
        </p:nvSpPr>
        <p:spPr>
          <a:xfrm>
            <a:off x="7810560" y="1295280"/>
            <a:ext cx="0" cy="441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C26FFDB-8A9A-4EFE-AEF7-2905A72E6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ining Up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228600" y="91440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P Testing and Training environments will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ing system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June 8 – Aug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CR testing system will be on-line and available to all T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establish dedicated email and have staff available to support ques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mcrhelp@ercot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ructor Led Train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hosted in Tay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SEM classes June 22 – Aug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plans for at least six 3-day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for 12-18 seats for each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dedicated training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SEM classes Sept 23- Oct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er sessions and smaller classes (tb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-up classes, not just-in-time training for all staff after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D9E22F4-3469-4B5A-83DD-C3241EB38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ition summary during June-Aug’09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723600"/>
            <a:ext cx="854712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76320" y="457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no limits on submissions (Market Notice sent March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larify that there are no restrictions or “freezes” currently in place limiting network model change submissions via the service request proces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peri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une 1- Aug 30, 2009 (objective to minimize SvcReq during this peri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equipment name changes (defer until after SEM Go-Live 8/31/0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mit changes as far in advance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5-30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weeks no submissions, except for emergency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31, 2009 - Feb 2010 (NOMCRs for any/all network 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the NOMCR timeline will align with zona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CRs received and translated to zonal model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-day lead-time, compliant with curren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onal databas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is tracked and communicated via system e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s that did not go into zonal production will be converted to NOMCRs for verification and submission by TSPs in S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 gradually transitions to NodalProtocols(3.10) 90-day req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990720" y="1905120"/>
            <a:ext cx="7924680" cy="99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990720" y="2895480"/>
            <a:ext cx="792468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990720" y="3581280"/>
            <a:ext cx="7924680" cy="259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of EIP External Interfaces 1.19 spec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“final” web services sp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d a review of 19 read-only interfaces targeted for removal from the doc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sues related to absence of protocol requirements, size limitations, frequency of data, alternative reports delivery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-Entry Model (SEM) go-live activities statu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 of timing for release of network model release to all M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horizon of TAC approval of interim postings to T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update on ICCP Communication Handbook v2.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 of ERCOT Readiness and Trans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Jul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15228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IT Issues Brought Forward by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A1E6E54-9A95-4D30-AFEA-60E84337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current SEM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and Market Criteria Status for Go-Live Aug 31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EM Go-Li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ngagement/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summary during June – Augus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7C759E4-9C19-4AA7-8011-5AF139E2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ummary of current SEM Activiti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/TSP engagement calendar for Single Entry Model Implement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8- SEM Market Kick-off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4-  Began weekly ERCOT/TSP market calls for 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8-  ERCOT deployed test system for TSP testing on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3- Training commenced on schedule 6-weeks of 3-day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e are 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 July stakehold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1- SEM Go-Live mil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activity highligh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ing market testing/training/questions/weekly-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ing final copy of 6/1/2009 of zonal operations model into 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nodal data sets (such as RARF/Resource data) into the 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ing consumption of model into NMMS/EMSNodal/MMS tes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integration testing aligned to use post-SEM Go-L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keholder commun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reported detailed progress on testing and training to market on SEM Weekly calls, NDSWG/ROS, NIT, and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74A8EE5-EF89-4FF2-9598-EB9E3D79C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Market Engagement Dashboar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271D34E-E8EB-4077-9925-74D5CA50E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 Go-Live Criteria defined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dal.ercot.com/readiness/golive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4- The following entry criteria shall be met for SEM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SPs &amp; ERCOT complete EDS 2 Release 4 activities (ie training and te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network model validated and approved as baseline for SEM Go-Live by ERCOT System Ops and Market Ops Dir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ublishes CIM model to be used for SEM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ufficiently staffed for maintenance of nodal &amp; zonal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EMS is capable of consuming NMMS CIM files through the EMS CIM importer for use in the Nodal EMS application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ublishes the following documents for T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etwork Operations Model validation whitep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etwork Operations Model valid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MS Modeling Guidelines / Validation Rules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st CIM data dictionary and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M Go-Live readiness approved by TAC and ERCOT BO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Zonal protocol req’t 21.12.3 for TAC/Board “certification that all Market Readiness Criteria have been me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Issue market notices 30 days and 10 days prior to SEM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308ADD0B-F220-4D87-B2FD-CEDDC80F8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 Dashboar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0" y="743040"/>
            <a:ext cx="913608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E5B7118-53F4-49B9-B04B-52CF1B5FE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0" y="1371600"/>
            <a:ext cx="8991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FA69388-FA6F-4DD0-87DB-E1B3317CB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9067680" cy="99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2"/>
          <a:stretch/>
        </p:blipFill>
        <p:spPr>
          <a:xfrm>
            <a:off x="76320" y="2514600"/>
            <a:ext cx="9067680" cy="471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"/>
          <p:cNvPicPr/>
          <p:nvPr/>
        </p:nvPicPr>
        <p:blipFill>
          <a:blip r:embed="rId3"/>
          <a:stretch/>
        </p:blipFill>
        <p:spPr>
          <a:xfrm>
            <a:off x="76320" y="3262320"/>
            <a:ext cx="9067680" cy="471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"/>
          <p:cNvPicPr/>
          <p:nvPr/>
        </p:nvPicPr>
        <p:blipFill>
          <a:blip r:embed="rId4"/>
          <a:stretch/>
        </p:blipFill>
        <p:spPr>
          <a:xfrm>
            <a:off x="76320" y="4086360"/>
            <a:ext cx="90676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AF671BF-DA85-4B52-A8CB-264F6B82A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"/>
          <p:cNvPicPr/>
          <p:nvPr/>
        </p:nvPicPr>
        <p:blipFill>
          <a:blip r:embed="rId1"/>
          <a:stretch/>
        </p:blipFill>
        <p:spPr>
          <a:xfrm>
            <a:off x="0" y="1028880"/>
            <a:ext cx="9144000" cy="72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0" y="320040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0" y="411480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TAC 070909</cp:lastModifiedBy>
  <dcterms:modified xsi:type="dcterms:W3CDTF">2009-07-09T17:32:22Z</dcterms:modified>
  <cp:revision>787</cp:revision>
  <dc:subject/>
  <dc:title>Texas Nodal Detailled Market Trials Planning Process 30 January 2007</dc:title>
</cp:coreProperties>
</file>