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3CEB8-0C01-4958-981F-0A0C2800A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ogize for me not being in attend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 me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rocess work?  will they actually be doing analy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… ABB is ve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E327-81E6-4CE5-B45E-AEFE7461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43E0-0D43-4260-B8F1-F02CF13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626B-267E-4796-9C95-02CECF11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DF4D-8708-498F-A732-5BED2DB6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108D-0DDF-4987-B9C9-F6F929C3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F753-B1A6-47D8-8EB4-AFE706B1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0AD2-BB1E-4739-BD1B-2467F337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9FA-3E17-4E9E-9BDB-57E8B066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CFE-0BD9-406D-A29C-FA48BD53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2788-C497-4EB8-912B-D097B9F1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E35B-08A1-4F1A-821B-E6DF579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AFD5-8D6C-46A1-A41B-5E98D995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1845-BDCA-451C-8BF1-C2CA9D8B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96EB-3D4B-417F-9981-D70BA813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8A0C-78D1-49FA-9B2F-EE99824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810F-9247-40BD-87D7-5764C2A7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628D-1EB8-446A-811C-564C2FD3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2695-634C-479B-AC80-2AF543AB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1EFF-E72E-4A19-9CD3-48A87F5B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CED4-1078-4860-B58F-47B4A5CF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AAB0-98F1-42AD-A06A-A55E85A7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0A64-CAC9-45C0-B9D0-842A566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1AF5-6EAB-49A4-BE69-895FE9C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E5EF0-5D28-449A-A80E-AD48225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AAD8-D02E-4475-8212-6E2CC4EA5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0" y="0"/>
          <a:ext cx="251460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514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36CA-5CB4-4CE5-B454-FD46E3C414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0"/>
          <a:ext cx="525780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2578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Report to TAC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y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MW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PRR 811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– Real Time Production Potenti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mining in process from multiple wind resour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ed ERCOT and TRE input on PRR and more input on data calculation meth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MS urged the PRR move forwa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SCR 754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– migration was on June 2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mplementation Update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PRR803/776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– no reported iss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dal WGR White Paper – NPRR being draf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OMe Reliability Tool Enhanc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ctronic OOMe deployments to resources to address limitations in MOS in deployments above or below unit-specific instructions – implementation 9/3/09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raft NOGRR for ICCP Handbook Change Cont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RCOT to draft new NOGR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CW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Air Interstate Rule (CAI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me effective 1/1/2009 adding an SO2 trading program in 2010 – VCWG will draft manual changes for WMS approval in Ju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NPRR168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– Verifiable Costs General Correctio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ferred back to VCWG to consider timing for calculating and posting the proxy heat r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aft NPRR for RUC Cancellat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MS approved VCWG filing of NPR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CW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NPRR174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– FIP Modifications in Verifiable Startup and Minimum Energy Cost and Recovery of Exceptional Fuel Costs During RUC Interval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MS reviewed issues related to gas price blowout impacting shorts (not valid) and endorsed NPR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dal Verifiable Cost Manual Revis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al Historical O&amp;M Costs White Paper was discussed and VCWG will discuss an update on July 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MS endorsed the concepts in the Nodal Surcharge White Pap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raft Nodal Verifiable Cost Affidav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 and QSEs please have your legal depts. review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Other WMS activity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NOGRR 0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the June 30, 2009 Special Joint Reliability and Operations Subcommittee (ROS)/WMS meeting, WMS voted to endorse NOGRR025 as amended by the 06/22/09 NDSWG comments and as revised by WMS.  The WMS revisions incorporate portions of the comments previously fil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RR81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SC/CRE Determin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bsence of a final order, WMS has concerns regarding use of “shall” in 7.2.1 (1)(a)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Other WMS activity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10 Project Prioritization L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dorsed as presen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09 CD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nstitute GATF with intent to make recommendations for May 2010 CDR, not December CDR up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WMS 2009 Goal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280" y="1219320"/>
          <a:ext cx="8839440" cy="5325840"/>
        </p:xfrm>
        <a:graphic>
          <a:graphicData uri="http://schemas.openxmlformats.org/drawingml/2006/table">
            <a:tbl>
              <a:tblPr/>
              <a:tblGrid>
                <a:gridCol w="6248520"/>
                <a:gridCol w="25909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MS input/direction needed 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dal Market Tran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n-go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dal Verifiable Cost Method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n-going (VCW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pproved Zonal PRRs – Analysis and Prioritiz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Q1-Q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ideration of timely, economic improvements to Zonal Mark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ore Q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etermine CSCs for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Q3 (CMW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ssues Related to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edit issu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n-going (MCW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ILS and AS Mark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n-go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egrating advanced meters &amp; other demand response into Ancillary Service Mark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n-going (DSW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nd &amp; related renewable technology integ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n-going (QMWG/RTW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3416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In Brief</a:t>
            </a: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orking Group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MW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SW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CW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W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QMW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CW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ask For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tomac Economics Recommendations &amp; Cost Allocation – Inac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eneration Adequacy - Reactiv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ther 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OGRR 02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R for CSC/CRE Determi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P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D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ve/Inactive Task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MS voted to inactivat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tomac Recommendations Task 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st Allocation Task 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MS wants TAC guidance 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ration Adequacy Task 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as a joint ROS/WMS Task Force and then a WMS only Task For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MW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RR 8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roved a moti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not to includ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uction revenues in the revenue neutrality calcul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included the following (related to the scaling factor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binations of outages known at the time of development of the monthly TCR auction model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utages are expected to be entered for the month, subsequent to the development of the TCR auction model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storical CSC operational flow capability for the month or season; a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COT to publish scaling factors/reasons with monthly TCR auction announcem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MW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10312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RE selection criter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shold-weighted shift factor/PTDF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undary gene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centration of effective generation; an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rrelation of CRE to its z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MS recommended that it be filed (PRR 81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010 CSC/CRE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ter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ly 24, 2009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ugust 04, 2009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SW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chnical Workshop on EILs – July 1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858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SW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raft PRR for Load Resource Responsive Reserve Complian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(Protocol Section 6.10.5.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ort failures to the Texas Reliability Entity (T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osed change recommends a portfolio appro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MS suggested that DSWG consider a unit-specific appro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CW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103480"/>
            <a:ext cx="82296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NPRR 1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ternatives Discussions to D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fall funding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s allocation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market Compari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ing Group Report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W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SMOGRR007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Synchronization of Settlement Metering Operating Guide with PRR804, Revisions to Section 21 Appeal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WG has filed the SMOGR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9:20:50Z</dcterms:created>
  <dc:creator>Barbara Clemenhagen</dc:creator>
  <dc:description/>
  <dc:language>en-US</dc:language>
  <cp:lastModifiedBy>Barbara Clemenhagen</cp:lastModifiedBy>
  <dcterms:modified xsi:type="dcterms:W3CDTF">2009-07-08T19:03:49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