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973A0-F4F6-4FE7-802D-4320CD7BC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4DC1D-220A-4DF4-A9DB-F7DF8279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AD71B-D563-4753-809C-DD5D40E0B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74C74-9E37-4A9B-AA4D-3BBD0E71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BEF34-2C2C-4881-BBBC-7278917B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0F891-D5DF-4EA4-B058-5D8D54B1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7CE1F-33E6-4000-8D8E-3C6E8FD0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639BF-77E4-4E2E-A823-73B964F5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7BB9F-232C-4DBD-A939-5AD7BCF7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555E6-41AF-4B40-889F-606344CD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31CBF-93FE-4C07-A418-A40BAF6A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DB7C2-464F-4960-9254-0E782F18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9E90-9227-49B3-BED2-277D30261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A0EC-61EA-4E81-B8A2-AB1425234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manded RPG Charter Issue: RPG Review of Generation Interconnection Facilities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an Woodfi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irector, System Plann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4/16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isto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PG Charter, as endorsed by TAC, was considered by Board at January 2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ee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C voiced concerns about exemption from RPG review of high-cost lines to connect generation, citing example of Kelson CC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ard approved RPG Charter with revised language that removed exemption from RPG Review for generation interconnection pro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nded this issue back to TAC for further discussion and 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 remanded to ROS and W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S/WMS Joint Discussion Group held meeting to discuss and structure this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4/16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rrent Statu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urrent, approved language of the Charter requires generation interconnection projects costing more than $15 million or requiring CCNs to be reviewed by RPG (including ERCOT Independent Review and Board approval as appropria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95280" y="2571840"/>
            <a:ext cx="6553440" cy="390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4/16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ther Considerations Discussed by RP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iability impacts and requirements for these projects are already studied through generation interconnection stud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itional evaluation in RPG/ERCOT Independent Review would consist of stakeholder comment and economic evalu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c evaluation for these projects will essentially be estimating the value of the generation to the market, net of the cost of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ission Staff testimony in Kelson CCN docket expressed need for ERCOT review on these types of CC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to preserve non-discriminatory transmission access in whatever process is adop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tential for RPG review to delay interconnection imple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priateness of ERCOT rol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4/16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ptions Developed by Joint ROS/WMS Group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ption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ert to RPG/TAC language.  Add language to Section 1.3.4 of the Planning Charter to say: ERCOT performs economic analysis of direct generation interconnection facilities &gt;$50 million (as a part of the Full Interconnection Study (FIS)) for info purposes only (no recommendation by ERC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ption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ert to RPG/TAC language.  No other changes to the Planning Charter (no economic analysis unless requested by PU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 procedural changes common to both option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 in Generation Interconnection (GI) Procedure that the Lead TSP for the FIS communicates to other TSPs when the FIS indicates that the direct interconnection facilities will cost &gt;$50 million so that the other TSPs will know to look (pursuant to existing GI Procedure requirements) particularly at this F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TSP for GI FIS will communicate direct generation interconnection projects &gt;$50 million out to full RPG (no review by RPG) once generation Interconnection Agreement is 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4/16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236232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4/16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balbracht</cp:lastModifiedBy>
  <dcterms:modified xsi:type="dcterms:W3CDTF">2009-07-07T16:12:11Z</dcterms:modified>
  <cp:revision>102</cp:revision>
  <dc:subject/>
  <dc:title>Instructions</dc:title>
</cp:coreProperties>
</file>