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451-6A2E-48CE-8C29-96C5A9E5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5C6-4769-4B15-8AA6-7517BCBE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C00-852B-40D5-ADE7-444618F3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01E-82A8-485B-A2A0-5592C8D6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5BF0-A324-412A-85F1-7E2E94C0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07A8-BEE2-4B9C-8413-2E09A6EB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94BE-679F-433B-98D9-D625E302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D6F8-DB8D-41BE-8034-E14DB748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2BDF-6FD4-4CA0-8538-22DBEBFC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EFF7-3E72-4269-903B-97B2CBC7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C9D0-C7FC-494F-B3B3-818E6F1F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0CD-9C19-4755-8E41-30104735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C418-DF4A-4688-A1BA-6A50814E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98AF-1319-4458-BFEA-338DF115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7D53-78B6-4E0B-A1C0-CABC2329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C42B-9242-4D52-A781-335173ED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D9EF-3780-4EE0-AABC-01AC749D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C1C-CE99-4A61-99C6-9C250AA1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05F-01E3-461E-9D0C-6CDFC276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61C-F0CA-42FC-B2AC-B59129FE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859-33C9-4621-93A4-AD6E43CA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B6D-319D-4CCF-9BC9-7E76FC6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2F7-6A5C-439F-A241-0B471113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EE8-32C0-4391-9E98-E4625530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4486-3E0D-4EB2-96C4-BB16467AB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F495-747A-47C0-BD7A-807DFD2F6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rcot.com/calendar/2009/06/20090609-COP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July 9, 200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A0F3-8CF8-441C-BD88-91C914EE22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ne 9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COT Annual UFE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381880" cy="4833720"/>
          </a:xfrm>
          <a:prstGeom prst="rect">
            <a:avLst/>
          </a:prstGeom>
          <a:ln w="0">
            <a:noFill/>
          </a:ln>
        </p:spPr>
      </p:pic>
      <p:sp>
        <p:nvSpPr>
          <p:cNvPr id="19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D7DB-6EC1-4D4E-8B2C-C1FF8C6872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ne 9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COT Annual UFE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2"/>
          <a:stretch/>
        </p:blipFill>
        <p:spPr>
          <a:xfrm>
            <a:off x="457200" y="1779480"/>
            <a:ext cx="8381880" cy="477360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B216-29A4-4EEA-8CB6-4F8AB1DB4E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ne 9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10 Project Priority List (PP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S ranked and prioritized MO Cart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 Information Lifecycle Management - Cri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REC Project (SB541) - Cri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Web-enabled Registration – 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EPS Meter DB Redesign - 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Verifiable Cost Management System – High/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Enhancements to API for Disputes – High/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ERCOT.com CMS Replacement – High/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EILS Enhancements (Automation) -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26BC-8FDE-4CFD-8688-07140BB18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Voting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PMGRR012, Creating Section 11, Disputes and Data Extract Varia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act Analysis – 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O Revision Request Review – No Opi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S Recommendation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WG Comments – Updating Screen Sh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OPMGRR013, Update to Section 3, Organizational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mpact Analysis – 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S Recommendation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5CD5-B37F-44F7-A802-AA2C860ECD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1998-3BD2-4696-A83E-CD96B2575E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ne 9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OPS Communication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Communications and ERCOT Website Focus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CWG assisted with the survey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urvey was available from June 2 through June 30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arket Participants were notified via email from ERCOT Client Re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755, ERCOT Website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d at COPS, pending approval of Parking Deck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B5CB-256C-4E13-90A8-34AC49C1F9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ne 9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OPS Communication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MGRR012, Creating Section 11, Disputes and Data Extract Vari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roved by COPS; TAC Voting I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MPs information concerning the Dispute and Data Extract Variance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ute portion of Section 11 will be gray boxed until implementation of Texas No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MGRR013, Update to Section 3, Organization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roved by COPS; TAC Voting I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s Section 3 to reflect COPS decision to combine the Settlements and Data Extracts Working Group (SDAWG) and the Data Extracts Working Group (DEW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s the Settlements and Extracts Working Group (SEW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C1DA-860D-4392-9685-05A14D7783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ne 9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ofile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mpleted ID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Arial"/>
              </a:rPr>
              <a:t>Benefits of a mandatory TOU provision – Deemed Obsolete due to AMS Meter installation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Arial"/>
              </a:rPr>
              <a:t>Load research data to refine estimates in the 100 kW to 700kW range – No longer a need to consider lowering IDR Threshold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urrently reviewing 2008 UF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Arial"/>
              </a:rPr>
              <a:t>Evaluate UFE allocation factors in lieu of AMS meter installation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ift in proportion of UFE to NIDR metered premises as AMS matures, an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Arial"/>
              </a:rPr>
              <a:t>Distribution loss factors in relation to UF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6A02-EC59-4990-9A8F-785625D756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ne 9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ofile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Residential Profile ID Annual Validation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18" descr=""/>
          <p:cNvPicPr/>
          <p:nvPr/>
        </p:nvPicPr>
        <p:blipFill>
          <a:blip r:embed="rId2"/>
          <a:stretch/>
        </p:blipFill>
        <p:spPr>
          <a:xfrm>
            <a:off x="609480" y="2328840"/>
            <a:ext cx="7954920" cy="38433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A80D-290D-4810-872F-47A77C5AD4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ne 9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ettlement &amp; Extracts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RCOT’s Nodal Commercial Systems (COMS) Report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Updates made for various sections such as previously “grayed out” specifications from the Load Estimation Volume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No changes to current DDL/XSDs, upcoming changes will have added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nitial discussions and questions posed to ERCOT around planned market training on Extracts/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ollowing site is updated every Friday with the latest information regarding reports and ex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ttp://nodal.ercot.com/readiness/reports/inde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E661-D782-4605-A177-6CEEAEA3F2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of</a:t>
            </a: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 June 9</a:t>
            </a:r>
            <a:r>
              <a:rPr b="0" lang="en-US" sz="42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ettlement &amp; Extracts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iscussed Delayed Extracts and Dispute Dead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extracts are late, should the dispute deadline be exten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iscussion centered around the time needed for ERCOT to process disputes, noted the extension of dispute deadlines to 15-days upon Nodal Market implementation and the fact that late extracts are typically 1-2 days 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etermined that no consideration for a PRR or NPRR was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75A5-9460-4E63-A64A-824D31DF40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ne 9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E DRG T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tlement of DRG located behind NOIE metering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G with a design capacity &gt; 50 kW and &lt; 1 M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s Section 10.2.2 requires TDSPs to repor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s Section 16.5 does not require registration if less than 1 M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F will provide dire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at as gener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at as NOIE “inflow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TDSPs exemption from report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TF meeting was held Jun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meeting scheduled for July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3CEC-E9A2-4068-A478-DB9DB48E77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ne 9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COT Annual UFE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8. UFE Analysis Report 2008.ppt at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Times New Roman"/>
                <a:hlinkClick r:id="rId2"/>
              </a:rPr>
              <a:t>http://ercot.com/calendar/2009/06/20090609-C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8 UFE Cost  as % of Total Cost, 2.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8 Absolute Value of  UFE Cost as % of Total Cost, 1.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Worst Final Positive UFE Days were in Sept 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Worst Final Negative UFE Days were in Oct 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S requested ERCOT and SEWG to analyze the effect of  Hurricane Ike and PUCT Order 36150 and to recommend process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D241-CC6D-49FC-B755-5398B458A9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trenarym</cp:lastModifiedBy>
  <dcterms:modified xsi:type="dcterms:W3CDTF">2009-06-25T14:48:44Z</dcterms:modified>
  <cp:revision>117</cp:revision>
  <dc:subject/>
  <dc:title>Slide 1</dc:title>
</cp:coreProperties>
</file>