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22B17A-8C65-4DC5-8C1A-81C0F478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0E39C1-11DD-4777-AB66-910F9C3A1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C44B-1934-4D77-B0EC-7F2FAB2C7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8EE4-67CB-44C4-9A98-6869D366A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475C-08A0-42AB-9A97-2A4CCF134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D070-D177-4D69-B17A-D2EB3AEA0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D476-1C68-41E0-B1AD-CD5C9C452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B86F-1D2C-474C-97B4-69FAF4716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4DC8-DEB8-463B-B340-9FA9F63D5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04A4-A494-4E6D-A1EB-F96C6E1FC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149F-A482-4871-B66F-5EC391EF5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1ACD-BAD4-44C3-8B01-7FE95F14B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07EA-F3CA-49CE-9805-61F177B3F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8B50-32C0-4406-AEF5-238CFE588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E7B5-8E7D-4387-9AB3-3A06BF50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B1F2-7422-4BE2-882D-CCCC556642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une IT Incid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9 July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2362320" y="4876920"/>
            <a:ext cx="6476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chard Morg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ef Information Offi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&amp; Wholesale Incid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ident Summa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6/24 a reconfiguration to a processor caused a loss of storage connectivity requiring a reboot of several ser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ID: M-062409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 minute outage to multiple retail and wholesale systems while systems were rebooted and applications re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caus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issue:  The vendor maintains that this procedure should have caused no interruptions to service.  This process has been performed during maintenance windows without inci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issue:  This change was not governed by the change control process because it was considered a routine action.  This action has been reassessed and now must follow the change contro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9-07-08T22:21:56Z</dcterms:modified>
  <cp:revision>315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5545934</vt:r8>
  </property>
</Properties>
</file>