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3791-EF5C-4020-802C-4EB65202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635D-2B31-4454-8B1C-DF8DD46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C71E-2F96-49E8-B1E9-C02547DC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05DB-DDA6-46AD-917B-13EABFD3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4CFA-5CA9-42A8-B615-E9AF1C1B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AA7E-F846-4827-9B35-4771BFEC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2FB3-67D4-4642-930D-C5E09D5A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0A89-37E3-4030-9DCC-EB6C73C8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FD89-7428-4C7E-A86F-05979E80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92D5-8FF3-4252-99DE-51DD9AB1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A464-9469-4AD4-B0A3-2D0B197A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4940-9F63-4171-A523-90EFE670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B32C-E664-4C86-B670-3644F52A7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EF4A-AF7F-4EC5-AC8E-155DC5A54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09 Long-term Demand and Energy Forecast (LTDEF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pacity, Demand and Reserves (CDR) Calculation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an Woodfi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irector, System Planning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6/17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TDEF Mode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ng-term Demand and Energy Forecast is based on a set of econometric models describing the hourly load in the region (by weather zone) as a function of certain economic and weather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and demographic data, including a county level forecast, are obtained on a monthly basis from Moody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cast is based on “normal” wea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17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LTDEF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2600" y="708120"/>
            <a:ext cx="9163080" cy="545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17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LTDE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0600" y="727200"/>
            <a:ext cx="8501040" cy="549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17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 Economic Drivers used in 2009 LTDE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429" t="2400" r="1429" b="1200"/>
          <a:stretch/>
        </p:blipFill>
        <p:spPr>
          <a:xfrm>
            <a:off x="353880" y="762120"/>
            <a:ext cx="4476960" cy="264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1551" t="2394" r="7755" b="1197"/>
          <a:stretch/>
        </p:blipFill>
        <p:spPr>
          <a:xfrm>
            <a:off x="4944960" y="776160"/>
            <a:ext cx="4113360" cy="264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1541" t="2400" r="1541" b="1200"/>
          <a:stretch/>
        </p:blipFill>
        <p:spPr>
          <a:xfrm>
            <a:off x="392040" y="3440160"/>
            <a:ext cx="4430880" cy="280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1551" t="2400" r="7755" b="1200"/>
          <a:stretch/>
        </p:blipFill>
        <p:spPr>
          <a:xfrm>
            <a:off x="4956120" y="3448080"/>
            <a:ext cx="4125960" cy="2765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16640" y="3672720"/>
            <a:ext cx="276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tal Non-Farm Employ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7600" y="3634560"/>
            <a:ext cx="28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ss Domestic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1720" y="936000"/>
            <a:ext cx="27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6120" y="904320"/>
            <a:ext cx="318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l Personal Per-Capita Inco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17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DR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4360" y="912960"/>
            <a:ext cx="8836200" cy="49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17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ATF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need to revise rules for CDR calculation based on new technology types and changed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ill undertake new Loss of Load Probability (LOLP) study later this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reserve margin target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effective load-carrying capability (ELCC) of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gest waiting to resurrect GATF until late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imultaneous consideration of LOLP study and any other CD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recommendation in time for April 2010 NERC Summer Assessment submission and May 2010 ERCOT CD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17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/17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an Woodfin - ERCOT</cp:lastModifiedBy>
  <dcterms:modified xsi:type="dcterms:W3CDTF">2009-06-16T13:47:17Z</dcterms:modified>
  <cp:revision>77</cp:revision>
  <dc:subject/>
  <dc:title>Instructions</dc:title>
</cp:coreProperties>
</file>