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67B-5BFD-45F7-948D-91C61180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71C-5FDC-475D-9A44-F812AC4E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608-71EA-44E5-804C-04581F2E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CDB-D7A2-45D3-AA20-0DE6CE27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F725-3BFA-460F-AC36-D04D4F26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FFB3-FB9D-4333-80E9-340FAF51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1E62-7126-480D-A327-D193DBF2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EBC6-752E-420B-A161-B2242FFF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614C-5BE8-473A-A3EA-B6506C1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6D3-43B7-4114-B6B9-A43E4A84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6BB3-CACE-43E7-8E9F-4777A02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885-DA1D-4E2E-877C-44AC5E7E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E226-F581-49A7-85EA-52771DCC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858F-BE41-4218-95A4-94A5249B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8D9B-F247-4E3C-A619-A7D300A4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D458-D0ED-4D26-88DD-0E53B8EC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32FC-5E33-4DA9-9208-B16B9F0A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CEB-F070-4114-AC3C-FC2524F0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176-4119-4036-BC4D-ED458610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2C2-765A-420D-9A0F-A307FEDD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FC2-E676-4D09-A622-2950F8D3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B9F-7746-4F49-8A0E-D6D929B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19E-ABAC-43AC-8321-1952F84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BA5-91A1-40BA-A528-09D69FD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417-85AD-40AF-A9A1-0AB8A2174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4C3C-A203-4CA4-98D7-EADF77CFB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SE Managers Working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0481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 No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June,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to W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 June,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vid Detelich - Chairp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nd Generation Nodal Iss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ite Paper by Walter Rei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MWG discussed issues and reviewed recommend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lter Reid to draft PRR langu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GRR025 Monitoring Pr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ignment – review Nodal Protocol Section 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.1.1.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SE Ancillary Service Capacity Compliance Monitorin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.1.1.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SE Ancillary Service Energy Deployment Monitoring Criter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erred for PUC/TRE Worksho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MWG will review recommendations and NPRR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xt me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xt Meeting: July 7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 Resource RPP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dal Ancillary Performance Metr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Managers Working Group Topic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754 WGRPP Forecast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GRPP Forecast accuracy analysis - up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R776 &amp; PRR803 Implementation up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-90020 OOME Reliability T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dal ICCP handbook draft NOGRR (vo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l Time Production Potential PRR811 &amp; OGRR22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 Generation Nodal Issues – White Paper by Walter R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GRR025 Monitoring Program - Review Protocol Section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R754 WGRPP Forecast progr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-D042309-01 Implementation of SCR 754, Wind Generation Forecast transfer using XML qu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ecasts are on the M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 and some companies have queried the forecast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gration to production, slated for the second half of June, 200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GRPP Forecast accuracy analysi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30+ towers being u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S Truewind using historical data to correlate power cu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est an update from AWS on MET data handling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report shows a slight movement to 80% forecast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GRPP is updated for turbine availabilit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view in regard to NSRS quantity requireme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 workshop on June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MWG request an Ancillary Methodology worksho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R776 &amp; PRR 803 Implementation statu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operational issues from PRR77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R 80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 July 1 to September 3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SE’s to respond to Market Notice of May 18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QSE’s required to attest compliance by September 3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ctober 29 implementation d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-90020 OOME Reliability Too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OME Reliability Tool was initiated to enhance the OOME tool to send electronic OOME deployments to sets of un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project will also address a limitation of the Market Operating System in utilizing additional MWs above or below a unit-specific deployment instructed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ementation - September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 the PPL on the SO ta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lancing Deployment Example for OOMed Uni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ail from Robert Sta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ancing available from this unit will come from the first MW on the price curve as opposed to the last MW on the price curv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P’s expressed concern over this as the bid curve may not match the costs of the remaining capa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dal ICCP handbo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aft NOGRR to move the change control to the Nodal Operating Gu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l Time Production Potent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R811 &amp; OGRR223 – QMWG again recommends tab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mining in process from multiple Wind Resource companies – data to be presented in Ju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 applies to Nodal concerning the real time HSL requiremen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MWG to recommend data calculation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MWG requests ERCOT to provide a description of how it will use the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QMWG_051209</cp:lastModifiedBy>
  <dcterms:modified xsi:type="dcterms:W3CDTF">2009-06-15T16:08:38Z</dcterms:modified>
  <cp:revision>72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