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36460-343E-4AA1-833E-E608544D2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63E86-843C-4728-BE19-2FE5339FB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602A6-7B68-49D0-B3F0-169F54B0F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38AE5-BA86-462F-A18A-63D7D7F04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7DE49-B388-4C55-9A9F-D1CC7FEAE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022CF-7368-4B4C-A082-AF6A531B0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081BF-358B-4041-A328-E50168550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1D5E3-7191-457B-B61B-99F3C0251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41121-03A3-4C8D-B9C6-382837089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48593-4F57-4F83-9CE6-5F0476C2B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19B84-17AB-4F3B-848E-294FAA9DD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FC713-17B4-4197-A23D-C92BD3431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83AE5-1546-488E-941C-2614E9BB18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D7CB7-5463-49DE-AA2F-DDE5D2B46A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ongestion Repor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342880" y="358092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Isabel Flor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Jun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op Overloaded Elements - Apri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57200" y="1143000"/>
          <a:ext cx="8305920" cy="4889520"/>
        </p:xfrm>
        <a:graphic>
          <a:graphicData uri="http://schemas.openxmlformats.org/drawingml/2006/table">
            <a:tbl>
              <a:tblPr/>
              <a:tblGrid>
                <a:gridCol w="3581280"/>
                <a:gridCol w="2895840"/>
                <a:gridCol w="1828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ngenc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loaded Eleme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. C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llinger - Santa Anna 138kV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llinger - Humble 69kV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6,438,750.42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a Security - Valle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1,718,466.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ytton S/HC Ta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strop outag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  948,231.7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kdale Switch - Prairie Creek 138k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airie Creek – Prairie Creek Switc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  649,262.8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acity Shortag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 470,191.67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ley Impor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 466,194.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 Abilene - Eskota 138kV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ent - Merkel 69k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 466,044.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gan Creek SES - Odess EHV &amp; Quail Switch 345k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g Spring Switch - Big Spring West 138k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 413.597.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strop 345/138kV Autotransformer T1/T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strop 345/138kV Autotransformer T2/T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    401,891.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e DFW area outag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n Hill - Pawnee outag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kton-Fowsaw outag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ag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    368,054.91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Jun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Inter-zonal Congestion Costs 2009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828800" y="5486400"/>
          <a:ext cx="6248160" cy="750960"/>
        </p:xfrm>
        <a:graphic>
          <a:graphicData uri="http://schemas.openxmlformats.org/drawingml/2006/table">
            <a:tbl>
              <a:tblPr/>
              <a:tblGrid>
                <a:gridCol w="1114200"/>
                <a:gridCol w="893880"/>
                <a:gridCol w="893880"/>
                <a:gridCol w="1189080"/>
                <a:gridCol w="966600"/>
                <a:gridCol w="1190520"/>
              </a:tblGrid>
              <a:tr h="25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lion$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_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_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9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8.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.69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"/>
          <p:cNvSpPr/>
          <p:nvPr/>
        </p:nvSpPr>
        <p:spPr>
          <a:xfrm>
            <a:off x="152280" y="5257800"/>
            <a:ext cx="205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ttlement quality, net dolla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8839440" cy="4453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Jun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Background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 trend of local congestion costs for last 13 month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sts shown in mill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OM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OM 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BE 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OM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BE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P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p congested elements – May and Apri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-zonal costs - 200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Jun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OOMC last 13 months - $M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80880" y="5334120"/>
          <a:ext cx="8153640" cy="874440"/>
        </p:xfrm>
        <a:graphic>
          <a:graphicData uri="http://schemas.openxmlformats.org/drawingml/2006/table">
            <a:tbl>
              <a:tblPr/>
              <a:tblGrid>
                <a:gridCol w="838440"/>
                <a:gridCol w="1752480"/>
                <a:gridCol w="1981080"/>
                <a:gridCol w="1676520"/>
                <a:gridCol w="1905120"/>
              </a:tblGrid>
              <a:tr h="30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lion$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ust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.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8763120" cy="441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Jun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OOM Down last 13 months - $M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57200" y="5334120"/>
          <a:ext cx="8229600" cy="819000"/>
        </p:xfrm>
        <a:graphic>
          <a:graphicData uri="http://schemas.openxmlformats.org/drawingml/2006/table">
            <a:tbl>
              <a:tblPr/>
              <a:tblGrid>
                <a:gridCol w="846000"/>
                <a:gridCol w="1768680"/>
                <a:gridCol w="2000160"/>
                <a:gridCol w="1692360"/>
                <a:gridCol w="19224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lion$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ust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.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8839440" cy="434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Jun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Balancing Energy Down last 13 months - $M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457200" y="5181480"/>
          <a:ext cx="8229600" cy="881280"/>
        </p:xfrm>
        <a:graphic>
          <a:graphicData uri="http://schemas.openxmlformats.org/drawingml/2006/table">
            <a:tbl>
              <a:tblPr/>
              <a:tblGrid>
                <a:gridCol w="846000"/>
                <a:gridCol w="1768680"/>
                <a:gridCol w="2000160"/>
                <a:gridCol w="1692360"/>
                <a:gridCol w="1922400"/>
              </a:tblGrid>
              <a:tr h="29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lion$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ust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8991720" cy="4162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Jun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OOM Up last 13 months - $M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5105520"/>
          <a:ext cx="8229600" cy="957240"/>
        </p:xfrm>
        <a:graphic>
          <a:graphicData uri="http://schemas.openxmlformats.org/drawingml/2006/table">
            <a:tbl>
              <a:tblPr/>
              <a:tblGrid>
                <a:gridCol w="846000"/>
                <a:gridCol w="1768680"/>
                <a:gridCol w="2000160"/>
                <a:gridCol w="1692360"/>
                <a:gridCol w="1922400"/>
              </a:tblGrid>
              <a:tr h="31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lion$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ust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.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8839440" cy="419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Jun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Balancing Energy Up last 13 months - $M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80880" y="5181480"/>
          <a:ext cx="8229600" cy="919440"/>
        </p:xfrm>
        <a:graphic>
          <a:graphicData uri="http://schemas.openxmlformats.org/drawingml/2006/table">
            <a:tbl>
              <a:tblPr/>
              <a:tblGrid>
                <a:gridCol w="846360"/>
                <a:gridCol w="1768320"/>
                <a:gridCol w="2000160"/>
                <a:gridCol w="1692360"/>
                <a:gridCol w="1922400"/>
              </a:tblGrid>
              <a:tr h="32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lion$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ust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8839440" cy="419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Jun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placement Reserve last 13 months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52280" y="5334120"/>
          <a:ext cx="8839080" cy="728640"/>
        </p:xfrm>
        <a:graphic>
          <a:graphicData uri="http://schemas.openxmlformats.org/drawingml/2006/table">
            <a:tbl>
              <a:tblPr/>
              <a:tblGrid>
                <a:gridCol w="922320"/>
                <a:gridCol w="525240"/>
                <a:gridCol w="609840"/>
                <a:gridCol w="761760"/>
                <a:gridCol w="609840"/>
                <a:gridCol w="685800"/>
                <a:gridCol w="685800"/>
                <a:gridCol w="685800"/>
                <a:gridCol w="738000"/>
                <a:gridCol w="614520"/>
                <a:gridCol w="538200"/>
                <a:gridCol w="768240"/>
                <a:gridCol w="69372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ousand$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.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0.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5.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8.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25.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76.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7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0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8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7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8839440" cy="439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Jun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op Overloaded Elements – Ma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28600" y="838080"/>
          <a:ext cx="8763120" cy="5333760"/>
        </p:xfrm>
        <a:graphic>
          <a:graphicData uri="http://schemas.openxmlformats.org/drawingml/2006/table">
            <a:tbl>
              <a:tblPr/>
              <a:tblGrid>
                <a:gridCol w="3778200"/>
                <a:gridCol w="3184560"/>
                <a:gridCol w="1800360"/>
              </a:tblGrid>
              <a:tr h="37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ngenc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loaded Eleme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. C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anche Peak SES - DeCordova SES &amp; Wolf Hollow - Rocky Creek 345kV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nus Switch - Comanche Peak 345k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3,515,768.74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ermill - DeSoto Switch - Cedar Hill Switch 345k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ermill - DeSot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1,966,940.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anche Peak SES-DeCordova SES &amp; Wolf Hollow-Rocky Creek 345kV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anche Peak SES - Parker Switch 345K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1,652,826.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acity Shortag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1,613,065.7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anche Peak SES-DeCordova SES-Wolf Hollow 345kV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ker Switch - Benbrook Switch 345K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1,160,067.25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anche Peak SES-DeCordova SES &amp; Wolf Hollow-Rocky Creek 345k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nus Switch - Johnson Switch TU 345k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 744,535.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ley Impor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 732,379.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 Robinson 345/138kV Autotransformer #3</a:t>
                      </a: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 Robinson AT1 345/138KV Transforme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 468,812.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ham-Long Creek 345k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n Angelo Power Station -Shrew Ta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 449,743.6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lacement Reserve Servi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 444,068.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Jun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ercot/if</cp:lastModifiedBy>
  <dcterms:modified xsi:type="dcterms:W3CDTF">2009-06-08T23:34:59Z</dcterms:modified>
  <cp:revision>73</cp:revision>
  <dc:subject/>
  <dc:title>Instructions</dc:title>
</cp:coreProperties>
</file>