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5.png" ContentType="image/png"/>
  <Override PartName="/ppt/media/image14.wmf" ContentType="image/x-wmf"/>
  <Override PartName="/ppt/media/image5.jpeg" ContentType="image/jpeg"/>
  <Override PartName="/ppt/media/image1.png" ContentType="image/png"/>
  <Override PartName="/ppt/media/image2.png" ContentType="image/png"/>
  <Override PartName="/ppt/media/image3.png" ContentType="image/png"/>
  <Override PartName="/ppt/media/image16.wmf" ContentType="image/x-wmf"/>
  <Override PartName="/ppt/media/image8.png" ContentType="image/png"/>
  <Override PartName="/ppt/media/image13.png" ContentType="image/png"/>
  <Override PartName="/ppt/media/image12.wmf" ContentType="image/x-wmf"/>
  <Override PartName="/ppt/media/image4.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move the slide</a:t>
            </a:r>
            <a:endParaRPr b="1" lang="en-US" sz="4100" spc="-1" strike="noStrike">
              <a:solidFill>
                <a:srgbClr val="676a55"/>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DAE7-F6A1-4D8F-A530-DE8D8C786F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03F9-B01C-42C4-A85A-52FDEA90FA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14B7-ECDC-422C-80E3-F8F950E5EA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4D8C-E42F-431F-A743-43E5B6D207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EBA8-22F2-4454-BEA9-81C5EA608B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8914-C40C-43D5-BC78-37FA05DDDE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AD0B-3E17-4AFC-9457-A9E67DE8B2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A9A8-6387-4DDE-B18C-0E4D581F21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4B6F-C884-4A31-9D78-7A866CBD00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C2F02-7E97-4AD9-9C05-16D60159D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49D72-2E46-4D5D-88A8-AA8183327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0EEE0-C52D-45E5-97AA-2BE95A312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E96A8-495E-4763-8862-AD81D55FA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E5B8C-D586-4A8C-B2EF-8532BB7C5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51B8A-6933-4145-A053-E809A3426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F634B-AFC1-45FF-9703-A161315F2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14CB6-94BA-4B00-B2B6-AED39E0E7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10A40-2965-4EA4-AE8E-15BA6F459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2B75F-4D04-432E-8A67-BFA6EF8F1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C1284-0C74-402A-8CF0-0CA719939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4CC6-0843-48B3-8A23-5BD0186EA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F4234-13B6-4B7B-A6B3-7B622032D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4C15A-D833-47EE-ADCD-4413F3604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475CE-BF7C-41AF-9618-4315190C5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2512D-9CB0-486F-BC31-C7A6511AB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16116-D1D5-47BD-9B21-52DD279C5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DEDF7F-7AB7-4FEA-A1E5-DC5BFA3F55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94121-E527-40C7-9F2E-13FCECA84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43E939-03F6-442F-8A0C-722081359F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6AF309-B6B2-4760-AFDC-2A381529D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3C179-053C-4E29-8ACE-DE5E75AFC1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B0CE7-2DE3-4A1F-AE92-B439A09CD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24795-5263-419C-9FA0-22706E0A8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FD007-EC3E-4F57-9F1F-6F1826C9B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D92D8-0584-482E-9305-0F5AC896D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B4CB4-DA30-4FC4-94E7-0CA576DD8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7D583-1F65-429D-9C19-4B24F5350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33FD17-B7C5-4AB6-BEF9-CB8A3DE885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F0366A-97A2-4387-9C76-CA543A135B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DBD17A-9039-4EBD-8500-CBC909CC24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98F60-2A2F-4087-8D0D-11BEF4A26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43A77-CE5A-4AFF-8C9D-4EC57532E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39FED-EDF2-4059-AC2D-6F37738A0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129175-B82D-4E94-8491-41E6AB5CB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037CEC-EAC2-4608-8781-75B0E0650B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4954D-6E1F-453F-A59A-1B68BD61CC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E9929-C61F-4385-940E-B9345F39F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3E0A2-0AFA-41EB-AB47-4D61D5BCE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A1953-1111-45B7-913D-F8C5E8ACE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929F32-E6B4-463A-B655-021CC71D74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D0FD01-BDF4-43FA-8BD7-29F8BB1031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97779C-FFBC-487A-A75E-0E22E0066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28C722-018C-4899-BEC6-F02CC7F321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B0525-ABC0-4123-80BE-567F88859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D160D7-B417-4F08-91C7-FE46AA653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8AD93D-1C1F-4365-A32C-6341AFC90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C9983-5759-4C6A-B5FB-C4F6539FE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C9E09-BA31-448D-AB5D-6B5970342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B3BFB-9604-4B24-8003-3CD2A216D8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2E9A6-B5E0-4D18-B5C1-3E698D590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882EC-85E9-4A5F-A774-C11280B00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4AEEEF-67D2-4383-A1A0-905F899B4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966962-9409-4D00-AAA1-260547079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3C5284-9C76-44D7-9050-563AE0CC13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8FD87-C703-4090-94B4-9C510C77F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21E117-EE89-4354-A4A0-EAF43E2233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E40EE7-870A-4B39-94DC-5DA0BDD29E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F05496-28B4-429D-9154-3905D68712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BC00CC-F242-46AE-ADA8-C0DF35531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B5FBAD-629F-4A8A-9D90-35785CBC7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3A0F6-1B25-4FFD-B51B-9E6C71FBBE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92851E-6FA4-40A8-8FFF-0D26C263E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33CB47-97E6-49DA-9BA7-52FE6CD4A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E73AD-43E2-4ED7-803A-A5E2A3425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C563F-548F-46DC-A039-EA0FBBEF9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37E9-1804-41EC-8F6E-6E96FA854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9489E8-58F0-4749-A84A-C32F4C595D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3BCE2A-5CC9-4997-A9CF-6162BC10B9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F3F6BE-C300-4FFF-8E86-768F5F8B49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CEBF3A-CB21-4B35-B82B-D6B5688A39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E5136B-26FE-4962-BBAA-33D3533B9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BC723B-29DF-440B-8788-1326AD5828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FBDDBE-4D5B-4BAA-949A-7F17189FF4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A91913-2443-46EE-A936-4F6D224328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5C80A8-FA6D-4BE3-B999-0759132B2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5D356-390D-4A13-B002-8720E64B5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0100-5A55-433E-964A-F5838130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F87B6-F937-439A-BADB-2F6BF8C7F5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C3EA0-926D-4E85-B62D-966ED62F8C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EEE66C-488C-4283-9CAF-C2E941C908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1E1C00-EC46-4D5B-8003-173469DBCA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F2A945-EA40-4461-AE35-13BE1BF25E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EBE324-7261-4392-8348-F6A3A95070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7D3726-878D-4950-9367-1236FD0A52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F3AE0D-648B-4EEE-976C-274A0AC4A1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D657A8-4372-4082-AEE0-77218EC83D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107D5-B961-472C-BEE1-CC3E51DBDA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1F573-8F41-4F89-8904-D04C27021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F6222-9668-43F6-8EBD-BD7A7038CA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A1B05-0C6E-4371-A44D-8F0A54A43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1BF711-FC05-436C-8C15-3E0C1BD012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5E28E-B720-4D06-8BB0-81947B9A03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189B73-D3FF-4BDD-B4CF-79AFF494B6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A857F1-2CA8-46E0-BAFC-739DB9EF99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0FF6D8-87E7-4F6B-A244-4DE5D95EC85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0B22-E83F-4051-916A-971B837DF2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3a6f3e"/>
              </a:gs>
              <a:gs pos="50000">
                <a:srgbClr val="80b984"/>
              </a:gs>
              <a:gs pos="100000">
                <a:srgbClr val="3a6f3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BAEC-538D-40B0-9306-37F6D01B7BE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A12D-B5A9-49FD-9F11-9737487884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37C9-D50C-4822-9B4F-C1893AA28A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A009-CB58-41BD-9243-23D7A9035F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322A-424E-4B69-B2B7-14034D84E8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D9B0-2765-4934-9DDE-12A1982C21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005D-34C6-4B50-99BC-E69340A4ADC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rcot.com/services/client_svcs/mktrk_info/"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92160" y="1749600"/>
            <a:ext cx="9016920" cy="1231560"/>
          </a:xfrm>
          <a:prstGeom prst="rect">
            <a:avLst/>
          </a:prstGeom>
          <a:ln w="0">
            <a:noFill/>
          </a:ln>
        </p:spPr>
      </p:pic>
      <p:sp>
        <p:nvSpPr>
          <p:cNvPr id="378" name="PlaceHolder 1"/>
          <p:cNvSpPr>
            <a:spLocks noGrp="1"/>
          </p:cNvSpPr>
          <p:nvPr>
            <p:ph type="subTitle"/>
          </p:nvPr>
        </p:nvSpPr>
        <p:spPr>
          <a:xfrm>
            <a:off x="685800" y="3428640"/>
            <a:ext cx="7772400" cy="1382760"/>
          </a:xfrm>
          <a:prstGeom prst="rect">
            <a:avLst/>
          </a:prstGeom>
          <a:noFill/>
          <a:ln w="0">
            <a:noFill/>
          </a:ln>
        </p:spPr>
        <p:txBody>
          <a:bodyPr lIns="45720" rIns="45720" anchor="t">
            <a:noAutofit/>
          </a:bodyPr>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Update to RMS</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June 10, 2009</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 </a:t>
            </a:r>
            <a:endParaRPr b="0" lang="en-US" sz="2400" spc="-1" strike="noStrike">
              <a:solidFill>
                <a:srgbClr val="000000"/>
              </a:solidFill>
              <a:latin typeface="Lucida Sans Unicode"/>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Rectangle 2" descr=""/>
          <p:cNvPicPr/>
          <p:nvPr/>
        </p:nvPicPr>
        <p:blipFill>
          <a:blip r:embed="rId1"/>
          <a:stretch/>
        </p:blipFill>
        <p:spPr>
          <a:xfrm>
            <a:off x="219240" y="268200"/>
            <a:ext cx="8474040" cy="1158840"/>
          </a:xfrm>
          <a:prstGeom prst="rect">
            <a:avLst/>
          </a:prstGeom>
          <a:ln w="0">
            <a:noFill/>
          </a:ln>
        </p:spPr>
      </p:pic>
      <p:sp>
        <p:nvSpPr>
          <p:cNvPr id="38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Phase III</a:t>
            </a:r>
            <a:endParaRPr b="0" lang="en-US" sz="20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90000"/>
              </a:lnSpc>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Lucida Sans Unicode"/>
              </a:rPr>
              <a:t>Projected timeline:</a:t>
            </a:r>
            <a:endParaRPr b="0" lang="en-US" sz="19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2" marL="858960" indent="-228600">
              <a:lnSpc>
                <a:spcPct val="90000"/>
              </a:lnSpc>
              <a:spcBef>
                <a:spcPts val="349"/>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June 10</a:t>
            </a:r>
            <a:r>
              <a:rPr b="0" lang="en-US" sz="2000" spc="-1" strike="noStrike" baseline="30000">
                <a:solidFill>
                  <a:srgbClr val="000000"/>
                </a:solidFill>
                <a:latin typeface="Lucida Sans Unicode"/>
              </a:rPr>
              <a:t>th</a:t>
            </a:r>
            <a:r>
              <a:rPr b="0" lang="en-US" sz="2000" spc="-1" strike="noStrike">
                <a:solidFill>
                  <a:srgbClr val="000000"/>
                </a:solidFill>
                <a:latin typeface="Lucida Sans Unicode"/>
              </a:rPr>
              <a:t>- SCR756 presented to RMS for language approval</a:t>
            </a:r>
            <a:endParaRPr b="0" lang="en-US" sz="2000" spc="-1" strike="noStrike">
              <a:solidFill>
                <a:srgbClr val="000000"/>
              </a:solidFill>
              <a:latin typeface="Lucida Sans Unicode"/>
            </a:endParaRPr>
          </a:p>
          <a:p>
            <a:pPr lvl="2"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July 15</a:t>
            </a:r>
            <a:r>
              <a:rPr b="0" lang="en-US" sz="2000" spc="-1" strike="noStrike" baseline="30000">
                <a:solidFill>
                  <a:srgbClr val="000000"/>
                </a:solidFill>
                <a:latin typeface="Lucida Sans Unicode"/>
              </a:rPr>
              <a:t>th</a:t>
            </a:r>
            <a:r>
              <a:rPr b="0" lang="en-US" sz="2000" spc="-1" strike="noStrike">
                <a:solidFill>
                  <a:srgbClr val="000000"/>
                </a:solidFill>
                <a:latin typeface="Lucida Sans Unicode"/>
              </a:rPr>
              <a:t> –Review of ERCOT Cost Benefit Analysis with projected budget </a:t>
            </a:r>
            <a:endParaRPr b="0" lang="en-US" sz="2000" spc="-1" strike="noStrike">
              <a:solidFill>
                <a:srgbClr val="000000"/>
              </a:solidFill>
              <a:latin typeface="Lucida Sans Unicode"/>
            </a:endParaRPr>
          </a:p>
          <a:p>
            <a:pPr lvl="2"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ugust 6</a:t>
            </a:r>
            <a:r>
              <a:rPr b="0" lang="en-US" sz="2000" spc="-1" strike="noStrike" baseline="30000">
                <a:solidFill>
                  <a:srgbClr val="000000"/>
                </a:solidFill>
                <a:latin typeface="Lucida Sans Unicode"/>
              </a:rPr>
              <a:t>th</a:t>
            </a:r>
            <a:r>
              <a:rPr b="0" lang="en-US" sz="2000" spc="-1" strike="noStrike">
                <a:solidFill>
                  <a:srgbClr val="000000"/>
                </a:solidFill>
                <a:latin typeface="Lucida Sans Unicode"/>
              </a:rPr>
              <a:t>- TAC review of SCR756 for approval</a:t>
            </a:r>
            <a:endParaRPr b="0" lang="en-US" sz="2000" spc="-1" strike="noStrike">
              <a:solidFill>
                <a:srgbClr val="000000"/>
              </a:solidFill>
              <a:latin typeface="Lucida Sans Unicode"/>
            </a:endParaRPr>
          </a:p>
          <a:p>
            <a:pPr lvl="2"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58960" indent="-228600">
              <a:lnSpc>
                <a:spcPct val="90000"/>
              </a:lnSpc>
              <a:spcBef>
                <a:spcPts val="349"/>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pt. 15th- SCR756 presented to The Board for further approval</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57200" y="1523880"/>
            <a:ext cx="8229600" cy="4525920"/>
          </a:xfrm>
          <a:prstGeom prst="rect">
            <a:avLst/>
          </a:prstGeom>
          <a:noFill/>
          <a:ln w="0">
            <a:noFill/>
          </a:ln>
        </p:spPr>
        <p:txBody>
          <a:bodyPr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uto Log off changed from 2.5 to 1 hour </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ince the change has the issue with concurrent licenses and not being able to log on decreased?</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MarkeTrak Taskforce recommends ERCOT to evaluate the purchase of more licenses</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2" name="Rectangle 5" descr=""/>
          <p:cNvPicPr/>
          <p:nvPr/>
        </p:nvPicPr>
        <p:blipFill>
          <a:blip r:embed="rId1"/>
          <a:stretch/>
        </p:blipFill>
        <p:spPr>
          <a:xfrm>
            <a:off x="281160" y="195120"/>
            <a:ext cx="841212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219240" y="268200"/>
            <a:ext cx="8474040" cy="1158840"/>
          </a:xfrm>
          <a:prstGeom prst="rect">
            <a:avLst/>
          </a:prstGeom>
          <a:ln w="0">
            <a:noFill/>
          </a:ln>
        </p:spPr>
      </p:pic>
      <p:sp>
        <p:nvSpPr>
          <p:cNvPr id="384" name="PlaceHolder 1"/>
          <p:cNvSpPr>
            <a:spLocks noGrp="1"/>
          </p:cNvSpPr>
          <p:nvPr>
            <p:ph/>
          </p:nvPr>
        </p:nvSpPr>
        <p:spPr>
          <a:xfrm>
            <a:off x="380880" y="1142640"/>
            <a:ext cx="8305920" cy="514836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MarkeTrak Taskforce is currently reviewing what impacts the new approved PUCT Project 36536 for Standard and Self Selected Switch processes and timelines</a:t>
            </a:r>
            <a:r>
              <a:rPr b="0" lang="en-US" sz="2700" spc="-1" strike="noStrike">
                <a:solidFill>
                  <a:srgbClr val="ff0000"/>
                </a:solidFill>
                <a:latin typeface="Lucida Sans Unicode"/>
              </a:rPr>
              <a:t> </a:t>
            </a:r>
            <a:r>
              <a:rPr b="0" lang="en-US" sz="2700" spc="-1" strike="noStrike">
                <a:solidFill>
                  <a:srgbClr val="000000"/>
                </a:solidFill>
                <a:latin typeface="Lucida Sans Unicode"/>
              </a:rPr>
              <a:t>will have on Market Participants</a:t>
            </a:r>
            <a:r>
              <a:rPr b="0" lang="en-US" sz="2700" spc="-1" strike="noStrike">
                <a:solidFill>
                  <a:srgbClr val="ff0000"/>
                </a:solidFill>
                <a:latin typeface="Lucida Sans Unicode"/>
              </a:rPr>
              <a:t> </a:t>
            </a:r>
            <a:r>
              <a:rPr b="0" lang="en-US" sz="2700" spc="-1" strike="noStrike">
                <a:solidFill>
                  <a:srgbClr val="000000"/>
                </a:solidFill>
                <a:latin typeface="Lucida Sans Unicode"/>
              </a:rPr>
              <a:t>submitting issues to the tool.</a:t>
            </a:r>
            <a:endParaRPr b="0" lang="en-US" sz="27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necessary changes for the MarkeTrak tool will not occur until 2010.   However, the MarkeTrak task force anticipates changes to the current User’s Guide providing guidance in using the tool to resolves issues related to Expedited switches</a:t>
            </a:r>
            <a:r>
              <a:rPr b="0" lang="en-US" sz="2700" spc="-1" strike="noStrike">
                <a:solidFill>
                  <a:srgbClr val="ff0000"/>
                </a:solidFill>
                <a:latin typeface="Lucida Sans Unicode"/>
              </a:rPr>
              <a:t>.</a:t>
            </a:r>
            <a:r>
              <a:rPr b="0" lang="en-US" sz="2700" spc="-1" strike="noStrike">
                <a:solidFill>
                  <a:srgbClr val="000000"/>
                </a:solidFill>
                <a:latin typeface="Lucida Sans Unicode"/>
              </a:rPr>
              <a:t> </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Rectangle 2" descr=""/>
          <p:cNvPicPr/>
          <p:nvPr/>
        </p:nvPicPr>
        <p:blipFill>
          <a:blip r:embed="rId1"/>
          <a:stretch/>
        </p:blipFill>
        <p:spPr>
          <a:xfrm>
            <a:off x="219240" y="268200"/>
            <a:ext cx="8474040" cy="1158840"/>
          </a:xfrm>
          <a:prstGeom prst="rect">
            <a:avLst/>
          </a:prstGeom>
          <a:ln w="0">
            <a:noFill/>
          </a:ln>
        </p:spPr>
      </p:pic>
      <p:sp>
        <p:nvSpPr>
          <p:cNvPr id="386"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lease - Retail - 12:00 PM Saturday, June 27, 2009 through 12:00 AM Monday, June 29, 2009 </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7" name="Picture 651" descr=""/>
          <p:cNvPicPr/>
          <p:nvPr/>
        </p:nvPicPr>
        <p:blipFill>
          <a:blip r:embed="rId2"/>
          <a:stretch/>
        </p:blipFill>
        <p:spPr>
          <a:xfrm>
            <a:off x="0" y="2590920"/>
            <a:ext cx="914400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Rectangle 2" descr=""/>
          <p:cNvPicPr/>
          <p:nvPr/>
        </p:nvPicPr>
        <p:blipFill>
          <a:blip r:embed="rId1"/>
          <a:stretch/>
        </p:blipFill>
        <p:spPr>
          <a:xfrm>
            <a:off x="249120" y="268200"/>
            <a:ext cx="8444160" cy="1158840"/>
          </a:xfrm>
          <a:prstGeom prst="rect">
            <a:avLst/>
          </a:prstGeom>
          <a:ln w="0">
            <a:noFill/>
          </a:ln>
        </p:spPr>
      </p:pic>
      <p:pic>
        <p:nvPicPr>
          <p:cNvPr id="389" name="Picture 625" descr=""/>
          <p:cNvPicPr/>
          <p:nvPr/>
        </p:nvPicPr>
        <p:blipFill>
          <a:blip r:embed="rId2"/>
          <a:stretch/>
        </p:blipFill>
        <p:spPr>
          <a:xfrm>
            <a:off x="838080" y="1295280"/>
            <a:ext cx="78487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066320"/>
            <a:ext cx="8229600" cy="494028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b5353"/>
                </a:solidFill>
                <a:uFillTx/>
                <a:latin typeface="Lucida Sans Unicode"/>
                <a:hlinkClick r:id="rId1"/>
              </a:rPr>
              <a:t>http://www.ercot.com/services/client_svcs/mktrk_info/</a:t>
            </a: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r Guide</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ulk Insert Template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Workflow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Tips and Trick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API WSDL/XSD</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lso direct link from MarkeTrak tool</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1" name="Title 2" descr=""/>
          <p:cNvPicPr/>
          <p:nvPr/>
        </p:nvPicPr>
        <p:blipFill>
          <a:blip r:embed="rId2"/>
          <a:stretch/>
        </p:blipFill>
        <p:spPr>
          <a:xfrm>
            <a:off x="195120" y="219240"/>
            <a:ext cx="8498160" cy="93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4" descr="MCj04042630000[1]"/>
          <p:cNvPicPr/>
          <p:nvPr/>
        </p:nvPicPr>
        <p:blipFill>
          <a:blip r:embed="rId1"/>
          <a:stretch/>
        </p:blipFill>
        <p:spPr>
          <a:xfrm>
            <a:off x="3652920" y="2897280"/>
            <a:ext cx="1838160" cy="1695240"/>
          </a:xfrm>
          <a:prstGeom prst="rect">
            <a:avLst/>
          </a:prstGeom>
          <a:ln w="0">
            <a:noFill/>
          </a:ln>
        </p:spPr>
      </p:pic>
      <p:pic>
        <p:nvPicPr>
          <p:cNvPr id="393" name="Rectang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9:55:41Z</dcterms:created>
  <dc:creator>00015621</dc:creator>
  <dc:description/>
  <dc:language>en-US</dc:language>
  <cp:lastModifiedBy>Reliant</cp:lastModifiedBy>
  <dcterms:modified xsi:type="dcterms:W3CDTF">2009-06-09T15:57:39Z</dcterms:modified>
  <cp:revision>460</cp:revision>
  <dc:subject/>
  <dc:title>MarkeTrak Task Force</dc:title>
</cp:coreProperties>
</file>