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42FB-070A-428D-9E09-78A76B5E71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C6D9-3D0E-406D-B8C4-AE1DC2B1F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3470-CD55-400B-9776-A1B494147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FAE3-EB31-41A3-95E6-6D0A446CC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2B41-1C32-43FA-8422-3AB04BB2E73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D87A-8DA8-4700-BCAA-B250F73E1B1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8BBF-33FD-4E0F-B31E-AB1472204BB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5FCB-217D-456B-91CD-6B625D103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D3F5C-2B55-457A-A7E2-2467C462C99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D16D4-8721-4334-B548-306FCD57D23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81A04-6076-4802-9D8A-F0D8140867F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5BA6-A1A4-4E44-9184-54321E002AA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14B71-DC19-49B1-B675-98DBE56BF9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78F5-ED54-44AC-911C-F15A6B4885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8220-BBFC-436F-8391-9795810A13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34BC5-3095-46F2-963D-CDEA9CA19C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7547-E71D-453D-8859-114BBBF4A2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78B9-C0A9-4ED3-B526-8046304E83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529F6-4A9A-4B05-B44E-9DCD5F7DFD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0FE19-BEC8-4633-BE71-F80A222D92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2B02-698F-4E28-84BB-9013B864DA6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46D3-CDCA-4F20-BB48-0DF4B39F6D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56E0-E06B-49AC-94BA-F08D57CB2FB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08A0-489B-4AB0-9699-019C03D3E29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266F-CC9E-42E2-BEA4-59DEA347733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894D-2657-4F4B-A573-395B106A471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F708-B1CA-472A-AE2B-E512E0F2DB7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1103-20AF-4910-8D8E-55DE955BF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997366-63B0-49EE-AD1A-2EBE30F5E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B3185E-5AB3-48AB-AADA-01317E2B5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F6FC55-7CC3-4746-9323-48E1C3D26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BFC5F5-44FC-4E04-98DB-45E321372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2C06E7-B937-4D19-AAC6-1A6D998A9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B33854-D7EE-43C4-A6C6-5BAD5A33B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288318-9B4A-4F8A-99AA-579515A54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69B560-195A-4FF4-907D-556ED4DC9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9B357D-F806-46B2-9CA1-FB6E54848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212DA2-BCF6-4F87-94E8-973E61E80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2A7D57-366C-4C4C-B413-0DC74C949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002E28-5052-4F56-AAFC-5668B4A7D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860ECD-5855-4CF9-A8D0-6A4A7485B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F88925-6C38-46F2-B957-DF550F791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39C84B-55F3-48C4-BD7C-5CCA09555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393734-2AC2-4D8A-888F-2956EB223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C478-08A8-4D42-AE40-9819E3F61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63F5A2-5E62-4F8B-9B06-D33909974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A3F588-525E-4442-9DE2-12E66E452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3E3AE7-BD56-4653-A603-54DDE0639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6EEDC1-07EC-4977-835B-0A7981044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BCE722-1A3A-46E4-8A8E-C74FDBD12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898C8E5-96DD-42CC-A907-51852FA18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parrish@ercot.com" TargetMode="External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hparrish@ercot.com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ay 2009 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June 10, 2009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ope Parrish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PL Prioritization – RMS Goa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Ex with RMS – Apr 30 2-3p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Comple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mit all 2010 Project Initiatives to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parrish@ercot.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May 4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Comple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Kick off at RMS – May 13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Comple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Draft Project Charters, CBA and review – May 08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Comple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Draft TCE for projects – May 15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Comple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- Review and finalize Draft Charter, CBA, and TCE week of May 29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Comple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ve 2010 PP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6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652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parrish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 of project status on RO 2009 PP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 2009 Financ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ve 2010 RO PP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6" name="Object 3188"/>
          <p:cNvGraphicFramePr/>
          <p:nvPr/>
        </p:nvGraphicFramePr>
        <p:xfrm>
          <a:off x="1038240" y="685800"/>
          <a:ext cx="7066080" cy="57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7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685800"/>
                    <a:ext cx="7066080" cy="57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9" name="Text Box 3"/>
          <p:cNvSpPr/>
          <p:nvPr/>
        </p:nvSpPr>
        <p:spPr>
          <a:xfrm>
            <a:off x="304920" y="55087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685800" y="914400"/>
          <a:ext cx="7924680" cy="2819520"/>
        </p:xfrm>
        <a:graphic>
          <a:graphicData uri="http://schemas.openxmlformats.org/drawingml/2006/table">
            <a:tbl>
              <a:tblPr/>
              <a:tblGrid>
                <a:gridCol w="642960"/>
                <a:gridCol w="846000"/>
                <a:gridCol w="2459160"/>
                <a:gridCol w="1050840"/>
                <a:gridCol w="1033560"/>
                <a:gridCol w="757080"/>
                <a:gridCol w="1135080"/>
              </a:tblGrid>
              <a:tr h="6811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 Area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Doc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No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Status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Priority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Revised Budget Range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90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CT 346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Metering -Interim Solution for Settlement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27_0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Previously Approved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M - 2M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80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BCO Siebel Integration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40_0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Previously Approved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0k-$500k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413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free and NAESB Transition to ISM  formerly (EDW EAI Transition Phase 1 (including PaperFree &amp; NAESB)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61_0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Previously Approved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0k-$500k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091" name="Rectangle 6"/>
          <p:cNvSpPr/>
          <p:nvPr/>
        </p:nvSpPr>
        <p:spPr>
          <a:xfrm>
            <a:off x="609480" y="403380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80040_01 – Migrated to production on May 16, 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4" name=""/>
          <p:cNvGraphicFramePr/>
          <p:nvPr/>
        </p:nvGraphicFramePr>
        <p:xfrm>
          <a:off x="990720" y="1066680"/>
          <a:ext cx="7391160" cy="2076480"/>
        </p:xfrm>
        <a:graphic>
          <a:graphicData uri="http://schemas.openxmlformats.org/drawingml/2006/table">
            <a:tbl>
              <a:tblPr/>
              <a:tblGrid>
                <a:gridCol w="600120"/>
                <a:gridCol w="788760"/>
                <a:gridCol w="2293920"/>
                <a:gridCol w="979560"/>
                <a:gridCol w="963720"/>
                <a:gridCol w="706320"/>
                <a:gridCol w="1058760"/>
              </a:tblGrid>
              <a:tr h="7527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 Area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Doc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No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Status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Priority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Revised Budget Range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810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esearch and Reporting (formerly ETS Transition to EDW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88_0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Previously Approved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M-$2M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427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ail Application Upgrades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31_0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High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M-2M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On Hol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6" name=""/>
          <p:cNvGraphicFramePr/>
          <p:nvPr/>
        </p:nvGraphicFramePr>
        <p:xfrm>
          <a:off x="457200" y="914400"/>
          <a:ext cx="8305920" cy="1981080"/>
        </p:xfrm>
        <a:graphic>
          <a:graphicData uri="http://schemas.openxmlformats.org/drawingml/2006/table">
            <a:tbl>
              <a:tblPr/>
              <a:tblGrid>
                <a:gridCol w="600120"/>
                <a:gridCol w="787320"/>
                <a:gridCol w="2293920"/>
                <a:gridCol w="978120"/>
                <a:gridCol w="965160"/>
                <a:gridCol w="704880"/>
                <a:gridCol w="1058760"/>
                <a:gridCol w="917640"/>
              </a:tblGrid>
              <a:tr h="7603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 Are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Do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No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Statu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Priorit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Revised Budget Range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Running Range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84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 Metering Long Term Settlement Soluti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7_0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Critica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           - 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M-$4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41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rak Phase 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30_0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Hol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Hig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            - 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M-$4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24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CT 3461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Metering - Retail Market Interfa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11_0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Hig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k-$250k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M-$4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8" name="Text Box 67"/>
          <p:cNvSpPr/>
          <p:nvPr/>
        </p:nvSpPr>
        <p:spPr>
          <a:xfrm>
            <a:off x="228600" y="48006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80028_01 – Gated to Closing Phase May 26, 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304920" y="838080"/>
          <a:ext cx="8458200" cy="3581640"/>
        </p:xfrm>
        <a:graphic>
          <a:graphicData uri="http://schemas.openxmlformats.org/drawingml/2006/table">
            <a:tbl>
              <a:tblPr/>
              <a:tblGrid>
                <a:gridCol w="687240"/>
                <a:gridCol w="901800"/>
                <a:gridCol w="2624040"/>
                <a:gridCol w="1120680"/>
                <a:gridCol w="1105200"/>
                <a:gridCol w="807840"/>
                <a:gridCol w="1211400"/>
              </a:tblGrid>
              <a:tr h="6987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 Area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Doc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No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Status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Priority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Revised Budget Range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649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/MO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3693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CT 3489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Renewables/Distributed Generation - RMWG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28_0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ing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Previously Approved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$25K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652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4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rak Enhancements (Workflow &amp; Reporting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7_0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ing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Previously Approved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$100k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652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48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 Enhancements for ERCOT Outages PhII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6_0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Previously Approved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$50k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874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free and NAESB Transition to ISM  formerly (EDW EAI Transition Phase 1 (including PaperFree &amp; NAESB)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61_0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led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High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k-$250k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06/01/2009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1" name=""/>
          <p:cNvGraphicFramePr/>
          <p:nvPr/>
        </p:nvGraphicFramePr>
        <p:xfrm>
          <a:off x="152280" y="762120"/>
          <a:ext cx="8763120" cy="4491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616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3.594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22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 PPL Priorit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09-06-03T19:15:48Z</dcterms:modified>
  <cp:revision>541</cp:revision>
  <dc:subject/>
  <dc:title>Role of Account Management at ERCOT</dc:title>
</cp:coreProperties>
</file>