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DEA2A40-C40D-428E-A7EB-B34E89098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823FB2-BC37-4BCB-9757-658F5583D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96960"/>
            <a:ext cx="4647960" cy="3486240"/>
          </a:xfrm>
          <a:prstGeom prst="rect">
            <a:avLst/>
          </a:prstGeom>
          <a:ln w="0">
            <a:noFill/>
          </a:ln>
        </p:spPr>
      </p:sp>
      <p:sp>
        <p:nvSpPr>
          <p:cNvPr id="13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41E932-0D44-4B3D-9CF9-F98FA7C8A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06640" y="696960"/>
            <a:ext cx="4647960" cy="3486240"/>
          </a:xfrm>
          <a:prstGeom prst="rect">
            <a:avLst/>
          </a:prstGeom>
          <a:ln w="0">
            <a:noFill/>
          </a:ln>
        </p:spPr>
      </p:sp>
      <p:sp>
        <p:nvSpPr>
          <p:cNvPr id="14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ADA20B-0C14-4159-83B1-BCDB5FCCA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06640" y="696960"/>
            <a:ext cx="4647960" cy="3486240"/>
          </a:xfrm>
          <a:prstGeom prst="rect">
            <a:avLst/>
          </a:prstGeom>
          <a:ln w="0">
            <a:noFill/>
          </a:ln>
        </p:spPr>
      </p:sp>
      <p:sp>
        <p:nvSpPr>
          <p:cNvPr id="14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5943BF-6214-4A9F-95C7-18085A901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07E0F3-12AF-49C4-8624-D6F9080FC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06640" y="696960"/>
            <a:ext cx="4647960" cy="3486240"/>
          </a:xfrm>
          <a:prstGeom prst="rect">
            <a:avLst/>
          </a:prstGeom>
          <a:ln w="0">
            <a:noFill/>
          </a:ln>
        </p:spPr>
      </p:sp>
      <p:sp>
        <p:nvSpPr>
          <p:cNvPr id="14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95F7370-3585-41B9-9B6E-F468EC9AE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06640" y="696960"/>
            <a:ext cx="4647960" cy="3486240"/>
          </a:xfrm>
          <a:prstGeom prst="rect">
            <a:avLst/>
          </a:prstGeom>
          <a:ln w="0">
            <a:noFill/>
          </a:ln>
        </p:spPr>
      </p:sp>
      <p:sp>
        <p:nvSpPr>
          <p:cNvPr id="15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5C0886A-A882-488C-B445-A08033323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6640" y="696960"/>
            <a:ext cx="4647960" cy="3486240"/>
          </a:xfrm>
          <a:prstGeom prst="rect">
            <a:avLst/>
          </a:prstGeom>
          <a:ln w="0">
            <a:noFill/>
          </a:ln>
        </p:spPr>
      </p:sp>
      <p:sp>
        <p:nvSpPr>
          <p:cNvPr id="15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C55CD69-61E8-4CA1-B8AC-E14344FED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06640" y="696960"/>
            <a:ext cx="4647960" cy="3486240"/>
          </a:xfrm>
          <a:prstGeom prst="rect">
            <a:avLst/>
          </a:prstGeom>
          <a:ln w="0">
            <a:noFill/>
          </a:ln>
        </p:spPr>
      </p:sp>
      <p:sp>
        <p:nvSpPr>
          <p:cNvPr id="15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F18EF-2094-4EAF-A609-F649BCFA9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5281-9B3A-4B67-8D48-4DB59CDA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8BCC7-5B7E-4D0F-984E-0EEB2CDB0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6C93A-E2DB-4364-BA65-C668E9FBB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44710-F5F1-489D-B198-1032B95A5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AA4A-E730-4754-B375-7A5A94275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35AF5-98D6-4B06-839D-7BA93C02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99C4-DFD7-45BD-BBBC-ED8BFCB8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BA337-1648-44B8-8ECD-C617E640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DFDC-9473-4A50-9FF5-D8D51AD3C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41BF1-8966-48E6-8E52-1BD3C516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8E259-B2C1-464A-B853-1397BC8DD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C475-8D31-42F1-938E-0477CA909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EA48-D40F-4B55-91D6-C0A358B6E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60B7-514B-4C4C-975A-F6B5A9664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5679-7B25-49BC-A7F2-DB1F618F10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7" descr=""/>
          <p:cNvPicPr/>
          <p:nvPr/>
        </p:nvPicPr>
        <p:blipFill>
          <a:blip r:embed="rId1"/>
          <a:stretch/>
        </p:blipFill>
        <p:spPr>
          <a:xfrm>
            <a:off x="133200" y="1494000"/>
            <a:ext cx="8906040" cy="471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AA80-C2A7-4EDE-A108-8BF543224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82FB-5A87-4B3D-B34C-4CDF7A7AC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1082-757C-4AD7-B535-62AF60A8C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6" descr=""/>
          <p:cNvPicPr/>
          <p:nvPr/>
        </p:nvPicPr>
        <p:blipFill>
          <a:blip r:embed="rId1"/>
          <a:stretch/>
        </p:blipFill>
        <p:spPr>
          <a:xfrm>
            <a:off x="95400" y="1782720"/>
            <a:ext cx="896760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F09F-E315-4F07-8C9A-ABFE39DF5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62A3-E860-4EF5-AA5D-0E44AAC39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7" descr=""/>
          <p:cNvPicPr/>
          <p:nvPr/>
        </p:nvPicPr>
        <p:blipFill>
          <a:blip r:embed="rId1"/>
          <a:stretch/>
        </p:blipFill>
        <p:spPr>
          <a:xfrm>
            <a:off x="104760" y="1665360"/>
            <a:ext cx="8915400" cy="336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1087-D06D-490B-8A21-E707048D1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2"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4"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D780-B95D-44D8-9581-2362B526D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CDBF-878E-41AB-A414-CB2725512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B29E-78E0-43B0-AE08-3549DE9A0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735120" y="1371600"/>
            <a:ext cx="7570800" cy="48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9974-385A-406E-B897-1B6BCE5CC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2498-D4EA-4A3C-A4DF-924B82C26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236520" y="3809880"/>
            <a:ext cx="8678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2084-C0B5-4727-A634-7F766B1F8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514" descr=""/>
          <p:cNvPicPr/>
          <p:nvPr/>
        </p:nvPicPr>
        <p:blipFill>
          <a:blip r:embed="rId1"/>
          <a:stretch/>
        </p:blipFill>
        <p:spPr>
          <a:xfrm>
            <a:off x="609480" y="1590840"/>
            <a:ext cx="792792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F5F8-1CF9-4370-9993-7CD85FF7C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DC9C-13F4-4060-B27C-A332AF4EF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7" descr=""/>
          <p:cNvPicPr/>
          <p:nvPr/>
        </p:nvPicPr>
        <p:blipFill>
          <a:blip r:embed="rId1"/>
          <a:stretch/>
        </p:blipFill>
        <p:spPr>
          <a:xfrm>
            <a:off x="104760" y="1523880"/>
            <a:ext cx="889632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6-02T16:53:09Z</dcterms:modified>
  <cp:revision>849</cp:revision>
  <dc:subject/>
  <dc:title>PowerPoint Presentation</dc:title>
</cp:coreProperties>
</file>