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7960" y="687240"/>
            <a:ext cx="4592520" cy="344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8D38ED0-AFA4-4FA6-9A49-2FB6E5228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B6DE240-D9E7-4009-A870-6F5A88E9B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F2C6CC3-AEB4-4502-AD20-E9B0AC7E8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2D9915D-F192-4658-A9C7-8E5C4F750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334722D-2B6C-4CE1-8421-A98393D92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A270E1E-DB14-418D-9CB5-76369F557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46CF-C7F1-479E-B410-0896BB10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5D13-9314-453F-A3A3-12EC5E68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E8C6-EB7C-41FE-B741-8CFC5F86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3ACD-9B2F-4B6B-9D78-0D64AE4A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5A75-7FB1-4D8B-896D-EF345269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D50D-78F8-4EA0-AFE3-87F0F902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AAF0-0A19-4CAB-9C3A-EB60AE5D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3903-2F3C-4438-B174-2C99FBF0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7CE0-5D72-419B-B72C-610B8794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4EDC-DA12-431F-A8DD-61C7CD08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F8BA-2954-42F4-8363-53870545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761D-4537-42A4-8BEB-BB6CCB5E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7BC4-707F-4179-BF0A-F96FFA873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Copy of Ercot Logo"/>
          <p:cNvPicPr/>
          <p:nvPr/>
        </p:nvPicPr>
        <p:blipFill>
          <a:blip r:embed="rId2"/>
          <a:stretch/>
        </p:blipFill>
        <p:spPr>
          <a:xfrm>
            <a:off x="708660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380880" y="1219320"/>
            <a:ext cx="830592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WordArt 12"/>
          <p:cNvSpPr txBox="1"/>
          <p:nvPr/>
        </p:nvSpPr>
        <p:spPr>
          <a:xfrm>
            <a:off x="228600" y="38088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DTWG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E559-227D-4462-A3CD-F91BB820E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DTW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505320" y="578952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CAF4-B2D0-4AA5-BD33-C95F11BB5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ed ERCOT System Outages and fail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ed Retail Service Level 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 Metrics 1 Qt 2009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IT Update and file size discus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502C-055F-4ECC-B997-AF2AFFD7F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d working with the ERCOT Manager of Operations to address each system incid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y Katskee reviewed the summary and detail pages of the incident lo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048120" y="441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ed Retail Service Level up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reviewed the service availability metrics for MarkeTrak as recommended by MTTF.   Specific metrics are presented in the ERCOT RMS support documen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will report on details of May 27, Retail processing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8D06-ACA7-435D-A1A2-7949511F7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 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ed Market Metrics 1 Qt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will present detail report in RMS upd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 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T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her Day presented projec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of file size for 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9720-1BD2-4797-8927-C23673E4B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2000"/>
            </a:b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Registered User</cp:lastModifiedBy>
  <cp:lastPrinted>2002-09-24T18:27:58Z</cp:lastPrinted>
  <dcterms:modified xsi:type="dcterms:W3CDTF">2009-06-08T16:08:41Z</dcterms:modified>
  <cp:revision>577</cp:revision>
  <dc:subject/>
  <dc:title>PowerPoint Presentation</dc:title>
</cp:coreProperties>
</file>