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C021-BEBD-4343-B7A1-CD9297F6D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34B5-7217-41A2-B241-FA0C1615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C14B-49EA-44AE-A65B-666238358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3F02-7DF7-4B16-A073-02FF19F44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B5ADC-3873-43E3-9581-6E7EEE4C5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3C072-A13A-4BD1-980D-0542EC37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7A6DA-7B68-445C-B997-90087B7E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6F1E1-6959-48BD-A1F9-1A190CC8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C3273-879A-491A-8DCB-D6C0DAFE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49F6D-2F93-4B03-85FB-C48D095D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9F556-06D0-4D5A-A5DB-F68A8CD3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6406-3574-4C88-9955-AAC6ACE1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F9F9B-6408-48F6-8857-542131AE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9B1BD-C081-4E76-B262-845BCE44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12504-C626-4DE0-9BE2-950366BD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B31AC-58BA-4885-AE9F-941A29C30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34B95-F045-4D8B-BBD2-C72A572CF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1A06-57D3-4B6B-9F62-903B5A50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2329-36B7-4E73-9505-4A465460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DCD5-1B4B-419D-B773-3202D26E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918D-7627-4878-BC75-90F109B2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E34D-AFC3-4846-8C03-92FE4D18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5609-8882-4311-A2BE-2022E623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93B5-3BED-4E74-8696-904E8385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8C53-80AC-466A-9556-B0FD42766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FFC4-FACC-41A9-927E-F74C6D0408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E34B-BAF8-43DD-82A0-A9C4A27A76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Arial"/>
              </a:rPr>
              <a:t>TX SET </a:t>
            </a:r>
            <a:br>
              <a:rPr sz="5400"/>
            </a:br>
            <a:r>
              <a:rPr b="0" lang="en-US" sz="5400" spc="-1" strike="noStrike">
                <a:solidFill>
                  <a:srgbClr val="000066"/>
                </a:solidFill>
                <a:latin typeface="Arial"/>
              </a:rPr>
              <a:t>Update to RM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June 10, 200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E6A4-A9AD-4F8E-87A9-D995491353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ssues Under Re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087 – PUCT Substantive Rule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§25.493 (e) states that ERCOT “shall develop procedures to facilitate the expeditious transfer of large numbers of customers from one REP to another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ext Step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RMGRR 073 (Mass Transition of ESI ID Due to Acquisition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TAC consideration on 6/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Texas SET developing procedures for Long-term S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5522-D342-44CB-8076-1A83F3C5AA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ssues Under Re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091 – CNP received 814_08 A95 cancels on several 814_26 (historical usage) transactions from ERCOT in err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ext Step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ERCOT has written a SIR to resolve this iss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094 – Allowing only 1 ignore loop in a monthly meter read is causing information to be lost when a meter change occ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ext Step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Texas SET requested that ERCOT research what it would take to be able to handle two ignore looks regarding DRG during a meter exchan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1D89-1DCA-42E2-AA4B-FBCADB4EE5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ssues Under Re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095 – Disconnect and Reconnect for Non-Pay for Prepay ESI 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ext Step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RMGRR 077 Submitt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095 – Transaction Codes Related to Back-billed Tampering Char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ext Step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TDSPs will discuss practices and will provide feedback to Texas SE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RMGRR Activ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RMGRR 072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– Clarification that ESI ID Count is for Active REP of Record in the CBCI F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ormal Timeli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ext Step: TA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RMGRR 073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– Mass Transition of ESI IDs due to Acquis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ormal Timeli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ext Step: TAC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DC82-2F22-4063-8749-D3CB757865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RMGRR Activ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RMGRR 078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– Add E-mail to the Customer Billing Contact Information F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Urgent Timeli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ext Step: R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8343-6813-4A8C-A6BC-1DBB32543B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PRR Activ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761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PRR 806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– Re-Registration of Market Participant due to Mass Transition of ESI 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ormal Timeli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ext Step: TAC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PRR 805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– Adding POLR Customer Class and AMS Meter Flag to the Database Query Function on the M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ormal Timeli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ext Step: TA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30BB-D5B9-49EE-9864-4002307041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10CE-19A7-4B61-A892-3AD9BDD9B3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The next TX SET meeting 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will be June 22</a:t>
            </a:r>
            <a:r>
              <a:rPr b="0" lang="en-US" sz="3600" spc="-1" strike="noStrike" baseline="30000">
                <a:solidFill>
                  <a:srgbClr val="000066"/>
                </a:solidFill>
                <a:latin typeface="Tahoma"/>
              </a:rPr>
              <a:t>nd</a:t>
            </a: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 and 23</a:t>
            </a:r>
            <a:r>
              <a:rPr b="0" lang="en-US" sz="3600" spc="-1" strike="noStrike" baseline="30000">
                <a:solidFill>
                  <a:srgbClr val="000066"/>
                </a:solidFill>
                <a:latin typeface="Tahoma"/>
              </a:rPr>
              <a:t>rd</a:t>
            </a: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 at ERCOT Met Center </a:t>
            </a:r>
            <a:br>
              <a:rPr sz="3600"/>
            </a:br>
            <a:br>
              <a:rPr sz="6000"/>
            </a:b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Any question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7:54:20Z</dcterms:created>
  <dc:creator>rbevill</dc:creator>
  <dc:description/>
  <dc:language>en-US</dc:language>
  <cp:lastModifiedBy>Texas SET</cp:lastModifiedBy>
  <dcterms:modified xsi:type="dcterms:W3CDTF">2009-06-03T00:57:05Z</dcterms:modified>
  <cp:revision>264</cp:revision>
  <dc:subject/>
  <dc:title>TX SET  Update to RMS</dc:title>
</cp:coreProperties>
</file>