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B38-2CC7-44A5-829A-BF0EE804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34C-70BB-4792-B8EF-8508EE9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A16-75D4-495A-9B9C-03FF01E5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166-6E4A-44FE-B23F-84804989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B8F-E28A-482C-B32F-9C3D342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B6F-1595-4D32-A8D7-DB9C8CC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E95-654A-480D-AEA5-5085BEB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65B-2594-401B-8CFD-2ABB209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07E-73B4-462B-99F8-6C08818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B58-40C3-4964-BE0C-D9DF3523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40A-AE62-49A5-A67A-3165024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328-BFBC-449D-9359-EED3D23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B30-44CA-447B-94ED-AD872D69E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ne 10, 200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s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9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had a solid quarter for transaction perform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ransactions reported met or exceeded the 98% within protocol targ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wo transactions were at the 98% level; all others were 99% or 100%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 Move In Reject transaction (814_17)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 ID Create (814_20 Forward) were at 98%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two transactions have a one hour protocol turn around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cessing issue in October prevented reporting of selected market participant transactions in the fourth quarter 2008.  Comparisons are not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B31-0AC4-475E-B17B-411652EDE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447920"/>
          <a:ext cx="8686800" cy="4689360"/>
        </p:xfrm>
        <a:graphic>
          <a:graphicData uri="http://schemas.openxmlformats.org/drawingml/2006/table">
            <a:tbl>
              <a:tblPr/>
              <a:tblGrid>
                <a:gridCol w="2776680"/>
                <a:gridCol w="1801800"/>
                <a:gridCol w="1288800"/>
                <a:gridCol w="1716120"/>
                <a:gridCol w="110340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3,6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6,9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3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7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0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1,5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5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9,1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2,4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7,4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6,5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5,9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5,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7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0,0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8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1,3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ABD-08DA-4F97-A3D6-AF51696F40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610480" cy="4706640"/>
        </p:xfrm>
        <a:graphic>
          <a:graphicData uri="http://schemas.openxmlformats.org/drawingml/2006/table">
            <a:tbl>
              <a:tblPr/>
              <a:tblGrid>
                <a:gridCol w="2805120"/>
                <a:gridCol w="1690560"/>
                <a:gridCol w="1219320"/>
                <a:gridCol w="1776240"/>
                <a:gridCol w="111924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9,6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5,0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1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6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2,4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6,7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5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1,5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2,7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7,3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4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6,0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8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4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2,1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5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31,8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4D1-4385-4DE9-9182-27AA58285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447920"/>
          <a:ext cx="8686440" cy="4771800"/>
        </p:xfrm>
        <a:graphic>
          <a:graphicData uri="http://schemas.openxmlformats.org/drawingml/2006/table">
            <a:tbl>
              <a:tblPr/>
              <a:tblGrid>
                <a:gridCol w="2717640"/>
                <a:gridCol w="1944360"/>
                <a:gridCol w="1081080"/>
                <a:gridCol w="1860840"/>
                <a:gridCol w="1082520"/>
              </a:tblGrid>
              <a:tr h="386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3,7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8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9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0,3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3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5,6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9,5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0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3,9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,8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5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4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0,6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7,7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3,5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134-CDDE-493C-BEC1-EE805A6791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447920"/>
          <a:ext cx="8458200" cy="4541760"/>
        </p:xfrm>
        <a:graphic>
          <a:graphicData uri="http://schemas.openxmlformats.org/drawingml/2006/table">
            <a:tbl>
              <a:tblPr/>
              <a:tblGrid>
                <a:gridCol w="2675160"/>
                <a:gridCol w="1825560"/>
                <a:gridCol w="1065240"/>
                <a:gridCol w="1825560"/>
                <a:gridCol w="106668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4,1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8,3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3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8,5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5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0,8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01,3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2,0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59,9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E4D-1CF5-4881-AC16-48B88731D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 ID Create/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523880"/>
          <a:ext cx="8458200" cy="4227480"/>
        </p:xfrm>
        <a:graphic>
          <a:graphicData uri="http://schemas.openxmlformats.org/drawingml/2006/table">
            <a:tbl>
              <a:tblPr/>
              <a:tblGrid>
                <a:gridCol w="2614680"/>
                <a:gridCol w="1962360"/>
                <a:gridCol w="917280"/>
                <a:gridCol w="1873440"/>
                <a:gridCol w="1090440"/>
              </a:tblGrid>
              <a:tr h="460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8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,7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6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,0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6,6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0,2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5,8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27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D59-8CE2-4D19-B28C-63C5DF41E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9-06-02T21:24:03Z</dcterms:modified>
  <cp:revision>448</cp:revision>
  <dc:subject/>
  <dc:title>PowerPoint Presentation</dc:title>
</cp:coreProperties>
</file>