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C3BF-7CF3-4567-8F8F-DEFD49CE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E38F-5C4D-4701-84F5-B1BE9DE7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7835-C55D-471D-8881-800C0C73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E09C-5321-4A1F-AE1B-8D2BC985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2BA9-E51A-4B92-BE4D-9815DC15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ED06-5937-42CE-BB19-856E3E0C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D2FC-A718-436F-A479-FD17E3C1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009E-3BCB-4C79-8625-E2B7CBA7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258F-5049-402B-9E74-9D5527BE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819D-DBE0-4C66-88EE-22B1F62A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6C28-2F1B-4E31-B99F-35BE792F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4AD7-5598-4ACB-B1C5-979F8887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BDF7-7FB1-4E12-9C34-A2F0DC86E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1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10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609 Kick-Off Conference Call will be 06/19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begin with Day 1 transactions flowing on 06/22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 on 08/04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 on 08/25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New CRs (includes 2 Additional DUNS) – 44 New Relationships; 2 Existing 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CR testing to change to PUCT Op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CR testing to add a new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768 Total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6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9-06-02T12:22:39Z</dcterms:modified>
  <cp:revision>103</cp:revision>
  <dc:subject/>
  <dc:title>Instructions</dc:title>
</cp:coreProperties>
</file>