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F177-0233-41E9-8260-340B5FAAB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7A6C-10E7-48ED-B504-6D9BE1A6E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4F0E3-7770-49CD-9198-ADCAA3008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0AB7-AC10-4398-9CC1-9C2A7C77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F5B08-7DC4-48C8-8C1B-01DD73ED8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F44B4-48B6-41DA-A055-9A18610BB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582D7-792D-44AA-AB73-9155EB840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E9114-93D4-4BA0-85C7-041DDEEDB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A5AAA-120D-48DC-94F5-1AD71727D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FB566-C5B3-41A9-884B-8831C38F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8E0F7-DE0B-44A3-B152-D4DC49FCC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D323A-9FCE-41B5-8763-727F03F8A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B5C81-339C-47AC-9475-4EC82C85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087D6-0102-43D1-AD46-9B41EE04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1A70-D017-42FD-A8C4-3854DA4D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3836-BCD7-4C9D-BE37-AC822F270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83DA8-2551-471E-8266-93E4680E0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FAEA6-4F6F-467F-962D-A35F0530B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6DF23-7A3C-448E-A6BF-38358ABAD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4DD9-172B-4F68-BF04-2377F88D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49F78-AA7E-4A47-A902-E65F4CF9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E244-109B-4B20-B861-F24945C93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159C2-7E17-4C98-8F34-A24C157A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FFF5-024E-4927-ACC9-E085489A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A4FC-3E89-4F63-83B2-A9FE15832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0A22-31CD-4635-A29C-918A20D82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4128-CC1A-4290-8A31-D55E691036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9246-9595-426F-98A1-2B48A30FB6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9" name="PlaceHolder 2"/>
          <p:cNvSpPr>
            <a:spLocks noGrp="1"/>
          </p:cNvSpPr>
          <p:nvPr>
            <p:ph/>
          </p:nvPr>
        </p:nvSpPr>
        <p:spPr>
          <a:xfrm>
            <a:off x="609480" y="2286000"/>
            <a:ext cx="7925040" cy="3733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CWG Update to COPS</a:t>
            </a:r>
            <a:endParaRPr b="0" lang="en-US" sz="44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ne 9, 2009</a:t>
            </a:r>
            <a:endParaRPr b="0" lang="en-US" sz="3200" spc="-1" strike="noStrike">
              <a:solidFill>
                <a:srgbClr val="000000"/>
              </a:solidFill>
              <a:latin typeface="Arial"/>
            </a:endParaRPr>
          </a:p>
        </p:txBody>
      </p:sp>
      <p:sp>
        <p:nvSpPr>
          <p:cNvPr id="10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5FC5-9110-4F64-85B9-388D6B7CC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2" name="PlaceHolder 2"/>
          <p:cNvSpPr>
            <a:spLocks noGrp="1"/>
          </p:cNvSpPr>
          <p:nvPr>
            <p:ph/>
          </p:nvPr>
        </p:nvSpPr>
        <p:spPr>
          <a:xfrm>
            <a:off x="609480" y="1447560"/>
            <a:ext cx="7925040" cy="4800600"/>
          </a:xfrm>
          <a:prstGeom prst="rect">
            <a:avLst/>
          </a:prstGeom>
          <a:noFill/>
          <a:ln w="0">
            <a:noFill/>
          </a:ln>
        </p:spPr>
        <p:txBody>
          <a:bodyPr anchor="t">
            <a:normAutofit fontScale="96000"/>
          </a:bodyPr>
          <a:p>
            <a:pPr marL="329040" indent="-3290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Voting Item</a:t>
            </a:r>
            <a:endParaRPr b="0" lang="en-US" sz="32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CR 755, ERCOT Website Improvements</a:t>
            </a:r>
            <a:endParaRPr b="0" lang="en-US" sz="28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 includes a list of improvements to be made to the ERCOT website</a:t>
            </a:r>
            <a:endParaRPr b="0" lang="en-US" sz="2800" spc="-1" strike="noStrike">
              <a:solidFill>
                <a:srgbClr val="000000"/>
              </a:solidFill>
              <a:latin typeface="Arial"/>
            </a:endParaRPr>
          </a:p>
          <a:p>
            <a:pPr marL="329040" indent="-32904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mprovements were created</a:t>
            </a:r>
            <a:r>
              <a:rPr b="0" lang="en-US" sz="2400" spc="-1" strike="noStrike">
                <a:solidFill>
                  <a:srgbClr val="000000"/>
                </a:solidFill>
                <a:latin typeface="Arial"/>
              </a:rPr>
              <a:t> as a result of the 2008 Market Participant Survey</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approve the Impact Analysis, Recommendation Report, Cost Benefit Analysis, and CEO Revision Request Review</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3D3B-F4A5-45BE-BF77-B49309138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5" name="PlaceHolder 2"/>
          <p:cNvSpPr>
            <a:spLocks noGrp="1"/>
          </p:cNvSpPr>
          <p:nvPr>
            <p:ph/>
          </p:nvPr>
        </p:nvSpPr>
        <p:spPr>
          <a:xfrm>
            <a:off x="304920" y="1371240"/>
            <a:ext cx="8229600" cy="4876920"/>
          </a:xfrm>
          <a:prstGeom prst="rect">
            <a:avLst/>
          </a:prstGeom>
          <a:noFill/>
          <a:ln w="0">
            <a:noFill/>
          </a:ln>
        </p:spPr>
        <p:txBody>
          <a:bodyPr anchor="t">
            <a:normAutofit fontScale="87000"/>
          </a:bodyPr>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Voting Item</a:t>
            </a:r>
            <a:endParaRPr b="0" lang="en-US" sz="32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PMGRR 012, Creating Section 11, Disputes and Data Extract Variances</a:t>
            </a:r>
            <a:endParaRPr b="0" lang="en-US" sz="2800" spc="-1" strike="noStrike">
              <a:solidFill>
                <a:srgbClr val="000000"/>
              </a:solidFill>
              <a:latin typeface="Arial"/>
            </a:endParaRPr>
          </a:p>
          <a:p>
            <a:pPr marL="29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8440" indent="-29844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MPs information concerning the Dispute and Data Extract Variance Processes</a:t>
            </a:r>
            <a:endParaRPr b="0" lang="en-US" sz="2800" spc="-1" strike="noStrike">
              <a:solidFill>
                <a:srgbClr val="000000"/>
              </a:solidFill>
              <a:latin typeface="Arial"/>
            </a:endParaRPr>
          </a:p>
          <a:p>
            <a:pPr marL="298440" indent="-29844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ute portion of Section 11 will be gray boxed until implementation of Texas Nodal</a:t>
            </a:r>
            <a:endParaRPr b="0" lang="en-US" sz="2800" spc="-1" strike="noStrike">
              <a:solidFill>
                <a:srgbClr val="000000"/>
              </a:solidFill>
              <a:latin typeface="Arial"/>
            </a:endParaRPr>
          </a:p>
          <a:p>
            <a:pPr marL="2984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te to approve the Impact Analysis, Recommendation Report, and CEO Revision Request Review</a:t>
            </a:r>
            <a:endParaRPr b="0" lang="en-US" sz="28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CD32-3EBC-4103-8F94-A20395BAF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8" name="PlaceHolder 2"/>
          <p:cNvSpPr>
            <a:spLocks noGrp="1"/>
          </p:cNvSpPr>
          <p:nvPr>
            <p:ph/>
          </p:nvPr>
        </p:nvSpPr>
        <p:spPr>
          <a:xfrm>
            <a:off x="304920" y="1371240"/>
            <a:ext cx="8229600" cy="48769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Voting Item</a:t>
            </a:r>
            <a:endParaRPr b="0" lang="en-US" sz="3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PMGRR 013, Update to Section 3, Organizational Structure</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Section 3 to reflect COPS decision to create the Settlements and Extracts Working Group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Data Extracts Working Group and Settlements and Data Extracts Working Group</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Settlements and Extracts Working Group (SEWG)</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Vote to approve the Impact Analysis and Recommendation Report</a:t>
            </a:r>
            <a:endParaRPr b="0" lang="en-US" sz="23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9919-F5E6-4166-A13C-D3F8A8793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1" name="PlaceHolder 2"/>
          <p:cNvSpPr>
            <a:spLocks noGrp="1"/>
          </p:cNvSpPr>
          <p:nvPr>
            <p:ph/>
          </p:nvPr>
        </p:nvSpPr>
        <p:spPr>
          <a:xfrm>
            <a:off x="609480" y="1523880"/>
            <a:ext cx="7925040" cy="46483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Communications and ERCOT Website Focus Surveys</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WG reviewed questions and provided feedbac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is available to MPs from June 1 to June 30</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is available from the ERCOT website, ERCOT.co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s are encouraged to particip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B3A9-3E55-4448-823B-E528E8448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4" name="PlaceHolder 2"/>
          <p:cNvSpPr>
            <a:spLocks noGrp="1"/>
          </p:cNvSpPr>
          <p:nvPr>
            <p:ph/>
          </p:nvPr>
        </p:nvSpPr>
        <p:spPr>
          <a:xfrm>
            <a:off x="609480" y="1447920"/>
            <a:ext cx="79250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MGRRs</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MGRR 014, Synchronization of COPMG with PRR804, Revisions to Section 21, Appeal Proces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MGRR now in 21 Day Comment Period</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s Section 4, Process for COPMG Revision, to clarify that if a motion to approve a revision request fails, the revision request shall be deemed rejected and subject to appeal, unless at the same meeting that body later votes to recommend approval, remand or refer the revision request </a:t>
            </a:r>
            <a:endParaRPr b="0" lang="en-US" sz="26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F98C-4037-492E-8023-4CAAC04A3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7" name="PlaceHolder 2"/>
          <p:cNvSpPr>
            <a:spLocks noGrp="1"/>
          </p:cNvSpPr>
          <p:nvPr>
            <p:ph/>
          </p:nvPr>
        </p:nvSpPr>
        <p:spPr>
          <a:xfrm>
            <a:off x="609480" y="1447920"/>
            <a:ext cx="79250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MGRRs</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4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 COPMGRR, Update to Section 12, Renewable Energy Credits, for PRR808</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55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808, Clean-up and Alignment of RECs Trading Program Language with PUCT Rules,  considered by TAC June 4</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808 defines REC Account, REC Account Holder, and Renewable Portfolio Standard (RP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808 replaces REC Requirement with RPS Requiremen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MGRR will include more information for microgenerator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235B-3010-4D3F-9626-04229F671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20" name="PlaceHolder 2"/>
          <p:cNvSpPr>
            <a:spLocks noGrp="1"/>
          </p:cNvSpPr>
          <p:nvPr>
            <p:ph/>
          </p:nvPr>
        </p:nvSpPr>
        <p:spPr>
          <a:xfrm>
            <a:off x="456840" y="1371240"/>
            <a:ext cx="8077320" cy="4876920"/>
          </a:xfrm>
          <a:prstGeom prst="rect">
            <a:avLst/>
          </a:prstGeom>
          <a:noFill/>
          <a:ln w="0">
            <a:noFill/>
          </a:ln>
        </p:spPr>
        <p:txBody>
          <a:bodyPr anchor="t">
            <a:normAutofit/>
          </a:bodyPr>
          <a:p>
            <a:pPr marL="343080" indent="-343080">
              <a:lnSpc>
                <a:spcPct val="90000"/>
              </a:lnSpc>
              <a:spcBef>
                <a:spcPts val="7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mmercial Operations Market Guide</a:t>
            </a:r>
            <a:endParaRPr b="0" lang="en-US" sz="3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7, Inputs to Settlement Process and Data Aggregation</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viewing Load Aggregation section</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8, ERCOT Invoice Process (Zonal)</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eing worked on</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8, Settlement Statement and Detail (Nodal)</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eing worked on</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9, Short Pay and Market Participant Default Proces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 the planning stage</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9AA7-398E-4E62-A517-1F13ABBF2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May 26</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meeting i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30</a:t>
            </a:r>
            <a:r>
              <a:rPr b="0" lang="en-US" sz="2800" spc="-1" strike="noStrike" baseline="30000">
                <a:solidFill>
                  <a:srgbClr val="000000"/>
                </a:solidFill>
                <a:latin typeface="Arial"/>
              </a:rPr>
              <a:t>th</a:t>
            </a:r>
            <a:r>
              <a:rPr b="0" lang="en-US" sz="2800" spc="-1" strike="noStrike">
                <a:solidFill>
                  <a:srgbClr val="000000"/>
                </a:solidFill>
                <a:latin typeface="Arial"/>
              </a:rPr>
              <a:t>; 9:30am – 12:30pm</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of COPMGRR 14</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COPMG Development</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a:t>
            </a:r>
            <a:r>
              <a:rPr b="0" lang="en-US" sz="2400" spc="-1" strike="noStrike" u="sng">
                <a:solidFill>
                  <a:srgbClr val="000000"/>
                </a:solidFill>
                <a:uFillTx/>
                <a:latin typeface="Arial"/>
              </a:rPr>
              <a:t>Market Notices</a:t>
            </a:r>
            <a:r>
              <a:rPr b="0" lang="en-US" sz="2400" spc="-1" strike="noStrike">
                <a:solidFill>
                  <a:srgbClr val="000000"/>
                </a:solidFill>
                <a:latin typeface="Arial"/>
              </a:rPr>
              <a:t> for Client Relations</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Questions?</a:t>
            </a:r>
            <a:endParaRPr b="0" lang="en-US" sz="3200" spc="-1" strike="noStrike">
              <a:solidFill>
                <a:srgbClr val="000000"/>
              </a:solidFill>
              <a:latin typeface="Arial"/>
            </a:endParaRPr>
          </a:p>
        </p:txBody>
      </p:sp>
      <p:sp>
        <p:nvSpPr>
          <p:cNvPr id="1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EAF4-E9E0-4F6D-B1F6-2E8333429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5:58:45Z</dcterms:created>
  <dc:creator>BP - Judy Briscoe</dc:creator>
  <dc:description/>
  <dc:language>en-US</dc:language>
  <cp:lastModifiedBy>trenarym</cp:lastModifiedBy>
  <dcterms:modified xsi:type="dcterms:W3CDTF">2009-05-29T20:54:45Z</dcterms:modified>
  <cp:revision>152</cp:revision>
  <dc:subject/>
  <dc:title>CCWG 2006 Accomplishments</dc:title>
</cp:coreProperties>
</file>