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4313-F48E-49E5-B73A-3BA62474C9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8174-9447-46B1-BDB4-DA7C3C1682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8AE0-5953-4129-B6BF-DF0AC6DD86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F2F1-2928-4760-9D56-0C1D03D1E3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FF8C-53C0-4012-805E-AF1B6FA6EF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533E-5177-4438-80F1-1745C531F4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354B-AA81-4455-89CC-530B0922DA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3BDC-CC43-4AA4-8473-56D5DFE6C0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75483-6F84-43C1-9506-0FE621AED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AD53-4E2F-4091-B9C6-56D48E8A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F4A56-EBD8-49C0-ACC7-8CAAC487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E36F0-C961-43CF-BE3C-BDF59B21D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3237A-F531-4CAB-B21C-FADBAAFE3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F33F3-5870-4160-A246-86FE92BF8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B7A6C-349A-4E43-9BB7-B1E882DAA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210E5-4536-4495-8B55-33816A55D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28CC6-E54A-48F8-BAC0-0FE4A12C5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1B755-829D-4220-91C3-72576899C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E8F00-FD2C-46C2-B596-BAA454B7D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E50A-1878-4C5F-92DD-6D4F5DD8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BF73-43F7-4A92-842F-158A786D2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03BB3-A71D-4BD5-A243-C0D0C2932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1E83D-A02C-4286-9FC6-9399A16E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10BCA-1517-4E24-9074-8F9790118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78239-EB5F-4AA5-9D13-D00A7117C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DA28D-247E-4CAE-A4E2-B1C2D485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A7D3-0529-44C6-B6CE-1DF17960B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9BD3-67BF-47BD-9BB7-E0E433A3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123AB-DC65-4C09-ADCE-973F2115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C4C77-8ED1-4D13-8E71-DB3ECBB0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B266-DBD5-437C-9F19-877B0814E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FD94-2200-422D-8D4D-1A11975F4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D478-B021-4610-89C2-AF1DC8D02010}"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615A-465D-456D-8409-C2F1296905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E61B-12ED-4A39-83BD-659DD45DC877}" type="datetime">
              <a:rPr b="0" lang="en-US" sz="1400" spc="-1" strike="noStrike">
                <a:solidFill>
                  <a:srgbClr val="ffffff"/>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6F80-DDEA-42A0-9E19-56E3CA6EB1E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June 9,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92" name="TextBox 5"/>
          <p:cNvSpPr/>
          <p:nvPr/>
        </p:nvSpPr>
        <p:spPr>
          <a:xfrm>
            <a:off x="609480" y="167652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Comments on May 12, 2009 </a:t>
            </a:r>
            <a:endParaRPr b="0" lang="en-US" sz="3200" spc="-1" strike="noStrike">
              <a:solidFill>
                <a:srgbClr val="ffffff"/>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7F75-ABA9-4884-BC92-4C07A754C943}"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4" name=""/>
          <p:cNvSpPr txBox="1"/>
          <p:nvPr/>
        </p:nvSpPr>
        <p:spPr>
          <a:xfrm>
            <a:off x="762120" y="2361960"/>
            <a:ext cx="7696080" cy="3552840"/>
          </a:xfrm>
          <a:prstGeom prst="rect">
            <a:avLst/>
          </a:prstGeom>
          <a:noFill/>
          <a:ln w="0">
            <a:noFill/>
          </a:ln>
          <a:effectLst>
            <a:outerShdw dist="17819" dir="2700000" blurRad="0" rotWithShape="0">
              <a:srgbClr val="000000"/>
            </a:outerShdw>
          </a:effectLst>
        </p:spPr>
        <p:txBody>
          <a:bodyPr anchor="t">
            <a:normAutofit fontScale="87000"/>
          </a:bodyPr>
          <a:p>
            <a:pPr marL="298440" indent="-2984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ercial Operations Subcommittee (COPS) endorsed RMGRR075 with ERCOT comments. COPS also proposes grammatical changes and supports Transmission and/or Distribution Service Providers (TDSPs) on discontinuing posting interval data to their File Transfer Protocol (FTP) sites after functionality is available on the Common Web Portal for Competitive Retailers (CRs) to retrieve. COPS discussed the current 12pm requirement for TDSPs having their settlement quality interval data posted to the FTP site, the TDSP proposed 11pm requirement and Reliant’s 70% proposed requirement.  COPS discussed changing the timeline from 12pm to 5pm, but did not make a motion for that change.  COPS defers to the expertise at Retail Market Subcommittee (RMS) regarding this timeli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96" name="TextBox 5"/>
          <p:cNvSpPr/>
          <p:nvPr/>
        </p:nvSpPr>
        <p:spPr>
          <a:xfrm>
            <a:off x="609480" y="167652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MS Recommendation on May 13, 2009 </a:t>
            </a:r>
            <a:endParaRPr b="0" lang="en-US" sz="3200" spc="-1" strike="noStrike">
              <a:solidFill>
                <a:srgbClr val="ffffff"/>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E786-42BD-4793-8A54-AF7EEC656EA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8" name=""/>
          <p:cNvSpPr txBox="1"/>
          <p:nvPr/>
        </p:nvSpPr>
        <p:spPr>
          <a:xfrm>
            <a:off x="762120" y="2362320"/>
            <a:ext cx="7696080" cy="4038480"/>
          </a:xfrm>
          <a:prstGeom prst="rect">
            <a:avLst/>
          </a:prstGeom>
          <a:noFill/>
          <a:ln w="0">
            <a:noFill/>
          </a:ln>
          <a:effectLst>
            <a:outerShdw dist="17819" dir="2700000" blurRad="0" rotWithShape="0">
              <a:srgbClr val="000000"/>
            </a:outerShdw>
          </a:effectLst>
        </p:spPr>
        <p:txBody>
          <a:bodyPr anchor="t">
            <a:normAutofit fontScale="95000"/>
          </a:bodyPr>
          <a:p>
            <a:pPr marL="325800" indent="-32580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as discussion regarding the proposed timelines in the comments submitted by AEP, CNP, Oncor and TNMP for posting data to the Transmission and/or Distribution Service Providers (TDSPs) File Transfer Protocol (FTP) site.  It was decided that further discussion is needed regarding the posting timeline.  The language addressing the posting timeline was removed from RMGRR075 and RMS directed the Market Advanced Readings and Settlements Task Force (MARS TF) to conduct a meeting to determine the posting deadline and then file a separate RMGRR with that language to be presented at the June RMS meeting. </a:t>
            </a:r>
            <a:endParaRPr b="0" lang="en-US" sz="2000" spc="-1" strike="noStrike">
              <a:solidFill>
                <a:srgbClr val="ffffff"/>
              </a:solidFill>
              <a:latin typeface="Tahoma"/>
            </a:endParaRPr>
          </a:p>
          <a:p>
            <a:pPr marL="325800" indent="-32580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unanimously voted to recommend approval of RMGRR075 as amended by COPS comments and as revised by RM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100" name="TextBox 5"/>
          <p:cNvSpPr/>
          <p:nvPr/>
        </p:nvSpPr>
        <p:spPr>
          <a:xfrm>
            <a:off x="457200" y="1523880"/>
            <a:ext cx="82296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s requested by the Retail Market Subcommittee (RMS) during the May 13</a:t>
            </a:r>
            <a:r>
              <a:rPr b="0" lang="en-US" sz="3200" spc="-1" strike="noStrike" baseline="30000">
                <a:solidFill>
                  <a:srgbClr val="ffffff"/>
                </a:solidFill>
                <a:latin typeface="Arial"/>
                <a:ea typeface="Times New Roman"/>
              </a:rPr>
              <a:t>th</a:t>
            </a:r>
            <a:r>
              <a:rPr b="0" lang="en-US" sz="3200" spc="-1" strike="noStrike">
                <a:solidFill>
                  <a:srgbClr val="ffffff"/>
                </a:solidFill>
                <a:latin typeface="Arial"/>
                <a:ea typeface="Times New Roman"/>
              </a:rPr>
              <a:t> meeting,  the MARS Task Force met via WebEx conference call on May 20, 2009 to determine a timeline that was agreeable with CRs and TDSPs for posting AMS 15-minute interval data to the TDSP’s  FTP si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0941-E3A5-4408-9C5C-CB9BDA07CC8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103" name="TextBox 5"/>
          <p:cNvSpPr/>
          <p:nvPr/>
        </p:nvSpPr>
        <p:spPr>
          <a:xfrm>
            <a:off x="609480" y="167652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S Taskforce Recommendation</a:t>
            </a:r>
            <a:endParaRPr b="0" lang="en-US" sz="3200" spc="-1" strike="noStrike">
              <a:solidFill>
                <a:srgbClr val="ffffff"/>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451E-7BC5-4F1E-BA54-2E23A0C899D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05" name=""/>
          <p:cNvSpPr txBox="1"/>
          <p:nvPr/>
        </p:nvSpPr>
        <p:spPr>
          <a:xfrm>
            <a:off x="762120" y="2362320"/>
            <a:ext cx="7696080" cy="4038480"/>
          </a:xfrm>
          <a:prstGeom prst="rect">
            <a:avLst/>
          </a:prstGeom>
          <a:noFill/>
          <a:ln w="0">
            <a:noFill/>
          </a:ln>
          <a:effectLst>
            <a:outerShdw dist="17819" dir="2700000" blurRad="0" rotWithShape="0">
              <a:srgbClr val="000000"/>
            </a:outerShdw>
          </a:effectLst>
        </p:spPr>
        <p:txBody>
          <a:bodyPr anchor="t">
            <a:normAutofit fontScale="96000"/>
          </a:bodyPr>
          <a:p>
            <a:pPr marL="329040" indent="-3290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7.15.3  </a:t>
            </a:r>
            <a:r>
              <a:rPr b="1" i="1" lang="en-US" sz="2000" spc="-1" strike="noStrike">
                <a:solidFill>
                  <a:srgbClr val="ffffff"/>
                </a:solidFill>
                <a:latin typeface="Tahoma"/>
              </a:rPr>
              <a:t>	</a:t>
            </a:r>
            <a:r>
              <a:rPr b="1" i="1" lang="en-US" sz="2000" spc="-1" strike="noStrike">
                <a:solidFill>
                  <a:srgbClr val="ffffff"/>
                </a:solidFill>
                <a:latin typeface="Tahoma"/>
              </a:rPr>
              <a:t>Posting Data to TDSP FTP Site </a:t>
            </a:r>
            <a:endParaRPr b="0" lang="en-US" sz="2000" spc="-1" strike="noStrike">
              <a:solidFill>
                <a:srgbClr val="ffffff"/>
              </a:solidFill>
              <a:latin typeface="Tahoma"/>
            </a:endParaRPr>
          </a:p>
          <a:p>
            <a:pPr marL="329040" indent="-3290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DSPs will provide on their FTP site, settlement quality interval data </a:t>
            </a:r>
            <a:r>
              <a:rPr b="1" lang="en-US" sz="2000" spc="-1" strike="noStrike" u="sng">
                <a:solidFill>
                  <a:srgbClr val="ffff00"/>
                </a:solidFill>
                <a:uFillTx/>
                <a:latin typeface="Tahoma"/>
              </a:rPr>
              <a:t>no later than 11:00 PM CPT </a:t>
            </a:r>
            <a:r>
              <a:rPr b="0" lang="en-US" sz="2000" spc="-1" strike="noStrike">
                <a:solidFill>
                  <a:srgbClr val="ffffff"/>
                </a:solidFill>
                <a:latin typeface="Tahoma"/>
              </a:rPr>
              <a:t>of the next calendar day using the ERCOT specified file format (Section 9, Appendix F7, - File Layout for ERCOT Specified File Format) for each Electric Service Identifier (ESI ID) with a provisioned AMS meter.  </a:t>
            </a:r>
            <a:r>
              <a:rPr b="1" lang="en-US" sz="2000" spc="-1" strike="noStrike" u="sng">
                <a:solidFill>
                  <a:srgbClr val="ffff00"/>
                </a:solidFill>
                <a:uFillTx/>
                <a:latin typeface="Tahoma"/>
              </a:rPr>
              <a:t>The TDSPs will attempt to provide the data earlier than 11:00 PM CPT and, in all cases, will provide the data as soon as it is available. </a:t>
            </a:r>
            <a:r>
              <a:rPr b="0" lang="en-US" sz="2000" spc="-1" strike="noStrike">
                <a:solidFill>
                  <a:srgbClr val="ffffff"/>
                </a:solidFill>
                <a:latin typeface="Tahoma"/>
              </a:rPr>
              <a:t> Competitive Retailers (CRs) will access the TDSP's FTP site to retrieve the daily fifteen (15) minute interval data associated with a provisioned AMS meter for their ESI IDs.  </a:t>
            </a:r>
            <a:endParaRPr b="0" lang="en-US" sz="2000" spc="-1" strike="noStrike">
              <a:solidFill>
                <a:srgbClr val="ffffff"/>
              </a:solidFill>
              <a:latin typeface="Tahoma"/>
            </a:endParaRPr>
          </a:p>
          <a:p>
            <a:pPr marL="329040" indent="-3290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07" name=""/>
          <p:cNvSpPr txBox="1"/>
          <p:nvPr/>
        </p:nvSpPr>
        <p:spPr>
          <a:xfrm>
            <a:off x="762120" y="1773000"/>
            <a:ext cx="7696080" cy="4856040"/>
          </a:xfrm>
          <a:prstGeom prst="rect">
            <a:avLst/>
          </a:prstGeom>
          <a:noFill/>
          <a:ln w="0">
            <a:noFill/>
          </a:ln>
          <a:effectLst>
            <a:outerShdw dist="17819" dir="2700000" blurRad="0" rotWithShape="0">
              <a:srgbClr val="000000"/>
            </a:outerShdw>
          </a:effectLst>
        </p:spPr>
        <p:txBody>
          <a:bodyPr anchor="t">
            <a:normAutofit fontScale="95000"/>
          </a:bodyPr>
          <a:p>
            <a:pPr marL="325800" indent="-325800">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ext meeting on Tuesday, June 9, 2009 -- Agenda: </a:t>
            </a:r>
            <a:endParaRPr b="0" lang="en-US" sz="30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ceive updated Project Status Reports</a:t>
            </a: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view Finalized File Error Codes document </a:t>
            </a: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uss and develop transition plan for large volumes of 814_20 transactions to change profile assignment for AMS meters.     </a:t>
            </a:r>
            <a:endParaRPr b="0" lang="en-US" sz="2600" spc="-1" strike="noStrike">
              <a:solidFill>
                <a:srgbClr val="ffffff"/>
              </a:solidFill>
              <a:latin typeface="Tahoma"/>
            </a:endParaRPr>
          </a:p>
          <a:p>
            <a:pPr marL="325800" indent="-325800">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ntinue to update RMS and COPS on the progress of Project 80027 Market Interim Settlement Solution for AMS meters. </a:t>
            </a:r>
            <a:endParaRPr b="0" lang="en-US" sz="3000" spc="-1" strike="noStrike">
              <a:solidFill>
                <a:srgbClr val="ffffff"/>
              </a:solidFill>
              <a:latin typeface="Tahom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05600" indent="-2714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5C1B-268E-41EC-AA8E-15440917052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10"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11" name="Picture 4" descr="j0385990.jpg"/>
          <p:cNvPicPr/>
          <p:nvPr/>
        </p:nvPicPr>
        <p:blipFill>
          <a:blip r:embed="rId2"/>
          <a:stretch/>
        </p:blipFill>
        <p:spPr>
          <a:xfrm>
            <a:off x="-6480" y="1670040"/>
            <a:ext cx="3292560" cy="3444840"/>
          </a:xfrm>
          <a:prstGeom prst="rect">
            <a:avLst/>
          </a:prstGeom>
          <a:ln w="0">
            <a:noFill/>
          </a:ln>
        </p:spPr>
      </p:pic>
      <p:pic>
        <p:nvPicPr>
          <p:cNvPr id="112" name="Picture 5" descr="j0320142.wmf"/>
          <p:cNvPicPr/>
          <p:nvPr/>
        </p:nvPicPr>
        <p:blipFill>
          <a:blip r:embed="rId3"/>
          <a:stretch/>
        </p:blipFill>
        <p:spPr>
          <a:xfrm>
            <a:off x="5877000" y="1695600"/>
            <a:ext cx="3029040" cy="6912000"/>
          </a:xfrm>
          <a:prstGeom prst="rect">
            <a:avLst/>
          </a:prstGeom>
          <a:ln w="0">
            <a:noFill/>
          </a:ln>
        </p:spPr>
      </p:pic>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47C2-A450-4A0F-9375-9D13B83D661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06-03T03:31:50Z</dcterms:modified>
  <cp:revision>106</cp:revision>
  <dc:subject/>
  <dc:title>MARS Taskforce </dc:title>
</cp:coreProperties>
</file>