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.wmf" ContentType="image/x-wmf"/>
  <Override PartName="/ppt/media/image10.wmf" ContentType="image/x-wmf"/>
  <Override PartName="/ppt/media/image13.wmf" ContentType="image/x-wmf"/>
  <Override PartName="/ppt/media/image2.gif" ContentType="image/gi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D21FB-CF42-4A3C-988A-ECD48D9B63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137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5DCB8-038E-4B9F-A284-B00B8D67D2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137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CD4BF-57FA-4D3A-9BEC-7AC3C370B8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137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777E1-F1BC-48E1-A72C-4734B58613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137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8AC06-6B77-4947-BD78-E8035C5BBA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137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4FDB6-55FB-43AC-BFAA-48C881DFC1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137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FA21B-59BD-4919-A28C-F410DA152B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137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71E8A-E4C9-43DE-B0C5-26775EBD16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71600" y="304920"/>
            <a:ext cx="7313760" cy="42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51629-F786-48F2-8C5A-A4B2B378EC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137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0ABC4-DD16-4B47-AA44-D0FF3EE8B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137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6E713-D748-484F-86D1-D4465AFA87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137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C9280-723A-4878-97F6-E974E9F329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76720" y="-152280"/>
            <a:ext cx="11925360" cy="3809880"/>
            <a:chOff x="-3276720" y="-15228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76720" y="53352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63840" y="-15228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33440" y="137160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137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4038480" y="6171840"/>
            <a:ext cx="990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8327-2C2F-413E-B2E1-9522F3BBA3F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305480" y="6232680"/>
            <a:ext cx="1243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UFE 2008 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pril 30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79440" y="879480"/>
            <a:ext cx="62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858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UFE 2008 ANALYSIS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00200" y="33526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335268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14400" y="1371600"/>
            <a:ext cx="73612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PROTOCOL REQUIRE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11.6.2 Annual UFE Analysis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Compiled by the Load Profiling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ERCOT Energy Analysis &amp; Aggre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April 30, 2009</a:t>
            </a: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BAB59-1EB0-49F8-AF06-6E9A956443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7400" y="456840"/>
            <a:ext cx="5105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UFE Cost by Month 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Final Settlement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611028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FE Cost = ∑(MCPE × UFE_MW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989A9-CD7C-4AD3-AB42-9576BF23C1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396396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STATISTICAL RESULTS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05040" y="1600200"/>
            <a:ext cx="7705440" cy="1290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14400" y="2971800"/>
            <a:ext cx="7696080" cy="12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A0D9C-42AB-45E3-87D1-759F26E25C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396396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STATISTICAL RESULTS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52480" y="1563840"/>
            <a:ext cx="594360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9F98E-A8AC-4201-A9CC-67BD8EEEB8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396396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STATISTICAL RESULTS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410440" cy="46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AD08E-3162-4656-949C-41880EF67A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008 - 10 Worst UFE Days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inal Settlement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62000" y="2273400"/>
            <a:ext cx="5220000" cy="231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F0242-8B81-49E1-B675-B445BF12C1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2819520"/>
            <a:ext cx="62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28191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Questions?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84BC5-B8F7-4AA6-BB73-C3AD893486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403848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UFE Basics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2742840"/>
            <a:ext cx="6019560" cy="2514600"/>
          </a:xfrm>
          <a:prstGeom prst="rect">
            <a:avLst/>
          </a:prstGeom>
          <a:solidFill>
            <a:srgbClr val="ccccff"/>
          </a:solidFill>
          <a:ln w="50760">
            <a:solidFill>
              <a:srgbClr val="00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335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ources of UFE includ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335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ration Measurement Err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335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- Missing/Erroneous Usage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335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Model Err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335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Load Profile ID Assignment Err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335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ses 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 Err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335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Loss Code Assignment Err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57150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gative UFE indicates load/losses are overestim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1676520"/>
            <a:ext cx="7620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FE (unaccounted for energy) is computed as follow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FE = Generation – (Load + Los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0B75A-476F-436B-9A1B-AA60AF4924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762120"/>
            <a:ext cx="594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UFE Basics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1828800"/>
            <a:ext cx="2490840" cy="43275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et Generation for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ttlement Int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560920" y="1677960"/>
            <a:ext cx="2516400" cy="4494240"/>
            <a:chOff x="5560920" y="1677960"/>
            <a:chExt cx="2516400" cy="4494240"/>
          </a:xfrm>
        </p:grpSpPr>
        <p:sp>
          <p:nvSpPr>
            <p:cNvPr id="57" name=""/>
            <p:cNvSpPr/>
            <p:nvPr/>
          </p:nvSpPr>
          <p:spPr>
            <a:xfrm>
              <a:off x="5564160" y="5225760"/>
              <a:ext cx="2513160" cy="946440"/>
            </a:xfrm>
            <a:prstGeom prst="cube">
              <a:avLst>
                <a:gd name="adj" fmla="val 18236"/>
              </a:avLst>
            </a:prstGeom>
            <a:gradFill rotWithShape="0">
              <a:gsLst>
                <a:gs pos="0">
                  <a:srgbClr val="ffcc99"/>
                </a:gs>
                <a:gs pos="50000">
                  <a:srgbClr val="ffffff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terval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nergy U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60920" y="2577960"/>
              <a:ext cx="2500560" cy="2751120"/>
            </a:xfrm>
            <a:prstGeom prst="cube">
              <a:avLst>
                <a:gd name="adj" fmla="val 6152"/>
              </a:avLst>
            </a:prstGeom>
            <a:gradFill rotWithShape="0">
              <a:gsLst>
                <a:gs pos="0">
                  <a:srgbClr val="ffcc99"/>
                </a:gs>
                <a:gs pos="50000">
                  <a:srgbClr val="ffffff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ofiled Energy U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on-Interval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on-Metered Accou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567400" y="2097000"/>
              <a:ext cx="2489040" cy="609480"/>
            </a:xfrm>
            <a:prstGeom prst="cube">
              <a:avLst>
                <a:gd name="adj" fmla="val 33111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osses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ransmission &amp; Distrib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580000" y="1677960"/>
              <a:ext cx="2489400" cy="587160"/>
            </a:xfrm>
            <a:prstGeom prst="cube">
              <a:avLst>
                <a:gd name="adj" fmla="val 33111"/>
              </a:avLst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UF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611520" y="1842840"/>
            <a:ext cx="2114280" cy="432000"/>
            <a:chOff x="3611520" y="1842840"/>
            <a:chExt cx="2114280" cy="432000"/>
          </a:xfrm>
        </p:grpSpPr>
        <p:sp>
          <p:nvSpPr>
            <p:cNvPr id="62" name=""/>
            <p:cNvSpPr/>
            <p:nvPr/>
          </p:nvSpPr>
          <p:spPr>
            <a:xfrm>
              <a:off x="3611520" y="2274840"/>
              <a:ext cx="1967040" cy="0"/>
            </a:xfrm>
            <a:prstGeom prst="line">
              <a:avLst/>
            </a:prstGeom>
            <a:ln w="12600">
              <a:solidFill>
                <a:srgbClr val="f8f8f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3624120" y="1842840"/>
              <a:ext cx="2101680" cy="364320"/>
              <a:chOff x="3624120" y="1842840"/>
              <a:chExt cx="2101680" cy="364320"/>
            </a:xfrm>
          </p:grpSpPr>
          <p:sp>
            <p:nvSpPr>
              <p:cNvPr id="64" name=""/>
              <p:cNvSpPr/>
              <p:nvPr/>
            </p:nvSpPr>
            <p:spPr>
              <a:xfrm flipV="1">
                <a:off x="3624120" y="1842840"/>
                <a:ext cx="1979640" cy="11160"/>
              </a:xfrm>
              <a:prstGeom prst="line">
                <a:avLst/>
              </a:prstGeom>
              <a:ln w="12600">
                <a:solidFill>
                  <a:srgbClr val="f8f8f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271040" y="1869840"/>
                <a:ext cx="145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GAP - - - - - - &gt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" name=""/>
          <p:cNvSpPr/>
          <p:nvPr/>
        </p:nvSpPr>
        <p:spPr>
          <a:xfrm>
            <a:off x="4036680" y="3657600"/>
            <a:ext cx="145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 Gen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ared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ad Build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6D233-7698-4620-A83C-6F8ACD5380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SETTLEMENT PROCESS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16002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FE is computed for each 15-minute interval of a settlement ru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419720" y="2438280"/>
            <a:ext cx="4381560" cy="3543120"/>
            <a:chOff x="4419720" y="2438280"/>
            <a:chExt cx="4381560" cy="3543120"/>
          </a:xfrm>
        </p:grpSpPr>
        <p:sp>
          <p:nvSpPr>
            <p:cNvPr id="70" name=""/>
            <p:cNvSpPr/>
            <p:nvPr/>
          </p:nvSpPr>
          <p:spPr>
            <a:xfrm>
              <a:off x="5524560" y="3124080"/>
              <a:ext cx="2238480" cy="217152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19720" y="5181480"/>
              <a:ext cx="1285920" cy="7239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467840" y="5257440"/>
              <a:ext cx="1285920" cy="723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19920" y="2438280"/>
              <a:ext cx="1285920" cy="7239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34200" y="5452920"/>
              <a:ext cx="1257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Init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24680" y="2666880"/>
              <a:ext cx="1257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i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134400" y="4267080"/>
              <a:ext cx="1180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ettl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43800" y="5486040"/>
              <a:ext cx="1257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      </a:t>
              </a: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True-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990720" y="2057400"/>
            <a:ext cx="3504960" cy="37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8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Settlem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0 days after the trade day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Settl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9 days after the trade day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-up and Resettlement (6 months to up to several years after the trade day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test resettlement in each interval is used in the analysis for Initial, Final and True-U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26DB0-FE8D-40CF-AE7F-BEEB90CD98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533520"/>
            <a:ext cx="5790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LOAD AND UFE – ERCOT PEAK 2008</a:t>
            </a:r>
            <a:br>
              <a:rPr sz="2000"/>
            </a:b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Based on Initial Sett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95480" y="1447920"/>
            <a:ext cx="6829200" cy="472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D52C0-1F8A-4C87-8B9E-54BB0E6E09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7920" y="533520"/>
            <a:ext cx="5790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LOAD AND UFE – ERCOT PEAK 2008</a:t>
            </a:r>
            <a:br>
              <a:rPr sz="2000"/>
            </a:b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Based on Final Sett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086600" cy="487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01139-02C2-4039-A36E-AA3D4AF629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7400" y="456840"/>
            <a:ext cx="5105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UFE MWh by Month 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Initial Settlement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380960" y="1371600"/>
            <a:ext cx="6924960" cy="49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09F23-3E66-460B-AE22-099E1F4191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400" y="456840"/>
            <a:ext cx="5105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UFE Cost by Month 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Initial Settlement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611028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FE Cost = ∑(MCPE × UFE_MW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366920" y="1380960"/>
            <a:ext cx="6786360" cy="483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EF284-3E93-4C07-ACA9-A82CAF10A8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7400" y="456840"/>
            <a:ext cx="5105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UFE MWh by Month 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Final Settlement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57080" y="1343160"/>
            <a:ext cx="7777440" cy="489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9325A-C968-4850-AF58-AE0BD611EA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1T18:01:21Z</dcterms:created>
  <dc:creator>jpantovic</dc:creator>
  <dc:description/>
  <dc:language>en-US</dc:language>
  <cp:lastModifiedBy>rhernandez</cp:lastModifiedBy>
  <dcterms:modified xsi:type="dcterms:W3CDTF">2009-04-21T22:17:49Z</dcterms:modified>
  <cp:revision>466</cp:revision>
  <dc:subject/>
  <dc:title>PowerPoint Presentation</dc:title>
</cp:coreProperties>
</file>