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D34-B1D2-4E82-8E34-28D382FBF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D15-C1A7-4778-9302-00CDA30F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AE7C-CC38-4C6A-9EC4-6E87CB53F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4E66-B513-4519-BDEF-D21406733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E78A-7824-4F10-878D-085D54E21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DF26-78FE-445F-922C-8922BFC77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8494-0029-4E86-A68B-D17DC8E3B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CC87-8C5D-43B4-A8F8-253DEC6C0D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C45C-31B6-48EF-8B46-F3CCBBF7B3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2B2D-4549-450B-8D2A-516BE341D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AB87-3629-4FE9-93DC-C5E3C3FD95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6C97-3939-4D88-892F-3826689473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900A-7F9C-4C90-9D1D-81C636B8EA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F618-A2B6-41BE-B7CA-33B0C0BA0E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735F-4FF0-4266-8EA9-2F3553846A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9C72-9B59-448C-913B-B0728F75FE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20A0-90D6-4F47-AE9D-DA3D7E7339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6196-531A-4194-8402-065B611D55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36F6-7D77-4606-861F-0AB6526C0A8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2955-04EB-42D7-B75A-15BF62AC93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D9B2-B111-4C66-A289-2BED78101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ADFF-087A-44BD-82DF-D798989C68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0671-48A4-4CFE-8196-6727470EF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BB2D-8747-465B-B630-7AA9DBB6E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176B-8627-4FEF-9107-779BDC8E9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1514-9228-44D9-8B17-6E9896199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A333-F5A6-47CB-8928-89150E63B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32AEA1-1B9B-4B19-8FCF-B00E065D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74EE6F-D9CF-4F4A-9ADE-244F9179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3D2880-B62C-4F32-B2E5-EE2A7DA1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2A73AD-43BE-4A0C-A304-E39D2D3DD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May 2009 MO Projects Financial 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une 9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project status on MO 2009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 2009 Financ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 2010 MO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5" name="Object 4328"/>
          <p:cNvGraphicFramePr/>
          <p:nvPr/>
        </p:nvGraphicFramePr>
        <p:xfrm>
          <a:off x="488880" y="762120"/>
          <a:ext cx="85028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4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762120"/>
                    <a:ext cx="85028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6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762120"/>
          <a:ext cx="8763120" cy="476568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08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for 2009 on ILM is expected to be $1.079M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($560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obtain funding from other CARTs to support ILM efforts (IO CART, etc.) as this is a critical need project.  This request will come at the Planning end dat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PL Priorit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– COPS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Ex with COPS – Apr 30 10-11a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Kick off at COPS – May 1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Draft Project Charters, CBA and submit 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Draft TCE for projects – May 1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d finalize Draft Charter, CBA, and TCE week of May 29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 2010 MO PPL  – June 9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arrish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06-03T15:21:10Z</dcterms:modified>
  <cp:revision>454</cp:revision>
  <dc:subject/>
  <dc:title>Role of Account Management at ERCOT</dc:title>
</cp:coreProperties>
</file>