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833B-A961-43E7-8A92-987665F35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breaker to supply SAPS-Menard line from SAPS 4A(South Bus) and  add new tap at SHREW which connects Yellow Jacket and Eden. Note Phase shifter is not in serv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line from BENF is not new but since the line now goes to the new SARC 4B buss it appears to be new in this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2C49-3BB9-4871-8A91-0DB82525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buss SARC 4B separates BALG to SAPS from the 345 KV at S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3B10-D418-4068-8A4A-0DAA990C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has proposed the PCAP as an alternative in case the bus needs to be tied together temporar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5225-EA76-4874-9ED5-880545A8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01EC-45CA-4D53-BB1D-91383619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7024-03C4-400D-82A4-E85F9BC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08E4-9327-4290-9055-54BF79C9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9EB1-5FB0-4FCB-A3E3-0FBC1D35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B5FA-82E4-4706-A525-61E4353F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DF86-044D-44C8-A6C6-90388C1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573E-AB53-4D5C-B804-B82FDB0A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1D5C-F7EC-4943-9208-2EBA2FB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BDE2-D898-4EB6-A9E1-C6CB205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436D-FEDF-4CDE-864D-8DB9E1C1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C4FC-B380-4E14-8CEA-927614C6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0D14-1E13-4A42-AC29-A5EBFC9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4FE4-8994-45B3-A24F-E8AFCE00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51B0-8EC8-4747-A3CC-134E699A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MWG - 11 Ma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n Angelo Power Station - Mena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APS Before and Af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440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4343400" y="335268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419720" y="18288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41911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d Creek Before and Af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41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81480" y="4495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495680" y="4114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743200" y="36572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resulting configuration provides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lation of the SAPS to Menard 138 kV line from the 345 kV system at Red Creek and Twin But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ention of the 138 kV sources at Ballinger (bypassing Red Creek) and Sonora to provide voltage support of Menard/Mason are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 of second 138/69 kV auto in the Menard are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nfigured San Angelo Power Station (SAPS) to Menard 138kV line returned to service on May 15, 200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rew Tap added between SAPS and Men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ing is ERCOT’s analysis for this line with the reconfiguration and evaluation as a C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al Inf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erations Case F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,000 load case was chosen to do the stud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Plan: July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008 for the HE 16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gnificant Basecase violations (Thermal &amp; Volt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Generation: 2300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 – N Transfer Limi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DCKT Long Creek – Sweet Water Cogen &amp; Abilene Mulberry Creek 345 kV overloads SAPS – Shrew 138 kV line with a W – N transfer limit of 660 M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ing the tie between SAPS 4A &amp; SAPS 4B relieves the SAPS – Shrew line by 10 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– N transfer limit can be increased to 720 MW by doing this switching a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Switching: Opening Schkade – Twin Butte relieves the SAPS – Shrew line by 8 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_x0020_1" descr="image001"/>
          <p:cNvPicPr/>
          <p:nvPr/>
        </p:nvPicPr>
        <p:blipFill>
          <a:blip r:embed="rId1"/>
          <a:stretch/>
        </p:blipFill>
        <p:spPr>
          <a:xfrm>
            <a:off x="4191120" y="914400"/>
            <a:ext cx="4952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wer Transfer Distribution Fac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981080"/>
          <a:ext cx="9067680" cy="2014560"/>
        </p:xfrm>
        <a:graphic>
          <a:graphicData uri="http://schemas.openxmlformats.org/drawingml/2006/table">
            <a:tbl>
              <a:tblPr/>
              <a:tblGrid>
                <a:gridCol w="1371600"/>
                <a:gridCol w="1468440"/>
                <a:gridCol w="1339920"/>
                <a:gridCol w="1301760"/>
                <a:gridCol w="1171440"/>
                <a:gridCol w="1244520"/>
                <a:gridCol w="1170000"/>
              </a:tblGrid>
              <a:tr h="85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Bus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Bus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us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us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TDF Fr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TDF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 kV (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HR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PS 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HR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8600" y="838080"/>
          <a:ext cx="4267080" cy="5105520"/>
        </p:xfrm>
        <a:graphic>
          <a:graphicData uri="http://schemas.openxmlformats.org/drawingml/2006/table">
            <a:tbl>
              <a:tblPr/>
              <a:tblGrid>
                <a:gridCol w="2381400"/>
                <a:gridCol w="1885680"/>
              </a:tblGrid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HOLLO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HOLLOW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UF_C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FF_G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FF_G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HOLLOW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FF_G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_HO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2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2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79"/>
          <p:cNvSpPr/>
          <p:nvPr/>
        </p:nvSpPr>
        <p:spPr>
          <a:xfrm>
            <a:off x="152280" y="228600"/>
            <a:ext cx="80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ator Shift Factors For SAPS – Shrew 138 k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48320" y="838080"/>
          <a:ext cx="4038480" cy="5029200"/>
        </p:xfrm>
        <a:graphic>
          <a:graphicData uri="http://schemas.openxmlformats.org/drawingml/2006/table">
            <a:tbl>
              <a:tblPr/>
              <a:tblGrid>
                <a:gridCol w="2241360"/>
                <a:gridCol w="1797120"/>
              </a:tblGrid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2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2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B2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NI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LA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W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W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40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E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E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E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enerator Shift Factors For SAPS – Shrew 138 kV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495680" y="838080"/>
          <a:ext cx="4267440" cy="4754520"/>
        </p:xfrm>
        <a:graphic>
          <a:graphicData uri="http://schemas.openxmlformats.org/drawingml/2006/table">
            <a:tbl>
              <a:tblPr/>
              <a:tblGrid>
                <a:gridCol w="2368800"/>
                <a:gridCol w="1898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C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C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C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LLC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LLC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C_S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C_NO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2280" y="914400"/>
          <a:ext cx="4191120" cy="4705200"/>
        </p:xfrm>
        <a:graphic>
          <a:graphicData uri="http://schemas.openxmlformats.org/drawingml/2006/table">
            <a:tbl>
              <a:tblPr/>
              <a:tblGrid>
                <a:gridCol w="2325960"/>
                <a:gridCol w="1865160"/>
              </a:tblGrid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E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E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E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AL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AL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AL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AL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AL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AL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CD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CD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838080"/>
          <a:ext cx="4038480" cy="5148360"/>
        </p:xfrm>
        <a:graphic>
          <a:graphicData uri="http://schemas.openxmlformats.org/drawingml/2006/table">
            <a:tbl>
              <a:tblPr/>
              <a:tblGrid>
                <a:gridCol w="1831680"/>
                <a:gridCol w="22068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G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W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7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7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6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AZ_W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AZ_W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DCANY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82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800600" y="838080"/>
          <a:ext cx="4038480" cy="5226120"/>
        </p:xfrm>
        <a:graphic>
          <a:graphicData uri="http://schemas.openxmlformats.org/drawingml/2006/table">
            <a:tbl>
              <a:tblPr/>
              <a:tblGrid>
                <a:gridCol w="1832040"/>
                <a:gridCol w="22064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EETW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W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6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6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KWS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6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KW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6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ator Shift Factors For SAPS – Shrew 138 kV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s to Power Flow Study to Examine Reconfigura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 additional bus (#6489) at SAP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zero impedance branches between the two original SAPS busses and the new SAPS 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terminate the line from Menard into the new SAPS bus #648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the ratings on the Menard to SAPS 138 kV line to 117 MV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 additional bus (#6443) at Red Cree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 zero impedance branch between the original Red Creek bus and the new Red Creek 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terminate the line from Ballinger into the new Red Creek 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terminate the line from SAPS into the new Red Creek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724280" y="1143000"/>
          <a:ext cx="4038840" cy="4419720"/>
        </p:xfrm>
        <a:graphic>
          <a:graphicData uri="http://schemas.openxmlformats.org/drawingml/2006/table">
            <a:tbl>
              <a:tblPr/>
              <a:tblGrid>
                <a:gridCol w="2036880"/>
                <a:gridCol w="2001960"/>
              </a:tblGrid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ERG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54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IR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5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IR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5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B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46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B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46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C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4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C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4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C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4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8600" y="1143000"/>
          <a:ext cx="4038480" cy="4495680"/>
        </p:xfrm>
        <a:graphic>
          <a:graphicData uri="http://schemas.openxmlformats.org/drawingml/2006/table">
            <a:tbl>
              <a:tblPr/>
              <a:tblGrid>
                <a:gridCol w="2036880"/>
                <a:gridCol w="2001600"/>
              </a:tblGrid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 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C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5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C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5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C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5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WC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5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4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NCRK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1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NCRK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1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NC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1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KS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0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ator Shift Factors For SAPS – Shrew 138 kV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ing the reconfiguration for the SAPS to Menard line the CRE test results are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changing zon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.999988 Max 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9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500MWs changed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by SAPS-Sh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Squares Fit &lt; 0.2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by SAPS-Sh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 Analysis – Protocol Section 7.2.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 of  SAPs-Menard Reconfigu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APS one 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APS change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 of breaker 10335 at SAPS, which will be normally close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breakers 4590 and 6120 at SAPS to isolate the SAPS south bus from the north 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e Oaks, Menard, and Red Creek 138 kV lines connected to the SAPS south bus with the SAPS 138/69 kV au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in Buttes, Concho, and College Hills West 138 kV lines connected to SAPS north 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breaker 3615 to SAPS 138/69 kV auto under high load/wind conditions to isolate the 69 kV system and avoid contingency overloa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ed Creek one 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d Creek change summar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breakers 5970, 6745, 5945 and 6720 at Red Creek to isolate Red Creek south bus from north b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linger and Ben Ficklen/SAPS 138 kV lines connected to the south b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345/138 kV autos, Nicole, North Angelo, and Concho 138 kV lines connected to north b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Menard one 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nard change summar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-energize and remove 69 kV line section between Menard breaker 2900 and Yellow Jack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nect the Eden to Yellow Jacket 69 kV line into Yellow Jacket breakers 7355 and 5995 through moab 623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p SAPS to Menard 138 kV line just west of Menard (Shrew) with a new 138 kV line section from Shrew to Yellow Jacket through moab 7197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ergize Yellow Jacket #2 138/69 kV auto by closing Yellow Jacket breakers 1475, 9210 and 92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26:11Z</dcterms:created>
  <dc:creator>bblevins</dc:creator>
  <dc:description/>
  <dc:language>en-US</dc:language>
  <cp:lastModifiedBy>ercot/if</cp:lastModifiedBy>
  <dcterms:modified xsi:type="dcterms:W3CDTF">2009-05-28T22:24:42Z</dcterms:modified>
  <cp:revision>16</cp:revision>
  <dc:subject/>
  <dc:title>Instructions</dc:title>
</cp:coreProperties>
</file>