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2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3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4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8193F29-7AE4-4D19-8B2E-EE9D47D81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1774ED5-E337-42DE-BCA1-CC2805A95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D680E37-F19A-4FA5-A413-985AB7952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6514C3C-9A2A-4585-B8FA-96AA9ECD3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08FC6DC-AC36-4DB3-8A27-C39C8EDF6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66CD711-3E42-4985-B27A-BA889A3D2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B2CB01B-19E9-45C4-9F0E-A7B267AC7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1832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084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86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1832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084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899172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5524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F98694FE-EF4D-40FF-AD65-7B66BC505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Line 7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logo"/>
          <p:cNvPicPr/>
          <p:nvPr/>
        </p:nvPicPr>
        <p:blipFill>
          <a:blip r:embed="rId2"/>
          <a:stretch/>
        </p:blipFill>
        <p:spPr>
          <a:xfrm>
            <a:off x="152280" y="6351480"/>
            <a:ext cx="727200" cy="3924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9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0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2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8F216743-C9EB-4B9B-8713-DEB05F1DA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2130120"/>
            <a:ext cx="6934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ngle Entry Model (SEM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Go-Live Updat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600200" y="38858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C Upd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une 4, 200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1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1F6E2-EA8C-4627-B61C-B134552D0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After 8/31/2009</a:t>
            </a:r>
            <a:r>
              <a:rPr b="1" lang="en-US" sz="1800" spc="-1" strike="noStrike">
                <a:solidFill>
                  <a:srgbClr val="ffcc00"/>
                </a:solidFill>
                <a:latin typeface="Arial Black"/>
              </a:rPr>
              <a:t>:</a:t>
            </a:r>
            <a:r>
              <a:rPr b="1" lang="en-US" sz="18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EM Go-Liv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Network Operations Model Maintenance for TSP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2590920" y="1371600"/>
            <a:ext cx="52578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RCOT Zonal EMMS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ystem of record through 12/1/20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2590920" y="3429000"/>
            <a:ext cx="5181480" cy="11430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RCOT Nodal NMMS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nodal testing model- CIM file for EMS/MMS/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42"/>
          <p:cNvGrpSpPr/>
          <p:nvPr/>
        </p:nvGrpSpPr>
        <p:grpSpPr>
          <a:xfrm>
            <a:off x="2894040" y="2514240"/>
            <a:ext cx="4802400" cy="914760"/>
            <a:chOff x="2894040" y="2514240"/>
            <a:chExt cx="4802400" cy="914760"/>
          </a:xfrm>
        </p:grpSpPr>
        <p:grpSp>
          <p:nvGrpSpPr>
            <p:cNvPr id="113" name="Group 40"/>
            <p:cNvGrpSpPr/>
            <p:nvPr/>
          </p:nvGrpSpPr>
          <p:grpSpPr>
            <a:xfrm>
              <a:off x="2894040" y="2514240"/>
              <a:ext cx="4802400" cy="914760"/>
              <a:chOff x="2894040" y="2514240"/>
              <a:chExt cx="4802400" cy="914760"/>
            </a:xfrm>
          </p:grpSpPr>
          <p:cxnSp>
            <p:nvCxnSpPr>
              <p:cNvPr id="114" name="Straight Arrow Connector 14"/>
              <p:cNvCxnSpPr/>
              <p:nvPr/>
            </p:nvCxnSpPr>
            <p:spPr>
              <a:xfrm flipV="1">
                <a:off x="28940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15" name="Straight Arrow Connector 15"/>
              <p:cNvCxnSpPr/>
              <p:nvPr/>
            </p:nvCxnSpPr>
            <p:spPr>
              <a:xfrm flipV="1">
                <a:off x="31226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16" name="Straight Arrow Connector 16"/>
              <p:cNvCxnSpPr/>
              <p:nvPr/>
            </p:nvCxnSpPr>
            <p:spPr>
              <a:xfrm flipV="1">
                <a:off x="33512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17" name="Straight Arrow Connector 17"/>
              <p:cNvCxnSpPr/>
              <p:nvPr/>
            </p:nvCxnSpPr>
            <p:spPr>
              <a:xfrm flipV="1">
                <a:off x="358128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18" name="Straight Arrow Connector 18"/>
              <p:cNvCxnSpPr/>
              <p:nvPr/>
            </p:nvCxnSpPr>
            <p:spPr>
              <a:xfrm flipV="1">
                <a:off x="380988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19" name="Straight Arrow Connector 20"/>
              <p:cNvCxnSpPr/>
              <p:nvPr/>
            </p:nvCxnSpPr>
            <p:spPr>
              <a:xfrm flipV="1">
                <a:off x="403848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20" name="Straight Arrow Connector 22"/>
              <p:cNvCxnSpPr/>
              <p:nvPr/>
            </p:nvCxnSpPr>
            <p:spPr>
              <a:xfrm flipV="1">
                <a:off x="42638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21" name="Straight Arrow Connector 23"/>
              <p:cNvCxnSpPr/>
              <p:nvPr/>
            </p:nvCxnSpPr>
            <p:spPr>
              <a:xfrm flipV="1">
                <a:off x="44924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22" name="Straight Arrow Connector 24"/>
              <p:cNvCxnSpPr/>
              <p:nvPr/>
            </p:nvCxnSpPr>
            <p:spPr>
              <a:xfrm flipV="1">
                <a:off x="47210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23" name="Straight Arrow Connector 25"/>
              <p:cNvCxnSpPr/>
              <p:nvPr/>
            </p:nvCxnSpPr>
            <p:spPr>
              <a:xfrm flipV="1">
                <a:off x="49514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24" name="Straight Arrow Connector 26"/>
              <p:cNvCxnSpPr/>
              <p:nvPr/>
            </p:nvCxnSpPr>
            <p:spPr>
              <a:xfrm flipV="1">
                <a:off x="51800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25" name="Straight Arrow Connector 27"/>
              <p:cNvCxnSpPr/>
              <p:nvPr/>
            </p:nvCxnSpPr>
            <p:spPr>
              <a:xfrm flipV="1">
                <a:off x="54086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26" name="Straight Arrow Connector 28"/>
              <p:cNvCxnSpPr/>
              <p:nvPr/>
            </p:nvCxnSpPr>
            <p:spPr>
              <a:xfrm flipV="1">
                <a:off x="563868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27" name="Straight Arrow Connector 29"/>
              <p:cNvCxnSpPr/>
              <p:nvPr/>
            </p:nvCxnSpPr>
            <p:spPr>
              <a:xfrm flipV="1">
                <a:off x="58658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28" name="Straight Arrow Connector 30"/>
              <p:cNvCxnSpPr/>
              <p:nvPr/>
            </p:nvCxnSpPr>
            <p:spPr>
              <a:xfrm flipV="1">
                <a:off x="60944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29" name="Straight Arrow Connector 31"/>
              <p:cNvCxnSpPr/>
              <p:nvPr/>
            </p:nvCxnSpPr>
            <p:spPr>
              <a:xfrm flipV="1">
                <a:off x="632448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30" name="Straight Arrow Connector 32"/>
              <p:cNvCxnSpPr/>
              <p:nvPr/>
            </p:nvCxnSpPr>
            <p:spPr>
              <a:xfrm flipV="1">
                <a:off x="655308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31" name="Straight Arrow Connector 33"/>
              <p:cNvCxnSpPr/>
              <p:nvPr/>
            </p:nvCxnSpPr>
            <p:spPr>
              <a:xfrm flipV="1">
                <a:off x="678168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32" name="Straight Arrow Connector 34"/>
              <p:cNvCxnSpPr/>
              <p:nvPr/>
            </p:nvCxnSpPr>
            <p:spPr>
              <a:xfrm flipV="1">
                <a:off x="700740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33" name="Straight Arrow Connector 35"/>
              <p:cNvCxnSpPr/>
              <p:nvPr/>
            </p:nvCxnSpPr>
            <p:spPr>
              <a:xfrm flipV="1">
                <a:off x="723600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34" name="Straight Arrow Connector 36"/>
              <p:cNvCxnSpPr/>
              <p:nvPr/>
            </p:nvCxnSpPr>
            <p:spPr>
              <a:xfrm flipV="1">
                <a:off x="746460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35" name="Straight Arrow Connector 37"/>
              <p:cNvCxnSpPr/>
              <p:nvPr/>
            </p:nvCxnSpPr>
            <p:spPr>
              <a:xfrm flipV="1">
                <a:off x="76946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</p:grpSp>
        <p:sp>
          <p:nvSpPr>
            <p:cNvPr id="136" name="TextBox 41"/>
            <p:cNvSpPr/>
            <p:nvPr/>
          </p:nvSpPr>
          <p:spPr>
            <a:xfrm>
              <a:off x="2895480" y="2833560"/>
              <a:ext cx="480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RCOT enters NOMCRs into zonal mo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Striped Right Arrow 42"/>
          <p:cNvSpPr/>
          <p:nvPr/>
        </p:nvSpPr>
        <p:spPr>
          <a:xfrm>
            <a:off x="2743200" y="4724280"/>
            <a:ext cx="5029200" cy="1067040"/>
          </a:xfrm>
          <a:prstGeom prst="pie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RCOT runs consistency checks to ensure models are aligned and maintai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41"/>
          <p:cNvGrpSpPr/>
          <p:nvPr/>
        </p:nvGrpSpPr>
        <p:grpSpPr>
          <a:xfrm>
            <a:off x="152280" y="3390840"/>
            <a:ext cx="2438640" cy="1295640"/>
            <a:chOff x="152280" y="3390840"/>
            <a:chExt cx="2438640" cy="1295640"/>
          </a:xfrm>
        </p:grpSpPr>
        <p:sp>
          <p:nvSpPr>
            <p:cNvPr id="139" name="Right Arrow 5"/>
            <p:cNvSpPr/>
            <p:nvPr/>
          </p:nvSpPr>
          <p:spPr>
            <a:xfrm>
              <a:off x="914400" y="3390840"/>
              <a:ext cx="1676520" cy="1295640"/>
            </a:xfrm>
            <a:prstGeom prst="rightArrow">
              <a:avLst>
                <a:gd name="adj1" fmla="val 50000"/>
                <a:gd name="adj2" fmla="val 49992"/>
              </a:avLst>
            </a:pr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ubmits Model Change Request (NOMCR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4"/>
            <p:cNvSpPr/>
            <p:nvPr/>
          </p:nvSpPr>
          <p:spPr>
            <a:xfrm>
              <a:off x="152280" y="3467160"/>
              <a:ext cx="762120" cy="1143000"/>
            </a:xfrm>
            <a:prstGeom prst="rect">
              <a:avLst/>
            </a:prstGeom>
            <a:solidFill>
              <a:srgbClr val="6699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Rectangle 45"/>
          <p:cNvSpPr/>
          <p:nvPr/>
        </p:nvSpPr>
        <p:spPr>
          <a:xfrm>
            <a:off x="7848720" y="3429000"/>
            <a:ext cx="1295280" cy="11430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MM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ystem of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46"/>
          <p:cNvSpPr/>
          <p:nvPr/>
        </p:nvSpPr>
        <p:spPr>
          <a:xfrm>
            <a:off x="7010280" y="83808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Nodal Go-Live 12/1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42"/>
          <p:cNvSpPr/>
          <p:nvPr/>
        </p:nvSpPr>
        <p:spPr>
          <a:xfrm>
            <a:off x="7810560" y="1295280"/>
            <a:ext cx="0" cy="441972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1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81398-BBED-416F-AC49-4D04B85C4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Network Operations Model Maintenance for Resource &amp; QS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(today and post 8/31/09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2590920" y="1371600"/>
            <a:ext cx="52578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RCOT Zonal EMMS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ystem of record through 12/1/20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1"/>
          <p:cNvSpPr/>
          <p:nvPr/>
        </p:nvSpPr>
        <p:spPr>
          <a:xfrm>
            <a:off x="2590920" y="3429000"/>
            <a:ext cx="5181480" cy="11430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RCOT Nodal NMMS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nodal testing model- CIM file for EMS/MMS/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43"/>
          <p:cNvGrpSpPr/>
          <p:nvPr/>
        </p:nvGrpSpPr>
        <p:grpSpPr>
          <a:xfrm>
            <a:off x="2894040" y="2514240"/>
            <a:ext cx="4802400" cy="914760"/>
            <a:chOff x="2894040" y="2514240"/>
            <a:chExt cx="4802400" cy="914760"/>
          </a:xfrm>
        </p:grpSpPr>
        <p:grpSp>
          <p:nvGrpSpPr>
            <p:cNvPr id="149" name="Group 40"/>
            <p:cNvGrpSpPr/>
            <p:nvPr/>
          </p:nvGrpSpPr>
          <p:grpSpPr>
            <a:xfrm>
              <a:off x="2894040" y="2514240"/>
              <a:ext cx="4802400" cy="914760"/>
              <a:chOff x="2894040" y="2514240"/>
              <a:chExt cx="4802400" cy="914760"/>
            </a:xfrm>
          </p:grpSpPr>
          <p:cxnSp>
            <p:nvCxnSpPr>
              <p:cNvPr id="150" name="Straight Arrow Connector 14"/>
              <p:cNvCxnSpPr/>
              <p:nvPr/>
            </p:nvCxnSpPr>
            <p:spPr>
              <a:xfrm flipV="1">
                <a:off x="28940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51" name="Straight Arrow Connector 15"/>
              <p:cNvCxnSpPr/>
              <p:nvPr/>
            </p:nvCxnSpPr>
            <p:spPr>
              <a:xfrm flipV="1">
                <a:off x="31226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52" name="Straight Arrow Connector 16"/>
              <p:cNvCxnSpPr/>
              <p:nvPr/>
            </p:nvCxnSpPr>
            <p:spPr>
              <a:xfrm flipV="1">
                <a:off x="33512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53" name="Straight Arrow Connector 17"/>
              <p:cNvCxnSpPr/>
              <p:nvPr/>
            </p:nvCxnSpPr>
            <p:spPr>
              <a:xfrm flipV="1">
                <a:off x="358128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54" name="Straight Arrow Connector 18"/>
              <p:cNvCxnSpPr/>
              <p:nvPr/>
            </p:nvCxnSpPr>
            <p:spPr>
              <a:xfrm flipV="1">
                <a:off x="380988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55" name="Straight Arrow Connector 20"/>
              <p:cNvCxnSpPr/>
              <p:nvPr/>
            </p:nvCxnSpPr>
            <p:spPr>
              <a:xfrm flipV="1">
                <a:off x="403848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56" name="Straight Arrow Connector 22"/>
              <p:cNvCxnSpPr/>
              <p:nvPr/>
            </p:nvCxnSpPr>
            <p:spPr>
              <a:xfrm flipV="1">
                <a:off x="42638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57" name="Straight Arrow Connector 23"/>
              <p:cNvCxnSpPr/>
              <p:nvPr/>
            </p:nvCxnSpPr>
            <p:spPr>
              <a:xfrm flipV="1">
                <a:off x="44924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58" name="Straight Arrow Connector 24"/>
              <p:cNvCxnSpPr/>
              <p:nvPr/>
            </p:nvCxnSpPr>
            <p:spPr>
              <a:xfrm flipV="1">
                <a:off x="47210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59" name="Straight Arrow Connector 25"/>
              <p:cNvCxnSpPr/>
              <p:nvPr/>
            </p:nvCxnSpPr>
            <p:spPr>
              <a:xfrm flipV="1">
                <a:off x="49514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60" name="Straight Arrow Connector 26"/>
              <p:cNvCxnSpPr/>
              <p:nvPr/>
            </p:nvCxnSpPr>
            <p:spPr>
              <a:xfrm flipV="1">
                <a:off x="51800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61" name="Straight Arrow Connector 27"/>
              <p:cNvCxnSpPr/>
              <p:nvPr/>
            </p:nvCxnSpPr>
            <p:spPr>
              <a:xfrm flipV="1">
                <a:off x="54086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62" name="Straight Arrow Connector 28"/>
              <p:cNvCxnSpPr/>
              <p:nvPr/>
            </p:nvCxnSpPr>
            <p:spPr>
              <a:xfrm flipV="1">
                <a:off x="563868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63" name="Straight Arrow Connector 29"/>
              <p:cNvCxnSpPr/>
              <p:nvPr/>
            </p:nvCxnSpPr>
            <p:spPr>
              <a:xfrm flipV="1">
                <a:off x="58658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64" name="Straight Arrow Connector 30"/>
              <p:cNvCxnSpPr/>
              <p:nvPr/>
            </p:nvCxnSpPr>
            <p:spPr>
              <a:xfrm flipV="1">
                <a:off x="60944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65" name="Straight Arrow Connector 31"/>
              <p:cNvCxnSpPr/>
              <p:nvPr/>
            </p:nvCxnSpPr>
            <p:spPr>
              <a:xfrm flipV="1">
                <a:off x="632448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66" name="Straight Arrow Connector 32"/>
              <p:cNvCxnSpPr/>
              <p:nvPr/>
            </p:nvCxnSpPr>
            <p:spPr>
              <a:xfrm flipV="1">
                <a:off x="655308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67" name="Straight Arrow Connector 33"/>
              <p:cNvCxnSpPr/>
              <p:nvPr/>
            </p:nvCxnSpPr>
            <p:spPr>
              <a:xfrm flipV="1">
                <a:off x="678168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68" name="Straight Arrow Connector 34"/>
              <p:cNvCxnSpPr/>
              <p:nvPr/>
            </p:nvCxnSpPr>
            <p:spPr>
              <a:xfrm flipV="1">
                <a:off x="700740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69" name="Straight Arrow Connector 35"/>
              <p:cNvCxnSpPr/>
              <p:nvPr/>
            </p:nvCxnSpPr>
            <p:spPr>
              <a:xfrm flipV="1">
                <a:off x="723600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70" name="Straight Arrow Connector 36"/>
              <p:cNvCxnSpPr/>
              <p:nvPr/>
            </p:nvCxnSpPr>
            <p:spPr>
              <a:xfrm flipV="1">
                <a:off x="746460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71" name="Straight Arrow Connector 37"/>
              <p:cNvCxnSpPr/>
              <p:nvPr/>
            </p:nvCxnSpPr>
            <p:spPr>
              <a:xfrm flipV="1">
                <a:off x="76946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</p:grpSp>
        <p:sp>
          <p:nvSpPr>
            <p:cNvPr id="172" name="TextBox 41"/>
            <p:cNvSpPr/>
            <p:nvPr/>
          </p:nvSpPr>
          <p:spPr>
            <a:xfrm>
              <a:off x="3276720" y="2833560"/>
              <a:ext cx="4190760" cy="368280"/>
            </a:xfrm>
            <a:prstGeom prst="rect">
              <a:avLst/>
            </a:prstGeom>
            <a:noFill/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RCOT enters into zonal mo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Rectangle 45"/>
          <p:cNvSpPr/>
          <p:nvPr/>
        </p:nvSpPr>
        <p:spPr>
          <a:xfrm>
            <a:off x="7848720" y="3429000"/>
            <a:ext cx="1295280" cy="11430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MM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ystem of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46"/>
          <p:cNvSpPr/>
          <p:nvPr/>
        </p:nvSpPr>
        <p:spPr>
          <a:xfrm>
            <a:off x="7010280" y="83808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Nodal Go-Live 12/1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45"/>
          <p:cNvGrpSpPr/>
          <p:nvPr/>
        </p:nvGrpSpPr>
        <p:grpSpPr>
          <a:xfrm>
            <a:off x="152280" y="4419720"/>
            <a:ext cx="8991720" cy="1800000"/>
            <a:chOff x="152280" y="4419720"/>
            <a:chExt cx="8991720" cy="1800000"/>
          </a:xfrm>
        </p:grpSpPr>
        <p:sp>
          <p:nvSpPr>
            <p:cNvPr id="176" name="Up Arrow 42"/>
            <p:cNvSpPr/>
            <p:nvPr/>
          </p:nvSpPr>
          <p:spPr>
            <a:xfrm>
              <a:off x="8229600" y="4495680"/>
              <a:ext cx="609480" cy="53352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Group 44"/>
            <p:cNvGrpSpPr/>
            <p:nvPr/>
          </p:nvGrpSpPr>
          <p:grpSpPr>
            <a:xfrm>
              <a:off x="152280" y="4419720"/>
              <a:ext cx="8991720" cy="1800000"/>
              <a:chOff x="152280" y="4419720"/>
              <a:chExt cx="8991720" cy="1800000"/>
            </a:xfrm>
          </p:grpSpPr>
          <p:sp>
            <p:nvSpPr>
              <p:cNvPr id="178" name="Right Arrow 39"/>
              <p:cNvSpPr/>
              <p:nvPr/>
            </p:nvSpPr>
            <p:spPr>
              <a:xfrm>
                <a:off x="914400" y="5153040"/>
                <a:ext cx="2514600" cy="1066680"/>
              </a:xfrm>
              <a:prstGeom prst="rightArrow">
                <a:avLst>
                  <a:gd name="adj1" fmla="val 50000"/>
                  <a:gd name="adj2" fmla="val 50007"/>
                </a:avLst>
              </a:pr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ubmits RARF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(Resource Asset Reg Form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via Service Reques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ight Arrow 5"/>
              <p:cNvSpPr/>
              <p:nvPr/>
            </p:nvSpPr>
            <p:spPr>
              <a:xfrm>
                <a:off x="914400" y="4419720"/>
                <a:ext cx="2514600" cy="1066680"/>
              </a:xfrm>
              <a:prstGeom prst="rightArrow">
                <a:avLst>
                  <a:gd name="adj1" fmla="val 50000"/>
                  <a:gd name="adj2" fmla="val 50007"/>
                </a:avLst>
              </a:pr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ubmits ICCP Change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via Service Reques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ight Arrow Callout 40"/>
              <p:cNvSpPr/>
              <p:nvPr/>
            </p:nvSpPr>
            <p:spPr>
              <a:xfrm rot="16200000">
                <a:off x="5657760" y="2228760"/>
                <a:ext cx="1257120" cy="5715000"/>
              </a:xfrm>
              <a:prstGeom prst="rightArrowCallout">
                <a:avLst>
                  <a:gd name="adj1" fmla="val 25006"/>
                  <a:gd name="adj2" fmla="val 25004"/>
                  <a:gd name="adj3" fmla="val 25000"/>
                  <a:gd name="adj4" fmla="val 64977"/>
                </a:avLst>
              </a:pr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ERCOT proces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4"/>
              <p:cNvSpPr/>
              <p:nvPr/>
            </p:nvSpPr>
            <p:spPr>
              <a:xfrm>
                <a:off x="152280" y="4572000"/>
                <a:ext cx="762120" cy="685800"/>
              </a:xfrm>
              <a:prstGeom prst="rect">
                <a:avLst/>
              </a:prstGeom>
              <a:solidFill>
                <a:srgbClr val="6699ff"/>
              </a:solidFill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Q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38"/>
              <p:cNvSpPr/>
              <p:nvPr/>
            </p:nvSpPr>
            <p:spPr>
              <a:xfrm>
                <a:off x="152280" y="5334120"/>
                <a:ext cx="762120" cy="685800"/>
              </a:xfrm>
              <a:prstGeom prst="rect">
                <a:avLst/>
              </a:prstGeom>
              <a:solidFill>
                <a:srgbClr val="6699ff"/>
              </a:solidFill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Line 42"/>
          <p:cNvSpPr/>
          <p:nvPr/>
        </p:nvSpPr>
        <p:spPr>
          <a:xfrm>
            <a:off x="7810560" y="1295280"/>
            <a:ext cx="0" cy="441972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E0B2BF09-9F92-4F93-B3EF-17E1E1624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192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arket Engagement / Communication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rocesses and approvals leading up to this activity were outlined in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EM Go-Live Proced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pproved by TPTF and TAC in Aug/Sep 200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nodal.ercot.com/readiness/golive/index.htm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COT has engaged and presented updates to the following groups, and will do so monthly moving forward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DSWG- Jan, Feb, Mar, Apr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ket SMEs review artifacts and training agen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- Feb, Apr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level reports of schedule, metrics, and criteria sta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rics-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P13 – MP Completes Nodal Operations Trai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asure of training attendance for M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P14-B EDS2-Rel4 Trials Particip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asure of testing participation- target 95% of aTS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0142BDE8-2124-4771-A466-CC3F36743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192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arket Engagement / Communication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89" name="Picture 10" descr=""/>
          <p:cNvPicPr/>
          <p:nvPr/>
        </p:nvPicPr>
        <p:blipFill>
          <a:blip r:embed="rId1"/>
          <a:stretch/>
        </p:blipFill>
        <p:spPr>
          <a:xfrm>
            <a:off x="39600" y="1066680"/>
            <a:ext cx="9066240" cy="4552920"/>
          </a:xfrm>
          <a:prstGeom prst="rect">
            <a:avLst/>
          </a:prstGeom>
          <a:ln w="0">
            <a:noFill/>
          </a:ln>
        </p:spPr>
      </p:pic>
      <p:sp>
        <p:nvSpPr>
          <p:cNvPr id="190" name="Line 11"/>
          <p:cNvSpPr/>
          <p:nvPr/>
        </p:nvSpPr>
        <p:spPr>
          <a:xfrm>
            <a:off x="7467480" y="762120"/>
            <a:ext cx="0" cy="48765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2"/>
          <p:cNvSpPr/>
          <p:nvPr/>
        </p:nvSpPr>
        <p:spPr>
          <a:xfrm>
            <a:off x="8077320" y="762120"/>
            <a:ext cx="0" cy="48765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3"/>
          <p:cNvSpPr/>
          <p:nvPr/>
        </p:nvSpPr>
        <p:spPr>
          <a:xfrm>
            <a:off x="6629400" y="5638680"/>
            <a:ext cx="2286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oming into critical window of final Zonal-&gt;Nodal model transformation, market training, application roll-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5D5645A2-C3C8-419F-8421-20E8A0893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192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raining Update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72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609480" y="1676520"/>
            <a:ext cx="693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228600" y="914400"/>
            <a:ext cx="86104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P Testing and Training environments will be the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esting system acc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ailable June 8 – Aug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MCR testing system will be on-line and available to all TS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will establish dedicated email and have staff available to support question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nomcrhelp@ercot.co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ructor Led Training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e hosted in Tayl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-SEM classes June 22 – Aug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t plans for at least six 3-day sess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ning for 12-18 seats for each 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 dedicated training ro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-SEM classes Sept 23- Oct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wer sessions and smaller classes (tb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ke-up classes, not just-in-time training for all staff after go-l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1AD92391-AD88-440F-80E0-21F8C9721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192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EM Go-Live Criteria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72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609480" y="1676520"/>
            <a:ext cx="693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228600" y="685800"/>
            <a:ext cx="86868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M Go-Live Criteria defined in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EM Go-Live Proced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://nodal.ercot.com/readiness/golive/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4- The following entry criteria shall be met for SEM Go-L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SPs &amp; ERCOT complete EDS 2 Release 4 activities (next pa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dal network model validated and approved as baseline for SEM Go-Live by ERCOT System Ops and Market Ops Dire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publishes CIM model to be used for SEM Go-L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sufficiently staffed for maintenance of nodal &amp; zonal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dal EMS is capable of consuming NMMS CIM files through the EMS CIM importer for use in the Nodal EMS application su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EM Go-Live readiness approved by TPTF, TAC and ERCOT B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sume ROS approval in place of TPT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publishes the following documents for TS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Network Operations Model validation whitepap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Network Operations Model validation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MMS Modeling Guidelines / Validation Rules doc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test CIM data dictionary and sc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80ECF161-C829-4AE4-A342-6E6E52AB6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192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EM Go-Live Criteria (cont’d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72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609480" y="1676520"/>
            <a:ext cx="693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228600" y="380880"/>
            <a:ext cx="86868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TSPs complete EDS 2 Release 4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Ps have enrolled and can access the ERCOT MIS por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Ps have been trained on the NOMCR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SPs can electronically submit data changes utilizing the NOMCR user interface and CIM compliant format for data exchange or via the manual MIS NOMCR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SEs can submit data changes utilizing the registration submission and subsequent ERCOT NOMCR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Ps can receive NOMCR acknowledgement of submittals, verifications, and confirmation of data po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completes EDS 2 Release 4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COT is ready to fully utilize the NOMCR process for all TSP/QSE data change reque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SP MPs can successfully submit data changes via the CIM compliant electronic NOMCR proces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SE can successfully submit data changes through registration submissions (and updated in the Network Operations Model via the NOMCR proces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COT has processes in place to use a “single entry point” to maintain both Nodal and Zonal network model databases when MPs submit changes via the NOMCR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MMS is the database of record for the Network Operations Model including the ICCP modeling point database and operatorship / ownership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MMS database is under full change control by ERCOT Network Model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COT discontinues the use of Service Requests for data changes and change 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COT begins the use of the NOMCR process for data changes and change 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DE059951-5244-4493-8937-B0D3993EB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192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ransition summary during June-Aug’09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" y="723600"/>
            <a:ext cx="8547120" cy="7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60948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76320" y="457200"/>
            <a:ext cx="8915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no limits on submissions (Market Notice sent March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…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clarify that there are no restrictions or “freezes” currently in place limiting network model change submissions via the service request process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 perio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une 1- Aug 30, 2009 (objective to minimize SvcReq during this perio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o equipment name changes (defer until after SEM Go-Live 8/31/09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ubmit changes as far in advance as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 15-30,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weeks no submissions, except for emergency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 31, 2009 - Feb 2010 (NOMCRs for any/all network chan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ly the NOMCR timeline will align with zonal 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MCRs received and translated to zonal model cha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-day lead-time, compliant with current zonal database 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us is tracked and communicated via system em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s that did not go into zonal production will be converted to NOMCRs for verification and submission by TSPs in S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P gradually transitions to NodalProtocols(3.10) 90-day req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990720" y="1905120"/>
            <a:ext cx="7924680" cy="99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990720" y="2895480"/>
            <a:ext cx="7924680" cy="685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9"/>
          <p:cNvSpPr/>
          <p:nvPr/>
        </p:nvSpPr>
        <p:spPr>
          <a:xfrm>
            <a:off x="990720" y="3581280"/>
            <a:ext cx="7924680" cy="2590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E3AF1023-8E24-4D20-A4E5-F14A72E5C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192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EM Go-Live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mary of current SEM Activ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ider changes to SEM Go-Live Procedur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 posting of Network Operations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 approval of SEM Go-Live without TPT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le Vote o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EM Go-Live Proced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end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SEM Go-Liv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Engagement/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 Go-Live Cri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on summary during June – August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DE0E312A-E7FB-4595-9741-1B8217E22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ummary of current SEM Activitie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COT has kicked-off the Single Entry Model Implementation for TS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28- SEM Market Kick-off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 4-  Begin weekly ERCOT/TSP market calls for S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 8-  ERCOT deploys test system for TSP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 23- First training class (3-day class, 6 weeks of class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 31- SEM Go-Live milest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the coming weeks ERCOT will report progress on testing and training to NDSWG, ROS, and TA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details of SEM Go-Live in the Append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rocesses and approvals leading up to this go-live activity are outlined in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EM Go-Live Proced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which were  approved by TPTF and TAC in Aug/Sep 200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nodal.ercot.com/readiness/golive/index.htm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E113A0D9-BD47-4AA1-AE3C-BEA477A4F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onsider changes to SEM Go-Live Procedure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960" y="990360"/>
            <a:ext cx="8839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 issues brought to TAC last month were basis for redlines to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EM Go-Live Procedur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sue #1: Go-Live Procedure calls for ERCOT to post the Network Operations Model on or before 8/31/0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dentiality concerns expressed by TAC in M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losure of resource RARF data to all M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dal protocols would not be in eff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C asked ERCOT to present this issue to ROS and W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h ROS/WMS had similar concer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ing Resource/RARF data with many months of Zonal market remaining (too ear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ommended careful attention to disclosure of Private Use Network load data at any 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ion from WMS to “Move to limit postings to only TSP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lines made to procedure to specify posting for TSP (interim solu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69933137-710D-4237-BA34-351C176BA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onsider changes to SEM Go-Live Procedure (continued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547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sue #2 Procedure calls for TPTF/TAC/BOD approval prior to SEM Go-Li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lines made to change TPTF to ROS for appr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C could consider motion to amend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EM Go-Live Proced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modified and posted with TAC materi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the SEM Go-Live approval will be a squeeze-play in Aug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ds-up to TAC that many SEM Go-Live criteria will not be met until Augu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y require email votes or conditional approvals from ROS/TAC/BO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8CA5D54D-1A38-48C7-BD1E-EA654708E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Next steps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723600"/>
            <a:ext cx="8547120" cy="7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60948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76320" y="838080"/>
            <a:ext cx="8915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TAC vote to chang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EM Go-Live Procedu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amended and posted with TAC materials to accommodate changes to model posting and approval from TPTF to ROS stakeholder grou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will continue to provide SEM updates to TAC and escalate issues through NDSWG/ROS/T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62B5ECA4-E087-434F-AE91-3CCE0830A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60948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76320" y="1066680"/>
            <a:ext cx="8915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PPEND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SEM Go-Liv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Engagement/Commun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ning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 Go-Live Cri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 summary during June – August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BD21C9CF-8D40-4D28-B13F-D9A90F3BC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192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EM Go-Live Overview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685440"/>
            <a:ext cx="85471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Entry Model (SEM) Go-Live is the switchover on Aug 31, 2009 for TSP submissions of network operations model change reques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“Service Request” submissions via 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“NOMCR” submissions via the NM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System of record for model changes becomes NOMCRs on 8/31//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System of record for Network operations Model for reliability and dispatch remains Zonal/Genesys system until Dec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1219320" y="2895480"/>
            <a:ext cx="152388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 Activ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609480" y="3733920"/>
            <a:ext cx="266724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mit Mode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nge via Service Requ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76320" y="4648320"/>
            <a:ext cx="1828800" cy="10666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COT Uplo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vc Reques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o Z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sys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2362320" y="4648320"/>
            <a:ext cx="1981080" cy="1066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COT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opies/Conve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al Model “seed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o Nod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MMS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5943600" y="2895480"/>
            <a:ext cx="152388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g 31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5334120" y="3733920"/>
            <a:ext cx="266688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mit Modeling Change v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MCR/NMMS T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cludes ICC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4800600" y="4648320"/>
            <a:ext cx="1828800" cy="10666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COT Incrementa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verts  NOMC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o Svc Req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loads into Z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sys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7162920" y="4648320"/>
            <a:ext cx="1752480" cy="1066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COT upload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MC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o Nod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MMS Model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pport nodal 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3"/>
          <p:cNvSpPr/>
          <p:nvPr/>
        </p:nvSpPr>
        <p:spPr>
          <a:xfrm>
            <a:off x="20574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4"/>
          <p:cNvSpPr/>
          <p:nvPr/>
        </p:nvSpPr>
        <p:spPr>
          <a:xfrm>
            <a:off x="990720" y="4343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5"/>
          <p:cNvSpPr/>
          <p:nvPr/>
        </p:nvSpPr>
        <p:spPr>
          <a:xfrm>
            <a:off x="19051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6"/>
          <p:cNvSpPr/>
          <p:nvPr/>
        </p:nvSpPr>
        <p:spPr>
          <a:xfrm>
            <a:off x="670572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7"/>
          <p:cNvSpPr/>
          <p:nvPr/>
        </p:nvSpPr>
        <p:spPr>
          <a:xfrm>
            <a:off x="7696080" y="4343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8"/>
          <p:cNvSpPr/>
          <p:nvPr/>
        </p:nvSpPr>
        <p:spPr>
          <a:xfrm flipH="1">
            <a:off x="6629400" y="5257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76320" y="5715000"/>
            <a:ext cx="426708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Consistency Checks are run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sure model synchronization/fide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800600" y="5715000"/>
            <a:ext cx="411480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 checks are run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sure model synchronization/fide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1"/>
          <p:cNvSpPr/>
          <p:nvPr/>
        </p:nvSpPr>
        <p:spPr>
          <a:xfrm>
            <a:off x="4572000" y="2819520"/>
            <a:ext cx="0" cy="34290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2"/>
          <p:cNvSpPr/>
          <p:nvPr/>
        </p:nvSpPr>
        <p:spPr>
          <a:xfrm>
            <a:off x="1828800" y="5087880"/>
            <a:ext cx="5335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3"/>
          <p:cNvSpPr/>
          <p:nvPr/>
        </p:nvSpPr>
        <p:spPr>
          <a:xfrm>
            <a:off x="6553080" y="5087880"/>
            <a:ext cx="7621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MC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1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BCC92-C708-42A2-BFF6-7465C378A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urrent Network Operations Model Maintenance for TSPs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2590920" y="1371600"/>
            <a:ext cx="52578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RCOT Zonal EMMS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ystem of record through 12/1/20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ight Arrow 5"/>
          <p:cNvSpPr/>
          <p:nvPr/>
        </p:nvSpPr>
        <p:spPr>
          <a:xfrm>
            <a:off x="914400" y="1295280"/>
            <a:ext cx="1676520" cy="129564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bmits Service Request to Chang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47"/>
          <p:cNvGrpSpPr/>
          <p:nvPr/>
        </p:nvGrpSpPr>
        <p:grpSpPr>
          <a:xfrm>
            <a:off x="2590920" y="2514600"/>
            <a:ext cx="5181480" cy="2133720"/>
            <a:chOff x="2590920" y="2514600"/>
            <a:chExt cx="5181480" cy="2133720"/>
          </a:xfrm>
        </p:grpSpPr>
        <p:sp>
          <p:nvSpPr>
            <p:cNvPr id="102" name="Rectangle 11"/>
            <p:cNvSpPr/>
            <p:nvPr/>
          </p:nvSpPr>
          <p:spPr>
            <a:xfrm>
              <a:off x="2590920" y="3505320"/>
              <a:ext cx="5181480" cy="1143000"/>
            </a:xfrm>
            <a:prstGeom prst="rect">
              <a:avLst/>
            </a:pr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RCOT Nodal NMMS Mo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(nodal testing model- CIM file for EMS/MMS/et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Down Arrow 13"/>
            <p:cNvSpPr/>
            <p:nvPr/>
          </p:nvSpPr>
          <p:spPr>
            <a:xfrm>
              <a:off x="6019920" y="2514600"/>
              <a:ext cx="838080" cy="1295280"/>
            </a:xfrm>
            <a:prstGeom prst="downArrow">
              <a:avLst>
                <a:gd name="adj1" fmla="val 50000"/>
                <a:gd name="adj2" fmla="val 50001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Down Arrow 8"/>
            <p:cNvSpPr/>
            <p:nvPr/>
          </p:nvSpPr>
          <p:spPr>
            <a:xfrm>
              <a:off x="2971800" y="2514600"/>
              <a:ext cx="838080" cy="1295280"/>
            </a:xfrm>
            <a:prstGeom prst="downArrow">
              <a:avLst>
                <a:gd name="adj1" fmla="val 50000"/>
                <a:gd name="adj2" fmla="val 50001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Down Arrow 9"/>
            <p:cNvSpPr/>
            <p:nvPr/>
          </p:nvSpPr>
          <p:spPr>
            <a:xfrm>
              <a:off x="4495680" y="2514600"/>
              <a:ext cx="838440" cy="12952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Box 10"/>
            <p:cNvSpPr/>
            <p:nvPr/>
          </p:nvSpPr>
          <p:spPr>
            <a:xfrm>
              <a:off x="2666880" y="2666880"/>
              <a:ext cx="5029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riodic full copy and conversion of mode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zonal seed used for nodal system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Rectangle 4"/>
          <p:cNvSpPr/>
          <p:nvPr/>
        </p:nvSpPr>
        <p:spPr>
          <a:xfrm>
            <a:off x="152280" y="1371600"/>
            <a:ext cx="762120" cy="1143000"/>
          </a:xfrm>
          <a:prstGeom prst="rect">
            <a:avLst/>
          </a:prstGeom>
          <a:solidFill>
            <a:srgbClr val="6699ff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13:37:36Z</dcterms:created>
  <dc:creator/>
  <dc:description/>
  <dc:language>en-US</dc:language>
  <cp:lastModifiedBy>mmereness</cp:lastModifiedBy>
  <dcterms:modified xsi:type="dcterms:W3CDTF">2009-05-28T22:02:14Z</dcterms:modified>
  <cp:revision>742</cp:revision>
  <dc:subject/>
  <dc:title>Texas Nodal Detailled Market Trials Planning Process 30 January 2007</dc:title>
</cp:coreProperties>
</file>