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4462C-6351-4755-8E7D-6BB65E54E6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A8ECA-FB2F-4AF5-92C7-A6CEBFC8D23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1E834-60ED-4E71-962F-60C391F8A59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32039-C927-451D-A32A-CA493AA337C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9C9F0-0A48-4FA3-BB85-14F1E9B2F75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FC571-D783-44A7-947A-7AE8507C3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3D2B9-73CD-46DA-8846-DBA4A42EA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3216E-4B0D-401C-9182-8509887BE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6EEAE-A4F6-43D3-B5A7-F6D467DD2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3A4E6-E4DE-45ED-A8B5-6A40694BA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E68FD-C09A-4D96-A1B7-6BC0FE64E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E12AF-E5C1-4C50-BD9B-AEF8B3937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B9DAF-CC44-4868-8836-48AC7F47B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42C30-4729-4354-A114-FB8417C9E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FE110-B042-4FA9-A271-10948C4F8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045D6-0C50-440E-BE47-A94811EB8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D7DE5-77CE-4FDD-B407-DD9EFD468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EB5A5-2EDA-49B1-AA65-9D6686726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B6A5F-015A-42C6-BAA4-87DF76991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6FA7E-B036-4301-A0E4-795BF6030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19661-2181-4A13-AE35-E4DD700AA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40ED9-804C-40C3-94AC-0C6BFF92C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2A2EC-615C-4DC6-B439-641965009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65ECF-D916-44F3-9559-DD422993B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2CFF4-2124-4909-86B6-58DF5C458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8F88D-062A-4A6D-A721-04ECEE4A3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B2936-7EBA-4EFB-8CE1-717C8EC74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D0D3E-8DF9-4EF4-B9A2-D25576F1F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A97E5-C7F4-41C8-ACB0-E0D510492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AEC3A-53FF-48D5-94C1-C138891CD40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E6C28-F690-4ED5-892D-D1C9456C156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3048120" y="3429000"/>
            <a:ext cx="3047760" cy="76320"/>
          </a:xfrm>
          <a:prstGeom prst="rect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9209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R.M.S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UPDATE</a:t>
            </a:r>
            <a:endParaRPr b="1" lang="en-US" sz="6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00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6/2/2009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Line 7"/>
          <p:cNvSpPr/>
          <p:nvPr/>
        </p:nvSpPr>
        <p:spPr>
          <a:xfrm>
            <a:off x="3048120" y="3581280"/>
            <a:ext cx="30477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AutoShape 5"/>
          <p:cNvSpPr/>
          <p:nvPr/>
        </p:nvSpPr>
        <p:spPr>
          <a:xfrm>
            <a:off x="4343400" y="3200400"/>
            <a:ext cx="457200" cy="457200"/>
          </a:xfrm>
          <a:prstGeom prst="pie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Voting Item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MGRR072, Clarification that ESI ID Count is for Active REP of Record in the CBCI Fil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e5e5ff"/>
                </a:solidFill>
                <a:uFillTx/>
                <a:latin typeface="Garamond"/>
              </a:rPr>
              <a:t>APPROVED: </a:t>
            </a:r>
            <a:r>
              <a:rPr b="1" lang="en-US" sz="1800" spc="-1" strike="noStrike">
                <a:solidFill>
                  <a:srgbClr val="e5e5ff"/>
                </a:solidFill>
                <a:latin typeface="Garamond"/>
              </a:rPr>
              <a:t>TAC Endorsement Required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MGRR073, Mass Transition of ESI ID Due to Acquisitio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e5e5ff"/>
                </a:solidFill>
                <a:uFillTx/>
                <a:latin typeface="Garamond"/>
              </a:rPr>
              <a:t>APPROVED: </a:t>
            </a:r>
            <a:r>
              <a:rPr b="1" lang="en-US" sz="1800" spc="-1" strike="noStrike">
                <a:solidFill>
                  <a:srgbClr val="e5e5ff"/>
                </a:solidFill>
                <a:latin typeface="Garamond"/>
              </a:rPr>
              <a:t>TAC Endorsement Required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MGRR074, Texas Data Transport Working Group and Market Metrics Working Group Merge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e5e5ff"/>
                </a:solidFill>
                <a:uFillTx/>
                <a:latin typeface="Garamond"/>
              </a:rPr>
              <a:t>APPROVED: </a:t>
            </a:r>
            <a:r>
              <a:rPr b="1" lang="en-US" sz="1800" spc="-1" strike="noStrike">
                <a:solidFill>
                  <a:srgbClr val="e5e5ff"/>
                </a:solidFill>
                <a:latin typeface="Garamond"/>
              </a:rPr>
              <a:t>TAC Endorsement Required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MGRR075, Advanced Meter Interval Data File Format and Submissio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e5e5ff"/>
                </a:solidFill>
                <a:uFillTx/>
                <a:latin typeface="Garamond"/>
              </a:rPr>
              <a:t>APPROVED: </a:t>
            </a:r>
            <a:r>
              <a:rPr b="1" lang="en-US" sz="1800" spc="-1" strike="noStrike">
                <a:solidFill>
                  <a:srgbClr val="e5e5ff"/>
                </a:solidFill>
                <a:latin typeface="Garamond"/>
              </a:rPr>
              <a:t>Impact Analysis at RMS in Jun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PRR805, Adding POLR Customer Class and AMS Meter Flag to the Database Query Function on the MIS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e5e5ff"/>
                </a:solidFill>
                <a:uFillTx/>
                <a:latin typeface="Garamond"/>
              </a:rPr>
              <a:t>APPROVED: </a:t>
            </a:r>
            <a:r>
              <a:rPr b="1" lang="en-US" sz="1800" spc="-1" strike="noStrike">
                <a:solidFill>
                  <a:srgbClr val="e5e5ff"/>
                </a:solidFill>
                <a:latin typeface="Garamond"/>
              </a:rPr>
              <a:t>RMS endorsed this PR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Texas Market Test Pla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e5e5ff"/>
                </a:solidFill>
                <a:uFillTx/>
                <a:latin typeface="Garamond"/>
              </a:rPr>
              <a:t>APPROVED: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0" y="1219320"/>
            <a:ext cx="6858000" cy="7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Line 5"/>
          <p:cNvSpPr/>
          <p:nvPr/>
        </p:nvSpPr>
        <p:spPr>
          <a:xfrm>
            <a:off x="0" y="1371600"/>
            <a:ext cx="6858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AutoShape 6"/>
          <p:cNvSpPr/>
          <p:nvPr/>
        </p:nvSpPr>
        <p:spPr>
          <a:xfrm>
            <a:off x="6705720" y="990720"/>
            <a:ext cx="457200" cy="457200"/>
          </a:xfrm>
          <a:prstGeom prst="pie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Line 7"/>
          <p:cNvSpPr/>
          <p:nvPr/>
        </p:nvSpPr>
        <p:spPr>
          <a:xfrm>
            <a:off x="914400" y="3733920"/>
            <a:ext cx="7467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Subcommittee Updat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010 PP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arkeTrak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New MTTF Leadership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ask 145 Updat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Meeting 5/28/09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OLR Rule Update (Project 35769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EXAS SET Discussing Impac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xpedited Switching Update (Project 36536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pproved at June 2</a:t>
            </a:r>
            <a:r>
              <a:rPr b="1" lang="en-US" sz="2800" spc="-1" strike="noStrike" baseline="30000">
                <a:solidFill>
                  <a:srgbClr val="ffffff"/>
                </a:solidFill>
                <a:latin typeface="Garamond"/>
              </a:rPr>
              <a:t>nd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PUCT Open Meeting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0" y="1219320"/>
            <a:ext cx="6858000" cy="7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Line 5"/>
          <p:cNvSpPr/>
          <p:nvPr/>
        </p:nvSpPr>
        <p:spPr>
          <a:xfrm>
            <a:off x="0" y="1371600"/>
            <a:ext cx="6858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AutoShape 6"/>
          <p:cNvSpPr/>
          <p:nvPr/>
        </p:nvSpPr>
        <p:spPr>
          <a:xfrm>
            <a:off x="6705720" y="990720"/>
            <a:ext cx="457200" cy="457200"/>
          </a:xfrm>
          <a:prstGeom prst="pie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533520" y="1600200"/>
          <a:ext cx="7924680" cy="4981680"/>
        </p:xfrm>
        <a:graphic>
          <a:graphicData uri="http://schemas.openxmlformats.org/drawingml/2006/table">
            <a:tbl>
              <a:tblPr/>
              <a:tblGrid>
                <a:gridCol w="3232080"/>
                <a:gridCol w="2031840"/>
                <a:gridCol w="266076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  <a:ea typeface="Arial"/>
                        </a:rPr>
                        <a:t>Execution Mileston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5374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  <a:ea typeface="Arial"/>
                        </a:rPr>
                        <a:t>Baseline Da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5374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  <a:ea typeface="Arial"/>
                        </a:rPr>
                        <a:t>Stat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5374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orbel"/>
                          <a:ea typeface="Arial"/>
                        </a:rPr>
                        <a:t>Technical Architecture Comple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orbel"/>
                          <a:ea typeface="Arial"/>
                        </a:rPr>
                        <a:t>05/15/200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orbel"/>
                          <a:ea typeface="Arial"/>
                        </a:rPr>
                        <a:t>On Schedu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orbel"/>
                          <a:ea typeface="Arial"/>
                        </a:rPr>
                        <a:t>Development  Comple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orbel"/>
                          <a:ea typeface="Arial"/>
                        </a:rPr>
                        <a:t>07/24/200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orbel"/>
                          <a:ea typeface="Arial"/>
                        </a:rPr>
                        <a:t>On Schedu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orbel"/>
                          <a:ea typeface="Arial"/>
                        </a:rPr>
                        <a:t>Detailed Designs Comple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orbel"/>
                          <a:ea typeface="Arial"/>
                        </a:rPr>
                        <a:t>08/11/200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orbel"/>
                          <a:ea typeface="Arial"/>
                        </a:rPr>
                        <a:t>On Schedu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orbel"/>
                          <a:ea typeface="Arial"/>
                        </a:rPr>
                        <a:t>pTest Comple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orbel"/>
                          <a:ea typeface="Arial"/>
                        </a:rPr>
                        <a:t>08/11/200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orbel"/>
                          <a:ea typeface="Arial"/>
                        </a:rPr>
                        <a:t>On Schedu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orbel"/>
                          <a:ea typeface="Arial"/>
                        </a:rPr>
                        <a:t>iTest Comple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orbel"/>
                          <a:ea typeface="Arial"/>
                        </a:rPr>
                        <a:t>11/06/200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orbel"/>
                          <a:ea typeface="Arial"/>
                        </a:rPr>
                        <a:t>On Schedu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orbel"/>
                          <a:ea typeface="Arial"/>
                        </a:rPr>
                        <a:t>Market Test Comple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orbel"/>
                          <a:ea typeface="Arial"/>
                        </a:rPr>
                        <a:t>11/06/200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orbel"/>
                          <a:ea typeface="Arial"/>
                        </a:rPr>
                        <a:t>On Schedu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  <a:ea typeface="Arial"/>
                        </a:rPr>
                        <a:t>Go Li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  <a:ea typeface="Arial"/>
                        </a:rPr>
                        <a:t>11/14/2009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Corbel"/>
                          <a:ea typeface="Arial"/>
                        </a:rPr>
                        <a:t>(off-cycle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orbel"/>
                          <a:ea typeface="Arial"/>
                        </a:rPr>
                        <a:t>On Schedu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51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Corbel"/>
                          <a:ea typeface="Arial"/>
                        </a:rPr>
                        <a:t>Go Live (Contingency Date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Corbel"/>
                          <a:ea typeface="Arial"/>
                        </a:rPr>
                        <a:t>12/12/200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orbel"/>
                          <a:ea typeface="Arial"/>
                        </a:rPr>
                        <a:t>Stabilization Comple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orbel"/>
                          <a:ea typeface="Arial"/>
                        </a:rPr>
                        <a:t>03/19/20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orbel"/>
                          <a:ea typeface="Arial"/>
                        </a:rPr>
                        <a:t>Project Comple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orbel"/>
                          <a:ea typeface="Arial"/>
                        </a:rPr>
                        <a:t>05/21/20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Rectangle 5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MARS TF Updat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Rectangle 56"/>
          <p:cNvSpPr/>
          <p:nvPr/>
        </p:nvSpPr>
        <p:spPr>
          <a:xfrm>
            <a:off x="0" y="1219320"/>
            <a:ext cx="6858000" cy="7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Line 57"/>
          <p:cNvSpPr/>
          <p:nvPr/>
        </p:nvSpPr>
        <p:spPr>
          <a:xfrm>
            <a:off x="0" y="1371600"/>
            <a:ext cx="6858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AutoShape 58"/>
          <p:cNvSpPr/>
          <p:nvPr/>
        </p:nvSpPr>
        <p:spPr>
          <a:xfrm>
            <a:off x="6705720" y="990720"/>
            <a:ext cx="457200" cy="457200"/>
          </a:xfrm>
          <a:prstGeom prst="pie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16:19:53Z</dcterms:created>
  <dc:creator>Windows XP ver. 2.2</dc:creator>
  <dc:description/>
  <dc:language>en-US</dc:language>
  <cp:lastModifiedBy>Windows XP ver. 2.2</cp:lastModifiedBy>
  <dcterms:modified xsi:type="dcterms:W3CDTF">2009-06-03T16:28:12Z</dcterms:modified>
  <cp:revision>10</cp:revision>
  <dc:subject/>
  <dc:title>R.M.S UPDATE</dc:title>
</cp:coreProperties>
</file>