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7CF41-B38E-46A2-AEA3-906321F9C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3563A-2F24-4FC6-8D99-19290955D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99850-F5A3-43FF-A803-A0C0F4BCA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75480-3299-4AEA-AEB2-B73CA3254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11602-BAC0-4C92-917A-7D8A9EC7A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C787B-743A-4362-9F4A-8D6CDB110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21D67-7AE7-4C8B-B00B-BE6A26AB3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9066B-C53F-4C01-98F5-9EE629324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579B4-F51B-4F5F-829A-F87394EDF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FF839-7DD5-4FFD-906F-B93B465E9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36AB0-EB35-4518-A5F4-D88D6DEDB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7B7DC-985B-4794-90F9-1FFCA57A1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34197-144A-43F8-A1B5-56E08B7DB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65478-6BDE-442D-B1BD-5660E3A40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63DBB-875E-4EEE-8A4A-6EFC45BAA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76E78-FBA8-4764-9135-6A6E0D584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8F7D8-77B4-4E7D-918D-E3A1A9104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46AD0-D4D4-426A-ADCA-5D88CEA01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2296F-460E-4C04-9353-C7C06EC3D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17EBA-482B-4BBF-9151-F5DFB586E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92100-C5AF-4655-8592-D3B5DA4C8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AE958-FA87-4EC6-A8F1-B841D0FE2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BA2E3-0B3A-4445-A3D6-6EFF9AED3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337A2-CEE0-41A9-BB3A-F682B9AC6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CA153-0ACF-4DFD-91E6-224C7DC7C8C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FB002-D4B4-4E69-881F-7B126AB23EF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762120" y="914400"/>
            <a:ext cx="7848360" cy="42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Commercial Operations </a:t>
            </a:r>
            <a:br>
              <a:rPr sz="5400"/>
            </a:b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Subcommittee</a:t>
            </a:r>
            <a:br>
              <a:rPr sz="5400"/>
            </a:b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 Update to TAC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June 4, 2009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ffff00"/>
                </a:solidFill>
                <a:uFillTx/>
                <a:latin typeface="Times New Roman"/>
              </a:rPr>
              <a:t>Voting Item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OPMGRR011, Updates to include the implementation of Project Number 7006-02 Website Enhancements for ERCOT Outag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mpact Analysis and Recommendation Re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Annual Validation update to the Profile Decision Tree Revis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1676520"/>
            <a:ext cx="73152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Times New Roman"/>
              </a:rPr>
              <a:t>Questions ?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 u="sng">
                <a:solidFill>
                  <a:srgbClr val="ffff00"/>
                </a:solidFill>
                <a:uFillTx/>
                <a:latin typeface="Times New Roman"/>
              </a:rPr>
              <a:t>Highlights of May 12</a:t>
            </a:r>
            <a:r>
              <a:rPr b="0" lang="en-US" sz="3800" spc="-1" strike="noStrike" u="sng" baseline="30000">
                <a:solidFill>
                  <a:srgbClr val="ffff00"/>
                </a:solidFill>
                <a:uFillTx/>
                <a:latin typeface="Times New Roman"/>
              </a:rPr>
              <a:t>th</a:t>
            </a:r>
            <a:r>
              <a:rPr b="0" lang="en-US" sz="3800" spc="-1" strike="noStrike" u="sng">
                <a:solidFill>
                  <a:srgbClr val="ffff00"/>
                </a:solidFill>
                <a:uFillTx/>
                <a:latin typeface="Times New Roman"/>
              </a:rPr>
              <a:t> COPS Meeting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COPS Communication W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PMGRR011, Updates to include the implementation of Project Number 7006-02 Website Enhancements for ERCOT Outag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pproved IA and Recommendation Repor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SzPct val="12351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AC  voting It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SzPct val="12351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anges Guide to reflect the process ERCOT will follow when communicating unplanned Retail and Wholesale System Outages to the Market and some administrative cleanu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SzPct val="12351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planned Outages and Extract Issues will be identified on ERCOT.com under “View Data And Reports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SzPct val="12351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red flag icon will appear to the right of the “Notices” header when an ERCOT Retail or Wholesale system is currently unavailable or there is an extract issu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SzPct val="12351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scribes when a System Generated Market Notice versus a non-System Generated Notice will be used and shows samp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 u="sng">
                <a:solidFill>
                  <a:srgbClr val="ffff00"/>
                </a:solidFill>
                <a:uFillTx/>
                <a:latin typeface="Times New Roman"/>
              </a:rPr>
              <a:t>Highlights of May 12</a:t>
            </a:r>
            <a:r>
              <a:rPr b="0" lang="en-US" sz="3800" spc="-1" strike="noStrike" u="sng" baseline="30000">
                <a:solidFill>
                  <a:srgbClr val="ffff00"/>
                </a:solidFill>
                <a:uFillTx/>
                <a:latin typeface="Times New Roman"/>
              </a:rPr>
              <a:t>th</a:t>
            </a:r>
            <a:r>
              <a:rPr b="0" lang="en-US" sz="3800" spc="-1" strike="noStrike" u="sng">
                <a:solidFill>
                  <a:srgbClr val="ffff00"/>
                </a:solidFill>
                <a:uFillTx/>
                <a:latin typeface="Times New Roman"/>
              </a:rPr>
              <a:t> COPS Meeting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COPS Communication W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CR755, ERCOT Website Improve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CR includes a list of improvements to be made to the ERCOT webs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se improvements were created as a result of the 2008 Market Participant Surve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commendation Report, IA and CB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abled till next mont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SzPct val="111089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eed CEO approval due to Nodal resource impa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SzPct val="111089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A and CBA sent to COPS late Monda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 u="sng">
                <a:solidFill>
                  <a:srgbClr val="ffff00"/>
                </a:solidFill>
                <a:uFillTx/>
                <a:latin typeface="Times New Roman"/>
              </a:rPr>
              <a:t>Highlights of May 12</a:t>
            </a:r>
            <a:r>
              <a:rPr b="0" lang="en-US" sz="3800" spc="-1" strike="noStrike" u="sng" baseline="30000">
                <a:solidFill>
                  <a:srgbClr val="ffff00"/>
                </a:solidFill>
                <a:uFillTx/>
                <a:latin typeface="Times New Roman"/>
              </a:rPr>
              <a:t>th</a:t>
            </a:r>
            <a:r>
              <a:rPr b="0" lang="en-US" sz="3800" spc="-1" strike="noStrike" u="sng">
                <a:solidFill>
                  <a:srgbClr val="ffff00"/>
                </a:solidFill>
                <a:uFillTx/>
                <a:latin typeface="Times New Roman"/>
              </a:rPr>
              <a:t> COPS Meeting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Profile W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Annual Validation update to the Profile Decision Tree Revi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Approv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TAC Voting I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SzPct val="111089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hanges only related to usage windo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SzPct val="111089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009 Annual update approval schedul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WG approval Apri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PS approval Ma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AC approval Ju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ist to TDSP June 30 as required in LP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 u="sng">
                <a:solidFill>
                  <a:srgbClr val="ffff00"/>
                </a:solidFill>
                <a:uFillTx/>
                <a:latin typeface="Times New Roman"/>
              </a:rPr>
              <a:t>Highlights of May 12</a:t>
            </a:r>
            <a:r>
              <a:rPr b="0" lang="en-US" sz="3800" spc="-1" strike="noStrike" u="sng" baseline="30000">
                <a:solidFill>
                  <a:srgbClr val="ffff00"/>
                </a:solidFill>
                <a:uFillTx/>
                <a:latin typeface="Times New Roman"/>
              </a:rPr>
              <a:t>th</a:t>
            </a:r>
            <a:r>
              <a:rPr b="0" lang="en-US" sz="3800" spc="-1" strike="noStrike" u="sng">
                <a:solidFill>
                  <a:srgbClr val="ffff00"/>
                </a:solidFill>
                <a:uFillTx/>
                <a:latin typeface="Times New Roman"/>
              </a:rPr>
              <a:t> COPS Meeting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Settlement &amp; Extracts W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NPRR158, EILS Self Provision Formula Correction and Clarifi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Approv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Goes to P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ERCOT drafted PRR 115 and NPRR 158 to incorporate Self Provision in the settlement of EI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ERCOT subsequently recognized errors in settlement equations and went back to working groups to draft language and cor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PRR 115 was approved, NPRR 158 was tabled for PRR 786 which addressed added resettlement in place of a single settlement of EI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ffff00"/>
                </a:solidFill>
                <a:uFillTx/>
                <a:latin typeface="Times New Roman"/>
              </a:rPr>
              <a:t>Highlights of May 12</a:t>
            </a:r>
            <a:r>
              <a:rPr b="0" lang="en-US" sz="4200" spc="-1" strike="noStrike" u="sng" baseline="30000">
                <a:solidFill>
                  <a:srgbClr val="ffff00"/>
                </a:solidFill>
                <a:uFillTx/>
                <a:latin typeface="Times New Roman"/>
              </a:rPr>
              <a:t>th</a:t>
            </a:r>
            <a:r>
              <a:rPr b="0" lang="en-US" sz="4200" spc="-1" strike="noStrike" u="sng">
                <a:solidFill>
                  <a:srgbClr val="ffff00"/>
                </a:solidFill>
                <a:uFillTx/>
                <a:latin typeface="Times New Roman"/>
              </a:rPr>
              <a:t> COPS Meeting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Settlement &amp; Extracts W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Draft PRR, Stop late Fee for Defaulted Q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ERCOT will subm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COPS endorsed concept of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Stop paying Late Fe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$50k floor quarterly (cumulative) before distributing fun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ERCOT may hold back up to 5%  of security and use those funds to pay minor Final, True Up and other Invoices as they come du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 u="sng">
                <a:solidFill>
                  <a:srgbClr val="ffff00"/>
                </a:solidFill>
                <a:uFillTx/>
                <a:latin typeface="Times New Roman"/>
              </a:rPr>
              <a:t>Highlights of May 12</a:t>
            </a:r>
            <a:r>
              <a:rPr b="0" lang="en-US" sz="3800" spc="-1" strike="noStrike" u="sng" baseline="30000">
                <a:solidFill>
                  <a:srgbClr val="ffff00"/>
                </a:solidFill>
                <a:uFillTx/>
                <a:latin typeface="Times New Roman"/>
              </a:rPr>
              <a:t>th</a:t>
            </a:r>
            <a:r>
              <a:rPr b="0" lang="en-US" sz="3800" spc="-1" strike="noStrike" u="sng">
                <a:solidFill>
                  <a:srgbClr val="ffff00"/>
                </a:solidFill>
                <a:uFillTx/>
                <a:latin typeface="Times New Roman"/>
              </a:rPr>
              <a:t> COPS Meeting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RS T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MGRR075, Advanced Meter Interval Data File Format and Submi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SzPct val="111089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PS endorsed RMGRR075 with ERCOT comment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SzPct val="111089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poses two grammatical chang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SzPct val="111089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pports TDSPs on discontinuing posting interval data to their FTP sites after functionality is available on Common Web Port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SzPct val="111089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scussed timing requirement for TDSPs having their settlement quality interval data posted to the FTP si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SzPct val="111089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scussed changing the timeline from 12pm to 5pm, but did not make a motion for that chan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SzPct val="111089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PS defers to the expertise at RMS regarding this time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 u="sng">
                <a:solidFill>
                  <a:srgbClr val="ffff00"/>
                </a:solidFill>
                <a:uFillTx/>
                <a:latin typeface="Times New Roman"/>
              </a:rPr>
              <a:t>Highlights of May 12</a:t>
            </a:r>
            <a:r>
              <a:rPr b="0" lang="en-US" sz="3800" spc="-1" strike="noStrike" u="sng" baseline="30000">
                <a:solidFill>
                  <a:srgbClr val="ffff00"/>
                </a:solidFill>
                <a:uFillTx/>
                <a:latin typeface="Times New Roman"/>
              </a:rPr>
              <a:t>th</a:t>
            </a:r>
            <a:r>
              <a:rPr b="0" lang="en-US" sz="3800" spc="-1" strike="noStrike" u="sng">
                <a:solidFill>
                  <a:srgbClr val="ffff00"/>
                </a:solidFill>
                <a:uFillTx/>
                <a:latin typeface="Times New Roman"/>
              </a:rPr>
              <a:t> COPS Meeting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IE Settlement of Distributed Renewable Gene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reated Task For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RCOT requested clarity pertaining to wholesale settlements of DRG with a design capacity equal to or greater than 50kW and less than 1 MW and located behind NOIE boundary metering poi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vestigate gaps in market for NOIE and present recommendations to CO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PS to provide guidance to ERCO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RCOT sent out TF invite to COPS listser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une 1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s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meeting at ERC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 u="sng">
                <a:solidFill>
                  <a:srgbClr val="ffff00"/>
                </a:solidFill>
                <a:uFillTx/>
                <a:latin typeface="Times New Roman"/>
              </a:rPr>
              <a:t>Highlights of May 12</a:t>
            </a:r>
            <a:r>
              <a:rPr b="0" lang="en-US" sz="3800" spc="-1" strike="noStrike" u="sng" baseline="30000">
                <a:solidFill>
                  <a:srgbClr val="ffff00"/>
                </a:solidFill>
                <a:uFillTx/>
                <a:latin typeface="Times New Roman"/>
              </a:rPr>
              <a:t>th</a:t>
            </a:r>
            <a:r>
              <a:rPr b="0" lang="en-US" sz="3800" spc="-1" strike="noStrike" u="sng">
                <a:solidFill>
                  <a:srgbClr val="ffff00"/>
                </a:solidFill>
                <a:uFillTx/>
                <a:latin typeface="Times New Roman"/>
              </a:rPr>
              <a:t> COPS Meeting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Prioritization Schedu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viewed 2010 proje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ote to rank and prioritize at June CO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7b46d0"/>
              </a:buClr>
              <a:buSzPct val="9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eb-enabled Regist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7b46d0"/>
              </a:buClr>
              <a:buSzPct val="9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CR755. ERCOT Website Enhancement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7b46d0"/>
              </a:buClr>
              <a:buSzPct val="9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erifiable Cost Management System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7b46d0"/>
              </a:buClr>
              <a:buSzPct val="9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RCOT.com CMS Replacemen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7b46d0"/>
              </a:buClr>
              <a:buSzPct val="9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hancements to API for Disput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7b46d0"/>
              </a:buClr>
              <a:buSzPct val="9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PS Meter DB Redesig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7b46d0"/>
              </a:buClr>
              <a:buSzPct val="9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ILS Autom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7T15:17:58Z</dcterms:created>
  <dc:creator>lstarr</dc:creator>
  <dc:description/>
  <dc:language>en-US</dc:language>
  <cp:lastModifiedBy>Chuck Moore</cp:lastModifiedBy>
  <dcterms:modified xsi:type="dcterms:W3CDTF">2009-05-26T17:38:33Z</dcterms:modified>
  <cp:revision>6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824393536</vt:r8>
  </property>
  <property fmtid="{D5CDD505-2E9C-101B-9397-08002B2CF9AE}" pid="3" name="_AuthorEmail">
    <vt:lpwstr>Chuck.Moore@directenergy.com</vt:lpwstr>
  </property>
  <property fmtid="{D5CDD505-2E9C-101B-9397-08002B2CF9AE}" pid="4" name="_AuthorEmailDisplayName">
    <vt:lpwstr>Moore, Chuck</vt:lpwstr>
  </property>
  <property fmtid="{D5CDD505-2E9C-101B-9397-08002B2CF9AE}" pid="5" name="_EmailSubject">
    <vt:lpwstr>COPS update to June 4th TAC</vt:lpwstr>
  </property>
  <property fmtid="{D5CDD505-2E9C-101B-9397-08002B2CF9AE}" pid="6" name="_NewReviewCycle">
    <vt:lpwstr/>
  </property>
</Properties>
</file>