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D72B-4FD7-40AE-8C4D-9811FE31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1F4F-C230-487D-8F33-BB3EB12E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7994-0302-499B-B4FC-D5DE33FB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07B0-F447-4BF9-BC89-7DDC870B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E00F-04F8-45A5-B50F-BB9A2748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0A69-6164-439C-B899-5D22014E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4CDA-6B37-4708-BB54-651237A2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48B1-10E0-4252-9881-9BE1506D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F6BC-9CA4-48CF-BFFC-A64F9CB7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B656-1E7C-411F-9C19-639DCF62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F643-E63F-4E21-8BCA-AB56E914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27F4-D8DB-4CE6-8912-70409125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07A6-E072-4EE7-AD12-10FE36DAF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2580-D313-4786-A4EF-4889C0DF0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09 Long-term Demand and Energy Forecast (LTDEF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pacity, Demand and Reserves (CDR) Calculation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an Woodfi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irector, System Planning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6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TDEF Mode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ng-term Demand and Energy Forecast is based on a set of econometric models describing the hourly load in the region (by weather zone) as a function of certain economic and weather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and demographic data, including a county level forecast, are obtained on a monthly basis from Moody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cast is based on “normal” wea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LTDEF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2600" y="708120"/>
            <a:ext cx="9163080" cy="545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LTDEF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0600" y="727200"/>
            <a:ext cx="8501040" cy="549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ample Economic Drivers used in 2009 LTDEF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429" t="2400" r="1429" b="1200"/>
          <a:stretch/>
        </p:blipFill>
        <p:spPr>
          <a:xfrm>
            <a:off x="353880" y="762120"/>
            <a:ext cx="4476960" cy="264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1551" t="2394" r="7755" b="1197"/>
          <a:stretch/>
        </p:blipFill>
        <p:spPr>
          <a:xfrm>
            <a:off x="4944960" y="776160"/>
            <a:ext cx="4113360" cy="264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1541" t="2400" r="1541" b="1200"/>
          <a:stretch/>
        </p:blipFill>
        <p:spPr>
          <a:xfrm>
            <a:off x="392040" y="3440160"/>
            <a:ext cx="4430880" cy="2801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1551" t="2400" r="7755" b="1200"/>
          <a:stretch/>
        </p:blipFill>
        <p:spPr>
          <a:xfrm>
            <a:off x="4956120" y="3448080"/>
            <a:ext cx="4125960" cy="2765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16640" y="3672720"/>
            <a:ext cx="276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tal Non-Farm Employ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7600" y="3634560"/>
            <a:ext cx="28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ss Domestic 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1720" y="936000"/>
            <a:ext cx="27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6120" y="904320"/>
            <a:ext cx="318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l Personal Per-Capita Incom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DR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4360" y="912960"/>
            <a:ext cx="8836200" cy="497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ATF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need to revise rules for CDR calculation based on new technology types and changed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will undertake new Loss of Load Probability (LOLP) study later this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et reserve margin target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et effective load-carrying capability (ELCC) of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ggest waiting to resurrect GATF until late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simultaneous consideration of LOLP study and any other CD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recommendation in time for April 2010 NERC Summer Assessment submission and May 2010 ERCOT CD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24160" y="224784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an Woodfin - ERCOT</cp:lastModifiedBy>
  <dcterms:modified xsi:type="dcterms:W3CDTF">2009-06-01T18:31:29Z</dcterms:modified>
  <cp:revision>76</cp:revision>
  <dc:subject/>
  <dc:title>Instructions</dc:title>
</cp:coreProperties>
</file>