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B70B-85EF-4B6B-BA11-5CD678B0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3770-83AB-4BB8-98B6-C3BE979F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99F4-009B-49AB-AA7F-2A202AB9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5300-8E5E-459D-8CE6-6E21C469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C441-7E48-467D-BC42-AD6AA9EE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CC93-9C67-40B3-B7FA-F7A29A92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9944-0F38-4072-A3EF-A97F0A68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2DE2-E840-44FC-A93B-3C1F9258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4B98-4F83-4F2A-A8CF-20B9CE2D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BE2A-B2A2-4C10-AA35-C2F5262D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042D-0467-4B5D-80D2-7F250CD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D645-212D-44B3-BEE6-9D6B2656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DF4A-0C40-4A01-A393-B6F871DD5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4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FD1C-4F51-41DE-8040-07E892467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4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ne 4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R 776 Implementation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ohn Dum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icing Impa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ring same period last year - 5/22/08 through 6/1/2008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average price was $59.86.  If 5/30/08 is removed this value becomes $8.39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dollars spent from 5/22/2008 through 6/1/2008 is  $9,564,412.28.  Removing 5/30/2008, this becomes $1,226,209.4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ring 5/22/09 through 6/1/2009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average price was $2.2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dollars spent from 5/22/2009 through 6/1/2009 is $775,418.85.  This will include one more day of spending when compared to the $1,226,209.48 ab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4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SRS Availab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verage percent of the NSRS Requirement from Quick Start units &amp; Virtual units – 34.64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virtual units who have a total capability of 70 M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rcent of NSRS requirement that is provided from BESCNSRS appears to be increa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had intervals during which Quick Start units providing BESCNSRS were struck in Balancing and thus increased online rese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30 minute Non-Spin deployments have occurred since implement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4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4:43:34Z</dcterms:created>
  <dc:creator>Chad Thompson</dc:creator>
  <dc:description/>
  <dc:language>en-US</dc:language>
  <cp:lastModifiedBy>balbracht</cp:lastModifiedBy>
  <dcterms:modified xsi:type="dcterms:W3CDTF">2009-06-03T22:42:24Z</dcterms:modified>
  <cp:revision>55</cp:revision>
  <dc:subject/>
  <dc:title>Instructions</dc:title>
</cp:coreProperties>
</file>