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EB6-362B-41CF-8E1F-563EFE44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F0B-643B-489A-BC14-01AD1202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A96-852D-4B75-8C9C-3CC6E1AD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71A-2B7E-441D-9039-C6E09133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4606-1115-415C-8616-E09E8F10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2312-E712-41F6-AC8A-8BA42137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5191-92C2-45EB-A7E3-A2AEC1DB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36BF-F80A-4751-91F1-1F486B09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F5A5-16FA-4DEA-9BC3-AD0082FA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0C33-96E2-4FFD-8553-BC092F7D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3953-3EBA-4F0D-821A-B4F1066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E2F-5176-4F27-A382-2B93DFDB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79DE-9CE1-4FCA-B087-94A97C70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8484-0725-464F-B517-8E7866B3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C16B-D02B-4195-B991-B471F1FF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2F49-F72D-442F-BEF0-06F4D311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42A7-47D6-4B16-A0DE-9A3F78AD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8FE-D6AA-4A53-91FA-0E76511E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563-BCC0-4600-BD16-BD430667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478-5862-4AEA-9AB1-D440DA23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CC0-D173-4362-A463-6B583DE8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EF8-D542-4432-B105-53BBB57C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028-684B-4945-BC88-153B9DA8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366-F050-4941-964E-5A9D2C78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C512-9A03-4A9F-9B3D-9D4CC2DEA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9651-AE36-4F8A-B043-4FD20E915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OS Consideration of PRR 78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Violation Language to QSE Performanc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14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R 787- Add Violation Language to QSE Performance Standar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Discussion Items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rify non-compliance remedies concerning SCPS2 me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s the SCPS2 exem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the metric from a 6 month to 12 month cal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ous ROS Action- on 4/16, ROS endorsed PRR787 as amended by the 4/8/09 PUCT/TRE comments and the 4/16/09 Luminant comments and as revised by R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 Again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4/23 PRS meeting, concerns arose because new TRE and PUCT Staff comments were filed after the ROS vote and CPS had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Comments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S on 0423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CT and TRE Staff on 0511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minant on 051309  (clarifying PUCT &amp; TRE Staff comments filed on 0511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in Issues For ROS Consider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 &amp; PUCT Staff’s actions for non-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Tab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ed forced de-rates and startup failures with reporting and documentation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Metric be a 6 months or 12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pon a QSE’s first (1st) failure of the SCE Monitoring Criteria as described in Section 6.10.5.3, SCE Monitoring Criteria, within a rolling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welve or six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month period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547640" y="0"/>
            <a:ext cx="6048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42:56Z</dcterms:created>
  <dc:creator>Registered User</dc:creator>
  <dc:description/>
  <dc:language>en-US</dc:language>
  <cp:lastModifiedBy>Registered User</cp:lastModifiedBy>
  <dcterms:modified xsi:type="dcterms:W3CDTF">2009-05-14T00:31:20Z</dcterms:modified>
  <cp:revision>7</cp:revision>
  <dc:subject/>
  <dc:title>ROS Consideration of PRR 787</dc:title>
</cp:coreProperties>
</file>