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86C95-91C5-48CA-9DB8-3AAEFB13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4C21F-66D1-4AC1-9FB1-0BC61812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8B220-9B74-4702-919F-197C0268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10EA1-851C-42A8-A2C9-39CFC2E3B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51CE6-B62C-4894-9F94-8A65600F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401B1-31B0-4196-B74F-CA27077F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9FAC7-09B5-4B7E-8F83-575CC0B1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2B066-03C4-4BA6-B837-E634EF42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AE1FB-5006-4E59-BA98-0AF432A7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8D65B-3334-4D65-BE1C-4C608BA7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14108-8829-48D7-BC4F-5F5698FA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DFAF1-6586-4513-93AB-3F5067B8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4F17-DB3E-4F7E-9837-6FC526B9E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3EA1-BF6E-470E-BB5D-BE663376C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28880" y="1904760"/>
            <a:ext cx="637704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010 Project Prioritizati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38240" y="3580920"/>
            <a:ext cx="5757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Program Management Offi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pril 9, 2009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roject Prioritization Schedu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ril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s develop draft 2010 project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est and incorporate input from the mar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year project forecast referenced and upd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eview at Market Subcommittee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y 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y 1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y 14 / May 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 by market subcommitt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11 / June 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, IO, MO, RO, SO – P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1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ly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 by T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uly 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for F&amp;A and Board re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uly 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66B6C-4CA6-46B0-BED1-C5FAFC1C72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roject Prioritization – Additional Elemen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hanced Information on Funding and Project Prioritization Will Be Provided as We Move Through the Review and Approval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to feedback from 2008 ERCOT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nyone has specific requests in this area please bring them for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derson@erco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BA Rev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neration version of form to be int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 enhancements identified over the past 2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highlighting if a project is due to a legislative or PUCT policy requi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 CBA training materials being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2FED9-1BCF-458D-A26A-AF25701A55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roject Priorit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60195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34469-6511-4F96-9BEF-87C85810C4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roy Anderson</cp:lastModifiedBy>
  <dcterms:modified xsi:type="dcterms:W3CDTF">2009-04-06T22:16:40Z</dcterms:modified>
  <cp:revision>227</cp:revision>
  <dc:subject/>
  <dc:title>Instructions</dc:title>
</cp:coreProperties>
</file>