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D3F2-1E31-480C-A5A1-C4C281F6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5280-813F-4FA5-A745-FF682837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3040-BD67-4459-80FA-69DDCC1B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83C9-99C5-4D4E-92CE-B72A68CE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FEE8-407A-46E8-9871-2C2A3F10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A11D-3284-4C1A-A87B-3018CCE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43FB-84DD-470C-A62C-245D8BC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B222-FCBB-4C74-A18F-6DB4AFB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E543-8C86-40F1-8849-93E9867C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0325-5274-44E9-B8B2-6EFC503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917A-5B41-47D9-B62B-382FB0E3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E1A7-5AFB-49F9-84B4-A7AE01A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54C4-B317-4F68-BDAD-D59A72762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0435-0F34-443D-ADF3-E53A9EED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33720" y="5486400"/>
          <a:ext cx="6248160" cy="750960"/>
        </p:xfrm>
        <a:graphic>
          <a:graphicData uri="http://schemas.openxmlformats.org/drawingml/2006/table">
            <a:tbl>
              <a:tblPr/>
              <a:tblGrid>
                <a:gridCol w="1114200"/>
                <a:gridCol w="893880"/>
                <a:gridCol w="893880"/>
                <a:gridCol w="1189080"/>
                <a:gridCol w="966600"/>
                <a:gridCol w="119052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52280" y="52578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ment quality, net doll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last 13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ongested elements - Apr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 -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last 13 months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last 13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last 13 months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last 13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last 13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 last 13 month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5334120"/>
          <a:ext cx="8839080" cy="728640"/>
        </p:xfrm>
        <a:graphic>
          <a:graphicData uri="http://schemas.openxmlformats.org/drawingml/2006/table">
            <a:tbl>
              <a:tblPr/>
              <a:tblGrid>
                <a:gridCol w="92232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Apri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143000"/>
          <a:ext cx="8305920" cy="4889520"/>
        </p:xfrm>
        <a:graphic>
          <a:graphicData uri="http://schemas.openxmlformats.org/drawingml/2006/table">
            <a:tbl>
              <a:tblPr/>
              <a:tblGrid>
                <a:gridCol w="3581280"/>
                <a:gridCol w="289584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 - Santa Anna 138kV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 - Humble 69kV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438,750.4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Security - Vall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718,466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tton S/HC T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ou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948,231.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dale Switch - Prairie Creek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irie Creek – Prairie Creek Swit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649,262.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70,191.67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66,194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bilene - Eskota 138kV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 - Merkel 69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66,04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gan Creek SES - Odess EHV &amp; Quail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Spring Switch - Big Spring West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13.597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1/T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2/T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401,891.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DFW area 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 Hill - Pawnee ou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kton-Fowsaw out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368,054.91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5-14T00:41:31Z</dcterms:modified>
  <cp:revision>66</cp:revision>
  <dc:subject/>
  <dc:title>Instructions</dc:title>
</cp:coreProperties>
</file>