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100D3-DEA1-46FB-9663-597009235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67B3B-C365-4654-976A-820EE5C6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92C53-116C-4A91-82DE-D8F8FD43A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3CB63-BBC7-4CF2-B822-B79B2646A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16A59-452E-4C6A-AFFC-595FDEA0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E3EAA-2548-4D35-802A-C50DB0C0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07B3D-1828-4391-9F72-7CC7657C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E2B7D-6E87-405F-870C-4BA214D1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7ACFF-BB62-4472-9A3E-82FA88C0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E8674-459F-4C8D-BED7-C342B713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426CA-4885-434B-826C-5A5B3BA8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57E5E-4E06-4835-87C8-930CF11E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A5F5-56D7-43AE-B6F2-345640344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PG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1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7501-C3DD-4D80-ABF1-42E0290A2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y 15,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PG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2333520" y="5467320"/>
            <a:ext cx="6276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RCOT RMR Study for Luminant NSO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Jay Teixeir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lternatives Considere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dered SPS or RAP actions to eliminate need for RM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ing a segment of Lamesa to Ackerly 69 kV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essa to Quail Switch and Longshore 345 kV double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ies Reactors on Odessa Au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xit Strategy based on No Win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mian Basin 5 and Permian Basin 6 will be needed to provide RMR services until the upgrades of th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essa EHV auto-transformer (Oncor adding to TP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erly Vealmoor – Ackerly 69kV line (RPG submitted) - RAP Proposed but causes another over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ter the retirement of Permian Basin 5, Permian Basin 6 will be needed to provide RMR services to resolve post-contingency overloads of th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g Spring SS – Big Spring W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efin Switch to Rexene Nylon Tap 138 kV lines (not necessary with 300 MW wind assumption) – RAP Prop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maining Lamesa - Ackerly 69kV line segments (RPG submitted) – RAP Proposed but causes another over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6" name="Line 5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2324160" y="224784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stions?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uminant – Notice of Suspension of Opera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February 5, 2009 Luminant submitted Notice of Suspension of Operations (NSO) for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828800"/>
          <a:ext cx="8305560" cy="4048200"/>
        </p:xfrm>
        <a:graphic>
          <a:graphicData uri="http://schemas.openxmlformats.org/drawingml/2006/table">
            <a:tbl>
              <a:tblPr/>
              <a:tblGrid>
                <a:gridCol w="2431800"/>
                <a:gridCol w="846360"/>
                <a:gridCol w="893520"/>
                <a:gridCol w="1737000"/>
                <a:gridCol w="798480"/>
                <a:gridCol w="799920"/>
                <a:gridCol w="798480"/>
              </a:tblGrid>
              <a:tr h="3366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me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W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s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y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oup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itial Need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al Need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46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dinghouse Unit 1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3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03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cLennan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rgan Creek Unit 5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7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tchell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mian Basin 5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7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rd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weetwater Cogen Unit 1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16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lan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weetwater CT1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17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lan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weetwater CT2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18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lan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weetwater CT3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19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lan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th Lake 1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6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81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llas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th Lake 2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1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82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llas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th Lake 3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9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83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llas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mian Basin 6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5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8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rd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ordova SES Unit 1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9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89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od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ke Creek SES Unit 1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16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cLennan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ke Creek SES Unit 2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17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cLennan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tudy Methodolog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units were grouped and analyzed in two group based on the proposed suspension d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1: May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2: Septembe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ysis was done to determine if absence of the units violated any planning criteria as outlined in the Operating Guid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 study performed using M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tage Stability study performed using V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udy results were reviewed and verified by Operations Staf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tudy Assumptions – Initial Determin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ollowing study assumptions were use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9 summer peak case (SSWG DSA December 2008 Update) used for Group 1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Group 1 units turned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Group 2 units were available (unless otherwise specifi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wind generation was turned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0 summer peak case (SSWG DSB December 2008 Update) used for Group 2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Group 1 and 2 units were turned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wind generation was turned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unit a second scenario was modeled where a nearby unit was modeled as unavailable; for some units a third scenario was modeled where a different nearby unit was modeled as unavailable [to meet Operating Guide 5 requirement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tudy Assumptions – Final Determin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ollowing study assumptions were use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9 summer peak case (SSWG DSA December 2008 Update) used for Group Permian 5 deter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an 6 and Decordova considered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wind generation was turned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0 summer peak case (SSWG DSB December 2008 Update) used for Group 2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an Basin 5 not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an 6 and Decordova not available when other was stud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wind generation was turned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unit a second scenario was modeled where a nearby unit was modeled as unavailable; for some units a third scenario was modeled where a different nearby unit was modeled as unavailable [to meet Operating Guide 5 requirement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Wind Level Analysis – Initial and Final Determin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Wind Just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0 hours when all wind generation in ERCOT was less than 70 MW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2 hours when all wind generation in ERCOT was less than 30 MW tot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 hours when all wind generation in ERCOT was less than 10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hour when all wind generation in ERCOT was 0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er of 2008 only – June to Sept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Hourly Settlement Quality Metering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ed capacity 5906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istorical Wind Output 4/10/06 to 4/15/09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5562360"/>
            <a:ext cx="81532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ed over three year peri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41996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ummer 2008 Wind Levels Percentag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057400" y="914400"/>
          <a:ext cx="4648320" cy="5172120"/>
        </p:xfrm>
        <a:graphic>
          <a:graphicData uri="http://schemas.openxmlformats.org/drawingml/2006/table">
            <a:tbl>
              <a:tblPr/>
              <a:tblGrid>
                <a:gridCol w="2651040"/>
                <a:gridCol w="1997280"/>
              </a:tblGrid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ge of wind generation in summer 2008 (MW)</a:t>
                      </a:r>
                      <a:endParaRPr b="0" lang="en-US" sz="16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mulative percentage of hours in summer</a:t>
                      </a:r>
                      <a:endParaRPr b="0" lang="en-US" sz="16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and &lt;100</a:t>
                      </a:r>
                      <a:endParaRPr b="0" lang="en-US" sz="16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54%</a:t>
                      </a:r>
                      <a:endParaRPr b="0" lang="en-US" sz="16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 and &lt;200</a:t>
                      </a:r>
                      <a:endParaRPr b="0" lang="en-US" sz="16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64%</a:t>
                      </a:r>
                      <a:endParaRPr b="0" lang="en-US" sz="16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 and &lt;300</a:t>
                      </a:r>
                      <a:endParaRPr b="0" lang="en-US" sz="16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.17%</a:t>
                      </a:r>
                      <a:endParaRPr b="0" lang="en-US" sz="16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1 and &lt;400</a:t>
                      </a:r>
                      <a:endParaRPr b="0" lang="en-US" sz="16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.41%</a:t>
                      </a:r>
                      <a:endParaRPr b="0" lang="en-US" sz="16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1 and &lt;500</a:t>
                      </a:r>
                      <a:endParaRPr b="0" lang="en-US" sz="16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.12%</a:t>
                      </a:r>
                      <a:endParaRPr b="0" lang="en-US" sz="16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1 and &lt;600</a:t>
                      </a:r>
                      <a:endParaRPr b="0" lang="en-US" sz="16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.12%</a:t>
                      </a:r>
                      <a:endParaRPr b="0" lang="en-US" sz="16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1 and &lt;700</a:t>
                      </a:r>
                      <a:endParaRPr b="0" lang="en-US" sz="16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.64%</a:t>
                      </a:r>
                      <a:endParaRPr b="0" lang="en-US" sz="16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1 and &lt;800</a:t>
                      </a:r>
                      <a:endParaRPr b="0" lang="en-US" sz="16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.30%</a:t>
                      </a:r>
                      <a:endParaRPr b="0" lang="en-US" sz="16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1 and &lt;900</a:t>
                      </a:r>
                      <a:endParaRPr b="0" lang="en-US" sz="16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.37%</a:t>
                      </a:r>
                      <a:endParaRPr b="0" lang="en-US" sz="16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1 and &lt;1000</a:t>
                      </a:r>
                      <a:endParaRPr b="0" lang="en-US" sz="16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.86%</a:t>
                      </a:r>
                      <a:endParaRPr b="0" lang="en-US" sz="16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1 and &lt;1100</a:t>
                      </a:r>
                      <a:endParaRPr b="0" lang="en-US" sz="16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.56%</a:t>
                      </a:r>
                      <a:endParaRPr b="0" lang="en-US" sz="16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 and &lt;1200</a:t>
                      </a:r>
                      <a:endParaRPr b="0" lang="en-US" sz="16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.21%</a:t>
                      </a:r>
                      <a:endParaRPr b="0" lang="en-US" sz="16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dditional Studies with 300 MW Win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ptions for wind units with shift factor magnitude similar in magnitude to PB SES un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ive shift factor (unloads  line) – not guaranteed to be available so assumed not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shift factor (loads line) – subject to OOM down so assumed not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aining wind units in North and West zones scaled to 300 and 414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s mostly similar to No Wind Stud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Jay Teixeira</cp:lastModifiedBy>
  <dcterms:modified xsi:type="dcterms:W3CDTF">2009-05-14T15:17:15Z</dcterms:modified>
  <cp:revision>93</cp:revision>
  <dc:subject/>
  <dc:title>Instructions</dc:title>
</cp:coreProperties>
</file>