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9E6-0201-4B23-9F83-5B968495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4F42-5840-44DA-90DB-AAA8E9B2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918E-FD3F-4D5B-8645-3AE2B4A9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2A4-E59F-4D29-8B50-641B2425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9C19-C11E-4ADB-9534-FE0F2728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9630-D40D-4671-8A2D-36AF756D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3840-B8AD-4A88-ADF9-21D3D448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72E7-377B-455C-BB26-D280872C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64D7-7D95-49D9-A5FA-EE5656D7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853C-888D-42F0-8CF6-016707C8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09EE-74B3-4546-9D8E-587CE140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99B-6D33-4FAD-992B-6E88CEC7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55E4-7895-4C32-B185-4F95BAF2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8B3A-9A2B-49FD-B880-0BABD1E2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380A-694F-499F-9B43-D3D8B057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2B5D-881E-490D-88AB-B44B06CB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EB70-677D-424D-AB94-6B687D5C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E45D-6A8F-4698-B120-FDADBD37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C41-0C1D-4BCB-A09D-371FB4C6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A42-7739-4908-8C7C-6CAACB59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7DB-4E1C-4110-82A6-1DC9FC6E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65A7-787F-464C-8721-37E6AB6A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5CD-6851-4CB8-B44E-21A57C06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33C1-B65B-4D69-AA83-435CE7FD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65B0-6BD5-4027-8F99-F0B2DC5A1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4B10-CEE6-416C-ACC4-2F81F3B38D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762120" y="914400"/>
            <a:ext cx="7848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AC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ay 7, 2009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eting Updat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FFBC-083C-46FB-A996-3900BDB8C6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Highlights of May 7</a:t>
            </a:r>
            <a:r>
              <a:rPr b="0" lang="en-US" sz="4000" spc="-1" strike="noStrike" u="sng" baseline="30000">
                <a:solidFill>
                  <a:srgbClr val="ffff00"/>
                </a:solidFill>
                <a:uFillTx/>
                <a:latin typeface="Arial"/>
              </a:rPr>
              <a:t>th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TAC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 Board Update (April 22, 200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ved PRRs 768, 789, 790, 803, and 8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ved NPRR 14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’s request to revise the Nodal Surcharge is filed and pending before the P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, at the request of the PUCT, expects to present at the May ERCOT Board meeting their evaluation of the possible impacts of CO2 legislation on Texas electricity consum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8447-9316-41A7-A0C2-26F974F01D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Highlights of May 7</a:t>
            </a:r>
            <a:r>
              <a:rPr b="0" lang="en-US" sz="4000" spc="-1" strike="noStrike" u="sng" baseline="30000">
                <a:solidFill>
                  <a:srgbClr val="ffff00"/>
                </a:solidFill>
                <a:uFillTx/>
                <a:latin typeface="Arial"/>
              </a:rPr>
              <a:t>th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TAC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S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R 796, Resource Plan Performance Metrics Revision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R 800, QSE Day-Ahead Metric (URGENT) –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R 802, TCR Transition to CRR Refund Revision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PRR 157, Extending Black start Service Bid Timeline –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PRR 163, Removal of Late Fee Language –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PRR 166, Timing for Required Black Start Unit Load Carrying Test –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PRR 167, Options for Filing Verifiable Costs –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king Deck Concept for NPRRs –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dorsed by T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thodology for handing NPRRs that cannot be implemented prior to the Nodal Market Go-Life D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PRRs approved and ranked by PRS, considered by TAC, and approved by the Bo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cluded as gray boxed language in the Protoco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ced in the Nodal tab of the Project Prioritization List (PPL), the “parking deck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 a specified date (to be determined), ERCOT will begin completing 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39058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2012 PPL will include the selection of parking deck items for post-Go-Liv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1071-EE0B-4210-BF52-F2B9DC46A6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Highlights of May 7</a:t>
            </a:r>
            <a:r>
              <a:rPr b="0" lang="en-US" sz="4000" spc="-1" strike="noStrike" u="sng" baseline="30000">
                <a:solidFill>
                  <a:srgbClr val="ffff00"/>
                </a:solidFill>
                <a:uFillTx/>
                <a:latin typeface="Arial"/>
              </a:rPr>
              <a:t>th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TAC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xas Nodal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al Project Timeline presen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ed the process to align Market Protocols, Applications, and 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eview of the Protoc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cing Protocols back to market expec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cing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ning for Nodal Release 2 will begin prior to Go-L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p priority to assist MPs in preparing for Nodal and Linda Clark presented key items that the plan will incl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 Go-Live, switchover on Aug 31 for TSP submissions of network operations model change requests from “Service Request” submission via TML to NOMCR submissions via the NM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gle Entry system to update both the Nodal NMMS Model to support Nodal testing and the Zonal Service Request uploads into the Zonal Genesys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sting system access Jun 8 to Aug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-SEM Instructor led training in Taylor Jun 22 to Au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-SEM Instruction led training in Taylor Sep 23 to Oct 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asked TAC if there are any concerns related to posting the Network Operations Model prior to Nodal Go-Live, Aug 31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C asked ROS and WMS to review the data and report concer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EA2F-F79B-42F4-8BDA-212499CC56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Highlights of May 7</a:t>
            </a:r>
            <a:r>
              <a:rPr b="0" lang="en-US" sz="4000" spc="-1" strike="noStrike" u="sng" baseline="30000">
                <a:solidFill>
                  <a:srgbClr val="ffff00"/>
                </a:solidFill>
                <a:uFillTx/>
                <a:latin typeface="Arial"/>
              </a:rPr>
              <a:t>th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TAC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keholder Engagement in Nodal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 Bruce presented the Nodal Implementation Advisory Board (NIAB) con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nnon McClendon will present alternative proposals for consideration at the June TAC me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onal Planning Group Cha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roved by the Board with language that requires generation interconnection projects costing more than $15 million or requiring a CCN to be reviewed by the R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S suggested the original language and add generation interconnection projects costing more than $50 million, as part of the Full Interconnection Study for information purposes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C deferred this issue until next mon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D771-4661-4FC5-82BA-B4225CAC8D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Highlights of May 7</a:t>
            </a:r>
            <a:r>
              <a:rPr b="0" lang="en-US" sz="4000" spc="-1" strike="noStrike" u="sng" baseline="30000">
                <a:solidFill>
                  <a:srgbClr val="ffff00"/>
                </a:solidFill>
                <a:uFillTx/>
                <a:latin typeface="Arial"/>
              </a:rPr>
              <a:t>th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TAC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GRR 025, Monitoring Programs for QSEs, TSPs, and ERC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s Section 9 to incorporate metrics to be monito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S and WMS will continue to work on NOGRR 025 and in parallel ERCOT is working with the Commission on Nodal metr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S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MS will provide an update to TAC in June on how PRR 776, Automatic Adjustment During Intervals of Non-Spinning Reserve Service Deployment, is wor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xas Regional Entity (TRE)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RC LSE Registration Process – JRO contractual language is being prepared and a draft will be sent to LSERWG on 5/8/09 for re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with ERCOT, PUCT, ROS, and WMS on NOGRR 02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B034-D12C-41E5-A6A4-C9AA87A9C1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B81E-1CC7-46B8-9B60-47A411E35F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trenarym</cp:lastModifiedBy>
  <dcterms:modified xsi:type="dcterms:W3CDTF">2009-05-11T18:18:27Z</dcterms:modified>
  <cp:revision>79</cp:revision>
  <dc:subject/>
  <dc:title>Slide 1</dc:title>
</cp:coreProperties>
</file>