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37960" y="687240"/>
            <a:ext cx="4592520" cy="344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C246DF5-4197-4967-AF2F-376054848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B188783-51A4-4227-B2E2-61F0BDE30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C83D69F-4016-4241-8DBB-CAB7F9BCC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25EF6F4-11EF-4493-BF5D-30FC16A68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B957F17-2EA4-4F92-83C0-1F843AEE4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C5082F2-90B7-4655-B2E6-B6DA2C9FC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0949-924C-4F89-BBDD-3FEB1725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D47C-5CD0-45BA-8979-3DE682CE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6852-B6E6-47AF-87CE-13E39FDC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3D14-F14C-4119-AE2E-7E0E862D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C02B-711C-44D9-A20F-B59647D0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E642-309D-46CC-A95A-E5FA31F7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DB69-6262-47FD-9730-C5964DD6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2A64-F046-4FA9-B6AD-274448F5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DC4A-6339-4318-AF14-E7F01A30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2A21-AC9B-4091-BF22-B6CF93BB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63E1-F3F5-47D6-9B35-8F57E9A9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D0A7-3076-488E-9D42-3E69EED7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BCB0-A9D3-4BC9-906D-6D704EFEE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Copy of Ercot Logo"/>
          <p:cNvPicPr/>
          <p:nvPr/>
        </p:nvPicPr>
        <p:blipFill>
          <a:blip r:embed="rId2"/>
          <a:stretch/>
        </p:blipFill>
        <p:spPr>
          <a:xfrm>
            <a:off x="708660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380880" y="1219320"/>
            <a:ext cx="8305920" cy="7596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000" bIns="360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WordArt 12"/>
          <p:cNvSpPr txBox="1"/>
          <p:nvPr/>
        </p:nvSpPr>
        <p:spPr>
          <a:xfrm>
            <a:off x="228600" y="380880"/>
            <a:ext cx="1285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DTWG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C2FE-4DF2-48D7-B602-0D387382C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DTW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pdate to 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505320" y="578952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nesday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6, 2009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97CB-181F-40AF-BF57-6DE556981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ed ERCOT System Outages and fail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ed Retail Service Level  up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C962-24D4-41E3-8AC5-1C3A45C53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ed working with the ERCOT Manager of Operations to address each system incid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y Katskee reviewed the summary and detail pages of the incident lo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048120" y="44136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Discussed Retail Service Level up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reviewed the service availability metrics for MarkeTrak as recommended by MTTF.   Specific metrics are presented in the ERCOT RMS support documen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D134-23DC-4F71-89A3-3C6167E4D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7CA3-691D-46DD-A8EC-8B1F4AD61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2000"/>
            </a:b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Registered User</cp:lastModifiedBy>
  <cp:lastPrinted>2002-09-24T18:27:58Z</cp:lastPrinted>
  <dcterms:modified xsi:type="dcterms:W3CDTF">2009-05-06T21:03:23Z</dcterms:modified>
  <cp:revision>574</cp:revision>
  <dc:subject/>
  <dc:title>PowerPoint Presentation</dc:title>
</cp:coreProperties>
</file>