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8FE9-1BB3-4259-BDBA-9655E70BD8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993E-DC25-4ED8-8810-0CC90479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F2B4-B56F-4783-BE46-B62B0E85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9582-6DD7-45AE-BBB5-B7B92C708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A752-67F5-4316-99A0-DEE8D79D0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8BD1-1D45-4A18-A7CC-C28ED88C9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9F51-E8C1-49F8-B1D3-A4FA0FD98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3785-50F5-4CFD-A86F-1C5C3B275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12BF-626D-48BF-AC61-CF172E2863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40AF-1C2E-4494-83C9-D1A3FF23BF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E6BC-7CAB-4580-9CF0-6658EAB42B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4319-D6BE-4C0C-97A3-9D43C82D5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A5EE-C7F8-4701-99EF-8BCD48DE54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8FD7-AB82-4749-87DE-7BB21A6923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E0F8-BB43-4DA2-8BC9-1F250C2CAA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D1EA-DA77-4576-9C9D-28588D7768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2F14-1AE3-471E-A48A-0B2C21318C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8222-B99F-4C9A-B2F5-4847F9F5F1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E2CA-1B42-4FD2-9F96-934DF36B55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BA9F-1213-4B02-8393-F1FF8E30E7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5A8E-C565-49AC-9870-91884BB486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51372-F6C5-41A0-99AE-A0476AC8A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68AD-73B7-4AE9-8FD7-18D8D4FDA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F089-2083-45E6-92D1-3DAA58A0C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AB25-C21E-4A67-BE4B-C96A9D3B1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2205-C234-4DAD-876E-4AFFDD959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E75D-53C2-4724-8062-E8ECA04F0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BEA0-72A6-4E2B-AB20-BF50F7392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13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7C948F-A9C8-4064-955B-3CFAF1567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B51E-7A24-4FA6-B057-A1C5A5ACB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39FDBE-8936-41E2-8A1E-796B8F403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arch 2009 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May 13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ope Parrish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PL Prioritization – RMS Go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Ex with RMS – Apr 30 2-3pm (Comple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mit all 2010 Project Initiatives to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May 4 (Comple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Kick off at RMS – May 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oal for an Initial list with rank and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Draft Project Charters, CBA and review – May 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Draft TCE for projects – May 15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- Review and finalize Draft Charter, CBA, and TCE week of May 2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ve 2010 PPL at June R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PL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2010 PPL Initial – go to 2010_Planning_PPL_RO_05132009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Ad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R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riorit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4" name="Object 3188"/>
          <p:cNvGraphicFramePr/>
          <p:nvPr/>
        </p:nvGraphicFramePr>
        <p:xfrm>
          <a:off x="152280" y="773280"/>
          <a:ext cx="8904240" cy="53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73280"/>
                    <a:ext cx="890424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04920" y="55087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370"/>
          <p:cNvSpPr/>
          <p:nvPr/>
        </p:nvSpPr>
        <p:spPr>
          <a:xfrm>
            <a:off x="152280" y="4187880"/>
            <a:ext cx="8458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50061_01 – Gated to Execution Phase on  May 1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80040_01 – Planned for migration to production on May 16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80028_01 – Execution complete, expected to move to closing May 22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7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7631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518"/>
          <p:cNvSpPr/>
          <p:nvPr/>
        </p:nvSpPr>
        <p:spPr>
          <a:xfrm>
            <a:off x="289080" y="3092400"/>
            <a:ext cx="77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80031_01 – Gated to Planning Phase  on April 17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533520" y="905040"/>
            <a:ext cx="83055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On Hol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5" name="Picture 65" descr=""/>
          <p:cNvPicPr/>
          <p:nvPr/>
        </p:nvPicPr>
        <p:blipFill>
          <a:blip r:embed="rId1"/>
          <a:stretch/>
        </p:blipFill>
        <p:spPr>
          <a:xfrm>
            <a:off x="304920" y="814320"/>
            <a:ext cx="8381880" cy="1623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8600" y="2952720"/>
            <a:ext cx="86104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80030:  Placed “On Hold”due to funding needs for higher priority projects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90007:  2009 funds released to higher priority projects with the assumption that the long-term solution will not start until 2010.  Remains above the capability li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5680" y="733320"/>
          <a:ext cx="8991720" cy="3230640"/>
        </p:xfrm>
        <a:graphic>
          <a:graphicData uri="http://schemas.openxmlformats.org/drawingml/2006/table">
            <a:tbl>
              <a:tblPr/>
              <a:tblGrid>
                <a:gridCol w="820800"/>
                <a:gridCol w="1208160"/>
                <a:gridCol w="565200"/>
                <a:gridCol w="742680"/>
                <a:gridCol w="2160720"/>
                <a:gridCol w="922320"/>
                <a:gridCol w="909720"/>
                <a:gridCol w="664920"/>
                <a:gridCol w="997200"/>
              </a:tblGrid>
              <a:tr h="530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 Are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Do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o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tatu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Priorit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Revised Budget Range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73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4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rak Enhancements (Workflow &amp; Reporting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7_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10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73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4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 Enhancements for ERCOT Outages PhI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6_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5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72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4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Outage Evaluation PhI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6_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5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81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free and NAESB Transition to ISM  formerly (EDW EAI Transition Phase 1 (including PaperFree &amp; NAESB)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61_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High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k-$25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228600" y="42670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70007 Clos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4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280" y="762120"/>
          <a:ext cx="8763120" cy="516384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39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increase next month for PR50088-Data Research and reporting (approx. $300k for 2009).  Requires Board Approval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3.22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7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PL Priorit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PL Prioritization -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8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2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satterfield</cp:lastModifiedBy>
  <dcterms:modified xsi:type="dcterms:W3CDTF">2009-05-07T04:20:06Z</dcterms:modified>
  <cp:revision>511</cp:revision>
  <dc:subject/>
  <dc:title>Role of Account Management at ERCOT</dc:title>
</cp:coreProperties>
</file>