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png" ContentType="image/png"/>
  <Override PartName="/ppt/media/image12.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move the slide</a:t>
            </a:r>
            <a:endParaRPr b="1" lang="en-US" sz="4100" spc="-1" strike="noStrike">
              <a:solidFill>
                <a:srgbClr val="676a55"/>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BDC0-D1E7-4C43-82C5-422D044746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2219-8516-4630-8C40-5B2892B16E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4EB9-0085-4F0F-A967-E231B30AAD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ACA3-E3B0-4406-B86C-F51F0644E0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FFDF0-40BA-4F4C-8D63-2C07989BD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6C41E-97BC-478E-A3F3-32936C7C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D2E7E-FA36-4933-A64A-07082D7AB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3916D-6C21-427F-9133-8A22E2A2D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5DE72-C93B-4050-8058-C6D3B8C86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30742-7D0D-4599-A1E4-7E84C48B5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F0704-96D3-433E-BF93-A297E43EF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7BAB3-0A3D-4FE2-A7DA-F8E5949A1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B2F66-3189-48AD-B5EF-F765D3D58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1B9E2-0585-4083-B8FE-6D402D287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A2328-0FC0-445B-B89D-5148686C0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4BA81-AF68-4E7F-B5DE-DE1008882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90A2C-DB09-45A4-85B7-51A9878F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B3D5-DD60-4DD6-A5DB-38BD4C91B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A5822-6CDF-47C3-99D0-36EBA858B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E04F8-5BF7-4B79-A18A-36315AEE2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FF463-5885-4EED-8459-7FB46EDA4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82D389-4EDE-465C-9158-58A3048DA9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8729F-CEF5-4C81-9BB9-B6FB9020C6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E3A65-06BA-40E9-BEF0-27D8155C7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752F1-B9A2-4898-9E09-3377C72D8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0094A-37EE-4BF9-AC8C-7838C9AB1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3C222-FAE4-42B9-BD0D-6B38EDC83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8A16D-F5A2-4824-8C6D-6516D51E1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DF18C-9454-4305-ABE8-FA3DCD2A6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214AC-E533-4CBD-BBD6-A7D966272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FDE60-0677-48B6-A07A-C5630012F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F0228-7CAD-486A-AB32-343ECD27F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87E90-2E54-425B-A869-81217DC2BF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CC36E-1C43-4653-B86A-68DB72A498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A7C97E-AAE7-47EA-A9A5-4685D49BB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BDACD-D05A-46BF-8978-91C67A16A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C39C91-EE4A-4829-982E-AB44D7CD7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1427B-F442-43CA-98FC-BE9CA230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3242E-A211-44B1-86E8-609F7FBC8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A582F-F8F0-4240-A038-BC8C13FA4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5A908-3576-48A7-BE56-3A13ABD4B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974444-AA23-4EFA-8EDE-5E603BD6B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EB3F2-AE73-434A-A41B-F2B55C0DD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43B30-CB55-44ED-8442-D68F5685E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994EE-F482-4F8A-B3B0-BEAF04167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976DB7-A170-4CEB-812C-6CEC18F4DF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AF7E21-E3B4-4746-B7BF-3657ECBD1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80FD5-A543-4204-B9EC-CD77B9F416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562C7-17E4-43DF-9AE8-6C5A90426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331896-FB85-482A-9E5A-79A432019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4A62B-04C3-40F4-B45C-6A7ED41AF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6A8A0-C83A-4930-91AF-5D3F1CC51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041B8-BE5E-4210-9DB9-8A40937A6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70EC6-17F0-4417-966E-D1A55363E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D5E0A-703D-412A-9AFC-2A1C57C0A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93C24-CF06-4EDD-B750-D8F9FC274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78682-FA00-4105-968D-80C58669D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B8776-438C-4870-BEBA-153839716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D4EBCD-3175-450D-AA91-817851492A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48466-38B1-47C3-A37E-8DBB88EE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D4AFE7-4818-4CB8-ADFE-35C9BB79EE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928AAC-EC90-4CBC-B87E-DD12673BC0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D95E2-AE01-4BD0-A7B5-5934142DE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3B9E11-FA25-4EA4-82F9-C6EA35F0D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A861B-6354-4586-8ED3-BC517E59C2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34AF05-987B-4C73-8E65-99285A5FE9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A9782-51DF-47CD-8F0E-8ED119129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0A72D5-E937-4971-9A90-FF9838C1D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05A15-DE0B-4B9E-B369-16D05DD6E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7142E-3516-4C82-AA97-60A34BCA0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4C69-2B83-44E2-8D06-FEF5235A3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25941-276F-458C-B1D6-ABB62C82B6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6C7E2E-9A49-406B-8AF0-F1F7236643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1754EE-BF41-4CDC-A65D-6B0B9EC3C4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B3B640-789C-4502-ADC0-8FE294E43D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8CC2D2-7756-43E7-BE6F-46F97112B3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13D2E6-C471-4AF3-BF63-C747F4A59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AC0D5A-5DA5-4D49-9E97-661ED712C0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8BE1E1-7ED7-4D82-85E5-A53B56742B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600C5B-FF27-4A8F-9AE2-42EFDFB3C1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E6CE6-A18E-4CF5-B0FB-A3711998C5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0964-B42C-47A0-9DCD-2EAED755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01EDB4-42EE-4F7E-9D16-8CCD23B07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A0EA8-2CD2-4418-9DEB-0612487AA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33A61-9761-485E-9700-118478A53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BC66A2-6DDF-4620-86DE-AFB0F7E4B1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BB766D-47A4-44F9-85C2-89A7E106FF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10198F-B3C2-476C-9907-AED18A0BE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8842DF-48CB-43AE-BC71-B5FD0B9891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6CAC8-3371-4139-951A-1DA3E75963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04E280-CEEF-4208-BD2E-7F44815FF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9C1CE-3708-4929-BCCB-19E26F31EF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0D3D-41A4-49B9-926A-CF26297D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58839D-36D0-44E6-ABAC-A404092275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B0D28-23DC-40AC-B8EF-E276FED1E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30BA4F-636F-4D1B-AF86-A45CA97C9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8CBB4-D827-46CC-B350-DBF7FD8682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91A179-995E-4558-9E14-73D81E6511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2C2273-1AD5-4717-BDCB-8A050C3A06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9E1B6C-8431-46B5-96F7-B32B2F6879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4D59-D726-4C05-A85A-E39D7ED8F8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3a6f3e"/>
              </a:gs>
              <a:gs pos="50000">
                <a:srgbClr val="80b984"/>
              </a:gs>
              <a:gs pos="100000">
                <a:srgbClr val="3a6f3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1F53-ADF5-42B2-BEF7-206385539E6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70C5-A37E-4AF7-A498-30AC774436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DB42-8777-42BD-B490-D06ACB3AC7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81C8-8C4A-46CF-AF84-E337818764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AEAD-9E11-4359-83D3-70DB1EF8B6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0CFE-E935-4FCF-A5F4-7A1C4E68F3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2D31-FA2F-4E8C-8859-72878B633E4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rcot.com/services/client_svcs/mktrk_info/"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92160" y="1749600"/>
            <a:ext cx="9016920" cy="123156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Update to RMS</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May 13, 2009</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 </a:t>
            </a:r>
            <a:endParaRPr b="0" lang="en-US" sz="2400" spc="-1" strike="noStrike">
              <a:solidFill>
                <a:srgbClr val="000000"/>
              </a:solidFill>
              <a:latin typeface="Lucida Sans Unico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Leadership: Co-Chairs </a:t>
            </a:r>
            <a:endParaRPr b="0" lang="en-US" sz="27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nica Jones – Reliant Energy</a:t>
            </a:r>
            <a:endParaRPr b="0" lang="en-US" sz="23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Jonathan Landry – GEXA Energy</a:t>
            </a:r>
            <a:endParaRPr b="0" lang="en-US" sz="23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rolyn Reed -  Center Point Energy</a:t>
            </a:r>
            <a:endParaRPr b="0" lang="en-US" sz="23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lease congratulate each on their new roles.  </a:t>
            </a:r>
            <a:endParaRPr b="0" lang="en-US" sz="23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3"/>
          <p:cNvSpPr/>
          <p:nvPr/>
        </p:nvSpPr>
        <p:spPr>
          <a:xfrm>
            <a:off x="304920" y="762120"/>
            <a:ext cx="8534160" cy="5368680"/>
          </a:xfrm>
          <a:prstGeom prst="rect">
            <a:avLst/>
          </a:prstGeom>
          <a:noFill/>
          <a:ln w="0">
            <a:noFill/>
          </a:ln>
        </p:spPr>
        <p:style>
          <a:lnRef idx="0"/>
          <a:fillRef idx="0"/>
          <a:effectRef idx="0"/>
          <a:fontRef idx="minor"/>
        </p:style>
        <p:txBody>
          <a:bodyPr lIns="90000" rIns="90000" tIns="46800" bIns="46800" anchor="t">
            <a:noAutofit/>
          </a:bodyPr>
          <a:p>
            <a:pPr lvl="2" marL="1170000" indent="-255600">
              <a:lnSpc>
                <a:spcPct val="80000"/>
              </a:lnSpc>
              <a:spcBef>
                <a:spcPts val="400"/>
              </a:spcBef>
              <a:buClr>
                <a:srgbClr val="72a376"/>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560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Rectangle 3"/>
          <p:cNvSpPr/>
          <p:nvPr/>
        </p:nvSpPr>
        <p:spPr>
          <a:xfrm>
            <a:off x="457200" y="2286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6a55"/>
                </a:solidFill>
                <a:latin typeface="Lucida Sans Unicode"/>
                <a:ea typeface="Lucida Sans Unicode"/>
              </a:rPr>
              <a:t>MarkeTrak – Conference Call April 30</a:t>
            </a:r>
            <a:r>
              <a:rPr b="1" lang="en-US" sz="3200" spc="-1" strike="noStrike" baseline="30000">
                <a:solidFill>
                  <a:srgbClr val="676a55"/>
                </a:solidFill>
                <a:latin typeface="Lucida Sans Unicode"/>
                <a:ea typeface="Lucida Sans Unicode"/>
              </a:rPr>
              <a:t>th</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83" name="Rectangle 3" descr=""/>
          <p:cNvPicPr/>
          <p:nvPr/>
        </p:nvPicPr>
        <p:blipFill>
          <a:blip r:embed="rId1"/>
          <a:stretch/>
        </p:blipFill>
        <p:spPr>
          <a:xfrm>
            <a:off x="360360" y="835200"/>
            <a:ext cx="8375760" cy="976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rket Participants and ERCOT have utilized MarkeTrak since November of 2006.  Enhancements have been identified by the MTF that would benefit all users.    Enhancement ideas have been solicited and received by ERCOT since the ‘Pens Down’ portion of the MarkeTrak Phase 2 project.  As we continue to see an increase in MarkeTrak issues, more efficiencies to improve the processes are needed.  </a:t>
            </a:r>
            <a:endParaRPr b="0" lang="en-US" sz="2700" spc="-1" strike="noStrike">
              <a:solidFill>
                <a:srgbClr val="000000"/>
              </a:solidFill>
              <a:latin typeface="Lucida Sans Unicode"/>
            </a:endParaRPr>
          </a:p>
        </p:txBody>
      </p:sp>
      <p:pic>
        <p:nvPicPr>
          <p:cNvPr id="385" name="Title 2" descr=""/>
          <p:cNvPicPr/>
          <p:nvPr/>
        </p:nvPicPr>
        <p:blipFill>
          <a:blip r:embed="rId1"/>
          <a:stretch/>
        </p:blipFill>
        <p:spPr>
          <a:xfrm>
            <a:off x="26820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838080"/>
            <a:ext cx="8229600" cy="5168880"/>
          </a:xfrm>
          <a:prstGeom prst="rect">
            <a:avLst/>
          </a:prstGeom>
          <a:noFill/>
          <a:ln w="0">
            <a:noFill/>
          </a:ln>
        </p:spPr>
        <p:txBody>
          <a:bodyPr anchor="t">
            <a:normAutofit/>
          </a:bodyPr>
          <a:p>
            <a:pPr marL="365040" indent="-255600">
              <a:lnSpc>
                <a:spcPct val="10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ea typeface="Arial"/>
              </a:rPr>
              <a:t>Add functionality to the MarkeTrak Issue Resolution Tool to:</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Improve and standardize MarkeTrak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Administration functio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Implement ERCOT validations requested by the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MarkeTrak Task Forc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Redesign workflows to leverage potential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pplication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upgrade from vendor.</a:t>
            </a:r>
            <a:endParaRPr b="0" lang="en-US" sz="2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100000"/>
              </a:lnSpc>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7" name="Title 2" descr=""/>
          <p:cNvPicPr/>
          <p:nvPr/>
        </p:nvPicPr>
        <p:blipFill>
          <a:blip r:embed="rId1"/>
          <a:stretch/>
        </p:blipFill>
        <p:spPr>
          <a:xfrm>
            <a:off x="371520" y="-6480"/>
            <a:ext cx="8400960" cy="10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rrently there are over 4,000 MarkeTrak Use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ince December, the Market is seeing the following message more frequently -  </a:t>
            </a:r>
            <a:r>
              <a:rPr b="0" i="1" lang="en-US" sz="2400" spc="-1" strike="noStrike">
                <a:solidFill>
                  <a:srgbClr val="000000"/>
                </a:solidFill>
                <a:latin typeface="Lucida Sans Unicode"/>
              </a:rPr>
              <a:t>We're sorry, but the last operation caused an error.   The last operation resulted in an error, but the following unrecognized error code was received: No concurrent licenses are available.  See your MarkeTrak Administrator or try again later.</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MarkeTrak Taskforce recommends ERCOT to evaluate the purchase of more licenses.</a:t>
            </a: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9"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066320"/>
            <a:ext cx="8229600" cy="494028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b5353"/>
                </a:solidFill>
                <a:uFillTx/>
                <a:latin typeface="Lucida Sans Unicode"/>
                <a:hlinkClick r:id="rId1"/>
              </a:rPr>
              <a:t>http://www.ercot.com/services/client_svcs/mktrk_info/</a:t>
            </a: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 Guide</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ulk Insert Template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Workflow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Tips and Trick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API WSDL/XSD</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lso direct link from MarkeTrak tool</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1" name="Title 2" descr=""/>
          <p:cNvPicPr/>
          <p:nvPr/>
        </p:nvPicPr>
        <p:blipFill>
          <a:blip r:embed="rId2"/>
          <a:stretch/>
        </p:blipFill>
        <p:spPr>
          <a:xfrm>
            <a:off x="195120" y="219240"/>
            <a:ext cx="8498160" cy="93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MCj04042630000[1]"/>
          <p:cNvPicPr/>
          <p:nvPr/>
        </p:nvPicPr>
        <p:blipFill>
          <a:blip r:embed="rId1"/>
          <a:stretch/>
        </p:blipFill>
        <p:spPr>
          <a:xfrm>
            <a:off x="3652920" y="2897280"/>
            <a:ext cx="1838160" cy="1695240"/>
          </a:xfrm>
          <a:prstGeom prst="rect">
            <a:avLst/>
          </a:prstGeom>
          <a:ln w="0">
            <a:noFill/>
          </a:ln>
        </p:spPr>
      </p:pic>
      <p:pic>
        <p:nvPicPr>
          <p:cNvPr id="393"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00017167</cp:lastModifiedBy>
  <dcterms:modified xsi:type="dcterms:W3CDTF">2009-05-07T02:16:44Z</dcterms:modified>
  <cp:revision>449</cp:revision>
  <dc:subject/>
  <dc:title>MarkeTrak Task Force</dc:title>
</cp:coreProperties>
</file>