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D36-6769-4E58-B826-3F0329AE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8BC-5491-497E-9B18-FEF653C71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039B-C390-42D8-A9E1-4E43A57B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5270-FED9-4069-9F56-3B6F07271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C2FC-0508-4FA0-B081-ACFD52F79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318D-F94A-4E4C-82EA-4967A0A7B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B857-9430-4AA4-93E5-D8E869040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B3F6-C76B-4419-BAB2-2BCDD97A4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435B-9FF6-404B-A984-76DD61D80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1000-9F04-4154-AFAE-DB005E043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0A0B-AB70-4920-8F3B-042368214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D220-FB28-408C-9EC3-9DC947512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0C56-2380-4A6E-8479-171C68F90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1A87-A82C-4770-9A24-BC0CA0FEF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14F7-5989-4A09-B7B5-848A2BCBE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2171-B7CD-4D63-86C9-4BF394D2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1EF6-A2D1-436F-95FB-CC016D687A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Ma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pril performance was 99.91%. This was above the service level target of 9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, TML Report Explor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pril performance was 99.89%. This was above the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, Wholesale Total, 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pril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614520" y="990720"/>
            <a:ext cx="779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609480" y="941400"/>
            <a:ext cx="77724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066680" y="793800"/>
            <a:ext cx="67820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156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319040" y="719280"/>
            <a:ext cx="683424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343160" y="838080"/>
            <a:ext cx="642924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5-06T20:22:20Z</dcterms:modified>
  <cp:revision>339</cp:revision>
  <dc:subject/>
  <dc:title>Instructions</dc:title>
</cp:coreProperties>
</file>