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03FB-3350-45B4-862C-DC06B80C2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2EF2-F03D-413E-99C0-AE2A45EE76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B979-1A00-4777-B17E-B8C94FD8EE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ED56-15D9-4180-BF31-6600A67E5E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0D8B-C922-4834-8C55-DC6FDC4284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90A1-C2F5-4DCA-BCFF-025B3FF384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DA19-730D-438B-93BD-7B46B5911A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D061-B57B-4E0F-87C3-5B01ED0976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147-1B85-41A7-A79C-0C7F81FB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B0B-8651-4A30-A6BC-901B5B90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CDB-EC3A-47CC-A17F-673FE6F9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027-2C3B-4494-BF2B-C9CCB072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C82C-05E7-47AD-8A9E-F87ECBEE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693A-2283-41EC-ACAF-8FBB6D9D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8DED-A1C4-4542-AD79-E05B88ED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64FF-42CA-47CD-9301-1EE88F2D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8426-8E6E-4AEF-9D54-6A93C37C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3B60-292C-4DDF-93AB-9DE54218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6694-3612-4398-83EE-D14F3575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FE2-8957-4AEA-AAF4-E16CD31F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E96A-958C-4D4A-AA07-331DB28D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8081-B47A-450B-AED4-9DFF8970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6968-7905-42D4-92C7-8FC131D5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1759-D67B-4A6A-BAFC-9AEBE24F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8252-9EDB-464F-9F1E-E889BF96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242-F2AE-4069-8014-607F9857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3DB-E84B-435F-90CB-D65A2279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2A2-6886-4A8A-8400-E20CBC2A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0F63-D831-4E01-8CC2-2AB1071C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F60-3612-4DBA-B270-D0CE4835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D3D-07F2-498E-9033-29C80ACB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3DC-AEB0-4243-BA06-4EA54C82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D3A6-C0EE-4913-94EE-0C6F53255C1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2202-7288-4B9C-BFDF-057C02C3A4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09D4-B04B-4939-8E4C-1830FA86FB9C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6BBB-7DC1-4D90-AFE1-EC0429FBF6A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puc.state.tx.us/electric/projects/34610/AMITMtg042009/Assumptions_Project_2_Web_Port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MS Update May 13, 200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685800" y="1600200"/>
          <a:ext cx="7848720" cy="5116680"/>
        </p:xfrm>
        <a:graphic>
          <a:graphicData uri="http://schemas.openxmlformats.org/drawingml/2006/table">
            <a:tbl>
              <a:tblPr/>
              <a:tblGrid>
                <a:gridCol w="3200400"/>
                <a:gridCol w="2013120"/>
                <a:gridCol w="2635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ecution Milest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374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374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374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hnical Architecture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/15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7/24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ailed Designs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/11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Tes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/11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s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/06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Tes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/06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L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/14/20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ff-cycl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Sched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Live (Contingency Da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/12/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bilization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/19/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omp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/21/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itle 1"/>
          <p:cNvSpPr/>
          <p:nvPr/>
        </p:nvSpPr>
        <p:spPr>
          <a:xfrm>
            <a:off x="762120" y="-609480"/>
            <a:ext cx="7696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roject 80027 for 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ERCOT’s Statu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3"/>
          <p:cNvSpPr/>
          <p:nvPr/>
        </p:nvSpPr>
        <p:spPr>
          <a:xfrm>
            <a:off x="6019920" y="4876920"/>
            <a:ext cx="380880" cy="38088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8F5F-D0AC-491B-8551-F7657134819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Retail Market Guide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Revision (RMGRR) 075 </a:t>
            </a:r>
            <a:br>
              <a:rPr sz="4400"/>
            </a:b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925040" cy="35049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7" name="TextBox 5"/>
          <p:cNvSpPr/>
          <p:nvPr/>
        </p:nvSpPr>
        <p:spPr>
          <a:xfrm>
            <a:off x="609480" y="19051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etering Implementation Team (AMIT) Assump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ril 27, 2009  2:34 P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762120" y="6095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59f07"/>
                </a:solidFill>
                <a:uFillTx/>
                <a:latin typeface="Arial"/>
                <a:hlinkClick r:id="rId2"/>
              </a:rPr>
              <a:t>http://www.puc.state.tx.us/electric/projects/34610/AMITMtg042009/Assumptions_Project_2_Web_Portal.pdf</a:t>
            </a:r>
            <a:r>
              <a:rPr b="0" lang="en-US" sz="1800" spc="-1" strike="noStrike">
                <a:solidFill>
                  <a:srgbClr val="0f161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1167-AD50-4DA3-ACFE-8754F9D6800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59984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provide documented support for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sumption                 A-025.P2  Web Portal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cerning 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he TDSP provided FTP site is an interim solution available until the Host is able to provide this FTP service after the implementation of the web port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, Oncor request that the following clarification be included into RMGRR075 se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7.15.3     Posting Data to TDSP FTP Si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DSPs will provide on their FTP site settlement quality interval  data no later than 12:00 PM CPT of the next calendar day using the ERCOT specified file format (Section 9, Appendix F7, - File Layout for ERCOT Specified File Format) for each Electric Service Identifier (ESI ID) with a provision AMS meter.  Competitive Retailers (CRs) will access the TDSP's FTP site to retrieve the daily fifteen (15) minute interval  data associated with a provisioned AMS meter for their ESI ID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TDSPs will discontinue posting interval data to their FTP sites after this functionality is available on the Common Web Portal for Competitive Retailers  (CRs) to retriev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1921320" indent="-2214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21320" indent="-2214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Retail Market Guide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Revision (RMGRR) 075 </a:t>
            </a:r>
            <a:br>
              <a:rPr sz="4400"/>
            </a:b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DF6A-A28F-4C1D-AF79-67F9A5168B9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F Request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RMS Approval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2120" y="1600200"/>
            <a:ext cx="7696080" cy="53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tail Market Guide Revision Request (RMGRR075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s New Section 7.15 “Advanced Meter Interval Data File Format and Submission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le layout and data requirements for ERCOT Specified File Format for both ERCOT and TDSP’s FTP si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cess for TDSPs to post files to their FTP site for CR downloads or transmit files via NAESB to ERCO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le Naming Conven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cumented file size limitations for files sent to ERCOT will contain no more than 50,000 trans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8305920" y="5257800"/>
          <a:ext cx="83808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5257800"/>
                    <a:ext cx="8380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DD89-73E6-4245-A982-5F37C50D58D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verb" presetID="1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xt Steps for MAR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62120" y="1773000"/>
            <a:ext cx="7696080" cy="485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Discuss and develop a transition plan to manage high volumes of 814_20s to change load profiles for AMS Provisions meters following ERCOT’s Project 80027 system implementatio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meeting planned for June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ollowing COPS, if COPS will adjourn at no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Discuss action item from RMS concerning file format currently used by TDSPs to communicate their AMS installations.  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ontinue to update RMS and COPS on the progress of Project 80027 Market Interim Settlement Solution for AMS meters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4A17-159B-4CF4-9903-A4D94780CF0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112" name="Content Placeholder 3" descr="j0083153.wmf"/>
          <p:cNvPicPr/>
          <p:nvPr/>
        </p:nvPicPr>
        <p:blipFill>
          <a:blip r:embed="rId1"/>
          <a:stretch/>
        </p:blipFill>
        <p:spPr>
          <a:xfrm>
            <a:off x="2968560" y="3651120"/>
            <a:ext cx="3133800" cy="306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3" name="Picture 4" descr="j0385990.jpg"/>
          <p:cNvPicPr/>
          <p:nvPr/>
        </p:nvPicPr>
        <p:blipFill>
          <a:blip r:embed="rId2"/>
          <a:stretch/>
        </p:blipFill>
        <p:spPr>
          <a:xfrm>
            <a:off x="-6480" y="1670040"/>
            <a:ext cx="3292560" cy="3444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j0320142.wmf"/>
          <p:cNvPicPr/>
          <p:nvPr/>
        </p:nvPicPr>
        <p:blipFill>
          <a:blip r:embed="rId3"/>
          <a:stretch/>
        </p:blipFill>
        <p:spPr>
          <a:xfrm>
            <a:off x="5877000" y="1695600"/>
            <a:ext cx="3029040" cy="691200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8965-9A69-4E97-8629-66B69E57B23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Scott, Kathy D.</cp:lastModifiedBy>
  <dcterms:modified xsi:type="dcterms:W3CDTF">2009-05-02T03:58:08Z</dcterms:modified>
  <cp:revision>102</cp:revision>
  <dc:subject/>
  <dc:title>MARS Taskforce </dc:title>
</cp:coreProperties>
</file>