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763B-2F0E-4029-8444-07EDC5CD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5DEB-5BC2-4F98-9DEE-C38590F4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C313-EF98-4661-B135-06CBFC46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903E-98FC-42A3-A73A-628B3BC3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65AA-3E17-443F-9B9D-F8C914C7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3AFD-5E03-4849-8289-D0DCD1C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90B-549F-415F-BC6A-95CF126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664C-DD82-4583-AD73-C8BAE84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D147-DD73-4835-9AF1-B363267C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3296-3B5D-40F1-8DE8-12528DEF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4C3B-BF81-4BA6-B242-30826AE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AAF9-0C16-4784-92D2-DFC6BD7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7AA-191D-4943-9E27-06F536CA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00A-A52E-401A-BB32-080D62DB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12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44792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ercial Operations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y 12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219320" y="3505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ttlement of Distributed Renewable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SI ID represented by a Retail Electric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G located behind NOIE meter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RCOT Protocols Section 16.5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 of Generation Resources, Loads Acting as a Resource and Emergency Interruptible Load Servic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Generation Resource connected to the ERCOT Transmission System, distributed generator over one (1) megawatt (MW), Load acting as a Resource and Emergency Interruptible Load Service (EILS) Resource must register with ERC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generation is an electrical generating facility located at a Customer’s point of delivery (point of common coupling) of ten (10) megawatts (MW) or less and connected at a voltage less than or equal to sixty (60) kilovolts (kV) which may be connected in parallel operation to the utilit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rotocols Section 2 (definition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 that produce energy and that are owned or operated by a Generation Ent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 or controller of a Generation Resource used for generating electricity and electrically connected to the ERCOT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G treated as NOIE Load UFE Impa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as Total ERCOT Generation minus Total ERCOT Load which is adjusted for transmission and distribution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is for resources that are registered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IE Distributed Generation is not registered at ERCOT, this will affect UFE seeing that this generation will not be included in the Total ERCOT Generatio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ttlement of Distributed Renewable Gener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ment of  DRG for ESI IDs represented by a Retail Electric Provi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discussions have provided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G with a design capacity &lt; 50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tocols Section 11.4.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Market Guide section 7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G with a design capacity &gt; 50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using existing generation settlemen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RG “output” to be included in settlements it must be regist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ttlement of Distributed Renewable Gener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ment of  DRG located behind NOIE metering poi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G with a design capacity &lt; 50k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tocols Section 10.2.2 provides TDSP exemption from reporting if not Registered as a Generatio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G with a design capacity &gt; 50kW - Market discussions needed to provid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tocols Section 10.2.2 require TDSP to report this generation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tocols Section 16.5 does not require registration if less than 1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y are we taking up your tim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discussions needed to provide direction on the Settlement of  DRG located behind NOIE metering points with a design capacity &gt; 50k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 as gen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 as NOIE “load inflow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s U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TDSP exemption from repor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NOIE “Total Lo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 and Feedbac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95480"/>
            <a:ext cx="75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material in support of the presentation follows thi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rotocols Section 11.4.4.2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4.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Reduction for Excess PhotoVoltaic Renewable Gen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Metered Load (AML) for ESI IDs with PhotoVoltaic (PV) generation shall be adjusted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L shall be reduced for excess generation from ESI IDs with PV generation of less than fifty (50) kW behind the meter where there is a meter that measures excess energy flow into the ERCOT System in a separate register.  Only ESI IDs that have been assigned a PV profile segment as specified in Load Profiling Guide Appendix D, Profile Decision Tree, shall be eligible for this reduction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Retail Market Guides section 7.14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flow Power from Distributed Renewable Generation Fac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on January 1, 2009, Customers with on-site Distributed Renewable Generation (DRG) facilities as defined in Public Utility Regulatory Act, TEX. UTIL. CODE ANN. § 39.904 (Vernon 1998 &amp; Supp. 2007) (PURA) with a capacity of less than fifty (50) kW, may sell out-flow power that is delivered onto the distribution network.  Retail Electric Providers (REPs), via their Qualified Scheduling Entities (QSEs), can receive a wholesale settlement adjustment for this out-flow power energy, according to the process and requirements outlined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Retail Market Guides section 7.14.1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.14.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imary Requirements for Receiving a Settlement Adjustment for Out-Flow Pow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order for ERCOT to provide the wholesale settlement adjustment for out-flow power, t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llowing requirements must be me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current and valid Interconnection Agreement must be in place with the Transmission and/or Distribution Service Provider (TDSP), as described in P.U.C. Subst. R. 25.211, Interconnection of On-Site Distributed Generation (DG), and P.U.C. Subst. R. 25.212, Technical Requirements for Interconnection and Parallel Operation Of On-Site Distributed Gener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requested metering that measures and reports separately, consumption from the distribution network and out-flow power from the Customer’s side of the meter to the distribution network must be install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non-Interval Data Recorder (IDR) metering, both the Load and out-flow power measured at the point of common coupling must be settled with non-IDR data and the Electric Service Identifier (ESI ID) must be assigned to a DRG Load Profile (see the Load Profiling Guide for further information on Load Profile requirements)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IDR metering, both the Load and out-flow power measured at the point of common coupling must be settled with IDR data and the facility must be registered with ERCOT as a Generation Resource and be assigned a Resource ID (RID).  Out-flow power associated with the RID will be settled to the QSE associated with the RI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more detailed information about the resource registration process, Market Participant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Ps) should contact their designated ERCOT account representativ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RCOT Protocols Section 10.2.2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.2.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DSP Metered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s are responsible for supplying ERCOT with meter data associated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Loads using the ERCOT System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Generation Resource that delivers less than ten (10) MW to the ERCOT System and that is connected directly to the distribution system; a TDSP may make some or all such meters ERCOT-Polled Settlement (EPS) compliant and may request that ERCOT poll the meters. Notwithstanding the foregoing sentence, meter data is not required fro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owned by a NOIE and used for NOIE’s self-use (not serving Customer Load)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generation with a design capacity less than fifty (50) kW interconnected to a TDSP and not registered as a Generation Resourc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indall</dc:creator>
  <dc:description/>
  <dc:language>en-US</dc:language>
  <cp:lastModifiedBy>Don Tucker</cp:lastModifiedBy>
  <dcterms:modified xsi:type="dcterms:W3CDTF">2009-04-27T20:19:15Z</dcterms:modified>
  <cp:revision>55</cp:revision>
  <dc:subject/>
  <dc:title>Instructions</dc:title>
</cp:coreProperties>
</file>