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B08F-AD0E-4326-BB37-2F4DF2E5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96D7-8F17-4F9B-B85E-883C34BC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21C-277B-4120-BC81-4727CE2F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520F-A59A-4F63-97FA-2787A7DC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B1F3-8FC4-4972-AFC0-10AB290E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06D4-F8DE-4C56-A02B-CE1B4A87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4B40-F407-4B05-B2D9-E4521556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84F1-879F-462A-8F99-E12DF2C1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6A74-3C4E-485A-A15A-03C92012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645C-8A22-4F4F-B9CB-A6545F01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C59B-8B47-486E-AE09-76BA0B25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B18-63FC-40D4-920D-C98DFB6A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617B-0F2D-4516-A711-7E16BF34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28F3-75F4-40E9-9681-A4ABA4FE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E6CA-8CD6-4170-8958-2F384447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1F88-2BEE-4339-B8B1-E219E219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7841-9AA1-4703-A957-23CE35BE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4CF-F54E-4892-95A7-E7CE7882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5584-1D8B-4B2A-916C-B63C42F7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95E-FE1D-4E3A-BB7D-4735750E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D2A1-50F6-455D-AC9D-9F52272B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02E-E38A-471E-B887-D7F4C1DF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045-F900-412D-BB02-903FEBFB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166-10D1-4ED3-A2CC-93279738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6E3B-F0E7-48A2-85CC-6EDB92A42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72CD-B5D7-48D7-B1D1-B2BFE718EB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762120" y="914400"/>
            <a:ext cx="7848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AC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ay 7, 2009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eting Updat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0F5D-4B0A-483E-A17F-DBF67108F4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Highlights of May 7</a:t>
            </a:r>
            <a:r>
              <a:rPr b="0" lang="en-US" sz="4000" spc="-1" strike="noStrike" u="sng" baseline="30000">
                <a:solidFill>
                  <a:srgbClr val="ffff00"/>
                </a:solidFill>
                <a:uFillTx/>
                <a:latin typeface="Arial"/>
              </a:rPr>
              <a:t>th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TAC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 Board Update (April 22, 200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ved PRRs 768, 789, 790, 803, and 8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ved NPRR 14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’s request to revise the Nodal Surcharge is filed and pending before the P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, at the request of the PUCT, expects to present at the May ERCOT Board meeting their evaluation of the possible impacts of CO2 legislation on Texas electricity consum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D341-AC18-42CC-8E8A-491E440202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Highlights of May 7</a:t>
            </a:r>
            <a:r>
              <a:rPr b="0" lang="en-US" sz="4000" spc="-1" strike="noStrike" u="sng" baseline="30000">
                <a:solidFill>
                  <a:srgbClr val="ffff00"/>
                </a:solidFill>
                <a:uFillTx/>
                <a:latin typeface="Arial"/>
              </a:rPr>
              <a:t>th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TAC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S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R 796, Resource Plan Performance Metrics Revision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R 800, QSE Day-Ahead Metric (URGENT) –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R 802, TCR Transition to CRR Refund Revision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PRR 157, Extending Black start Service Bid Timeline –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PRR 163, Removal of Late Fee Language –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PRR 166, Timing for Required Black Start Unit Load Carrying Test –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PRR 167, Options for Filing Verifiable Costs –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king Deck Concept for NPRRs –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dorsed by T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thodology for handing NPRRs that cannot be implemented prior to the Nodal Market Go-Life D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PRRs approved and ranked by PRS, considered by TAC, and approved by the Bo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cluded as gray boxed language in the Protoco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ced in the Nodal tab of the Project Prioritization List (PPL), the “parking deck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 a specified date (to be determined), ERCOT will begin completing 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2012 PPL will include the selection of parking deck items for post-Go-Liv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7A08-68BB-48B4-8A81-62861F54B9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Highlights of May 7</a:t>
            </a:r>
            <a:r>
              <a:rPr b="0" lang="en-US" sz="4000" spc="-1" strike="noStrike" u="sng" baseline="30000">
                <a:solidFill>
                  <a:srgbClr val="ffff00"/>
                </a:solidFill>
                <a:uFillTx/>
                <a:latin typeface="Arial"/>
              </a:rPr>
              <a:t>th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TAC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xas Nodal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al Project Timeline presen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ed the process to align Market Protocols, Applications, and 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eview of the Protoc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cing Protocols back to market expec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cing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ning for Nodal Release 2 will begin prior to Go-L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p priority to assist MPs in preparing for Nodal and Linda Clark presented key items that the plan will incl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 Go-Live, switchover on Aug 31 for TSP submissions of network operations model change requests from “Service Request” submission via TML to NOMCR submissions via the NM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gle Entry system to update both the Nodal NMMS Model to support Nodal testing and the Zonal Service Request uploads into the Zonal Genesys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sting system access Jun 8 to Aug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-SEM Instructor led training in Taylor Jun 22 to Au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-SEM Instruction led training in Taylor Sep 23 to Oct 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asked TAC if there are any concerns related to posting the Network Operations Model prior to Nodal Go-Live, Aug 31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C asked ROS and WMS to review the data and report concer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8852-18F3-4824-9A3F-CF05DE66F3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Highlights of May 7</a:t>
            </a:r>
            <a:r>
              <a:rPr b="0" lang="en-US" sz="4000" spc="-1" strike="noStrike" u="sng" baseline="30000">
                <a:solidFill>
                  <a:srgbClr val="ffff00"/>
                </a:solidFill>
                <a:uFillTx/>
                <a:latin typeface="Arial"/>
              </a:rPr>
              <a:t>th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TAC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keholder Engagement in Nodal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 Bruce presented the Nodal Implementation Advisory Board (NIAB) con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nnon McClendon will present alternative proposals for consideration at the June TAC me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onal Planning Group Cha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roved by the Board with language that requires generation interconnection projects costing more than $15 million or requiring a CCN to be reviewed by the R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S suggested the original language and add generation interconnection projects costing more than $50 million, as part of the Full Interconnection Study for information purposes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C deferred this issue until next mon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8EC8-8A37-4B3C-A8B8-AE4082F047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Highlights of May 7</a:t>
            </a:r>
            <a:r>
              <a:rPr b="0" lang="en-US" sz="4000" spc="-1" strike="noStrike" u="sng" baseline="30000">
                <a:solidFill>
                  <a:srgbClr val="ffff00"/>
                </a:solidFill>
                <a:uFillTx/>
                <a:latin typeface="Arial"/>
              </a:rPr>
              <a:t>th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TAC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GRR 025, Monitoring Programs for QSEs, TSPs, and ERC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s Section 9 to incorporate metrics to be monito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S and WMS will continue to work on NOGRR 025 and in parallel ERCOT is working with the Commission on Nodal metr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S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MS will provide an update to TAC in June on how PRR 776, Automatic Adjustment During Intervals of Non-Spinning Reserve Service Deployment, is wor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xas Regional Entity (TRE)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RC LSE Registration Process – JRO contractual language is being prepared and a draft will be sent to LSERWG on 5/8/09 for re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with ERCOT, PUCT, ROS, and WMS on NOGRR 02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9906-7ED5-4F23-A0A9-E98A531711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A13B-2EC7-4DC1-868B-750E16D6C9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trenarym</cp:lastModifiedBy>
  <dcterms:modified xsi:type="dcterms:W3CDTF">2009-05-11T18:18:27Z</dcterms:modified>
  <cp:revision>79</cp:revision>
  <dc:subject/>
  <dc:title>Slide 1</dc:title>
</cp:coreProperties>
</file>