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D9F-23F6-4CD4-809C-6FEC956F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BA4-2AE7-4703-8D32-3B2A5539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740-E386-4CD2-B91C-E9BBAA01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E50-C74A-496B-BCBE-21608CEE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F8F2-8984-48F3-97FD-62DDDE9A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FBE6-A463-4807-ABD5-F9516374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7136-41DD-4483-AC34-7EAE20A0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7898-7199-4A04-AD9C-EBA484F0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61BF-1269-4B03-AACC-88286A23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B6BD-91C8-4C5F-AC64-E4C76542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A4F2-D52B-4C7C-B298-47B69644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227-25F6-4B3C-B664-34A754BF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3732-60B4-4415-80FD-2B97958D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8C31-F47F-4B05-8332-01363885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D0C7-BCD3-4C6B-A5AF-40EF0B7B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755E-7941-47C7-9ADB-CCF71CE6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69C4-E0C6-4A02-AE87-9AE0AC5E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146-A754-4578-AF90-EFE1E8E4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E8D-AC5A-4250-8986-684162CB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69A-FB3B-4ED6-B286-606BB2A5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B6E-0B09-47C0-AB1D-97CD8FD3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65E8-E6B4-4DED-8DF7-B230D6CF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54A-F3E6-440C-9FF9-72C0BF47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4E8-7308-4B61-93F8-667834B1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4CFB-F48C-4A22-8B08-D12F11CB86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CF79-8D6D-4788-A1AF-BCC553040E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sla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reports/index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4725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WG Meeting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to COP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/12/200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1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ract Issu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reported on the Extract and Report issues from the mid January to Febru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ercot.com/services/sla/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 issues continue to be on the dec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il incidents, one outage and impacting late posting of Settlements and Billing Extr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dal CO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’s report summar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to DDL/XS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/join documentation and user guides po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new public Adjusted Metered Load (AML) report to support NPRR 16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site is updated every Friday with the latest information regarding reports and extra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nodal.ercot.com/readiness/reports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 Hoc Invoicing Proc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G discussed issues around the Ad Hoc Invoices process and ERCOT’s proposed resolutions focusing on consistent communications and updating of QSE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 needs to be made as to where this process resides, be it protocol or market gu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G recommends taking this topic to CCWG on May 26 meeting or June 30 mee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consistent communications makes CCWG the likely place to document the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PRR 158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drafted PRR 115 and NPRR 158 to incorporate Self Provision in the settlement of EI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subsequently recognized errors in settlement equations and went back to working groups to draft language and cor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R 115 was approved, NPRR 158 was tabled for PRR 786 which addressed which added  resettlement in place of a single settlement of EI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G reviewed changes and made comments and endorses the NPRR unanimous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FE Cost Dat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827000"/>
            <a:ext cx="79250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rket level UFE data was reviewed from the Hurricane Ike perio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bstantial comments and notes provided in the SEWG meeting notes as published on the SEWG page of ERCOT.c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comments received related to lessons learned and a need to evaluate what to do going forward for similar ev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5:41:07Z</dcterms:created>
  <dc:creator>Registered User</dc:creator>
  <dc:description/>
  <dc:language>en-US</dc:language>
  <cp:lastModifiedBy>Registered User</cp:lastModifiedBy>
  <dcterms:modified xsi:type="dcterms:W3CDTF">2009-05-11T18:05:01Z</dcterms:modified>
  <cp:revision>38</cp:revision>
  <dc:subject/>
  <dc:title>DEWG Meeting Summary</dc:title>
</cp:coreProperties>
</file>