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E9AB-C7A6-48C1-9078-A11AD88FED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191C-61EE-4758-851F-8F2DAB157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1C84-8F11-437E-BC7B-0188B37FB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A651-DC82-47ED-879A-F9273CA30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1035-6533-422B-83DD-551396369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92D6-BFA4-42D9-B008-44025F746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7ABA-A5FA-496A-9279-3181C3D87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5FC6-AEF8-479E-888E-26831E1695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05CE-463C-4A89-8970-409BA75632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D0D6-21D0-445D-B876-B2B3A9C4F6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F53D-B35B-4454-B327-900DFFB06D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FF30-0BB0-4D71-B094-3419BE05CB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56F2-F879-4AAC-A8A7-F587D05822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7E16-7B4D-4CBB-A0B4-A5E5192248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766C-674A-4948-82B9-A14538776D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61A6-7464-41D3-8DEE-D3B29AD752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158F-B9BB-4756-9501-CA4D04F52F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4244-23D1-4877-AF3F-0816A7CB1E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2206-F3D5-434E-AD56-E3C5A4AEBC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7BBB-F774-4504-B501-64B17FAD2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4777-A0B3-4B74-96F8-71B05A8B5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8D69-8DBF-48AC-91DD-314822534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4BA8-EE7B-43EB-9875-E8C9634B4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A2FD-4D75-4B2A-A20C-8C130FACC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9ABF-FDC2-47DD-B578-B912758B1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EC3A-AC96-45A7-BD86-64597F9DC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B432-B3E1-438D-8954-9EF061A4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6291B1-24F8-4A77-AA5F-B391F15A0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7B5514-595A-4EE2-AF03-FBC266239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May 2009 MO Projects Financial Overview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2010 PPL Prioritization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y 12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643C-9688-45DD-B5AE-1BE879CD6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arrish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46B1-EF17-452F-8F5A-0AA473EF6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 of project status on MO 2009 P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2009 Financ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0 PPL Priorit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raft 2010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e and rank initial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1B1B-5277-4040-B4B9-8F4D2A43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7" name="Object 4328"/>
          <p:cNvGraphicFramePr/>
          <p:nvPr/>
        </p:nvGraphicFramePr>
        <p:xfrm>
          <a:off x="488880" y="762120"/>
          <a:ext cx="85028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43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762120"/>
                    <a:ext cx="85028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51AD-339F-4D6B-8470-C9E1B8F48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3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280" y="762120"/>
          <a:ext cx="8763120" cy="481176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2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26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for 2009 on ILM is expected to be $1.2M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($740k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obtain funding from other CARTs to support ILM efforts (IO CART, etc.) as this is a critical need project.  This request will come at the Planning end dat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PL Priorit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PL Prioritization -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8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PL Prioritization – COPS Go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Ex with COPS – Apr 30 10-11am (Compl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Kick off at COPS – May 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 to prioritize and rank an Initial 2010 MO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Draft Project Charters, CBA and submit  – May 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Draft TCE for projects – May 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and finalize Draft Charter, CBA, and TCE week of May 2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e 2010 MO PPL  – June 9 COP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PL Prioritization – Project Cancel Discus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40056_01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emand Response for Settlement (PRR478 PRR38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is project was to implement a settlement solution for lag dynamic samples when a there is a lag between processing of a new profile.  This project was deferred until PWG and AMIT (PUC34610) have reviewed and confirmed this is still necess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uss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With the direction of Advanced Metering, should this project be cancell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PL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2010 PPL Initial – go to 2010_Planning_PPL_MO_05122009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R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riorit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satterfield</cp:lastModifiedBy>
  <dcterms:modified xsi:type="dcterms:W3CDTF">2009-05-07T01:54:57Z</dcterms:modified>
  <cp:revision>432</cp:revision>
  <dc:subject/>
  <dc:title>Role of Account Management at ERCOT</dc:title>
</cp:coreProperties>
</file>