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7FD3-34D1-46F0-AA93-5EF774EFC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BB59-2604-4C87-AC07-E77390C09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06F-3145-4230-9A26-298C7A33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6ED-760E-447E-846B-1B67A752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BE8-2BED-4ACD-B7EF-71219493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8DB-6A4A-4FEE-A1DF-E6977D95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A834-3C65-4C8E-82C3-DD2BB571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61DA-BD42-4B07-911D-668CE4E2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C89A-9C02-4D21-828C-697E84DD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9B4D-0A0D-4DD7-B8E8-9C290DB5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E0F7-6C85-4123-860E-A7BE5F13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CE08-31E9-4898-83BC-0A371C6E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9727-56EA-4FC3-99DE-E59E40FE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782-1C80-4952-82DC-2332640E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774A-1A02-4D47-AB1A-D48EED68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4332-F799-4B5A-B09C-DB527282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1DD6-8EB2-47BC-8396-B8E2A300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2805-6F3B-4B74-A876-089FDCD7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E5B7-98CF-45D0-9A37-7104249B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06A-8F1B-4282-8268-72449FE1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53BA-FB62-47E4-A607-8061F50A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8D51-DC7B-4F37-A052-16BF1631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EC9-77D2-4DDA-92F3-5E5AD3ED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984-9773-43E0-99DF-1E0D53F4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8F7-38AD-4171-8CC6-67CFE434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FD6-4D76-479A-A21F-5A89A7D4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554F-D347-411B-9AC0-7F05132EA4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0610-C878-45C4-B48F-9D86DAD2DB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April 28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CWG Update to C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12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484D-03DC-4F7A-A048-DEBF72544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April 28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Voting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R 755, ERCOT Websit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 includes a list of improvements to be made to the ERCOT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mprovements were cre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result of the 2008 Market Participant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te to accept the Recommendation Report, Impact Analysis, and possibly the Cost Benefi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D110-8AA8-4586-B4DC-869E49576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April 28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Voting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PMGRR 011, Updates to include the implementation of Project Number 70006-02 Website Enhancements for ERCOT Ou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Guide to reflect the process ERCOT will follow when communicating unplanned Retail and Wholesale System Outages to the Market and some administrative clean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planned Outages and Extract Issues will be identified on ERCOT.com under “View Data And Repor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d flag icon will appear to the right of the “Notices” header when an ERCOT Retail or Wholesale system is currently unavailable or there is an extract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s when a System Generated Market Notice versus a non-System Generated Notice will be used and shows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e to accept the Recommendation Report and the 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3091-F5DC-41C1-AD31-F0FA58520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April 28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 Communications and ERCOT Website Focus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WG is assisting ERCOT in the development of a survey that will focus on the ERCOT Website, ERCOT.com, and communications from ERCOT to MPs to gather more specif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reviewing and developing surve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FA96-82B4-4B65-880A-442FB99BB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April 28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MGR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RR 012, Disputes and Data Extract 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Analysis and Recommendation Report will be considered by CCWG in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RR 013, Update to Section 3, Organizational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Analysis and Recommendation Report will be considered by CCWG in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A3DA-18E8-4828-B2F6-2E3FC7E52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April 28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cumentation of ERCOT Invoice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Zonal Section 8, ERCOT Invoi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d-hoc Invoi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the Invoice Process Flow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Appendix A, Market Notice Communication Process, to include or refer to Market Notices for Ad-hoc Inv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e ENRON Payout Invoice, posted 4/27/09, was the first example of an Ad-hoc Invoice to follow the new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017A-F597-42EA-A5B3-74CE93536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April 28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mmercial Operations Market Gu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5, Commercial System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n hold, waiting on Nodal update to ERCOT Market Gu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7, Inputs to Settlement Process and Data 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urrently reviewing Load Aggregation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8, Settlement Statement and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urrently being work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9, Short Pay and Market Participant Defaul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 the planning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10, Congestion Revenue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n hold, waiting on development of the CRR Users’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1688-DC80-4A11-994D-4AE63CC84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April 28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ference Call / WebEx Onl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:30am – 12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ation of COPMG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ommunications and Website Focus Surve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 of COPMGRRs 12 &amp;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FBF0-52AC-49CE-AD98-2D348E5AD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trenarym</cp:lastModifiedBy>
  <dcterms:modified xsi:type="dcterms:W3CDTF">2009-05-05T20:07:53Z</dcterms:modified>
  <cp:revision>127</cp:revision>
  <dc:subject/>
  <dc:title>CCWG 2006 Accomplishments</dc:title>
</cp:coreProperties>
</file>