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D10-8A77-4A7C-8615-81368189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BD1-C88C-4448-A51C-B294AA3A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94A-D2D2-413A-886B-8F91C02E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191-AAB4-4A6E-8CD1-508DDF59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40D3-8B69-4EFB-B9DA-4683F7B7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752D-C3A3-45D8-98F6-CD144F0B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B598-84A6-41BE-9A4F-E1040AD6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7967-AA69-4A6C-A466-E21B7120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5921-154C-4110-91F5-50936374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BE4E-22AE-4EA5-BCEB-0221B3F2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9E2F-3B96-4B06-A8E5-9C0A1482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E1D-E7AD-4632-AB93-E66BDAA7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2D76-905F-49FF-B485-273E8276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8311-A002-4B36-A226-1830EE67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3FFC-6F90-4A65-8F91-C3E2E320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0AC9-FD90-461D-9309-8013B6F8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9D80-9CE3-4FA3-970A-A836CE74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F27-67E8-43E9-A986-3DE25453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B20-96C9-4B1A-9A4B-AE675273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565-4862-4C58-B592-02D7E45B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384-2CE6-4FE3-A3F2-401E772F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74E-65AB-43F0-8429-908F6460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64D-2A5C-488E-A9CD-E0B14BC2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019-A99E-45B8-BEB9-D561E5E0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2CD4-898C-4F23-B52D-18957F73F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A58A-606F-43A4-AD18-43DD2D17A3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762120" y="914400"/>
            <a:ext cx="78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ub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May 7, 200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8632-B504-4E88-920C-D2BA76765B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April 14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No Voting Items for T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OPS reviewed and approved language for SCR 7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List of improvements to the ERCOT website, www.ERCOT.com created as a result of the 2008 Market Participant Surv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come to TAC in J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697C-FD3F-4DFD-8941-15023F06FE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COPS Communication Working Gro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CWG will assist ERCOT in developing two focus surveys to gather more specific information on needed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RCOT Website, www.ERCO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unications to Market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inue to work on development of the COPS Market Guide for No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0D5A-0412-4552-951D-91159995A0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Profiling Working Gro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ew 2009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valuate language changes for Annual Validation Process due to Advanced Meter System (AM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ontinue to work on existing 2009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D2DE-E4A6-473F-A41B-8E243F22F7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Settlement and Extracts Working Gro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Extract and Report  issues continue to be on the dec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http://www.ercot.com/services/sl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odal Commercial Systems (COMS) documents po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http://nodal.ercot.com/readiness/reports/index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Draft Settlements User 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Draft Settlement Data Definition Language (DDL) Join Docu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351C-5089-4754-90E4-D6DF6A4ED0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Settlement and Extracts Working Gro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ERCOT Ad hoc Invoic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imary reason for Ad-hoc invoices are Market short-pays, ADR resolutions, and litigation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oncerns identifi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onsistency in communication of Inv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Delivery to QSE Cont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From” email address inconsis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ERCOT Staff  brought forward a solution to address Market Participants’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A728-C747-410E-8D82-F3921A198F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Settlement and Extracts Working Gro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ERCOT Ad hoc Invoice Proces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andy Bauld presented a draft ERCOT Invoice Process Flow Chart for all types of invo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Typical Settlement  - Initial, Final, True-up, and Resett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ontract Period Settlement - EILS and S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Recurring Non-Settlement  - WAN Fee, ERO Fee, and TCR A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Ad-hoc Settlement - Uplift and Lit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Undefined Scenarios, - Course of action to be determined by ERCOT Legal and Wholesale Client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F3BE-6065-4BCF-B0F4-08E2981028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Settlement and Extracts Working Gro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ERCOT Ad hoc Invoice Proces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ERCOT will create a new “Miscellaneous” folder on the TML for distribution of most Recurring Non-Settlement and Ad-hoc invoices (TCR Auction Revenue, ERO Fee, Uplift, and Litig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d-hoc invoices will be preceded by a Market Notice from ERCOT Wholesale Client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3C66-12F9-46CF-BAA5-281CAE2371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C515-1725-41D1-863D-A42666FCE2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trenarym</cp:lastModifiedBy>
  <dcterms:modified xsi:type="dcterms:W3CDTF">2009-04-16T22:16:23Z</dcterms:modified>
  <cp:revision>120</cp:revision>
  <dc:subject/>
  <dc:title>Slide 1</dc:title>
</cp:coreProperties>
</file>