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1536-ACE3-4D3C-A248-32E45EFB4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9486-3FC9-4DE1-9221-1FB68A2F6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AC3E-CF79-4A2B-9D24-2DE148803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B1D6-DD88-4486-8780-669A82036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7B50-F533-4DE3-B140-D29C4C33A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F3CF3-54D4-485E-9335-5F6B6793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756B-C33F-4CD8-B01E-9D86A093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2ADF-4AD1-44E9-B682-8A55A0DA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3C40-13C7-4B15-93CA-E35824A9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0200-AE1D-4FBF-AECF-0F8B25CC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76E5-58FD-4022-83F4-A41ABE98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5C62-0998-44C5-8770-548D1B76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DEAD-A847-4DA3-B444-3912054E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9ABF-EA5D-413E-89BE-7AF66A4F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53BC-28E8-424C-BEC4-07D01851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A755-67A1-49F0-BF14-1E744222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E9CF-FB06-47F2-8232-3650C83F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F3A7-4F30-4085-94E7-BF8909E46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7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1814-4E40-4BA1-9DAE-8EE89B852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7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chnical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33160" y="1904760"/>
            <a:ext cx="665820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xas Nodal Program Implementation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gram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ke Cle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r. VP and Chief Technology Offic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y 7,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79520" y="1095480"/>
            <a:ext cx="822960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High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s &amp;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Read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Program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762120" y="7621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609480" y="914400"/>
            <a:ext cx="1524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25"/>
          <p:cNvGraphicFramePr/>
          <p:nvPr/>
        </p:nvGraphicFramePr>
        <p:xfrm>
          <a:off x="969840" y="857160"/>
          <a:ext cx="720252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857160"/>
                    <a:ext cx="720252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6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isks &amp; Issues to Achieving Nodal’s Major Mileston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761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-Entry Model Go-Live (8-31-09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: NMMS defect-resolution threatens SEM Go-Live (CLO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Integrated Systems (11-18-09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: Resource conflict for Advanced Metering and Noda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: Handling CMM delays for Noda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: Zonal resource constraints for Noda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: Resource conflict could delay development of NMMS processes an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Market Trials (2-1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: Reconciling Protocols, Systems and Market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 Go-Live (12-1-1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: Data Center capacity conc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iamond 5"/>
          <p:cNvSpPr/>
          <p:nvPr/>
        </p:nvSpPr>
        <p:spPr>
          <a:xfrm>
            <a:off x="457200" y="838080"/>
            <a:ext cx="228600" cy="2286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iamond 6"/>
          <p:cNvSpPr/>
          <p:nvPr/>
        </p:nvSpPr>
        <p:spPr>
          <a:xfrm>
            <a:off x="457200" y="5562720"/>
            <a:ext cx="228600" cy="2286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iamond 7"/>
          <p:cNvSpPr/>
          <p:nvPr/>
        </p:nvSpPr>
        <p:spPr>
          <a:xfrm>
            <a:off x="457200" y="4419720"/>
            <a:ext cx="228600" cy="2286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iamond 8"/>
          <p:cNvSpPr/>
          <p:nvPr/>
        </p:nvSpPr>
        <p:spPr>
          <a:xfrm>
            <a:off x="457200" y="1981080"/>
            <a:ext cx="228600" cy="2286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52280" y="763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5791320" y="64580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8"/>
          <p:cNvSpPr/>
          <p:nvPr/>
        </p:nvSpPr>
        <p:spPr>
          <a:xfrm>
            <a:off x="8412120" y="319896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9"/>
          <p:cNvSpPr/>
          <p:nvPr/>
        </p:nvSpPr>
        <p:spPr>
          <a:xfrm>
            <a:off x="7299360" y="319896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0"/>
          <p:cNvSpPr/>
          <p:nvPr/>
        </p:nvSpPr>
        <p:spPr>
          <a:xfrm>
            <a:off x="6184800" y="319896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1"/>
          <p:cNvSpPr/>
          <p:nvPr/>
        </p:nvSpPr>
        <p:spPr>
          <a:xfrm>
            <a:off x="5072040" y="3198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2"/>
          <p:cNvSpPr/>
          <p:nvPr/>
        </p:nvSpPr>
        <p:spPr>
          <a:xfrm>
            <a:off x="3957480" y="3127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3"/>
          <p:cNvSpPr/>
          <p:nvPr/>
        </p:nvSpPr>
        <p:spPr>
          <a:xfrm>
            <a:off x="3881520" y="319896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4"/>
          <p:cNvSpPr/>
          <p:nvPr/>
        </p:nvSpPr>
        <p:spPr>
          <a:xfrm>
            <a:off x="2190600" y="319896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5"/>
          <p:cNvSpPr/>
          <p:nvPr/>
        </p:nvSpPr>
        <p:spPr>
          <a:xfrm>
            <a:off x="885960" y="319896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6"/>
          <p:cNvSpPr/>
          <p:nvPr/>
        </p:nvSpPr>
        <p:spPr>
          <a:xfrm>
            <a:off x="3957480" y="1770120"/>
            <a:ext cx="0" cy="88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7"/>
          <p:cNvSpPr/>
          <p:nvPr/>
        </p:nvSpPr>
        <p:spPr>
          <a:xfrm>
            <a:off x="8194680" y="3813120"/>
            <a:ext cx="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8"/>
          <p:cNvSpPr/>
          <p:nvPr/>
        </p:nvSpPr>
        <p:spPr>
          <a:xfrm>
            <a:off x="6211800" y="38131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9"/>
          <p:cNvSpPr/>
          <p:nvPr/>
        </p:nvSpPr>
        <p:spPr>
          <a:xfrm>
            <a:off x="4805280" y="3813120"/>
            <a:ext cx="9720" cy="9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0"/>
          <p:cNvSpPr/>
          <p:nvPr/>
        </p:nvSpPr>
        <p:spPr>
          <a:xfrm>
            <a:off x="2739960" y="4465800"/>
            <a:ext cx="0" cy="9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1"/>
          <p:cNvSpPr/>
          <p:nvPr/>
        </p:nvSpPr>
        <p:spPr>
          <a:xfrm>
            <a:off x="1703520" y="447048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2"/>
          <p:cNvSpPr/>
          <p:nvPr/>
        </p:nvSpPr>
        <p:spPr>
          <a:xfrm>
            <a:off x="666720" y="4465800"/>
            <a:ext cx="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3"/>
          <p:cNvSpPr/>
          <p:nvPr/>
        </p:nvSpPr>
        <p:spPr>
          <a:xfrm>
            <a:off x="1049400" y="919080"/>
            <a:ext cx="0" cy="8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4"/>
          <p:cNvSpPr/>
          <p:nvPr/>
        </p:nvSpPr>
        <p:spPr>
          <a:xfrm>
            <a:off x="2928960" y="1770120"/>
            <a:ext cx="0" cy="88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2209680" y="1055520"/>
            <a:ext cx="6400800" cy="1481400"/>
          </a:xfrm>
          <a:prstGeom prst="rect">
            <a:avLst/>
          </a:prstGeom>
          <a:solidFill>
            <a:srgbClr val="cccccc">
              <a:alpha val="3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467080" y="2655720"/>
            <a:ext cx="914400" cy="4572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am 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et 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7721640" y="3909960"/>
            <a:ext cx="914400" cy="46692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80" indent="-46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RCOT &amp; Marke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adiness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rray Nixo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cti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209520" y="4581360"/>
            <a:ext cx="914400" cy="46692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ry Niel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1273320" y="4573440"/>
            <a:ext cx="914400" cy="46692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uel Atanac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8"/>
          <p:cNvSpPr/>
          <p:nvPr/>
        </p:nvSpPr>
        <p:spPr>
          <a:xfrm>
            <a:off x="1434960" y="5165640"/>
            <a:ext cx="776520" cy="4572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DW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hawna Jirase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3"/>
          <p:cNvSpPr/>
          <p:nvPr/>
        </p:nvSpPr>
        <p:spPr>
          <a:xfrm>
            <a:off x="2467080" y="1865160"/>
            <a:ext cx="914400" cy="5619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ef Technolog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ke Cle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8"/>
          <p:cNvSpPr/>
          <p:nvPr/>
        </p:nvSpPr>
        <p:spPr>
          <a:xfrm>
            <a:off x="2209680" y="3919680"/>
            <a:ext cx="914400" cy="4572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rket &amp; Grid Oper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rray Nix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9"/>
          <p:cNvSpPr/>
          <p:nvPr/>
        </p:nvSpPr>
        <p:spPr>
          <a:xfrm>
            <a:off x="3503520" y="3274920"/>
            <a:ext cx="914400" cy="4860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dal Program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dget Mg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ris Howe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3"/>
          <p:cNvSpPr/>
          <p:nvPr/>
        </p:nvSpPr>
        <p:spPr>
          <a:xfrm>
            <a:off x="3355920" y="4575240"/>
            <a:ext cx="914400" cy="106668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eff Robins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OS &amp; CRR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ankara Krishnaswamy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M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anice Ays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5"/>
          <p:cNvSpPr/>
          <p:nvPr/>
        </p:nvSpPr>
        <p:spPr>
          <a:xfrm>
            <a:off x="4379760" y="3919680"/>
            <a:ext cx="914400" cy="4572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mercial System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pe Parri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6"/>
          <p:cNvSpPr/>
          <p:nvPr/>
        </p:nvSpPr>
        <p:spPr>
          <a:xfrm>
            <a:off x="4386240" y="4579920"/>
            <a:ext cx="914400" cy="126828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&amp;B and CS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ustin Rasber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M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thy Cioff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inancial Transf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hyllis Encin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eg/Disput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ay Katske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7"/>
          <p:cNvSpPr/>
          <p:nvPr/>
        </p:nvSpPr>
        <p:spPr>
          <a:xfrm>
            <a:off x="5743440" y="3919680"/>
            <a:ext cx="914400" cy="4572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dal Enterprise Ver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da Clar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8"/>
          <p:cNvSpPr/>
          <p:nvPr/>
        </p:nvSpPr>
        <p:spPr>
          <a:xfrm>
            <a:off x="5460840" y="4573440"/>
            <a:ext cx="1524240" cy="162108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tegration Technical Solutions Operational Readin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ohn McCal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2E Business Scenario Test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drea Shepher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P Readin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rket Trial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ason Iacobucc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ystem Cutov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*Protocol Alignment Project*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2"/>
          <p:cNvSpPr/>
          <p:nvPr/>
        </p:nvSpPr>
        <p:spPr>
          <a:xfrm>
            <a:off x="2305080" y="4575240"/>
            <a:ext cx="914400" cy="44748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S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3"/>
          <p:cNvSpPr/>
          <p:nvPr/>
        </p:nvSpPr>
        <p:spPr>
          <a:xfrm>
            <a:off x="2279520" y="5156280"/>
            <a:ext cx="914400" cy="77148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IS Port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rett Economid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resh Chunduri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3"/>
          <p:cNvSpPr/>
          <p:nvPr/>
        </p:nvSpPr>
        <p:spPr>
          <a:xfrm>
            <a:off x="3497400" y="1874880"/>
            <a:ext cx="914400" cy="55224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ef Financial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ve By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3"/>
          <p:cNvSpPr/>
          <p:nvPr/>
        </p:nvSpPr>
        <p:spPr>
          <a:xfrm>
            <a:off x="4495680" y="1884240"/>
            <a:ext cx="914400" cy="54288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ef Operation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 Dogge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3"/>
          <p:cNvSpPr/>
          <p:nvPr/>
        </p:nvSpPr>
        <p:spPr>
          <a:xfrm>
            <a:off x="4805280" y="1131840"/>
            <a:ext cx="1305000" cy="4860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ef Executive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 Kah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56"/>
          <p:cNvSpPr/>
          <p:nvPr/>
        </p:nvSpPr>
        <p:spPr>
          <a:xfrm>
            <a:off x="6970680" y="115236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</a:rPr>
              <a:t>Executive Spon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7502400" y="4591080"/>
            <a:ext cx="1371600" cy="165744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rocesses &amp; Procedur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uck Hans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evin Furlo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ngagement &amp; Outrea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rket Train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d Hail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RCOT Train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uck Hans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eadiness Assess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eadiness Metric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randon McElfres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3"/>
          <p:cNvSpPr/>
          <p:nvPr/>
        </p:nvSpPr>
        <p:spPr>
          <a:xfrm>
            <a:off x="260280" y="1316160"/>
            <a:ext cx="1577880" cy="3204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RCO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5494320" y="1893960"/>
            <a:ext cx="914400" cy="5331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ef Inform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chard Morga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nteri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7497720" y="1893960"/>
            <a:ext cx="914400" cy="5331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ral Couns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ke Gr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9"/>
          <p:cNvSpPr/>
          <p:nvPr/>
        </p:nvSpPr>
        <p:spPr>
          <a:xfrm>
            <a:off x="4618080" y="3274920"/>
            <a:ext cx="914400" cy="4860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sour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rew Rinald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9"/>
          <p:cNvSpPr/>
          <p:nvPr/>
        </p:nvSpPr>
        <p:spPr>
          <a:xfrm>
            <a:off x="431640" y="3274920"/>
            <a:ext cx="914400" cy="4860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vid Forf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1066680" y="2655720"/>
            <a:ext cx="914400" cy="4572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am Control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amp; Review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9"/>
          <p:cNvSpPr/>
          <p:nvPr/>
        </p:nvSpPr>
        <p:spPr>
          <a:xfrm>
            <a:off x="5732640" y="3274920"/>
            <a:ext cx="914400" cy="4860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cess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yce Stat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9"/>
          <p:cNvSpPr/>
          <p:nvPr/>
        </p:nvSpPr>
        <p:spPr>
          <a:xfrm>
            <a:off x="1730520" y="3274920"/>
            <a:ext cx="914400" cy="4860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puty 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3"/>
          <p:cNvSpPr/>
          <p:nvPr/>
        </p:nvSpPr>
        <p:spPr>
          <a:xfrm>
            <a:off x="260280" y="919080"/>
            <a:ext cx="157788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ublic Utility Commiss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f Tex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9"/>
          <p:cNvSpPr/>
          <p:nvPr/>
        </p:nvSpPr>
        <p:spPr>
          <a:xfrm>
            <a:off x="6846840" y="3274920"/>
            <a:ext cx="914400" cy="4860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rk Osw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9"/>
          <p:cNvSpPr/>
          <p:nvPr/>
        </p:nvSpPr>
        <p:spPr>
          <a:xfrm>
            <a:off x="7961400" y="3274920"/>
            <a:ext cx="914400" cy="4860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m Kleck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8"/>
          <p:cNvSpPr/>
          <p:nvPr/>
        </p:nvSpPr>
        <p:spPr>
          <a:xfrm>
            <a:off x="885960" y="3198960"/>
            <a:ext cx="75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9"/>
          <p:cNvSpPr/>
          <p:nvPr/>
        </p:nvSpPr>
        <p:spPr>
          <a:xfrm>
            <a:off x="2927520" y="3112920"/>
            <a:ext cx="144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30"/>
          <p:cNvSpPr/>
          <p:nvPr/>
        </p:nvSpPr>
        <p:spPr>
          <a:xfrm>
            <a:off x="2660760" y="3813120"/>
            <a:ext cx="55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1"/>
          <p:cNvSpPr/>
          <p:nvPr/>
        </p:nvSpPr>
        <p:spPr>
          <a:xfrm>
            <a:off x="2664000" y="3813120"/>
            <a:ext cx="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2"/>
          <p:cNvSpPr/>
          <p:nvPr/>
        </p:nvSpPr>
        <p:spPr>
          <a:xfrm>
            <a:off x="666720" y="4465800"/>
            <a:ext cx="310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3"/>
          <p:cNvSpPr/>
          <p:nvPr/>
        </p:nvSpPr>
        <p:spPr>
          <a:xfrm>
            <a:off x="2660760" y="43768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4"/>
          <p:cNvSpPr/>
          <p:nvPr/>
        </p:nvSpPr>
        <p:spPr>
          <a:xfrm>
            <a:off x="3786120" y="4465800"/>
            <a:ext cx="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6492960" y="1893960"/>
            <a:ext cx="914400" cy="5331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ef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ministration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cy Capezzu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6"/>
          <p:cNvSpPr/>
          <p:nvPr/>
        </p:nvSpPr>
        <p:spPr>
          <a:xfrm>
            <a:off x="2928960" y="1770120"/>
            <a:ext cx="502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7"/>
          <p:cNvSpPr/>
          <p:nvPr/>
        </p:nvSpPr>
        <p:spPr>
          <a:xfrm>
            <a:off x="4956120" y="17701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8"/>
          <p:cNvSpPr/>
          <p:nvPr/>
        </p:nvSpPr>
        <p:spPr>
          <a:xfrm>
            <a:off x="5452920" y="1617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9"/>
          <p:cNvSpPr/>
          <p:nvPr/>
        </p:nvSpPr>
        <p:spPr>
          <a:xfrm>
            <a:off x="5954760" y="17701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0"/>
          <p:cNvSpPr/>
          <p:nvPr/>
        </p:nvSpPr>
        <p:spPr>
          <a:xfrm>
            <a:off x="6970680" y="17701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41"/>
          <p:cNvSpPr/>
          <p:nvPr/>
        </p:nvSpPr>
        <p:spPr>
          <a:xfrm>
            <a:off x="7951680" y="17701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42"/>
          <p:cNvSpPr/>
          <p:nvPr/>
        </p:nvSpPr>
        <p:spPr>
          <a:xfrm>
            <a:off x="1049400" y="1770120"/>
            <a:ext cx="171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3"/>
          <p:cNvSpPr/>
          <p:nvPr/>
        </p:nvSpPr>
        <p:spPr>
          <a:xfrm>
            <a:off x="2766960" y="1770120"/>
            <a:ext cx="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44"/>
          <p:cNvSpPr/>
          <p:nvPr/>
        </p:nvSpPr>
        <p:spPr>
          <a:xfrm>
            <a:off x="2766960" y="24271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5"/>
          <p:cNvSpPr/>
          <p:nvPr/>
        </p:nvSpPr>
        <p:spPr>
          <a:xfrm flipH="1">
            <a:off x="1628640" y="2579760"/>
            <a:ext cx="113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46"/>
          <p:cNvSpPr/>
          <p:nvPr/>
        </p:nvSpPr>
        <p:spPr>
          <a:xfrm>
            <a:off x="1628640" y="25797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3500280" y="2655720"/>
            <a:ext cx="914400" cy="4572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dal Financial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Mgmt Off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ke Petter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8"/>
          <p:cNvSpPr/>
          <p:nvPr/>
        </p:nvSpPr>
        <p:spPr>
          <a:xfrm>
            <a:off x="1433520" y="5699160"/>
            <a:ext cx="776160" cy="4572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marL="4680" indent="-468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OTS/MOTE/SO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okal Ra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9"/>
          <p:cNvSpPr/>
          <p:nvPr/>
        </p:nvSpPr>
        <p:spPr>
          <a:xfrm>
            <a:off x="1319040" y="5041800"/>
            <a:ext cx="0" cy="10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0"/>
          <p:cNvSpPr/>
          <p:nvPr/>
        </p:nvSpPr>
        <p:spPr>
          <a:xfrm>
            <a:off x="1319040" y="553392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1"/>
          <p:cNvSpPr/>
          <p:nvPr/>
        </p:nvSpPr>
        <p:spPr>
          <a:xfrm>
            <a:off x="1319040" y="607536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80"/>
          <p:cNvSpPr/>
          <p:nvPr/>
        </p:nvSpPr>
        <p:spPr>
          <a:xfrm flipV="1">
            <a:off x="6657840" y="4143240"/>
            <a:ext cx="106380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ligning Market Protocols, Apps &amp; Business Procedur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ontent Placeholder 2"/>
          <p:cNvSpPr/>
          <p:nvPr/>
        </p:nvSpPr>
        <p:spPr>
          <a:xfrm>
            <a:off x="457200" y="914400"/>
            <a:ext cx="8458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standard ISO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ERCOT-specific market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e to Design          Applications         Testing Resul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e to Busines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rm implementation of  standard ISO, ERCOT-specific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gaps between standard ISO, ERCOT-specific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799 process Go-Live vs. Post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ight Arrow 5"/>
          <p:cNvSpPr/>
          <p:nvPr/>
        </p:nvSpPr>
        <p:spPr>
          <a:xfrm>
            <a:off x="2895480" y="2286000"/>
            <a:ext cx="533520" cy="38088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ight Arrow 6"/>
          <p:cNvSpPr/>
          <p:nvPr/>
        </p:nvSpPr>
        <p:spPr>
          <a:xfrm>
            <a:off x="5105520" y="2286000"/>
            <a:ext cx="533160" cy="3808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Participant Readiness Approach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7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Participant Readines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7"/>
          <p:cNvGraphicFramePr/>
          <p:nvPr/>
        </p:nvGraphicFramePr>
        <p:xfrm>
          <a:off x="2286000" y="1143000"/>
          <a:ext cx="4572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143000"/>
                    <a:ext cx="4572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adiness Functional Area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9140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agement &amp; Outrea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and chair Nodal Market Implementation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 and track issues and action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uct phone and conference call campaigns/surv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ant Trai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/revise participant training curric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uct participant training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iness Assess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 assessment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participants to assess via market-segmentation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uct assessment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uct baseline and follow-on assessments to gauge read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 assessments and action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iness Metr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k/report readiness metric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e with internal read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dashboards, if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133800" y="25146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Nodal Communications</dc:creator>
  <dc:description/>
  <dc:language>en-US</dc:language>
  <cp:lastModifiedBy>tkleckner</cp:lastModifiedBy>
  <dcterms:modified xsi:type="dcterms:W3CDTF">2009-05-07T13:43:40Z</dcterms:modified>
  <cp:revision>191</cp:revision>
  <dc:subject>April Board Meeting</dc:subject>
  <dc:title>Nodal Program Update</dc:title>
</cp:coreProperties>
</file>