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7CC3-0996-4F8E-87F9-895A1AC5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499A-90AC-499C-8C0D-4EF000C8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6968-9771-43EC-A901-786EC817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8D98-F66D-4136-9956-4D4853D1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B57F-446A-4316-8D58-EA1A8840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2F88-276A-47AD-935A-24241739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5C3D-DDC7-479D-9341-4379BEBC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08ED-8E4A-4D29-86F9-0A875F91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1BF3-A16D-4841-A621-F78C318E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4908-CA60-4D19-876C-04D1558D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65A6-D85A-4823-BB1E-88AC237C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F398-CF4F-4EFC-98C8-82F65582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AC2E-9260-4CDA-B96B-40537FC5C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2659-42D9-4D2D-A3E6-6EC60A973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tting to Know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ystem Planning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n Woodfi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irector, System Plan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5/07/2009 - Update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ystem Plan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935520" y="1792440"/>
            <a:ext cx="1189080" cy="55692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n Wood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irector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ystem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7800" y="3693960"/>
            <a:ext cx="1189080" cy="58752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T and Special Stud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43160" y="3695760"/>
            <a:ext cx="1189080" cy="58716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sabel Flor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ys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78840" y="3693960"/>
            <a:ext cx="1188720" cy="58752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evin Hans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source Assess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67560" y="2835360"/>
            <a:ext cx="1189080" cy="56196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arren Las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anager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ys. Assess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7560" y="2835360"/>
            <a:ext cx="1188720" cy="56196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y Teixei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anager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gional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05480" y="3695760"/>
            <a:ext cx="1188720" cy="58716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ose Co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liability Assm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4320" y="3695760"/>
            <a:ext cx="1189080" cy="58716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eff Bil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ys Develop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4520" y="2835360"/>
            <a:ext cx="1188720" cy="561960"/>
          </a:xfrm>
          <a:prstGeom prst="rect">
            <a:avLst/>
          </a:prstGeom>
          <a:solidFill>
            <a:srgbClr val="8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ug Eva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anager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lann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3" idx="2"/>
            <a:endCxn id="101" idx="0"/>
          </p:cNvCxnSpPr>
          <p:nvPr/>
        </p:nvCxnSpPr>
        <p:spPr>
          <a:xfrm rot="5400000">
            <a:off x="2626200" y="931680"/>
            <a:ext cx="486720" cy="3321720"/>
          </a:xfrm>
          <a:prstGeom prst="bentConnector3">
            <a:avLst>
              <a:gd name="adj1" fmla="val 49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93" idx="2"/>
            <a:endCxn id="98" idx="0"/>
          </p:cNvCxnSpPr>
          <p:nvPr/>
        </p:nvCxnSpPr>
        <p:spPr>
          <a:xfrm rot="5400000">
            <a:off x="4032720" y="2338200"/>
            <a:ext cx="486720" cy="508680"/>
          </a:xfrm>
          <a:prstGeom prst="bentConnector3">
            <a:avLst>
              <a:gd name="adj1" fmla="val 49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93" idx="2"/>
            <a:endCxn id="97" idx="0"/>
          </p:cNvCxnSpPr>
          <p:nvPr/>
        </p:nvCxnSpPr>
        <p:spPr>
          <a:xfrm flipH="1" rot="16200000">
            <a:off x="5652360" y="1226160"/>
            <a:ext cx="486720" cy="2732400"/>
          </a:xfrm>
          <a:prstGeom prst="bentConnector3">
            <a:avLst>
              <a:gd name="adj1" fmla="val 49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6083280" y="857160"/>
            <a:ext cx="1311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ent Saath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Vice Presiden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ystem Planning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1880" y="3451320"/>
            <a:ext cx="16351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SWG/SPWG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pology Processing and Model On Demand (Noda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P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nning Web 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MCR verification (fu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8440" y="4375080"/>
            <a:ext cx="1424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Year Plan Develop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PG Projec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ration Interconn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ud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58040" y="4375080"/>
            <a:ext cx="14241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 Forecas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DR and related data and fil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are seasonal and LT NERC assess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are annual planning reports (“Constraints and Needs”, etc.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TSA (genera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erging Iss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43680" y="4375080"/>
            <a:ext cx="1423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TSA (transmission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cial and Interregional Stud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Z implemen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43160" y="4375080"/>
            <a:ext cx="142380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ual congestion analysis and near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rm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SA congestion fc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ual vs modeled congestion 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S and RMR Revie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05480" y="4375080"/>
            <a:ext cx="14238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ynamic Analy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WG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RC planning compliance stud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37280" y="1792440"/>
            <a:ext cx="1189080" cy="5569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John Ada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808080"/>
                </a:solidFill>
                <a:latin typeface="Arial"/>
              </a:rPr>
              <a:t>Director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808080"/>
                </a:solidFill>
                <a:latin typeface="Arial"/>
              </a:rPr>
              <a:t>Grid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1280" y="1792440"/>
            <a:ext cx="1188720" cy="5569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Colleen Fros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808080"/>
                </a:solidFill>
                <a:latin typeface="Arial"/>
              </a:rPr>
              <a:t>Manager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808080"/>
                </a:solidFill>
                <a:latin typeface="Arial"/>
              </a:rPr>
              <a:t>System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05" idx="2"/>
            <a:endCxn id="112" idx="0"/>
          </p:cNvCxnSpPr>
          <p:nvPr/>
        </p:nvCxnSpPr>
        <p:spPr>
          <a:xfrm rot="5400000">
            <a:off x="6591240" y="1645200"/>
            <a:ext cx="288360" cy="6840"/>
          </a:xfrm>
          <a:prstGeom prst="bentConnector3">
            <a:avLst>
              <a:gd name="adj1" fmla="val 49625"/>
            </a:avLst>
          </a:prstGeom>
          <a:ln w="9360">
            <a:solidFill>
              <a:srgbClr val="c0c0c0"/>
            </a:solidFill>
            <a:miter/>
          </a:ln>
        </p:spPr>
      </p:cxnSp>
      <p:cxnSp>
        <p:nvCxnSpPr>
          <p:cNvPr id="115" name=""/>
          <p:cNvCxnSpPr>
            <a:stCxn id="105" idx="2"/>
            <a:endCxn id="113" idx="0"/>
          </p:cNvCxnSpPr>
          <p:nvPr/>
        </p:nvCxnSpPr>
        <p:spPr>
          <a:xfrm flipH="1" rot="16200000">
            <a:off x="7338600" y="904320"/>
            <a:ext cx="288360" cy="1488240"/>
          </a:xfrm>
          <a:prstGeom prst="bentConnector3">
            <a:avLst>
              <a:gd name="adj1" fmla="val 49625"/>
            </a:avLst>
          </a:prstGeom>
          <a:ln w="9360">
            <a:solidFill>
              <a:srgbClr val="c0c0c0"/>
            </a:solidFill>
            <a:miter/>
          </a:ln>
        </p:spPr>
      </p:cxnSp>
      <p:cxnSp>
        <p:nvCxnSpPr>
          <p:cNvPr id="116" name=""/>
          <p:cNvCxnSpPr>
            <a:stCxn id="105" idx="2"/>
            <a:endCxn id="93" idx="0"/>
          </p:cNvCxnSpPr>
          <p:nvPr/>
        </p:nvCxnSpPr>
        <p:spPr>
          <a:xfrm rot="5400000">
            <a:off x="5490360" y="544320"/>
            <a:ext cx="288360" cy="2208960"/>
          </a:xfrm>
          <a:prstGeom prst="bentConnector3">
            <a:avLst>
              <a:gd name="adj1" fmla="val 4962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98" idx="2"/>
            <a:endCxn id="95" idx="0"/>
          </p:cNvCxnSpPr>
          <p:nvPr/>
        </p:nvCxnSpPr>
        <p:spPr>
          <a:xfrm rot="5400000">
            <a:off x="3280680" y="2954160"/>
            <a:ext cx="299160" cy="1184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8" idx="2"/>
            <a:endCxn id="100" idx="0"/>
          </p:cNvCxnSpPr>
          <p:nvPr/>
        </p:nvCxnSpPr>
        <p:spPr>
          <a:xfrm rot="5400000">
            <a:off x="3871080" y="3544560"/>
            <a:ext cx="2991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8" idx="2"/>
            <a:endCxn id="99" idx="0"/>
          </p:cNvCxnSpPr>
          <p:nvPr/>
        </p:nvCxnSpPr>
        <p:spPr>
          <a:xfrm flipH="1" rot="16200000">
            <a:off x="4462200" y="2957040"/>
            <a:ext cx="299160" cy="1178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97" idx="2"/>
            <a:endCxn id="94" idx="0"/>
          </p:cNvCxnSpPr>
          <p:nvPr/>
        </p:nvCxnSpPr>
        <p:spPr>
          <a:xfrm rot="5400000">
            <a:off x="6858720" y="3290760"/>
            <a:ext cx="297360" cy="510120"/>
          </a:xfrm>
          <a:prstGeom prst="bentConnector3">
            <a:avLst>
              <a:gd name="adj1" fmla="val 4969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97" idx="2"/>
            <a:endCxn id="96" idx="0"/>
          </p:cNvCxnSpPr>
          <p:nvPr/>
        </p:nvCxnSpPr>
        <p:spPr>
          <a:xfrm flipH="1" rot="16200000">
            <a:off x="7419960" y="3239640"/>
            <a:ext cx="297360" cy="612000"/>
          </a:xfrm>
          <a:prstGeom prst="bentConnector3">
            <a:avLst>
              <a:gd name="adj1" fmla="val 4969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8209080" y="1638360"/>
            <a:ext cx="5331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5/07/2009 - Update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24160" y="224784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5/07/2009 - Update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an Woodfin</cp:lastModifiedBy>
  <dcterms:modified xsi:type="dcterms:W3CDTF">2009-04-30T21:15:00Z</dcterms:modified>
  <cp:revision>73</cp:revision>
  <dc:subject/>
  <dc:title>Instructions</dc:title>
</cp:coreProperties>
</file>