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DE55E-0662-4797-B39C-9CD2D72D3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ogize for me not being in attend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6C71-B535-41DD-AF80-7E674DD5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A0AA-1D55-43EE-AEAB-39DCF43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2012-2073-4CFB-8561-E9EC3022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2B8F-357C-471E-9F13-D3A48E08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F5F9-4035-47BE-841F-436387F6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004-69AD-4DF8-B008-57D690E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444D-4469-4F43-96B6-7518F541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A6BC-FF73-49D6-BE88-481C306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341-5ABA-46C5-9411-70830E05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ED5C-AC0E-422D-98E3-11891F9E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012-E17A-41E7-986B-FA932288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3BC4-9F18-474C-9FAA-C9492FC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9D86-36EE-4B0C-8715-926DCFC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3ABA-442B-4BF1-AB9B-86B46DD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D61-E2BD-49D2-97FB-24A4ACE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A0C-465A-4681-A45B-531467C4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9F06-7D1E-45C3-9E14-5DDF5F02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B1CD-5476-4DAB-B0B5-6989CDD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88FA-6357-4E21-B73B-DA41142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9709-1AFA-41F2-BA66-30E0BC16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F158-AA32-4A09-A082-4F2F4452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490C-6227-4999-A1D2-90B66EF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805F-60B9-457A-98D7-C538E49A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BA87-9802-4A1B-B8FB-E5EF74A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643C-4B91-4974-A983-E53F78E72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0" y="0"/>
          <a:ext cx="25146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14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160-B7F1-4157-AE3B-A8197ABFDD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525780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2578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747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egional Planning Group Charter Revision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In Brief</a:t>
            </a: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PG Charter, as endorsed by TAC, was considered by Board at Januar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ee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C voiced concerns about exemption from RPG review of high-cost lines to connect generation, citing example of Kelson CC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ard approved RPG Charter with revised language that removed exemption from RPG Review for generation interconnection pro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manded this issue back to TAC for further discussion and recommend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C remanded to ROS and W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S/WMS Joint Discussion Group held meeting to discuss and structure this issu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ard Approved RPS Char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4479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urrent, approved language of the Charter requires generation interconnection projects costing more than $15 million or requiring CCNs to be reviewed by RPG (including ERCOT Independent Review and Board approval as appropri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2800440"/>
            <a:ext cx="65534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her Considerations Discussed by RP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ility impacts and requirements for these projects are already studied through generation interconnection stu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itional evaluation in RPG/ERCOT Independent Review would consist of stakeholder comment and economic evalu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c evaluation for these projects will essentially be estimating the value of the generation to the market, net of the cost of transmi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ission Staff testimony in Kelson CCN docket expressed need for ERCOT review on these types of CC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to preserve non-discriminatory transmission access in whatever process is adop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for RPG review to delay interconnection implem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ropriateness of ERCOT rol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tions Developed by Joint ROS/WMS Group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Option 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vert to RPG/TAC language.  Add language to Section 1.3.4 of the Planning Charter to say: ERCOT performs economic analysis of direct generation interconnection facilities &gt;$50 million (as a part of the Full Interconnection Study (FIS)) for info purposes only (no recommendation by ERCO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Optio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vert to RPG/TAC language.  No other changes to the Planning Charter (no economic analysis unless requested by PUC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ditional procedural changes common to both option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quire in Generation Interconnection (GI) Procedure that the Lead TSP for the FIS communicates to other TSPs when the FIS indicates that the direct interconnection facilities will cost &gt;$50 million so that the other TSPs will know to look (pursuant to existing GI Procedure requirements) particularly at this FI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Lead TSP for GI FIS will communicate direct generation interconnection projects &gt;$50 million out to full RPG (no review by RPG) once generation Interconnection Agreement is sign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oted for Option B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ert to RPG/TAC language.  No other changes to the Planning Charter (no economic analysis unless requested by PU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procedural changes common to both optio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quire in Generation Interconnection (GI) Procedure that the Lead TSP for the FIS communicates to other TSPs when the FIS indicates that the direct interconnection facilities will cost &gt;$50 million so that the other TSPs will know to look (pursuant to existing GI Procedure requirements) particularly at this F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Lead TSP for GI FIS will communicate direct generation interconnection projects &gt;$50 million out to full RPG (no review by RPG) once generation Interconnection Agreement is sign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TRAW POLL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ONE OF Option A-D and One of Option 1 or 2 below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Option A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evert to RPG/TAC language.  Add language to Section 1.3.4 of the Planning Charter to say: ERCOT performs economic analysis of direct generation interconnection facilities &gt;$50 million (as a part of the Full Interconnection Study (FIS)) for info purposes only (no recommendation by ERCOT) </a:t>
            </a:r>
            <a:r>
              <a:rPr b="1" lang="en-US" sz="1400" spc="-1" strike="noStrike">
                <a:solidFill>
                  <a:srgbClr val="cc0066"/>
                </a:solidFill>
                <a:latin typeface="Garamond"/>
              </a:rPr>
              <a:t>(Straw Poll Votes 12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Option B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evert to RPG/TAC language.  No other changes to the Planning Charter (no economic analysis unless requested by PUCT) </a:t>
            </a:r>
            <a:r>
              <a:rPr b="1" lang="en-US" sz="1400" spc="-1" strike="noStrike">
                <a:solidFill>
                  <a:srgbClr val="cc0066"/>
                </a:solidFill>
                <a:latin typeface="Garamond"/>
              </a:rPr>
              <a:t>(Straw Poll Votes 12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Option C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evert to RPG/TAC language.  Add language to Section 1.3.4 of the Planning Charter to say: ERCOT performs economic analysis of direct generation interconnection facilities &gt;$50 million and in the CREZ (as a part of the Full Interconnection Study (FIS)) for info purposes only (no recommendation by ERCOT) </a:t>
            </a:r>
            <a:r>
              <a:rPr b="1" lang="en-US" sz="1400" spc="-1" strike="noStrike">
                <a:solidFill>
                  <a:srgbClr val="cc0066"/>
                </a:solidFill>
                <a:latin typeface="Garamond"/>
              </a:rPr>
              <a:t>(Straw Poll Votes 0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Option D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evert to RPG/TAC language.  Add language to Section 1.3.4 of the Planning Charter to say: ERCOT performs economic analysis of direct generation interconnection facilities &gt;$50 million, outside of ERCOT and in the CREZ (as a part of the Full Interconnection Study (FIS)) for info purposes only (no recommendation by ERCOT) </a:t>
            </a:r>
            <a:r>
              <a:rPr b="1" lang="en-US" sz="1400" spc="-1" strike="noStrike">
                <a:solidFill>
                  <a:srgbClr val="cc0066"/>
                </a:solidFill>
                <a:latin typeface="Garamond"/>
              </a:rPr>
              <a:t>(Straw Poll Votes 0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Additional procedural changes common to both options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300"/>
              </a:spcBef>
              <a:spcAft>
                <a:spcPts val="374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Require in Generation Interconnection (GI) Procedure that the Lead TSP for the FIS communicates to other TSPs when the FIS indicates that the direct interconnection facilities will cost &gt;$XX million so that the other TSPs will know to look (pursuant to existing GI Procedure requirements) particularly at this FIS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The Lead TSP for GI FIS will communicate direct generation interconnection projects &gt;$XX million out to full RPG (no review by RPG) once generation Interconnection Agreement is signe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Option 1 XX=50 </a:t>
            </a:r>
            <a:r>
              <a:rPr b="1" lang="en-US" sz="1200" spc="-1" strike="noStrike">
                <a:solidFill>
                  <a:srgbClr val="cc0066"/>
                </a:solidFill>
                <a:latin typeface="Garamond"/>
              </a:rPr>
              <a:t>(Straw Poll Votes 11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Option 2 XX=25 </a:t>
            </a:r>
            <a:r>
              <a:rPr b="1" lang="en-US" sz="1200" spc="-1" strike="noStrike">
                <a:solidFill>
                  <a:srgbClr val="cc0066"/>
                </a:solidFill>
                <a:latin typeface="Garamond"/>
              </a:rPr>
              <a:t>(Straw Poll Votes 1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PG Charter Recommendatio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S Consens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ert to RPG/TAC language.  No other changes to the Planning Charter (no economic analysis unless requested by PUCT) </a:t>
            </a:r>
            <a:r>
              <a:rPr b="0" lang="en-US" sz="2400" spc="-1" strike="noStrike">
                <a:solidFill>
                  <a:srgbClr val="cc0066"/>
                </a:solidFill>
                <a:latin typeface="Garamond"/>
              </a:rPr>
              <a:t>(OPTION B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procedural changes common to both optio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quire in Generation Interconnection (GI) Procedure that the Lead TSP for the FIS communicates to other TSPs when the FIS indicates that the direct interconnection facilities will cost </a:t>
            </a:r>
            <a:r>
              <a:rPr b="0" lang="en-US" sz="2000" spc="-1" strike="noStrike">
                <a:solidFill>
                  <a:srgbClr val="cc0066"/>
                </a:solidFill>
                <a:latin typeface="Garamond"/>
              </a:rPr>
              <a:t>&gt;$50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illion so that the other TSPs will know to look (pursuant to existing GI Procedure requirements) particularly at this F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Lead TSP for GI FIS will communicate direct generation interconnection projects </a:t>
            </a:r>
            <a:r>
              <a:rPr b="0" lang="en-US" sz="2000" spc="-1" strike="noStrike">
                <a:solidFill>
                  <a:srgbClr val="cc0066"/>
                </a:solidFill>
                <a:latin typeface="Garamond"/>
              </a:rPr>
              <a:t>&gt;$50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llion out to full RPG (no review by RPG) once generation Interconnection Agreement is sign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416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9:20:50Z</dcterms:created>
  <dc:creator>Barbara Clemenhagen</dc:creator>
  <dc:description/>
  <dc:language>en-US</dc:language>
  <cp:lastModifiedBy>Barbara Clemenhagen</cp:lastModifiedBy>
  <dcterms:modified xsi:type="dcterms:W3CDTF">2009-05-06T14:46:51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