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193-1969-4A62-AB0C-E828D1BCE0E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839-B291-46FC-9B7F-CC15BDCF855F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61DD-A16D-4484-AC16-0737D7C6BF99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B759-E6A7-4140-AE6E-ACCD8B80839E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F87E-016A-47DB-934E-BED22C78F85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381-7589-4794-90A5-77555FD2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DC3-6810-43C9-9C5C-11968589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7E9-FEC6-44DC-B990-EF12FD60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FFA-1FBB-42A0-BD2D-C49B6760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FF7E-4FF5-4941-AC55-71D8F75E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054-5136-4B3F-9CE0-461896D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513-14A0-4A4C-B3E0-3A4A362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C6CA-9DBB-468B-91F6-2632D29B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1FEF-FD3E-408A-A183-339F934A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9DE9-32FF-436D-89BB-48D3B60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EF9-17DC-4E6D-A7DF-925623C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E7B-354E-4D82-BBEF-7EC30661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2094-FDB0-4D39-BB89-CEA6D39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04DB-0228-490D-8B36-656A10C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C9F2-957E-4BC9-8FA2-EDBB3E4B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C7A0-00EA-4945-95CF-64EF24E9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C0F4-89F3-4966-AD16-288E1144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C53-1145-40A2-A68F-A441D851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FDE-58A6-4501-ACBD-6BDC7C37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DC2-3E21-4FBB-83D3-93CE9DB5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772-7D56-4D4A-9D2A-A1846C2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D4C-C06C-4433-BC63-09768C1E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551-2F5C-4426-B3E5-C69D9F1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6A0-2B6E-4C9C-A8A3-C3D1CB81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378080" indent="-46836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69D-AC12-4895-A1BD-F29B426C0D2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378080" indent="-46836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45F4-CFAF-4143-9EBD-5CA27DC8DA9C}" type="slidenum">
              <a:rPr b="1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380880" y="2438280"/>
            <a:ext cx="8305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Technical Advisory Committee Update</a:t>
            </a:r>
            <a:endParaRPr b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3200400" y="4343400"/>
            <a:ext cx="2819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May 9, 2009</a:t>
            </a:r>
            <a:endParaRPr b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533520" y="68580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RMS Meeting</a:t>
            </a:r>
            <a:endParaRPr b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Voting Item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MGRR072, Clarification that ESI ID Count is for Active REP of Record in the CBCI Fil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PPROVED”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waiting impact analys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MGRR073, Mass Transition of ESI ID Due to Acquisi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PPROVED”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waiting impact analys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MGRR074, Texas Data Transport Working Group and Market Metrics Working Group Merg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PPROVED”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waiting impact analys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A Revis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PPROVED”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53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9933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1752480"/>
            <a:ext cx="83818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Voting Items Continue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R805, Adding POLR Customer Class and AMS Meter Flag to the Database Query Function on the MI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74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NDORSED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ent comments to Protocol Revision Subcommitte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PRR171, Synchronization of PRR805, Adding POLR Customer Class and AMS Meter Flag to the Database Query Function on the MI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74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NDORSED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ent comments to Protocol Revision Subcommitte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R806, Re-Registration of Market Participant due to Mass Transition of ESI ID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74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NDORSED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ent comments to Protocol Revision Subcommitte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PRR170, Synchronization of PRR806, Re-Registration of Market Participant due to Mass Transition of ESI IDs (Vote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74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NDORSED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ent comments to Protocol Revision Subcommitte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R808, Clean-up and Alignment of RECs Trading Program Language with PUCT Rules (Vote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74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NDORSED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ent comments to Protocol Revision Subcommitte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PRR172, Synchronization of Section 15 with PRR782, Clean-up and Corrections to Terminology and Transaction Timings in Protocol Section 15, Customer Registration (Vote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74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NDORSED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ent comments to Protocol Revision Subcommitte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533520" y="68580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RMS Meeting</a:t>
            </a:r>
            <a:endParaRPr b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533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9933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" y="175248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uture Consideration for RM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 Project Priority Lis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LR Rule (PUCT Project 35769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dited Switch Rule (PUCT Project 36536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vanced Metering  (PUCT Project 34610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533520" y="68580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RMS Meeting</a:t>
            </a:r>
            <a:endParaRPr b="1" lang="en-US" sz="1800" spc="1" strike="noStrike">
              <a:ln w="19080">
                <a:solidFill>
                  <a:srgbClr val="c0c0c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Scott, Kathy D.</cp:lastModifiedBy>
  <dcterms:modified xsi:type="dcterms:W3CDTF">2009-05-01T04:38:44Z</dcterms:modified>
  <cp:revision>64</cp:revision>
  <dc:subject/>
  <dc:title>Slide 1</dc:title>
</cp:coreProperties>
</file>