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9D54F40-EF13-4B44-9131-2BDBE8088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ED122A0-DEEA-4E69-BFE5-C241C77BB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ngle Entry Model (SE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-Liv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3C4805F-A4AE-4660-BEE1-D1BD4CFB7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steps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723600"/>
            <a:ext cx="854712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632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today was to clarify SEM Go-Live and marke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TAC updates will be made on status of SEM Go-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asks TAC to consider approval sequence for Go-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bsence of “TPTF Approva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9EBA29F-C400-468F-B69C-9CACF419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Engagement/Commun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 Go-Live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33A393B-77DE-4413-A4AC-78B9D4BF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hat is SEM Go-Live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Entry Model (SEM) Go-Live is the switchover on Aug 31, 2009 for TSP submissions of network operations model change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Service Request” submissions via 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“NOMCR” submissions via the NM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Model remains Zonal/Genesys system until Dec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19520"/>
            <a:ext cx="152388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657600"/>
            <a:ext cx="2667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via Service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457200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c Requ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4572000"/>
            <a:ext cx="19810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pies/Conv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al Model “se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2819520"/>
            <a:ext cx="152388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 3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3657600"/>
            <a:ext cx="2666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 Change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/NMM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cludes ICC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457200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ncrement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s  NOM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Svc Re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loads 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572000"/>
            <a:ext cx="17524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 nodal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629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563868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Consistency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638680"/>
            <a:ext cx="4114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743200"/>
            <a:ext cx="0" cy="3429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501156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501156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8A0F92A-3571-4549-947A-8242B0DDB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ket Engagement / Communic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es and approvals leading up to this activity were outlined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pproved by TPTF and TAC in Aug/Sep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nodal.ercot.com/readiness/golive/index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has engaged and presented updates to the following groups, and will do so monthly moving forw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- Jan, Feb, Mar,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SMEs review artifacts and training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- Feb,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level reports of schedule, metrics, and criteria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ics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3 – MP Completes Nodal Operations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 of training attendance for M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4-B EDS2-Rel4 Trials Particip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 of testing participation- target 95% of aTS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EE748AF-4D2D-4BAA-8436-9F8081676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ket Engagement / Communic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600" y="1066680"/>
            <a:ext cx="9066240" cy="455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467480" y="762120"/>
            <a:ext cx="0" cy="487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77320" y="762120"/>
            <a:ext cx="0" cy="487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5638680"/>
            <a:ext cx="228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ming into critical window of final Zonal-&gt;Nodal model transformation, market training, application roll-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4366AAB-0677-4781-9101-8999A0864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28600" y="9144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P Testing and Training environments will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ing system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June 8 – Aug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CR testing system will be on-line and available to all T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establish dedicated email and have staff available to support ques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mcrhelp@ercot.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ructor Led Train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hosted in Tay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EM classes June 22 – Aug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plans for at least six 2-day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for 12-18 seats for each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dedicated training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SEM classes Sept 23- Oct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er sessions and smaller classes (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-up classes, not just-in-time training for all staff after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225CA02-E62E-4444-A800-7A3A9ED3F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6858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 Go-Live Criteria defined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nodal.ercot.com/readiness/golive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4- The following entry criteria shall be met for SEM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s &amp; ERCOT complete EDS 2 Release 4 activities (next p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network model validated and approved as baseline for SEM Go-Live by ERCOT System Ops and Market Ops Dir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CIM model to be used for SEM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ufficiently staffed for maintenance of nodal &amp; zonal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EMS is capable of consuming NMMS CIM files through the EMS CIM importer for use in the Nodal EMS application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M Go-Live readiness approved by TPTF, TAC and ERCOT 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ume ROS approval in place of TP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the following documents for T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whitep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MS Modeling Guidelines / Validation Rules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CIM data dictionary and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5F7B7D2-247B-4517-9BE3-FFD33D5A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 (cont’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8088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SPs complete EDS 2 Release 4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have enrolled and can access the ERCOT MIS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have been trained on the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s can electronically submit data changes utilizing the NOMCR user interface and CIM compliant format for data exchange or via the manual MIS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s can submit data changes utilizing the registration submission and subsequent ERCOT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can receive NOMCR acknowledgement of submittals, verifications, and confirmation of data po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ompletes EDS 2 Release 4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s ready to fully utilize the NOMCR process for all TSP/QSE data change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 MPs can successfully submit data changes via the CIM compliant electronic NOMCR proce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 can successfully submit data changes through registration submissions (and updated in the Network Operations Model via the NOMCR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has processes in place to use a “single entry point” to maintain both Nodal and Zonal network model databases when MPs submit changes via the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MS is the database of record for the Network Operations Model including the ICCP modeling point database and operatorship / ownership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MS database is under full change control by ERCOT Network Model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discontinues the use of Service Requests for data changes and chang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begins the use of the NOMCR process for data changes and chang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6F66981-F77A-481A-9EC9-09EDC382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ition summary during June-Aug’09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723600"/>
            <a:ext cx="854712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6320" y="457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no limits on submissions (Market Notice sent March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larify that there are no restrictions or “freezes” currently in place limiting network model change submissions via the service request proces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eri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une 1- Aug 30, 2009 (objective to minimize SvcReq during this peri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equipment name changes (defer until after SEM Go-Live 8/31/0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mit changes as far in advance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5-30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eeks no submissions, except for emergenc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31, 2009 - Feb 2010 (NOMCRs for any/all network 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the NOMCR timeline will align with zona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CRs received and translated to zonal model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-day lead-time, compliant with current zonal databas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is tracked and communicated via system e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s that did not go into zonal production will be converted to NOMCRs for verification and submission by TSPs in S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 gradually transitions to NodalProtocols(3.10) 90-day req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05120"/>
            <a:ext cx="7924680" cy="99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895480"/>
            <a:ext cx="79246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581280"/>
            <a:ext cx="7924680" cy="259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09-04-30T20:49:29Z</dcterms:modified>
  <cp:revision>721</cp:revision>
  <dc:subject/>
  <dc:title>Texas Nodal Detailled Market Trials Planning Process 30 January 2007</dc:title>
</cp:coreProperties>
</file>