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E4D-44C9-438E-A007-41BEBE52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E9A-A63A-4E6B-A693-7489DC90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575-7987-444E-92E7-4BB119BC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449-95D2-4063-9A6C-7CC7AE8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387-64A2-40B6-8B97-1D0F394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1D5-3045-4F8F-8A8C-95603503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5D2-BD68-473D-8FCE-6BFA3B1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D15-8FB2-4169-AC1E-71E283B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D5D-7454-4DD4-822F-213627C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6EE-26E5-4DBE-BED6-DCF00B3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811-50EC-4A01-80D5-F38C44A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017-D300-4C61-AFAC-8C6910C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5759-3B19-4506-AA04-3D883F50F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odal.ercot.com/mktrules/noperating/nogrr/001-025/025/index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GRR025 Monitoring Programs for QSEs, TSPs, and ERCOT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1080" y="250560"/>
            <a:ext cx="8780400" cy="61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GRR025 Monitoring Programs for QSEs, TSPs, and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k to summary and ke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nodal.ercot.com/mktrules/noperating/nogrr/001-025/025/index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ng with ROS &amp;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oviding input including ERCOT, TRE, PUCT Staff, QMWG, OWG, NDSWG, SDAWG, CMWG, PDCWG, B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int workshops held April 2, M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book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working groups should focus on setting metrics for the items that have been identified as needing metrics; this should be done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Review other Protocol sections to see if any metrics have already been defin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If no metrics are defined within other Protocols sections check NERC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) If no metrics are defined in either the Protocols or NERC standards then develop metrics for stakeholder revie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s also need to clarify any language that requires clarification.  The NOGRR comment process is to be u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RR025 Status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96B-2CFE-46CD-A5F4-BF320D598D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5/07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iability and Operations Subcommitte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port to TAC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24 and OGRR 216 System Security Response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discussion on Single Entry Model (S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ROS agenda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BCF-001B-4A80-8015-4DBA58F775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5/07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Thursday May 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 Capability for Current Responsive Reserve Servic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run study at 2,300 M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to ROS May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EBF-F20D-4DD9-9FCB-62E0630AB6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5/07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5-07T01:38:13Z</dcterms:modified>
  <cp:revision>4</cp:revision>
  <dc:subject/>
  <dc:title>Slide 1</dc:title>
</cp:coreProperties>
</file>