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10058400" cy="64008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as RE Board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dt" idx="16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 type="sldImg"/>
          </p:nvPr>
        </p:nvSpPr>
        <p:spPr>
          <a:xfrm>
            <a:off x="766800" y="696960"/>
            <a:ext cx="5478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Click to move the slide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 type="ftr" idx="17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 type="sldNum" idx="18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50CACD7-3BD2-42AF-8A2F-2EE85AA7B4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2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as RE Board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766800" y="696960"/>
            <a:ext cx="5478480" cy="348624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Slide Number Placeholder 4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DA1E4C4-7C1D-4AFB-A02B-85BC542EA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804528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06560" y="3299040"/>
            <a:ext cx="804528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503280" y="71280"/>
            <a:ext cx="9220320" cy="29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006560" y="329904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5128920" y="329904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006560" y="3299040"/>
            <a:ext cx="804528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804528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1006560" y="3299040"/>
            <a:ext cx="804528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1006560" y="329904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5128920" y="329904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726720" y="99540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446880" y="99540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1006560" y="329904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726720" y="329904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446880" y="329904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06560" y="329904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28920" y="329904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1006560" y="995400"/>
            <a:ext cx="804528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804528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503280" y="71280"/>
            <a:ext cx="9220320" cy="29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006560" y="329904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128920" y="329904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1006560" y="3299040"/>
            <a:ext cx="804528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804528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1006560" y="3299040"/>
            <a:ext cx="804528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1006560" y="329904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5128920" y="329904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26720" y="99540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46880" y="99540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06560" y="329904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26720" y="329904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46880" y="329904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726720" y="99540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446880" y="99540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1006560" y="329904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726720" y="329904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446880" y="329904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1006560" y="995400"/>
            <a:ext cx="804528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804528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503280" y="71280"/>
            <a:ext cx="9220320" cy="29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1006560" y="329904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128920" y="329904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1006560" y="3299040"/>
            <a:ext cx="804528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804528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1006560" y="3299040"/>
            <a:ext cx="804528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1006560" y="329904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5128920" y="329904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726720" y="99540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446880" y="99540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1006560" y="329904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726720" y="329904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446880" y="329904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1006560" y="995400"/>
            <a:ext cx="804528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804528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503280" y="71280"/>
            <a:ext cx="9220320" cy="29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1006560" y="329904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06560" y="995400"/>
            <a:ext cx="804528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128920" y="329904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1006560" y="3299040"/>
            <a:ext cx="804528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804528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1006560" y="3299040"/>
            <a:ext cx="804528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1006560" y="329904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5128920" y="329904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726720" y="99540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446880" y="99540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1006560" y="329904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726720" y="329904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446880" y="329904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804528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71280"/>
            <a:ext cx="9220320" cy="29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06560" y="329904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06560" y="995400"/>
            <a:ext cx="804528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28920" y="329904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06560" y="3299040"/>
            <a:ext cx="804528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804528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06560" y="3299040"/>
            <a:ext cx="804528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06560" y="329904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28920" y="329904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6720" y="99540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46880" y="99540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06560" y="329904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726720" y="329904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46880" y="329904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006560" y="995400"/>
            <a:ext cx="804528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804528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804528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503280" y="71280"/>
            <a:ext cx="9220320" cy="29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006560" y="329904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128920" y="329904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006560" y="3299040"/>
            <a:ext cx="804528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804528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006560" y="3299040"/>
            <a:ext cx="804528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006560" y="329904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128920" y="329904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726720" y="99540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446880" y="99540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006560" y="329904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726720" y="329904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446880" y="329904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006560" y="995400"/>
            <a:ext cx="804528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804528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503280" y="71280"/>
            <a:ext cx="9220320" cy="29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006560" y="329904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128920" y="329904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006560" y="3299040"/>
            <a:ext cx="804528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804528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1006560" y="3299040"/>
            <a:ext cx="804528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006560" y="329904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128920" y="329904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726720" y="99540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446880" y="99540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1006560" y="329904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726720" y="329904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446880" y="329904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1006560" y="995400"/>
            <a:ext cx="804528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804528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503280" y="71280"/>
            <a:ext cx="9220320" cy="29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006560" y="329904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128920" y="329904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1006560" y="3299040"/>
            <a:ext cx="804528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804528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1006560" y="3299040"/>
            <a:ext cx="804528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006560" y="329904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5128920" y="329904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71280"/>
            <a:ext cx="9220320" cy="29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726720" y="99540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446880" y="99540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1006560" y="329904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726720" y="329904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446880" y="329904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1006560" y="995400"/>
            <a:ext cx="804528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804528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3280" y="71280"/>
            <a:ext cx="9220320" cy="29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006560" y="329904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128920" y="329904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1006560" y="3299040"/>
            <a:ext cx="804528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06560" y="329904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804528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1006560" y="3299040"/>
            <a:ext cx="804528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006560" y="329904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5128920" y="329904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726720" y="99540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446880" y="99540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1006560" y="329904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726720" y="329904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446880" y="329904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06560" y="995400"/>
            <a:ext cx="804528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804528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03280" y="71280"/>
            <a:ext cx="9220320" cy="29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06560" y="329904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28920" y="329904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128920" y="329904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06560" y="3299040"/>
            <a:ext cx="804528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804528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06560" y="3299040"/>
            <a:ext cx="804528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06560" y="329904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5128920" y="329904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726720" y="99540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446880" y="99540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06560" y="329904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726720" y="329904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446880" y="329904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1006560" y="995400"/>
            <a:ext cx="804528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804528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06560" y="3299040"/>
            <a:ext cx="804528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503280" y="71280"/>
            <a:ext cx="9220320" cy="29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1006560" y="329904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128920" y="329904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006560" y="3299040"/>
            <a:ext cx="804528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804528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1006560" y="3299040"/>
            <a:ext cx="804528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006560" y="329904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5128920" y="329904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726720" y="99540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446880" y="99540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1006560" y="329904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726720" y="329904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446880" y="329904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1006560" y="995400"/>
            <a:ext cx="804528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804528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06560" y="995400"/>
            <a:ext cx="804528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99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66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5819760"/>
            <a:ext cx="100584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0" y="0"/>
            <a:ext cx="10058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873840" y="5760720"/>
            <a:ext cx="276552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iance Report May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3"/>
          <p:cNvSpPr/>
          <p:nvPr/>
        </p:nvSpPr>
        <p:spPr>
          <a:xfrm>
            <a:off x="3772080" y="6045120"/>
            <a:ext cx="276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CE46A-E9F1-4228-89FC-C0868C77D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20"/>
          <p:cNvSpPr/>
          <p:nvPr/>
        </p:nvSpPr>
        <p:spPr>
          <a:xfrm>
            <a:off x="0" y="766800"/>
            <a:ext cx="10058400" cy="8712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1400" bIns="414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21"/>
          <p:cNvSpPr/>
          <p:nvPr/>
        </p:nvSpPr>
        <p:spPr>
          <a:xfrm>
            <a:off x="0" y="5646600"/>
            <a:ext cx="10058400" cy="4284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2880" bIns="-288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25" descr="TRE Logo_rgb_no tag_medtransp_use for Word"/>
          <p:cNvPicPr/>
          <p:nvPr/>
        </p:nvPicPr>
        <p:blipFill>
          <a:blip r:embed="rId3"/>
          <a:stretch/>
        </p:blipFill>
        <p:spPr>
          <a:xfrm>
            <a:off x="334800" y="5726160"/>
            <a:ext cx="1928880" cy="67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3"/>
          <p:cNvSpPr/>
          <p:nvPr/>
        </p:nvSpPr>
        <p:spPr>
          <a:xfrm>
            <a:off x="0" y="5819760"/>
            <a:ext cx="100584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4"/>
          <p:cNvSpPr/>
          <p:nvPr/>
        </p:nvSpPr>
        <p:spPr>
          <a:xfrm>
            <a:off x="0" y="0"/>
            <a:ext cx="10058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7"/>
          <p:cNvSpPr/>
          <p:nvPr/>
        </p:nvSpPr>
        <p:spPr>
          <a:xfrm>
            <a:off x="3772080" y="6045120"/>
            <a:ext cx="276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DBB043BA-45F8-4D10-8FB1-6B62174100C6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of  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8"/>
          <p:cNvSpPr/>
          <p:nvPr/>
        </p:nvSpPr>
        <p:spPr>
          <a:xfrm>
            <a:off x="0" y="766800"/>
            <a:ext cx="10058400" cy="8712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1400" bIns="414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9"/>
          <p:cNvSpPr/>
          <p:nvPr/>
        </p:nvSpPr>
        <p:spPr>
          <a:xfrm>
            <a:off x="0" y="5646600"/>
            <a:ext cx="10058400" cy="4284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2880" bIns="-288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10" descr="TRE Logo_rgb_no tag_medtransp_use for Word"/>
          <p:cNvPicPr/>
          <p:nvPr/>
        </p:nvPicPr>
        <p:blipFill>
          <a:blip r:embed="rId3"/>
          <a:stretch/>
        </p:blipFill>
        <p:spPr>
          <a:xfrm>
            <a:off x="334800" y="5726160"/>
            <a:ext cx="1928880" cy="67464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body"/>
          </p:nvPr>
        </p:nvSpPr>
        <p:spPr>
          <a:xfrm>
            <a:off x="1006560" y="995400"/>
            <a:ext cx="804528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99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66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ftr" idx="11"/>
          </p:nvPr>
        </p:nvSpPr>
        <p:spPr>
          <a:xfrm>
            <a:off x="7238880" y="5760720"/>
            <a:ext cx="240048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MPLIANCE REPORT MAY, 20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3"/>
          <p:cNvSpPr/>
          <p:nvPr/>
        </p:nvSpPr>
        <p:spPr>
          <a:xfrm>
            <a:off x="0" y="5819760"/>
            <a:ext cx="100584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0" y="0"/>
            <a:ext cx="10058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7"/>
          <p:cNvSpPr/>
          <p:nvPr/>
        </p:nvSpPr>
        <p:spPr>
          <a:xfrm>
            <a:off x="3772080" y="6045120"/>
            <a:ext cx="276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1FA2E-AADE-4550-AD24-736DD34D2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8"/>
          <p:cNvSpPr/>
          <p:nvPr/>
        </p:nvSpPr>
        <p:spPr>
          <a:xfrm>
            <a:off x="0" y="766800"/>
            <a:ext cx="10058400" cy="8712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9"/>
          <p:cNvSpPr/>
          <p:nvPr/>
        </p:nvSpPr>
        <p:spPr>
          <a:xfrm>
            <a:off x="0" y="5646600"/>
            <a:ext cx="10058400" cy="4284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10" descr="TRE Logo_rgb_no tag_medtransp_use for Word"/>
          <p:cNvPicPr/>
          <p:nvPr/>
        </p:nvPicPr>
        <p:blipFill>
          <a:blip r:embed="rId3"/>
          <a:stretch/>
        </p:blipFill>
        <p:spPr>
          <a:xfrm>
            <a:off x="334800" y="5726160"/>
            <a:ext cx="1928880" cy="674640"/>
          </a:xfrm>
          <a:prstGeom prst="rect">
            <a:avLst/>
          </a:prstGeom>
          <a:ln w="0">
            <a:noFill/>
          </a:ln>
        </p:spPr>
      </p:pic>
      <p:sp>
        <p:nvSpPr>
          <p:cNvPr id="476" name="Rectangle 11"/>
          <p:cNvSpPr/>
          <p:nvPr/>
        </p:nvSpPr>
        <p:spPr>
          <a:xfrm>
            <a:off x="0" y="5819760"/>
            <a:ext cx="100584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12"/>
          <p:cNvSpPr/>
          <p:nvPr/>
        </p:nvSpPr>
        <p:spPr>
          <a:xfrm>
            <a:off x="0" y="0"/>
            <a:ext cx="10058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3"/>
          <p:cNvSpPr/>
          <p:nvPr/>
        </p:nvSpPr>
        <p:spPr>
          <a:xfrm>
            <a:off x="0" y="766800"/>
            <a:ext cx="10058400" cy="8712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1400" bIns="414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14"/>
          <p:cNvSpPr/>
          <p:nvPr/>
        </p:nvSpPr>
        <p:spPr>
          <a:xfrm>
            <a:off x="0" y="5646600"/>
            <a:ext cx="10058400" cy="4284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2880" bIns="-288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15" descr="TRE Logo_rgb_no tag_medtransp_use for Word"/>
          <p:cNvPicPr/>
          <p:nvPr/>
        </p:nvPicPr>
        <p:blipFill>
          <a:blip r:embed="rId4"/>
          <a:stretch/>
        </p:blipFill>
        <p:spPr>
          <a:xfrm>
            <a:off x="334800" y="5726160"/>
            <a:ext cx="1928880" cy="674640"/>
          </a:xfrm>
          <a:prstGeom prst="rect">
            <a:avLst/>
          </a:prstGeom>
          <a:ln w="0">
            <a:noFill/>
          </a:ln>
        </p:spPr>
      </p:pic>
      <p:sp>
        <p:nvSpPr>
          <p:cNvPr id="481" name="Rectangle 2"/>
          <p:cNvSpPr/>
          <p:nvPr/>
        </p:nvSpPr>
        <p:spPr>
          <a:xfrm>
            <a:off x="0" y="1066680"/>
            <a:ext cx="100584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7"/>
          <p:cNvSpPr/>
          <p:nvPr/>
        </p:nvSpPr>
        <p:spPr>
          <a:xfrm>
            <a:off x="0" y="5618160"/>
            <a:ext cx="10058400" cy="4284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Picture 8" descr="TRE Logo_rgb_2_medtransp_use for Word"/>
          <p:cNvPicPr/>
          <p:nvPr/>
        </p:nvPicPr>
        <p:blipFill>
          <a:blip r:embed="rId5"/>
          <a:stretch/>
        </p:blipFill>
        <p:spPr>
          <a:xfrm>
            <a:off x="503280" y="133200"/>
            <a:ext cx="3352680" cy="1173240"/>
          </a:xfrm>
          <a:prstGeom prst="rect">
            <a:avLst/>
          </a:prstGeom>
          <a:ln w="0">
            <a:noFill/>
          </a:ln>
        </p:spPr>
      </p:pic>
      <p:sp>
        <p:nvSpPr>
          <p:cNvPr id="484" name="Text Box 9"/>
          <p:cNvSpPr/>
          <p:nvPr/>
        </p:nvSpPr>
        <p:spPr>
          <a:xfrm>
            <a:off x="0" y="1494000"/>
            <a:ext cx="10058400" cy="8568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10"/>
          <p:cNvSpPr/>
          <p:nvPr/>
        </p:nvSpPr>
        <p:spPr>
          <a:xfrm>
            <a:off x="0" y="1066680"/>
            <a:ext cx="100584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11"/>
          <p:cNvSpPr/>
          <p:nvPr/>
        </p:nvSpPr>
        <p:spPr>
          <a:xfrm>
            <a:off x="0" y="5618160"/>
            <a:ext cx="10058400" cy="4284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2880" bIns="-288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12" descr="TRE Logo_rgb_2_medtransp_use for Word"/>
          <p:cNvPicPr/>
          <p:nvPr/>
        </p:nvPicPr>
        <p:blipFill>
          <a:blip r:embed="rId6"/>
          <a:stretch/>
        </p:blipFill>
        <p:spPr>
          <a:xfrm>
            <a:off x="503280" y="133200"/>
            <a:ext cx="3352680" cy="1173240"/>
          </a:xfrm>
          <a:prstGeom prst="rect">
            <a:avLst/>
          </a:prstGeom>
          <a:ln w="0">
            <a:noFill/>
          </a:ln>
        </p:spPr>
      </p:pic>
      <p:sp>
        <p:nvSpPr>
          <p:cNvPr id="488" name="Text Box 13"/>
          <p:cNvSpPr/>
          <p:nvPr/>
        </p:nvSpPr>
        <p:spPr>
          <a:xfrm>
            <a:off x="0" y="1494000"/>
            <a:ext cx="10058400" cy="8568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39960" bIns="3996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14"/>
          <p:cNvSpPr/>
          <p:nvPr/>
        </p:nvSpPr>
        <p:spPr>
          <a:xfrm>
            <a:off x="3687840" y="5973840"/>
            <a:ext cx="2766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C75E0FE5-B044-486A-89B4-B261EB7C5026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of 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body"/>
          </p:nvPr>
        </p:nvSpPr>
        <p:spPr>
          <a:xfrm>
            <a:off x="1006560" y="995400"/>
            <a:ext cx="804528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99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66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12"/>
          </p:nvPr>
        </p:nvSpPr>
        <p:spPr>
          <a:xfrm>
            <a:off x="503280" y="5902200"/>
            <a:ext cx="268128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13"/>
          </p:nvPr>
        </p:nvSpPr>
        <p:spPr>
          <a:xfrm>
            <a:off x="7040160" y="5866920"/>
            <a:ext cx="2514600" cy="3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mpliance Report May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3"/>
          <p:cNvSpPr/>
          <p:nvPr/>
        </p:nvSpPr>
        <p:spPr>
          <a:xfrm>
            <a:off x="0" y="5819760"/>
            <a:ext cx="100584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4"/>
          <p:cNvSpPr/>
          <p:nvPr/>
        </p:nvSpPr>
        <p:spPr>
          <a:xfrm>
            <a:off x="0" y="0"/>
            <a:ext cx="10058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7"/>
          <p:cNvSpPr/>
          <p:nvPr/>
        </p:nvSpPr>
        <p:spPr>
          <a:xfrm>
            <a:off x="3772080" y="6045120"/>
            <a:ext cx="276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EE798-AD1D-45FF-845A-56FC18DFA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8"/>
          <p:cNvSpPr/>
          <p:nvPr/>
        </p:nvSpPr>
        <p:spPr>
          <a:xfrm>
            <a:off x="0" y="766800"/>
            <a:ext cx="10058400" cy="8712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9"/>
          <p:cNvSpPr/>
          <p:nvPr/>
        </p:nvSpPr>
        <p:spPr>
          <a:xfrm>
            <a:off x="0" y="5646600"/>
            <a:ext cx="10058400" cy="4284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10" descr="TRE Logo_rgb_no tag_medtransp_use for Word"/>
          <p:cNvPicPr/>
          <p:nvPr/>
        </p:nvPicPr>
        <p:blipFill>
          <a:blip r:embed="rId3"/>
          <a:stretch/>
        </p:blipFill>
        <p:spPr>
          <a:xfrm>
            <a:off x="334800" y="5726160"/>
            <a:ext cx="1928880" cy="674640"/>
          </a:xfrm>
          <a:prstGeom prst="rect">
            <a:avLst/>
          </a:prstGeom>
          <a:ln w="0">
            <a:noFill/>
          </a:ln>
        </p:spPr>
      </p:pic>
      <p:sp>
        <p:nvSpPr>
          <p:cNvPr id="536" name="Rectangle 11"/>
          <p:cNvSpPr/>
          <p:nvPr/>
        </p:nvSpPr>
        <p:spPr>
          <a:xfrm>
            <a:off x="0" y="5819760"/>
            <a:ext cx="100584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12"/>
          <p:cNvSpPr/>
          <p:nvPr/>
        </p:nvSpPr>
        <p:spPr>
          <a:xfrm>
            <a:off x="0" y="0"/>
            <a:ext cx="10058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3"/>
          <p:cNvSpPr/>
          <p:nvPr/>
        </p:nvSpPr>
        <p:spPr>
          <a:xfrm>
            <a:off x="0" y="766800"/>
            <a:ext cx="10058400" cy="8712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1400" bIns="414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14"/>
          <p:cNvSpPr/>
          <p:nvPr/>
        </p:nvSpPr>
        <p:spPr>
          <a:xfrm>
            <a:off x="0" y="5646600"/>
            <a:ext cx="10058400" cy="4284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2880" bIns="-288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15" descr="TRE Logo_rgb_no tag_medtransp_use for Word"/>
          <p:cNvPicPr/>
          <p:nvPr/>
        </p:nvPicPr>
        <p:blipFill>
          <a:blip r:embed="rId4"/>
          <a:stretch/>
        </p:blipFill>
        <p:spPr>
          <a:xfrm>
            <a:off x="334800" y="5726160"/>
            <a:ext cx="1928880" cy="674640"/>
          </a:xfrm>
          <a:prstGeom prst="rect">
            <a:avLst/>
          </a:prstGeom>
          <a:ln w="0">
            <a:noFill/>
          </a:ln>
        </p:spPr>
      </p:pic>
      <p:sp>
        <p:nvSpPr>
          <p:cNvPr id="541" name="Rectangle 2"/>
          <p:cNvSpPr/>
          <p:nvPr/>
        </p:nvSpPr>
        <p:spPr>
          <a:xfrm>
            <a:off x="0" y="1066680"/>
            <a:ext cx="100584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7"/>
          <p:cNvSpPr/>
          <p:nvPr/>
        </p:nvSpPr>
        <p:spPr>
          <a:xfrm>
            <a:off x="0" y="5618160"/>
            <a:ext cx="10058400" cy="4284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8" descr="TRE Logo_rgb_2_medtransp_use for Word"/>
          <p:cNvPicPr/>
          <p:nvPr/>
        </p:nvPicPr>
        <p:blipFill>
          <a:blip r:embed="rId5"/>
          <a:stretch/>
        </p:blipFill>
        <p:spPr>
          <a:xfrm>
            <a:off x="503280" y="133200"/>
            <a:ext cx="3352680" cy="1173240"/>
          </a:xfrm>
          <a:prstGeom prst="rect">
            <a:avLst/>
          </a:prstGeom>
          <a:ln w="0">
            <a:noFill/>
          </a:ln>
        </p:spPr>
      </p:pic>
      <p:sp>
        <p:nvSpPr>
          <p:cNvPr id="544" name="Text Box 9"/>
          <p:cNvSpPr/>
          <p:nvPr/>
        </p:nvSpPr>
        <p:spPr>
          <a:xfrm>
            <a:off x="0" y="1494000"/>
            <a:ext cx="10058400" cy="8568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10"/>
          <p:cNvSpPr/>
          <p:nvPr/>
        </p:nvSpPr>
        <p:spPr>
          <a:xfrm>
            <a:off x="0" y="5819760"/>
            <a:ext cx="100584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11"/>
          <p:cNvSpPr/>
          <p:nvPr/>
        </p:nvSpPr>
        <p:spPr>
          <a:xfrm>
            <a:off x="0" y="0"/>
            <a:ext cx="10058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12"/>
          <p:cNvSpPr/>
          <p:nvPr/>
        </p:nvSpPr>
        <p:spPr>
          <a:xfrm>
            <a:off x="0" y="766800"/>
            <a:ext cx="10058400" cy="8712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1400" bIns="414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13"/>
          <p:cNvSpPr/>
          <p:nvPr/>
        </p:nvSpPr>
        <p:spPr>
          <a:xfrm>
            <a:off x="0" y="5646600"/>
            <a:ext cx="10058400" cy="4284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2880" bIns="-288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14" descr="TRE Logo_rgb_no tag_medtransp_use for Word"/>
          <p:cNvPicPr/>
          <p:nvPr/>
        </p:nvPicPr>
        <p:blipFill>
          <a:blip r:embed="rId6"/>
          <a:stretch/>
        </p:blipFill>
        <p:spPr>
          <a:xfrm>
            <a:off x="334800" y="5726160"/>
            <a:ext cx="1928880" cy="674640"/>
          </a:xfrm>
          <a:prstGeom prst="rect">
            <a:avLst/>
          </a:prstGeom>
          <a:ln w="0">
            <a:noFill/>
          </a:ln>
        </p:spPr>
      </p:pic>
      <p:sp>
        <p:nvSpPr>
          <p:cNvPr id="550" name="PlaceHolder 1"/>
          <p:cNvSpPr>
            <a:spLocks noGrp="1"/>
          </p:cNvSpPr>
          <p:nvPr>
            <p:ph type="body"/>
          </p:nvPr>
        </p:nvSpPr>
        <p:spPr>
          <a:xfrm>
            <a:off x="1006560" y="995400"/>
            <a:ext cx="804528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99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66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14"/>
          </p:nvPr>
        </p:nvSpPr>
        <p:spPr>
          <a:xfrm>
            <a:off x="503280" y="5902200"/>
            <a:ext cx="268128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15"/>
          </p:nvPr>
        </p:nvSpPr>
        <p:spPr>
          <a:xfrm>
            <a:off x="7040160" y="5866920"/>
            <a:ext cx="2514600" cy="3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mpliance Report May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1006560" y="995400"/>
            <a:ext cx="804528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99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66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0" y="5819760"/>
            <a:ext cx="100584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0" y="0"/>
            <a:ext cx="10058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2"/>
          </p:nvPr>
        </p:nvSpPr>
        <p:spPr>
          <a:xfrm>
            <a:off x="7543440" y="5760720"/>
            <a:ext cx="209556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mpliance Report May 20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3772080" y="6045120"/>
            <a:ext cx="276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4426D950-EEF4-4C46-95CA-E939A92EF984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of  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0" y="766800"/>
            <a:ext cx="10058400" cy="8712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1400" bIns="414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0" y="5646600"/>
            <a:ext cx="10058400" cy="4284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2880" bIns="-288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TRE Logo_rgb_no tag_medtransp_use for Word"/>
          <p:cNvPicPr/>
          <p:nvPr/>
        </p:nvPicPr>
        <p:blipFill>
          <a:blip r:embed="rId3"/>
          <a:stretch/>
        </p:blipFill>
        <p:spPr>
          <a:xfrm>
            <a:off x="334800" y="5726160"/>
            <a:ext cx="1928880" cy="67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1006560" y="995400"/>
            <a:ext cx="804528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99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66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0" y="5819760"/>
            <a:ext cx="100584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0" y="0"/>
            <a:ext cx="10058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ftr" idx="3"/>
          </p:nvPr>
        </p:nvSpPr>
        <p:spPr>
          <a:xfrm>
            <a:off x="6873840" y="5760720"/>
            <a:ext cx="2765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iance Report May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3772080" y="6045120"/>
            <a:ext cx="276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30555-EBEE-4D8A-9137-44821401A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0" y="766800"/>
            <a:ext cx="10058400" cy="8712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0" y="5646600"/>
            <a:ext cx="10058400" cy="4284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0" descr="TRE Logo_rgb_no tag_medtransp_use for Word"/>
          <p:cNvPicPr/>
          <p:nvPr/>
        </p:nvPicPr>
        <p:blipFill>
          <a:blip r:embed="rId3"/>
          <a:stretch/>
        </p:blipFill>
        <p:spPr>
          <a:xfrm>
            <a:off x="334800" y="5726160"/>
            <a:ext cx="1928880" cy="67464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11"/>
          <p:cNvSpPr/>
          <p:nvPr/>
        </p:nvSpPr>
        <p:spPr>
          <a:xfrm>
            <a:off x="0" y="5819760"/>
            <a:ext cx="100584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2"/>
          <p:cNvSpPr/>
          <p:nvPr/>
        </p:nvSpPr>
        <p:spPr>
          <a:xfrm>
            <a:off x="0" y="0"/>
            <a:ext cx="10058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3"/>
          <p:cNvSpPr/>
          <p:nvPr/>
        </p:nvSpPr>
        <p:spPr>
          <a:xfrm>
            <a:off x="0" y="766800"/>
            <a:ext cx="10058400" cy="8712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1400" bIns="414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4"/>
          <p:cNvSpPr/>
          <p:nvPr/>
        </p:nvSpPr>
        <p:spPr>
          <a:xfrm>
            <a:off x="0" y="5646600"/>
            <a:ext cx="10058400" cy="4284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2880" bIns="-288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5" descr="TRE Logo_rgb_no tag_medtransp_use for Word"/>
          <p:cNvPicPr/>
          <p:nvPr/>
        </p:nvPicPr>
        <p:blipFill>
          <a:blip r:embed="rId4"/>
          <a:stretch/>
        </p:blipFill>
        <p:spPr>
          <a:xfrm>
            <a:off x="334800" y="5726160"/>
            <a:ext cx="1928880" cy="67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1006560" y="995400"/>
            <a:ext cx="804528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99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66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0" y="5819760"/>
            <a:ext cx="100584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0" y="0"/>
            <a:ext cx="10058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ftr" idx="4"/>
          </p:nvPr>
        </p:nvSpPr>
        <p:spPr>
          <a:xfrm>
            <a:off x="6873840" y="5760720"/>
            <a:ext cx="2765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iance Report May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3772080" y="6045120"/>
            <a:ext cx="276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416D8-F38D-4A52-BB15-37CD786CDE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0" y="766800"/>
            <a:ext cx="10058400" cy="8712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0" y="5646600"/>
            <a:ext cx="10058400" cy="4284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0" descr="TRE Logo_rgb_no tag_medtransp_use for Word"/>
          <p:cNvPicPr/>
          <p:nvPr/>
        </p:nvPicPr>
        <p:blipFill>
          <a:blip r:embed="rId3"/>
          <a:stretch/>
        </p:blipFill>
        <p:spPr>
          <a:xfrm>
            <a:off x="334800" y="5726160"/>
            <a:ext cx="1928880" cy="67464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11"/>
          <p:cNvSpPr/>
          <p:nvPr/>
        </p:nvSpPr>
        <p:spPr>
          <a:xfrm>
            <a:off x="0" y="5819760"/>
            <a:ext cx="100584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2"/>
          <p:cNvSpPr/>
          <p:nvPr/>
        </p:nvSpPr>
        <p:spPr>
          <a:xfrm>
            <a:off x="0" y="0"/>
            <a:ext cx="10058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3"/>
          <p:cNvSpPr/>
          <p:nvPr/>
        </p:nvSpPr>
        <p:spPr>
          <a:xfrm>
            <a:off x="0" y="766800"/>
            <a:ext cx="10058400" cy="8712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1400" bIns="414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4"/>
          <p:cNvSpPr/>
          <p:nvPr/>
        </p:nvSpPr>
        <p:spPr>
          <a:xfrm>
            <a:off x="0" y="5646600"/>
            <a:ext cx="10058400" cy="4284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2880" bIns="-288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5" descr="TRE Logo_rgb_no tag_medtransp_use for Word"/>
          <p:cNvPicPr/>
          <p:nvPr/>
        </p:nvPicPr>
        <p:blipFill>
          <a:blip r:embed="rId4"/>
          <a:stretch/>
        </p:blipFill>
        <p:spPr>
          <a:xfrm>
            <a:off x="334800" y="5726160"/>
            <a:ext cx="1928880" cy="67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0" y="5819760"/>
            <a:ext cx="100584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9"/>
          <p:cNvSpPr/>
          <p:nvPr/>
        </p:nvSpPr>
        <p:spPr>
          <a:xfrm>
            <a:off x="0" y="0"/>
            <a:ext cx="10058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3"/>
          <p:cNvSpPr/>
          <p:nvPr/>
        </p:nvSpPr>
        <p:spPr>
          <a:xfrm>
            <a:off x="3772080" y="6045120"/>
            <a:ext cx="276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B33E5-88CD-4F11-8CBC-6FE9372611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0"/>
          <p:cNvSpPr/>
          <p:nvPr/>
        </p:nvSpPr>
        <p:spPr>
          <a:xfrm>
            <a:off x="0" y="766800"/>
            <a:ext cx="10058400" cy="8712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1400" bIns="414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1"/>
          <p:cNvSpPr/>
          <p:nvPr/>
        </p:nvSpPr>
        <p:spPr>
          <a:xfrm>
            <a:off x="0" y="5646600"/>
            <a:ext cx="10058400" cy="4284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2880" bIns="-288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25" descr="TRE Logo_rgb_no tag_medtransp_use for Word"/>
          <p:cNvPicPr/>
          <p:nvPr/>
        </p:nvPicPr>
        <p:blipFill>
          <a:blip r:embed="rId3"/>
          <a:stretch/>
        </p:blipFill>
        <p:spPr>
          <a:xfrm>
            <a:off x="334800" y="5726160"/>
            <a:ext cx="1928880" cy="6746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3"/>
          <p:cNvSpPr/>
          <p:nvPr/>
        </p:nvSpPr>
        <p:spPr>
          <a:xfrm>
            <a:off x="0" y="1066680"/>
            <a:ext cx="100584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0"/>
          <p:cNvSpPr/>
          <p:nvPr/>
        </p:nvSpPr>
        <p:spPr>
          <a:xfrm>
            <a:off x="0" y="5618160"/>
            <a:ext cx="10058400" cy="4284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2880" bIns="-288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23" descr="TRE Logo_rgb_2_medtransp_use for Word"/>
          <p:cNvPicPr/>
          <p:nvPr/>
        </p:nvPicPr>
        <p:blipFill>
          <a:blip r:embed="rId4"/>
          <a:stretch/>
        </p:blipFill>
        <p:spPr>
          <a:xfrm>
            <a:off x="503280" y="133200"/>
            <a:ext cx="3352680" cy="117324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24"/>
          <p:cNvSpPr/>
          <p:nvPr/>
        </p:nvSpPr>
        <p:spPr>
          <a:xfrm>
            <a:off x="0" y="1494000"/>
            <a:ext cx="10058400" cy="8568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39960" bIns="3996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body"/>
          </p:nvPr>
        </p:nvSpPr>
        <p:spPr>
          <a:xfrm>
            <a:off x="1006560" y="995400"/>
            <a:ext cx="804528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99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66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5"/>
          </p:nvPr>
        </p:nvSpPr>
        <p:spPr>
          <a:xfrm>
            <a:off x="503280" y="5902200"/>
            <a:ext cx="2681280" cy="35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6"/>
          </p:nvPr>
        </p:nvSpPr>
        <p:spPr>
          <a:xfrm>
            <a:off x="7040160" y="5866920"/>
            <a:ext cx="2514600" cy="3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mpliance Report May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0" y="5819760"/>
            <a:ext cx="100584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0" y="0"/>
            <a:ext cx="10058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3772080" y="6045120"/>
            <a:ext cx="276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79EF809E-6C84-49B2-8CC8-6C995BD139E6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of  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0" y="766800"/>
            <a:ext cx="10058400" cy="8712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1400" bIns="414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0" y="5646600"/>
            <a:ext cx="10058400" cy="4284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2880" bIns="-288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10" descr="TRE Logo_rgb_no tag_medtransp_use for Word"/>
          <p:cNvPicPr/>
          <p:nvPr/>
        </p:nvPicPr>
        <p:blipFill>
          <a:blip r:embed="rId3"/>
          <a:stretch/>
        </p:blipFill>
        <p:spPr>
          <a:xfrm>
            <a:off x="334800" y="5726160"/>
            <a:ext cx="1928880" cy="67464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2"/>
          <p:cNvSpPr/>
          <p:nvPr/>
        </p:nvSpPr>
        <p:spPr>
          <a:xfrm>
            <a:off x="0" y="1066680"/>
            <a:ext cx="100584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0" y="5618160"/>
            <a:ext cx="10058400" cy="4284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2880" bIns="-288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8" descr="TRE Logo_rgb_2_medtransp_use for Word"/>
          <p:cNvPicPr/>
          <p:nvPr/>
        </p:nvPicPr>
        <p:blipFill>
          <a:blip r:embed="rId4"/>
          <a:stretch/>
        </p:blipFill>
        <p:spPr>
          <a:xfrm>
            <a:off x="503280" y="133200"/>
            <a:ext cx="3352680" cy="117324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9"/>
          <p:cNvSpPr/>
          <p:nvPr/>
        </p:nvSpPr>
        <p:spPr>
          <a:xfrm>
            <a:off x="0" y="1494000"/>
            <a:ext cx="10058400" cy="8568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39960" bIns="3996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0"/>
          <p:cNvSpPr/>
          <p:nvPr/>
        </p:nvSpPr>
        <p:spPr>
          <a:xfrm>
            <a:off x="3687840" y="5973840"/>
            <a:ext cx="2766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22534821-7DC6-4BCD-937E-4EA66D0A8B33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of 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body"/>
          </p:nvPr>
        </p:nvSpPr>
        <p:spPr>
          <a:xfrm>
            <a:off x="1006560" y="995400"/>
            <a:ext cx="804528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99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66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7"/>
          </p:nvPr>
        </p:nvSpPr>
        <p:spPr>
          <a:xfrm>
            <a:off x="503280" y="5902200"/>
            <a:ext cx="2681280" cy="35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0" y="5819760"/>
            <a:ext cx="100584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0" y="0"/>
            <a:ext cx="10058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7"/>
          <p:cNvSpPr/>
          <p:nvPr/>
        </p:nvSpPr>
        <p:spPr>
          <a:xfrm>
            <a:off x="3772080" y="6045120"/>
            <a:ext cx="276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DA8101B9-3D96-4304-8D4F-B756685DDC38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of  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8"/>
          <p:cNvSpPr/>
          <p:nvPr/>
        </p:nvSpPr>
        <p:spPr>
          <a:xfrm>
            <a:off x="0" y="766800"/>
            <a:ext cx="10058400" cy="8712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1400" bIns="414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9"/>
          <p:cNvSpPr/>
          <p:nvPr/>
        </p:nvSpPr>
        <p:spPr>
          <a:xfrm>
            <a:off x="0" y="5646600"/>
            <a:ext cx="10058400" cy="4284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2880" bIns="-288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10" descr="TRE Logo_rgb_no tag_medtransp_use for Word"/>
          <p:cNvPicPr/>
          <p:nvPr/>
        </p:nvPicPr>
        <p:blipFill>
          <a:blip r:embed="rId3"/>
          <a:stretch/>
        </p:blipFill>
        <p:spPr>
          <a:xfrm>
            <a:off x="334800" y="5726160"/>
            <a:ext cx="1928880" cy="67464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body"/>
          </p:nvPr>
        </p:nvSpPr>
        <p:spPr>
          <a:xfrm>
            <a:off x="1006560" y="995400"/>
            <a:ext cx="804528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99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66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ftr" idx="8"/>
          </p:nvPr>
        </p:nvSpPr>
        <p:spPr>
          <a:xfrm>
            <a:off x="7543440" y="5760720"/>
            <a:ext cx="209556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mpliance Report May 20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0" y="5819760"/>
            <a:ext cx="100584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0" y="0"/>
            <a:ext cx="10058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7"/>
          <p:cNvSpPr/>
          <p:nvPr/>
        </p:nvSpPr>
        <p:spPr>
          <a:xfrm>
            <a:off x="3772080" y="6045120"/>
            <a:ext cx="276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2E6F9B36-A994-4D21-881B-27C87AB939E0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of  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8"/>
          <p:cNvSpPr/>
          <p:nvPr/>
        </p:nvSpPr>
        <p:spPr>
          <a:xfrm>
            <a:off x="0" y="766800"/>
            <a:ext cx="10058400" cy="8712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1400" bIns="414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9"/>
          <p:cNvSpPr/>
          <p:nvPr/>
        </p:nvSpPr>
        <p:spPr>
          <a:xfrm>
            <a:off x="0" y="5646600"/>
            <a:ext cx="10058400" cy="4284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2880" bIns="-288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10" descr="TRE Logo_rgb_no tag_medtransp_use for Word"/>
          <p:cNvPicPr/>
          <p:nvPr/>
        </p:nvPicPr>
        <p:blipFill>
          <a:blip r:embed="rId3"/>
          <a:stretch/>
        </p:blipFill>
        <p:spPr>
          <a:xfrm>
            <a:off x="334800" y="5726160"/>
            <a:ext cx="1928880" cy="67464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body"/>
          </p:nvPr>
        </p:nvSpPr>
        <p:spPr>
          <a:xfrm>
            <a:off x="1006560" y="995400"/>
            <a:ext cx="804528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99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66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ftr" idx="9"/>
          </p:nvPr>
        </p:nvSpPr>
        <p:spPr>
          <a:xfrm>
            <a:off x="7543440" y="5760720"/>
            <a:ext cx="209556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mpliance Report April 20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3"/>
          <p:cNvSpPr/>
          <p:nvPr/>
        </p:nvSpPr>
        <p:spPr>
          <a:xfrm>
            <a:off x="0" y="5819760"/>
            <a:ext cx="100584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0" y="0"/>
            <a:ext cx="10058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7"/>
          <p:cNvSpPr/>
          <p:nvPr/>
        </p:nvSpPr>
        <p:spPr>
          <a:xfrm>
            <a:off x="3772080" y="6045120"/>
            <a:ext cx="276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C01576F2-75EF-4162-8893-E6EAA54F3B22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of  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8"/>
          <p:cNvSpPr/>
          <p:nvPr/>
        </p:nvSpPr>
        <p:spPr>
          <a:xfrm>
            <a:off x="0" y="766800"/>
            <a:ext cx="10058400" cy="8712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1400" bIns="414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9"/>
          <p:cNvSpPr/>
          <p:nvPr/>
        </p:nvSpPr>
        <p:spPr>
          <a:xfrm>
            <a:off x="0" y="5646600"/>
            <a:ext cx="10058400" cy="4284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2880" bIns="-288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10" descr="TRE Logo_rgb_no tag_medtransp_use for Word"/>
          <p:cNvPicPr/>
          <p:nvPr/>
        </p:nvPicPr>
        <p:blipFill>
          <a:blip r:embed="rId3"/>
          <a:stretch/>
        </p:blipFill>
        <p:spPr>
          <a:xfrm>
            <a:off x="334800" y="5726160"/>
            <a:ext cx="1928880" cy="67464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 type="body"/>
          </p:nvPr>
        </p:nvSpPr>
        <p:spPr>
          <a:xfrm>
            <a:off x="1006560" y="995400"/>
            <a:ext cx="804528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99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66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ftr" idx="10"/>
          </p:nvPr>
        </p:nvSpPr>
        <p:spPr>
          <a:xfrm>
            <a:off x="7543440" y="5760720"/>
            <a:ext cx="209556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mpliance Report May 20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ext Box 6"/>
          <p:cNvSpPr/>
          <p:nvPr/>
        </p:nvSpPr>
        <p:spPr>
          <a:xfrm>
            <a:off x="503280" y="1849320"/>
            <a:ext cx="9051840" cy="16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Arial Black"/>
              </a:rPr>
              <a:t>Texas Regional Ent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Arial Black"/>
              </a:rPr>
              <a:t>TAC Pres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8"/>
          <p:cNvSpPr/>
          <p:nvPr/>
        </p:nvSpPr>
        <p:spPr>
          <a:xfrm>
            <a:off x="334800" y="3484440"/>
            <a:ext cx="9053640" cy="18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296"/>
                </a:solidFill>
                <a:latin typeface="Arial Black"/>
              </a:rPr>
              <a:t>May 7, 20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16"/>
          <p:cNvSpPr/>
          <p:nvPr/>
        </p:nvSpPr>
        <p:spPr>
          <a:xfrm>
            <a:off x="0" y="1494000"/>
            <a:ext cx="10058400" cy="8568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39960" bIns="3996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17"/>
          <p:cNvSpPr/>
          <p:nvPr/>
        </p:nvSpPr>
        <p:spPr>
          <a:xfrm>
            <a:off x="0" y="5689440"/>
            <a:ext cx="10058400" cy="4320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2520" bIns="-252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Footer Placeholder 7"/>
          <p:cNvSpPr/>
          <p:nvPr/>
        </p:nvSpPr>
        <p:spPr>
          <a:xfrm>
            <a:off x="7238880" y="5761080"/>
            <a:ext cx="24004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AS RE TAC PRESENTATION MAY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0" y="71280"/>
            <a:ext cx="1005840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NOGRR 025-Monitoring Programs for QSEs, TSPs &amp; ERCOT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152280" y="990720"/>
            <a:ext cx="975384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odal Protocol Section 8 Performance &amp; Monitoring requires a monitoring program to be included in the Nodal Operating Guid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OGRR 025 adds Nodal Operating Guide Sec. 9 including monitoring and reporting metrics for QSEs, Resources, TSPs &amp; ERCO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imelin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4/16/09:ROS considered OWG, QMWG, BSTF, NDSWG comment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/1/09: 2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combined workshop meeting held among work grou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/1/09: CEO Revision Request Review comments posted: NOGRR025 is necessary prior to the Texas Nodal Market Implementation Dat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xt: 5/14/09 ROS meeting to hear reports from all Working Grou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Footer Placeholder 3"/>
          <p:cNvSpPr/>
          <p:nvPr/>
        </p:nvSpPr>
        <p:spPr>
          <a:xfrm>
            <a:off x="7238880" y="5761080"/>
            <a:ext cx="24004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as RE TAC Presentation May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opics</a:t>
            </a:r>
            <a:endParaRPr b="0" lang="en-US" sz="32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1006560" y="995400"/>
            <a:ext cx="804528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RC LSE Registration Upd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al Market Preparedness- Nodal Metr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R &amp; OGRR upd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Coordin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Footer Placeholder 3"/>
          <p:cNvSpPr/>
          <p:nvPr/>
        </p:nvSpPr>
        <p:spPr>
          <a:xfrm>
            <a:off x="7467480" y="5761080"/>
            <a:ext cx="217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as RE TAC Presentation May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NERC LSE Registration Update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250560" y="1138320"/>
            <a:ext cx="9472680" cy="43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SE Registration Working Group (LSERWG) met on April 30, 2009, to continue drafting language and negotiating the JRO agreement for the NERC LSE Function in the ERCOT reg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itional comments have been submitted and are being review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al draft JRO responsibility spreadsheet being compiled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RO contractual language is being prepared – draft will be sent to LSERWG on Friday (5/08/2009) for review and comment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Footer Placeholder 3"/>
          <p:cNvSpPr/>
          <p:nvPr/>
        </p:nvSpPr>
        <p:spPr>
          <a:xfrm>
            <a:off x="6705720" y="5761080"/>
            <a:ext cx="3017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Footer Placeholder 4"/>
          <p:cNvSpPr/>
          <p:nvPr/>
        </p:nvSpPr>
        <p:spPr>
          <a:xfrm>
            <a:off x="7543800" y="5761080"/>
            <a:ext cx="20955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as RE TAC Presentation May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d8a"/>
                </a:solidFill>
                <a:latin typeface="Arial Black"/>
              </a:rPr>
              <a:t>Nodal Market Preparedness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990720" y="990720"/>
            <a:ext cx="804528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for Go Liv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equate PUCT oversight of market on first d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forcement to consider new </a:t>
            </a:r>
            <a:r>
              <a:rPr b="0" lang="en-US" sz="2200" spc="-1" strike="noStrike">
                <a:solidFill>
                  <a:srgbClr val="0d0d0d"/>
                </a:solidFill>
                <a:latin typeface="Arial"/>
              </a:rPr>
              <a:t>market limit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sonabl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ric adjustment and tuning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iability and Compliance Training Pl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stems and reports in pl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nger term plan for additional metrics, if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ear communication of regulatory oversight and ri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Footer Placeholder 3"/>
          <p:cNvSpPr/>
          <p:nvPr/>
        </p:nvSpPr>
        <p:spPr>
          <a:xfrm>
            <a:off x="7238880" y="5761080"/>
            <a:ext cx="24004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as RE TAC Presentation May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Nodal Market Preparedness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1006560" y="995400"/>
            <a:ext cx="804528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CT, Texas RE and IMM are taking a proactive approa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e a minimum set of reliability metrics and criteria (NPRRs and NOGRRs) necessary to enable go l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lement a GAP analy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e NPRRs and NOGRRs to fill ga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rk through Stakeholder process to enact in time for market tri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sure proper reports are ready for monitoring and enforc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e regulatory training and roll out pl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Footer Placeholder 3"/>
          <p:cNvSpPr/>
          <p:nvPr/>
        </p:nvSpPr>
        <p:spPr>
          <a:xfrm>
            <a:off x="7543800" y="5761080"/>
            <a:ext cx="20955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iance Report May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d8a"/>
                </a:solidFill>
                <a:latin typeface="Arial Black"/>
              </a:rPr>
              <a:t>Nodal Market Preparedness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990720" y="990720"/>
            <a:ext cx="804528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Arial"/>
              </a:rPr>
              <a:t>Define a minimum set of reliability metrics and criteria</a:t>
            </a:r>
            <a:r>
              <a:rPr b="0" i="1" lang="en-US" sz="2400" spc="-1" strike="noStrike">
                <a:solidFill>
                  <a:srgbClr val="0d0d0d"/>
                </a:solidFill>
                <a:latin typeface="Arial"/>
              </a:rPr>
              <a:t> to support a GAP analysis</a:t>
            </a:r>
            <a:r>
              <a:rPr b="0" lang="en-US" sz="2400" spc="-1" strike="noStrike">
                <a:solidFill>
                  <a:srgbClr val="0d0d0d"/>
                </a:solidFill>
                <a:latin typeface="Arial"/>
              </a:rPr>
              <a:t> for Nodal go li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d0d0d"/>
                </a:solidFill>
                <a:latin typeface="Arial"/>
              </a:rPr>
              <a:t>PUCT will hold public comment workshops to obtain stakeholder inp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d0d0d"/>
                </a:solidFill>
                <a:latin typeface="Arial"/>
              </a:rPr>
              <a:t>PUCT intention to submit resulting NPRRs and NOGRRs to </a:t>
            </a:r>
            <a:r>
              <a:rPr b="0" i="1" lang="en-US" sz="2200" spc="-1" strike="noStrike">
                <a:solidFill>
                  <a:srgbClr val="0d0d0d"/>
                </a:solidFill>
                <a:latin typeface="Arial"/>
              </a:rPr>
              <a:t>ERCOT process </a:t>
            </a:r>
            <a:r>
              <a:rPr b="0" lang="en-US" sz="2200" spc="-1" strike="noStrike">
                <a:solidFill>
                  <a:srgbClr val="0d0d0d"/>
                </a:solidFill>
                <a:latin typeface="Arial"/>
              </a:rPr>
              <a:t>for approv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Arial"/>
              </a:rPr>
              <a:t>NOGRR025 stakeholder process should continue in parall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Arial"/>
              </a:rPr>
              <a:t>Reliability </a:t>
            </a:r>
            <a:r>
              <a:rPr b="0" i="1" lang="en-US" sz="2400" spc="-1" strike="noStrike">
                <a:solidFill>
                  <a:srgbClr val="0d0d0d"/>
                </a:solidFill>
                <a:latin typeface="Arial"/>
              </a:rPr>
              <a:t>metrics and criteria</a:t>
            </a:r>
            <a:r>
              <a:rPr b="0" lang="en-US" sz="2400" spc="-1" strike="noStrike">
                <a:solidFill>
                  <a:srgbClr val="0d0d0d"/>
                </a:solidFill>
                <a:latin typeface="Arial"/>
              </a:rPr>
              <a:t> to be in place for market tria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Arial"/>
              </a:rPr>
              <a:t>Minimized impact to Nodal Project (no code changes to core system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Footer Placeholder 3"/>
          <p:cNvSpPr/>
          <p:nvPr/>
        </p:nvSpPr>
        <p:spPr>
          <a:xfrm>
            <a:off x="7238880" y="5761080"/>
            <a:ext cx="24004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as RE TAC Presentation May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PRR 787 – SCPS2 Metric &amp; Outage Definitions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80520" y="914400"/>
            <a:ext cx="9448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R 787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ected to be approved by ROS on May 1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xt step, PRS to vote May 2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E  supports ROS and Luminant comm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E proposed adding clarifying language to the new Outage definitions proposed by Luminant and endorsed by ROS on 4/16/09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posed Change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definitions: Forced Derate, Startup Failure   (Luminan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ced Derates are approved as Maintenance Outages   (Luminan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penalty language for SCPS2 violations   (PUCT &amp; TR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e A/S qualification revocation if more than 4 violations within 12 months   (PUCT &amp; TR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ean slate if SCPS2 &gt;=90% for 12 consecutive mos. (PUCT &amp; TR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ments proposing revisions to PUCT &amp; TRE’s SCPS2 violation language submitted  (CPS) are opposed by PUCT &amp; T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Footer Placeholder 3"/>
          <p:cNvSpPr/>
          <p:nvPr/>
        </p:nvSpPr>
        <p:spPr>
          <a:xfrm>
            <a:off x="7543800" y="5761080"/>
            <a:ext cx="20955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as RE TAC Presentation May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4920" y="71280"/>
            <a:ext cx="952488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PRR 796 – Resource Plan Performance Metrics Revision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80520" y="1142640"/>
            <a:ext cx="9448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R 796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pproved by PRS on March 19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xt stop, TAC to vote May 7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hanges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two (2) hours following a Forced Outage to be excluded from performance calculation   (FPL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E will incorporate 2-hour allowance into current review proces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Footer Placeholder 3"/>
          <p:cNvSpPr/>
          <p:nvPr/>
        </p:nvSpPr>
        <p:spPr>
          <a:xfrm>
            <a:off x="7543800" y="5761080"/>
            <a:ext cx="20955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as RE TAC Presentation May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PRR 800 – QSE Day Ahead Metric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1006560" y="995400"/>
            <a:ext cx="804528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R 800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ote at TAC on May 7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xt stop, Board to vote May 20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hanges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pares QSE’s Day-ahead high capability of online units to a QSE’s total energy schedule + A/S Obligation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RCOT ISO impact analysis addresses cost to develop queries for use in revised Texas RE metric software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xas RE fully supports PRR 800 and believes it can be adequately monitored and enforc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Footer Placeholder 3"/>
          <p:cNvSpPr/>
          <p:nvPr/>
        </p:nvSpPr>
        <p:spPr>
          <a:xfrm>
            <a:off x="7543800" y="5761080"/>
            <a:ext cx="20955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as RE TAC Presentation  May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balbracht</cp:lastModifiedBy>
  <dcterms:modified xsi:type="dcterms:W3CDTF">2009-05-08T20:41:44Z</dcterms:modified>
  <cp:revision>933</cp:revision>
  <dc:subject/>
  <dc:title>Instructions</dc:title>
</cp:coreProperties>
</file>