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8A0E-4068-47C8-AE04-D0ACC04F8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8543-0DBB-4493-8585-5025E689F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DDF1-C877-4A10-9EE8-D914D75B1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FBF4-E03E-44D5-A618-851EA257A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D1AC-B450-4A53-900E-ABB20BB6C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472D-0541-47E7-BC18-8BCB8691B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E3B1-AAAC-4F71-8319-1B52C3197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101B-FD78-4B80-A40A-6DF73F2BE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C3B7-56E8-4DCA-B9DB-932D1FA0E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1F0D-93E3-459B-8D28-1DD08A88A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B8DCA-0517-400A-9B51-072380B8C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640A4-F015-47B4-ABCA-A4996C5DF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0A3E8-BCDF-46AA-9BD9-61C73AD3F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CF13D-E7E5-4E61-AC77-C044FBF38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FA6BE-B185-4989-9081-C688ED14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87090-7191-48F0-9894-538B15D65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3AC73-BB2F-47AA-B24C-941CB87EC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8AE10-372D-413B-9042-E1B531F87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93B84-741E-45D5-9D67-B01C00321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249C-16F3-4041-90D9-A067899A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5218C-1984-4CED-93E5-68D6C7003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C0041-A746-4E8A-8494-552E3DA5B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945D-9126-479A-9CDD-75CEB0581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676160"/>
            <a:ext cx="8001000" cy="251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al Implementation Advisory Board (NIAB) Proposal</a:t>
            </a:r>
            <a:br>
              <a:rPr sz="4000"/>
            </a:br>
            <a:br>
              <a:rPr sz="4000"/>
            </a:br>
            <a:r>
              <a:rPr b="0" lang="en-US" sz="4000" spc="-1" strike="noStrike">
                <a:solidFill>
                  <a:srgbClr val="000000"/>
                </a:solidFill>
                <a:latin typeface="Arial"/>
              </a:rPr>
              <a:t>Questions and Answ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1760"/>
            <a:ext cx="8229600" cy="3938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al:  Nodal Implementation Advisory Bo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IA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7 to 9 member advisory board that includes one vote from each of the ERCOT Market Segm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the members be selec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arket segment of TAC would elect their member and an alternate to the advisory boar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762120"/>
            <a:ext cx="8229600" cy="5803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purpose of the NIA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a timely response to ERCOT Nodal Project Team requests; 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TAC in the execution of its duties and responsibilities as described in the ERCOT Nodal Transition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 to TAC subcommitte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it accomplish these goal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all nature of the group enables conference calls to make quick decis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AB will reduce ERCOT support requirements by eliminating the need for ERCOT personnel to prepare reports and presentations to other TAC subcommitte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838080"/>
            <a:ext cx="8229600" cy="518184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this an improvement?</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response time to ERCOT request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ERCOT support requirement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utilization of existing stakeholder process</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is transparency into nodal development provided?</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COT Nodal Project team will hire 2 or more Nodal protocols experts to work with the NIAB.</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ly, these experts will be well known to and trusted by the market participant communit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ntified deltas between Nodal Protocols and delivered systems will be worked through the PRR 799 process.</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457200" y="838080"/>
            <a:ext cx="8229600" cy="5715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ideal skill set of the NIAB members? </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 in project management with emphasis on complex projects with significant information technology applications; </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 in the reliability operation and function of nodal electric markets; and,</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of the Texas Nodal Protoc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304920" y="457200"/>
            <a:ext cx="8229600" cy="5562720"/>
          </a:xfrm>
          <a:prstGeom prst="rect">
            <a:avLst/>
          </a:prstGeom>
          <a:noFill/>
          <a:ln w="0">
            <a:noFill/>
          </a:ln>
        </p:spPr>
        <p:style>
          <a:lnRef idx="0"/>
          <a:fillRef idx="0"/>
          <a:effectRef idx="0"/>
          <a:fontRef idx="minor"/>
        </p:style>
        <p:txBody>
          <a:bodyPr lIns="90000" rIns="90000" tIns="46800" bIns="46800" anchor="t">
            <a:noAutofit/>
          </a:bodyPr>
          <a:p>
            <a:pPr marL="574560" indent="-53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often will the NIAB meet?</a:t>
            </a:r>
            <a:endParaRPr b="0" lang="en-US" sz="2400" spc="-1" strike="noStrike">
              <a:solidFill>
                <a:srgbClr val="000000"/>
              </a:solidFill>
              <a:latin typeface="Arial"/>
            </a:endParaRPr>
          </a:p>
          <a:p>
            <a:pPr marL="574560" indent="-533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AB will meet no less than once per month</a:t>
            </a:r>
            <a:endParaRPr b="0" lang="en-US" sz="2400" spc="-1" strike="noStrike">
              <a:solidFill>
                <a:srgbClr val="000000"/>
              </a:solidFill>
              <a:latin typeface="Arial"/>
            </a:endParaRPr>
          </a:p>
          <a:p>
            <a:pPr marL="574560" indent="-533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will conform to standard subcommittee practices; open meetings</a:t>
            </a:r>
            <a:endParaRPr b="0" lang="en-US" sz="2400" spc="-1" strike="noStrike">
              <a:solidFill>
                <a:srgbClr val="000000"/>
              </a:solidFill>
              <a:latin typeface="Arial"/>
            </a:endParaRPr>
          </a:p>
          <a:p>
            <a:pPr marL="574560" indent="-533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AB may also meet by conference call as necessary…</a:t>
            </a:r>
            <a:endParaRPr b="0" lang="en-US" sz="2400" spc="-1" strike="noStrike">
              <a:solidFill>
                <a:srgbClr val="000000"/>
              </a:solidFill>
              <a:latin typeface="Arial"/>
            </a:endParaRPr>
          </a:p>
          <a:p>
            <a:pPr lvl="1" marL="120636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not less than 24 hours notice</a:t>
            </a:r>
            <a:endParaRPr b="0" lang="en-US" sz="2000" spc="-1" strike="noStrike">
              <a:solidFill>
                <a:srgbClr val="000000"/>
              </a:solidFill>
              <a:latin typeface="Arial"/>
            </a:endParaRPr>
          </a:p>
          <a:p>
            <a:pPr lvl="1" marL="120636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will be noticed by list serve and posted on ERCOT calendar</a:t>
            </a:r>
            <a:endParaRPr b="0" lang="en-US" sz="2000" spc="-1" strike="noStrike">
              <a:solidFill>
                <a:srgbClr val="000000"/>
              </a:solidFill>
              <a:latin typeface="Arial"/>
            </a:endParaRPr>
          </a:p>
          <a:p>
            <a:pPr marL="574560" indent="-533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4560" indent="-53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all decisions of the NIAB be approved by TAC?</a:t>
            </a:r>
            <a:endParaRPr b="0" lang="en-US" sz="2400" spc="-1" strike="noStrike">
              <a:solidFill>
                <a:srgbClr val="000000"/>
              </a:solidFill>
              <a:latin typeface="Arial"/>
            </a:endParaRPr>
          </a:p>
          <a:p>
            <a:pPr marL="574560" indent="-533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s of the NIAB may be communicated directly to the ERCOT Nodal Project Team without prior approval from TAC.  </a:t>
            </a:r>
            <a:endParaRPr b="0" lang="en-US" sz="2400" spc="-1" strike="noStrike">
              <a:solidFill>
                <a:srgbClr val="000000"/>
              </a:solidFill>
              <a:latin typeface="Arial"/>
            </a:endParaRPr>
          </a:p>
          <a:p>
            <a:pPr marL="574560" indent="-533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all decisions of the NIAB may be appealed to TAC.</a:t>
            </a:r>
            <a:endParaRPr b="0" lang="en-US" sz="2400" spc="-1" strike="noStrike">
              <a:solidFill>
                <a:srgbClr val="000000"/>
              </a:solidFill>
              <a:latin typeface="Arial"/>
            </a:endParaRPr>
          </a:p>
          <a:p>
            <a:pPr marL="574560" indent="-533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457200" y="380880"/>
            <a:ext cx="8305920" cy="56390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transparency be maintained?</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AB will hold open meetings.</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AB conference calls will be publicly announced and publicly accessible.</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AB will  be obligated to make timely postings to TAC list servers that describe the ERCOT request, its actions and its response.</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such postings, NIAB members are expected to provide follow-up communications within their respective market segment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AB will also report on its activities at each monthly TAC mee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457200" y="380880"/>
            <a:ext cx="8305920" cy="56390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functions will it perform?</a:t>
            </a:r>
            <a:endParaRPr b="0" lang="en-US" sz="2400" spc="-1" strike="noStrike">
              <a:solidFill>
                <a:srgbClr val="000000"/>
              </a:solidFill>
              <a:latin typeface="Arial"/>
            </a:endParaRPr>
          </a:p>
          <a:p>
            <a:pPr lvl="1"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ERCOT Nodal Project approaches the period of preparation for Market Participant Trail activities, NIAB shall evaluate the composition of its core team membership and recommend any changes to TAC for its approval.</a:t>
            </a:r>
            <a:endParaRPr b="0" lang="en-US" sz="2400" spc="-1" strike="noStrike">
              <a:solidFill>
                <a:srgbClr val="000000"/>
              </a:solidFill>
              <a:latin typeface="Arial"/>
            </a:endParaRPr>
          </a:p>
          <a:p>
            <a:pPr lvl="1"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AB shall endeavor to assist TAC in transitioning the TAC Market subcommittees to the nodal environment.  To the extent feasible, NIAB shall involve the TAC Market subcommittees in the NIAB activities that are described here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457200" y="380880"/>
            <a:ext cx="8305920" cy="56390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ed TAC motion</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the NIAB</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ERCOT Staff facilitate segment elections to fill NIAB seats</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 of the TAC that election be completed and NIAB members confirmed at June TAC meeting</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TAC Chair to facilitate stakeholder workshop prior to next TAC meeting to develop NIAB Charter recommendation for approval at June TAC mee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19:11:37Z</dcterms:created>
  <dc:creator>Luminant</dc:creator>
  <dc:description/>
  <dc:language>en-US</dc:language>
  <cp:lastModifiedBy>Solomons</cp:lastModifiedBy>
  <dcterms:modified xsi:type="dcterms:W3CDTF">2009-05-04T13:21:22Z</dcterms:modified>
  <cp:revision>37</cp:revision>
  <dc:subject/>
  <dc:title>Nodal Implementation Advisory Board (NIAB) </dc:title>
</cp:coreProperties>
</file>