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E97A-EC16-455A-A357-6FC0A58E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BB75-409C-4E5F-B229-795A4EED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D466-8A80-439F-A703-8F0549C9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00E2-8D9E-4116-A271-FD17DC68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4712-B813-4F87-9AE3-24C97704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7998C-626C-4355-9E1E-2929D03C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23D3-2377-4771-9DD1-C29E8691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AC24-8BB0-49BD-A320-1A1DD2A6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4B71-6255-4635-B834-2B8E475B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C986-64D4-44C7-8170-3AB57312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D918-BE99-478A-89B9-D96E2B15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4CC1-C9A7-40D3-BA1E-E0DA2363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3F7C-538F-4248-8A6A-0E5E913BA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E9E1-008C-4930-8C04-D6610EB44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manded RPG Charter Issue: RPG Review of Generation Interconnection Facilities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n Woodfi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irector, System Plan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G Charter, as endorsed by TAC, was considered by Board at January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C voiced concerns about exemption from RPG review of high-cost lines to connect generation, citing example of Kelson CC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ard approved RPG Charter with revised language that removed exemption from RPG Review for generation interconnection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nded this issue back to TAC for further discussion and 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 remanded to ROS and W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/WMS Joint Discussion Group held meeting to discuss and structure this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Statu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urrent, approved language of the Charter requires generation interconnection projects costing more than $15 million or requiring CCNs to be reviewed by RPG (including ERCOT Independent Review and Board approval as appropria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95280" y="2571840"/>
            <a:ext cx="6553440" cy="39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ther Considerations Discussed by RP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ability impacts and requirements for these projects are already studied through generation interconnection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evaluation in RPG/ERCOT Independent Review would consist of stakeholder comment and economic evalu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evaluation for these projects will essentially be estimating the value of the generation to the market, net of the cost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ssion Staff testimony in Kelson CCN docket expressed need for ERCOT review on these types of CC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to preserve non-discriminatory transmission access in whatever process is adop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for RPG review to delay interconnection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priateness of ERCOT ro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tions Developed by Joint ROS/WMS Grou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on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t to RPG/TAC language.  Add language to Section 1.3.4 of the Planning Charter to say: ERCOT performs economic analysis of direct generation interconnection facilities &gt;$50 million (as a part of the Full Interconnection Study (FIS)) for info purposes only (no recommendation by ERC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o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t to RPG/TAC language.  No other changes to the Planning Charter (no economic analysis unless requested by PU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procedural changes common to both op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in Generation Interconnection (GI) Procedure that the Lead TSP for the FIS communicates to other TSPs when the FIS indicates that the direct interconnection facilities will cost &gt;$50 million so that the other TSPs will know to look (pursuant to existing GI Procedure requirements) particularly at this F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TSP for GI FIS will communicate direct generation interconnection projects &gt;$50 million out to full RPG (no review by RPG) once generation Interconnection Agreement is 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236232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09-04-30T18:29:21Z</dcterms:modified>
  <cp:revision>102</cp:revision>
  <dc:subject/>
  <dc:title>Instructions</dc:title>
</cp:coreProperties>
</file>