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3855-0860-4EDE-BC7F-699325807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0CD0-DC56-4210-9DA7-966FDE97C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D631-544D-4A0C-817D-B203F0280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D76A-6BFA-462F-9D89-F7B31A88A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8772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BD78-A355-4B32-9FF2-33029DBD8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AE15-69E6-46B7-9F72-03930B481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1CFB-33F9-43DF-9EF1-3F03E6BB2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7923-2717-45E4-A83C-4236C9523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8772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A62E-40B3-4012-B167-BA6E668FF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6B21-1847-4F3C-9185-ED2654506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BC6E-0550-4F63-9F41-E234593B9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CF8A-2924-4099-93B8-6EA5C1F20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6D09CBE4-BBB5-4BD8-B175-6AE6754B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6524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6524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8888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68076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8240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48920"/>
            <a:ext cx="784836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MS Update for the </a:t>
            </a: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Demand Side Working Group</a:t>
            </a:r>
            <a:br>
              <a:rPr sz="3000"/>
            </a:br>
            <a:br>
              <a:rPr sz="30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pril 20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2423" t="39691" r="9318" b="39301"/>
          <a:stretch/>
        </p:blipFill>
        <p:spPr>
          <a:xfrm>
            <a:off x="6081840" y="5113440"/>
            <a:ext cx="26668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mand Side Working Group Agenda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47160" y="131760"/>
            <a:ext cx="655560" cy="68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1678" t="31627" r="21741" b="29961"/>
          <a:stretch/>
        </p:blipFill>
        <p:spPr>
          <a:xfrm>
            <a:off x="671400" y="1303200"/>
            <a:ext cx="7391520" cy="486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181F-B9E4-4454-B2EC-130C461BD0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3040" y="4640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009 DSWG Goal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4200" y="1074600"/>
            <a:ext cx="8458200" cy="51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5047-064D-42E9-A5FC-04D2FED51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9360" y="4035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odal LaaR Potential Protocol Revision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23066" t="49504" r="23975" b="22307"/>
          <a:stretch/>
        </p:blipFill>
        <p:spPr>
          <a:xfrm>
            <a:off x="290520" y="2478240"/>
            <a:ext cx="7848720" cy="32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320" y="2065320"/>
            <a:ext cx="1145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4.7.2.1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8600" y="1303200"/>
            <a:ext cx="7672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RR173 - This NPRR is scheduled for consideration at the April 23, 2009 PRS meeti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6916-687C-4B60-A772-234017A30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080" y="387720"/>
            <a:ext cx="7774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RE LSE Registration Issues for Demand Response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731" t="13313" r="3011" b="2241"/>
          <a:stretch/>
        </p:blipFill>
        <p:spPr>
          <a:xfrm>
            <a:off x="595440" y="998640"/>
            <a:ext cx="7848360" cy="542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flipV="1">
            <a:off x="6614640" y="2674800"/>
            <a:ext cx="2133720" cy="45720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BE67-30E0-42CB-8CF3-2E3F2B3E84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ILS Baseline Methodology Updat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360" t="17698" r="13362" b="10325"/>
          <a:stretch/>
        </p:blipFill>
        <p:spPr>
          <a:xfrm>
            <a:off x="290520" y="998640"/>
            <a:ext cx="7086600" cy="533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74AD-CF47-40BC-9ED6-4104C155A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ad Participation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7647" t="31489" r="16238" b="5180"/>
          <a:stretch/>
        </p:blipFill>
        <p:spPr>
          <a:xfrm>
            <a:off x="824040" y="1074600"/>
            <a:ext cx="7315200" cy="528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BA96-FF81-40DF-BACA-3A90111DC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eeting Schedule for 2009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0680" y="1150560"/>
            <a:ext cx="8132760" cy="23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for balance of th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Jun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August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October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Decemb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47E-0918-476A-9275-6823F2E75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brelins</cp:lastModifiedBy>
  <dcterms:modified xsi:type="dcterms:W3CDTF">2009-04-17T23:29:17Z</dcterms:modified>
  <cp:revision>88</cp:revision>
  <dc:subject/>
  <dc:title>DSWG Update to W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B_TRACKING_NAME">
    <vt:lpwstr>\\leh\wam\users\HE\mbrelins\ERCOT\DSWG\2008 October\DSWG Update WMS Slides 10-20-08.ppt - mbrelins - 10/21/2008 2:56:29 PM</vt:lpwstr>
  </property>
</Properties>
</file>