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6A66-519F-469D-8A61-353B4201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9529-2D9C-4BFE-8809-C1532FD2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FF97-B939-4919-A4BD-E4E5BDE0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1DE6-87F7-4A5E-A048-D731BA28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D98B-0CD2-4C1B-8DB9-3B78F54B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C1AE-44FD-4951-A0AA-15BDCEF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EA0B-16B2-4041-93A1-1C97505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9726-713E-4F7F-80B5-2F64A07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7150-F3CE-4D71-AD89-952CA13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A556-9E20-43D5-9D33-750913E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8E84-F2D2-41E4-8B25-09D1033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4C2E-1A0F-4B97-BE6C-888EBB8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D8F4-B763-4C54-8EC6-8ADCEB3C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C5CF-2D40-45C7-BE65-6383AA67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Mar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066680"/>
          <a:ext cx="4038480" cy="4724280"/>
        </p:xfrm>
        <a:graphic>
          <a:graphicData uri="http://schemas.openxmlformats.org/drawingml/2006/table">
            <a:tbl>
              <a:tblPr/>
              <a:tblGrid>
                <a:gridCol w="2901960"/>
                <a:gridCol w="1136520"/>
              </a:tblGrid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2280" y="838080"/>
          <a:ext cx="8763120" cy="4802400"/>
        </p:xfrm>
        <a:graphic>
          <a:graphicData uri="http://schemas.openxmlformats.org/drawingml/2006/table">
            <a:tbl>
              <a:tblPr/>
              <a:tblGrid>
                <a:gridCol w="4114800"/>
                <a:gridCol w="3200400"/>
                <a:gridCol w="144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 - DeCordova SES &amp; Wolf Hollow - Rocky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rd 345/138kV Autotransfor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3,618,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– San Angelo Red Creek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 – Rowena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3,074,4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2,579,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-Santa Anna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-Humble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2,075,244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-Lost Pines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hester-Fayetteville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895,5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oke Switch-West Denton &amp; Lewisville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Denton-Airport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872,109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-Coleto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burton-Victoria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84,14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SES-Entpr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us58T2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wett-Tomball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-Pawn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74,48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34,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to North S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11,9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560"/>
                <a:gridCol w="893880"/>
                <a:gridCol w="893520"/>
                <a:gridCol w="1189080"/>
                <a:gridCol w="966960"/>
                <a:gridCol w="119052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52280" y="51814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ment quality doll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last 12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ongested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 -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last 12 months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last 12 months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 last 12 month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34120"/>
          <a:ext cx="8839080" cy="728640"/>
        </p:xfrm>
        <a:graphic>
          <a:graphicData uri="http://schemas.openxmlformats.org/drawingml/2006/table">
            <a:tbl>
              <a:tblPr/>
              <a:tblGrid>
                <a:gridCol w="92232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Febru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85800"/>
          <a:ext cx="8305920" cy="5486400"/>
        </p:xfrm>
        <a:graphic>
          <a:graphicData uri="http://schemas.openxmlformats.org/drawingml/2006/table">
            <a:tbl>
              <a:tblPr/>
              <a:tblGrid>
                <a:gridCol w="3581280"/>
                <a:gridCol w="289584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case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ham SES-Long Creek 345kV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ow Switch-Austrop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S - Menard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2,006,612.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2,522,073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mill Swithch - DeSoto Switch-Cedar Hill Swi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Levee A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914,588.11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-Kuykendahl-Roans Prairie &amp; Jewett-Tomball 345kV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sis-PH Robinson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rott - Midtown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30,227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field 345/138 Aut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field 345/138 Aut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656,779.42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57,822.65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l 138kV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on-Elm Crk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Donald-Forsa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rmont-Sp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19,505.84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e Pecan Creek - Trading Ho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83,973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1/T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2/T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02,416.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to North S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255,350.9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4-17T16:59:15Z</dcterms:modified>
  <cp:revision>62</cp:revision>
  <dc:subject/>
  <dc:title>Instructions</dc:title>
</cp:coreProperties>
</file>