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AEB-9F43-4F47-9F32-593AF945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524E-E7C5-4EEF-824D-FD2EEAAD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90B-72FE-443C-A65A-EA914373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BB8-5332-4536-A3A2-C17CB892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1A5F-278C-4067-870D-EB678837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9F01-5448-413A-8466-FD9FFDA1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46ED-E79A-4713-A82D-D78319DB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7071-1503-4A28-811E-C1EFB7CF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983D-03A4-4785-831A-B655A9CF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3830-1B7A-49FC-A409-2E9438B4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205B-2529-44E2-93DF-8209F3BC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9E1-B99E-4A41-B29A-3B11AE5F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2359-A3F1-45C5-B21A-A31E07D8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49A0-19E4-41BF-B3E4-0AB7EF7A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6670-EA6F-4919-A5E3-82066EED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F45F-E4FF-418A-8748-807B3BE6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5935-4277-4639-AEBD-7C18AB45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68C-C762-4A94-8506-B6611CC3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F9A-98CA-49F5-80C8-06BBFB94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80E-F74F-4C93-9F3F-0EBE5D76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805-DFA5-4972-AE9C-62826ECE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0C5-4E42-4AF7-9AFE-97CAC4D8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311-1D04-488C-9BB9-346C9D21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611-D32D-44BB-BF85-1D5FE186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A94C-8E0A-4B1F-9B22-6C9E61F0C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1943-CB42-41C6-B166-9C409993A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SE Managers Working Grou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04812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eting N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April, 2009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3 April,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 to W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 April,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Detelich - Chairper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 on V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7848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OGRR025 Monitoring Pro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GRR025 Spreadsheet reviewed with OW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leted the OWG/QMWG assig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complete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ric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xt Meet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Managers Working Group Topic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GRPP Forecast accuracy 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RCOT Nodal ICCP Communication Handbook for re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R803 Testing Require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GRR222, Allow Frequency Control Data Through ICCP Infrastructur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GR only QSE Scheduling Metr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R776 Implem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GRR025 Monitoring Progra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GRPP Forecast accuracy analysi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S Truewind met with ERCOT and worked out issues with MET data file transfer and aggre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 data is being used for about half the WGR 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is affected by consistency of wind patterns across the globe and the size of WGR sites in different count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turbines available would be improvement – ERCOT is developing a PRR for this to be used by AWS Truewind and to estimate reactive capabil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RCOT Nodal ICCP Communication Handbook for review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ents discussed with Matt Mere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MWG drafting a NOGRR that will define the change management process of this “Other Binding Document”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posed changes have 45 days to  be reviewed by NDMWG and QMWG.  Subsequent approval by WMS and TAC are requir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 we want this document to be part of the guides or leave as an “Other Binding Document”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R803 Testing Require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aft OGRR Quick Start Units Qualification Ramp Period for V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OGRR changes the balancing energy ramp period used for qualification of Quick Start Units to 14 minutes to align with PRR803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ds 2 minutes to the test perio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erating Guides Section 2.5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lancing Energy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GRR - Allow frequency control data through ICCP infrastructure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GRR222, Allow Frequency Control Data Through ICCP Infrastructure issued March 25, 2009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OGRR revises the required communication technology for QSE frequency control data from RTU-only to RTU or ICCP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te to endorse for April 23 OWG meeting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GR only QSE Metr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ussion progressed on metrics fo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urly scheduling requir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uracy and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lter Reid is submitting 2 PRR’s and 1 OGR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R Wind Generator Forecast for Scheduling 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R Real Time Production Potent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GRR Real Time Production Potential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dorsement request will be next meet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R776 Implemen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RCOT Market Operations Support provided examples of how to schedule the NS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rket Bulletin review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lletin sent 4/15 with a projected implementation date of 5/22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registration timeline and modeling requirements may be an iss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mitations on the use of the virtual unit may affect the marke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gistration timeline for V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 1 - Generation Cut-Off [Changes to Existing Resources]:  This date is the cut-off for REs to have resource registration changes of existing resources for network topology in by to assure successful incorporation into the associated EMS database load da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 15 - Telemetry Points Cut-Off:  ERCOT request that all telemetry point changes be submitted for both resources and transmission elements by this cut-off date in order to assure changes are incorporated in the associated EMS database load da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 20 - EMS Database Load D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known – How many virtual units will be register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asy form provided by ERCOT – Resource Asset PRR776 Addendu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2:42Z</dcterms:created>
  <dc:creator>Brandon Whittle</dc:creator>
  <dc:description/>
  <dc:language>en-US</dc:language>
  <cp:lastModifiedBy>CPS Energy</cp:lastModifiedBy>
  <dcterms:modified xsi:type="dcterms:W3CDTF">2009-04-17T16:06:59Z</dcterms:modified>
  <cp:revision>68</cp:revision>
  <dc:subject/>
  <dc:title>QSE Manager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