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3F6D-1782-49DA-BBD9-1F8FF698F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80E9-005B-4865-A2D8-7FA0F5F3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C961-C087-48B8-9F7A-071EF90DF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54B2-D25A-407C-BCE2-330898360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8985-D155-4559-B441-D6A30648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177C-F7C4-40D3-B451-871D353F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566E-7D56-48F0-9B57-9A90CFD8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2614-781B-4ACD-8BD3-6B9E0E45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4157-7C09-42BE-8A47-1F3A3412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94A8-3BA7-48C8-815F-F5D80836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72F7-564D-4993-84EF-9D5505F3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2285-ABA7-4797-B1AE-2BF27D43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E2FE-B98C-4B13-994F-5FBC3D39D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 Credit Working Group Update to W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. April 20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CWG Next Meet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d, April 29, 2009  9:30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CWG April 2009 Update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WG meeting April 13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WG Vice-Chair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PRR 147, DAM Short Pay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ing Future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ril 13, 2009 MCWG Meet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d MCWG on last presentation to WMS, including the WMS approval of the  Market Credit Risk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d the MCWG on the joint MCWG and CMWG discussions on March 30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resented by Marguerite, Group decided to consi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crow account funded by some very small percent of CRR reven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etails fleshed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ed to MCWG for further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or Vice Chair (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ed NPRR 147 (following 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a list of future items for MCWG discussion/consi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MCWG on April 29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l for Vice-Cha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April 13, 2009 opened the nomination for a Vice-Ch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mination period closes today, Monday April 20, 2009 at COB.  If interested please contact Vanessa Sp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ting period will be open through Monday April 27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te reported to MCWG, on Wed. April 29, 2009 and then submitted to WMS for confirmation of the Vice-Ch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CWG Discussion NPRR 1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ars there is consensus with stakeholders that the existing nodal Protocols uplifting CRR shortfalls to the DAM need to be 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 that the existing nodal Protocols for CRR shortfalls could lead to participants avoiding the D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PRR 147 attempts to remedy the concerns raised with lack of participation in the DAM by modifying the approved nodal shortfall methodology for CRR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Raised with NPRR 1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s raised with PRR 147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takeholders want to establish a short-pay fund to minimize the “hit” at any one time that load would need to pay.  An alternative proposal has been made to provide for such a shortfall fund, funded via a charge on bids and offers in the CRR market.  Potential issues here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mount to char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act on price convergence, bid/off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of the shortfall fund, excess dollars in the 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rther participant capital tied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cond concern raised is the methodology for allocation of CRR uplif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rgue that a broader socialization should be undertaken for CRR uplift, like the uplift methodologies in the northeast markets (i.e. absolute value of total dollars for market activity at a point in tim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PRR 147 Alternative Proposal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repay into shortfall f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ERCOT Inc. establishes a short pay fund (a facility in an amount TBD) that is available in the event of a CRR loss.  The fund is not funded but instead is available to be drawn against up to the TBD am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even of losses, losses would be socialized to all market activity (RTM, DAM, etc) using some variant of socialization applied in Northeast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falls repaid to the shortfall fund on a stakeholder approved methodology to smooth out repayment if $$’s large 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PRR 147 Alternative Proposal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Proposal (2)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for markets to achieve price convergence in the CRR market without introducing an “add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 mechanism for allocating shortfalls over a longer period, if shortfall is material (TBD by stakehold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er socialization across all ERCOT markets and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allocation of capital.  Does not require capital to be tied up front by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issu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of 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obtaining authorities to procure facility. 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RCOT Inc., indicates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at using ERCOT, Inc. debt capacity for this purpose is problematic but will present the idea to ERCOT management and the F&amp;A Committ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ying nodal Protocols to codify ERCOT’s ability to uplift these cos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items for MCW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 of invoice timing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bottom up review of existing creditworthiness standards (after CCRO Best Practices effor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of settlement cycle due to PRR 568 (7da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reductions in settlement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ncludes looking at the potential to reduce the settlement cycle 30% with improved me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rther acceleration of D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Broader allocation of “uplift” from current Load Ratio Share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07:11:00Z</dcterms:created>
  <dc:creator>daviesm</dc:creator>
  <dc:description/>
  <dc:language>en-US</dc:language>
  <cp:lastModifiedBy>daviesm</cp:lastModifiedBy>
  <dcterms:modified xsi:type="dcterms:W3CDTF">2009-04-17T18:07:06Z</dcterms:modified>
  <cp:revision>12</cp:revision>
  <dc:subject/>
  <dc:title>Market Credit Working Group Update to WMS</dc:title>
</cp:coreProperties>
</file>