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35D3-CF52-4310-8AB9-212BF1DE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472B-762C-4512-80CF-931CE3CD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E3E2-C625-4AE2-B4BF-2A15C359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BDDB-6975-45A1-9FC9-88993595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4EB0-8351-4F62-8710-76556AD2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A8BF-4E4E-4F11-8E21-EE3C827A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74EE-613D-4B7C-8B5E-7318BA58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A205-3E71-45EB-B586-A5002F71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5A93-5981-4B8C-B007-567A7BA4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E3F4-6833-4685-8973-924CD66C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1AFF-BA7D-4372-9B11-03233E8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BC6D-35E1-4BE3-A494-3D646834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0778-CCD2-4994-A38F-7F138032F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2E5E-1FA3-4844-A504-754E934E4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8880" y="1904760"/>
            <a:ext cx="63770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38240" y="3580920"/>
            <a:ext cx="57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7C17-C959-45DA-819F-F4FF7BA89C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– Additional El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Information on Funding and Project Prioritization Will Be Provided as We Move Through the Review and Approval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feedback from 2008 ERCO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one has specific requests in this area please bring them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derson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A Re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 version of form to be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enhancements identified over the past 2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highlighting if a project is due to a legislative or PUCT policy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CBA training material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2420-F155-4AB6-A850-4F37C03357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6019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24CF-CB3A-465C-B8A4-F6F973E456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4-12T17:49:08Z</dcterms:modified>
  <cp:revision>228</cp:revision>
  <dc:subject/>
  <dc:title>Instructions</dc:title>
</cp:coreProperties>
</file>