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9F5-5887-4F24-A11E-0CD42702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ADD-D2D3-4313-9C46-9DF1B1D5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B70-12D4-422C-BF97-3AE20F1F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89F-4B77-47F0-A61E-6B895289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622-0053-4DDE-94AC-9DED1E9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C87-958C-425C-A6AD-342FF85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870-6BC1-4075-B833-0322BE03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E02-B910-42E3-B17A-19DE61A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607-A70B-429F-BE6C-FAD6ABE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B9D-5D5F-41A3-9198-8CD0FBE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B60-0710-4C1D-88C1-8B613FD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18D-284F-4B73-9102-162EE55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FA40-5FD4-4EDE-B7DE-3862B182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1981440" cy="424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17520">
            <a:solidFill>
              <a:srgbClr val="d85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MS 4-20-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 Tex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 Notices &amp; CRE Attributes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recommended inclusion of date new CRE will become 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aid this is difficult – dates can change based on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will strive to get notices out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subgroup will meet to 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CREs work with respect to C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ly Added &amp; Potential C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is being limited more by voltage stability than by Peters—Flewellen or Hockley—Tom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that BOD was promised Mitigation Plan for 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vided to m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Angelo – Me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return to service 5/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recommends WMS ask for update on this at May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RR 147 Defaults in 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various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moved in different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ow account funded by some very small percent of CRR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tails flesh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will submit their own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is back in hands of Credit Wor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coming Work Items for CM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recommendations for refi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GRR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 C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4/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801 Business Process for Adjusting TTC for TCR a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RR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s Notices/Attributes/New &amp;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R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Stability Study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load flow cases complete 3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Dynamic Run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complete end of M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recommends that WMS ask for monthly updates on Stud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nsure that we solve roadblocks as they arise (e.g. hardware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eeks increased W Zone export capability—these study results could impact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W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discussion that ERCOT should be forward looking in the stability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ty limit with the CREZ Priority &amp; Default lines in place (20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ty limit with all CREZ lines in place (201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tage Ride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P Issued Fal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3/30/09 ERCOT still choosing 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completion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ystem Stabilizer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n plann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WG had questions about what the posted data me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S required in interconnection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ewer plants in list did not appear to have PSS ope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update the spreadsheet to clarify some quest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R 801 TCR MW Determin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839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me from issue of adjusting forward MW for sale to fix historic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support for ERCOT goal of making each month revenu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CR Auction Case (included outages) against what actually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terative process to try to improve the choice of outages for inclusion in TC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odal Protocol Language for Guidance on How to Include Outages—ERCOT will do this for Jun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448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GRR 2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3 assignments to CMWG are data posting with no metrics required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a)8.2(2)(d)Three consecutive days of a particular congestion constraint (constraints passed to Security-Constrained Economic Dispatch (SCED) from Network Security Analysis (NSA)) in Real-Time not identified in the Day Ahead Market (DAM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b)8.2(2)(d)Two consecutive hours of a particular congestion constraint in Real-Time not identified in the Hourly Reliability Unit Commitment (HRUC) proces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2.4(c)8.2(2)(d)Two consecutive days of a particular congestion constraint in Real-Time not identified in the Day-Ahead Reliability Unit Commitment (DRUC)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GRR 25 Work Items Comp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recommends weekly posting for all thre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2.4(a)8.2(2)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vs. DAM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compare set of constraints in each DAM vs. all RT constraints for Rolling 3 days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traint shows up in RT for three days when it was not active in DAM, it will be identified and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2.4(b)8.2(2)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vs. HRU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compare set of constraints in each HRUC vs. all RT constraints in consecutive 2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ongestion constraint in RT occurs for 2 consecutive hours that was not identified in HRUC it should be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2.4(c)8.2(2)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vs. DRU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compare set of constraints in each DRUC vs. all RT constraints for Rolling 2 days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traint shows up in RT for two days when it was not active in DRUC, it will be identified and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ERCOT return to workgroups with draft data posting to ensure that relevant info is captured in data posted? Eg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s, constraints, applicabl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requirements--constraint names should comport with NMMS/EM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572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GRR 25 Work Items Compl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PSEG TX </dc:creator>
  <dc:description/>
  <dc:language>en-US</dc:language>
  <cp:lastModifiedBy>PSEG</cp:lastModifiedBy>
  <dcterms:modified xsi:type="dcterms:W3CDTF">2009-04-09T16:13:58Z</dcterms:modified>
  <cp:revision>28</cp:revision>
  <dc:subject/>
  <dc:title>Congestion Management Work Group Update</dc:title>
</cp:coreProperties>
</file>