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2763C-9450-4002-A6BA-5E1B84FC0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A835E-D01F-4AE9-A1A7-89C2B619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E4D29-1A24-42D5-9F5A-1B092738C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2B68B-B538-4269-A2A9-F6D22B15D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3870D-1DA2-4453-938A-D61B87A3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6057B-77BE-4568-A3BD-19C366E4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1E178-2FFB-421C-A6A1-93E308A3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91392-681A-4287-9FE7-00705602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AB544-669C-4442-9074-703D1B87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00C76-AFAF-4EE1-BFF6-07A5A865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77310-7320-4788-9032-1E60F312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7BBE0-44F4-419C-BD14-21E64273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9DE7-EF66-4CDE-A4FA-9545125BE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A9BE-18F1-4053-95FB-36450722D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manded RPG Charter Issue: RPG Review of Generation Interconnection Facilities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an Woodfi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irector, System Plann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4/16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isto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PG Charter, as endorsed by TAC, was considered by Board at January 2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ee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C voiced concerns about exemption from RPG review of high-cost lines to connect generation, citing example of Kelson CC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ard approved RPG Charter with revised language that removed exemption from RPG Review for generation interconnection pro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nded this issue back to TAC for further discussion and 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 remanded to ROS and W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S/WMS Joint Discussion Group held meeting to discuss and structure this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4/16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urrent Statu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urrent, approved language of the Charter requires generation interconnection projects costing more than $15 million or requiring CCNs to be reviewed by RPG (including ERCOT Independent Review and Board approval as appropria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295280" y="2571840"/>
            <a:ext cx="6553440" cy="390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4/16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ther Considerations Discussed by RP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iability impacts and requirements for these projects are already studied through generation interconnection stud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itional evaluation in RPG/ERCOT Independent Review would consist of stakeholder comment and economic evalu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c evaluation for these projects will essentially be estimating the value of the generation to the market, net of the cost of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ission Staff testimony in Kelson CCN docket expressed need for ERCOT review on these types of CC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to preserve non-discriminatory transmission access in whatever process is adop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tential for RPG review to delay interconnection imple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priateness of ERCOT rol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4/16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ptions Developed by Joint ROS/WMS Group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ption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ert to RPG/TAC language.  Add language to Section 1.3.4 of the Planning Charter to say: ERCOT performs economic analysis of direct generation interconnection facilities &gt;$50 million (as a part of the Full Interconnection Study (FIS)) for info purposes only (no recommendation by ERC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ption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ert to RPG/TAC language.  No other changes to the Planning Charter (no economic analysis unless requested by PU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 procedural changes common to both option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 in Generation Interconnection (GI) Procedure that the Lead TSP for the FIS communicates to other TSPs when the FIS indicates that the direct interconnection facilities will cost &gt;$50 million so that the other TSPs will know to look (pursuant to existing GI Procedure requirements) particularly at this F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TSP for GI FIS will communicate direct generation interconnection projects &gt;$50 million out to full RPG (no review by RPG) once generation Interconnection Agreement is s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4/16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236232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4/16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Dan Woodfin</cp:lastModifiedBy>
  <dcterms:modified xsi:type="dcterms:W3CDTF">2009-04-08T19:44:38Z</dcterms:modified>
  <cp:revision>102</cp:revision>
  <dc:subject/>
  <dc:title>Instructions</dc:title>
</cp:coreProperties>
</file>