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68DA-44D1-4806-8D2F-5584FE95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B711-D7A7-4A46-BCDD-B90E58E8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7EC1-33F3-487E-B9B6-FD01BF9E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16F8-08CC-427C-846A-A6665740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3963-EED9-44FE-BF88-95FA43C5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0CD5A-171A-4633-807E-2EBB1A14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CFC1-FDD5-4796-B6E6-8593680A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C65D-4991-4231-BFEB-DB7718C0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1CFB-BAF4-49B0-B1F1-99E0E28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F1FD-642F-49AB-A975-162883AE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AF615-28E9-404E-BF13-5582F02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AAD4-60B6-4095-AA50-E758A4D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264-FB47-4D99-88C4-FEE707B9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C6B-FF30-4688-B610-10FAB6BAD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ngineering Stu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ROS 4/16/2009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eeting Title (option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Day Month, Yea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lanning Stu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3520" y="1219320"/>
          <a:ext cx="7315200" cy="304632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y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Interconnection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PG Independent Transmission Project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year Transmission Plan Develo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 Term System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Studies (e. g. CREZ, Entergy Integr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/SPS Revie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erations Stu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762120"/>
          <a:ext cx="8305920" cy="5527440"/>
        </p:xfrm>
        <a:graphic>
          <a:graphicData uri="http://schemas.openxmlformats.org/drawingml/2006/table">
            <a:tbl>
              <a:tblPr/>
              <a:tblGrid>
                <a:gridCol w="5659560"/>
                <a:gridCol w="2646360"/>
              </a:tblGrid>
              <a:tr h="67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Flow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”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age Coordination studies (3-8 day, 9-45 day, &gt;45 da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Start study/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tage Profile Study (2/yr ~2 months e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L monitoring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nual RAP's &amp; Mitigation plan review (~3 months/y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onal Loss of Load Probability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S review and analysis - as prop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R Studies - As propo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e Case building (every 2 week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CSC Limit studies 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ily McCamey limit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 studies (as need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 Event Studies (as needed - typically week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RAP/PCAP proposal review studies (as needed avg. week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rring Congestion analysis (as need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M support studies - analyze congestion (as needed – avg. week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tability Stud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685800"/>
          <a:ext cx="8763120" cy="5594400"/>
        </p:xfrm>
        <a:graphic>
          <a:graphicData uri="http://schemas.openxmlformats.org/drawingml/2006/table">
            <a:tbl>
              <a:tblPr/>
              <a:tblGrid>
                <a:gridCol w="533520"/>
                <a:gridCol w="4184640"/>
                <a:gridCol w="4044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y Requi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date W&gt;N Stability for Oklaunion PSS in Ser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update of W&gt;N Stability Matr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process; 2-3 mont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se II of LaaRs Study (at 2300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follow-up study will be run by ERCOT for D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nd Farm Data 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be accomplished as part of VRT Study.  Issued RFP and in process of contracting with ven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R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sued RFP and in process of contracting with ven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S Tuning to Improve W&gt;N S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uld use W&gt;N Stability Matrix Update as basis, so that study has to be completed fi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Z Voltage Management Plan (sizing and placement of reactive devices and development of proced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COT is working with CREZTSPs to develop scope for an RFP, which ERCOT would issue; ERCOT will oversee work done under the RFP with TSP input and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ertia Study with High Wind Pene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ll follow Phase II of VRT Study (wind modeling improvemen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Voltage and Transient Contingency Analy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2478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5:15:22Z</dcterms:created>
  <dc:creator>Chad Thompson</dc:creator>
  <dc:description/>
  <dc:language>en-US</dc:language>
  <cp:lastModifiedBy>Baseline 1&amp;2 final review pre-TPTF</cp:lastModifiedBy>
  <dcterms:modified xsi:type="dcterms:W3CDTF">2009-04-15T23:36:22Z</dcterms:modified>
  <cp:revision>59</cp:revision>
  <dc:subject/>
  <dc:title>Balancing Energy and Schedule Changes </dc:title>
</cp:coreProperties>
</file>