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0636A-B818-4B18-8F20-F3D3B5E3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B99B-FCF4-4E2C-86D2-62AD1885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8B67-F143-4CD9-A3E6-D0D4245F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DC2F-133E-4A1E-9458-49C61101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8BD1-A885-4A47-A6C8-93C8731E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3ABD-9437-4B93-8687-68ED52B5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1226-5C54-4DB6-A17A-077AB872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C578-9BD1-499E-8539-3829ED4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8A88-CAF9-4604-91B1-27F49014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AA67-629A-42C5-8982-DBB0E53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BB85-FA4D-4E07-8155-EFC24512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2051-7DD3-444E-AAC4-A7EB011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C6D2-FECA-435B-9E6C-2591E3CD7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1513-4B01-4D66-B24D-0C7479C3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1904760"/>
            <a:ext cx="63770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38240" y="3580920"/>
            <a:ext cx="5757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gram Management Offi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 2009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s develop draft 2010 projec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d incorporate input from the mar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year project forecast referenced and upd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review at Market Subcommittee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y 14 / May 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market sub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S, W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1 / June 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, IO, MO, RO, SO – 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ne 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by T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F&amp;A and Board 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July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D843-2721-4C90-871E-C68D87EFC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 – Additional Ele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hanced Information on Funding and Project Prioritization Will Be Provided as We Move Through the Review and Approval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o feedback from 2008 ERCOT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yone has specific requests in this area please bring them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d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A Rev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ion version of form to be int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enhancements identified over the past 2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highlighting if a project is due to a legislative or PUCT policy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CBA training materials being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14F6-7695-4E74-80A0-7AE385DE46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60195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D1CE-0F7F-4D1F-9542-1D8A43A1F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9-04-12T17:49:08Z</dcterms:modified>
  <cp:revision>228</cp:revision>
  <dc:subject/>
  <dc:title>Instructions</dc:title>
</cp:coreProperties>
</file>