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CD7512E-283A-4691-B1DA-921CBFA9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75BA3EA-582B-4942-8BA8-CF760EC32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odal Update for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Entry Model (SEM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o-Live Trans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16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t Mere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626212D-C9CB-41B8-BD1E-DF12411F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odel Submissions during June-Aug’09 transi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28600" y="9907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Submissions for network operation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no limits on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otice clarification sent March 5 to all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“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larify that there are no restrictions or “freezes” currently in place limiting network model change submissions via the service request proces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ncepts for transition peri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une 1- Aug 31,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jective to minimize Service Requests during this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mit changes as far in advanc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equipment name changes (defer until after 8/31/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-31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during period is to complete transition an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no submissions, except for emergenc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more at April ND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1DBD887-AE29-4299-B4ED-B0F27C88F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54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or comments can be submitt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s2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ereness@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BB9C76B-AA08-4F0D-A37F-CDF8A792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Transition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547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review of SEM Transi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 with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 Go-Live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 Submissions during June-Aug’09 tran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343C640-FF83-43E2-89D1-6700930E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eneral Review of SEM Transi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5471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Entry Model (SEM) Go-Live is the switchover on Aug 31, 2009 for TSP submissions of network operations model change requ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“Service Request” submissions via 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“NOMCR” submissions via the NM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2819520"/>
            <a:ext cx="152388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3657600"/>
            <a:ext cx="2667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via Servic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4572000"/>
            <a:ext cx="18288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c Requ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4572000"/>
            <a:ext cx="19810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pies/Conv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al Model “s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2819520"/>
            <a:ext cx="1523880" cy="5331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3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3657600"/>
            <a:ext cx="2666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 Change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/NMM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572000"/>
            <a:ext cx="18288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creme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s  NOM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Svc Re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s 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572000"/>
            <a:ext cx="18288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294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563868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638680"/>
            <a:ext cx="4114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2743200"/>
            <a:ext cx="0" cy="3429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1A6D31F-CF10-4FBD-BC8D-2D9B9687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eneral Review of SEM Transition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es and approvals leading up to this activity were outl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pproved by TPTF and TAC in Aug/Sep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odal.ercot.com/readiness/golive/index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coming months ERCOT will continue to provide updates to NDSWG on details of the implementation and switchover activit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nodal presentations to NDSWG continue to be consolidated and posted on Nodal Readiness Cent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odal.ercot.com/readiness/eds2/documents/index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73F04D4-511F-4EAE-A734-A3B6FEBAB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General Review of SEM Transition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54712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is utilizing NDSWG forum to update and communicate TSP activities for Single Entry Model (SEM) Go-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9600" y="1676520"/>
            <a:ext cx="90662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F5A07D5-1A0F-4ACD-8DC4-94419A87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munications with Stakeholde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79440" y="1147680"/>
          <a:ext cx="8238960" cy="25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1147680"/>
                    <a:ext cx="8238960" cy="25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F02E590-5B00-4849-A0DA-A938F6EF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munications with Stakeholders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9440" y="758880"/>
          <a:ext cx="7655040" cy="54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758880"/>
                    <a:ext cx="765504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C6DC0E7-1937-4B01-87D0-885F76C6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6858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 Go-Live Criteria def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nodal.ercot.com/readiness/golive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4- The following entry criteria shall be met for SEM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 &amp; ERCOT complete EDS 2 Release 4 activities (next p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network model validated and approved as baseline for SEM Go-Live by ERCOT System Ops and Market Ops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ublishes CIM model to be used for SEM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ufficiently staffed for maintenance of nodal &amp; zon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EMS is capable of consuming NMMS CIM files through the EMS CIM importer for use in the Nodal EMS application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Go-Live readiness approved by TPTF, TAC and ERCOT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ume ROS approval in place of TP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ublishes the following documents for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whitep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MS Modeling Guidelines / Validation Rules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CIM data dictionary and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CD80152-F252-40A1-AB7B-FF784539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(cont’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" y="38088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SPs complete EDS 2 Release 4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have enrolled and can access the ERCOT MIS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have been trained on the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s can electronically submit data changes utilizing the NOMCR user interface and CIM compliant format for data exchange or via the manual MIS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s can submit data changes utilizing the registration submission and subsequent ERCOT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s can receive NOMCR acknowledgement of submittals, verifications, and confirmation of data po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199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ompletes EDS 2 Release 4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s ready to fully utilize the NOMCR process for all TSP/QSE data change requ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 MPs can successfully submit data changes via the CIM compliant electronic NOMCR proce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SE can successfully submit data changes through registration submissions (and updated in the Network Operations Model via the NOMCR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has processes in place to use a “single entry point” to maintain both Nodal and Zonal network model databases when MPs submit changes via the NOMCR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is the database of record for the Network Operations Model including the ICCP modeling point database and operatorship / ownership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MMS database is under full change control by ERCOT Network Model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discontinues the use of Service Requests for data changes and chang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9920" indent="-159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begins the use of the NOMCR process for data changes and chang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09-04-15T21:32:53Z</dcterms:modified>
  <cp:revision>706</cp:revision>
  <dc:subject/>
  <dc:title>Texas Nodal Detailled Market Trials Planning Process 30 January 2007</dc:title>
</cp:coreProperties>
</file>