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</p:sldIdLst>
  <p:sldSz cx="10058400" cy="64008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xas RE Board Re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dt" idx="1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sldImg"/>
          </p:nvPr>
        </p:nvSpPr>
        <p:spPr>
          <a:xfrm>
            <a:off x="766800" y="696960"/>
            <a:ext cx="547848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96"/>
                </a:solidFill>
                <a:latin typeface="Arial Black"/>
              </a:rPr>
              <a:t>Click to move the slide</a:t>
            </a: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ftr" idx="1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6"/>
          <p:cNvSpPr>
            <a:spLocks noGrp="1"/>
          </p:cNvSpPr>
          <p:nvPr>
            <p:ph type="sldNum" idx="1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5E42559B-DBBE-4A6E-9ABC-DBB38952A1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2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noAutofit/>
          </a:bodyPr>
          <a:p>
            <a:pPr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as RE Board Re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766800" y="696960"/>
            <a:ext cx="5478480" cy="348624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Slide Number Placeholder 4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FE9EB521-FEE9-46F2-BC70-5A2A1B3138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06560" y="995400"/>
            <a:ext cx="804528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06560" y="3299040"/>
            <a:ext cx="804528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006560" y="995400"/>
            <a:ext cx="3925800" cy="44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5128920" y="995400"/>
            <a:ext cx="3925800" cy="44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503280" y="71280"/>
            <a:ext cx="9220320" cy="29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006560" y="995400"/>
            <a:ext cx="39258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5128920" y="995400"/>
            <a:ext cx="3925800" cy="44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1006560" y="3299040"/>
            <a:ext cx="39258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006560" y="995400"/>
            <a:ext cx="3925800" cy="44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128920" y="995400"/>
            <a:ext cx="39258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5128920" y="3299040"/>
            <a:ext cx="39258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006560" y="995400"/>
            <a:ext cx="39258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5128920" y="995400"/>
            <a:ext cx="39258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1006560" y="3299040"/>
            <a:ext cx="804528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006560" y="995400"/>
            <a:ext cx="804528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1006560" y="3299040"/>
            <a:ext cx="804528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006560" y="995400"/>
            <a:ext cx="39258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5128920" y="995400"/>
            <a:ext cx="39258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1006560" y="3299040"/>
            <a:ext cx="39258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5128920" y="3299040"/>
            <a:ext cx="39258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006560" y="995400"/>
            <a:ext cx="25902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726720" y="995400"/>
            <a:ext cx="25902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446880" y="995400"/>
            <a:ext cx="25902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1006560" y="3299040"/>
            <a:ext cx="25902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726720" y="3299040"/>
            <a:ext cx="25902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6446880" y="3299040"/>
            <a:ext cx="25902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06560" y="995400"/>
            <a:ext cx="39258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28920" y="995400"/>
            <a:ext cx="39258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06560" y="3299040"/>
            <a:ext cx="39258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28920" y="3299040"/>
            <a:ext cx="39258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1006560" y="995400"/>
            <a:ext cx="8045280" cy="44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006560" y="995400"/>
            <a:ext cx="8045280" cy="44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006560" y="995400"/>
            <a:ext cx="3925800" cy="44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5128920" y="995400"/>
            <a:ext cx="3925800" cy="44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503280" y="71280"/>
            <a:ext cx="9220320" cy="29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006560" y="995400"/>
            <a:ext cx="39258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5128920" y="995400"/>
            <a:ext cx="3925800" cy="44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1006560" y="3299040"/>
            <a:ext cx="39258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006560" y="995400"/>
            <a:ext cx="3925800" cy="44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128920" y="995400"/>
            <a:ext cx="39258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128920" y="3299040"/>
            <a:ext cx="39258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1006560" y="995400"/>
            <a:ext cx="39258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5128920" y="995400"/>
            <a:ext cx="39258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1006560" y="3299040"/>
            <a:ext cx="804528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006560" y="995400"/>
            <a:ext cx="804528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1006560" y="3299040"/>
            <a:ext cx="804528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006560" y="995400"/>
            <a:ext cx="39258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5128920" y="995400"/>
            <a:ext cx="39258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1006560" y="3299040"/>
            <a:ext cx="39258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128920" y="3299040"/>
            <a:ext cx="39258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06560" y="995400"/>
            <a:ext cx="25902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726720" y="995400"/>
            <a:ext cx="25902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46880" y="995400"/>
            <a:ext cx="25902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06560" y="3299040"/>
            <a:ext cx="25902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726720" y="3299040"/>
            <a:ext cx="25902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46880" y="3299040"/>
            <a:ext cx="25902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006560" y="995400"/>
            <a:ext cx="25902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726720" y="995400"/>
            <a:ext cx="25902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446880" y="995400"/>
            <a:ext cx="25902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1006560" y="3299040"/>
            <a:ext cx="25902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/>
          </p:nvPr>
        </p:nvSpPr>
        <p:spPr>
          <a:xfrm>
            <a:off x="3726720" y="3299040"/>
            <a:ext cx="25902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7"/>
          <p:cNvSpPr>
            <a:spLocks noGrp="1"/>
          </p:cNvSpPr>
          <p:nvPr>
            <p:ph/>
          </p:nvPr>
        </p:nvSpPr>
        <p:spPr>
          <a:xfrm>
            <a:off x="6446880" y="3299040"/>
            <a:ext cx="25902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06560" y="995400"/>
            <a:ext cx="8045280" cy="44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06560" y="995400"/>
            <a:ext cx="8045280" cy="44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06560" y="995400"/>
            <a:ext cx="3925800" cy="44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28920" y="995400"/>
            <a:ext cx="3925800" cy="44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71280"/>
            <a:ext cx="9220320" cy="29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06560" y="995400"/>
            <a:ext cx="39258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28920" y="995400"/>
            <a:ext cx="3925800" cy="44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06560" y="3299040"/>
            <a:ext cx="39258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06560" y="995400"/>
            <a:ext cx="8045280" cy="44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06560" y="995400"/>
            <a:ext cx="3925800" cy="44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28920" y="995400"/>
            <a:ext cx="39258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28920" y="3299040"/>
            <a:ext cx="39258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06560" y="995400"/>
            <a:ext cx="39258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28920" y="995400"/>
            <a:ext cx="39258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06560" y="3299040"/>
            <a:ext cx="804528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06560" y="995400"/>
            <a:ext cx="804528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06560" y="3299040"/>
            <a:ext cx="804528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06560" y="995400"/>
            <a:ext cx="39258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28920" y="995400"/>
            <a:ext cx="39258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06560" y="3299040"/>
            <a:ext cx="39258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28920" y="3299040"/>
            <a:ext cx="39258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06560" y="995400"/>
            <a:ext cx="25902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6720" y="995400"/>
            <a:ext cx="25902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46880" y="995400"/>
            <a:ext cx="25902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06560" y="3299040"/>
            <a:ext cx="25902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726720" y="3299040"/>
            <a:ext cx="25902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46880" y="3299040"/>
            <a:ext cx="25902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006560" y="995400"/>
            <a:ext cx="8045280" cy="44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06560" y="995400"/>
            <a:ext cx="8045280" cy="44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06560" y="995400"/>
            <a:ext cx="3925800" cy="44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28920" y="995400"/>
            <a:ext cx="3925800" cy="44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06560" y="995400"/>
            <a:ext cx="8045280" cy="44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503280" y="71280"/>
            <a:ext cx="9220320" cy="29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06560" y="995400"/>
            <a:ext cx="39258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28920" y="995400"/>
            <a:ext cx="3925800" cy="44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006560" y="3299040"/>
            <a:ext cx="39258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06560" y="995400"/>
            <a:ext cx="3925800" cy="44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28920" y="995400"/>
            <a:ext cx="39258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128920" y="3299040"/>
            <a:ext cx="39258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06560" y="995400"/>
            <a:ext cx="39258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128920" y="995400"/>
            <a:ext cx="39258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006560" y="3299040"/>
            <a:ext cx="804528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06560" y="995400"/>
            <a:ext cx="804528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1006560" y="3299040"/>
            <a:ext cx="804528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06560" y="995400"/>
            <a:ext cx="39258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128920" y="995400"/>
            <a:ext cx="39258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006560" y="3299040"/>
            <a:ext cx="39258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128920" y="3299040"/>
            <a:ext cx="39258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06560" y="995400"/>
            <a:ext cx="25902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726720" y="995400"/>
            <a:ext cx="25902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446880" y="995400"/>
            <a:ext cx="25902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1006560" y="3299040"/>
            <a:ext cx="25902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726720" y="3299040"/>
            <a:ext cx="25902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446880" y="3299040"/>
            <a:ext cx="25902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006560" y="995400"/>
            <a:ext cx="8045280" cy="44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06560" y="995400"/>
            <a:ext cx="8045280" cy="44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06560" y="995400"/>
            <a:ext cx="3925800" cy="44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28920" y="995400"/>
            <a:ext cx="3925800" cy="44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06560" y="995400"/>
            <a:ext cx="3925800" cy="44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128920" y="995400"/>
            <a:ext cx="3925800" cy="44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503280" y="71280"/>
            <a:ext cx="9220320" cy="29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06560" y="995400"/>
            <a:ext cx="39258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128920" y="995400"/>
            <a:ext cx="3925800" cy="44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1006560" y="3299040"/>
            <a:ext cx="39258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006560" y="995400"/>
            <a:ext cx="3925800" cy="44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128920" y="995400"/>
            <a:ext cx="39258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128920" y="3299040"/>
            <a:ext cx="39258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006560" y="995400"/>
            <a:ext cx="39258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128920" y="995400"/>
            <a:ext cx="39258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1006560" y="3299040"/>
            <a:ext cx="804528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06560" y="995400"/>
            <a:ext cx="804528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1006560" y="3299040"/>
            <a:ext cx="804528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06560" y="995400"/>
            <a:ext cx="39258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128920" y="995400"/>
            <a:ext cx="39258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1006560" y="3299040"/>
            <a:ext cx="39258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5128920" y="3299040"/>
            <a:ext cx="39258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006560" y="995400"/>
            <a:ext cx="25902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726720" y="995400"/>
            <a:ext cx="25902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446880" y="995400"/>
            <a:ext cx="25902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1006560" y="3299040"/>
            <a:ext cx="25902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726720" y="3299040"/>
            <a:ext cx="25902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446880" y="3299040"/>
            <a:ext cx="25902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1006560" y="995400"/>
            <a:ext cx="8045280" cy="44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006560" y="995400"/>
            <a:ext cx="8045280" cy="44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006560" y="995400"/>
            <a:ext cx="3925800" cy="44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128920" y="995400"/>
            <a:ext cx="3925800" cy="44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503280" y="71280"/>
            <a:ext cx="9220320" cy="29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006560" y="995400"/>
            <a:ext cx="39258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128920" y="995400"/>
            <a:ext cx="3925800" cy="44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1006560" y="3299040"/>
            <a:ext cx="39258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06560" y="995400"/>
            <a:ext cx="3925800" cy="44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128920" y="995400"/>
            <a:ext cx="39258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128920" y="3299040"/>
            <a:ext cx="39258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006560" y="995400"/>
            <a:ext cx="39258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128920" y="995400"/>
            <a:ext cx="39258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1006560" y="3299040"/>
            <a:ext cx="804528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006560" y="995400"/>
            <a:ext cx="804528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1006560" y="3299040"/>
            <a:ext cx="804528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06560" y="995400"/>
            <a:ext cx="39258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128920" y="995400"/>
            <a:ext cx="39258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1006560" y="3299040"/>
            <a:ext cx="39258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5128920" y="3299040"/>
            <a:ext cx="39258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71280"/>
            <a:ext cx="9220320" cy="29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006560" y="995400"/>
            <a:ext cx="25902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726720" y="995400"/>
            <a:ext cx="25902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446880" y="995400"/>
            <a:ext cx="25902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1006560" y="3299040"/>
            <a:ext cx="25902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726720" y="3299040"/>
            <a:ext cx="25902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6446880" y="3299040"/>
            <a:ext cx="25902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1006560" y="995400"/>
            <a:ext cx="8045280" cy="44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006560" y="995400"/>
            <a:ext cx="8045280" cy="44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006560" y="995400"/>
            <a:ext cx="3925800" cy="44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5128920" y="995400"/>
            <a:ext cx="3925800" cy="44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503280" y="71280"/>
            <a:ext cx="9220320" cy="29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006560" y="995400"/>
            <a:ext cx="39258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128920" y="995400"/>
            <a:ext cx="3925800" cy="44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006560" y="3299040"/>
            <a:ext cx="39258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006560" y="995400"/>
            <a:ext cx="3925800" cy="44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5128920" y="995400"/>
            <a:ext cx="39258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128920" y="3299040"/>
            <a:ext cx="39258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006560" y="995400"/>
            <a:ext cx="39258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5128920" y="995400"/>
            <a:ext cx="39258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1006560" y="3299040"/>
            <a:ext cx="804528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06560" y="995400"/>
            <a:ext cx="39258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28920" y="995400"/>
            <a:ext cx="3925800" cy="44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06560" y="3299040"/>
            <a:ext cx="39258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006560" y="995400"/>
            <a:ext cx="804528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1006560" y="3299040"/>
            <a:ext cx="804528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006560" y="995400"/>
            <a:ext cx="39258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128920" y="995400"/>
            <a:ext cx="39258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1006560" y="3299040"/>
            <a:ext cx="39258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5128920" y="3299040"/>
            <a:ext cx="39258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006560" y="995400"/>
            <a:ext cx="25902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726720" y="995400"/>
            <a:ext cx="25902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446880" y="995400"/>
            <a:ext cx="25902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1006560" y="3299040"/>
            <a:ext cx="25902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726720" y="3299040"/>
            <a:ext cx="25902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446880" y="3299040"/>
            <a:ext cx="25902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06560" y="995400"/>
            <a:ext cx="8045280" cy="44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06560" y="995400"/>
            <a:ext cx="8045280" cy="44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06560" y="995400"/>
            <a:ext cx="3925800" cy="44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5128920" y="995400"/>
            <a:ext cx="3925800" cy="44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503280" y="71280"/>
            <a:ext cx="9220320" cy="29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06560" y="995400"/>
            <a:ext cx="39258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5128920" y="995400"/>
            <a:ext cx="3925800" cy="44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06560" y="3299040"/>
            <a:ext cx="39258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06560" y="995400"/>
            <a:ext cx="3925800" cy="44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28920" y="995400"/>
            <a:ext cx="39258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28920" y="3299040"/>
            <a:ext cx="39258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06560" y="995400"/>
            <a:ext cx="3925800" cy="44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128920" y="995400"/>
            <a:ext cx="39258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128920" y="3299040"/>
            <a:ext cx="39258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06560" y="995400"/>
            <a:ext cx="39258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128920" y="995400"/>
            <a:ext cx="39258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06560" y="3299040"/>
            <a:ext cx="804528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06560" y="995400"/>
            <a:ext cx="804528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06560" y="3299040"/>
            <a:ext cx="804528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06560" y="995400"/>
            <a:ext cx="39258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5128920" y="995400"/>
            <a:ext cx="39258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06560" y="3299040"/>
            <a:ext cx="39258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5128920" y="3299040"/>
            <a:ext cx="39258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06560" y="995400"/>
            <a:ext cx="25902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726720" y="995400"/>
            <a:ext cx="25902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446880" y="995400"/>
            <a:ext cx="25902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06560" y="3299040"/>
            <a:ext cx="25902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726720" y="3299040"/>
            <a:ext cx="25902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446880" y="3299040"/>
            <a:ext cx="25902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1006560" y="995400"/>
            <a:ext cx="8045280" cy="44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006560" y="995400"/>
            <a:ext cx="8045280" cy="44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006560" y="995400"/>
            <a:ext cx="3925800" cy="44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128920" y="995400"/>
            <a:ext cx="3925800" cy="44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06560" y="995400"/>
            <a:ext cx="39258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28920" y="995400"/>
            <a:ext cx="39258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06560" y="3299040"/>
            <a:ext cx="804528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503280" y="71280"/>
            <a:ext cx="9220320" cy="29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006560" y="995400"/>
            <a:ext cx="39258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5128920" y="995400"/>
            <a:ext cx="3925800" cy="44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1006560" y="3299040"/>
            <a:ext cx="39258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006560" y="995400"/>
            <a:ext cx="3925800" cy="44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128920" y="995400"/>
            <a:ext cx="39258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5128920" y="3299040"/>
            <a:ext cx="39258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006560" y="995400"/>
            <a:ext cx="39258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5128920" y="995400"/>
            <a:ext cx="39258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1006560" y="3299040"/>
            <a:ext cx="804528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006560" y="995400"/>
            <a:ext cx="804528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1006560" y="3299040"/>
            <a:ext cx="804528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006560" y="995400"/>
            <a:ext cx="39258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5128920" y="995400"/>
            <a:ext cx="39258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1006560" y="3299040"/>
            <a:ext cx="39258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5128920" y="3299040"/>
            <a:ext cx="39258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006560" y="995400"/>
            <a:ext cx="25902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726720" y="995400"/>
            <a:ext cx="25902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446880" y="995400"/>
            <a:ext cx="25902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1006560" y="3299040"/>
            <a:ext cx="25902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726720" y="3299040"/>
            <a:ext cx="25902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6446880" y="3299040"/>
            <a:ext cx="259020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1006560" y="995400"/>
            <a:ext cx="8045280" cy="44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006560" y="995400"/>
            <a:ext cx="8045280" cy="44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006560" y="995400"/>
            <a:ext cx="8045280" cy="44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c9900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6699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0" y="5819760"/>
            <a:ext cx="1005840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9"/>
          <p:cNvSpPr/>
          <p:nvPr/>
        </p:nvSpPr>
        <p:spPr>
          <a:xfrm>
            <a:off x="0" y="0"/>
            <a:ext cx="10058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96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873840" y="5760720"/>
            <a:ext cx="2765520" cy="63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iance Report October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3"/>
          <p:cNvSpPr/>
          <p:nvPr/>
        </p:nvSpPr>
        <p:spPr>
          <a:xfrm>
            <a:off x="3772080" y="6045120"/>
            <a:ext cx="2765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33DDB-0CEC-4959-A3DE-5DC290FF49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20"/>
          <p:cNvSpPr/>
          <p:nvPr/>
        </p:nvSpPr>
        <p:spPr>
          <a:xfrm>
            <a:off x="0" y="766800"/>
            <a:ext cx="10058400" cy="87120"/>
          </a:xfrm>
          <a:prstGeom prst="rect">
            <a:avLst/>
          </a:prstGeom>
          <a:gradFill rotWithShape="0">
            <a:gsLst>
              <a:gs pos="0">
                <a:srgbClr val="003296"/>
              </a:gs>
              <a:gs pos="100000">
                <a:srgbClr val="adad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1400" bIns="414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21"/>
          <p:cNvSpPr/>
          <p:nvPr/>
        </p:nvSpPr>
        <p:spPr>
          <a:xfrm>
            <a:off x="0" y="5646600"/>
            <a:ext cx="10058400" cy="42840"/>
          </a:xfrm>
          <a:prstGeom prst="rect">
            <a:avLst/>
          </a:prstGeom>
          <a:gradFill rotWithShape="0">
            <a:gsLst>
              <a:gs pos="0">
                <a:srgbClr val="003296"/>
              </a:gs>
              <a:gs pos="100000">
                <a:srgbClr val="adad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2880" bIns="-288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25" descr="TRE Logo_rgb_no tag_medtransp_use for Word"/>
          <p:cNvPicPr/>
          <p:nvPr/>
        </p:nvPicPr>
        <p:blipFill>
          <a:blip r:embed="rId3"/>
          <a:stretch/>
        </p:blipFill>
        <p:spPr>
          <a:xfrm>
            <a:off x="334800" y="5726160"/>
            <a:ext cx="1928880" cy="674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3"/>
          <p:cNvSpPr/>
          <p:nvPr/>
        </p:nvSpPr>
        <p:spPr>
          <a:xfrm>
            <a:off x="0" y="5819760"/>
            <a:ext cx="1005840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4"/>
          <p:cNvSpPr/>
          <p:nvPr/>
        </p:nvSpPr>
        <p:spPr>
          <a:xfrm>
            <a:off x="0" y="0"/>
            <a:ext cx="10058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7"/>
          <p:cNvSpPr/>
          <p:nvPr/>
        </p:nvSpPr>
        <p:spPr>
          <a:xfrm>
            <a:off x="3772080" y="6045120"/>
            <a:ext cx="2765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7B363-30A0-4EC0-B28D-F4213B0368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8"/>
          <p:cNvSpPr/>
          <p:nvPr/>
        </p:nvSpPr>
        <p:spPr>
          <a:xfrm>
            <a:off x="0" y="766800"/>
            <a:ext cx="10058400" cy="87120"/>
          </a:xfrm>
          <a:prstGeom prst="rect">
            <a:avLst/>
          </a:prstGeom>
          <a:gradFill rotWithShape="0">
            <a:gsLst>
              <a:gs pos="0">
                <a:srgbClr val="003296"/>
              </a:gs>
              <a:gs pos="100000">
                <a:srgbClr val="adad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9"/>
          <p:cNvSpPr/>
          <p:nvPr/>
        </p:nvSpPr>
        <p:spPr>
          <a:xfrm>
            <a:off x="0" y="5646600"/>
            <a:ext cx="10058400" cy="42840"/>
          </a:xfrm>
          <a:prstGeom prst="rect">
            <a:avLst/>
          </a:prstGeom>
          <a:gradFill rotWithShape="0">
            <a:gsLst>
              <a:gs pos="0">
                <a:srgbClr val="003296"/>
              </a:gs>
              <a:gs pos="100000">
                <a:srgbClr val="adad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Picture 10" descr="TRE Logo_rgb_no tag_medtransp_use for Word"/>
          <p:cNvPicPr/>
          <p:nvPr/>
        </p:nvPicPr>
        <p:blipFill>
          <a:blip r:embed="rId3"/>
          <a:stretch/>
        </p:blipFill>
        <p:spPr>
          <a:xfrm>
            <a:off x="334800" y="5726160"/>
            <a:ext cx="1928880" cy="674640"/>
          </a:xfrm>
          <a:prstGeom prst="rect">
            <a:avLst/>
          </a:prstGeom>
          <a:ln w="0">
            <a:noFill/>
          </a:ln>
        </p:spPr>
      </p:pic>
      <p:sp>
        <p:nvSpPr>
          <p:cNvPr id="446" name="Rectangle 11"/>
          <p:cNvSpPr/>
          <p:nvPr/>
        </p:nvSpPr>
        <p:spPr>
          <a:xfrm>
            <a:off x="0" y="5819760"/>
            <a:ext cx="1005840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12"/>
          <p:cNvSpPr/>
          <p:nvPr/>
        </p:nvSpPr>
        <p:spPr>
          <a:xfrm>
            <a:off x="0" y="0"/>
            <a:ext cx="10058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13"/>
          <p:cNvSpPr/>
          <p:nvPr/>
        </p:nvSpPr>
        <p:spPr>
          <a:xfrm>
            <a:off x="0" y="766800"/>
            <a:ext cx="10058400" cy="87120"/>
          </a:xfrm>
          <a:prstGeom prst="rect">
            <a:avLst/>
          </a:prstGeom>
          <a:gradFill rotWithShape="0">
            <a:gsLst>
              <a:gs pos="0">
                <a:srgbClr val="003296"/>
              </a:gs>
              <a:gs pos="100000">
                <a:srgbClr val="adad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1400" bIns="414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14"/>
          <p:cNvSpPr/>
          <p:nvPr/>
        </p:nvSpPr>
        <p:spPr>
          <a:xfrm>
            <a:off x="0" y="5646600"/>
            <a:ext cx="10058400" cy="42840"/>
          </a:xfrm>
          <a:prstGeom prst="rect">
            <a:avLst/>
          </a:prstGeom>
          <a:gradFill rotWithShape="0">
            <a:gsLst>
              <a:gs pos="0">
                <a:srgbClr val="003296"/>
              </a:gs>
              <a:gs pos="100000">
                <a:srgbClr val="adad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2880" bIns="-288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" name="Picture 15" descr="TRE Logo_rgb_no tag_medtransp_use for Word"/>
          <p:cNvPicPr/>
          <p:nvPr/>
        </p:nvPicPr>
        <p:blipFill>
          <a:blip r:embed="rId4"/>
          <a:stretch/>
        </p:blipFill>
        <p:spPr>
          <a:xfrm>
            <a:off x="334800" y="5726160"/>
            <a:ext cx="1928880" cy="674640"/>
          </a:xfrm>
          <a:prstGeom prst="rect">
            <a:avLst/>
          </a:prstGeom>
          <a:ln w="0">
            <a:noFill/>
          </a:ln>
        </p:spPr>
      </p:pic>
      <p:sp>
        <p:nvSpPr>
          <p:cNvPr id="451" name="Rectangle 2"/>
          <p:cNvSpPr/>
          <p:nvPr/>
        </p:nvSpPr>
        <p:spPr>
          <a:xfrm>
            <a:off x="0" y="1066680"/>
            <a:ext cx="1005840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7"/>
          <p:cNvSpPr/>
          <p:nvPr/>
        </p:nvSpPr>
        <p:spPr>
          <a:xfrm>
            <a:off x="0" y="5618160"/>
            <a:ext cx="10058400" cy="42840"/>
          </a:xfrm>
          <a:prstGeom prst="rect">
            <a:avLst/>
          </a:prstGeom>
          <a:gradFill rotWithShape="0">
            <a:gsLst>
              <a:gs pos="0">
                <a:srgbClr val="003296"/>
              </a:gs>
              <a:gs pos="100000">
                <a:srgbClr val="adad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Picture 8" descr="TRE Logo_rgb_2_medtransp_use for Word"/>
          <p:cNvPicPr/>
          <p:nvPr/>
        </p:nvPicPr>
        <p:blipFill>
          <a:blip r:embed="rId5"/>
          <a:stretch/>
        </p:blipFill>
        <p:spPr>
          <a:xfrm>
            <a:off x="503280" y="133200"/>
            <a:ext cx="3352680" cy="1173240"/>
          </a:xfrm>
          <a:prstGeom prst="rect">
            <a:avLst/>
          </a:prstGeom>
          <a:ln w="0">
            <a:noFill/>
          </a:ln>
        </p:spPr>
      </p:pic>
      <p:sp>
        <p:nvSpPr>
          <p:cNvPr id="454" name="Text Box 9"/>
          <p:cNvSpPr/>
          <p:nvPr/>
        </p:nvSpPr>
        <p:spPr>
          <a:xfrm>
            <a:off x="0" y="1494000"/>
            <a:ext cx="10058400" cy="85680"/>
          </a:xfrm>
          <a:prstGeom prst="rect">
            <a:avLst/>
          </a:prstGeom>
          <a:gradFill rotWithShape="0">
            <a:gsLst>
              <a:gs pos="0">
                <a:srgbClr val="003296"/>
              </a:gs>
              <a:gs pos="100000">
                <a:srgbClr val="adad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10"/>
          <p:cNvSpPr/>
          <p:nvPr/>
        </p:nvSpPr>
        <p:spPr>
          <a:xfrm>
            <a:off x="0" y="5819760"/>
            <a:ext cx="1005840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11"/>
          <p:cNvSpPr/>
          <p:nvPr/>
        </p:nvSpPr>
        <p:spPr>
          <a:xfrm>
            <a:off x="0" y="0"/>
            <a:ext cx="10058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12"/>
          <p:cNvSpPr/>
          <p:nvPr/>
        </p:nvSpPr>
        <p:spPr>
          <a:xfrm>
            <a:off x="0" y="766800"/>
            <a:ext cx="10058400" cy="87120"/>
          </a:xfrm>
          <a:prstGeom prst="rect">
            <a:avLst/>
          </a:prstGeom>
          <a:gradFill rotWithShape="0">
            <a:gsLst>
              <a:gs pos="0">
                <a:srgbClr val="003296"/>
              </a:gs>
              <a:gs pos="100000">
                <a:srgbClr val="adad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1400" bIns="414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13"/>
          <p:cNvSpPr/>
          <p:nvPr/>
        </p:nvSpPr>
        <p:spPr>
          <a:xfrm>
            <a:off x="0" y="5646600"/>
            <a:ext cx="10058400" cy="42840"/>
          </a:xfrm>
          <a:prstGeom prst="rect">
            <a:avLst/>
          </a:prstGeom>
          <a:gradFill rotWithShape="0">
            <a:gsLst>
              <a:gs pos="0">
                <a:srgbClr val="003296"/>
              </a:gs>
              <a:gs pos="100000">
                <a:srgbClr val="adad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2880" bIns="-288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9" name="Picture 14" descr="TRE Logo_rgb_no tag_medtransp_use for Word"/>
          <p:cNvPicPr/>
          <p:nvPr/>
        </p:nvPicPr>
        <p:blipFill>
          <a:blip r:embed="rId6"/>
          <a:stretch/>
        </p:blipFill>
        <p:spPr>
          <a:xfrm>
            <a:off x="334800" y="5726160"/>
            <a:ext cx="1928880" cy="674640"/>
          </a:xfrm>
          <a:prstGeom prst="rect">
            <a:avLst/>
          </a:prstGeom>
          <a:ln w="0">
            <a:noFill/>
          </a:ln>
        </p:spPr>
      </p:pic>
      <p:sp>
        <p:nvSpPr>
          <p:cNvPr id="460" name="PlaceHolder 1"/>
          <p:cNvSpPr>
            <a:spLocks noGrp="1"/>
          </p:cNvSpPr>
          <p:nvPr>
            <p:ph type="body"/>
          </p:nvPr>
        </p:nvSpPr>
        <p:spPr>
          <a:xfrm>
            <a:off x="1006560" y="995400"/>
            <a:ext cx="8045280" cy="44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c9900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6699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96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dt" idx="12"/>
          </p:nvPr>
        </p:nvSpPr>
        <p:spPr>
          <a:xfrm>
            <a:off x="503280" y="5902200"/>
            <a:ext cx="268128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ftr" idx="13"/>
          </p:nvPr>
        </p:nvSpPr>
        <p:spPr>
          <a:xfrm>
            <a:off x="7040160" y="5866920"/>
            <a:ext cx="2514600" cy="3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mpliance Report October 2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body"/>
          </p:nvPr>
        </p:nvSpPr>
        <p:spPr>
          <a:xfrm>
            <a:off x="1006560" y="995400"/>
            <a:ext cx="8045280" cy="44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c9900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6699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0" y="5819760"/>
            <a:ext cx="1005840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0" y="0"/>
            <a:ext cx="10058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96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2"/>
          </p:nvPr>
        </p:nvSpPr>
        <p:spPr>
          <a:xfrm>
            <a:off x="7543440" y="5760720"/>
            <a:ext cx="2095560" cy="63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ompliance Report October 200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3772080" y="6045120"/>
            <a:ext cx="2765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ge </a:t>
            </a:r>
            <a:fld id="{12D583F1-EF25-437F-8B4A-321B340FE140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of  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8"/>
          <p:cNvSpPr/>
          <p:nvPr/>
        </p:nvSpPr>
        <p:spPr>
          <a:xfrm>
            <a:off x="0" y="766800"/>
            <a:ext cx="10058400" cy="87120"/>
          </a:xfrm>
          <a:prstGeom prst="rect">
            <a:avLst/>
          </a:prstGeom>
          <a:gradFill rotWithShape="0">
            <a:gsLst>
              <a:gs pos="0">
                <a:srgbClr val="003296"/>
              </a:gs>
              <a:gs pos="100000">
                <a:srgbClr val="adad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1400" bIns="414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0" y="5646600"/>
            <a:ext cx="10058400" cy="42840"/>
          </a:xfrm>
          <a:prstGeom prst="rect">
            <a:avLst/>
          </a:prstGeom>
          <a:gradFill rotWithShape="0">
            <a:gsLst>
              <a:gs pos="0">
                <a:srgbClr val="003296"/>
              </a:gs>
              <a:gs pos="100000">
                <a:srgbClr val="adad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2880" bIns="-288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TRE Logo_rgb_no tag_medtransp_use for Word"/>
          <p:cNvPicPr/>
          <p:nvPr/>
        </p:nvPicPr>
        <p:blipFill>
          <a:blip r:embed="rId3"/>
          <a:stretch/>
        </p:blipFill>
        <p:spPr>
          <a:xfrm>
            <a:off x="334800" y="5726160"/>
            <a:ext cx="1928880" cy="674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body"/>
          </p:nvPr>
        </p:nvSpPr>
        <p:spPr>
          <a:xfrm>
            <a:off x="1006560" y="995400"/>
            <a:ext cx="8045280" cy="44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c9900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6699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0" y="5819760"/>
            <a:ext cx="1005840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0" y="0"/>
            <a:ext cx="10058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96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ftr" idx="3"/>
          </p:nvPr>
        </p:nvSpPr>
        <p:spPr>
          <a:xfrm>
            <a:off x="6873840" y="5760720"/>
            <a:ext cx="27655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iance Report October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3772080" y="6045120"/>
            <a:ext cx="2765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7288F-10D3-43F8-A4E3-8273210EAB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0" y="766800"/>
            <a:ext cx="10058400" cy="87120"/>
          </a:xfrm>
          <a:prstGeom prst="rect">
            <a:avLst/>
          </a:prstGeom>
          <a:gradFill rotWithShape="0">
            <a:gsLst>
              <a:gs pos="0">
                <a:srgbClr val="003296"/>
              </a:gs>
              <a:gs pos="100000">
                <a:srgbClr val="adad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0" y="5646600"/>
            <a:ext cx="10058400" cy="42840"/>
          </a:xfrm>
          <a:prstGeom prst="rect">
            <a:avLst/>
          </a:prstGeom>
          <a:gradFill rotWithShape="0">
            <a:gsLst>
              <a:gs pos="0">
                <a:srgbClr val="003296"/>
              </a:gs>
              <a:gs pos="100000">
                <a:srgbClr val="adad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0" descr="TRE Logo_rgb_no tag_medtransp_use for Word"/>
          <p:cNvPicPr/>
          <p:nvPr/>
        </p:nvPicPr>
        <p:blipFill>
          <a:blip r:embed="rId3"/>
          <a:stretch/>
        </p:blipFill>
        <p:spPr>
          <a:xfrm>
            <a:off x="334800" y="5726160"/>
            <a:ext cx="1928880" cy="67464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11"/>
          <p:cNvSpPr/>
          <p:nvPr/>
        </p:nvSpPr>
        <p:spPr>
          <a:xfrm>
            <a:off x="0" y="5819760"/>
            <a:ext cx="1005840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2"/>
          <p:cNvSpPr/>
          <p:nvPr/>
        </p:nvSpPr>
        <p:spPr>
          <a:xfrm>
            <a:off x="0" y="0"/>
            <a:ext cx="10058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3"/>
          <p:cNvSpPr/>
          <p:nvPr/>
        </p:nvSpPr>
        <p:spPr>
          <a:xfrm>
            <a:off x="0" y="766800"/>
            <a:ext cx="10058400" cy="87120"/>
          </a:xfrm>
          <a:prstGeom prst="rect">
            <a:avLst/>
          </a:prstGeom>
          <a:gradFill rotWithShape="0">
            <a:gsLst>
              <a:gs pos="0">
                <a:srgbClr val="003296"/>
              </a:gs>
              <a:gs pos="100000">
                <a:srgbClr val="adad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1400" bIns="414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4"/>
          <p:cNvSpPr/>
          <p:nvPr/>
        </p:nvSpPr>
        <p:spPr>
          <a:xfrm>
            <a:off x="0" y="5646600"/>
            <a:ext cx="10058400" cy="42840"/>
          </a:xfrm>
          <a:prstGeom prst="rect">
            <a:avLst/>
          </a:prstGeom>
          <a:gradFill rotWithShape="0">
            <a:gsLst>
              <a:gs pos="0">
                <a:srgbClr val="003296"/>
              </a:gs>
              <a:gs pos="100000">
                <a:srgbClr val="adad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2880" bIns="-288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5" descr="TRE Logo_rgb_no tag_medtransp_use for Word"/>
          <p:cNvPicPr/>
          <p:nvPr/>
        </p:nvPicPr>
        <p:blipFill>
          <a:blip r:embed="rId4"/>
          <a:stretch/>
        </p:blipFill>
        <p:spPr>
          <a:xfrm>
            <a:off x="334800" y="5726160"/>
            <a:ext cx="1928880" cy="674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body"/>
          </p:nvPr>
        </p:nvSpPr>
        <p:spPr>
          <a:xfrm>
            <a:off x="1006560" y="995400"/>
            <a:ext cx="8045280" cy="44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c9900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6699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0" y="5819760"/>
            <a:ext cx="1005840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0" y="0"/>
            <a:ext cx="10058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96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ftr" idx="4"/>
          </p:nvPr>
        </p:nvSpPr>
        <p:spPr>
          <a:xfrm>
            <a:off x="6873840" y="5760720"/>
            <a:ext cx="27655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iance Report October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7"/>
          <p:cNvSpPr/>
          <p:nvPr/>
        </p:nvSpPr>
        <p:spPr>
          <a:xfrm>
            <a:off x="3772080" y="6045120"/>
            <a:ext cx="2765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E1EEF-9E14-4A2A-8088-A86790961B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8"/>
          <p:cNvSpPr/>
          <p:nvPr/>
        </p:nvSpPr>
        <p:spPr>
          <a:xfrm>
            <a:off x="0" y="766800"/>
            <a:ext cx="10058400" cy="87120"/>
          </a:xfrm>
          <a:prstGeom prst="rect">
            <a:avLst/>
          </a:prstGeom>
          <a:gradFill rotWithShape="0">
            <a:gsLst>
              <a:gs pos="0">
                <a:srgbClr val="003296"/>
              </a:gs>
              <a:gs pos="100000">
                <a:srgbClr val="adad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9"/>
          <p:cNvSpPr/>
          <p:nvPr/>
        </p:nvSpPr>
        <p:spPr>
          <a:xfrm>
            <a:off x="0" y="5646600"/>
            <a:ext cx="10058400" cy="42840"/>
          </a:xfrm>
          <a:prstGeom prst="rect">
            <a:avLst/>
          </a:prstGeom>
          <a:gradFill rotWithShape="0">
            <a:gsLst>
              <a:gs pos="0">
                <a:srgbClr val="003296"/>
              </a:gs>
              <a:gs pos="100000">
                <a:srgbClr val="adad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10" descr="TRE Logo_rgb_no tag_medtransp_use for Word"/>
          <p:cNvPicPr/>
          <p:nvPr/>
        </p:nvPicPr>
        <p:blipFill>
          <a:blip r:embed="rId3"/>
          <a:stretch/>
        </p:blipFill>
        <p:spPr>
          <a:xfrm>
            <a:off x="334800" y="5726160"/>
            <a:ext cx="1928880" cy="67464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11"/>
          <p:cNvSpPr/>
          <p:nvPr/>
        </p:nvSpPr>
        <p:spPr>
          <a:xfrm>
            <a:off x="0" y="5819760"/>
            <a:ext cx="1005840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2"/>
          <p:cNvSpPr/>
          <p:nvPr/>
        </p:nvSpPr>
        <p:spPr>
          <a:xfrm>
            <a:off x="0" y="0"/>
            <a:ext cx="10058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3"/>
          <p:cNvSpPr/>
          <p:nvPr/>
        </p:nvSpPr>
        <p:spPr>
          <a:xfrm>
            <a:off x="0" y="766800"/>
            <a:ext cx="10058400" cy="87120"/>
          </a:xfrm>
          <a:prstGeom prst="rect">
            <a:avLst/>
          </a:prstGeom>
          <a:gradFill rotWithShape="0">
            <a:gsLst>
              <a:gs pos="0">
                <a:srgbClr val="003296"/>
              </a:gs>
              <a:gs pos="100000">
                <a:srgbClr val="adad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1400" bIns="414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4"/>
          <p:cNvSpPr/>
          <p:nvPr/>
        </p:nvSpPr>
        <p:spPr>
          <a:xfrm>
            <a:off x="0" y="5646600"/>
            <a:ext cx="10058400" cy="42840"/>
          </a:xfrm>
          <a:prstGeom prst="rect">
            <a:avLst/>
          </a:prstGeom>
          <a:gradFill rotWithShape="0">
            <a:gsLst>
              <a:gs pos="0">
                <a:srgbClr val="003296"/>
              </a:gs>
              <a:gs pos="100000">
                <a:srgbClr val="adad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2880" bIns="-288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15" descr="TRE Logo_rgb_no tag_medtransp_use for Word"/>
          <p:cNvPicPr/>
          <p:nvPr/>
        </p:nvPicPr>
        <p:blipFill>
          <a:blip r:embed="rId4"/>
          <a:stretch/>
        </p:blipFill>
        <p:spPr>
          <a:xfrm>
            <a:off x="334800" y="5726160"/>
            <a:ext cx="1928880" cy="674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0" y="5819760"/>
            <a:ext cx="1005840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9"/>
          <p:cNvSpPr/>
          <p:nvPr/>
        </p:nvSpPr>
        <p:spPr>
          <a:xfrm>
            <a:off x="0" y="0"/>
            <a:ext cx="10058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3"/>
          <p:cNvSpPr/>
          <p:nvPr/>
        </p:nvSpPr>
        <p:spPr>
          <a:xfrm>
            <a:off x="3772080" y="6045120"/>
            <a:ext cx="2765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CFE0F-77FD-43BC-95D3-A8CE76F784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20"/>
          <p:cNvSpPr/>
          <p:nvPr/>
        </p:nvSpPr>
        <p:spPr>
          <a:xfrm>
            <a:off x="0" y="766800"/>
            <a:ext cx="10058400" cy="87120"/>
          </a:xfrm>
          <a:prstGeom prst="rect">
            <a:avLst/>
          </a:prstGeom>
          <a:gradFill rotWithShape="0">
            <a:gsLst>
              <a:gs pos="0">
                <a:srgbClr val="003296"/>
              </a:gs>
              <a:gs pos="100000">
                <a:srgbClr val="adad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1400" bIns="414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21"/>
          <p:cNvSpPr/>
          <p:nvPr/>
        </p:nvSpPr>
        <p:spPr>
          <a:xfrm>
            <a:off x="0" y="5646600"/>
            <a:ext cx="10058400" cy="42840"/>
          </a:xfrm>
          <a:prstGeom prst="rect">
            <a:avLst/>
          </a:prstGeom>
          <a:gradFill rotWithShape="0">
            <a:gsLst>
              <a:gs pos="0">
                <a:srgbClr val="003296"/>
              </a:gs>
              <a:gs pos="100000">
                <a:srgbClr val="adad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2880" bIns="-288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25" descr="TRE Logo_rgb_no tag_medtransp_use for Word"/>
          <p:cNvPicPr/>
          <p:nvPr/>
        </p:nvPicPr>
        <p:blipFill>
          <a:blip r:embed="rId3"/>
          <a:stretch/>
        </p:blipFill>
        <p:spPr>
          <a:xfrm>
            <a:off x="334800" y="5726160"/>
            <a:ext cx="1928880" cy="67464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13"/>
          <p:cNvSpPr/>
          <p:nvPr/>
        </p:nvSpPr>
        <p:spPr>
          <a:xfrm>
            <a:off x="0" y="1066680"/>
            <a:ext cx="1005840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20"/>
          <p:cNvSpPr/>
          <p:nvPr/>
        </p:nvSpPr>
        <p:spPr>
          <a:xfrm>
            <a:off x="0" y="5618160"/>
            <a:ext cx="10058400" cy="42840"/>
          </a:xfrm>
          <a:prstGeom prst="rect">
            <a:avLst/>
          </a:prstGeom>
          <a:gradFill rotWithShape="0">
            <a:gsLst>
              <a:gs pos="0">
                <a:srgbClr val="003296"/>
              </a:gs>
              <a:gs pos="100000">
                <a:srgbClr val="adad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2880" bIns="-288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23" descr="TRE Logo_rgb_2_medtransp_use for Word"/>
          <p:cNvPicPr/>
          <p:nvPr/>
        </p:nvPicPr>
        <p:blipFill>
          <a:blip r:embed="rId4"/>
          <a:stretch/>
        </p:blipFill>
        <p:spPr>
          <a:xfrm>
            <a:off x="503280" y="133200"/>
            <a:ext cx="3352680" cy="117324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24"/>
          <p:cNvSpPr/>
          <p:nvPr/>
        </p:nvSpPr>
        <p:spPr>
          <a:xfrm>
            <a:off x="0" y="1494000"/>
            <a:ext cx="10058400" cy="85680"/>
          </a:xfrm>
          <a:prstGeom prst="rect">
            <a:avLst/>
          </a:prstGeom>
          <a:gradFill rotWithShape="0">
            <a:gsLst>
              <a:gs pos="0">
                <a:srgbClr val="003296"/>
              </a:gs>
              <a:gs pos="100000">
                <a:srgbClr val="adad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39960" bIns="3996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body"/>
          </p:nvPr>
        </p:nvSpPr>
        <p:spPr>
          <a:xfrm>
            <a:off x="1006560" y="995400"/>
            <a:ext cx="8045280" cy="44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c9900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6699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96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dt" idx="5"/>
          </p:nvPr>
        </p:nvSpPr>
        <p:spPr>
          <a:xfrm>
            <a:off x="503280" y="5902200"/>
            <a:ext cx="2681280" cy="35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ftr" idx="6"/>
          </p:nvPr>
        </p:nvSpPr>
        <p:spPr>
          <a:xfrm>
            <a:off x="7040160" y="5866920"/>
            <a:ext cx="2514600" cy="39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mpliance Report October 2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0" y="5819760"/>
            <a:ext cx="1005840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4"/>
          <p:cNvSpPr/>
          <p:nvPr/>
        </p:nvSpPr>
        <p:spPr>
          <a:xfrm>
            <a:off x="0" y="0"/>
            <a:ext cx="10058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7"/>
          <p:cNvSpPr/>
          <p:nvPr/>
        </p:nvSpPr>
        <p:spPr>
          <a:xfrm>
            <a:off x="3772080" y="6045120"/>
            <a:ext cx="2765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ge </a:t>
            </a:r>
            <a:fld id="{81AB8D34-DBA0-43DE-A95C-860FDB56F05E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of  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8"/>
          <p:cNvSpPr/>
          <p:nvPr/>
        </p:nvSpPr>
        <p:spPr>
          <a:xfrm>
            <a:off x="0" y="766800"/>
            <a:ext cx="10058400" cy="87120"/>
          </a:xfrm>
          <a:prstGeom prst="rect">
            <a:avLst/>
          </a:prstGeom>
          <a:gradFill rotWithShape="0">
            <a:gsLst>
              <a:gs pos="0">
                <a:srgbClr val="003296"/>
              </a:gs>
              <a:gs pos="100000">
                <a:srgbClr val="adad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1400" bIns="414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9"/>
          <p:cNvSpPr/>
          <p:nvPr/>
        </p:nvSpPr>
        <p:spPr>
          <a:xfrm>
            <a:off x="0" y="5646600"/>
            <a:ext cx="10058400" cy="42840"/>
          </a:xfrm>
          <a:prstGeom prst="rect">
            <a:avLst/>
          </a:prstGeom>
          <a:gradFill rotWithShape="0">
            <a:gsLst>
              <a:gs pos="0">
                <a:srgbClr val="003296"/>
              </a:gs>
              <a:gs pos="100000">
                <a:srgbClr val="adad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2880" bIns="-288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10" descr="TRE Logo_rgb_no tag_medtransp_use for Word"/>
          <p:cNvPicPr/>
          <p:nvPr/>
        </p:nvPicPr>
        <p:blipFill>
          <a:blip r:embed="rId3"/>
          <a:stretch/>
        </p:blipFill>
        <p:spPr>
          <a:xfrm>
            <a:off x="334800" y="5726160"/>
            <a:ext cx="1928880" cy="674640"/>
          </a:xfrm>
          <a:prstGeom prst="rect">
            <a:avLst/>
          </a:prstGeom>
          <a:ln w="0">
            <a:noFill/>
          </a:ln>
        </p:spPr>
      </p:pic>
      <p:sp>
        <p:nvSpPr>
          <p:cNvPr id="246" name="Rectangle 2"/>
          <p:cNvSpPr/>
          <p:nvPr/>
        </p:nvSpPr>
        <p:spPr>
          <a:xfrm>
            <a:off x="0" y="1066680"/>
            <a:ext cx="1005840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7"/>
          <p:cNvSpPr/>
          <p:nvPr/>
        </p:nvSpPr>
        <p:spPr>
          <a:xfrm>
            <a:off x="0" y="5618160"/>
            <a:ext cx="10058400" cy="42840"/>
          </a:xfrm>
          <a:prstGeom prst="rect">
            <a:avLst/>
          </a:prstGeom>
          <a:gradFill rotWithShape="0">
            <a:gsLst>
              <a:gs pos="0">
                <a:srgbClr val="003296"/>
              </a:gs>
              <a:gs pos="100000">
                <a:srgbClr val="adad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2880" bIns="-288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8" descr="TRE Logo_rgb_2_medtransp_use for Word"/>
          <p:cNvPicPr/>
          <p:nvPr/>
        </p:nvPicPr>
        <p:blipFill>
          <a:blip r:embed="rId4"/>
          <a:stretch/>
        </p:blipFill>
        <p:spPr>
          <a:xfrm>
            <a:off x="503280" y="133200"/>
            <a:ext cx="3352680" cy="1173240"/>
          </a:xfrm>
          <a:prstGeom prst="rect">
            <a:avLst/>
          </a:prstGeom>
          <a:ln w="0">
            <a:noFill/>
          </a:ln>
        </p:spPr>
      </p:pic>
      <p:sp>
        <p:nvSpPr>
          <p:cNvPr id="249" name="Text Box 9"/>
          <p:cNvSpPr/>
          <p:nvPr/>
        </p:nvSpPr>
        <p:spPr>
          <a:xfrm>
            <a:off x="0" y="1494000"/>
            <a:ext cx="10058400" cy="85680"/>
          </a:xfrm>
          <a:prstGeom prst="rect">
            <a:avLst/>
          </a:prstGeom>
          <a:gradFill rotWithShape="0">
            <a:gsLst>
              <a:gs pos="0">
                <a:srgbClr val="003296"/>
              </a:gs>
              <a:gs pos="100000">
                <a:srgbClr val="adad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39960" bIns="3996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10"/>
          <p:cNvSpPr/>
          <p:nvPr/>
        </p:nvSpPr>
        <p:spPr>
          <a:xfrm>
            <a:off x="3687840" y="5973840"/>
            <a:ext cx="2766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ge </a:t>
            </a:r>
            <a:fld id="{BAB12203-1C09-4B5E-AAEB-6B2C8FE1DC09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of 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body"/>
          </p:nvPr>
        </p:nvSpPr>
        <p:spPr>
          <a:xfrm>
            <a:off x="1006560" y="995400"/>
            <a:ext cx="8045280" cy="44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c9900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6699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96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7"/>
          </p:nvPr>
        </p:nvSpPr>
        <p:spPr>
          <a:xfrm>
            <a:off x="503280" y="5902200"/>
            <a:ext cx="2681280" cy="35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0" y="5819760"/>
            <a:ext cx="1005840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4"/>
          <p:cNvSpPr/>
          <p:nvPr/>
        </p:nvSpPr>
        <p:spPr>
          <a:xfrm>
            <a:off x="0" y="0"/>
            <a:ext cx="10058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7"/>
          <p:cNvSpPr/>
          <p:nvPr/>
        </p:nvSpPr>
        <p:spPr>
          <a:xfrm>
            <a:off x="3772080" y="6045120"/>
            <a:ext cx="2765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ge </a:t>
            </a:r>
            <a:fld id="{266170E3-68E6-4075-AE04-5F3A8F235F6A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of  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8"/>
          <p:cNvSpPr/>
          <p:nvPr/>
        </p:nvSpPr>
        <p:spPr>
          <a:xfrm>
            <a:off x="0" y="766800"/>
            <a:ext cx="10058400" cy="87120"/>
          </a:xfrm>
          <a:prstGeom prst="rect">
            <a:avLst/>
          </a:prstGeom>
          <a:gradFill rotWithShape="0">
            <a:gsLst>
              <a:gs pos="0">
                <a:srgbClr val="003296"/>
              </a:gs>
              <a:gs pos="100000">
                <a:srgbClr val="adad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1400" bIns="414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9"/>
          <p:cNvSpPr/>
          <p:nvPr/>
        </p:nvSpPr>
        <p:spPr>
          <a:xfrm>
            <a:off x="0" y="5646600"/>
            <a:ext cx="10058400" cy="42840"/>
          </a:xfrm>
          <a:prstGeom prst="rect">
            <a:avLst/>
          </a:prstGeom>
          <a:gradFill rotWithShape="0">
            <a:gsLst>
              <a:gs pos="0">
                <a:srgbClr val="003296"/>
              </a:gs>
              <a:gs pos="100000">
                <a:srgbClr val="adad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2880" bIns="-288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10" descr="TRE Logo_rgb_no tag_medtransp_use for Word"/>
          <p:cNvPicPr/>
          <p:nvPr/>
        </p:nvPicPr>
        <p:blipFill>
          <a:blip r:embed="rId3"/>
          <a:stretch/>
        </p:blipFill>
        <p:spPr>
          <a:xfrm>
            <a:off x="334800" y="5726160"/>
            <a:ext cx="1928880" cy="674640"/>
          </a:xfrm>
          <a:prstGeom prst="rect">
            <a:avLst/>
          </a:prstGeom>
          <a:ln w="0">
            <a:noFill/>
          </a:ln>
        </p:spPr>
      </p:pic>
      <p:sp>
        <p:nvSpPr>
          <p:cNvPr id="296" name="PlaceHolder 1"/>
          <p:cNvSpPr>
            <a:spLocks noGrp="1"/>
          </p:cNvSpPr>
          <p:nvPr>
            <p:ph type="body"/>
          </p:nvPr>
        </p:nvSpPr>
        <p:spPr>
          <a:xfrm>
            <a:off x="1006560" y="995400"/>
            <a:ext cx="8045280" cy="44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c9900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6699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96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ftr" idx="8"/>
          </p:nvPr>
        </p:nvSpPr>
        <p:spPr>
          <a:xfrm>
            <a:off x="7543440" y="5760720"/>
            <a:ext cx="2095560" cy="63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ompliance Report April 200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3"/>
          <p:cNvSpPr/>
          <p:nvPr/>
        </p:nvSpPr>
        <p:spPr>
          <a:xfrm>
            <a:off x="0" y="5819760"/>
            <a:ext cx="1005840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4"/>
          <p:cNvSpPr/>
          <p:nvPr/>
        </p:nvSpPr>
        <p:spPr>
          <a:xfrm>
            <a:off x="0" y="0"/>
            <a:ext cx="10058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7"/>
          <p:cNvSpPr/>
          <p:nvPr/>
        </p:nvSpPr>
        <p:spPr>
          <a:xfrm>
            <a:off x="3772080" y="6045120"/>
            <a:ext cx="2765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ge </a:t>
            </a:r>
            <a:fld id="{C975311C-298B-4DA4-AFD2-8F78D9B27F87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of  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8"/>
          <p:cNvSpPr/>
          <p:nvPr/>
        </p:nvSpPr>
        <p:spPr>
          <a:xfrm>
            <a:off x="0" y="766800"/>
            <a:ext cx="10058400" cy="87120"/>
          </a:xfrm>
          <a:prstGeom prst="rect">
            <a:avLst/>
          </a:prstGeom>
          <a:gradFill rotWithShape="0">
            <a:gsLst>
              <a:gs pos="0">
                <a:srgbClr val="003296"/>
              </a:gs>
              <a:gs pos="100000">
                <a:srgbClr val="adad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1400" bIns="414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9"/>
          <p:cNvSpPr/>
          <p:nvPr/>
        </p:nvSpPr>
        <p:spPr>
          <a:xfrm>
            <a:off x="0" y="5646600"/>
            <a:ext cx="10058400" cy="42840"/>
          </a:xfrm>
          <a:prstGeom prst="rect">
            <a:avLst/>
          </a:prstGeom>
          <a:gradFill rotWithShape="0">
            <a:gsLst>
              <a:gs pos="0">
                <a:srgbClr val="003296"/>
              </a:gs>
              <a:gs pos="100000">
                <a:srgbClr val="adad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2880" bIns="-288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10" descr="TRE Logo_rgb_no tag_medtransp_use for Word"/>
          <p:cNvPicPr/>
          <p:nvPr/>
        </p:nvPicPr>
        <p:blipFill>
          <a:blip r:embed="rId3"/>
          <a:stretch/>
        </p:blipFill>
        <p:spPr>
          <a:xfrm>
            <a:off x="334800" y="5726160"/>
            <a:ext cx="1928880" cy="674640"/>
          </a:xfrm>
          <a:prstGeom prst="rect">
            <a:avLst/>
          </a:prstGeom>
          <a:ln w="0">
            <a:noFill/>
          </a:ln>
        </p:spPr>
      </p:pic>
      <p:sp>
        <p:nvSpPr>
          <p:cNvPr id="341" name="PlaceHolder 1"/>
          <p:cNvSpPr>
            <a:spLocks noGrp="1"/>
          </p:cNvSpPr>
          <p:nvPr>
            <p:ph type="body"/>
          </p:nvPr>
        </p:nvSpPr>
        <p:spPr>
          <a:xfrm>
            <a:off x="1006560" y="995400"/>
            <a:ext cx="8045280" cy="44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c9900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6699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96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ftr" idx="9"/>
          </p:nvPr>
        </p:nvSpPr>
        <p:spPr>
          <a:xfrm>
            <a:off x="7238880" y="5760720"/>
            <a:ext cx="2400480" cy="63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OMPLIANCE REPORT OCTOBER 200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3"/>
          <p:cNvSpPr/>
          <p:nvPr/>
        </p:nvSpPr>
        <p:spPr>
          <a:xfrm>
            <a:off x="0" y="5819760"/>
            <a:ext cx="1005840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4"/>
          <p:cNvSpPr/>
          <p:nvPr/>
        </p:nvSpPr>
        <p:spPr>
          <a:xfrm>
            <a:off x="0" y="0"/>
            <a:ext cx="10058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7"/>
          <p:cNvSpPr/>
          <p:nvPr/>
        </p:nvSpPr>
        <p:spPr>
          <a:xfrm>
            <a:off x="3772080" y="6045120"/>
            <a:ext cx="2765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578B6-D744-4700-BF50-8B0FA71BB2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8"/>
          <p:cNvSpPr/>
          <p:nvPr/>
        </p:nvSpPr>
        <p:spPr>
          <a:xfrm>
            <a:off x="0" y="766800"/>
            <a:ext cx="10058400" cy="87120"/>
          </a:xfrm>
          <a:prstGeom prst="rect">
            <a:avLst/>
          </a:prstGeom>
          <a:gradFill rotWithShape="0">
            <a:gsLst>
              <a:gs pos="0">
                <a:srgbClr val="003296"/>
              </a:gs>
              <a:gs pos="100000">
                <a:srgbClr val="adad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9"/>
          <p:cNvSpPr/>
          <p:nvPr/>
        </p:nvSpPr>
        <p:spPr>
          <a:xfrm>
            <a:off x="0" y="5646600"/>
            <a:ext cx="10058400" cy="42840"/>
          </a:xfrm>
          <a:prstGeom prst="rect">
            <a:avLst/>
          </a:prstGeom>
          <a:gradFill rotWithShape="0">
            <a:gsLst>
              <a:gs pos="0">
                <a:srgbClr val="003296"/>
              </a:gs>
              <a:gs pos="100000">
                <a:srgbClr val="adad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Picture 10" descr="TRE Logo_rgb_no tag_medtransp_use for Word"/>
          <p:cNvPicPr/>
          <p:nvPr/>
        </p:nvPicPr>
        <p:blipFill>
          <a:blip r:embed="rId3"/>
          <a:stretch/>
        </p:blipFill>
        <p:spPr>
          <a:xfrm>
            <a:off x="334800" y="5726160"/>
            <a:ext cx="1928880" cy="674640"/>
          </a:xfrm>
          <a:prstGeom prst="rect">
            <a:avLst/>
          </a:prstGeom>
          <a:ln w="0">
            <a:noFill/>
          </a:ln>
        </p:spPr>
      </p:pic>
      <p:sp>
        <p:nvSpPr>
          <p:cNvPr id="386" name="Rectangle 11"/>
          <p:cNvSpPr/>
          <p:nvPr/>
        </p:nvSpPr>
        <p:spPr>
          <a:xfrm>
            <a:off x="0" y="5819760"/>
            <a:ext cx="1005840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12"/>
          <p:cNvSpPr/>
          <p:nvPr/>
        </p:nvSpPr>
        <p:spPr>
          <a:xfrm>
            <a:off x="0" y="0"/>
            <a:ext cx="10058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13"/>
          <p:cNvSpPr/>
          <p:nvPr/>
        </p:nvSpPr>
        <p:spPr>
          <a:xfrm>
            <a:off x="0" y="766800"/>
            <a:ext cx="10058400" cy="87120"/>
          </a:xfrm>
          <a:prstGeom prst="rect">
            <a:avLst/>
          </a:prstGeom>
          <a:gradFill rotWithShape="0">
            <a:gsLst>
              <a:gs pos="0">
                <a:srgbClr val="003296"/>
              </a:gs>
              <a:gs pos="100000">
                <a:srgbClr val="adad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1400" bIns="414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14"/>
          <p:cNvSpPr/>
          <p:nvPr/>
        </p:nvSpPr>
        <p:spPr>
          <a:xfrm>
            <a:off x="0" y="5646600"/>
            <a:ext cx="10058400" cy="42840"/>
          </a:xfrm>
          <a:prstGeom prst="rect">
            <a:avLst/>
          </a:prstGeom>
          <a:gradFill rotWithShape="0">
            <a:gsLst>
              <a:gs pos="0">
                <a:srgbClr val="003296"/>
              </a:gs>
              <a:gs pos="100000">
                <a:srgbClr val="adad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2880" bIns="-288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Picture 15" descr="TRE Logo_rgb_no tag_medtransp_use for Word"/>
          <p:cNvPicPr/>
          <p:nvPr/>
        </p:nvPicPr>
        <p:blipFill>
          <a:blip r:embed="rId4"/>
          <a:stretch/>
        </p:blipFill>
        <p:spPr>
          <a:xfrm>
            <a:off x="334800" y="5726160"/>
            <a:ext cx="1928880" cy="674640"/>
          </a:xfrm>
          <a:prstGeom prst="rect">
            <a:avLst/>
          </a:prstGeom>
          <a:ln w="0">
            <a:noFill/>
          </a:ln>
        </p:spPr>
      </p:pic>
      <p:sp>
        <p:nvSpPr>
          <p:cNvPr id="391" name="Rectangle 2"/>
          <p:cNvSpPr/>
          <p:nvPr/>
        </p:nvSpPr>
        <p:spPr>
          <a:xfrm>
            <a:off x="0" y="1066680"/>
            <a:ext cx="1005840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7"/>
          <p:cNvSpPr/>
          <p:nvPr/>
        </p:nvSpPr>
        <p:spPr>
          <a:xfrm>
            <a:off x="0" y="5618160"/>
            <a:ext cx="10058400" cy="42840"/>
          </a:xfrm>
          <a:prstGeom prst="rect">
            <a:avLst/>
          </a:prstGeom>
          <a:gradFill rotWithShape="0">
            <a:gsLst>
              <a:gs pos="0">
                <a:srgbClr val="003296"/>
              </a:gs>
              <a:gs pos="100000">
                <a:srgbClr val="adad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Picture 8" descr="TRE Logo_rgb_2_medtransp_use for Word"/>
          <p:cNvPicPr/>
          <p:nvPr/>
        </p:nvPicPr>
        <p:blipFill>
          <a:blip r:embed="rId5"/>
          <a:stretch/>
        </p:blipFill>
        <p:spPr>
          <a:xfrm>
            <a:off x="503280" y="133200"/>
            <a:ext cx="3352680" cy="1173240"/>
          </a:xfrm>
          <a:prstGeom prst="rect">
            <a:avLst/>
          </a:prstGeom>
          <a:ln w="0">
            <a:noFill/>
          </a:ln>
        </p:spPr>
      </p:pic>
      <p:sp>
        <p:nvSpPr>
          <p:cNvPr id="394" name="Text Box 9"/>
          <p:cNvSpPr/>
          <p:nvPr/>
        </p:nvSpPr>
        <p:spPr>
          <a:xfrm>
            <a:off x="0" y="1494000"/>
            <a:ext cx="10058400" cy="85680"/>
          </a:xfrm>
          <a:prstGeom prst="rect">
            <a:avLst/>
          </a:prstGeom>
          <a:gradFill rotWithShape="0">
            <a:gsLst>
              <a:gs pos="0">
                <a:srgbClr val="003296"/>
              </a:gs>
              <a:gs pos="100000">
                <a:srgbClr val="adad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10"/>
          <p:cNvSpPr/>
          <p:nvPr/>
        </p:nvSpPr>
        <p:spPr>
          <a:xfrm>
            <a:off x="0" y="1066680"/>
            <a:ext cx="1005840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11"/>
          <p:cNvSpPr/>
          <p:nvPr/>
        </p:nvSpPr>
        <p:spPr>
          <a:xfrm>
            <a:off x="0" y="5618160"/>
            <a:ext cx="10058400" cy="42840"/>
          </a:xfrm>
          <a:prstGeom prst="rect">
            <a:avLst/>
          </a:prstGeom>
          <a:gradFill rotWithShape="0">
            <a:gsLst>
              <a:gs pos="0">
                <a:srgbClr val="003296"/>
              </a:gs>
              <a:gs pos="100000">
                <a:srgbClr val="adad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2880" bIns="-288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Picture 12" descr="TRE Logo_rgb_2_medtransp_use for Word"/>
          <p:cNvPicPr/>
          <p:nvPr/>
        </p:nvPicPr>
        <p:blipFill>
          <a:blip r:embed="rId6"/>
          <a:stretch/>
        </p:blipFill>
        <p:spPr>
          <a:xfrm>
            <a:off x="503280" y="133200"/>
            <a:ext cx="3352680" cy="1173240"/>
          </a:xfrm>
          <a:prstGeom prst="rect">
            <a:avLst/>
          </a:prstGeom>
          <a:ln w="0">
            <a:noFill/>
          </a:ln>
        </p:spPr>
      </p:pic>
      <p:sp>
        <p:nvSpPr>
          <p:cNvPr id="398" name="Text Box 13"/>
          <p:cNvSpPr/>
          <p:nvPr/>
        </p:nvSpPr>
        <p:spPr>
          <a:xfrm>
            <a:off x="0" y="1494000"/>
            <a:ext cx="10058400" cy="85680"/>
          </a:xfrm>
          <a:prstGeom prst="rect">
            <a:avLst/>
          </a:prstGeom>
          <a:gradFill rotWithShape="0">
            <a:gsLst>
              <a:gs pos="0">
                <a:srgbClr val="003296"/>
              </a:gs>
              <a:gs pos="100000">
                <a:srgbClr val="adad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39960" bIns="3996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14"/>
          <p:cNvSpPr/>
          <p:nvPr/>
        </p:nvSpPr>
        <p:spPr>
          <a:xfrm>
            <a:off x="3687840" y="5973840"/>
            <a:ext cx="2766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ge </a:t>
            </a:r>
            <a:fld id="{6418F485-2D1B-4476-9534-98FE37C7378E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of 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body"/>
          </p:nvPr>
        </p:nvSpPr>
        <p:spPr>
          <a:xfrm>
            <a:off x="1006560" y="995400"/>
            <a:ext cx="8045280" cy="44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c9900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6699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96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dt" idx="10"/>
          </p:nvPr>
        </p:nvSpPr>
        <p:spPr>
          <a:xfrm>
            <a:off x="503280" y="5902200"/>
            <a:ext cx="268128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ftr" idx="11"/>
          </p:nvPr>
        </p:nvSpPr>
        <p:spPr>
          <a:xfrm>
            <a:off x="7040160" y="5866920"/>
            <a:ext cx="2514600" cy="3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mpliance Report October 2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Text Box 6"/>
          <p:cNvSpPr/>
          <p:nvPr/>
        </p:nvSpPr>
        <p:spPr>
          <a:xfrm>
            <a:off x="503280" y="1849320"/>
            <a:ext cx="9051840" cy="16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Arial Black"/>
              </a:rPr>
              <a:t>Texas Regional Ent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Arial Black"/>
              </a:rPr>
              <a:t>ROS Presen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8"/>
          <p:cNvSpPr/>
          <p:nvPr/>
        </p:nvSpPr>
        <p:spPr>
          <a:xfrm>
            <a:off x="334800" y="3484440"/>
            <a:ext cx="9053640" cy="185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296"/>
                </a:solidFill>
                <a:latin typeface="Arial Black"/>
              </a:rPr>
              <a:t>April 16, 200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16"/>
          <p:cNvSpPr/>
          <p:nvPr/>
        </p:nvSpPr>
        <p:spPr>
          <a:xfrm>
            <a:off x="0" y="1494000"/>
            <a:ext cx="10058400" cy="85680"/>
          </a:xfrm>
          <a:prstGeom prst="rect">
            <a:avLst/>
          </a:prstGeom>
          <a:gradFill rotWithShape="0">
            <a:gsLst>
              <a:gs pos="0">
                <a:srgbClr val="003296"/>
              </a:gs>
              <a:gs pos="100000">
                <a:srgbClr val="adad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39960" bIns="3996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17"/>
          <p:cNvSpPr/>
          <p:nvPr/>
        </p:nvSpPr>
        <p:spPr>
          <a:xfrm>
            <a:off x="0" y="5689440"/>
            <a:ext cx="10058400" cy="43200"/>
          </a:xfrm>
          <a:prstGeom prst="rect">
            <a:avLst/>
          </a:prstGeom>
          <a:gradFill rotWithShape="0">
            <a:gsLst>
              <a:gs pos="0">
                <a:srgbClr val="003296"/>
              </a:gs>
              <a:gs pos="100000">
                <a:srgbClr val="adad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2520" bIns="-252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Footer Placeholder 7"/>
          <p:cNvSpPr/>
          <p:nvPr/>
        </p:nvSpPr>
        <p:spPr>
          <a:xfrm>
            <a:off x="7238880" y="5761080"/>
            <a:ext cx="24004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XAS RE ROS PRESENTATION APRIL 20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96"/>
                </a:solidFill>
                <a:latin typeface="Arial Black"/>
              </a:rPr>
              <a:t>PRR 787 – SCPS2 Metric</a:t>
            </a: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1006560" y="995400"/>
            <a:ext cx="8045280" cy="44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as RE and PUCT met with market participants to share perspectives on improving PRR 787 word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CT and Texas RE submitted recommendations to better define a metric failure and guidelines for enforcement by the PUC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uminant submitted comments expanding the list of interval exclus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COT ISO has reviewed and commented on PUCT/Texas RE suggested chang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Footer Placeholder 3"/>
          <p:cNvSpPr/>
          <p:nvPr/>
        </p:nvSpPr>
        <p:spPr>
          <a:xfrm>
            <a:off x="7543800" y="5761080"/>
            <a:ext cx="209556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xas RE ROS Presentation April 20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96"/>
                </a:solidFill>
                <a:latin typeface="Arial Black"/>
              </a:rPr>
              <a:t>PRR 800 – QSE Day Ahead Metric for Wind </a:t>
            </a: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1006560" y="995400"/>
            <a:ext cx="8045280" cy="44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as RE supports the intent of PRR 80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as RE submitted comments modifying the methodology for determining a failur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the changes Texas RE fully supports PRR 800 and believes it can be adequately monitored and enforc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Footer Placeholder 3"/>
          <p:cNvSpPr/>
          <p:nvPr/>
        </p:nvSpPr>
        <p:spPr>
          <a:xfrm>
            <a:off x="7543800" y="5761080"/>
            <a:ext cx="209556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xas RE ROS Presentation April 20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96"/>
                </a:solidFill>
                <a:latin typeface="Arial Black"/>
              </a:rPr>
              <a:t>NERC CIP-002</a:t>
            </a: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1006560" y="995400"/>
            <a:ext cx="8045280" cy="44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ent CIP self certifications showed lower percentage of entities declaring critical cyber assets than expec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P standards become auditably compliant for table 1 entities on July 1, 2009 (ERCOT ISO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stions have been raised with interpretation of CIP-002 self identification of critical cyber asse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ic Utility cyber security has been in the ne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ional legislation has been propos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Footer Placeholder 3"/>
          <p:cNvSpPr/>
          <p:nvPr/>
        </p:nvSpPr>
        <p:spPr>
          <a:xfrm>
            <a:off x="7543800" y="5761080"/>
            <a:ext cx="209556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xas RE ROS Presentation April 20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96"/>
                </a:solidFill>
                <a:latin typeface="Arial Black"/>
              </a:rPr>
              <a:t>NERC Audit &amp; Enforcement Highlights</a:t>
            </a: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1006560" y="995400"/>
            <a:ext cx="8045280" cy="44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 in violations coming out of audits in 2009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RC revised the template for violations in March requiring rework of previously submitted docum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Footer Placeholder 3"/>
          <p:cNvSpPr/>
          <p:nvPr/>
        </p:nvSpPr>
        <p:spPr>
          <a:xfrm>
            <a:off x="7543800" y="5761080"/>
            <a:ext cx="209556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xas RE ROS Presentation April 20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opics</a:t>
            </a:r>
            <a:endParaRPr b="0" lang="en-US" sz="32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1006560" y="995400"/>
            <a:ext cx="8045280" cy="44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RS upda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E Registr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dal Metr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tions Training Seminar upda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R 787 and 800 upda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RC Audit &amp; Enforcement Highligh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Footer Placeholder 3"/>
          <p:cNvSpPr/>
          <p:nvPr/>
        </p:nvSpPr>
        <p:spPr>
          <a:xfrm>
            <a:off x="7467480" y="5761080"/>
            <a:ext cx="217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xas RE ROS Presentation April 20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296"/>
                </a:solidFill>
                <a:latin typeface="Arial Black"/>
              </a:rPr>
              <a:t>SAR-001-TRE-02 – ERCOT ISO VOTE</a:t>
            </a:r>
            <a:endParaRPr b="0" lang="en-US" sz="28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19040" y="1138320"/>
            <a:ext cx="9220320" cy="44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sion for ERCOT ISO to Have a Vote in the Regional Standards Process, subject of Standard Authorization Request SAR-001-TRE-0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proved by the ERCOT Board on February 17, 200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approved documents to implement this Provision will be considered at the May 5, 2009 NERC Board of Trustees Meet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RC will post the Provision on their web site for two weeks prior to the May 5 meet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Footer Placeholder 3"/>
          <p:cNvSpPr/>
          <p:nvPr/>
        </p:nvSpPr>
        <p:spPr>
          <a:xfrm>
            <a:off x="6705720" y="5761080"/>
            <a:ext cx="3017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Footer Placeholder 4"/>
          <p:cNvSpPr/>
          <p:nvPr/>
        </p:nvSpPr>
        <p:spPr>
          <a:xfrm>
            <a:off x="7543800" y="5761080"/>
            <a:ext cx="209556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xas RE ROS Presentation April 20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92203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296"/>
                </a:solidFill>
                <a:latin typeface="Arial Black"/>
              </a:rPr>
              <a:t>SAR-002</a:t>
            </a:r>
            <a:endParaRPr b="0" lang="en-US" sz="28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19040" y="853920"/>
            <a:ext cx="930456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R-002 Development of Regional UFLS Progra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spcAft>
                <a:spcPts val="300"/>
              </a:spcAft>
              <a:buClr>
                <a:srgbClr val="3399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fting team has tentatively set an end of May meeting date to discuss the continent-wide standard and its effect on the reg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spcAft>
                <a:spcPts val="300"/>
              </a:spcAft>
              <a:buClr>
                <a:srgbClr val="3399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nder Frequency Load Shedding (UFLS) Verification Survey was sent out by Texas RE to applicable entities in accordance with ERCOT Operating Guides Section 2.9.1 and NERC Reliability Standard PRC-007-0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Footer Placeholder 3"/>
          <p:cNvSpPr/>
          <p:nvPr/>
        </p:nvSpPr>
        <p:spPr>
          <a:xfrm>
            <a:off x="6705720" y="5761080"/>
            <a:ext cx="3017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Footer Placeholder 4"/>
          <p:cNvSpPr/>
          <p:nvPr/>
        </p:nvSpPr>
        <p:spPr>
          <a:xfrm>
            <a:off x="7543800" y="5761080"/>
            <a:ext cx="209556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xas RE ROS Presentation April 20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92203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296"/>
                </a:solidFill>
                <a:latin typeface="Arial Black"/>
              </a:rPr>
              <a:t>SAR-003</a:t>
            </a:r>
            <a:endParaRPr b="0" lang="en-US" sz="28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19040" y="853920"/>
            <a:ext cx="930456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R-003 FERC-Ordered Variance ERCOT CPS2 Waiv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3399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 day public comment period March 16 – April 14 200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3399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eam held a technical workshop on March 31 to answer stakeholder questions.  The workshop was well-received with about 60 participants (not including the team or TRE participan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3399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ir of this SDT, Sydney Niemeyer, will present this standard at the April 16 ROS meeting to answer further ques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3399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DT will respond to comments and re-draft the standard for potentially another future comment peri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Footer Placeholder 3"/>
          <p:cNvSpPr/>
          <p:nvPr/>
        </p:nvSpPr>
        <p:spPr>
          <a:xfrm>
            <a:off x="6705720" y="5761080"/>
            <a:ext cx="3017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Footer Placeholder 4"/>
          <p:cNvSpPr/>
          <p:nvPr/>
        </p:nvSpPr>
        <p:spPr>
          <a:xfrm>
            <a:off x="7543800" y="5761080"/>
            <a:ext cx="209556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xas RE ROS Presentation April 20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96"/>
                </a:solidFill>
                <a:latin typeface="Arial Black"/>
              </a:rPr>
              <a:t>LSE SARs-005, 006, and 007--Inactive</a:t>
            </a: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250560" y="1138320"/>
            <a:ext cx="9472680" cy="433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R-005, 006, and 007 – Regional variances to remove LSE applicability from MOD-017 through MOD-021 and EOP-00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se SARs are currently inactive while LSE Registration Working Group meets to negotiate joint agre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SE Working Group met April 1, 2009, to continue drafting language and negotiating the JRO for the NERC LSE Function in the ERCOT reg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ested parties were requested to submit more comments and proposed language to be included in the JRO by April 18, 200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Working Group will meet again after April 18, 2009 to review the draft JRO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Footer Placeholder 3"/>
          <p:cNvSpPr/>
          <p:nvPr/>
        </p:nvSpPr>
        <p:spPr>
          <a:xfrm>
            <a:off x="6705720" y="5761080"/>
            <a:ext cx="3017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Footer Placeholder 4"/>
          <p:cNvSpPr/>
          <p:nvPr/>
        </p:nvSpPr>
        <p:spPr>
          <a:xfrm>
            <a:off x="7543800" y="5761080"/>
            <a:ext cx="209556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xas RE ROS Presentation April 20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d8a"/>
                </a:solidFill>
                <a:latin typeface="Arial Black"/>
              </a:rPr>
              <a:t>Nodal Market Preparedness</a:t>
            </a: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990720" y="990720"/>
            <a:ext cx="8045280" cy="44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iability rules with metrics and reports to support monitoring need to be in place for the Nodal Market to go liv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CT and Texas RE continue to monitor NOGRR 025 progres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ch progress is being made on the detail level in committees and working group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ems still needed are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the project is being managed (who, what, wh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ch metrics are intended to be ready for enforcement on market go l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66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orts that will be needed to support these metr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66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ining that will be required for ISO, market and regul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rics that will follow l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Footer Placeholder 3"/>
          <p:cNvSpPr/>
          <p:nvPr/>
        </p:nvSpPr>
        <p:spPr>
          <a:xfrm>
            <a:off x="7238880" y="5761080"/>
            <a:ext cx="24004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xas RE ROS Presentation April 20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d8a"/>
                </a:solidFill>
                <a:latin typeface="Arial Black"/>
              </a:rPr>
              <a:t>25</a:t>
            </a:r>
            <a:r>
              <a:rPr b="0" lang="en-US" sz="2400" spc="-1" strike="noStrike" baseline="30000">
                <a:solidFill>
                  <a:srgbClr val="2d2d8a"/>
                </a:solidFill>
                <a:latin typeface="Arial Black"/>
              </a:rPr>
              <a:t>th</a:t>
            </a:r>
            <a:r>
              <a:rPr b="0" lang="en-US" sz="2400" spc="-1" strike="noStrike">
                <a:solidFill>
                  <a:srgbClr val="2d2d8a"/>
                </a:solidFill>
                <a:latin typeface="Arial Black"/>
              </a:rPr>
              <a:t> Annual Operations Training Seminar</a:t>
            </a: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990720" y="990720"/>
            <a:ext cx="8045280" cy="44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sessions comple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st session week of April 13t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tendance has been hig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RC Continuing Education Hours (CEH) will be awarded for the seminar with a passing gra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Footer Placeholder 3"/>
          <p:cNvSpPr/>
          <p:nvPr/>
        </p:nvSpPr>
        <p:spPr>
          <a:xfrm>
            <a:off x="7238880" y="5761080"/>
            <a:ext cx="24004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xas RE ROS Presentation April 20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3280" y="71280"/>
            <a:ext cx="9220320" cy="6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d8a"/>
                </a:solidFill>
                <a:latin typeface="Arial Black"/>
              </a:rPr>
              <a:t>Metrics</a:t>
            </a: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990720" y="990720"/>
            <a:ext cx="8045280" cy="44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ource Metr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rting this month only violations (4 failures) are being reported the board with the market participant identifi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fractions 1 through 3 are reported but without market participant identifi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esting assistance with the creation of improved wind/renewable metric(s) that provide a better indication of trends for wind resources (need not be tied to violation/enforcemen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Footer Placeholder 3"/>
          <p:cNvSpPr/>
          <p:nvPr/>
        </p:nvSpPr>
        <p:spPr>
          <a:xfrm>
            <a:off x="7238880" y="5761080"/>
            <a:ext cx="24004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xas RE ROS Presentation April 20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vbarry</cp:lastModifiedBy>
  <dcterms:modified xsi:type="dcterms:W3CDTF">2009-04-13T22:29:34Z</dcterms:modified>
  <cp:revision>898</cp:revision>
  <dc:subject/>
  <dc:title>Instructions</dc:title>
</cp:coreProperties>
</file>