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224F-5CC9-48DE-812E-5D7E67503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C5AA1-1503-48BE-81A8-2F4CBA87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1B60-2B4B-465E-A627-FE6FF9FC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AC8B-880D-44AE-9AFE-F326A01D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9B999-220B-4D6F-8238-9412238A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30AC-7BAC-423F-A27E-ABCF6EF8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AB7A-CB27-4E2B-AE1B-D9BF1A19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7D7E-77C8-4DC4-91F3-7DB8A56E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BEAF-E40D-42A0-AF88-A6D31E7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2C6C-E9A5-4B65-BD39-9E323D1C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F9F6-CD77-4C4C-840A-AFDF9BD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0CED-5C59-4C8A-8E7E-C3DB67B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BD69-E51C-4E21-8921-A8F7546C2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DD12-25AE-4548-933F-A975083F9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estion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abel Fl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Overloaded Elements - March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066680"/>
          <a:ext cx="4038480" cy="4724280"/>
        </p:xfrm>
        <a:graphic>
          <a:graphicData uri="http://schemas.openxmlformats.org/drawingml/2006/table">
            <a:tbl>
              <a:tblPr/>
              <a:tblGrid>
                <a:gridCol w="2901960"/>
                <a:gridCol w="1136520"/>
              </a:tblGrid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52280" y="838080"/>
          <a:ext cx="8763120" cy="4802400"/>
        </p:xfrm>
        <a:graphic>
          <a:graphicData uri="http://schemas.openxmlformats.org/drawingml/2006/table">
            <a:tbl>
              <a:tblPr/>
              <a:tblGrid>
                <a:gridCol w="4114800"/>
                <a:gridCol w="3200400"/>
                <a:gridCol w="144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oaded El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anche Peak SES - DeCordova SES &amp; Wolf Hollow - Rocky Creek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ord 345/138kV Autotransform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3,618,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 – San Angelo Red Creek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 – Rowena 69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3,074,4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Im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2,579,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-Santa Anna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linger-Humble 69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2,075,244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-Lost Pines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chester-Fayetteville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895,5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noke Switch-West Denton &amp; Lewisville Switch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Denton-Airport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872,109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 Hill-Coleto Creek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burton-Victoria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784,143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SES-Entpr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us58T2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wett-Tomball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 Hill-Pawn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774,483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Shor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534,1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to North S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511,9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52480" y="5486400"/>
          <a:ext cx="6248520" cy="750960"/>
        </p:xfrm>
        <a:graphic>
          <a:graphicData uri="http://schemas.openxmlformats.org/drawingml/2006/table">
            <a:tbl>
              <a:tblPr/>
              <a:tblGrid>
                <a:gridCol w="1114560"/>
                <a:gridCol w="893880"/>
                <a:gridCol w="893520"/>
                <a:gridCol w="1189080"/>
                <a:gridCol w="966960"/>
                <a:gridCol w="1190520"/>
              </a:tblGrid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~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510552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tlement quality dolla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rend of local congestion costs for last 12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shown in mill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congested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zonal costs -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last 12 months - $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5334120"/>
          <a:ext cx="8153640" cy="874440"/>
        </p:xfrm>
        <a:graphic>
          <a:graphicData uri="http://schemas.openxmlformats.org/drawingml/2006/table">
            <a:tbl>
              <a:tblPr/>
              <a:tblGrid>
                <a:gridCol w="838440"/>
                <a:gridCol w="1752480"/>
                <a:gridCol w="1981080"/>
                <a:gridCol w="1676520"/>
                <a:gridCol w="1905120"/>
              </a:tblGrid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2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Down last 12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5334120"/>
          <a:ext cx="8229600" cy="81900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last 12 months - $M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5181480"/>
          <a:ext cx="8229600" cy="88128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1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Up last 12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5105520"/>
          <a:ext cx="8229600" cy="95724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Up last 12 months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5181480"/>
          <a:ext cx="8229600" cy="919440"/>
        </p:xfrm>
        <a:graphic>
          <a:graphicData uri="http://schemas.openxmlformats.org/drawingml/2006/table">
            <a:tbl>
              <a:tblPr/>
              <a:tblGrid>
                <a:gridCol w="846360"/>
                <a:gridCol w="1768320"/>
                <a:gridCol w="2000160"/>
                <a:gridCol w="1692360"/>
                <a:gridCol w="1922400"/>
              </a:tblGrid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16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lacement Reserve last 12 months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5334120"/>
          <a:ext cx="8839080" cy="728640"/>
        </p:xfrm>
        <a:graphic>
          <a:graphicData uri="http://schemas.openxmlformats.org/drawingml/2006/table">
            <a:tbl>
              <a:tblPr/>
              <a:tblGrid>
                <a:gridCol w="922320"/>
                <a:gridCol w="525240"/>
                <a:gridCol w="609840"/>
                <a:gridCol w="761760"/>
                <a:gridCol w="609840"/>
                <a:gridCol w="685800"/>
                <a:gridCol w="685800"/>
                <a:gridCol w="685800"/>
                <a:gridCol w="738000"/>
                <a:gridCol w="614520"/>
                <a:gridCol w="538200"/>
                <a:gridCol w="768240"/>
                <a:gridCol w="693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8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23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Overloaded Elements - Febru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8600" y="685800"/>
          <a:ext cx="8305920" cy="5486400"/>
        </p:xfrm>
        <a:graphic>
          <a:graphicData uri="http://schemas.openxmlformats.org/drawingml/2006/table">
            <a:tbl>
              <a:tblPr/>
              <a:tblGrid>
                <a:gridCol w="3581280"/>
                <a:gridCol w="2895840"/>
                <a:gridCol w="1828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loaded Ele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case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ham SES-Long Creek 345kV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ow Switch-Austro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kVSAPS - Menard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12,006,612.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Im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2,522,073.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mill Swithch - DeSoto Switch-Cedar Hill Swit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Levee A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914,588.11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-Kuykendahl-Roans Prairie &amp; Jewett-Tomball 345kV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sis-PH Robinson 345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rott - Midtown 138k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730,227.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field 345/138 Auto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field 345/138 Auto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656,779.42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Shor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557,822.65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l 138kV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on-Elm Crk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Donald-Forsa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rmont-Sp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ag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519,505.84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e Pecan Creek - Trading Hou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383,973.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 345/138kV Autotransformer T1/T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op 345/138kV Autotransformer T2/T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302,416.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to North Stabil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       255,350.93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/if</cp:lastModifiedBy>
  <dcterms:modified xsi:type="dcterms:W3CDTF">2009-04-15T00:44:52Z</dcterms:modified>
  <cp:revision>60</cp:revision>
  <dc:subject/>
  <dc:title>Instructions</dc:title>
</cp:coreProperties>
</file>