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D9E7-E68E-4BFB-8E5B-FFE119B6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391-C07E-4015-BEB0-6CBECFDA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0B6-69F2-4E1B-ABE7-9245FE05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000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8560" y="142236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108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000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8560" y="3944880"/>
            <a:ext cx="28270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E1C-1030-4769-B28D-D3364C97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6597-8F4E-4F47-9ACC-69FC3BAB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6D4-E7BF-4A5E-A044-6357F99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1C2-802D-4F58-8ED4-1E1217C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C04-59B8-4123-8FB6-B8F6AC88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221760"/>
            <a:ext cx="8772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00E-E293-4614-A162-82533F99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C6D-9808-4969-B254-47B8E6D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360" y="394488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324-5C93-4F46-80FB-0CA7666A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360" y="1422360"/>
            <a:ext cx="428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1080" y="3944880"/>
            <a:ext cx="8780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7D7-08A4-4C54-BF1A-8B436C73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579640" y="6559560"/>
            <a:ext cx="34038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5440" y="87480"/>
            <a:ext cx="9044280" cy="6702120"/>
            <a:chOff x="55440" y="87480"/>
            <a:chExt cx="9044280" cy="6702120"/>
          </a:xfrm>
        </p:grpSpPr>
        <p:sp>
          <p:nvSpPr>
            <p:cNvPr id="4" name=""/>
            <p:cNvSpPr/>
            <p:nvPr/>
          </p:nvSpPr>
          <p:spPr>
            <a:xfrm>
              <a:off x="139680" y="87480"/>
              <a:ext cx="8872560" cy="67021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5440" y="176040"/>
              <a:ext cx="9044280" cy="652788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280" y="131760"/>
              <a:ext cx="8958240" cy="6616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65240" y="6556320"/>
            <a:ext cx="213336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5EBD-7CD3-4A9F-A321-301C966153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9/03/20090324-ROSWMS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9760" y="457200"/>
            <a:ext cx="8651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liability and Operations Subcommitte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port to TAC</a:t>
            </a:r>
            <a:br>
              <a:rPr sz="24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in, T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9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89240" y="4538520"/>
            <a:ext cx="64008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nneth A. Donohoo, P.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or Electric Delivery Company L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AC Voting Item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753 Transmission Outage Notice Detail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unanimously recommended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F93-96CC-4823-9456-F440F06BC1E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4/09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 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 Thursday April 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aR Capability for Current Responsive Reserve Servic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 Approved in Feb LaaR to be 50% of R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taff to continuously review more than contract amount of La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run study at 2,300 MW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in M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mission to ROS and TAC for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significant efforts of TAC ROS Dynamics Working Group and ERCOT System Planning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DE5-EA8D-40AC-914E-4195C9D1F0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4/09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 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1080" y="1422000"/>
            <a:ext cx="8780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25 Monitoring Programs for QSEs, TSPs, and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reviewed of OWG comments and work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working groups to work on issues, metric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reliability (TRE) and market (PUCT) nee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etails, communication and understanding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with W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orkshop held Apri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discussion at next RO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needs to actively participate at working group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 and PUCT staff support very 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9E7-9D78-433C-9C1F-54E09FA17C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4/09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 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ROS and WG Proced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 of ROS review starting by end of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 Transparency of Planning (Conges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abel Flores reporting effort to 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limiting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pproved and propose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ic congestion to planning projected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data, models and relate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ocesses and procedures to reflect changing nature of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267-BFA8-4E97-A0D4-9FA9AC039B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4/09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 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GRR024 and OGRR 216 System Security Response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referred to CIP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 between NERC rules and ERCO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ERCOT an opportunity to discriminate information to MPs that need to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796 Resource Plan Performance Met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endorsed with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755 ERCOT.com Website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 endo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7E5-91BC-408A-821F-207424AFD2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4/09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 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lanning Char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on connecting from outside of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transmission related with inter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ROS/WMS meeting develope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09/03/20090324-ROSW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t next RO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32C-50A5-46DE-AE60-B09F53BDFB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4/09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0160" y="221760"/>
            <a:ext cx="8772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ther ROS Highlight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1080" y="1422360"/>
            <a:ext cx="8780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Generation Interconnecti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cern over congestion caused by new generation inter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RCOT ROS Report to TA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FBB-0F11-46A8-99C1-713794E208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04/09/2009 Ken Donoho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9-04-09T16:51:16Z</dcterms:modified>
  <cp:revision>1</cp:revision>
  <dc:subject/>
  <dc:title>Slide 1</dc:title>
</cp:coreProperties>
</file>