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7AB0-1CAB-4913-B641-F0B65520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D800-D0F4-481D-9D6A-C2B7D96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96F2-0C21-454B-8B44-38B728AE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47FD-13F2-4346-811D-E06A0E0D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306F-6808-489C-B7BC-B7BACE08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E215-AB92-41B8-8C24-5EB10FE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AFFD-C633-42BF-88FD-3BEA71A7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FE65-3DF0-4731-BD7A-5AB2B19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FC9E-0745-4E75-9127-E5171137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AAB73-7A4F-4A6C-9195-1C07507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4985-7820-4AFB-A784-82B7656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6B42-61A4-4CA9-88E5-D759AD6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8B1C-2C61-46AC-955F-09B5AE714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54CA-D294-4CB6-B833-9F70B9F6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manded RPG Charter Issue: RPG Review of Generation Interconnection Facilities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n Woodfi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irector, System Plann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Charter, as endorsed by TAC, was considered by Board at January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C voiced concerns about exemption from RPG review of high-cost lines to connect generation, citing example of Kelson CC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ard approved RPG Charter with revised language that removed exemption from RPG Review for generation interconnec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nded this issue back to TAC for further discussion and 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remanded to ROS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/WMS Joint Discussion Group held meeting to discuss and structure this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tatu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urrent, approved language of the Charter requires generation interconnection projects costing more than $15 million or requiring CCNs to be reviewed by RPG (including ERCOT Independent Review and Board approval as appropria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2571840"/>
            <a:ext cx="655344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ther Considerations Discussed by RP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ability impacts and requirements for these projects are already studied through generation interconnection stud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valuation in RPG/ERCOT Independent Review would consist of stakeholder comment and economic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evaluation for these projects will essentially be estimating the value of the generation to the market, net of the cost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ssion Staff testimony in Kelson CCN docket expressed need for ERCOT review on these types of CC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to preserve non-discriminatory transmission access in whatever process is adop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 for RPG review to delay interconnection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ness of ERCOT ro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s Developed by Joint ROS/WMS Grou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Add language to Section 1.3.4 of the Planning Charter to say: ERCOT performs economic analysis of direct generation interconnection facilities &gt;$50 million (as a part of the Full Interconnection Study (FIS)) for info purposes only (no recommendation by ERC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on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t to RPG/TAC language.  No other changes to the Planning Charter (no economic analysis unless requested by PU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procedural changes common to both op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 in Generation Interconnection (GI) Procedure that the Lead TSP for the FIS communicates to other TSPs when the FIS indicates that the direct interconnection facilities will cost &gt;$50 million so that the other TSPs will know to look (pursuant to existing GI Procedure requirements) particularly at this F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TSP for GI FIS will communicate direct generation interconnection projects &gt;$50 million out to full RPG (no review by RPG) once generation Interconnection Agreement is 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23623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4/16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an Woodfin</cp:lastModifiedBy>
  <dcterms:modified xsi:type="dcterms:W3CDTF">2009-04-08T19:44:38Z</dcterms:modified>
  <cp:revision>102</cp:revision>
  <dc:subject/>
  <dc:title>Instructions</dc:title>
</cp:coreProperties>
</file>