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F9DD-5962-4CA1-9962-A1BCC9E9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D47D-82FB-4469-8F23-2653CE2D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60E4-7599-456C-BF18-12E28D18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6D66-B4AC-4159-89BE-F599182E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1C2A-F980-44B7-92B2-15D0D488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DDF2-4A38-477E-9C83-2593AF8A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4267-E91F-40E7-B83D-297E4DB6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F302-DCE9-4454-8064-B740F28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13C0-B6E3-47BE-83EA-A90DE2B3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740F-5106-4249-BC50-D427B235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C489-4C04-465C-9790-6B7A83FD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9481-42A2-4CE2-9815-95D53A6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614B-F112-404B-8EFA-317AC9F53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7836-478D-4092-AF18-00668B3E3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1904760"/>
            <a:ext cx="63770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8240" y="3580920"/>
            <a:ext cx="57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18BA-98BE-482A-96BE-AB2A8B3D56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– Additional El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Information on Funding and Project Prioritization Will Be Provided as We Move Through the Review and Approval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feedback from 2008 ERCO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one has specific requests in this area please bring them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d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 Re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version of form to be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enhancements identified over the past 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highlighting if a project is due to a legislative or PUCT policy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BA training material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EC2F-12E6-444D-8DB8-6A07C1BF33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9AF1-1177-46F5-9645-94CB9F9E1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4-12T17:49:08Z</dcterms:modified>
  <cp:revision>228</cp:revision>
  <dc:subject/>
  <dc:title>Instructions</dc:title>
</cp:coreProperties>
</file>