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0383-C848-4787-899B-92CF72C5E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0B75-626D-4137-9433-487618709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1FCD-6AFD-46F5-A551-E739AE240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0447-21B7-4EF8-BD94-0BC10F150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4B59-7E76-41A6-AFA5-03F09ACEA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96F1-C73D-4BA0-AC24-A337BF0E5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433D-F7F7-4F2A-BE5C-5DAB4D957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AEC9-A05A-4987-8958-CA26491A1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7DE3-7268-4A40-8023-02D5C967B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0B2F-6845-42E6-8F21-93D27E39D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4E9B-81E8-4C48-98B8-1946960DF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9EE0-4086-4637-B924-2345E883E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06D1-F9A3-47B2-8B10-CBD5DAA57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F735-A645-494B-815D-F56A349BA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3A83-46A1-4F7A-A30D-F97C12823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2611-9255-47F9-A8C5-66544F37F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2AC0-6095-4618-8AB1-F0166AC97C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43240" y="3200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R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April 2009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438280" y="487692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y Fe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 and Comment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and Wholesale Systems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Transaction Processing, MarkeTra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March performance was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March performance was 99.88%. This was above the service level target of 9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lesale Tot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March performance was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 Report Explorer, Retail AP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March performance levels were 99.80% and 99.92% respectively. These were above the service level target of 9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degradation on 3/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incidents occurred on 3/11 with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ully overlapp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ations of 1574 and 1829 minutes respec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recently created Market Participant’s name had two errors resulting in application degradation and processing failures impacting 6 Market 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was longer than the length allowed by database constraints,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reserved word of the database system was used in th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errors were corrected and procedures were added to the MP setup process to validate the field length and verify that test files are run to successful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ch 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609480" y="987480"/>
            <a:ext cx="807732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914400" y="855720"/>
            <a:ext cx="746748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46748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162080" y="838080"/>
            <a:ext cx="69912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909720" y="762120"/>
            <a:ext cx="7243560" cy="52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"/>
          <p:cNvPicPr/>
          <p:nvPr/>
        </p:nvPicPr>
        <p:blipFill>
          <a:blip r:embed="rId1"/>
          <a:stretch/>
        </p:blipFill>
        <p:spPr>
          <a:xfrm>
            <a:off x="993600" y="762120"/>
            <a:ext cx="7258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9-04-08T15:14:54Z</dcterms:modified>
  <cp:revision>314</cp:revision>
  <dc:subject/>
  <dc:title>Instructions</dc:title>
</cp:coreProperties>
</file>