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2407-5E2B-4FB5-BCC5-3FD1516D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1A67-86A5-4A99-BCC9-F7A04AD0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F465-1338-4EB1-BBD3-3409D093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7FE6-F6A2-4A27-AE61-53BB86E2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3F90-3CCB-4F00-8CC9-4C8217B0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637A-A712-4529-B69D-86FA4DC9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1B85-101B-4B7C-A1BB-8A2D5E01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2AEF-85B7-4943-9955-0F6AC8E3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EE1E-303A-42D9-B562-08218AA2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439C-3DDD-4DB8-9DAD-9B24B137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29A3-E291-4736-BA25-DE0AD245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7D57-45AD-478A-8DB8-8719633A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FD1D-9EF2-4898-8C5E-EC7DEBE9E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1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ril 1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is complete for Flight 02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,755 Tota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New CRs (includes 1 Additional DU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additional territories added by existing C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change of service provider by existing C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bank changes by existing C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060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ignup begins 05/13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Deadline is 05/20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 05/26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 06/19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 Day 1 Transactions: 06/22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 08/04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2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gcervenka</cp:lastModifiedBy>
  <dcterms:modified xsi:type="dcterms:W3CDTF">2009-04-09T12:54:17Z</dcterms:modified>
  <cp:revision>114</cp:revision>
  <dc:subject/>
  <dc:title>Instructions</dc:title>
</cp:coreProperties>
</file>