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49E1-8D58-4CBC-9E9F-C53BD45395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21EB-3CB3-4AC6-B925-D20D6CEF3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61_01 Moved to ON Hold:  Freed up approx. $120k, however not recommended for release by C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5252-2A07-46EF-BF5A-C88BD6101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5B4E-F820-41EC-85E9-8ED84D339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1109-E697-4293-8778-F61D2F466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A619C-A51F-4EF2-98EF-B2DA60A51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530F-9CBD-4F7D-A995-4ECBEDF35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7F88-777D-49F4-96F6-22D288689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E54C-4964-474A-949D-94D8CB99D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E289-8CE8-4677-9354-591AD74DF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0051-3BBC-4481-A0F4-B7F1A5E8E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197B-1C2D-427D-9B8B-716CB8A0A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1BD4-08D7-4FFD-88A5-6775BD175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BE75-AD3F-4DC9-9F65-F231CB8A0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6AE3-177F-43F8-AC96-99786B33F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9108-68D1-4493-A47F-54D6B3707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15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EEB5C8-DD56-435F-B5DB-C135AF21E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hday@erco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arch 2009 R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April 15, 2009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eather Day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Line 3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7" name="Object 3188"/>
          <p:cNvGraphicFramePr/>
          <p:nvPr/>
        </p:nvGraphicFramePr>
        <p:xfrm>
          <a:off x="533520" y="763560"/>
          <a:ext cx="8283600" cy="571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Object 31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63560"/>
                    <a:ext cx="8283600" cy="57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Execu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04920" y="55087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370"/>
          <p:cNvSpPr/>
          <p:nvPr/>
        </p:nvSpPr>
        <p:spPr>
          <a:xfrm>
            <a:off x="304920" y="3809880"/>
            <a:ext cx="8458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80028_01 – Execution complete, expected to move to closing April 24, 2009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80040_01 – Planned for migration to production on May 16, 2009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990720"/>
          <a:ext cx="8589960" cy="2590560"/>
        </p:xfrm>
        <a:graphic>
          <a:graphicData uri="http://schemas.openxmlformats.org/drawingml/2006/table">
            <a:tbl>
              <a:tblPr/>
              <a:tblGrid>
                <a:gridCol w="830160"/>
                <a:gridCol w="708120"/>
                <a:gridCol w="571320"/>
                <a:gridCol w="752400"/>
                <a:gridCol w="2189160"/>
                <a:gridCol w="935280"/>
                <a:gridCol w="919080"/>
                <a:gridCol w="674640"/>
                <a:gridCol w="1009800"/>
              </a:tblGrid>
              <a:tr h="53820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 Are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Doc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No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Statu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Priorit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Revised Budget Range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/M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3693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CT 3489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Renewables/Distributed Generation - RMW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28_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Previously Approve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$25K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843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CT 346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Metering -Interim Solution for Settlemen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27_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Previously Approve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M - 2M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8400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BCO Siebel Integration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40_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Previously Approve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0k-$500k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Plan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28600" y="4191120"/>
            <a:ext cx="868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518"/>
          <p:cNvSpPr/>
          <p:nvPr/>
        </p:nvSpPr>
        <p:spPr>
          <a:xfrm>
            <a:off x="746280" y="4224240"/>
            <a:ext cx="771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961"/>
          <p:cNvGraphicFramePr/>
          <p:nvPr/>
        </p:nvGraphicFramePr>
        <p:xfrm>
          <a:off x="228600" y="990720"/>
          <a:ext cx="8744040" cy="215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396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74404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Initiation or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1143000"/>
          <a:ext cx="8534520" cy="1828800"/>
        </p:xfrm>
        <a:graphic>
          <a:graphicData uri="http://schemas.openxmlformats.org/drawingml/2006/table">
            <a:tbl>
              <a:tblPr/>
              <a:tblGrid>
                <a:gridCol w="777960"/>
                <a:gridCol w="1147680"/>
                <a:gridCol w="536400"/>
                <a:gridCol w="704880"/>
                <a:gridCol w="2051280"/>
                <a:gridCol w="876240"/>
                <a:gridCol w="861840"/>
                <a:gridCol w="631800"/>
                <a:gridCol w="946440"/>
              </a:tblGrid>
              <a:tr h="6159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 Are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Doc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No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Statu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Priorit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Revised Budget Range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99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 Metering Long Term Settlement Solutio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7_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Critica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0k - 500k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62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rak Phase 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30_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tio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High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k-$250k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48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ail Application Upgrad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31_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tio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High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M-2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CT 346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Metering - Retail Market Interfac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11_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High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k-$250k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Closing, Closed or Cancell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990720"/>
          <a:ext cx="8229600" cy="2922480"/>
        </p:xfrm>
        <a:graphic>
          <a:graphicData uri="http://schemas.openxmlformats.org/drawingml/2006/table">
            <a:tbl>
              <a:tblPr/>
              <a:tblGrid>
                <a:gridCol w="750960"/>
                <a:gridCol w="1104840"/>
                <a:gridCol w="517680"/>
                <a:gridCol w="679320"/>
                <a:gridCol w="1979640"/>
                <a:gridCol w="842760"/>
                <a:gridCol w="831960"/>
                <a:gridCol w="609480"/>
                <a:gridCol w="912960"/>
              </a:tblGrid>
              <a:tr h="47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 Are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Doc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No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Statu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Priorit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Revised Budget Range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098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4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rak Enhancements (Workflow &amp; Reporting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7_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in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Previously Approve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$100k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08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4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site Enhancements for ERCOT Outages PhI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6_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Previously Approve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$50k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094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4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Outage Evaluation PhI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6_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in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Previously Approve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$50k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7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free and NAESB Transition to ISM  formerly (EDW EAI Transition Phase 1 (including PaperFree &amp; NAESB)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61_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le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High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k-$250k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04/01/2009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762120"/>
          <a:ext cx="8763120" cy="443700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.39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R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3.22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17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417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day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eather Day</cp:lastModifiedBy>
  <dcterms:modified xsi:type="dcterms:W3CDTF">2009-04-09T11:27:35Z</dcterms:modified>
  <cp:revision>487</cp:revision>
  <dc:subject/>
  <dc:title>Role of Account Management at ERCOT</dc:title>
</cp:coreProperties>
</file>