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F64-BECD-4FE1-A497-F13A7393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CCE-C219-4D90-A855-7F860352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7D3-AF4F-491F-B762-5D4A9053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E71-25AF-46BB-BE53-AD949234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CBE78-B79C-438D-96C3-1849EFAB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80F37-570A-47E7-A9E0-B88967B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92E9-6F4B-4C73-8213-7FB4E4B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A168-3EA9-4E02-B48F-CF2414A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591A0-9459-440A-83DF-130CFEF8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491DF-F90C-45A7-8481-38EF83BE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5CD5-7F6D-4E1C-B5F1-A275BFBC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A0E-C48A-4784-88E9-E3FE48C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5C74D-8498-4C95-B9F1-9D42084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2438B-D508-45A0-9348-40B0ED4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ABD8-4A2D-40B4-AA84-4C51F2F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4F686-1CE8-4A28-9324-1B2BC2F0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6ABAE-DB80-427A-9C19-83E0ED67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60A-58B7-4BC1-8926-E3BC1609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E7D-9D8D-41EB-955B-688598A1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DDE-BBF7-41BB-8822-926FCBA9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D08-A44A-4894-8EF6-CDC1F6A6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856-6808-4964-9776-98FA247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C10-DFE8-452F-87DC-A2319FD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D8B-40AC-44A6-A60A-03EA89F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098C-2B43-4486-AF88-5E3ADAC1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A98-C0BB-4203-8140-589BE7B6E5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E45-6491-49F9-8E99-2A620B579C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X SET 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Update to R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ril 15,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CA38-CA9B-4EEE-9F50-A58751655A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073 (Mass Transition of ESI ID Due to Acquisition) submit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E72-4BB9-45D8-A7A3-2CC33880AA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87 – PUCT Substantive Rul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§25.493 (e) states that ERCOT “shall develop procedures to facilitate the expeditious transfer of large numbers of customers from one REP to anoth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073 (Mass Transition of ESI ID Due to Acquisition) submit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developing procedures for Long-term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2A93-B76A-41E4-A553-0DD1597C7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0 – Need additional information to resolve errors on the CBCI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TPT has been asked to look into whether testing would be required for this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1 – CNP received 814_08 A95 cancels on several 814_26 (historical usage) transactions from ERCOT in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ERCOT has written a SIR to resolve this 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74D4-1318-4293-9794-CA150EBA2C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4 – Allowing only 1 ignore loop in a monthly meter read is causing information to be lost when a meter change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DSPs will send an original 867 with two ignore loops and then replace with the outflow combined into one ignore l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Texas SET requested that ERCOT research what it would take to be able to handle two ignore looks regarding DRG during a meter ex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85B7-A3B9-48C2-9E6B-DF931BED7F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ssues Under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095 – Disconnect and Reconnect for Non-Pay for Prepay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RMGRR drafted and will be reviewed at the next Texas SET meeting for sub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MG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Clarification that ESI ID Count is for Active REP of Record in the CBCI 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 for initial language consi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RMGRR 073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Mass Transition of ESI IDs due to Acqui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 for initial language conside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5A70-7C64-4E3A-9CF3-8A671F2DE2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PRR Acti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6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– Re-Registration of Market Participant due to Mass Transition of ESI 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 for initial language consi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PRR 805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Adding POLR Customer Class and AMS Meter Flag to the Database Query Function on the M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ormal Timel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Next Step: RMS for initial language consid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E452-E343-4810-B3F6-57ECF9314A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CDC7-23B9-4C71-9249-572EBFF9F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The next TX SET meeting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will be April 27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ahoma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&amp; 28th at ERCOT Met Center </a:t>
            </a:r>
            <a:br>
              <a:rPr sz="3600"/>
            </a:br>
            <a:br>
              <a:rPr sz="6000"/>
            </a:b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Any 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7:54:20Z</dcterms:created>
  <dc:creator>rbevill</dc:creator>
  <dc:description/>
  <dc:language>en-US</dc:language>
  <cp:lastModifiedBy>jfrederick</cp:lastModifiedBy>
  <dcterms:modified xsi:type="dcterms:W3CDTF">2009-04-06T16:21:32Z</dcterms:modified>
  <cp:revision>262</cp:revision>
  <dc:subject/>
  <dc:title>TX SET  Update to RMS</dc:title>
</cp:coreProperties>
</file>