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7960" y="687240"/>
            <a:ext cx="4592520" cy="344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419790-E1EC-4574-B527-FEE478B65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8E1973-01B3-4B68-B52B-5A4E878A3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C15113D-C5BE-4117-8D4D-89CA1CAC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85A33D-75D2-4E54-A808-1452E893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C64F1C5-D129-4E4D-94A2-34EEFA39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668E7B-539F-480E-A99F-9C121D45B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53F829F-E6CE-46E2-A225-08F42532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6E89447-6627-45C3-8465-40B00A96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AC71394-73FB-447F-9404-05A73160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E89393-D85D-4169-BE0A-58D50427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8320" y="687240"/>
            <a:ext cx="4592520" cy="3445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7217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9B46F69-797E-47AF-897D-86CA73F62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1D6-887E-4040-AF4D-5FC4B4A7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AE2-F6BE-4579-A894-17ABEDA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901-B39C-423B-B816-F5E5449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C95-D738-4BF9-A584-BCA86B91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CBF-0A7C-4080-AA89-96167A9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1CB-3053-44BA-B4DB-9BC7D0C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4D9-8648-41DB-BE46-16F9FE26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A01-4720-4594-91E7-2F8631E6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F20-5DD3-47ED-9EED-172DE722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870-8185-402C-9AD2-EA7325B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42C-C020-4000-AB99-2E2F3B9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820-55F7-409F-9193-188D35D4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D5F-D5DE-4488-B5C5-49CE47B5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Copy of Ercot Logo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WordArt 12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mdt/userguides/" TargetMode="External"/><Relationship Id="rId2" Type="http://schemas.openxmlformats.org/officeDocument/2006/relationships/hyperlink" Target="http://www.ercot.com/services/mdt/userguides/" TargetMode="External"/><Relationship Id="rId3" Type="http://schemas.openxmlformats.org/officeDocument/2006/relationships/hyperlink" Target="http://www.ercot.com/services/mdt/userguide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28B-0F3C-45A6-B75C-991DE40A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5,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C51E-734F-4FB4-85C9-12F6D17C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E4B6-516A-4B48-943B-34E170AE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ed ERCOT System Outages and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ERCOT Brower Compatibility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Retail Service Level  up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nd update TDTWG website to provide links for Metric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ed RMGRR074, No comment from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Guide for IE 7.0 as posted to TDTWG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F5D-2A90-4ACF-AEB4-32B55141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working with the ERCOT Manager of Operations to address each system inci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Ebbers reviewed the summary and detail page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t log. Both Tim and Trey Felton responded to questions related to the detail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cuss Proposed Browser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upon RMS discussion in March, consensus was reached pending TDTWG and ERCOT regarding the list of specific browsers that ERCOT should support, and indicate a timeframe when ERCOT will be able to support specified browsers (i.e. 6 months after current browser relea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E5D-73C4-4A22-B1A6-F0941EA4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iscussed Retail Service Level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4, Browser Compatibility, added to Retail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agreed to a monthly review at TDTWG of the service availability metrics for Marketrak as recommended by MTTF.   Specific metrics are presented in the ERCOT RMS upd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27EB-E575-40B2-90FC-960BC2D4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6452-1AD6-4364-B167-32B168293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ed and reviewed TDTWG and Market Metrics web site form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ink to MMWG notes via TDTWG main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istory will be retained for the Market Metrics from tha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WG” link will be deleted under RMS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A7DC-5B61-4B37-8BC2-DE08C37F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RMGRR0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ment received or 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90B-F62C-4799-A4E3-E03D9630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Guide for IE 7.0 as posted to TDTWG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6.0 and IE 7.0 Configuration Guides post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rcot.com/services/mdt/userguid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B14C-C57B-4971-9503-FC0AB34AC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9528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DTWG Follow-up item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minder Note from TDTWG December mtg: A full test of the Disaster Recovery system is scheduled to be tested in 2009 (related to incident of 10/30/08).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Registered User</cp:lastModifiedBy>
  <cp:lastPrinted>2002-09-24T18:27:58Z</cp:lastPrinted>
  <dcterms:modified xsi:type="dcterms:W3CDTF">2009-04-09T18:02:16Z</dcterms:modified>
  <cp:revision>572</cp:revision>
  <dc:subject/>
  <dc:title>PowerPoint Presentation</dc:title>
</cp:coreProperties>
</file>