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7CBF-FB21-4C5F-9102-06BF2F9D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EB6-65EE-4D97-BA08-95F64F256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334F-191C-4481-A145-35C171A54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D90F-2B43-45E0-8DDC-A342A9BCF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95C-7089-4DF5-9CE8-EE45B71C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360-74A8-4DE7-BD7E-AA6DFD87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532-7CAD-48A1-83DD-EFD01EB9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F0D-5710-46E2-8F63-D502B1FA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6E1E-9AE6-41E6-81EA-7D32C52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E3E5-7C78-4089-9689-91EF69FE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C184-C8C5-4C21-BBC4-138197BA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2B9-BFA9-4F26-BF51-D8ECF9DC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C794-50DF-4C46-AA45-D458C205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03DC-06F0-42E4-BC43-D2C05B2D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7AD7-755C-4D93-B717-0A62399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9FC-438D-4044-AC6E-D5575DA3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CCA-2AE6-48ED-8A41-97A7AE6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2096-3D68-4678-B5CA-103B4F4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E6B2-7797-40FD-9387-8020E851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E891-B315-4721-A172-4F6D96C6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D8F4-7884-4420-8AD1-E3B33713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E29E-08CA-4C1E-8083-238A89FA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5BDD-895C-4F51-BC81-C5E59E38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3236-FF1D-4526-84C3-2436CA56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43CB-FCF3-4076-8C23-9993A55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FA68-5E56-47E6-AA2A-7BFD5838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04D-BD52-441B-91E1-2B24FAC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5EC4-0131-41CF-A487-7076708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1680-4211-4DC8-A404-7D0C817F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D3F2-3B3A-4A7A-ABA5-D84D6C0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2821-9F46-495E-9509-F3242D9C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EC7E-78EC-443D-B03D-1B182C9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E8D6-FCB4-4665-AC2C-8F2F0800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2CFD-BD8E-4BE2-A347-F7D0F59D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239C1-2D21-44C0-ABD0-CFE43C50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D35E-9355-46A2-B8C8-CE5B3039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9C7A-C678-4141-A9F7-74D4974B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9F5-FF9F-44C6-BEF4-37F08EA6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9120-9BA6-45CD-87BB-BC013B1E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138B-CD0E-4551-871A-FF5479F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B568-F53A-4A3F-8B08-FFC756C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8868-68B6-4B6E-B129-C532619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3CA4-E469-4BF7-BECD-92F1A50A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766F-C89A-4E4D-8488-5BBACE4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8801-3E43-40FE-A3D9-BC355C2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97B87-C7DA-4FCD-95AA-D726DA08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E8BD-BDB1-4566-B62D-DB4C854F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A1015-C9A4-4E6E-AC08-B5666AF2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50E-30F0-4C64-8A04-B45B4D9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00C44-131B-4F68-A5F3-FB4DEA24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A6E42-D136-41BB-997D-05F72EDE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D5D8-9EE9-4CC9-A300-E27204F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9CD8-6624-4930-9316-D097FE37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4CC7-3E6E-4285-A99F-91398DD0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01ED-54BE-4491-81AC-6626665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1A33-258A-4A2C-8A5B-DA305B3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DD22-D230-4E61-96F5-464C4C1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40F02-8904-45D9-AF70-404E40F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12DA-593E-464D-80A3-24D18D92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3AE-4AF9-475D-B702-023F8AD7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BC21-BA91-4C46-99F0-7BE418CB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654B4-0CC8-4911-A117-9895799C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8482B-2BB3-4268-B95A-4E2AD25C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6A26-E860-42C7-8163-802BF14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6DDAB-2E3E-410A-8EB6-A869912A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A6D2-620E-4C8B-8B2F-4093335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EE79-FDAF-4A84-9E77-8A65CF0C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3AC0-5915-4B6C-A2AC-A6FF669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748D-18F2-4330-88D9-907869E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27620-2C11-4C1B-BE6D-65A377F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C1F-1FA1-484A-9513-32BB6C55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F54C1-DE48-43BD-A631-F2C4EF0F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FD86D-1FAB-4C50-9731-FCA68F5E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74993-D121-49B3-A45A-25B325FE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6288-6667-4231-A426-031802AE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099D-B8B8-4622-BA10-E1CE7FAC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BAD0-7E5E-46E6-9139-9F9D9E6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9A80-E9C0-4EE9-B29C-550B5E75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03FF-08F3-4B62-819E-EA47149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7BD82-5122-402D-872A-A3578183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C9B5-BA72-422D-B9A9-FA3AC820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533-9B70-4017-9E19-3231A7F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6B9F-4896-466A-99AB-1DDFA44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C0A18-7363-48CA-8045-779A42A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0FFA5-05AC-4CEE-A104-045B8E8D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BF8DE-368F-4118-9A79-716F49A4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3E97A-B3B4-4821-9B05-D639106F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D0D8-2CEE-400B-BE71-F062733C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C9D92-0BA5-4193-9056-69F8BE91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D05A-F8F2-40CB-98A6-E6DD25FB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7A32-3DDD-4CB8-BBFB-2552C996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9D58-1260-40F3-8D95-F2A05BB6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E3F-AA8A-4382-AB43-AF4AD4A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08FD-2AC4-4549-925B-9EF3812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5E040-56BD-4179-A197-1AAEF697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16ED-E6D6-4DC8-A38A-1A67A38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5519F-C2AE-4E63-85DB-DAAAB95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327B-E853-4A22-8DB6-144B805F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12824-E7B4-48D4-9DBD-D5C8A579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4E42F-212D-46DB-9428-24A0CA6A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2D89-96C5-469C-952D-8FC7904A47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AF73-F3E2-4E0D-A541-0D16071102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FBE6-B5B6-4385-854B-36C5D496D3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7482-66CB-4E4F-B125-62D0B51FCD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3860-A944-4C04-9085-E5728DDE0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76E9-EE1A-46D0-8AFD-26F4CEF4E3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8FC-EDF4-4C88-B7B9-8A513F9880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DC3-E745-4926-AA1F-11B8A4274F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92160" y="1749600"/>
            <a:ext cx="9016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Update to 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April 15, 2009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04920" y="762120"/>
            <a:ext cx="853416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7000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5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a55"/>
                </a:solidFill>
                <a:latin typeface="Lucida Sans Unicode"/>
                <a:ea typeface="Lucida Sans Unicode"/>
              </a:rPr>
              <a:t>MarkeTrak – Conference Call April 2</a:t>
            </a:r>
            <a:r>
              <a:rPr b="1" lang="en-US" sz="3200" spc="-1" strike="noStrike" baseline="30000">
                <a:solidFill>
                  <a:srgbClr val="676a55"/>
                </a:solidFill>
                <a:latin typeface="Lucida Sans Unicode"/>
                <a:ea typeface="Lucida Sans Unicode"/>
              </a:rPr>
              <a:t>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Rectangle 3" descr=""/>
          <p:cNvPicPr/>
          <p:nvPr/>
        </p:nvPicPr>
        <p:blipFill>
          <a:blip r:embed="rId1"/>
          <a:stretch/>
        </p:blipFill>
        <p:spPr>
          <a:xfrm>
            <a:off x="371520" y="822240"/>
            <a:ext cx="8278920" cy="10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838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viewed the new suggestions that were submitted at the March 5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eeting for additional com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eived additional sugges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-date we have 37+ sugg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xt Step: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urrently there is a Phase 3 project on the PPL for 2009.  This is an ERCOT project for an upgrade to MarkeTrak.  The Taskforce  will have a conference call on April 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regarding the submitting an SCR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39484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b5353"/>
                </a:solidFill>
                <a:uFillTx/>
                <a:latin typeface="Lucida Sans Unicode"/>
                <a:hlinkClick r:id="rId1"/>
              </a:rPr>
              <a:t>http://www.ercot.com/services/client_svcs/mktrk_info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ser Gui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k Insert Templa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Workflow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Tips and Tric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rkeTrak API WSDL/XS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so direct link from MarkeTrak t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49816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MCj04042630000[1]"/>
          <p:cNvPicPr/>
          <p:nvPr/>
        </p:nvPicPr>
        <p:blipFill>
          <a:blip r:embed="rId1"/>
          <a:stretch/>
        </p:blipFill>
        <p:spPr>
          <a:xfrm>
            <a:off x="3652920" y="2897280"/>
            <a:ext cx="1838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9:55:41Z</dcterms:created>
  <dc:creator>00015621</dc:creator>
  <dc:description/>
  <dc:language>en-US</dc:language>
  <cp:lastModifiedBy>00017167</cp:lastModifiedBy>
  <dcterms:modified xsi:type="dcterms:W3CDTF">2009-04-14T21:49:26Z</dcterms:modified>
  <cp:revision>437</cp:revision>
  <dc:subject/>
  <dc:title>MarkeTrak Task Force</dc:title>
</cp:coreProperties>
</file>