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71E-DA3F-429A-B9CC-DC5B3E65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E86-3DC8-4FD2-9312-43583825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0E7-0327-4D8D-892C-3810A0ED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1C8-F4DD-49D8-A84F-E0E04487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D5365-775D-4B7D-B973-B3C94725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3F3A-FC1D-44AF-AE2D-F77D243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190A6-49F8-49D5-AE47-51A073E2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C9057-5603-4653-A4B5-A922C41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8A597-BB8C-4833-A153-3FD3B563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16DA5-9FDB-45DD-A301-1E402FC7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1F2CE-3FA7-4676-B636-03B7690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3A7-AD2D-46C4-A7C5-D91B4BEB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8745F-0DE3-4B49-A506-54820DE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87271-B9C9-4C8B-84AA-9087CD1F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6317-73C3-468B-A618-B87837B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0D1B6-40E9-4DE7-B9D7-98B2845B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E5857-8D1A-43BF-9EA6-6BE84FB4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446-25CF-4B37-B12C-917753C8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7C2-D67B-4E00-AF7B-BA07F3C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AC2-9345-4BA2-B37E-231D1E4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CA2-D1D9-48EF-80FF-DAC3826D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D93-501B-4723-8750-013220C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E6B-4E26-4371-836B-D11849C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A24-EF50-46C3-9335-CFA2D42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3962-6235-4F74-A51F-8B5A910B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A18-B1BC-4A2F-A61A-5FA0EB010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431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gency FB"/>
              </a:rPr>
              <a:t>Texas Test Plan T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33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April RMS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2743200" y="228600"/>
            <a:ext cx="3542760" cy="3351240"/>
            <a:chOff x="2743200" y="228600"/>
            <a:chExt cx="3542760" cy="3351240"/>
          </a:xfrm>
        </p:grpSpPr>
        <p:sp>
          <p:nvSpPr>
            <p:cNvPr id="88" name="AutoShape 8"/>
            <p:cNvSpPr/>
            <p:nvPr/>
          </p:nvSpPr>
          <p:spPr>
            <a:xfrm flipV="1">
              <a:off x="2982960" y="942120"/>
              <a:ext cx="3123000" cy="2637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3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4424040" y="228600"/>
              <a:ext cx="186840" cy="17928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AutoShape 10"/>
            <p:cNvSpPr/>
            <p:nvPr/>
          </p:nvSpPr>
          <p:spPr>
            <a:xfrm>
              <a:off x="3463200" y="524160"/>
              <a:ext cx="186840" cy="17928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AutoShape 11"/>
            <p:cNvSpPr/>
            <p:nvPr/>
          </p:nvSpPr>
          <p:spPr>
            <a:xfrm>
              <a:off x="5438880" y="524160"/>
              <a:ext cx="186840" cy="17928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AutoShape 12"/>
            <p:cNvSpPr/>
            <p:nvPr/>
          </p:nvSpPr>
          <p:spPr>
            <a:xfrm flipH="1" rot="5400000">
              <a:off x="3760560" y="3153960"/>
              <a:ext cx="1861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AutoShape 13"/>
            <p:cNvSpPr/>
            <p:nvPr/>
          </p:nvSpPr>
          <p:spPr>
            <a:xfrm flipH="1" rot="5400000">
              <a:off x="3004200" y="2380680"/>
              <a:ext cx="1897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 flipH="1" rot="5400000">
              <a:off x="2738520" y="1426320"/>
              <a:ext cx="18900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 flipH="1" rot="5400000">
              <a:off x="5201640" y="3100680"/>
              <a:ext cx="1861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 flipV="1">
              <a:off x="3463200" y="1181520"/>
              <a:ext cx="2162160" cy="191556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 flipH="1" rot="5400000">
              <a:off x="5947560" y="2380680"/>
              <a:ext cx="18972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 flipH="1" rot="5400000">
              <a:off x="6101280" y="1426320"/>
              <a:ext cx="189000" cy="1800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WordArt 19"/>
            <p:cNvSpPr txBox="1"/>
            <p:nvPr/>
          </p:nvSpPr>
          <p:spPr>
            <a:xfrm>
              <a:off x="2982960" y="1425240"/>
              <a:ext cx="3123000" cy="119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09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6600"/>
                    </a:solidFill>
                    <a:miter/>
                  </a:ln>
                  <a:solidFill>
                    <a:srgbClr val="000036"/>
                  </a:solidFill>
                  <a:effectLst>
                    <a:outerShdw dist="12600" dir="5400000" blurRad="0" rotWithShape="0">
                      <a:srgbClr val="ffffff"/>
                    </a:outerShdw>
                  </a:effectLst>
                  <a:latin typeface="Agency FB"/>
                </a:rPr>
                <a:t>TTPT</a:t>
              </a:r>
              <a:endParaRPr b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36"/>
                </a:solidFill>
                <a:effectLst>
                  <a:outerShdw dist="12600" dir="5400000" blurRad="0" rotWithShape="0">
                    <a:srgbClr val="ffffff"/>
                  </a:outerShdw>
                </a:effectLst>
                <a:latin typeface="Agency FB"/>
                <a:ea typeface="Agency FB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und Robin Testing for Non Release Te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DU will tested each new R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work load for all testing particip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Ad Hoc Testing requ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Iss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80880" y="1349280"/>
            <a:ext cx="84582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BCI Market Tes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es the change to the CBCI format requires a te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anges to the TMT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urrent Market Participant adds a New Additional DUNS by Certified RE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xt M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2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RCOT Met Center or Conference Call Depending on the age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balbracht</cp:lastModifiedBy>
  <dcterms:modified xsi:type="dcterms:W3CDTF">2009-04-13T20:27:44Z</dcterms:modified>
  <cp:revision>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5601426</vt:r8>
  </property>
</Properties>
</file>