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0BBE4AB-3BB0-4858-8CC0-BA736DD4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361643-0D70-4160-AB83-1F9D2A1D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BEAF93-7E44-422F-B169-BA23FF58C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6B4A2B-159B-4244-AFC7-739465DBB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6650260-2663-48D9-A7EC-3DB28A5D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BEB08D-16E8-4709-9B38-6B046C5A8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3E15FAE-E803-4643-89B1-416FA069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 2008 – 1,466 MarkeTrak issues log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60870FB-6923-4893-AC8A-612BB569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982123-C744-4910-8014-E1E6D94D4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71174E1-ED90-486D-8E81-0FE0D4E3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D80-9906-44D1-9D9D-8EDC4BBE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9FA-D22D-4539-AC24-FAE02BE3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2D4-DE9F-40F9-817B-8F32B326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E75-F382-4D0B-9BDF-1F5CCF32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06D-E79F-4A81-965B-801760A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A62-64F7-48CF-BEC1-F66C6011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3CB-1307-4BB6-B358-F5D463F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DC6-999B-4C94-B2E4-8FD10976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3478-AF11-4CA7-9F9E-4A6C6DBB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428-E0AB-4344-944C-445DB9BC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094-6D62-42FE-A77A-B94F90E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1B1-8E2B-4BA2-9A63-CECD1DC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0CC-1CED-4D77-9616-6DB51A35D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client_svcs/mktrk_inf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9A4-68F3-467D-80A0-FA745183B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s for improvements </a:t>
            </a:r>
            <a:br>
              <a:rPr sz="3600"/>
            </a:br>
            <a:br>
              <a:rPr sz="36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etail Customer Choice T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Issues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ime- most common Issue Types: Q4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0996-F5C3-4812-A77C-E4384DB6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hart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Times in MarkeTr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MarkeTrak Rolodex up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 Escalations- Once the issue has surpassed the time allotted the primary and secondary escalation contact of the Responsible MP will receive an email once a day until the issue is transitioned to another party or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ous emai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 - Cancel with Approval issue has not been transitioned within the 7 calendar days allo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sponsible MP’s escalation primary and secondary receives an email on day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transition on day 9 – another email is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transition on day 10 – another email is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email is sent every day until issue is tran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C0DD-4F3E-4648-8AFC-B69CF974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help m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the times lines in the MarkeTrak User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Overview – Section 1.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ercot.com/services/client_svcs/mktrk_inf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ff the initial MarkeTrak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the issue alive until you confirm it’s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E1B5-C0CF-4534-A81A-32A43F1A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Gaining and Losing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– Q4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,660 total IAG/IAL MarkeTrak issues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 distinct MPs submitted IAG/IAL issues and assigned them to 62 distinct 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Market Participants are required to coordinate a resolution to each valid IAG/IAL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ne of these issues requires an average of 19 days to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0F60-CB5F-4CB8-9EC2-346D99D1E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Down Arrow 5"/>
          <p:cNvSpPr/>
          <p:nvPr/>
        </p:nvSpPr>
        <p:spPr>
          <a:xfrm>
            <a:off x="7315200" y="3200400"/>
            <a:ext cx="1523880" cy="977760"/>
          </a:xfrm>
          <a:prstGeom prst="downArrow">
            <a:avLst>
              <a:gd name="adj1" fmla="val 4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Down Arrow 6"/>
          <p:cNvSpPr/>
          <p:nvPr/>
        </p:nvSpPr>
        <p:spPr>
          <a:xfrm>
            <a:off x="-1143000" y="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Gaining and Los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Incorrect or Invalid Transaction Date on the MarkeTrak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the Inadvertent Gain rules within the Retail Market Guide and MarkeTrak Users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 7.2 – Inadvertent Gai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49CD-8747-4FCB-9F7D-5C36FD9A3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460" t="61057" r="23360" b="11577"/>
          <a:stretch/>
        </p:blipFill>
        <p:spPr>
          <a:xfrm>
            <a:off x="1066680" y="3581280"/>
            <a:ext cx="617220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Down Arrow 6"/>
          <p:cNvSpPr/>
          <p:nvPr/>
        </p:nvSpPr>
        <p:spPr>
          <a:xfrm rot="16200000">
            <a:off x="3751920" y="37911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Gaining and Los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problems does it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ining transaction – Move In (814_16) is sent with same MVI date as the date of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at ERCOT and MarkeTrak issue has to be transitioned back to the beginning of the workflow or resub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ining transaction – Move In (814_16) is sent with date of loss + 1 day and the TDSP sends the meter read with the same date as date of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ERCOT Siebel 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different CR’s cannot be the rep of record as of the sam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itiated Issue is submitted to TDSP to clear exception and process is 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3BFC-6536-4869-AF25-C0160620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vertent Gaining and Los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hel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the Inadvertent Ga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l Market Guide – Section 7.2 / MarkeTrak User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e of loss + 1 or any day in the future no greater than fifteen (15) days past the date the MarkeTrak issue was logged and no more than 150 days in the 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regaining transaction – Move In (814_16) with the correct regain date  agreed upon in the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TML (Texas Market 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the Gaining CR’s service order in TML for the date of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6A6-6F3E-47D1-B318-E81846F9A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send all required 997s with all data elements in a timely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update MarkeTrak issue in a timely manner and keep your companies contact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ollow the guidelines in the Retail Market Guide – Section 7 for Inadvertent Gains and the workflow in the MarkeTrak User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your Retail Account Manager for training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MarkeTrak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ne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gust 27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mber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7DD-7D2B-43B7-8B0B-65E79FF05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C609-EA7F-4F69-9C94-0E2A5D099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Customer Choice (RCC) conducted some analysis on high volume exceptions and issues to identify potential training opportunities and effici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rak Tr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9AB-901B-425C-9B85-99073A3D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S00651_"/>
          <p:cNvPicPr/>
          <p:nvPr/>
        </p:nvPicPr>
        <p:blipFill>
          <a:blip r:embed="rId1"/>
          <a:stretch/>
        </p:blipFill>
        <p:spPr>
          <a:xfrm>
            <a:off x="2438280" y="251460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4920" y="1371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97 – Functional Acknowledgm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WordArt 8"/>
          <p:cNvSpPr txBox="1"/>
          <p:nvPr/>
        </p:nvSpPr>
        <p:spPr>
          <a:xfrm rot="963600">
            <a:off x="2128320" y="2538360"/>
            <a:ext cx="7858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Right Brace 8"/>
          <p:cNvSpPr/>
          <p:nvPr/>
        </p:nvSpPr>
        <p:spPr>
          <a:xfrm>
            <a:off x="4952880" y="365760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6629400" y="21337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DS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WordArt 7"/>
          <p:cNvSpPr txBox="1"/>
          <p:nvPr/>
        </p:nvSpPr>
        <p:spPr>
          <a:xfrm rot="1317000">
            <a:off x="3158640" y="5223960"/>
            <a:ext cx="763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593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RC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1219320" y="350532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6629400" y="289548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572000" y="579132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7086600" y="32004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676520" y="388620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895480" y="220968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7467480" y="350532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67_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7467480" y="27432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67_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5410080" y="59436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7238880" y="38862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4267080" y="61722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5562720" y="548640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838080" y="41148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1600200" y="48006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1752480" y="43434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4_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5486400" y="2286000"/>
            <a:ext cx="99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tencil"/>
              </a:rPr>
              <a:t>810_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7391520" y="243828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3733920" y="594360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1447920" y="3048120"/>
            <a:ext cx="99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8BD-FDC2-4265-99A3-406879CA2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from the receiver to the sender of an .edi transaction to  acknowledge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rotocol Section 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, TDSP, or ERCOT shall respond with a 997 within 24 hours of receipt of an inbound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l parties must send Functional Acknowledgements (FA/997) for all EDI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we do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January ERCOT had 12.6% of 997s not successfully recei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count of outgoing transactions                  8,912,3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count of 997s not processed inbound        1,126,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COT has found a significant # of 997s received that did not have all the data elements corresponding to the outgoing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664-04B0-4A71-8F3A-E937B3EC1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4408-18B4-4CD1-99B9-163C9D312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7 Functional Acknowled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successfully receive and process a 997 is the first indication of missing enrollments, usage, system issue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997s CRs, TDSPs and/or ERCOT are missing a critical audit t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help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997s produced contain the correct data elements and match the transaction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eports can be utilized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ng 997 Repo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posted da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B32-73E9-4CAD-8F81-7E94E537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997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0F9-3D22-4E26-B773-8EA3E1804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BS00651_"/>
          <p:cNvPicPr/>
          <p:nvPr/>
        </p:nvPicPr>
        <p:blipFill>
          <a:blip r:embed="rId1"/>
          <a:stretch/>
        </p:blipFill>
        <p:spPr>
          <a:xfrm>
            <a:off x="2438280" y="251460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80880" y="1371600"/>
            <a:ext cx="86108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arkeTr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8"/>
          <p:cNvSpPr txBox="1"/>
          <p:nvPr/>
        </p:nvSpPr>
        <p:spPr>
          <a:xfrm rot="963600">
            <a:off x="2128320" y="2538360"/>
            <a:ext cx="785880" cy="4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Right Brace 8"/>
          <p:cNvSpPr/>
          <p:nvPr/>
        </p:nvSpPr>
        <p:spPr>
          <a:xfrm>
            <a:off x="4952880" y="3657600"/>
            <a:ext cx="155520" cy="914400"/>
          </a:xfrm>
          <a:custGeom>
            <a:avLst/>
            <a:gdLst>
              <a:gd name="textAreaLeft" fmla="*/ 0 w 155520"/>
              <a:gd name="textAreaRight" fmla="*/ 5616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6629400" y="21337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DS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WordArt 7"/>
          <p:cNvSpPr txBox="1"/>
          <p:nvPr/>
        </p:nvSpPr>
        <p:spPr>
          <a:xfrm rot="1317000">
            <a:off x="3158640" y="5223960"/>
            <a:ext cx="7635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593"/>
              </a:avLst>
            </a:prstTxWarp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RC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114800" y="5715000"/>
            <a:ext cx="990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1600200" y="4495680"/>
            <a:ext cx="1219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IAG - G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219320" y="3886200"/>
            <a:ext cx="1218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IAG - 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781680" y="2743200"/>
            <a:ext cx="990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1600200" y="3048120"/>
            <a:ext cx="990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tencil"/>
              </a:rPr>
              <a:t>997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CAF5-4917-4F6D-A7F7-8D93ED07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85800" y="304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rak Issues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– Q4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1,457 total MarkeTrak issues sub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distinct MPs submitted issues and they were assigned to 111 distinct 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MarkeTrak Issue sub-types are submitted for one discrep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when an issue is not promptly acknowledged the Submitting MP will log another issue (of the same or different sub-type) to get the discrepancy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fcortez</cp:lastModifiedBy>
  <cp:lastPrinted>2002-09-24T18:27:58Z</cp:lastPrinted>
  <dcterms:modified xsi:type="dcterms:W3CDTF">2009-04-07T14:39:54Z</dcterms:modified>
  <cp:revision>773</cp:revision>
  <dc:subject/>
  <dc:title>PowerPoint Presentation</dc:title>
</cp:coreProperties>
</file>