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A76EB-7901-4FF0-86F1-A0C67020B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36C07-CA13-457E-84B5-42FB5838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D815A-DFA4-4091-BBB5-6D960E589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470D5-FB38-4326-AD4B-F23FBA2BB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BA38D-953A-4746-AC86-66A8E831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780E0-9D89-4102-9CA2-4C515894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BD2E0-6A0B-4EB9-BC00-715B552C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D56D2-9E3A-4922-A238-3F620A30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362C6-A728-4A19-8BD0-293BE460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0A144-4263-473A-991F-766FDB54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74001-3D54-4E52-8ED5-85723073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75317-6EE0-4E70-980C-04111AC3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D957-115E-465B-BF9B-72074206D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0801-96F9-49B4-99B6-C22AEC3ED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28880" y="1904760"/>
            <a:ext cx="637704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010 Project Prioritizatio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38240" y="3580920"/>
            <a:ext cx="5757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roy Anders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Program Management Offic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pril 2009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0 Project Prioritization Schedul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ril 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Ts develop draft 2010 project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est and incorporate input from the mar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 year project forecast referenced and upd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review at Market Subcommittee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y 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y 1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y 14 / May 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e 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 by market subcommitt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une 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une 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une 11 / June 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, IO, MO, RO, SO – P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une 1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ly 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 by T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uly 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for F&amp;A and Board re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uly 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80FF4-CFD1-4545-864C-ADDBD61816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0 Project Prioritization – Additional Elemen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hanced Information on Funding and Project Prioritization Will Be Provided as We Move Through the Review and Approval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to feedback from 2008 ERCOT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nyone has specific requests in this area please bring them for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derson@erco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BA Rev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neration version of form to be intro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ous enhancements identified over the past 2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s highlighting if a project is due to a legislative or PUCT policy requi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d CBA training materials being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3FDEC-6455-4E89-AF2E-94FB8C9430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0 Project Priorit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601956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03944-2521-4A82-8E1C-90F0835FD3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roy Anderson</cp:lastModifiedBy>
  <dcterms:modified xsi:type="dcterms:W3CDTF">2009-04-12T17:49:08Z</dcterms:modified>
  <cp:revision>228</cp:revision>
  <dc:subject/>
  <dc:title>Instructions</dc:title>
</cp:coreProperties>
</file>