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4F143-5F27-49BC-AE1D-231570500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D9B7-EE63-4534-80EE-83B5138A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DCB48-CF5B-4B9C-8AB3-39D510C4B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AEE02-E81C-426D-8BCC-DC0C68704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82F2E-1EB7-4EDA-9769-276C78B21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3FFE2-2FB8-4700-87E2-31F5E75DF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39AA-7A4E-4FA3-819D-CECFA3252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B432-9B55-498D-8111-A955D9964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7633-080E-4A6F-924B-035CE5F4E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DD950-08FD-47CF-9B49-BB033750B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19A4-E265-42F4-B45D-A45219788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AFC0-F5D5-4B1D-96C0-472A6C61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0D938-9ECE-4501-AF0B-3D1339203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C2B0-89D2-49E9-BFBA-5686B9806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CF36-FB39-43E9-A468-0AFFC9A42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27D25-0CC3-4A02-9F66-CEA350166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85CEF-3000-4F91-9E4F-43BF4629F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72D6B-3454-4095-8F5E-8850FE82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78389-DAC6-4A39-A1D6-7A7BA80D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9798C-4249-4B0D-8408-42153AA4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FC610-20A1-48A3-94A2-6BF42515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0B5FE-959E-4990-9375-2FF454CD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DD93-A8A2-4B25-BF1B-9213685C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98CC-1D27-40AC-9379-587AB17EC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c721f"/>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2" name="Freeform 4"/>
            <p:cNvSpPr/>
            <p:nvPr/>
          </p:nvSpPr>
          <p:spPr>
            <a:xfrm>
              <a:off x="7305840" y="6372360"/>
              <a:ext cx="18720" cy="284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3" name="Freeform 5"/>
            <p:cNvSpPr/>
            <p:nvPr/>
          </p:nvSpPr>
          <p:spPr>
            <a:xfrm>
              <a:off x="7296120" y="6343560"/>
              <a:ext cx="9720" cy="288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4" name="Freeform 6"/>
            <p:cNvSpPr/>
            <p:nvPr/>
          </p:nvSpPr>
          <p:spPr>
            <a:xfrm>
              <a:off x="8223120" y="5678640"/>
              <a:ext cx="482760" cy="11761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 name="Freeform 7"/>
            <p:cNvSpPr/>
            <p:nvPr/>
          </p:nvSpPr>
          <p:spPr>
            <a:xfrm>
              <a:off x="7807320" y="5640480"/>
              <a:ext cx="498600" cy="1217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 name="Freeform 8"/>
            <p:cNvSpPr/>
            <p:nvPr/>
          </p:nvSpPr>
          <p:spPr>
            <a:xfrm>
              <a:off x="7461360" y="5869080"/>
              <a:ext cx="436320" cy="9889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 name="Freeform 9"/>
            <p:cNvSpPr/>
            <p:nvPr/>
          </p:nvSpPr>
          <p:spPr>
            <a:xfrm>
              <a:off x="7178760" y="5888160"/>
              <a:ext cx="338040" cy="969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8" name="Freeform 10"/>
            <p:cNvSpPr/>
            <p:nvPr/>
          </p:nvSpPr>
          <p:spPr>
            <a:xfrm>
              <a:off x="6813720" y="6248520"/>
              <a:ext cx="264960" cy="6094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9" name="Freeform 11"/>
            <p:cNvSpPr/>
            <p:nvPr/>
          </p:nvSpPr>
          <p:spPr>
            <a:xfrm>
              <a:off x="6508800" y="6381720"/>
              <a:ext cx="263520" cy="4762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0" name="Freeform 12"/>
            <p:cNvSpPr/>
            <p:nvPr/>
          </p:nvSpPr>
          <p:spPr>
            <a:xfrm>
              <a:off x="6207120" y="6410160"/>
              <a:ext cx="376200" cy="447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1" name="Freeform 13"/>
            <p:cNvSpPr/>
            <p:nvPr/>
          </p:nvSpPr>
          <p:spPr>
            <a:xfrm>
              <a:off x="5832360" y="6486480"/>
              <a:ext cx="311400" cy="371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2" name="Freeform 14"/>
            <p:cNvSpPr/>
            <p:nvPr/>
          </p:nvSpPr>
          <p:spPr>
            <a:xfrm>
              <a:off x="5518080" y="6458040"/>
              <a:ext cx="301680" cy="39996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3" name="Freeform 15"/>
            <p:cNvSpPr/>
            <p:nvPr/>
          </p:nvSpPr>
          <p:spPr>
            <a:xfrm>
              <a:off x="5032440" y="6648480"/>
              <a:ext cx="365040" cy="209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4" name="Freeform 16"/>
            <p:cNvSpPr/>
            <p:nvPr/>
          </p:nvSpPr>
          <p:spPr>
            <a:xfrm>
              <a:off x="4832280" y="6696000"/>
              <a:ext cx="141480" cy="1620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 name="Freeform 17"/>
            <p:cNvSpPr/>
            <p:nvPr/>
          </p:nvSpPr>
          <p:spPr>
            <a:xfrm>
              <a:off x="8702640" y="5345280"/>
              <a:ext cx="441360" cy="15127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46EA-F916-48B4-90D8-32393E493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c721f"/>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9" name="Freeform 4"/>
            <p:cNvSpPr/>
            <p:nvPr/>
          </p:nvSpPr>
          <p:spPr>
            <a:xfrm>
              <a:off x="7305840" y="6372360"/>
              <a:ext cx="18720" cy="284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60" name="Freeform 5"/>
            <p:cNvSpPr/>
            <p:nvPr/>
          </p:nvSpPr>
          <p:spPr>
            <a:xfrm>
              <a:off x="7296120" y="6343560"/>
              <a:ext cx="9720" cy="288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61" name="Freeform 6"/>
            <p:cNvSpPr/>
            <p:nvPr/>
          </p:nvSpPr>
          <p:spPr>
            <a:xfrm>
              <a:off x="8223120" y="5678640"/>
              <a:ext cx="482760" cy="11761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2" name="Freeform 7"/>
            <p:cNvSpPr/>
            <p:nvPr/>
          </p:nvSpPr>
          <p:spPr>
            <a:xfrm>
              <a:off x="7807320" y="5640480"/>
              <a:ext cx="498600" cy="1217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3" name="Freeform 8"/>
            <p:cNvSpPr/>
            <p:nvPr/>
          </p:nvSpPr>
          <p:spPr>
            <a:xfrm>
              <a:off x="7461360" y="5869080"/>
              <a:ext cx="436320" cy="9889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4" name="Freeform 9"/>
            <p:cNvSpPr/>
            <p:nvPr/>
          </p:nvSpPr>
          <p:spPr>
            <a:xfrm>
              <a:off x="7178760" y="5888160"/>
              <a:ext cx="338040" cy="969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5" name="Freeform 10"/>
            <p:cNvSpPr/>
            <p:nvPr/>
          </p:nvSpPr>
          <p:spPr>
            <a:xfrm>
              <a:off x="6813720" y="6248520"/>
              <a:ext cx="264960" cy="6094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6" name="Freeform 11"/>
            <p:cNvSpPr/>
            <p:nvPr/>
          </p:nvSpPr>
          <p:spPr>
            <a:xfrm>
              <a:off x="6508800" y="6381720"/>
              <a:ext cx="263520" cy="4762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7" name="Freeform 12"/>
            <p:cNvSpPr/>
            <p:nvPr/>
          </p:nvSpPr>
          <p:spPr>
            <a:xfrm>
              <a:off x="6207120" y="6410160"/>
              <a:ext cx="376200" cy="447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8" name="Freeform 13"/>
            <p:cNvSpPr/>
            <p:nvPr/>
          </p:nvSpPr>
          <p:spPr>
            <a:xfrm>
              <a:off x="5832360" y="6486480"/>
              <a:ext cx="311400" cy="371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9" name="Freeform 14"/>
            <p:cNvSpPr/>
            <p:nvPr/>
          </p:nvSpPr>
          <p:spPr>
            <a:xfrm>
              <a:off x="5518080" y="6458040"/>
              <a:ext cx="301680" cy="39996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0" name="Freeform 15"/>
            <p:cNvSpPr/>
            <p:nvPr/>
          </p:nvSpPr>
          <p:spPr>
            <a:xfrm>
              <a:off x="5032440" y="6648480"/>
              <a:ext cx="365040" cy="209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1" name="Freeform 16"/>
            <p:cNvSpPr/>
            <p:nvPr/>
          </p:nvSpPr>
          <p:spPr>
            <a:xfrm>
              <a:off x="4832280" y="6696000"/>
              <a:ext cx="141480" cy="1620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2" name="Freeform 17"/>
            <p:cNvSpPr/>
            <p:nvPr/>
          </p:nvSpPr>
          <p:spPr>
            <a:xfrm>
              <a:off x="8702640" y="5345280"/>
              <a:ext cx="441360" cy="15127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46FC-1705-4339-B10E-18BB932F0478}" type="slidenum">
              <a:rPr b="0" lang="en-US" sz="1200" spc="-1" strike="noStrike">
                <a:solidFill>
                  <a:srgbClr val="e6e6d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flipV="1">
            <a:off x="0" y="2057040"/>
            <a:ext cx="8534520" cy="76320"/>
          </a:xfrm>
          <a:prstGeom prst="rect">
            <a:avLst/>
          </a:prstGeom>
          <a:gradFill rotWithShape="0">
            <a:gsLst>
              <a:gs pos="0">
                <a:srgbClr val="ffcc00">
                  <a:alpha val="92156"/>
                </a:srgbClr>
              </a:gs>
              <a:gs pos="100000">
                <a:srgbClr val="0c721f"/>
              </a:gs>
            </a:gsLst>
            <a:lin ang="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15" name="WordArt 6"/>
          <p:cNvSpPr txBox="1"/>
          <p:nvPr/>
        </p:nvSpPr>
        <p:spPr>
          <a:xfrm>
            <a:off x="1295280" y="2133720"/>
            <a:ext cx="3429000" cy="6476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____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
        <p:nvSpPr>
          <p:cNvPr id="116" name="WordArt 4"/>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flipV="1">
            <a:off x="228600" y="914040"/>
            <a:ext cx="830592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42" name="WordArt 3"/>
          <p:cNvSpPr txBox="1"/>
          <p:nvPr/>
        </p:nvSpPr>
        <p:spPr>
          <a:xfrm>
            <a:off x="152280" y="228600"/>
            <a:ext cx="59436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___  ___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pic>
        <p:nvPicPr>
          <p:cNvPr id="143" name="Picture 5" descr=""/>
          <p:cNvPicPr/>
          <p:nvPr/>
        </p:nvPicPr>
        <p:blipFill>
          <a:blip r:embed="rId1"/>
          <a:stretch/>
        </p:blipFill>
        <p:spPr>
          <a:xfrm>
            <a:off x="439560" y="1143000"/>
            <a:ext cx="7790040" cy="536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52280" y="89856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18" name="WordArt 3"/>
          <p:cNvSpPr txBox="1"/>
          <p:nvPr/>
        </p:nvSpPr>
        <p:spPr>
          <a:xfrm>
            <a:off x="152280" y="228600"/>
            <a:ext cx="495324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  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19" name="Rectangle 5"/>
          <p:cNvSpPr/>
          <p:nvPr/>
        </p:nvSpPr>
        <p:spPr>
          <a:xfrm>
            <a:off x="228600" y="560520"/>
            <a:ext cx="8381880" cy="6607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passed all PRRs recommended by TAC as described below:</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4  Delete Use of Boundary Generation Resources to Resolve CRE Conges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5  Timing Required for Black Start Unit Load Carrying Test</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6  Modifications to EILS Settlement</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dditionally, the Board approved a PRR without a TAC recommenda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76  Automatic MCPE Adjustment During Intervals of Non-Spinning Reserve Service</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Deployment</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he last “stand-alone” version of the PRR voted upon by TAC with technical</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amendments by the Board.  The Board action report containing the final approved language is included in your meeting packet for ease of reference.  It is the opinion of ERCOT legal that PRR 776 is no longer tabled at TAC and so it has been removed from our agenda.</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lso voted, but failed to approve, another PRR without a TAC recommenda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91  Shortage Pricing Mechanism</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Subsequent to the adoption of PRR 776, the Board considered a motion to approve PRR 791.  The motion failed.  It is the opinion of ERCOT Legal that PRR 791, therefore, remains tabled at TAC and is eligible for action at our April 9 meeting.</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odal Protocol Revision Requests</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wo NPRRs as described below:</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35  Deletion of UFE Analysis Zone Language</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61  Clarification of Establishing Decision Making Authority of Managed Capacity</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with Board amendments to establish consistent use of the Resource owner’s “declaration” of ownership or control.  The Baord Action Report is included in your meeting packet for ease of reference.</a:t>
            </a:r>
            <a:endParaRPr b="0" lang="en-US" sz="1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04920" y="868320"/>
            <a:ext cx="8229600" cy="12240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e6e6da"/>
              </a:solidFill>
              <a:latin typeface="Verdana"/>
            </a:endParaRPr>
          </a:p>
        </p:txBody>
      </p:sp>
      <p:sp>
        <p:nvSpPr>
          <p:cNvPr id="121" name="Rectangle 8"/>
          <p:cNvSpPr/>
          <p:nvPr/>
        </p:nvSpPr>
        <p:spPr>
          <a:xfrm>
            <a:off x="228600" y="756720"/>
            <a:ext cx="8381880" cy="603540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buClr>
                <a:srgbClr val="e6e6da"/>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Oversee stakeholder engagement in the ERCOT nodal market implementation program and ensure the activities of TAC and its subgroups are properly focused on delivering the nodal project by its intended Go-Live date; that Market Participant Readiness is communicated to the Board of Directors; and that post-Go-Live issues are properly framed and ready to be addressed after nodal market open.</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buClr>
                <a:srgbClr val="e6e6da"/>
              </a:buClr>
              <a:buFont typeface="Bradley Hand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Develop a renewable technologies integration plan which captures the benefits of new energy resources while addressing the challenges such resources pose and economically maintaining system reliability.</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3.  Focus on transmission congestion and the related economic and reliability issues through frequent communication between ERCOT Staff, Regional Planning Group, the TAC, and TAC Subcommittees regarding observed instances of transmission congestion, the causes of congestion, and proposed solutions.  Evaluate the process by which congestion events and associated market impacts are communicated and analyzed to ensure TAC is effectively addressing congestion issues.</a:t>
            </a:r>
            <a:endParaRPr b="0" lang="en-US" sz="1800" spc="-1" strike="noStrike">
              <a:solidFill>
                <a:srgbClr val="e6e6da"/>
              </a:solidFill>
              <a:latin typeface="Verdana"/>
            </a:endParaRPr>
          </a:p>
        </p:txBody>
      </p:sp>
      <p:pic>
        <p:nvPicPr>
          <p:cNvPr id="122" name="Rectangle 4" descr=""/>
          <p:cNvPicPr/>
          <p:nvPr/>
        </p:nvPicPr>
        <p:blipFill>
          <a:blip r:embed="rId1"/>
          <a:stretch/>
        </p:blipFill>
        <p:spPr>
          <a:xfrm>
            <a:off x="225360" y="79200"/>
            <a:ext cx="5432400" cy="9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9"/>
          <p:cNvSpPr/>
          <p:nvPr/>
        </p:nvSpPr>
        <p:spPr>
          <a:xfrm flipV="1">
            <a:off x="228600" y="914040"/>
            <a:ext cx="830592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24" name="Text Box 5"/>
          <p:cNvSpPr/>
          <p:nvPr/>
        </p:nvSpPr>
        <p:spPr>
          <a:xfrm>
            <a:off x="228600" y="1219320"/>
            <a:ext cx="9296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25" name="Rectangle 7"/>
          <p:cNvSpPr/>
          <p:nvPr/>
        </p:nvSpPr>
        <p:spPr>
          <a:xfrm>
            <a:off x="304920" y="987840"/>
            <a:ext cx="8610480" cy="5852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otocol Revision Request (PRR)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68: TDSP Energy Storage for Reliability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97: Removal of Reference to ERCOT Business Process</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3: Revised Implementation Approach for PRR601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the following systems: EMMS, EDW, Market Database, and LodeStar</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recomendation that it should be implemented no later than six months of “Board Approval”</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4: Revisions to Section 21 Appeal Process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ERCOT comments</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dal Protocol Revision Request (NPRR)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9: Change the name of Emergency Electric Curtailment Plan (EECP) to Energy Emergency Alert (EEA)</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EMMS</a:t>
            </a:r>
            <a:r>
              <a:rPr b="1" lang="en-US" sz="2000" spc="-1" strike="noStrike">
                <a:solidFill>
                  <a:srgbClr val="e6e6da"/>
                </a:solidFill>
                <a:latin typeface="Bradley Hand ITC"/>
              </a:rPr>
              <a:t> </a:t>
            </a:r>
            <a:endParaRPr b="0" lang="en-US" sz="20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radley Hand ITC"/>
              </a:rPr>
              <a:t>APPROVED</a:t>
            </a:r>
            <a:endParaRPr b="0" lang="en-US" sz="2000" spc="-1" strike="noStrike">
              <a:solidFill>
                <a:srgbClr val="e6e6da"/>
              </a:solidFill>
              <a:latin typeface="Verdan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6e6da"/>
              </a:solidFill>
              <a:latin typeface="Verdana"/>
            </a:endParaRPr>
          </a:p>
        </p:txBody>
      </p:sp>
      <p:sp>
        <p:nvSpPr>
          <p:cNvPr id="126" name="WordArt 8"/>
          <p:cNvSpPr txBox="1"/>
          <p:nvPr/>
        </p:nvSpPr>
        <p:spPr>
          <a:xfrm>
            <a:off x="152280" y="228600"/>
            <a:ext cx="45720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_  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9"/>
          <p:cNvSpPr/>
          <p:nvPr/>
        </p:nvSpPr>
        <p:spPr>
          <a:xfrm flipV="1">
            <a:off x="152280" y="914040"/>
            <a:ext cx="838224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28" name="Rectangle 4"/>
          <p:cNvSpPr/>
          <p:nvPr/>
        </p:nvSpPr>
        <p:spPr>
          <a:xfrm>
            <a:off x="152280" y="1002600"/>
            <a:ext cx="8382240" cy="5761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COP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09, Planned Scheduled Release and Planned Maintenance Outage Notification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10, Creating Section 12, Renewable Energy Credits</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Was not written to replace Section 14, was written to compliment </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S Procedure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RM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RMS Procedures to remove Market Metrics Working Group</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WM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SCR754, WGRPP Forecasts Posted on Zonal TML</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Market Credit Risk Standard </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7 (Day Ahead Market Short Pay)</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eeds to be approved soon to be available for Nodal Go Live, WMS awaiting drop dead date from ERCOT</a:t>
            </a:r>
            <a:endParaRPr b="0" lang="en-US" sz="1800" spc="-1" strike="noStrike">
              <a:solidFill>
                <a:srgbClr val="e6e6da"/>
              </a:solidFill>
              <a:latin typeface="Verdana"/>
            </a:endParaRPr>
          </a:p>
        </p:txBody>
      </p:sp>
      <p:sp>
        <p:nvSpPr>
          <p:cNvPr id="129" name="WordArt 8"/>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_______  _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flipV="1">
            <a:off x="152280" y="91404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31" name="Rectangle 3"/>
          <p:cNvSpPr/>
          <p:nvPr/>
        </p:nvSpPr>
        <p:spPr>
          <a:xfrm>
            <a:off x="152280" y="918000"/>
            <a:ext cx="8382240" cy="475524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6e6da"/>
                </a:solidFill>
                <a:uFillTx/>
                <a:latin typeface="Bradley Hand ITC"/>
              </a:rPr>
              <a:t>ROS</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SCR753, Transmission Outage Notice Detail Enhancement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TAC Discussion: Would ROS want similar enhancement in Nodal?  ROS answer was “yes”, but did not want to delay Nodal</a:t>
            </a:r>
            <a:endParaRPr b="0" lang="en-US" sz="24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radley Hand ITC"/>
              </a:rPr>
              <a:t>APPROVED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Regional Planning Group Charter Update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GRR025, Monitoring Programs for QSEs, TSPs, and ERCOT, Update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ERCOT Generation Interconnection Proces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Increased concern over congestion caused by new generation interconnection</a:t>
            </a:r>
            <a:endParaRPr b="0" lang="en-US" sz="2400" spc="-1" strike="noStrike">
              <a:solidFill>
                <a:srgbClr val="e6e6da"/>
              </a:solidFill>
              <a:latin typeface="Verdana"/>
            </a:endParaRPr>
          </a:p>
        </p:txBody>
      </p:sp>
      <p:sp>
        <p:nvSpPr>
          <p:cNvPr id="132" name="WordArt 4"/>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_______  _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flipV="1">
            <a:off x="152280" y="914040"/>
            <a:ext cx="838224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34" name="WordArt 3"/>
          <p:cNvSpPr txBox="1"/>
          <p:nvPr/>
        </p:nvSpPr>
        <p:spPr>
          <a:xfrm>
            <a:off x="152280" y="152280"/>
            <a:ext cx="4572000" cy="8384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  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5" name="Rectangle 7"/>
          <p:cNvSpPr/>
          <p:nvPr/>
        </p:nvSpPr>
        <p:spPr>
          <a:xfrm>
            <a:off x="152280" y="1001880"/>
            <a:ext cx="8382240" cy="6419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f3f2d9"/>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3f2d9"/>
                </a:solidFill>
                <a:uFillTx/>
                <a:latin typeface="Bradley Hand ITC"/>
              </a:rPr>
              <a:t>Revised</a:t>
            </a:r>
            <a:r>
              <a:rPr b="1" lang="en-US" sz="2400" spc="-1" strike="noStrike">
                <a:solidFill>
                  <a:srgbClr val="ff0000"/>
                </a:solidFill>
                <a:latin typeface="Bradley Hand ITC"/>
              </a:rPr>
              <a:t> </a:t>
            </a:r>
            <a:r>
              <a:rPr b="1" lang="en-US" sz="2400" spc="-1" strike="noStrike">
                <a:solidFill>
                  <a:srgbClr val="e6e6da"/>
                </a:solidFill>
                <a:latin typeface="Bradley Hand ITC"/>
              </a:rPr>
              <a:t>Nodal Program Timeline (Appendix Item: A)</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Questions about Nodal Testing identifying issue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a:t>
            </a:r>
            <a:r>
              <a:rPr b="1" lang="en-US" sz="2400" spc="-1" strike="noStrike">
                <a:solidFill>
                  <a:srgbClr val="e6e6da"/>
                </a:solidFill>
                <a:latin typeface="Bradley Hand ITC"/>
              </a:rPr>
              <a:t>Will testing identify if the system fits  the Nodal Protocols?”</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Focus on resources associated with Nodal</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rket Participant Readines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ore questions than answers, but ERCOT is working to get those to TAC</a:t>
            </a: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en do formalized processes need to be up and running?</a:t>
            </a: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at do we need to get MPs ready?  (Technical or Process related)</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dal Implementation Advisory Board (NIAB)</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3"/>
          <p:cNvSpPr txBox="1"/>
          <p:nvPr/>
        </p:nvSpPr>
        <p:spPr>
          <a:xfrm>
            <a:off x="152280" y="228600"/>
            <a:ext cx="5029200" cy="60948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____  __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7" name="Rectangle 4"/>
          <p:cNvSpPr/>
          <p:nvPr/>
        </p:nvSpPr>
        <p:spPr>
          <a:xfrm>
            <a:off x="152280" y="86832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38" name="Rectangle 5"/>
          <p:cNvSpPr/>
          <p:nvPr/>
        </p:nvSpPr>
        <p:spPr>
          <a:xfrm>
            <a:off x="152280" y="1037880"/>
            <a:ext cx="8382240" cy="407412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2010 PPL Process</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CARTS are being developed</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y we will have Initial review</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June approval will be sought</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er the ERCOT survey, interest in understanding PPL by the market</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RR791: Shortage Price Mechanism</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as not formerly rejected by the Board, was tabled “pending Commission action.”  There was no significant discussion</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flipV="1">
            <a:off x="304920" y="2057040"/>
            <a:ext cx="8229600" cy="76320"/>
          </a:xfrm>
          <a:prstGeom prst="rect">
            <a:avLst/>
          </a:prstGeom>
          <a:gradFill rotWithShape="0">
            <a:gsLst>
              <a:gs pos="0">
                <a:srgbClr val="ffcc00">
                  <a:alpha val="92156"/>
                </a:srgbClr>
              </a:gs>
              <a:gs pos="100000">
                <a:srgbClr val="0c721f"/>
              </a:gs>
            </a:gsLst>
            <a:lin ang="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40" name="WordArt 4"/>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_______</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45:54Z</dcterms:created>
  <dc:creator>Windows XP ver. 2.2</dc:creator>
  <dc:description/>
  <dc:language>en-US</dc:language>
  <cp:lastModifiedBy>trenarym</cp:lastModifiedBy>
  <dcterms:modified xsi:type="dcterms:W3CDTF">2009-04-13T16:43:50Z</dcterms:modified>
  <cp:revision>29</cp:revision>
  <dc:subject/>
  <dc:title>Slide 1</dc:title>
</cp:coreProperties>
</file>