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66E-CDC1-4F59-9263-76BDD7DB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F6A-9E55-4A63-AAFF-7CC94A4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F51-A06F-4067-8C6A-604904B7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A3A-98DA-474A-85D0-74D64CE1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EE4-601B-4A19-8C0C-56AF3AC2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DAD-9E88-4455-943E-FA85B31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02D1-17B6-4C3A-8D4E-85AED8CE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665-5577-41CB-B673-3FF01AF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769D-5F70-44FA-BACE-0F293C3F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004A-2678-4DCC-88DE-5E1D440C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EFE-DBBE-4F81-B834-FF9F6E98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3C8-0838-47CB-9CCA-4954438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293-9118-47E1-8514-382E586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0A69-4F8D-4DE7-9202-1A77979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A5B-35A8-4E0E-B22E-BC94FD5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E750-36BD-40D1-99B5-53DB0387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2899-5231-40B9-B12D-B2BF2D9F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1EF-B7AA-43FB-8C15-F86FE4BF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22E-35FC-4A44-A1D3-21FD3322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B3B-7695-4AFD-BDF0-9FA80FE9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3F6-FA64-4348-BA37-8B33E3A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D57-011E-4879-BC5B-A9CA93F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485-F1C0-41BC-BA3E-7FABE9A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4C8-C65C-4271-9D17-8B91D0D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80C-D6AB-496F-A593-79AC1E579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A90-3A0D-440A-97AD-63A3DD828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4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 755, ERCOT Website Improvements (COPS Voting I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by other Sub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approved Comments submitted by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 includes a list of improvements to be made to the ERCOT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mprovements were created as a result of the 2008 Market Participan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Communications and ERCOT Website Focus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will assist ERCOT in the development of a survey that will focus on the ERCOT Website, ERCOT.com, to gather more specif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WG will assist ERCOT in the development of a survey that will focus on the ERCOT Communications to MPs to gather more specif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 011, Updates to include the implementation of Project Number 70006-02 Website Enhancements for ERCOT Ou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Analysis to be reviewed at CCWG April 2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 012, Disputes and Data Extract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mment Period, to be considered at CCWG April 2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 013, Update to Section 3, Organizational Structu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Comment Period, to be considered at CCWG April 28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 Nodal Transition Assignment to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Presentation for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has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that COPS has time to handle Nodal Issues associated with Commerci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Working Groups and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Nodal Protocols in which COPS should b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Presentation to COPS and TAC Leadership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Rules will assist in bringing NPRRs impacting Commercial Operations to COPS/SEWG’s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, Commercial System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n hold, waiting on Nodal update to ERCOT Market Gu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urrently reviewing Load Aggreg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8, Settlement Statement and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der review by ERCOT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9, Short Pay and Market Participant Defaul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RCOT Settlements is working with SEWG on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0, Congestion Revenu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n hold, waiting on development of the CRR Users’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8th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of COPM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munications and Website Focus Surve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of COPMGRR 11, 12, &amp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03-31T19:40:12Z</dcterms:modified>
  <cp:revision>100</cp:revision>
  <dc:subject/>
  <dc:title>CCWG 2006 Accomplishments</dc:title>
</cp:coreProperties>
</file>