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C062-CFEC-4E41-A3FC-942F232AB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7F1-59FD-4C51-BF4B-1F0C9D6D63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867A-7B30-4AE3-8EFF-650FCA0D6B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415C-D7E2-4F13-A3C2-03309731B4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B48-2A4A-4E30-B86D-C7FB84C085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0211-B4C7-473C-875B-86B0DDE453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164-2FB5-43A0-8D25-9929AC419E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241-D914-41DA-B68B-8DB478EB14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188A-AD7B-43F9-B8B8-6AFE56F974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DB37-CC3D-4900-9D6A-8ACCE4349A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BE7-9132-435A-A18E-EEDBAEFC71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36C9-D212-4597-A50E-D25AF7B719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184-764A-4CBD-ADB0-4C66EE5F2D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840-84D7-4F32-AA3B-A1198389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424-6BF4-4BF5-8E66-6869710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030-AA29-4C27-B470-D13782BA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03E-0718-4094-8C98-5A397165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5376-DAA6-49B3-9C89-B77A84DB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C80B-88F3-4456-8E1D-557960B5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FD99-F4F6-4E3D-8ADF-CED2486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63AF-BFCC-4243-823E-B0BC4C00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9EAE-4BAA-413F-A840-608AF84E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242-DA42-45FF-8169-5563BA9E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269-C9CB-46B2-BAA7-21BA1169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4A3-2ADC-4781-9207-347E834A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6CF8-673A-4696-9557-ED36601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3E7D-C7E2-4CD7-B298-B5838FF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425B-51A4-4110-814E-A53239D1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F8EE-BA77-4391-AA7B-8AAE74F1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B08A-1539-4DB8-9162-B1FB8AA4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B8EB9-E176-46E9-8B33-2A587E6068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B01CA-80BE-45B4-8F40-505E97C3AA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29B8B-1F8D-48CF-9D4A-4F8067A5DC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7E7CD-21E4-4635-A11F-2613BBE356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210DF-6806-47D5-BE4E-0F3ED722F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7EF-3911-431B-BB39-AF3D7DD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C1505-30F1-4A2D-A7FE-1A95BDD88B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229E1-29E9-4720-892D-F1AC3B5897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A916F-4BE2-44A6-83C7-698ECBF382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D7B09-1C55-4128-B3F0-9053AE3B04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09649-8C0F-4A5F-ACC4-CEC6D889B8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264B9-B133-46F4-9948-E632C96112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AA336-6AC4-41B7-B32C-8189BED79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4E5-04B0-4E74-B971-59CD5A5C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49B-53BB-4E0C-BDA2-D288973E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0EE-8D09-454C-BA6C-89425A1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AC4-7631-4A3B-BD08-EC14808A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41F-CE1F-44F6-BF66-182E5B6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400-ED4E-4720-B5DB-3AC04FB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8645-22B3-4BB3-984B-B50E321E3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1D38-0BDB-48A0-9443-196B38DC4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921C-E159-43FC-99C8-B53EEAF48FE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April 14, 200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xecution Phase </a:t>
            </a:r>
            <a:br>
              <a:rPr sz="4400"/>
            </a:br>
            <a:r>
              <a:rPr b="0" lang="en-US" sz="3600" spc="-1" strike="noStrike">
                <a:solidFill>
                  <a:srgbClr val="e8edf2"/>
                </a:solidFill>
                <a:latin typeface="Tahoma"/>
              </a:rPr>
              <a:t>Testing Requirements </a:t>
            </a: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2120" y="1600200"/>
            <a:ext cx="7696080" cy="554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ope of Market Tes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DSP submits Advanced Metering LSE interval data file submission and ERCOT returns a file-level acknowled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rget Dates for Market Te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ober 19 – November 6,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xt Ste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project progresses through development activities and the detailed ERCOT testing schedule is refined, coordination activities will be scheduled with the TDS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MA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2120" y="1773000"/>
            <a:ext cx="7696080" cy="485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lete the review and finalize new section to be added to the Retail Market Guide Section 7.15 “Advanced Meter Interval Data File Format and Submission”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skforce Conference Call scheduled on Thursday, April 16, 2009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tinue to update RMS and COPS on the progress of Project 80027 Execution Pl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visit the 814_20 AMS Profile change volume question in July 09 to determine the best solution for the marke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154" name="Content Placeholder 3" descr="j0083153.wmf"/>
          <p:cNvPicPr/>
          <p:nvPr/>
        </p:nvPicPr>
        <p:blipFill>
          <a:blip r:embed="rId1"/>
          <a:stretch/>
        </p:blipFill>
        <p:spPr>
          <a:xfrm>
            <a:off x="2968560" y="3651120"/>
            <a:ext cx="3133800" cy="30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5" name="Picture 4" descr="j0385990.jpg"/>
          <p:cNvPicPr/>
          <p:nvPr/>
        </p:nvPicPr>
        <p:blipFill>
          <a:blip r:embed="rId2"/>
          <a:stretch/>
        </p:blipFill>
        <p:spPr>
          <a:xfrm>
            <a:off x="-6480" y="1670040"/>
            <a:ext cx="3292560" cy="3444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320142.wmf"/>
          <p:cNvPicPr/>
          <p:nvPr/>
        </p:nvPicPr>
        <p:blipFill>
          <a:blip r:embed="rId3"/>
          <a:stretch/>
        </p:blipFill>
        <p:spPr>
          <a:xfrm>
            <a:off x="5877000" y="1695600"/>
            <a:ext cx="302904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ch 9, 2009 Meeting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 Project Status Report for Planning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ning Complete                   02/20/2009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Comple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kforce reviewed the Market Testing and Execution Phase milestones and critical tasks for Project 80027 Advanced Metering Interim Settlement Solu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ch 9, 2009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eeting </a:t>
            </a:r>
            <a:br>
              <a:rPr sz="4400"/>
            </a:b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599840"/>
            <a:ext cx="769608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S Taskforce reviewed initi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raf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new Retail Market Guide Section 7.15 “Advanced Meter Interval Data File Format and Submission”, which inclu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le layout and data requirements for ERCOT Specified File Format for both ERCOT and TDSP’s FTP si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for TDSPs to post files to FTP site for CR downloads or transmit files via NAESB to ERCO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le Naming Convention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cumented file size limitations for files sent to ERCOT will contain no more than 50,000 transa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arificatio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1760" y="1523520"/>
            <a:ext cx="7848360" cy="500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ied  that a transaction is comprised of a single day of interval data reads – 96 reads (92 or 100 reads if changing to or from Daylight Savings Time (DS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extracts and web services will be available to market participants at project go-liv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9940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anges impacting 727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9940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hen effecti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9940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0152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0152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6858000" y="571500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715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 Discussed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1760" y="1523520"/>
            <a:ext cx="7848360" cy="500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ERCOT is ready to start receiving 814_20 Load Profile changes for AMS would the TDSP need to provide an 814_20 Load Profile update for the AMS profile on a meter read date?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es, how will the volume be managed for each TDS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RCOT’s Respons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ider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ive date of the profile change (814_20) can not be future dated.  Therefore, the profile changes will need to be submitted after project go-live (11/14/0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ad profile annual validation will be occurring approximately the same time frame or within a month of go-live and early stabil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nnual Valid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about Annual Validation being performed around this tim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14_20 Volume for all TDSPs invol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s needed to manage this effort and scheduling impacts to comp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needed for issue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create a duplication of effort in some 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ue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2009 Budget Updat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120" y="1773360"/>
            <a:ext cx="80010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Forecasted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ual Spend to Date: ~$204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aining Forecast:  ~$1.34M (includes a 25% contingenc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closely aligns with the PRR Cost Estimates from the CB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R766 – $750k cost estim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R756 - $750k cost estim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Boar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pproved”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aining forecast cost on March 17, 2009 and with this approval this project is now  in the execution pha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xecution Phase Schedule</a:t>
            </a:r>
            <a:br>
              <a:rPr sz="4400"/>
            </a:br>
            <a:r>
              <a:rPr b="0" lang="en-US" sz="3600" spc="-1" strike="noStrike">
                <a:solidFill>
                  <a:srgbClr val="e8edf2"/>
                </a:solidFill>
                <a:latin typeface="Tahoma"/>
              </a:rPr>
              <a:t>Milestones and Critical Tasks</a:t>
            </a: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1676520"/>
          <a:ext cx="6781680" cy="4952880"/>
        </p:xfrm>
        <a:graphic>
          <a:graphicData uri="http://schemas.openxmlformats.org/drawingml/2006/table">
            <a:tbl>
              <a:tblPr/>
              <a:tblGrid>
                <a:gridCol w="4091040"/>
                <a:gridCol w="2690640"/>
              </a:tblGrid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ical Architecture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15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/24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ed Designs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LIVE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4/20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ff-cyc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Live (Contingency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2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AutoShape 23"/>
          <p:cNvSpPr/>
          <p:nvPr/>
        </p:nvSpPr>
        <p:spPr>
          <a:xfrm>
            <a:off x="5867280" y="4876920"/>
            <a:ext cx="38124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09-04-06T16:57:23Z</dcterms:modified>
  <cp:revision>80</cp:revision>
  <dc:subject/>
  <dc:title>MARS Taskforce </dc:title>
</cp:coreProperties>
</file>