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C4E0-1F0C-4CDA-9B79-DDCDBA7D4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7DB2-CFC2-4F55-BDD3-1BE19A7A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2F6B-3A0D-4297-98A2-0537D95A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B38A-4CBB-47B0-A922-6EF03DF80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D49-F799-425B-A2D7-2213CCDFE4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318-3A15-4DFC-934E-188D416EC1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83D-5011-4020-ACED-0A0B76B76B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A07-E742-4542-8A22-A027BBBA07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326-9363-4241-95D7-A6FBF155F2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9B9-0FCF-410D-95D2-01077BA3C0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FA7-9BE9-47E6-B54B-2C16B97B73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5229-92FE-49FB-9000-6A26832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EFC-13DD-47DC-847E-14C7AEB547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9CF-51EB-4F28-A4F2-3CB9A66471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E1C-8443-4075-83AC-BD607DA899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AA1-1C64-4BEC-8B00-FD9C27B7EC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31F-66F3-4875-86F7-F18137EF9D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860E-F2B9-4018-A3BB-DE184F3515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538F6-8E69-4522-A1BF-08EA48CE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FC207-695D-4A81-AFDE-6212619C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BA014-F63E-4758-A9CC-302FB00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623D4-3E4C-4418-B770-29CCE9F0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6FF1-BD44-4DB6-A757-670BD8D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465D-BFD6-4FD4-885B-33857B44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A455C-A2F2-4609-8C51-205D871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DCC5-9835-46DA-A68E-0F25B55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553C3-5F9A-4033-8676-1430447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B6C49-5FCE-4298-A2CC-8F3F9437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BA242-BFCD-4C79-B06C-5D437E4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8F72-8A8B-467D-BCFA-D72BE6631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05E9-9720-4785-BBD0-73A05DF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E770-F66F-447D-97C4-C0605FD4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905A-8DC7-429F-81F7-EA6F1778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6852-0F7A-4124-B716-887BCF28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4244-A6F0-41D2-9B1C-848547F5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F67B-6D8E-4B55-9B3C-AAFD03A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33A-B0E7-45A7-BD8F-20554717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D99-E601-4787-9331-F3D6EEFB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E63-A9BC-4B7E-BCE5-B2144AB7D0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yl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14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352A-2F41-4EA8-A0EE-DC72922C99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05920" cy="4562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9480" y="14479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would like the COPS approval of an additional go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0F95-ECFA-4525-A57D-ED64AE4B07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9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. 22 and the 4th Wedn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DA9A-6098-41F2-B77A-D6C1FF8A4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9-03-26T19:08:11Z</dcterms:modified>
  <cp:revision>335</cp:revision>
  <dc:subject/>
  <dc:title>PowerPoint Presentation</dc:title>
</cp:coreProperties>
</file>