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B51-0CAF-4916-A0CF-B6504E84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134-ABBE-4007-AAC9-C16656F3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8F2-C7E9-45E5-836D-A1A07EA1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749-2A5A-4C4D-A131-FD33E196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B232-B6EE-4281-B6AC-9E01504D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A01E-A3DF-49BD-9DB6-182C7950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166A-0841-42E9-88E4-0AD6C33D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249C-EC00-409D-8D05-EBDF1568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6D94-2C42-4039-BEB8-99C506A0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F3EB-9AAF-4019-855A-9865DB20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0874-B736-42CA-9D28-9E07D3F6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850-3805-4C70-A274-4609CEFA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D01A-400D-4741-84AB-1FCD9BB0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E3F1-A1E0-4641-BF5B-7FCEBB38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2933-188D-4417-9506-66713454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A1A4-2C86-4A8C-8C89-B31B247E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99EC-488E-4982-BBED-8975DD62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353-2644-4302-BC90-1C6A2596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416-B078-4539-9DD7-1D392174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C54-8C82-41A6-859C-9753DFB3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571-D3A9-482B-A435-D7635898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42F-BA53-40C1-80F4-E6954F3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4F5-CCF3-4F85-BE28-2AE683EC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BA8-501A-491B-BFF6-B1DC03DE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979E-E603-401A-B140-D8DA845238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3E6A-65E1-4AF8-8D44-1A261030D2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sla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reports/index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4725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WG Meeting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to COP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/14/200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ract Iss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reported on the Extract and Report issues from the mid January to Febru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ercot.com/services/sla/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 issues continue to be on the dec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7 inci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ruary 5 inci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 inci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dal CO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esented information for the posting of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L comments- currently po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Documents- draft is po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Guides- Shadow Settlement User guide is po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ite is updated every Friday with the latest information regarding reports and extra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nodal.ercot.com/readiness/reports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 Hoc Invoicing Proc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G discussed issues around the Ad Hoc Invoices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reason for Ad Hoc invoices are market short pays, ADR resolutions or litigation dec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example of concerns about the lack of documented proc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cy in communication of Invo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 to QSE contact of Inv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staff brought forward a solution to address market participant conc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 Hoc Invoicing Proc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s- All ad hoc invoices will be will be preceded by a notice from W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Email Address- with WCS sending out ad hoc invoices, the “From” email address should be recognizable and consis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Contact- ERCOT will send ad hoc invoices to QSE primary and secondary contact, as well as primary and secondary AP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and SEWG encourage all market participants to update their contact information regularly through W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odal Load Aggreg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827000"/>
            <a:ext cx="79250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 staff proposed a question to consider addition to LSEGUNADJ cut of load d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erminant could be used to identify actual, estimate or historical read stat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bers present at SEWG had no concerns regarding this change and unanimously recommend ERCOT going forward with the chan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change will not be implemented until Nod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09-04-13T18:17:04Z</dcterms:modified>
  <cp:revision>37</cp:revision>
  <dc:subject/>
  <dc:title>DEWG Meeting Summary</dc:title>
</cp:coreProperties>
</file>