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D8B68-CCD1-486A-8C4C-2A8059EE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4D046-C55A-4D98-BD05-F7CF2EAB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BAC95-4A04-4A91-B81E-6B108928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13D20-C554-4E8C-8518-4589AA2D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7DEA-7DB2-4268-971E-C08126ED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D0321-F074-4EB4-836E-4462FE1C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8E769-B544-42F7-A103-5A33BD22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877CF-229E-4651-A8D6-7F0AD511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4C9A4-4933-4171-8105-41F536F5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F6995-E5C1-4D5E-93A2-815D0912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3C5FD-7D88-40C9-AF19-BE52D6C6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6A25C-748C-4583-93DC-5710E7FE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CEE3-09D8-4BA0-989A-9F0A93B46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931D-C7C3-4A82-A13E-8F32C79E2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28880" y="1904760"/>
            <a:ext cx="637704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010 Project Prioritiza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38240" y="3580920"/>
            <a:ext cx="575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pril 9, 20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ization Sched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l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s develop draft 2010 project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 and incorporate input from the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year project forecast referenced and upd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4 / May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market sub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1 / June 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, IO, MO, RO, SO – P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T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uly 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uly 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6DEB-3E91-4CC7-AE2E-D409246146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ization – Additional Elem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hanced Information on Funding and Project Prioritization Will Be Provided as We Move Through the Review and Approval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o feedback from 2008 ERCOT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nyone has specific requests in this area please bring them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derson@erc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BA Rev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ration version of form to be int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enhancements identified over the past 2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highlighting if a project is due to a legislative or PUCT policy requ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CBA training material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12A52-81BD-489A-B354-D38F693014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60195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21BAC-A072-4433-B548-1F496E0D2D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9-04-06T22:16:40Z</dcterms:modified>
  <cp:revision>227</cp:revision>
  <dc:subject/>
  <dc:title>Instructions</dc:title>
</cp:coreProperties>
</file>