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973320" y="0"/>
            <a:ext cx="30366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9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0" y="883116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4E702F-AC77-412F-B015-CBF11D9FE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60DD02-C0C6-436F-BA59-9BE6DDBFA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492EFC-5A28-4A40-B4ED-44A594CEE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B5BB62-C76E-4527-83F7-01E545E378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6" name="PlaceHolder 1"/>
          <p:cNvSpPr>
            <a:spLocks noGrp="1"/>
          </p:cNvSpPr>
          <p:nvPr>
            <p:ph type="sldImg"/>
          </p:nvPr>
        </p:nvSpPr>
        <p:spPr>
          <a:xfrm>
            <a:off x="1181160" y="695160"/>
            <a:ext cx="4648320" cy="3486240"/>
          </a:xfrm>
          <a:prstGeom prst="rect">
            <a:avLst/>
          </a:prstGeom>
          <a:ln w="0">
            <a:noFill/>
          </a:ln>
        </p:spPr>
      </p:sp>
      <p:sp>
        <p:nvSpPr>
          <p:cNvPr id="187" name="PlaceHolder 2"/>
          <p:cNvSpPr>
            <a:spLocks noGrp="1"/>
          </p:cNvSpPr>
          <p:nvPr>
            <p:ph type="body"/>
          </p:nvPr>
        </p:nvSpPr>
        <p:spPr>
          <a:xfrm>
            <a:off x="936720" y="4416480"/>
            <a:ext cx="51372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risk with a label that can be used in conversing about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where we are in handling this risk  - highlight one block in b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 identifying and analyzing the impact of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 establishing the details for mitigating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 – executing the mitigation plans and monitoring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ch – we have the risk in control, using our mitigation plans, or there is no plan and we are just keeping an eye on th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ion plans identify the work being done, with current status as of the reporting date</a:t>
            </a:r>
            <a:endParaRPr b="0" lang="en-US" sz="1200" spc="-1" strike="noStrike">
              <a:solidFill>
                <a:srgbClr val="000000"/>
              </a:solidFill>
              <a:latin typeface="Arial"/>
            </a:endParaRPr>
          </a:p>
        </p:txBody>
      </p:sp>
      <p:sp>
        <p:nvSpPr>
          <p:cNvPr id="188" name="Slide Number Placeholder 3"/>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55A5F-758D-487C-8D1B-D762FFC546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BC9C56-C5F1-472D-96EF-E1D52AE72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D7F2EB49-676A-471E-BC02-CA73C02AD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DABFEB0D-B65B-442C-8E78-B065FDF43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260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F42B2D5A-F973-4E79-AFA5-9004E867D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FA3D9E-C3F3-4669-A6BB-49948946C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3D380C-1830-44BE-ACAA-4A8B243FE5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7" name="PlaceHolder 1"/>
          <p:cNvSpPr>
            <a:spLocks noGrp="1"/>
          </p:cNvSpPr>
          <p:nvPr>
            <p:ph type="sldImg"/>
          </p:nvPr>
        </p:nvSpPr>
        <p:spPr>
          <a:xfrm>
            <a:off x="1181160" y="695160"/>
            <a:ext cx="4648320" cy="3486240"/>
          </a:xfrm>
          <a:prstGeom prst="rect">
            <a:avLst/>
          </a:prstGeom>
          <a:ln w="0">
            <a:noFill/>
          </a:ln>
        </p:spPr>
      </p:sp>
      <p:sp>
        <p:nvSpPr>
          <p:cNvPr id="198" name="PlaceHolder 2"/>
          <p:cNvSpPr>
            <a:spLocks noGrp="1"/>
          </p:cNvSpPr>
          <p:nvPr>
            <p:ph type="body"/>
          </p:nvPr>
        </p:nvSpPr>
        <p:spPr>
          <a:xfrm>
            <a:off x="936720" y="4416480"/>
            <a:ext cx="51372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risk with a label that can be used in conversing about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where we are in handling this risk  - highlight one block in b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 identifying and analyzing the impact of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 establishing the details for mitigating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 – executing the mitigation plans and monitoring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ch – we have the risk in control, using our mitigation plans, or there is no plan and we are just keeping an eye on th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ion plans identify the work being done, with current status as of the reporting date</a:t>
            </a:r>
            <a:endParaRPr b="0" lang="en-US" sz="1200" spc="-1" strike="noStrike">
              <a:solidFill>
                <a:srgbClr val="000000"/>
              </a:solidFill>
              <a:latin typeface="Arial"/>
            </a:endParaRPr>
          </a:p>
        </p:txBody>
      </p:sp>
      <p:sp>
        <p:nvSpPr>
          <p:cNvPr id="199" name="Slide Number Placeholder 3"/>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CBDCCA-12E2-44D3-ABC4-F6E50B2B30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1B8852-090F-484E-91F7-E4F1FCC01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0197FE-A1F9-435D-822F-4F82B669C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7E4062-9BB2-4618-B4BD-CBE87D9A7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6178FA-7097-49D1-A7B8-4BCED9416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50F9B8-28F4-4EB7-9EB6-87AD1019B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AF62D4-F0D9-44DB-B729-2A646B423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481568-9E04-4CC2-BAF9-1556F9633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336A33-382A-48FC-9020-018F0F8A9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D101AF-69E6-430F-9E10-022446AEC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E8A446-1985-42CE-B4F6-619A780CB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C510F0A-8C0B-4817-9560-63D5ECFBA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336DB1-5A15-492C-A4AC-EC0D9055E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3A34CFF-5687-4099-8502-882609760E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D192DBC-EBA0-4620-B841-84C17CDA02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F86B3C7-C6FD-431F-87D5-40A50EF4C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A2609B-1CA9-4EE6-B391-7190A64F3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F7403A4-CFA5-4242-8388-38A54C329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FCFC3CA-18B7-4645-9448-D6C0532A4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5EA1E3-F7C4-4201-AE5A-BAB5DC3DE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8F14F1-83F5-4E82-BBCD-D5FB9F726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E299B7-8001-4982-A30B-762B80D38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81A25E-B0C7-4355-84AE-72715F6319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D4C2-2355-4515-BE07-E616FFA1E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3" name="Picture 5" descr="logo_C"/>
          <p:cNvPicPr/>
          <p:nvPr/>
        </p:nvPicPr>
        <p:blipFill>
          <a:blip r:embed="rId2"/>
          <a:stretch/>
        </p:blipFill>
        <p:spPr>
          <a:xfrm>
            <a:off x="63360" y="6289560"/>
            <a:ext cx="854280" cy="479520"/>
          </a:xfrm>
          <a:prstGeom prst="rect">
            <a:avLst/>
          </a:prstGeom>
          <a:ln w="0">
            <a:noFill/>
          </a:ln>
        </p:spPr>
      </p:pic>
      <p:sp>
        <p:nvSpPr>
          <p:cNvPr id="4"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5638320" y="6458040"/>
            <a:ext cx="3124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al Program Update</a:t>
            </a:r>
            <a:endParaRPr b="0" lang="en-US" sz="1200" spc="-1" strike="noStrike">
              <a:solidFill>
                <a:srgbClr val="000000"/>
              </a:solidFill>
              <a:latin typeface="Times New Roman"/>
            </a:endParaRPr>
          </a:p>
        </p:txBody>
      </p:sp>
      <p:sp>
        <p:nvSpPr>
          <p:cNvPr id="7"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9, 2009</a:t>
            </a:r>
            <a:endParaRPr b="0" lang="en-US" sz="1200" spc="-1" strike="noStrike">
              <a:solidFill>
                <a:srgbClr val="000000"/>
              </a:solidFill>
              <a:latin typeface="Times New Roman"/>
            </a:endParaRPr>
          </a:p>
        </p:txBody>
      </p:sp>
      <p:sp>
        <p:nvSpPr>
          <p:cNvPr id="9"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 name="Rectangle 12"/>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DAB1-8091-4B3A-8A5C-672758600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Line 13"/>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logo"/>
          <p:cNvPicPr/>
          <p:nvPr/>
        </p:nvPicPr>
        <p:blipFill>
          <a:blip r:embed="rId2"/>
          <a:stretch/>
        </p:blipFill>
        <p:spPr>
          <a:xfrm>
            <a:off x="228600" y="304920"/>
            <a:ext cx="1295280" cy="519120"/>
          </a:xfrm>
          <a:prstGeom prst="rect">
            <a:avLst/>
          </a:prstGeom>
          <a:ln w="0">
            <a:noFill/>
          </a:ln>
        </p:spPr>
      </p:pic>
      <p:sp>
        <p:nvSpPr>
          <p:cNvPr id="49"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53"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ril 9, 2009</a:t>
            </a:r>
            <a:endParaRPr b="0" lang="en-US" sz="1800" spc="-1" strike="noStrike">
              <a:solidFill>
                <a:srgbClr val="000000"/>
              </a:solidFill>
              <a:latin typeface="Times New Roman"/>
            </a:endParaRPr>
          </a:p>
        </p:txBody>
      </p:sp>
      <p:sp>
        <p:nvSpPr>
          <p:cNvPr id="54"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chnical Advisory Committee Meeting</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7"/>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ril 9, 2009</a:t>
            </a:r>
            <a:endParaRPr b="0" lang="en-US" sz="1800" spc="-1" strike="noStrike">
              <a:solidFill>
                <a:srgbClr val="000000"/>
              </a:solidFill>
              <a:latin typeface="Arial"/>
            </a:endParaRPr>
          </a:p>
        </p:txBody>
      </p:sp>
      <p:sp>
        <p:nvSpPr>
          <p:cNvPr id="99" name="Rectangle 8"/>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cal Advisory Committee Meeting</a:t>
            </a:r>
            <a:endParaRPr b="0" lang="en-US" sz="1800" spc="-1" strike="noStrike">
              <a:solidFill>
                <a:srgbClr val="000000"/>
              </a:solidFill>
              <a:latin typeface="Arial"/>
            </a:endParaRPr>
          </a:p>
        </p:txBody>
      </p:sp>
      <p:sp>
        <p:nvSpPr>
          <p:cNvPr id="100" name="PlaceHolder 1"/>
          <p:cNvSpPr>
            <a:spLocks noGrp="1"/>
          </p:cNvSpPr>
          <p:nvPr>
            <p:ph type="title"/>
          </p:nvPr>
        </p:nvSpPr>
        <p:spPr>
          <a:xfrm>
            <a:off x="2333160" y="1904760"/>
            <a:ext cx="665820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as Nodal Program Implementation:</a:t>
            </a:r>
            <a:br>
              <a:rPr sz="2400"/>
            </a:br>
            <a:r>
              <a:rPr b="0" lang="en-US" sz="2400" spc="-1" strike="noStrike">
                <a:solidFill>
                  <a:srgbClr val="ffffff"/>
                </a:solidFill>
                <a:latin typeface="Arial Black"/>
              </a:rPr>
              <a:t>Program Update</a:t>
            </a:r>
            <a:endParaRPr b="0" lang="en-US" sz="2400" spc="-1" strike="noStrike">
              <a:solidFill>
                <a:srgbClr val="ffffff"/>
              </a:solidFill>
              <a:latin typeface="Arial Black"/>
            </a:endParaRPr>
          </a:p>
        </p:txBody>
      </p:sp>
      <p:sp>
        <p:nvSpPr>
          <p:cNvPr id="10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ke Cleary</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r. VP and Chief Technology Offic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3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39"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40"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 2009</a:t>
            </a:r>
            <a:endParaRPr b="0" lang="en-US" sz="1200" spc="-1" strike="noStrike">
              <a:solidFill>
                <a:srgbClr val="000000"/>
              </a:solidFill>
              <a:latin typeface="Arial"/>
            </a:endParaRPr>
          </a:p>
        </p:txBody>
      </p:sp>
      <p:sp>
        <p:nvSpPr>
          <p:cNvPr id="14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Program Risk:</a:t>
            </a:r>
            <a:br>
              <a:rPr sz="2400"/>
            </a:br>
            <a:r>
              <a:rPr b="0" lang="en-US" sz="2000" spc="-1" strike="noStrike">
                <a:solidFill>
                  <a:srgbClr val="ffffff"/>
                </a:solidFill>
                <a:latin typeface="Arial Black"/>
              </a:rPr>
              <a:t>Resource Conflict for Advanced Metering and Nodal Program</a:t>
            </a:r>
            <a:endParaRPr b="0" lang="en-US" sz="2000" spc="-1" strike="noStrike">
              <a:solidFill>
                <a:srgbClr val="ffffff"/>
              </a:solidFill>
              <a:latin typeface="Arial Black"/>
            </a:endParaRPr>
          </a:p>
        </p:txBody>
      </p:sp>
      <p:graphicFrame>
        <p:nvGraphicFramePr>
          <p:cNvPr id="142" name=""/>
          <p:cNvGraphicFramePr/>
          <p:nvPr/>
        </p:nvGraphicFramePr>
        <p:xfrm>
          <a:off x="304920" y="1066680"/>
          <a:ext cx="8458200" cy="4754520"/>
        </p:xfrm>
        <a:graphic>
          <a:graphicData uri="http://schemas.openxmlformats.org/drawingml/2006/table">
            <a:tbl>
              <a:tblPr/>
              <a:tblGrid>
                <a:gridCol w="761760"/>
                <a:gridCol w="838440"/>
                <a:gridCol w="761760"/>
                <a:gridCol w="685800"/>
                <a:gridCol w="1295640"/>
                <a:gridCol w="1295280"/>
                <a:gridCol w="281952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Advanced Metering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Metering is a high priority project for 2009.  There are now potential conflicts in 2009 over resources and testing environments needed at the same time by the nodal program and Advanced Metering project.  [note: this is an instance of resource conflicts being monitored and managed with the ERCOT PMO]</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7575d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006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stablish a testing approach to use different environments for the Lodestar testing.  Limit shared testing to just the  single shared ISM environment during testing in Q4 20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Parri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Jirasek</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4/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09  Test strategy is complete for Advanced Metering.  It will be incorporated into the nodal test plan for end-to-end testing during the April plann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5541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rrange resource assignments for Lodestar and EDW to ensure coverage by development teams and business team resources to allow for parallel nodal program work and Advanced Metering work, to support the Advanced Metering mandate of January 2010 and nodal go-live date of December 2010.</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Parri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Jirasek</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4/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09  Resource planning is underway, with current expectations that coverage will be sufficient. Plans will be incorporated into the nodal test plan for end-to-end testing during the April plann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nitor resource assignments and availabilit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Parri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Jirase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44"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4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Wide Risk:</a:t>
            </a:r>
            <a:br>
              <a:rPr sz="2800"/>
            </a:br>
            <a:r>
              <a:rPr b="0" lang="en-US" sz="2000" spc="-1" strike="noStrike">
                <a:solidFill>
                  <a:srgbClr val="ffffff"/>
                </a:solidFill>
                <a:latin typeface="Arial Black"/>
              </a:rPr>
              <a:t>Data Center Space Concerns</a:t>
            </a:r>
            <a:endParaRPr b="0" lang="en-US" sz="2000" spc="-1" strike="noStrike">
              <a:solidFill>
                <a:srgbClr val="ffffff"/>
              </a:solidFill>
              <a:latin typeface="Arial Black"/>
            </a:endParaRPr>
          </a:p>
        </p:txBody>
      </p:sp>
      <p:graphicFrame>
        <p:nvGraphicFramePr>
          <p:cNvPr id="146" name=""/>
          <p:cNvGraphicFramePr/>
          <p:nvPr/>
        </p:nvGraphicFramePr>
        <p:xfrm>
          <a:off x="304920" y="838080"/>
          <a:ext cx="8610480" cy="5075280"/>
        </p:xfrm>
        <a:graphic>
          <a:graphicData uri="http://schemas.openxmlformats.org/drawingml/2006/table">
            <a:tbl>
              <a:tblPr/>
              <a:tblGrid>
                <a:gridCol w="776160"/>
                <a:gridCol w="852480"/>
                <a:gridCol w="776160"/>
                <a:gridCol w="698760"/>
                <a:gridCol w="782640"/>
                <a:gridCol w="1447560"/>
                <a:gridCol w="327672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Data Center Space Concer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enter capacity, space, and power may be inadequate for Nodal Program go-live, unless plans for expansion are adequate.</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600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Establish an Information Lifecycle Management approach, to manage the life cycle of data being managed.</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Forfia </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lementation ongoing</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1/09  ILM Roadmap has been completed by SAIC, and next planning activities underwa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project PR 90006_01 Commercial Systems Information Lifecycle Management Projec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IC to be Project Manager, to complete roadmap by 3/6/09</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600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Expand current data center space, and build out new data center, to increase ERCOT data center capaci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Forfia </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CC1 build out complete by 9/09</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DC in production Feb 201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CC3 in production May 2011</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0/09  Work underway to expand current TCC1 data cente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project PR_80047</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CC1 equipment to be purchased May 2009.</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project PR_8000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DC will run parallel  Oct 2010 – Feb 2011 to test and avoid disruption to Nodal</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4287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Validate and monitor Nodal data capacity assumptions</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Forfia </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2009</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underway to validate current assumptions</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4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4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Wide Risk:</a:t>
            </a:r>
            <a:br>
              <a:rPr sz="2000"/>
            </a:br>
            <a:r>
              <a:rPr b="0" lang="en-US" sz="2000" spc="-1" strike="noStrike">
                <a:solidFill>
                  <a:srgbClr val="ffffff"/>
                </a:solidFill>
                <a:latin typeface="Arial Black"/>
              </a:rPr>
              <a:t>Zonal Resource Constraints for Nodal Program</a:t>
            </a:r>
            <a:endParaRPr b="0" lang="en-US" sz="2000" spc="-1" strike="noStrike">
              <a:solidFill>
                <a:srgbClr val="ffffff"/>
              </a:solidFill>
              <a:latin typeface="Arial Black"/>
            </a:endParaRPr>
          </a:p>
        </p:txBody>
      </p:sp>
      <p:graphicFrame>
        <p:nvGraphicFramePr>
          <p:cNvPr id="150" name=""/>
          <p:cNvGraphicFramePr/>
          <p:nvPr/>
        </p:nvGraphicFramePr>
        <p:xfrm>
          <a:off x="304920" y="838080"/>
          <a:ext cx="8458200" cy="5362560"/>
        </p:xfrm>
        <a:graphic>
          <a:graphicData uri="http://schemas.openxmlformats.org/drawingml/2006/table">
            <a:tbl>
              <a:tblPr/>
              <a:tblGrid>
                <a:gridCol w="761760"/>
                <a:gridCol w="838440"/>
                <a:gridCol w="761760"/>
                <a:gridCol w="685800"/>
                <a:gridCol w="1067040"/>
                <a:gridCol w="1523880"/>
                <a:gridCol w="281952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Zonal Resource Constraints for Nodal Program</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Nodal go-live date has been delayed, there are a number of Zonal projects, PRRs, and IMM suggestions for Zonal improvements that may result in resource constraints for the Nodal Program.</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nage list of PRRs and SCRs to a resource plan that uses a strategy to avoid impacting Nodal personnel resources when delivering additional Zonal enhancement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roxt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nderso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9 – Completed review with  PRS and WMS on the current list of reconsidered and new PRRs and SCRs.  No expected impact to Nodal.  Updates will be provided to Nodal PMO as the list evol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09 – To review the list with TAC</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67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nage Project Priority List (PPL) with clear view of resources needed for any projects in flight or about to be launched, with a strategy to avoid impact on Nodal personnel resource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roxtell</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7/09 – complete  an “on request” analysis with nodal resources as identified during recent nodal re-forecast activit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09  ERCOT PMO will continue regular review of resource plans for projects on the PPL to detect any potential impact to resources also allocated to nodal work, as well as “on request” comparison of nodal resource allocations against those loaded for the PPL.  Frequency of these reviews will increase to monthly instead of quarter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7/09   Potential conflict is under review for resources needed to work on Advanced Metering project.</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9396-E0F9-460B-A42B-225673E45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53"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54" name="Rectangle 2"/>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5" name="Text Box 3"/>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03"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genda</a:t>
            </a:r>
            <a:endParaRPr b="0" lang="en-US" sz="2400" spc="-1" strike="noStrike">
              <a:solidFill>
                <a:srgbClr val="ffffff"/>
              </a:solidFill>
              <a:latin typeface="Arial Black"/>
            </a:endParaRPr>
          </a:p>
        </p:txBody>
      </p:sp>
      <p:sp>
        <p:nvSpPr>
          <p:cNvPr id="105"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Highlights</a:t>
            </a:r>
            <a:endParaRPr b="0" lang="en-US" sz="24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Project Releases</a:t>
            </a:r>
            <a:endParaRPr b="0" lang="en-US" sz="20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Market Participant Dates</a:t>
            </a:r>
            <a:endParaRPr b="0" lang="en-US" sz="20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Accomplishments</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cast – Audit Points to Addres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Risk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5"/>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07"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am Highlights – 1</a:t>
            </a:r>
            <a:endParaRPr b="0" lang="en-US" sz="2400" spc="-1" strike="noStrike">
              <a:solidFill>
                <a:srgbClr val="ffffff"/>
              </a:solidFill>
              <a:latin typeface="Arial Black"/>
            </a:endParaRPr>
          </a:p>
        </p:txBody>
      </p:sp>
      <p:sp>
        <p:nvSpPr>
          <p:cNvPr id="109" name="PlaceHolder 2"/>
          <p:cNvSpPr>
            <a:spLocks noGrp="1"/>
          </p:cNvSpPr>
          <p:nvPr>
            <p:ph/>
          </p:nvPr>
        </p:nvSpPr>
        <p:spPr>
          <a:xfrm>
            <a:off x="457200" y="914400"/>
            <a:ext cx="8229600" cy="4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Project Releases</a:t>
            </a:r>
            <a:endParaRPr b="1" lang="en-US" sz="2000" spc="-1" strike="noStrike">
              <a:solidFill>
                <a:srgbClr val="000000"/>
              </a:solidFill>
              <a:latin typeface="Arial"/>
            </a:endParaRPr>
          </a:p>
        </p:txBody>
      </p:sp>
      <p:graphicFrame>
        <p:nvGraphicFramePr>
          <p:cNvPr id="110" name=""/>
          <p:cNvGraphicFramePr/>
          <p:nvPr/>
        </p:nvGraphicFramePr>
        <p:xfrm>
          <a:off x="914400" y="1371600"/>
          <a:ext cx="7848720" cy="4821120"/>
        </p:xfrm>
        <a:graphic>
          <a:graphicData uri="http://schemas.openxmlformats.org/drawingml/2006/table">
            <a:tbl>
              <a:tblPr/>
              <a:tblGrid>
                <a:gridCol w="914400"/>
                <a:gridCol w="6934320"/>
              </a:tblGrid>
              <a:tr h="1020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ing functional acceptance test (FAT) for NMMS 6; scheduled to complete by Apr 7</a:t>
                      </a:r>
                      <a:endParaRPr b="0" lang="en-US" sz="1600" spc="-1" strike="noStrike">
                        <a:solidFill>
                          <a:srgbClr val="000000"/>
                        </a:solidFill>
                        <a:latin typeface="Arial"/>
                      </a:endParaRPr>
                    </a:p>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release, NMMS 7, scheduled to start FAT on Apr 24 and complete by May 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jor software releases delivered; two patch releases remain</a:t>
                      </a:r>
                      <a:endParaRPr b="0" lang="en-US" sz="1600" spc="-1" strike="noStrike">
                        <a:solidFill>
                          <a:srgbClr val="000000"/>
                        </a:solidFill>
                        <a:latin typeface="Arial"/>
                      </a:endParaRPr>
                    </a:p>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S 6.5.x (regression test and SPR Patch 2 release) is scheduled to start FAT on Apr 27 and complete by May 8</a:t>
                      </a:r>
                      <a:endParaRPr b="0" lang="en-US" sz="1600" spc="-1" strike="noStrike">
                        <a:solidFill>
                          <a:srgbClr val="000000"/>
                        </a:solidFill>
                        <a:latin typeface="Arial"/>
                      </a:endParaRPr>
                    </a:p>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S 6.6.x (SPR Patch 3 release) is scheduled to start FAT on May 19 and complete by Jun 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scheduled release, MMS 5, delivered by vendor and currently undergoing pre-FAT; scheduled to start FAT on Apr 16 and complete by Aug 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jor software releases delivered; maintenance release scheduled to start FAT on Jun 15 and complete by Aug 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9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ing FAT on CMM 4.1 (external reports/Bilateral Trade); scheduled to complete by May 7; two CMM releases remain with final FAT complete by Jul 8</a:t>
                      </a:r>
                      <a:endParaRPr b="0" lang="en-US" sz="1600" spc="-1" strike="noStrike">
                        <a:solidFill>
                          <a:srgbClr val="000000"/>
                        </a:solidFill>
                        <a:latin typeface="Arial"/>
                      </a:endParaRPr>
                    </a:p>
                    <a:p>
                      <a:pPr marL="233280" indent="-233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ed FAT on CSI 7.0 (COMS integration) on Apr 1; scheduled to complete by Apr 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4"/>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1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am Highlights – 2</a:t>
            </a:r>
            <a:endParaRPr b="0" lang="en-US" sz="2400" spc="-1" strike="noStrike">
              <a:solidFill>
                <a:srgbClr val="ffffff"/>
              </a:solidFill>
              <a:latin typeface="Arial Black"/>
            </a:endParaRPr>
          </a:p>
        </p:txBody>
      </p:sp>
      <p:sp>
        <p:nvSpPr>
          <p:cNvPr id="114" name="Rectangle 21"/>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Market Participant Dates</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refer to attached document, </a:t>
            </a:r>
            <a:r>
              <a:rPr b="0" i="1" lang="en-US" sz="1800" spc="-1" strike="noStrike">
                <a:solidFill>
                  <a:srgbClr val="333399"/>
                </a:solidFill>
                <a:latin typeface="Arial"/>
              </a:rPr>
              <a:t>Nodal Timeline 0410.pdf</a:t>
            </a:r>
            <a:endParaRPr b="0" lang="en-US" sz="1800" spc="-1" strike="noStrike">
              <a:solidFill>
                <a:srgbClr val="000000"/>
              </a:solidFill>
              <a:latin typeface="Arial"/>
            </a:endParaRPr>
          </a:p>
        </p:txBody>
      </p:sp>
      <p:graphicFrame>
        <p:nvGraphicFramePr>
          <p:cNvPr id="115" name=""/>
          <p:cNvGraphicFramePr/>
          <p:nvPr/>
        </p:nvGraphicFramePr>
        <p:xfrm>
          <a:off x="914400" y="1676520"/>
          <a:ext cx="7772400" cy="4495680"/>
        </p:xfrm>
        <a:graphic>
          <a:graphicData uri="http://schemas.openxmlformats.org/presentationml/2006/ole">
            <p:oleObj r:id="rId1" spid="">
              <p:embed/>
              <p:pic>
                <p:nvPicPr>
                  <p:cNvPr id="116" name="" descr=""/>
                  <p:cNvPicPr/>
                  <p:nvPr/>
                </p:nvPicPr>
                <p:blipFill>
                  <a:blip r:embed="rId2"/>
                  <a:stretch/>
                </p:blipFill>
                <p:spPr>
                  <a:xfrm>
                    <a:off x="914400" y="1676520"/>
                    <a:ext cx="7772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oter Placeholder 5"/>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18"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am Highlights – 3</a:t>
            </a:r>
            <a:endParaRPr b="0" lang="en-US" sz="2400" spc="-1" strike="noStrike">
              <a:solidFill>
                <a:srgbClr val="ffffff"/>
              </a:solidFill>
              <a:latin typeface="Arial Black"/>
            </a:endParaRPr>
          </a:p>
        </p:txBody>
      </p:sp>
      <p:sp>
        <p:nvSpPr>
          <p:cNvPr id="120" name="PlaceHolder 2"/>
          <p:cNvSpPr>
            <a:spLocks noGrp="1"/>
          </p:cNvSpPr>
          <p:nvPr>
            <p:ph/>
          </p:nvPr>
        </p:nvSpPr>
        <p:spPr>
          <a:xfrm>
            <a:off x="456840" y="914040"/>
            <a:ext cx="8458200" cy="518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Accomplishments</a:t>
            </a:r>
            <a:endParaRPr b="1" lang="en-US" sz="2000" spc="-1" strike="noStrike">
              <a:solidFill>
                <a:srgbClr val="000000"/>
              </a:solidFill>
              <a:latin typeface="Arial"/>
            </a:endParaRPr>
          </a:p>
          <a:p>
            <a:pPr lvl="1" marL="7430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cast Report #9, recommendation to change the approach for adapter, interface, and end-to-end business scenario testing – COMPLETE.</a:t>
            </a:r>
            <a:endParaRPr b="0" lang="en-US" sz="1800" spc="-1" strike="noStrike">
              <a:solidFill>
                <a:srgbClr val="000000"/>
              </a:solidFill>
              <a:latin typeface="Arial"/>
            </a:endParaRPr>
          </a:p>
          <a:p>
            <a:pPr lvl="1" marL="7430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of an integration test (iTest) environment with all required hardware and nodal applications – COMPLETE.  Final environment access and permission work is underway.</a:t>
            </a:r>
            <a:endParaRPr b="0" lang="en-US" sz="1800" spc="-1" strike="noStrike">
              <a:solidFill>
                <a:srgbClr val="000000"/>
              </a:solidFill>
              <a:latin typeface="Arial"/>
            </a:endParaRPr>
          </a:p>
          <a:p>
            <a:pPr lvl="1" marL="7430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to refresh the test environment databases – COMPLETE.</a:t>
            </a:r>
            <a:endParaRPr b="0" lang="en-US" sz="1800" spc="-1" strike="noStrike">
              <a:solidFill>
                <a:srgbClr val="000000"/>
              </a:solidFill>
              <a:latin typeface="Arial"/>
            </a:endParaRPr>
          </a:p>
          <a:p>
            <a:pPr lvl="1" marL="7430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web services information (approach to handle appropriate sizes of files, specification of the format of the information content) – finalized and communicated to Market Participants on Mar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22"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xternal Audit Status Summary</a:t>
            </a:r>
            <a:endParaRPr b="0" lang="en-US" sz="2400" spc="-1" strike="noStrike">
              <a:solidFill>
                <a:srgbClr val="ffffff"/>
              </a:solidFill>
              <a:latin typeface="Arial Black"/>
            </a:endParaRPr>
          </a:p>
        </p:txBody>
      </p:sp>
      <p:graphicFrame>
        <p:nvGraphicFramePr>
          <p:cNvPr id="124" name=""/>
          <p:cNvGraphicFramePr/>
          <p:nvPr/>
        </p:nvGraphicFramePr>
        <p:xfrm>
          <a:off x="1247760" y="1397160"/>
          <a:ext cx="6629400" cy="2936880"/>
        </p:xfrm>
        <a:graphic>
          <a:graphicData uri="http://schemas.openxmlformats.org/drawingml/2006/table">
            <a:tbl>
              <a:tblPr/>
              <a:tblGrid>
                <a:gridCol w="1657440"/>
                <a:gridCol w="1657440"/>
                <a:gridCol w="1657080"/>
                <a:gridCol w="165744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t Points Identifi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dit Points in Execu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Closed Audit Po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Report 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Report 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cast Report 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cast Report 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omplete - to be verified; 3 in execu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2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dit Points to Address from Utilicast Report 8</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graphicFrame>
        <p:nvGraphicFramePr>
          <p:cNvPr id="128" name=""/>
          <p:cNvGraphicFramePr/>
          <p:nvPr/>
        </p:nvGraphicFramePr>
        <p:xfrm>
          <a:off x="228600" y="817560"/>
          <a:ext cx="8610480" cy="5470560"/>
        </p:xfrm>
        <a:graphic>
          <a:graphicData uri="http://schemas.openxmlformats.org/drawingml/2006/table">
            <a:tbl>
              <a:tblPr/>
              <a:tblGrid>
                <a:gridCol w="577800"/>
                <a:gridCol w="1479600"/>
                <a:gridCol w="2666880"/>
                <a:gridCol w="1067040"/>
                <a:gridCol w="2819160"/>
              </a:tblGrid>
              <a:tr h="533520">
                <a:tc>
                  <a: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commendation</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on Plan Status</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ible Manager</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rget Date</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256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1</a:t>
                      </a:r>
                      <a:endParaRPr b="0" lang="en-US" sz="12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The individual project budgets should be challenged in the following areas: </a:t>
                      </a:r>
                      <a:br>
                        <a:rPr sz="1200"/>
                      </a:br>
                      <a:r>
                        <a:rPr b="0" lang="en-US" sz="1200" spc="-1" strike="noStrike">
                          <a:solidFill>
                            <a:srgbClr val="000000"/>
                          </a:solidFill>
                          <a:latin typeface="MS Sans Serif"/>
                        </a:rPr>
                        <a:t>a. Vendor contracts</a:t>
                      </a:r>
                      <a:br>
                        <a:rPr sz="1200"/>
                      </a:br>
                      <a:r>
                        <a:rPr b="0" lang="en-US" sz="1200" spc="-1" strike="noStrike">
                          <a:solidFill>
                            <a:srgbClr val="000000"/>
                          </a:solidFill>
                          <a:latin typeface="MS Sans Serif"/>
                        </a:rPr>
                        <a:t>b. Contract staff</a:t>
                      </a:r>
                      <a:br>
                        <a:rPr sz="1200"/>
                      </a:br>
                      <a:r>
                        <a:rPr b="0" lang="en-US" sz="1200" spc="-1" strike="noStrike">
                          <a:solidFill>
                            <a:srgbClr val="000000"/>
                          </a:solidFill>
                          <a:latin typeface="MS Sans Serif"/>
                        </a:rPr>
                        <a:t>c. Internal staff</a:t>
                      </a:r>
                      <a:endParaRPr b="0" lang="en-US" sz="12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t">
                      <a:noAutofit/>
                    </a:bodyPr>
                    <a:p>
                      <a:pPr marL="231840" indent="-23184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vendor contracts will be negotiated with the assistance of a 3</a:t>
                      </a:r>
                      <a:r>
                        <a:rPr b="0" lang="en-US" sz="1200" spc="-1" strike="noStrike" baseline="30000">
                          <a:solidFill>
                            <a:srgbClr val="000000"/>
                          </a:solidFill>
                          <a:latin typeface="Arial"/>
                        </a:rPr>
                        <a:t>rd</a:t>
                      </a:r>
                      <a:r>
                        <a:rPr b="0" lang="en-US" sz="1200" spc="-1" strike="noStrike">
                          <a:solidFill>
                            <a:srgbClr val="000000"/>
                          </a:solidFill>
                          <a:latin typeface="Arial"/>
                        </a:rPr>
                        <a:t> party negotiator, to address budget matters as well as others.  </a:t>
                      </a:r>
                      <a:endParaRPr b="0" lang="en-US" sz="12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  Plans for use of contract staff, as well as the orderly transition to ERCOT teams are being examined, as we refine the schedule and plan for the remainder of the schedule</a:t>
                      </a:r>
                      <a:endParaRPr b="0" lang="en-US" sz="12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et Ply</a:t>
                      </a:r>
                      <a:endParaRPr b="0" lang="en-US" sz="12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t">
                      <a:noAutofit/>
                    </a:bodyPr>
                    <a:p>
                      <a:pPr marL="228600" indent="-2286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6/30/09 for contracts to be renegotiated for 5 top vendors</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  Third party has been engaged to conduct a contract assessment as an initial effort, completed 3/31</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9  Have completed review of our key contracts by an outside firm</a:t>
                      </a:r>
                      <a:endParaRPr b="0" lang="en-US" sz="1200" spc="-1" strike="noStrike">
                        <a:solidFill>
                          <a:srgbClr val="000000"/>
                        </a:solidFill>
                        <a:latin typeface="Arial"/>
                      </a:endParaRPr>
                    </a:p>
                    <a:p>
                      <a:pPr marL="228600" indent="-228600">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09 resourcing of remaining effort shows growth in size of ERCOT teams and reduction of contract staff as testing effort is re-planned incrementally ; Program has engaged a resource manager to review all staffing.</a:t>
                      </a:r>
                      <a:endParaRPr b="0" lang="en-US" sz="12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2376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5</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There should be immediate investment in new data center capacity to allow for expansion of IT infrastructure to support the Nodal Program.</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A project has been initiated to expand the data center in Taylor (PR-80047).  Planned occupancy date is September 2009, with plan to add or move hardware under development.  Additional data center space planned as part of the Met Center disposition project (PR-80001).  Those data centers should be online in early 2011.  Plans are under development to provide capacity prior to those new data centers becoming available.</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Floyd</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2011</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30"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dit Points to Address from Utilicast Report 9 - 1</a:t>
            </a:r>
            <a:endParaRPr b="0" lang="en-US" sz="2400" spc="-1" strike="noStrike">
              <a:solidFill>
                <a:srgbClr val="ffffff"/>
              </a:solidFill>
              <a:latin typeface="Arial Black"/>
            </a:endParaRPr>
          </a:p>
        </p:txBody>
      </p:sp>
      <p:graphicFrame>
        <p:nvGraphicFramePr>
          <p:cNvPr id="132" name=""/>
          <p:cNvGraphicFramePr/>
          <p:nvPr/>
        </p:nvGraphicFramePr>
        <p:xfrm>
          <a:off x="380880" y="990720"/>
          <a:ext cx="8229600" cy="5257800"/>
        </p:xfrm>
        <a:graphic>
          <a:graphicData uri="http://schemas.openxmlformats.org/drawingml/2006/table">
            <a:tbl>
              <a:tblPr/>
              <a:tblGrid>
                <a:gridCol w="609840"/>
                <a:gridCol w="2743200"/>
                <a:gridCol w="2361960"/>
                <a:gridCol w="1295640"/>
                <a:gridCol w="1218960"/>
              </a:tblGrid>
              <a:tr h="68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commend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on Plan Statu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ible Manag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get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11890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09-02</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pe of system integration testing (end-to-end testing) should be limited to confirming that the individual applications can operate as a single enterprise solution.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to leaders was done on 2/18/09, and they carried the information to their teams that wee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6/09 End to End scenario criteria are under develop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o be verified by Utilic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09-03</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define and communicate the scope, objectives and expected deliverables of the core system integration component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09  The approach has been communicated. Project Managers are in the re-planning proc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o be verified by Utilic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065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09-05</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qualified leaders with clear ownership of clearly defined deliverables to the key system integration role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3/09 – People are now on-site working with the program for 4 of 5 positions:  Person for Data Management position to be on-site 4/6/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o be verified by Utilic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554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09-07</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nd implement (in conjunction with the Market Participants) the specification for the volume and content of information transmitted over external web service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09  Language was drafted for inclusion in the External Interface Specification and software changes were  identified.  Formal communication of these changes was made on 3/20 during an EDS cal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Brandaw</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7/09; Complete; to be verified by Utilic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gram Update</a:t>
            </a:r>
            <a:endParaRPr b="0" lang="en-US" sz="1200" spc="-1" strike="noStrike">
              <a:solidFill>
                <a:srgbClr val="000000"/>
              </a:solidFill>
              <a:latin typeface="Arial"/>
            </a:endParaRPr>
          </a:p>
        </p:txBody>
      </p:sp>
      <p:sp>
        <p:nvSpPr>
          <p:cNvPr id="134"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9, 2009</a:t>
            </a:r>
            <a:endParaRPr b="0" lang="en-US" sz="1200" spc="-1" strike="noStrike">
              <a:solidFill>
                <a:srgbClr val="000000"/>
              </a:solidFill>
              <a:latin typeface="Arial"/>
            </a:endParaRPr>
          </a:p>
        </p:txBody>
      </p:sp>
      <p:sp>
        <p:nvSpPr>
          <p:cNvPr id="1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dit Points to Address from Utilicast Report 9 - 2</a:t>
            </a:r>
            <a:endParaRPr b="0" lang="en-US" sz="2400" spc="-1" strike="noStrike">
              <a:solidFill>
                <a:srgbClr val="ffffff"/>
              </a:solidFill>
              <a:latin typeface="Arial Black"/>
            </a:endParaRPr>
          </a:p>
        </p:txBody>
      </p:sp>
      <p:graphicFrame>
        <p:nvGraphicFramePr>
          <p:cNvPr id="136" name=""/>
          <p:cNvGraphicFramePr/>
          <p:nvPr/>
        </p:nvGraphicFramePr>
        <p:xfrm>
          <a:off x="380880" y="944640"/>
          <a:ext cx="8229600" cy="5532480"/>
        </p:xfrm>
        <a:graphic>
          <a:graphicData uri="http://schemas.openxmlformats.org/drawingml/2006/table">
            <a:tbl>
              <a:tblPr/>
              <a:tblGrid>
                <a:gridCol w="609840"/>
                <a:gridCol w="2743200"/>
                <a:gridCol w="2361960"/>
                <a:gridCol w="1295640"/>
                <a:gridCol w="1218960"/>
              </a:tblGrid>
              <a:tr h="685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commend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on Plan Statu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ible Manag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get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19206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09-06</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project plans and budgets based on revised integration scope, objectives, roles and responsibilitie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9 – Re-baselined integrated scheduled to include adapter/interface cha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09 – The integrated project schedule is being updated with detailed plans and budget for connector testing as well as the general approach for end to end testing; resources are being reviewed against the pla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ject Managers and J. Pl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 revised to 4/30/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554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09-08</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d configure a dedicated integration test environment.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9 – Minor issues being resolved that do not impact interface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09 – Environment has been configured and regression testing is underway.  Most Project Managers have signed of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Mein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3/09; revised to 4/3/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3716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09-09</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ccess policies and IT controls for non-production environments.</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9 – Distributed to PMs for final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09 – Release Management and Infrastructure Change Management processes are in final review with Nodal Program leaders and I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Mein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 revised to 4/30/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MO Communications</dc:creator>
  <dc:description/>
  <dc:language>en-US</dc:language>
  <cp:lastModifiedBy>amartinez</cp:lastModifiedBy>
  <dcterms:modified xsi:type="dcterms:W3CDTF">2009-04-08T21:24:32Z</dcterms:modified>
  <cp:revision>1307</cp:revision>
  <dc:subject>TAC Presentation 04_09_2009</dc:subject>
  <dc:title>Nodal Program Update</dc:title>
</cp:coreProperties>
</file>