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734-889C-4C6A-8764-5C3C016E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D62-A079-4FD5-9ED1-96914A17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09B-02C0-4C2C-A373-56CDACE5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71B-50E1-4BC8-9E13-33026C10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205E-FB9E-4EEB-9126-F8D7047C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8F7A-6E08-4934-9BDC-D416BA6D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6B06-3F0D-4B11-B2CF-7CAF5E2D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FC1A-B6DC-49C5-B537-EFAD7244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B6B9-E5C5-4367-A97F-71070FAF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5292-ED2F-40D8-8C16-1F4A253F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BC36-609E-4288-9CA6-1FA4CCD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EB2-2D15-482A-99E4-69B75642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2F28-D0B7-4E2F-B187-90854BE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CC1F-D07F-4D8B-AEAA-8AC0C61A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C20D-3A32-41D0-B017-077DD831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DD30-5D37-4B02-BA85-8B042AC7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E5DB-4474-40E5-9C0D-321A5210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9E0-4CC3-4740-9FC6-B17DA325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E3D-F175-4DDD-92C2-2147793C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02A-1DA1-4C64-AFEC-A808F142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01D-694A-4794-9AED-EAE42083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E60-80D2-4301-A3E0-BE5CE2BF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B3A-7070-4368-B314-18B0C5AA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CD6-DFA0-4CE0-8601-2520BF0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4379-0137-47FC-B20F-47C23F21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9888-70A1-49C0-9B0D-BFB812D20A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pril 9, 200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E75F-604B-4E70-AA3F-A8BE695D01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rch 10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S Communication 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COPMGRR009, Planned Scheduled Release and Planned Maintenance Outage Notifications (TAC Voting I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es Appendix A, Market Notice Communication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reflect ERCOT’s Retail Market IT S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ed Scheduled Release dates move from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ed Maintenance Outage dates move from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nday to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nday and change their time from 8am-8pm (12 hrs) to 6am-9pm (15 h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ed Maintenance Outage dates add a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amp; 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nday from 8am-8pm (12 h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1896-C0D8-4736-9D43-11EEB43284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rch 10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S Communication WG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COPMGRR010, Creating Section 12, Renewable Energy Credits (TAC Voting I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new Section provides MPs with a high level overview of the REC Program and references to rules, protocols, and a user guid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the updated COPS Procedures document (TAC Voting I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s the Settlement and Extracts Working Group (SEWG) and removes the old Commercial Protocol W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F75D-452D-43B6-AD81-DE70140152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rch 10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ofiling W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will accept 15 minute data from the Advanced Meter if the load research IDR is replac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Round 2 Load Research Sampling data collection ends Dec 31, 200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60k Annual Validation Business 814_20s not an issue with the approx. 1 million 814_20s for the A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ESI IDs could be Initial settled with profile data, then Final settled with Advanced Meter 15 minute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1,938 combinations of load profile IDs, up from 1,63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9E2A-CF8B-4834-B499-A79C6A48AC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rch 10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ettlement &amp; Extracts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Approved 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Jim Galvin – Lumin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ddie Lookadoo – N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Report &amp; Extract issues continue to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3 incidents during the mid Jan - Fe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2 incidents were TML outages lasting less than 30 minut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1 was a late posting of extracts by 5 minut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orking with ERCOT to develop more formal process for ad hoc invoi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CD10-7CF1-497F-8C6E-BF7DA2F37A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rch 10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mmer 2008 Default Uplift Process is comple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plift in Jan 09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$2,500,000.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plift in Feb 09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$2,243,772.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amount uplifted was $4,161,186.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2008 Final Market Ops (MO) Project Financi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Budget Funding of $1.3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$190k transferred from Retail Operations (RO) to MO to cover Advance Metering Implementation Team (AMIT)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pend of projects was $1.27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Budget Variance ~$52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D660-40AE-459F-B2FC-90FA183094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Voting I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MGRR 009, Planned Scheduled Release and Planned Maintenance Outage Not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OPMGRR 010, Creating Section 12, Renewable Energy Cre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Updated COPS Procedures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C041-B19D-40F4-8D26-9FF617307C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D771-AFEA-4F97-BE41-7A1BA5088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trenarym</cp:lastModifiedBy>
  <dcterms:modified xsi:type="dcterms:W3CDTF">2009-03-30T19:15:23Z</dcterms:modified>
  <cp:revision>81</cp:revision>
  <dc:subject/>
  <dc:title>Slide 1</dc:title>
</cp:coreProperties>
</file>