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DD9-182F-4942-8DB6-2A31152E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EBC-7DB3-4F47-B7C9-C7469A65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E1E-E4B3-4FB2-AF6C-704FD7DD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7C2-B971-457A-B330-76EE2EC5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E3C-AC83-49A3-B1DC-7E631539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370-3888-48AA-AAC4-59866A20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198-72A7-4433-8407-B25E1BA4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F0C-4B77-4F4C-B3B7-1BFCEB23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F46-FD70-4A95-B210-57955989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A04-63D7-40D4-922A-D401F499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110-175A-4807-ACA7-DFE7B6DB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85F-8059-40BC-989D-BA3E0AD7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D182-4348-465C-BF50-A00EBDBA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Credit Working Group Update to W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. March 18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CWG March 2009 Update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s by MCWG since Feb W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Credit Risk Standard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tee of Chief Risk Officers Update to MC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Vice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WG Meet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WG has met twice since the last WMS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 March 6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 March 13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6, 2009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MCWG on update to C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Market Credit Risk Standard (MCRS) and decided to table for separate meeting on March 13, 2009 (also to discuss CCRO efforts on ISO/RTO best pract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NPRR 1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ed alternative proposal by Reliant.  Second alternative raised by 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consider the cap on the amount of the Reserve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und Mech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for a joint CMWG and MCWG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ing (??) Question for WMS –do we put this into the parking lot for now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tems raised for future discussion/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ion of invoice timing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bottom up review of existing creditworthiness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ch 13, 2009 Market Credit Risk Standard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ed by 18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erson of the Committee of Chief Risk Officers updated MCWG on CCRO efforts on ISO/RTO best practices (discussed af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sus reached on MCRS with the following caveats (next pag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sus Recommendations for the MC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modify the MCRS to bifurcate all scenarios &gt; 99% as a new bullet titled “large impact stress scenarios” to clearly delineate that these runs represent “black swan”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revise the MCRS to incorporate previous CWG recommendation to have an entity that is relying on a guarantor, to take on the rating of the guarantor, up to the amount of the guara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the unrated entity would take the midpoint between the guarantors rating and CCC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ly the models engine will not allow for this and Staff is investigating what is needed to run the model with the revised 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provide the MCWG with its plan to manage the MCRS, including plans for staffing with persons with the requisite skill set in financi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report back to MCWG on the feasibility of running the MCRS on a frequency greater than quart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run a simulation of the MCRS using the present methodology and the revised methodology for entities providing a guarantor, for the same period,  to demonstrate the difference from applying the different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publish the detail components of the MCRS engine as a procedure document for stakehold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RO Update to MC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Anderson, Executive Director of the CCRO spoke to MC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the mission of the CCRO, prior efforts and white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current initiatives in the area of ISO/RTO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RO planning a task force of senior industry participants to look at ISO/RTO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each will include regulators including FERC, PUCT and the CFTC, other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….Panel set by end of March.  Work product released by Jun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for Vice-C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nterested, let Vanessa Spells know, and we will work to nominating someone for WMS to approve for the April W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Busin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chedule a meeting of MCWG to update the group on action items from March W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update CWG on MCW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for a face-to-face meeting of MCWG (May-June??), to discuss NPRR-147 and other items to b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11:00Z</dcterms:created>
  <dc:creator>daviesm</dc:creator>
  <dc:description/>
  <dc:language>en-US</dc:language>
  <cp:lastModifiedBy>balbracht</cp:lastModifiedBy>
  <dcterms:modified xsi:type="dcterms:W3CDTF">2009-04-02T20:04:41Z</dcterms:modified>
  <cp:revision>8</cp:revision>
  <dc:subject/>
  <dc:title>Market Credit Working Group Update to WMS</dc:title>
</cp:coreProperties>
</file>