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DDE-C98C-44D4-9348-CF9A0EDF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978-67E6-432C-AC9B-2465BF3E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BDE-6596-453F-BE13-CC891B92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29D-AB51-4F7B-A3EF-A79628D2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737-6868-4CA7-8B59-25198E12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992-844C-4908-AA38-7789BD32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F76-9B5B-4DF1-8CE4-0579B686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ACE-8B02-4658-866F-017CFE04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31F-3754-4A58-A68A-E6E966EC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BFF-4F0A-4322-A715-D3DDD94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111-EA31-4DE0-AC15-523B0BD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CD0-2A48-4343-B35F-3A61571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ACCF-ABC3-432C-BED8-D7E77A05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WG Report to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Durrw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473-C7CB-4257-ADF5-3D3F6A2D5A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 to 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once in 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d Wind Workshop III Agenda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ork on outline for the Texas Renewables Implementation Plan (TR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for presentations to the RTWG from industry leaders in the area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 to Grid (V2G) storag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storag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AE3-854D-4088-9DB8-EE1D0E48F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ERCOT Operations to schedule and secure speakers for Wind Workshop I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d begin review of whitepapers for issues in the Undetermined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Renewable Technologies Integration Plan (RTIP) to ensure the efficient and reliable integration of renewable generation into the ERCOT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1AC-57C7-4992-BC81-EE441DF57E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49:35Z</dcterms:created>
  <dc:creator>Henry Durrwachter</dc:creator>
  <dc:description/>
  <dc:language>en-US</dc:language>
  <cp:lastModifiedBy>Henry Durrwachter</cp:lastModifiedBy>
  <dcterms:modified xsi:type="dcterms:W3CDTF">2009-04-07T19:21:26Z</dcterms:modified>
  <cp:revision>10</cp:revision>
  <dc:subject/>
  <dc:title>Slide 1</dc:title>
</cp:coreProperties>
</file>