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470775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707-A36A-4E6B-B98A-E1C98B86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2960" y="390240"/>
            <a:ext cx="67248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2960" y="2276280"/>
            <a:ext cx="67248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2960" y="5639760"/>
            <a:ext cx="67248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859-86D4-40BD-8D07-FBE3E0B5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2960" y="390240"/>
            <a:ext cx="67248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2960" y="2276280"/>
            <a:ext cx="32814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18880" y="2276280"/>
            <a:ext cx="32814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2960" y="5639760"/>
            <a:ext cx="32814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18880" y="5639760"/>
            <a:ext cx="32814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2FB-76F6-4F02-9610-05533448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2960" y="390240"/>
            <a:ext cx="67248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2960" y="2276280"/>
            <a:ext cx="216504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46720" y="2276280"/>
            <a:ext cx="216504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20480" y="2276280"/>
            <a:ext cx="216504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2960" y="5639760"/>
            <a:ext cx="216504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46720" y="5639760"/>
            <a:ext cx="216504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20480" y="5639760"/>
            <a:ext cx="216504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650-B142-48FB-9446-00AAFEE9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2960" y="390240"/>
            <a:ext cx="67248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2960" y="2276280"/>
            <a:ext cx="6724800" cy="64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624-6443-4FA6-BC6A-C653A3A3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2960" y="390240"/>
            <a:ext cx="67248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2960" y="2276280"/>
            <a:ext cx="6724800" cy="64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076-FA99-48DF-A7B7-6AD23251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2960" y="390240"/>
            <a:ext cx="67248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2960" y="2276280"/>
            <a:ext cx="3281400" cy="64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18880" y="2276280"/>
            <a:ext cx="3281400" cy="64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3CE-A206-4CDD-862F-6E71162A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2960" y="390240"/>
            <a:ext cx="67248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ABD-D784-42F1-80A3-667C9A25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2960" y="390240"/>
            <a:ext cx="672480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054-E4AA-422F-81B7-7B48A09F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2960" y="390240"/>
            <a:ext cx="67248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2960" y="2276280"/>
            <a:ext cx="32814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18880" y="2276280"/>
            <a:ext cx="3281400" cy="64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2960" y="5639760"/>
            <a:ext cx="32814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BCA-9B4A-4114-8912-B561009D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2960" y="390240"/>
            <a:ext cx="67248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2960" y="2276280"/>
            <a:ext cx="3281400" cy="64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18880" y="2276280"/>
            <a:ext cx="32814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18880" y="5639760"/>
            <a:ext cx="32814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AA3-015A-496A-B8AE-032219F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2960" y="390240"/>
            <a:ext cx="67248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2960" y="2276280"/>
            <a:ext cx="32814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18880" y="2276280"/>
            <a:ext cx="32814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2960" y="5639760"/>
            <a:ext cx="6724800" cy="30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AF2-4028-4A70-8522-57C541A6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2960" y="390240"/>
            <a:ext cx="67248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2960" y="2276280"/>
            <a:ext cx="6724800" cy="64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2960" y="8884800"/>
            <a:ext cx="17431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2760" y="8884800"/>
            <a:ext cx="23652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54640" y="8884800"/>
            <a:ext cx="17431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3953-8990-4608-9310-37B09A012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3080" y="217332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/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92360" y="30636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6a47"/>
                </a:solidFill>
                <a:uFillTx/>
                <a:latin typeface="Arial"/>
              </a:rPr>
              <a:t>New NPRR Proces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2360" y="1098720"/>
            <a:ext cx="2133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w Complete NPRR Submi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2360" y="1754280"/>
            <a:ext cx="213372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CEO Evalu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-liv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2"/>
            <a:endCxn id="43" idx="0"/>
          </p:cNvCxnSpPr>
          <p:nvPr/>
        </p:nvCxnSpPr>
        <p:spPr>
          <a:xfrm>
            <a:off x="3659040" y="582840"/>
            <a:ext cx="360" cy="516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>
            <a:off x="3659040" y="1329840"/>
            <a:ext cx="360" cy="424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5106960" y="178740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submitter within 3 Bus. D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2360" y="24969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tribute NPRR and CEO Evaluation to PRS; Post to the M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8" idx="0"/>
          </p:cNvCxnSpPr>
          <p:nvPr/>
        </p:nvCxnSpPr>
        <p:spPr>
          <a:xfrm>
            <a:off x="3659040" y="2193840"/>
            <a:ext cx="360" cy="303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183280" y="2428920"/>
            <a:ext cx="21333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ard Appeal of Evaluation by MP, ERCOT Member, PUCT/ERCOT Staff Within 10 Bus. D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8" idx="3"/>
            <a:endCxn id="50" idx="1"/>
          </p:cNvCxnSpPr>
          <p:nvPr/>
        </p:nvCxnSpPr>
        <p:spPr>
          <a:xfrm>
            <a:off x="4726080" y="2680920"/>
            <a:ext cx="4575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592360" y="3149640"/>
            <a:ext cx="2133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PRR Comment Period (3 Bus. Day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2360" y="3735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S Review @ Next Regularly Scheduled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8" idx="2"/>
            <a:endCxn id="52" idx="0"/>
          </p:cNvCxnSpPr>
          <p:nvPr/>
        </p:nvCxnSpPr>
        <p:spPr>
          <a:xfrm>
            <a:off x="3659040" y="2865240"/>
            <a:ext cx="360" cy="284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2" idx="2"/>
            <a:endCxn id="53" idx="0"/>
          </p:cNvCxnSpPr>
          <p:nvPr/>
        </p:nvCxnSpPr>
        <p:spPr>
          <a:xfrm>
            <a:off x="3659040" y="3380760"/>
            <a:ext cx="360" cy="354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068480" y="4192560"/>
            <a:ext cx="2133360" cy="5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CEO Go-Live Evaluation =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ign Post Go-live Preliminary Prio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3440" y="4192560"/>
            <a:ext cx="1981440" cy="85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S Action 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r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ferred - Subcommittee, WG, T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3" idx="2"/>
            <a:endCxn id="57" idx="1"/>
          </p:cNvCxnSpPr>
          <p:nvPr/>
        </p:nvCxnSpPr>
        <p:spPr>
          <a:xfrm flipH="1" rot="16200000">
            <a:off x="3857760" y="3904920"/>
            <a:ext cx="517320" cy="91476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3" idx="2"/>
            <a:endCxn id="56" idx="3"/>
          </p:cNvCxnSpPr>
          <p:nvPr/>
        </p:nvCxnSpPr>
        <p:spPr>
          <a:xfrm rot="5400000">
            <a:off x="3241800" y="4063680"/>
            <a:ext cx="377640" cy="45756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92360" y="5259240"/>
            <a:ext cx="213372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C Approves the NPR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C Approves Post Go-Live Prio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7" idx="2"/>
            <a:endCxn id="60" idx="3"/>
          </p:cNvCxnSpPr>
          <p:nvPr/>
        </p:nvCxnSpPr>
        <p:spPr>
          <a:xfrm rot="5400000">
            <a:off x="4930200" y="4844880"/>
            <a:ext cx="430200" cy="83844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87240" y="94042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6a47"/>
                </a:solidFill>
                <a:uFillTx/>
                <a:latin typeface="Arial"/>
              </a:rPr>
              <a:t>IA Proces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9880" y="872028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PRR CEO Evaluation Go-live? and NPRR Approved by 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560" y="8720280"/>
            <a:ext cx="6094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r 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3"/>
            <a:endCxn id="64" idx="1"/>
          </p:cNvCxnSpPr>
          <p:nvPr/>
        </p:nvCxnSpPr>
        <p:spPr>
          <a:xfrm flipV="1">
            <a:off x="2668680" y="8835840"/>
            <a:ext cx="381240" cy="68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1677960" y="842652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9880" y="8078760"/>
            <a:ext cx="18288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form 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9880" y="7697880"/>
            <a:ext cx="18288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S Reviews 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9880" y="7240680"/>
            <a:ext cx="18288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S Change to NPR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9880" y="6402240"/>
            <a:ext cx="18288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ised PRS Action 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9" idx="1"/>
            <a:endCxn id="44" idx="1"/>
          </p:cNvCxnSpPr>
          <p:nvPr/>
        </p:nvCxnSpPr>
        <p:spPr>
          <a:xfrm flipH="1" rot="10800000">
            <a:off x="839880" y="1973520"/>
            <a:ext cx="1752840" cy="5382720"/>
          </a:xfrm>
          <a:prstGeom prst="bentConnector3">
            <a:avLst>
              <a:gd name="adj1" fmla="val -13208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0"/>
            <a:endCxn id="63" idx="2"/>
          </p:cNvCxnSpPr>
          <p:nvPr/>
        </p:nvCxnSpPr>
        <p:spPr>
          <a:xfrm flipV="1">
            <a:off x="1753920" y="9088560"/>
            <a:ext cx="720" cy="316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3" idx="0"/>
            <a:endCxn id="67" idx="2"/>
          </p:cNvCxnSpPr>
          <p:nvPr/>
        </p:nvCxnSpPr>
        <p:spPr>
          <a:xfrm flipV="1">
            <a:off x="1754280" y="8309880"/>
            <a:ext cx="360" cy="41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7" idx="0"/>
            <a:endCxn id="68" idx="2"/>
          </p:cNvCxnSpPr>
          <p:nvPr/>
        </p:nvCxnSpPr>
        <p:spPr>
          <a:xfrm flipV="1">
            <a:off x="1754280" y="7929000"/>
            <a:ext cx="360" cy="1501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0"/>
            <a:endCxn id="69" idx="2"/>
          </p:cNvCxnSpPr>
          <p:nvPr/>
        </p:nvCxnSpPr>
        <p:spPr>
          <a:xfrm flipV="1">
            <a:off x="1754280" y="7471800"/>
            <a:ext cx="360" cy="226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0"/>
            <a:endCxn id="70" idx="2"/>
          </p:cNvCxnSpPr>
          <p:nvPr/>
        </p:nvCxnSpPr>
        <p:spPr>
          <a:xfrm flipV="1">
            <a:off x="1754280" y="6633360"/>
            <a:ext cx="360" cy="607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90560" y="67834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/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080" y="71643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0" idx="1"/>
            <a:endCxn id="60" idx="1"/>
          </p:cNvCxnSpPr>
          <p:nvPr/>
        </p:nvCxnSpPr>
        <p:spPr>
          <a:xfrm flipH="1" rot="10800000">
            <a:off x="839880" y="5478840"/>
            <a:ext cx="1752840" cy="1039320"/>
          </a:xfrm>
          <a:prstGeom prst="bentConnector3">
            <a:avLst>
              <a:gd name="adj1" fmla="val -13208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2782800" y="5945040"/>
            <a:ext cx="1752840" cy="5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ard Approves the NPR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ard Approves Post Go-live Prio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6080" y="7088040"/>
            <a:ext cx="17524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O Go-live Evalu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26080" y="6478560"/>
            <a:ext cx="17524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t Go-Live Parking Ga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6080" y="7773840"/>
            <a:ext cx="175248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lement Nodal Protoc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0" idx="2"/>
            <a:endCxn id="81" idx="1"/>
          </p:cNvCxnSpPr>
          <p:nvPr/>
        </p:nvCxnSpPr>
        <p:spPr>
          <a:xfrm flipH="1" rot="16200000">
            <a:off x="3851640" y="6329160"/>
            <a:ext cx="682200" cy="106740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1" idx="2"/>
            <a:endCxn id="83" idx="0"/>
          </p:cNvCxnSpPr>
          <p:nvPr/>
        </p:nvCxnSpPr>
        <p:spPr>
          <a:xfrm>
            <a:off x="5602320" y="7319160"/>
            <a:ext cx="360" cy="455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1" idx="0"/>
            <a:endCxn id="82" idx="2"/>
          </p:cNvCxnSpPr>
          <p:nvPr/>
        </p:nvCxnSpPr>
        <p:spPr>
          <a:xfrm flipV="1">
            <a:off x="5602320" y="6709680"/>
            <a:ext cx="360" cy="378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726080" y="17542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4160" y="73929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60" idx="2"/>
            <a:endCxn id="80" idx="0"/>
          </p:cNvCxnSpPr>
          <p:nvPr/>
        </p:nvCxnSpPr>
        <p:spPr>
          <a:xfrm>
            <a:off x="3659040" y="5698800"/>
            <a:ext cx="360" cy="24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6" idx="2"/>
          </p:cNvCxnSpPr>
          <p:nvPr/>
        </p:nvCxnSpPr>
        <p:spPr>
          <a:xfrm>
            <a:off x="2135160" y="4769280"/>
            <a:ext cx="720" cy="7192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44" idx="3"/>
            <a:endCxn id="47" idx="1"/>
          </p:cNvCxnSpPr>
          <p:nvPr/>
        </p:nvCxnSpPr>
        <p:spPr>
          <a:xfrm flipV="1">
            <a:off x="4726080" y="1971360"/>
            <a:ext cx="38124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5564160" y="678348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8680" y="86882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54280" y="36590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/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3560" y="122076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In Flight NPRR Proces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9880" y="2013120"/>
            <a:ext cx="198108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Approved Project 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in Budget and Time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560" y="3149640"/>
            <a:ext cx="213372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form ERCOT CEO Evalu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-liv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5" idx="2"/>
            <a:endCxn id="96" idx="0"/>
          </p:cNvCxnSpPr>
          <p:nvPr/>
        </p:nvCxnSpPr>
        <p:spPr>
          <a:xfrm>
            <a:off x="1829880" y="1677600"/>
            <a:ext cx="1080" cy="335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>
            <a:off x="1829880" y="2660760"/>
            <a:ext cx="1080" cy="489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763560" y="4268880"/>
            <a:ext cx="213372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tribute NPRR &amp; Evaluation to 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t to the M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7" idx="2"/>
            <a:endCxn id="100" idx="0"/>
          </p:cNvCxnSpPr>
          <p:nvPr/>
        </p:nvCxnSpPr>
        <p:spPr>
          <a:xfrm>
            <a:off x="1829880" y="3592080"/>
            <a:ext cx="1080" cy="67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354480" y="4237200"/>
            <a:ext cx="21333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ard Appeal of Evaluation by MP, ERCOT Member, PUCT/ERCOT Staff Within 10 Bus. D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3"/>
            <a:endCxn id="102" idx="1"/>
          </p:cNvCxnSpPr>
          <p:nvPr/>
        </p:nvCxnSpPr>
        <p:spPr>
          <a:xfrm>
            <a:off x="2897280" y="4490640"/>
            <a:ext cx="457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763560" y="5183280"/>
            <a:ext cx="2133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 BD NPRR Comment Peri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560" y="59450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S Reviews CEO Evaluation  @ Next Regularly Scheduled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2"/>
            <a:endCxn id="104" idx="0"/>
          </p:cNvCxnSpPr>
          <p:nvPr/>
        </p:nvCxnSpPr>
        <p:spPr>
          <a:xfrm>
            <a:off x="1829880" y="4711680"/>
            <a:ext cx="1080" cy="4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4" idx="2"/>
            <a:endCxn id="105" idx="0"/>
          </p:cNvCxnSpPr>
          <p:nvPr/>
        </p:nvCxnSpPr>
        <p:spPr>
          <a:xfrm>
            <a:off x="1829880" y="5420880"/>
            <a:ext cx="1080" cy="524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763560" y="6823080"/>
            <a:ext cx="2133720" cy="5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Go-Live Evaluation =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ign Post Go-live Preliminary Prio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5880" y="214956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sues an Affirmative CEO Go-live Evalu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4680" y="2081160"/>
            <a:ext cx="198108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inue NPRR Process @ current in-flight point for each NPR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6" idx="3"/>
            <a:endCxn id="109" idx="1"/>
          </p:cNvCxnSpPr>
          <p:nvPr/>
        </p:nvCxnSpPr>
        <p:spPr>
          <a:xfrm>
            <a:off x="2820600" y="23364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3"/>
            <a:endCxn id="110" idx="1"/>
          </p:cNvCxnSpPr>
          <p:nvPr/>
        </p:nvCxnSpPr>
        <p:spPr>
          <a:xfrm>
            <a:off x="4649400" y="2336400"/>
            <a:ext cx="305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712960" y="212868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4280" y="27446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5" idx="2"/>
            <a:endCxn id="108" idx="0"/>
          </p:cNvCxnSpPr>
          <p:nvPr/>
        </p:nvCxnSpPr>
        <p:spPr>
          <a:xfrm>
            <a:off x="1829880" y="6319800"/>
            <a:ext cx="1080" cy="50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3"/>
            <a:endCxn id="110" idx="2"/>
          </p:cNvCxnSpPr>
          <p:nvPr/>
        </p:nvCxnSpPr>
        <p:spPr>
          <a:xfrm flipV="1">
            <a:off x="2897280" y="2591640"/>
            <a:ext cx="3048480" cy="45219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2897280" y="335448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6240" y="30495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/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6:22:36Z</dcterms:created>
  <dc:creator>Luminant</dc:creator>
  <dc:description/>
  <dc:language>en-US</dc:language>
  <cp:lastModifiedBy>Henry Durrwachter</cp:lastModifiedBy>
  <dcterms:modified xsi:type="dcterms:W3CDTF">2009-03-17T13:18:06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