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C63-7B04-4387-A056-E68235F7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62A-13ED-4BA5-8F50-8CE00060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151-67EE-481B-BD20-9ABAE6B2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81E-2180-4E1D-8D6B-FF950A8C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9507-6C3A-4E29-84CD-FB16BD4B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A355-146A-4A63-90C3-A138B57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9FB6-1F57-4F0B-B767-57B73BCC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AFD9-FC93-4BA0-92AC-AB4E3630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6376-C339-4D5F-BA45-11748FB1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3C7A-D73B-473D-94E4-BBD85A55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A35F-14E5-4EDA-8D49-C517FAE4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895-AC1D-4F73-8A53-7C64F56C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E56D-9FDE-41B1-98D0-485FEE8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E9CF-D128-4F82-8A59-C6968FF8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C739-C56F-4758-BF91-DB2CC29A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B3D8-1290-49C8-8B2F-8D502F5F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1B5F-E6EB-41C0-83FC-D036FE91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434-1E4B-4D5B-AFFA-E8BCCB1B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A84-35E0-4876-9237-E789646F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EE0-0C6B-419E-AB5B-DBC73BDA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CA2-0CB3-4CD6-8866-2CBB17FF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9F5-18F8-4009-94E9-5740AF4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A16-36B2-4439-8AD7-2B500E2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F2A-5103-4567-9249-BFD7928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5C5E-D20E-4B20-9695-FEB82C68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DBE7-5D29-42B9-8BC8-6719CBA17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SE Managers Working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0481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 No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 February, 2009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to W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 March,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vid Detelich - Chairp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Managers Working Group 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ice Chai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 Operations Issu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GRPP Forecast process improv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GRPP Forecast accuracy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 Nodal ICCP Communication Handbook for revie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GRR - Allow frequency control data through ICCP infrastructu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GR only QSE Scheduling Metr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ce Chai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nnifer Troutm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EP Energy Part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GRPP Forecast process improve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754, WGRPP Forecast Po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will leverage its redundant EMMS infrastructure located at both ERCOT datacenters by providing WGR QSEs their current forecasts through the existing zonal XML Market User Interface (MUI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objections from QMW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 about using MOS Sender but ERCOT not comfortable with that as an op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GRPP Forecast accuracy analysi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being used by AWS Truewind to build power curv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quality issues still exis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will work with AWS Truewind to verify the MET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reports went to Board from Oper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of data transfer from ERCOT to AWS Truewind discu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turbines available would be improvement – system changes requir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Nodal ICCP Communication Handbook for review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t Mereness requested review of cont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ticipants stated this should be in the Operating Guides as in Zon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is be accomplish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GRR - Allow frequency control data through ICCP infrastructur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RCOT requests that QMWG/WMS sponsor this OGR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OGRR revises the required communication technology for QSE frequency control data from RTU-only to RTU or ICC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will allow QSEs to begin the move to the communication technology that will be in affect at Nodal go-liv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GR only QSE Metr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ussion progressed on metrics fo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onal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 needs additional telemet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 Time Generation Potent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ber of turbines avail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MWG – Future Agenda I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 Operations Iss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accuracy re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GR only QSE Metr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rly scheduling metr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ion of metrics to impact conges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xt Meeting: 3/26/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CPS Energy</cp:lastModifiedBy>
  <dcterms:modified xsi:type="dcterms:W3CDTF">2009-03-16T13:37:23Z</dcterms:modified>
  <cp:revision>63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