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0030-1A95-428B-B566-6222A707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37A9-55F1-431E-AEDE-2BF64D26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8802-1888-4B17-8183-27F7EA54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F275-E077-4A82-AB29-299A4FC9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A98F-9FE3-485A-9118-E7CC0ABD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9966-EAE5-4B0E-89EB-9A3A53E9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B6A1-1CF1-475A-9877-36E7DF7C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5B766-25D4-4428-8B8E-976580A7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3771A-DD1D-47AA-AB3B-18E37D4B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F264-E3BB-4EC6-A5F7-79F52B9C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159E-59E8-4D9D-9500-2679019E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2704-E846-44C3-AB22-DAD26AE2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06C8-4223-4E55-A51A-C971BA184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55A9-FBD3-423A-A076-45EF652B9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1904760"/>
            <a:ext cx="601956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R754 WGRPP Forecasts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520" y="434304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agle Low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nager – Divisional Project Org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200400"/>
            <a:ext cx="64767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ERCOT Wholesale Market Subcommitt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March 18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CR754-Replace Emailed WGRPP Forecasts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Zonal EMMS infrastruct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 within each datacenter and failover capability between datace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age existing backe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age Zonal Market User Interface (MUI) currently being used by QS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existing QSE queries using the Zonal Market User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llary Service Re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llary Service Obl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Load Fore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ed forecasts will remain in affect until QSE’s are able to pick up the forecast via the MU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will need to be established to manage the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coordination among several IT groups to impl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pplication testing dealing with the various EMMS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d testing with QSE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ed 3 months to implement after Board approval, 50K-100K c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ilize funding from “Additional Zonal Projects Requested After Determination of New Nodal Go-Live Date” project on P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osed Proje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90020_01 Zonal AWS Wind Generation Forecasts for Q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on to grant SCR754 Urgent status, recommend approval of SCR754 as amended by the 2/16/09 ERCOT comments, endorse the Impact Analysis and CBA with a project priority of 2-High and ranking of 39.2. Utilize funding from “Additional Zonal Projects Requested After Determination of New Nodal Go-Live Date” project on P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DF40-6ED4-4B03-94E6-B1FEEE42AF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/18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wlowe</cp:lastModifiedBy>
  <dcterms:modified xsi:type="dcterms:W3CDTF">2009-03-11T18:06:40Z</dcterms:modified>
  <cp:revision>320</cp:revision>
  <dc:subject/>
  <dc:title>Instructions</dc:title>
</cp:coreProperties>
</file>