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8FD-D1D1-42FA-90AF-C20810CB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872-0724-4292-B3F6-C5B25A4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24C-2EC3-49FF-B21B-BEB66A30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0A3-431A-4A2C-9138-AB7C53CC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B456-092A-4523-B405-A0163581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28CD-5958-49BB-A4D0-1726E2A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ED15-1AF4-49D2-96F4-BF8986C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AF8B-5541-4837-8254-E6E15B7F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E32F-413B-4ABE-A0C9-8D61E3F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4619-7021-4BCE-9D1E-9559A0A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3A2-9BCE-46E5-86A3-002C984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6A4-2FE6-4BA0-B8BC-C865D285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E10E-1481-4CA9-AA37-D77B279F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136-1CDC-4236-B62A-6E04A12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DF8-2E32-4077-B5F7-7645FBB3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70F-3172-4E46-8926-3A5E25E8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EFDA-C3BF-43B3-BA9B-D831F943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BB3-E515-4D4C-8908-5C9C321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937-BB87-49B6-A6F5-94CC575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F10-3796-4660-8992-0583C87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4F5-5987-4E96-A56A-A633DCD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DFE-E782-4BB3-A8B2-DB0D122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438-18CE-4E05-BA70-68B02B0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C79-58E1-44DE-9D3A-DF898B3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99C-AA20-49AE-9E60-ED09CC352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F85-7D04-473D-AD5F-44307E43F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erifiable Costs Submission QSEs vs 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ch 18,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190200" y="638028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ussell Love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8F9-95E7-4257-9D47-894C00A803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VCWG Proposed Solution – Allow either Resources or QSEs to file Verifiable Costs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s best solution to address issues inherent with requiring only a single entity (either Resource Owner or QSE) to submit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will create defined procedures to ensure data integrity, accountability and confidential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ined procedures will addres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hich entity will be responsible for data after submitt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hich entity must attest to the accuracy of the 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hat information will be shared with each ent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hich entity is responsible for addressing ERCOT’s issues with the verifiable cos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ocumentation, attestations or other forms required for verifiable costs when multiple entities have the ability to submit verifiable cos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pports various business models and services that are provided in the market (I.e. QSE Services, future Tolling Agreement/PPA’s etc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dentifies the entity responsible for a resources data without giving up issues of confidential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duces overhead work from ERCOT by allowing resource costs to remain with the Resource Owner and not the Q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4D3-6AD3-4753-8B14-CB370E918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ahoma"/>
              </a:rPr>
              <a:t>QSEs filing Verifiable Costs (VC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’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r protocols, QSEs are the entity responsible for all financial arrangements with ERCO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QSE defined as the entity to dispute any settlement issues, including any settlement related to make-whole credits calculated from verifiable cos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liminates any confusion by ERCOT as to which entity to discuss resource cost issu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ere are fewer number of QSEs than Resources, reducing the number of entities involved in dealing with ERCOT direct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ingle point of contact for ERCOT staff for all Resources under the QSE for VC discuss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ome Resources may not have the expertise to file V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QSEs will know what costs are filed with ERCOT so that Offer Caps can be calculat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n’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QSE’s do not always have decision making authority for resour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QSE’s may represent multiple unaffiliated resources and thus should not have access to confidential resource cost data required by the ERCOT Verifiable Cost Process (I.e. water contracts, service contracts etc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source Owners have access to and can provide most accurate information regarding cos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Verifiable Cost process must be re-initiated every time resource switches Q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0FB-D37B-4E9D-B7F7-0179522B5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ahoma"/>
              </a:rPr>
              <a:t>Resources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Tahoma"/>
              </a:rPr>
              <a:t> filing VC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erifiable costs are directly associated with Resources, not QSE’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 directly submitted from Resources (No middle agent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duces probability of error as Resource Owner has all the information pertaining to resource cos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ccountability of accuracy of data resides with owner of 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aster response time for inquiries by ERCOT on questions raised on dat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re consistent information between RARF and verifiable cos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f resource switches QSE’s, costs can move to new QSE without re-initiating Verifiable Cost Process aga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duce time requirements for data flow from Resources to ERCOT, bypassing the time required for QSEs to collect, review and submit data to ERCO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ddresses confidentiality issues raised by some Resourc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eates confusion within ERCOT in which entity to discuss resource costs or disputed items involving resource costs (I.e. RUC make-whole credits calculated based on verifiable cos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eates an additional entity that ERCOT must interact for specific purpo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575-1344-4292-AC0B-F767A0E3B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Ino</dc:creator>
  <dc:description/>
  <dc:language>en-US</dc:language>
  <cp:lastModifiedBy>Russell Lovelace</cp:lastModifiedBy>
  <dcterms:modified xsi:type="dcterms:W3CDTF">2009-03-03T14:53:48Z</dcterms:modified>
  <cp:revision>156</cp:revision>
  <dc:subject/>
  <dc:title>Verifiable Costs Submission QSE vs Resource</dc:title>
</cp:coreProperties>
</file>