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75B-35AE-47E9-A733-22A5BBA5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9B4-44E6-4616-90B7-455F5F1B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8C2-F4B5-4E6F-8E3F-6510ABDB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711-9F6B-4FDC-8CBC-C0D3AC60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843-96F1-417A-9BB5-FBB1FD5E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C08-AAE2-411E-8F27-FBB266F1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24D-92A0-4CCD-BEDD-2DC73178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2A3-824C-4CFC-B145-A927EF33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38188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CCC-CAE3-4DFD-BF73-1F26DA76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1EB-0819-43BC-B692-79DB9FA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74D-9FD0-43A7-9C7A-CADA2941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D83-D08F-4E21-980E-A2476C57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476760"/>
            <a:ext cx="914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9CCC-A4E7-4967-9AF8-111181307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1981440" cy="424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317520">
            <a:solidFill>
              <a:srgbClr val="d85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Management Work Grou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MS 3-18-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uerite Wagner, PSEG Tex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Discu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 for Adjusting TTC for TCR au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 Ou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Angelo – Men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GRR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05280" y="304560"/>
            <a:ext cx="9829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CR Determination: # of TCRs for A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7.5.3.1 provide ERCOT with authority to adjust # of TCRs for s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termining the amount of TCRs available in each monthly auction, ERCOT shall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ek to achieve revenue neutrality and avoid a revenue shortfall due to payment to TCR holders for the mon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ropos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sts + TCR Revenues – TCR Paymen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WG Discussion – Auction Revenues should not be considered in the revenue neutralit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lternate proposal discussed at CMWG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sts + TCR revenues for oversold #TCRs only - TCR payment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448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CR Determination: Questions for W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ERCOT adjust number of TCRs for sale in month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ability to hedge ‘prompt month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Congestion Rents Not Sufficient to Cover Pay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ifficulty to forecast avail Transmission Capability in 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improve with longer lead times for Outage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ton Substation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resented outline outages being taken to allow construction of Singleton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20 – 4/9: various coincidental outages of Tomball-Jewett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n ERCOT determination to implement “conditional”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s to Flewellen 138kV line and the Tomball to Hockley 138kV line as C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1143000"/>
            <a:ext cx="3287520" cy="506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0120" y="5791320"/>
            <a:ext cx="144756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 Angelo - Men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identified by I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discussed potential CRE—but line currently outaged—delaying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OOMing fo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2010 CS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tu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768840" cy="3103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48320" y="3276720"/>
            <a:ext cx="11430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coming Work Items for CM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need refinement in protocols about PTDF effectiveness before 2010 CSC determ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year were guided by 3%/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ERCOT/Market use/understanding of “conditional”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GRR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GRR 25 – OWG Request to CMWG Develop Metrics for Nodal Protoc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2.4(a)8.2(2)(d)Three consecutive days of a particular congestion constraint (constraints passed to Security-Constrained Economic Dispatch (SCED) from Network Security Analysis (NSA)) in Real-Time not identified in the Day Ahead Market (DAM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2.4(b)8.2(2)(d)Two consecutive hours of a particular congestion constraint in Real-Time not identified in the Hourly Reliability Unit Commitment (HRUC) proces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2.4(c)8.2(2)(d)Two consecutive days of a particular congestion constraint in Real-Time not identified in the Day-Ahead Reliability Unit Commitment (DRUC)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19:45Z</dcterms:created>
  <dc:creator>PSEG TX </dc:creator>
  <dc:description/>
  <dc:language>en-US</dc:language>
  <cp:lastModifiedBy>PSEG</cp:lastModifiedBy>
  <dcterms:modified xsi:type="dcterms:W3CDTF">2009-03-14T21:37:44Z</dcterms:modified>
  <cp:revision>19</cp:revision>
  <dc:subject/>
  <dc:title>Congestion Management Work Group Update</dc:title>
</cp:coreProperties>
</file>