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77198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38360" y="3609720"/>
            <a:ext cx="77198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3836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9404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48360" y="130788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58720" y="130788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38360" y="360972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48360" y="360972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58720" y="360972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909720" y="609120"/>
            <a:ext cx="7548480" cy="19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3836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9404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38360" y="3609720"/>
            <a:ext cx="77198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77198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38360" y="3609720"/>
            <a:ext cx="77198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3836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9404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48360" y="130788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8720" y="130788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738360" y="360972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48360" y="360972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58720" y="360972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909720" y="609120"/>
            <a:ext cx="7548480" cy="19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73836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9404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738360" y="3609720"/>
            <a:ext cx="77198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77198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738360" y="3609720"/>
            <a:ext cx="77198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3836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9404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348360" y="130788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958720" y="130788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738360" y="360972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348360" y="360972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958720" y="360972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909720" y="609120"/>
            <a:ext cx="7548480" cy="19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73836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9404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738360" y="3609720"/>
            <a:ext cx="77198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77198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738360" y="3609720"/>
            <a:ext cx="77198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3836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9404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348360" y="130788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958720" y="130788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738360" y="360972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348360" y="360972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958720" y="360972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09720" y="609120"/>
            <a:ext cx="7548480" cy="19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3836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9404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38360" y="3609720"/>
            <a:ext cx="77198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909720" y="5940360"/>
            <a:ext cx="7777080" cy="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7840" indent="-17784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457200" indent="-165240">
              <a:spcBef>
                <a:spcPts val="499"/>
              </a:spcBef>
              <a:buClr>
                <a:srgbClr val="ff6633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749160" indent="-1774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028880" indent="-165240">
              <a:spcBef>
                <a:spcPts val="499"/>
              </a:spcBef>
              <a:buClr>
                <a:srgbClr val="ff66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1490760" indent="-2332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1490760" indent="-233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1490760" indent="-233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232680" y="5952960"/>
            <a:ext cx="2639880" cy="831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09360" y="669600"/>
            <a:ext cx="777708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4149720"/>
            <a:ext cx="9144000" cy="27147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6297480" y="5872320"/>
            <a:ext cx="2789280" cy="87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586560" y="6113520"/>
            <a:ext cx="2138400" cy="4111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09720" y="5940360"/>
            <a:ext cx="7777080" cy="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7840" indent="-17784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457200" indent="-165240">
              <a:spcBef>
                <a:spcPts val="499"/>
              </a:spcBef>
              <a:buClr>
                <a:srgbClr val="ff6633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749160" indent="-1774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028880" indent="-165240">
              <a:spcBef>
                <a:spcPts val="499"/>
              </a:spcBef>
              <a:buClr>
                <a:srgbClr val="ff66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1490760" indent="-2332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1490760" indent="-233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1490760" indent="-233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09360" y="669600"/>
            <a:ext cx="777708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4149720"/>
            <a:ext cx="9144000" cy="271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Wind Operations Task Force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Overview for ROS March 2009 meeting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7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7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77840" indent="-17784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WOTF is continuing work on issues #1a/b/c, 1d, 3e, and 5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77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An e-mail list at lists.ercot.com has been established for the group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7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909720" y="609480"/>
            <a:ext cx="6710400" cy="41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Wind Operations Task Force – status on #1a/b/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38360" y="1308240"/>
            <a:ext cx="77198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Issue 1a/b/c: Better defined voltage support requirements &amp; practices, and SCADA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Phase 1, a survey by staff of existing capabilities, </a:t>
            </a:r>
            <a:r>
              <a:rPr b="0" lang="en-US" sz="1800" spc="-1" strike="noStrike" u="sng">
                <a:solidFill>
                  <a:srgbClr val="333333"/>
                </a:solidFill>
                <a:uFillTx/>
                <a:latin typeface="Arial"/>
              </a:rPr>
              <a:t>was just completed in Jan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. As a result, ERCOT system operators have a better understanding of the capabilities at each wind fa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Phase 2 was holding the Wind Workshop II on Aug 22 (complet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WOTF has been discussing a possible action item for Phase 3.  The main item being discuss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Possible improvements in better coordination of all data requests and requirements.  The WOTF Modeling Subgroup, led by Brad Schwarz (E.On), has met twice.  </a:t>
            </a:r>
            <a:r>
              <a:rPr b="0" lang="en-US" sz="1800" spc="-1" strike="noStrike" u="sng">
                <a:solidFill>
                  <a:srgbClr val="333333"/>
                </a:solidFill>
                <a:uFillTx/>
                <a:latin typeface="Arial"/>
              </a:rPr>
              <a:t>It developed a 2 page list of items for staff to consider.  Further action has been tabled while staff considers the possible consultants for the Low Voltage Ride Through stud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909720" y="609480"/>
            <a:ext cx="6710400" cy="41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Wind Operations Task Force – status on #1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8360" y="1308240"/>
            <a:ext cx="77198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Issue 1d: Generation Interconnection Check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Part 1 is complete – development of the Nodal readiness metri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Part 2 – review of a voltage control test, prequalification, and synchronization test requirements – The WOTF is still waiting on a first draft from staff.  Staff has a draft under consideration.  See Operating Guide 3.1.4.3 -- Unit Reactive Capability Tes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909720" y="609480"/>
            <a:ext cx="6710400" cy="41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Wind Operations Task Force – status on #3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38360" y="1308240"/>
            <a:ext cx="77198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Issue 3e: Evaluating possible coordination of transmission line outa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MWG helped develop, PRS has approved, and TAC is considering </a:t>
            </a:r>
            <a:r>
              <a:rPr b="0" lang="en-US" sz="2000" spc="-1" strike="noStrike" u="sng">
                <a:solidFill>
                  <a:srgbClr val="333333"/>
                </a:solidFill>
                <a:uFillTx/>
                <a:latin typeface="Arial"/>
              </a:rPr>
              <a:t>PRR 795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: “90-Day Transmission Outage Scheduling Timeline” to cover TCR deadlines.  This should be effective March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he CMWG is not drafting any further developments at this time, waiting to see the results of PRR 79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he WOTF has kept this issue open as a placeholder to consider the reliability aspects of a coordination proposal if one was developed by the marketing grou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909720" y="609480"/>
            <a:ext cx="6710400" cy="41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Wind Operations Task Force – status on #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38360" y="1308240"/>
            <a:ext cx="77198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Issue 5: Alternate solutions to high frequency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Governor Response – Since Type 3 &amp; Type 4 wind turbines can possibly provide such service, how can this capability be utilized?  </a:t>
            </a:r>
            <a:r>
              <a:rPr b="0" lang="en-US" sz="1800" spc="-1" strike="noStrike" u="sng">
                <a:solidFill>
                  <a:srgbClr val="333333"/>
                </a:solidFill>
                <a:uFillTx/>
                <a:latin typeface="Arial"/>
              </a:rPr>
              <a:t>Walter Reid has drafted a white paper that will be discussed at the next mee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Reg down bids – Response capability is technology specific; and protocol changes would be necessary.  How can we measure response of an intermittent resource?  The WOTF will be discussing a white paper in a subsequent mee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909720" y="609480"/>
            <a:ext cx="6710400" cy="41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Wind Operations Task Force – upco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38360" y="1308240"/>
            <a:ext cx="77198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The next WOTF mtg will be Tues March 3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4T04:25:02Z</dcterms:created>
  <dc:creator>mgarrett</dc:creator>
  <dc:description/>
  <dc:language>en-US</dc:language>
  <cp:lastModifiedBy>mgarrett</cp:lastModifiedBy>
  <dcterms:modified xsi:type="dcterms:W3CDTF">2009-03-11T22:50:04Z</dcterms:modified>
  <cp:revision>21</cp:revision>
  <dc:subject/>
  <dc:title>Wind Operations Task Force</dc:title>
</cp:coreProperties>
</file>