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1E6A-225B-46CC-93EF-4FAE5609FE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B03A-4E81-4A48-8FAB-101523A4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EC16-20BB-4031-AF63-8A0C677D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34D0-DA38-4B45-AD0D-E97FA0614E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5B99-0A40-4E17-8DFC-380F23E8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DD21-49D1-4859-83FB-88E449AF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7DFA-368A-48AB-97AD-0A8CB462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A7B1-F86D-4689-8D7E-F3E52670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5E61-4248-47B2-8DCE-A1E98E16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084F-0192-4CF7-A1AC-E9CAAA58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D4CA-6C12-4175-8706-8DB4DC49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400C-64D8-46BD-B0FA-33E00D13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96B6-85D9-4DC3-9500-136B7D4BF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61C6-62AB-41E3-AC71-F990A60B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content/meetings/finance_audit/keydocs/2009/0217/20090217_FA_Meeting_Materials.pdf" TargetMode="External"/><Relationship Id="rId2" Type="http://schemas.openxmlformats.org/officeDocument/2006/relationships/hyperlink" Target="http://www.ercot.com/content/meetings/finance_audit/keydocs/2009/0317/20090317_FA_Meeting_Materials.pdf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ch 19, 2009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 Unfunded Marke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nfunded market projects as of 3/12/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 Project Funding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O Review Template (PRR7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0FFA-9FA8-4EF1-A152-29C23368EB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Unfunded Project Lis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funded Project List – Quarterly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t any unfunded market projects at thi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hange since last report (12/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D3A8-84F5-428E-9F5E-A54A1A0ED6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Spending Update – 3/12/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762120"/>
          <a:ext cx="8305560" cy="4956120"/>
        </p:xfrm>
        <a:graphic>
          <a:graphicData uri="http://schemas.openxmlformats.org/drawingml/2006/table">
            <a:tbl>
              <a:tblPr/>
              <a:tblGrid>
                <a:gridCol w="2036520"/>
                <a:gridCol w="1890720"/>
                <a:gridCol w="2113200"/>
                <a:gridCol w="226512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nding Forec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4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32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968,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99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49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492,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439,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39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39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365,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5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50,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348,05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d bu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alloc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32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1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1,4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2,613,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215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Center Replac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9,848,6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enter Expan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720,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8,1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8,1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9,181,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4267080" y="16765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8862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44956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49528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3341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4382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20574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28954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2193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1000" y="596124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920" y="5961240"/>
            <a:ext cx="3117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or Cap transferred from IO to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867280"/>
            <a:ext cx="28191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59436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1920" y="5943600"/>
            <a:ext cx="280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ments in project fore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5867280"/>
            <a:ext cx="2590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16765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12193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94360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4840" y="5943600"/>
            <a:ext cx="27914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Metering final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5867280"/>
            <a:ext cx="2743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1A8C-5963-445C-B9F0-293C681ED6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3505320"/>
            <a:ext cx="853452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YTD 2009 Project Implement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70007_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rak Enhancements (SCR7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03_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Performan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80038_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L Audit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-80036_0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RCOT / TRE Accoun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ntent/meetings/finance_audit/keydocs/2009/0217/20090217_FA_Meeting_Materials.pdf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(p. 8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-60058_0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Project Server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rcot.com/content/meetings/finance_audit/keydocs/2009/0317/20090317_FA_Meeting_Materials.pdf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(p. 4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300"/>
              </a:spcBef>
              <a:buNone/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7F3B-A98D-42F1-9651-3F8C51246F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 -  CEO Review Templ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Word docu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9F96-E586-4AF6-9CB7-53744C7C2D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9-03-13T18:23:23Z</dcterms:modified>
  <cp:revision>352</cp:revision>
  <dc:subject/>
  <dc:title>Instructions</dc:title>
</cp:coreProperties>
</file>