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7FAB-E4B0-40C0-AC5F-40FBC319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F44-033D-4637-B31B-0E750975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C45A-0247-4399-A182-FBE7A548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912-5113-4BBA-9236-099A653C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8F03-FC96-4A37-96D6-01EEB82E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3EE3-36E1-4CED-AE5A-B4D5B0BB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3CEF-340E-449F-8DC4-0E9BDCC4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43CE-3D0C-4813-B58E-59F5D4AD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A987-9C74-4723-AE6F-3B3D6CEC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D127-2935-4D5D-9FA7-4E10134F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59D9-E0D5-4C1B-AE95-9F6E986F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A970-B3B2-4A69-BAEA-22861BCB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8367-1E6F-49E9-8D84-CC4AFBAB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C7F6-42F6-4C19-B849-80AC26A8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37D7-734E-4888-ABEE-2944DB9C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B841-C546-43C9-8F5A-4BA6B54D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3126-CF87-44C4-90BC-24A1EEA1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8E62D-82F3-41C3-9C27-0778C730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8980C-8828-4A85-9A12-A60E26B5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43A1B-B567-4067-8857-5D96376E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73EB9-A971-4064-8884-F0F00001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1F493-40A6-49FA-9EEF-C3B77BAA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ADD-31A6-4527-8BB6-29EAF259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A5D29-7FB5-49A2-8E34-8C6EBB75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3102D-3519-414B-BE1C-B5E06AD3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0F494-8028-4A17-B1E5-4D883DCE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7A3DB-C4A5-4476-B425-C9BD4510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AA48B-A049-4652-ABC8-C724D398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97B5A-0935-4B32-A4F3-56137A96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CA500-DADC-4845-B1A7-EF7E0308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1526F-044A-4E4D-97F4-06BF1FAA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6B969-D66A-4B82-AA12-A540F304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A092F-E803-4EBF-8638-0CAD6964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663-BD11-4E9A-8F60-E7D9FB68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8EEF7-B1CB-43AC-9CED-1C58E9E7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5A649-EA88-44A3-90B1-C0A58223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82A26-8142-41F4-B871-89669BDF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28AF3-C792-4652-AECC-C8B47E63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1485B-334F-426D-9596-BD0058B3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6764E-3DA1-42B5-9FFE-5BE5A874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866F9-C4F7-4C78-9435-EF654CC9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88F6C-3F19-4644-860C-4FC80CE7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F5998-6F55-4AC8-9002-D98314FE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97806-FEDB-49A5-85E1-EA3C98EE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997E-4A5A-4EFC-9676-865998E4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D7E42-C7C1-4575-9945-B48C927F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B5055-5D97-4915-A6E7-520A8D33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5A697-E02E-4AD1-B303-945A1D06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E7509-EF91-4552-8376-17FC95AE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329D3-89F3-4C7C-823C-816DE972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4FFB4-6FB3-4A5C-90C5-AD91048C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66142-BD48-492E-B310-64A9EB69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0CC9A-F65F-4D3F-9B14-83C310A4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36267-2892-4608-BAD2-30F33EA3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C190A-2CB8-45F4-8D6F-04876E43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928-ADA0-4E2C-B586-93E87CF9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E3E88-46DF-4236-A888-2984051F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1E05B-8FA8-4E5E-BBDD-16B64BDD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00597-981D-4E2E-90EC-215A9EA2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6340D-C142-4140-9DFE-EC3680BE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1E3C4-0E94-435E-8BAC-C392DE40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0357A-4F5D-450A-88D2-BE915E7E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6D495-33BA-40B1-855C-BAAF32D3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AB5A9-F6EB-4261-A37D-372E4787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806BD-9482-47C2-89D2-3A5A5C26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E1ECB-6227-4EA7-8637-B0413192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C65-3765-4D79-85CF-C43A1C0F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AD7EC-A964-4D54-BF2D-2F9660F5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48970-A167-4224-9BA3-891DBA71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2B46A-77F3-4C3F-BC56-629A71CC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274E4-1E15-42AE-8F2E-AF5F9EBC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01C48-34F1-4607-AAC7-1063AF87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9EEC4-8251-4131-BB4B-2A52BC9C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BE134-2199-4538-9A27-B66F969E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3DFBF-AC9E-4F1C-8B9B-94330954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32628-A583-4E9F-804B-E0DB187F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2ADB2-FE96-4BE6-B073-248DEE2B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B5E6-4DD7-4033-839A-1AD93865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96D24-8855-4FC3-9967-DFE493D6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3FDBD-3975-4AA1-90B5-D0979F9E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A2A2C-62ED-48D2-B4AE-A7EB02FD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EE8E1-968D-4EF6-8A9E-EF79165B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530EA-AA4C-4744-A598-E924DC98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346-CBE5-477A-93F8-07A89D4A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47fd8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4f81b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0504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bbb5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64a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4bacc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D9C9-39BB-4568-B2D9-CA4C38F6E26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47fd8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4f81b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c0504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9bbb5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8064a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4bacc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DA4C-27D6-453B-9F55-7AEA9D7833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47fd8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4f81b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c0504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9bbb5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8064a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4bacc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0993-F6A8-4F71-94E9-6C767A996E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47fd8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4f81b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0504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bbb5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64a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4bacc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2199-10B7-403C-B571-C2DD559AA35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47fd8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4f81b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0504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bbb5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64a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4bacc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78FB-E6A6-4F2F-822C-CA2A1B7AB16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47fd8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4f81b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0504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bbb5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64a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4bacc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C79E-538A-4D32-B958-CE2AFDE1292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47fd8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347fd8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4f81b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0504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bbb5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64a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4bacc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01C6-C870-4CA3-A8F9-1AC2E42363F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2"/>
          <a:stretch/>
        </p:blipFill>
        <p:spPr>
          <a:xfrm>
            <a:off x="523800" y="-42840"/>
            <a:ext cx="8182080" cy="47005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952520" y="5638680"/>
            <a:ext cx="4038840" cy="10670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ubmitted to PRR787 discussion group on 3/10/09 by TRE and PUC O&amp;E Staff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298440" y="152280"/>
            <a:ext cx="839484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2362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4f81b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Market-wide Protocol Complianc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4f81b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4f81b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arity to SCPS2 Metrics Criteria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4f81b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228600" y="22096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lnSpc>
                <a:spcPct val="80000"/>
              </a:lnSpc>
              <a:buClr>
                <a:srgbClr val="4f81b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Percentage of Violations (by Non-Wind Only QSEs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2007:  2.70%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2008:  1.17%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2009:  None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4f81b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Number of QSEs with at least 3 Violation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2007:  Two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2008:  On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2009:  Non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4f81b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646200" y="384120"/>
            <a:ext cx="8047080" cy="9939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762120" y="16761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7000"/>
          </a:bodyPr>
          <a:p>
            <a:pPr marL="424800" indent="-309240">
              <a:lnSpc>
                <a:spcPct val="90000"/>
              </a:lnSpc>
              <a:buClr>
                <a:srgbClr val="4f81b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Performance Charge and PUC’s Oversight and Enforcement implications for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and subsequent offense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4f81b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4f81b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Number of offenses are additive within any rolling 12 month period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4f81b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Violation “Clean Slate” occurs upon 12 consecutive months of scores at 90% or abov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4f81b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ompliance Templates do not appl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4f81b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xceptions for interval exclusion still appl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4f81b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4f81b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4f81b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1547640" y="0"/>
            <a:ext cx="6048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7:05:07Z</dcterms:created>
  <dc:creator>ldelarosa</dc:creator>
  <dc:description/>
  <dc:language>en-US</dc:language>
  <cp:lastModifiedBy>OWG 012109</cp:lastModifiedBy>
  <dcterms:modified xsi:type="dcterms:W3CDTF">2009-03-10T15:05:42Z</dcterms:modified>
  <cp:revision>49</cp:revision>
  <dc:subject/>
  <dc:title>Slide 1</dc:title>
</cp:coreProperties>
</file>