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D6DB-98EC-4076-AB2F-11E53A533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0A9B-B267-443B-990B-34B08DA0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3015-C267-41B4-9D9B-958382F4B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24FB-968B-4C65-9A96-13D99C30E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3D18-5962-43D0-9041-C46D7A09D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A83D-A170-42AF-98EB-E4EFCBFC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69AC-45A1-42FD-8179-429676CD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FD86-347C-48B9-AEC6-0488BC79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FEC0-D78B-48C4-9CC3-707AA48D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714D-2A26-4A71-8BB2-E81237FB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6625-F227-4F25-984A-FB4966E2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6DF0-2890-465D-9CEE-AA0FC990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85BA-F125-4C2D-9D05-9988859F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0677-C882-4AAC-BA2F-13E983FF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340F-B99B-413C-A80C-6D972E1D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F463-A523-4312-BF58-E9B48DED4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E563-41DA-4DB4-B811-F353930B5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829E-580C-4A51-95E0-F5358033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FA2A-6E6B-40AB-852C-D70AD2E2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D888-83D2-47A9-A314-0D31784A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1859-8F9A-485F-BD4B-985093B6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7DCD-CE49-4AA5-A188-36D73E41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8139-599C-41B1-B7F4-1FDE1754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338E-2960-4647-B315-72685087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2600" y="93600"/>
            <a:ext cx="9144000" cy="1677960"/>
            <a:chOff x="-12600" y="93600"/>
            <a:chExt cx="9144000" cy="1677960"/>
          </a:xfrm>
        </p:grpSpPr>
        <p:sp>
          <p:nvSpPr>
            <p:cNvPr id="1" name=""/>
            <p:cNvSpPr/>
            <p:nvPr/>
          </p:nvSpPr>
          <p:spPr>
            <a:xfrm>
              <a:off x="0" y="152388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73340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12600" y="93600"/>
              <a:ext cx="1322280" cy="1571760"/>
              <a:chOff x="-12600" y="93600"/>
              <a:chExt cx="1322280" cy="1571760"/>
            </a:xfrm>
          </p:grpSpPr>
          <p:sp>
            <p:nvSpPr>
              <p:cNvPr id="4" name=""/>
              <p:cNvSpPr/>
              <p:nvPr/>
            </p:nvSpPr>
            <p:spPr>
              <a:xfrm>
                <a:off x="-12600" y="936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-6480" y="3078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7320" y="336600"/>
                <a:ext cx="782640" cy="108756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49280" y="7412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00cc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00cc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00cc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AFFA-E28F-4ED8-AD68-3123E1680C88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-12600" y="1681200"/>
            <a:ext cx="9144000" cy="1766880"/>
            <a:chOff x="-12600" y="1681200"/>
            <a:chExt cx="9144000" cy="1766880"/>
          </a:xfrm>
        </p:grpSpPr>
        <p:sp>
          <p:nvSpPr>
            <p:cNvPr id="50" name=""/>
            <p:cNvSpPr/>
            <p:nvPr/>
          </p:nvSpPr>
          <p:spPr>
            <a:xfrm>
              <a:off x="0" y="320040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40992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-12600" y="1681200"/>
              <a:ext cx="1322280" cy="1571760"/>
              <a:chOff x="-12600" y="1681200"/>
              <a:chExt cx="1322280" cy="1571760"/>
            </a:xfrm>
          </p:grpSpPr>
          <p:sp>
            <p:nvSpPr>
              <p:cNvPr id="53" name=""/>
              <p:cNvSpPr/>
              <p:nvPr/>
            </p:nvSpPr>
            <p:spPr>
              <a:xfrm>
                <a:off x="-12600" y="16812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-6480" y="18954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57320" y="1924200"/>
                <a:ext cx="782640" cy="108720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49280" y="23288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D31E-6E5B-4CC5-AACE-468A764F1BAF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     </a:t>
            </a: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PRS 2009 Go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1800" y="1981080"/>
            <a:ext cx="7485120" cy="33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Goals (Draft for approval by PRS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Process PRRs and NPRRs (Section 21 requirement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Facilitate and make recommendations for 2010 Project Priorities as requested by ERCO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Collaborate with ERCOT PMO to structure a process for “releasing” NPRRs to be included in “go-live plus ‘x’”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4:36:35Z</dcterms:created>
  <dc:creator>kgresham</dc:creator>
  <dc:description/>
  <dc:language>en-US</dc:language>
  <cp:lastModifiedBy>kgresham</cp:lastModifiedBy>
  <dcterms:modified xsi:type="dcterms:W3CDTF">2009-03-10T14:38:59Z</dcterms:modified>
  <cp:revision>1</cp:revision>
  <dc:subject/>
  <dc:title>     PRS 2009 Goals</dc:title>
</cp:coreProperties>
</file>