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5549-2694-484A-B4DB-C387B7114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662C-B0C0-4331-9102-0D4F47FF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9225-6C95-4426-A1F0-B53A9D72F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5E00-1976-42D3-A4B8-528650A6F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7E2A-03B8-4861-BEEA-0F0D7D697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9942-97AC-4392-B412-9EBA6DA20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549A-2CF8-4E79-9535-1DD62E237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70A3-DA83-4D27-A545-4205F1854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01EC-07BD-447A-9BE2-08328EBF6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5A80-18F7-416C-9159-F0721D887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044A-8045-46D6-9965-17498EE8E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039E-F254-4AC2-82EB-F81849047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7B22-7398-494D-BB53-B9C072973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FC70-E386-4E09-AACD-B1DAED517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7E3F-35F0-4599-856E-CCEEFE0FE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2699-874E-4D20-8A24-8CAD96A53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6B4D-E423-4A39-A83C-8A42824A14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R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March 200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y Fe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Transaction Proc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February performance (99.54%) was below the service level target of 99.9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base lock triggered by a manual query session resulted in a freeze or slowdown of EDI 867 and 814 transaction processing for 170 minutes. The lock was removed to resolve the problem. A S/W upgrade is being evaluated to address this weakness and prevent recurr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L,  TML Report Explorer, Retail AP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February performance was 99.5%. This was above the service level target of 99%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ra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February performance was 99.69%. This was above the service level target of 98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1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1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735120" y="762120"/>
            <a:ext cx="772308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1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79246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1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914400" y="825480"/>
            <a:ext cx="746748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1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838080" y="770040"/>
            <a:ext cx="75438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1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843120" y="838080"/>
            <a:ext cx="746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1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130400" y="762120"/>
            <a:ext cx="70992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1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108080" y="838080"/>
            <a:ext cx="69692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9-03-05T21:07:45Z</dcterms:modified>
  <cp:revision>295</cp:revision>
  <dc:subject/>
  <dc:title>Instructions</dc:title>
</cp:coreProperties>
</file>