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8A01CF3-747D-4EC3-9DC0-D7D5853DF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D8F410A-06B8-4C3B-B0B9-DA2685399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E761302-36F9-43B2-925C-2F63A0E0B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02EE7C1-D901-43EE-AFD1-250CBF596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C055E50-0FC1-4CE8-B80B-5D49FE324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3EB101E-B256-4922-8974-992522324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C65D314-ECF8-4BBC-BAA3-085BC8D3A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BD7CDA3-BA5E-4E63-B22B-F02B3EF44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702A37C-E4FA-4967-ACEC-E17D33583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EE015FB-3482-4989-92B5-7E9CC95AA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F6C1EEA-0726-46E7-88A7-F88F9DC73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EDD-7DA9-443B-8CD9-B2692137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B0E-1D8B-4774-BF29-BC3F109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966-BEDE-4B76-AC3E-824A05A8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8C3-B010-48DF-8BA1-0731AD9C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528-552A-4F6B-BEA9-0A58B4FD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7AD-26F3-4D97-870E-63F30697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708-EFC7-4B91-A374-BB2186A6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53E-0EB8-4ECC-BC25-1EB1CAA5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6ED-1957-4002-B530-0EE17361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909-DC48-4110-AD30-9045BD8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C3D-235D-4D2F-8851-33ED9B8B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588-96B7-46FC-8E46-F76E4CE1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0544-B95E-44F1-95D9-2D849682D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AD72-43C9-4E97-B7E5-8AEAD7FC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AFF6-F182-4514-A8AB-F3F47BC33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5E55-7244-4913-AADB-C7F5E4A14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ed ERCOT System Outages and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update of browser support for SCR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ed merger of Market Metrics Work group activities, Goals, Scope, and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and update TDTWG website to provide links for Metrics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Market Metric reports 4th QT 2008  and Metrics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d draft RMGRR for the Merger of TDTWG and MM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716-D512-4BCE-9DF2-B36528696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us Weber and Trey Felton reviewed the summary and detail pages of the IT incident lo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RCOT update of browser support for SCR7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upon RMS discussion in February, consensus was reached pending TDTWG and ERCOT review list of specific browsers that ERCOT should support, and indicate a timeframe when ERCOT will be able to support specified browsers (i.e. 6 months after current browser releas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4, Browser Compatibility, added to Retail S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e at RMS in April, IE.7 guide available on web TDTWG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time and system degradation SLA was review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00DD-B8D6-404C-B803-5D4286EB9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ved Goals, Scope, and Objectives for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upon RMS discussion in February, to merge the two work groups TDTWG and MMWG.  The combined Goals, Scope and Objectives were reviewed, consensus was reach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Data Transport Work Group will retain the name as it is recognized in the market and majority of scope did not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B233-1288-4726-8819-9A220A4AF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EF74-C509-4302-8CC5-FDA6D531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and reviewed TDTWG and Metrics web site form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ain links to MMWG notes via TDTWG mai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History will be retained for MM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MS will have one link to TDT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MWG link will be deleted under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7D86-564C-4570-889D-F304C4566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and reviewed Market Metrics Q4 2008 repo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combined TDTWG and MMWG responsibilities pertaining to repo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D1D-1271-4A7B-8487-996C26F02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d draft RMGRR for the Merger of TDTWG and MM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d with Sandra Tindall from Market Rules to create draft RMGRR for TDTWG review and approval by during April 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ference c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81F3-477C-44CC-919F-43C22941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57200" y="1295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DTWG Follow-up item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minder Note from TDTWG December mtg: A full test of the Disaster Recovery system is scheduled to be tested in 2009 (related to incident of 10/30/08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9-03-05T00:20:22Z</dcterms:modified>
  <cp:revision>564</cp:revision>
  <dc:subject/>
  <dc:title>PowerPoint Presentation</dc:title>
</cp:coreProperties>
</file>