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15.wmf" ContentType="image/x-wmf"/>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move the slide</a:t>
            </a:r>
            <a:endParaRPr b="1" lang="en-US" sz="4100" spc="-1" strike="noStrike">
              <a:solidFill>
                <a:srgbClr val="676a55"/>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A822-DAA6-4607-A6DE-2F238AE128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1816-F3AE-4B89-9792-FF80BDC6C5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D5FD-1693-46D0-9758-28C379B7D6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A4399-E3D2-4B78-B3CE-6382F18E3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58AB0-8899-47BE-9991-E573A2057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6CE5F-4D69-4666-8912-D70D57AAB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3E077-7E86-4705-ABCF-95931D3C8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A7AA0-F6C2-474C-942F-382A228AE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C587F-A30A-42CD-865D-559BE347E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AC0A1-7B4D-429E-9AE7-4D30FB47D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4D06E-0438-4AC0-AF5A-368C75AB7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9AFC-62C5-4A64-BEE6-DEBCC6EC2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2C8F4-6B2D-4B11-9945-270330F5E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7FFC-3D2B-4419-8D21-58804BED2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2484-A96D-481B-96E5-DE30F833F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1C440-6764-4D59-8848-1DE6E4A24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3A959-796C-4199-8B06-902B8549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74640-E595-487A-9E96-E15ACBFF7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942CD-D568-492E-AD94-65A2ACDF0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3372E-8453-4671-841B-CA51B25F1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A0333-5B1A-4D9C-8E26-D5A3A1679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85CBC-CAEC-462B-A1FB-A6A8A863B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52F1E-EEFB-434D-8867-A4B3F5A15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A6B1E-841A-42A1-AA19-C00EFD01E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56AD5-CDEC-4D2A-ADC8-07A8B9270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F88B-B930-4C85-BFC3-5D41CB686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6D03C-5D21-492C-995C-2B01106FD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9AA3F-828B-4985-ABE4-143937BAE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03CE9-EE3D-421E-AAFA-B6FACB1E6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4815C-4982-4ADB-94C2-FC4E5715D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8A109-171C-41A4-9C82-0B0BAA521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ED188-822E-46DD-907C-40DD8203B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1D6D5B-DC8C-4758-8800-2B01FDD2F1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4B9723-726F-4CC0-A922-94F86501CB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B1451-DA8F-4EB6-9F70-17A9C1224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E575D-9C83-4D7C-8F58-CD8553B05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08D1-1099-4861-968F-5A1275CAB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F09DE-D9D8-4170-9B33-B1096B461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EA7AB-C2B6-419A-B37E-95227F1E3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4FE9A-298E-42AC-81B2-E610463C2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D780A-A485-41B9-BE4E-55B445C19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2FFB8-8A3D-48C1-8556-B7C424B08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A20F3-8DDB-4D56-8EF3-9CF8E7905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EDFF4-10C9-452C-ADBD-2E88B1289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D205A7-76D7-4483-AB40-CC44235D3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B2D9A8-425A-4E3E-833E-79656D3DCD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49384-C3A3-4187-82ED-F39591361F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8E2E-7BB2-4034-9CED-8FE0240C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95AAB-4E52-4D3F-816E-E13852AF8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B7B3F-F0F1-4C2F-98E8-D3D5401B0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3BA09-94AC-48F7-9FC5-03648823C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A8C5C-2FA5-4455-AAC9-903BDCBEC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02913-F2A8-4BA6-8BE2-C69A00AF1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128E3-B05D-406A-A419-250D1DDBD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E7378-43EC-447E-99DF-6AAE7A157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1EAA6-56AC-4C76-B9B7-921C9942D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F30BCC-F2AC-4589-8A61-AC5B965B5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87379-48D5-44FB-A551-395D1720FA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537F-77CA-478D-883E-1BCC9F003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72DA48-D9D8-41E1-9354-FD09C61704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A3F38-C9DD-45E3-88E7-14413DCDA1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0A80BC-3059-4B07-BDE7-F6C7C826F1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C2341-F3EE-4F0A-9066-89AC20C60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51977-8483-413F-A8DC-C4126B6E21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71332-4ED7-4391-8F99-B449444D6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A0217-7384-4632-92BC-F3DCF05F56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689E8-A911-4B4F-A9F5-333A25EBA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63CC1-9584-435F-860B-7A3CAE0B1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7B2A8-1ABB-45E5-9373-679195084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535F-F2AC-4CC6-B5CB-3176E7A1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EF695-69E6-4B83-9CFF-7F0AD1B6E9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CBC7A8-ED49-447C-8804-050EF7F956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67318-DB75-4F9A-8DE5-7CB2CF0F50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C65B2-309B-45B0-BA93-BBCE6FE77D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4B2798-BEC8-437F-83A1-1DB8F287F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833AA-F5C2-448A-9E0B-EF5403D48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4BC7B-AE12-4790-A506-CB7A9C6D9A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EADA6-B7BD-4E06-A4F4-48CEC3F32D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FB031E-00A2-4C54-A05D-C552FE748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055CD-B6DC-4F4D-A920-A98754752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4A11-0AC9-40E8-9618-6749177E4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F1ADC-CB86-4A98-99BA-C97CAD203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38792-A516-4461-8E56-06E9DB4DA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44386A-0277-486F-A426-C69C21DCB9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069E70-6152-4F84-823B-FD21D03A4A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5A730-03D2-4AA6-8C82-558B882B9D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EA5FDF-8E6C-46D2-B2B3-06C478F900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A27F8-AF1A-45C8-B2DA-1F30B9595C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45D7D3-2A1E-4839-8F2C-EB489F1F9A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D3AC0-09A5-48D7-8FE1-8103D3166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2C1F4-8CF4-4CDE-AD31-39F3DCA7D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8CDB-9C4E-4318-A294-0F27290E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D9EF2A-1511-47D1-A671-E34395CA4F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9296A-8CF2-4BBC-A9C0-322528846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3DDBA-272A-41AC-9443-9582C8A484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5CD86-20B7-4D73-A0F1-9106CDCD9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70192C-11BD-48A0-A514-1D5F12190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239AB5-8678-4AAC-B173-6BB9E1E7E7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FDB161-115F-4F1E-ABA9-BC532380B32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4FCF-5446-47D8-89AD-3D1F5F25D6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A030-EF8E-4389-B6AE-21DE8AF7631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A006-8D28-4050-BF23-ECF2D0CC04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B3E0-915A-408B-8BED-1D8CA87192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6C7A-4F16-426C-BD8C-C015ACBE15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4049-DEAF-415A-B3BA-EE139FB81E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C74B-0A74-45CE-A755-3D22451E0B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146D-C409-4098-B7DC-0D35BD8AFF1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rcot.com/services/client_svcs/mktrk_info/"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92160" y="1749600"/>
            <a:ext cx="9016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March 11, 2009</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 </a:t>
            </a:r>
            <a:endParaRPr b="0" lang="en-US" sz="2400" spc="-1" strike="noStrike">
              <a:solidFill>
                <a:srgbClr val="000000"/>
              </a:solidFill>
              <a:latin typeface="Lucida Sans Unico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4" descr="MCj04042630000[1]"/>
          <p:cNvPicPr/>
          <p:nvPr/>
        </p:nvPicPr>
        <p:blipFill>
          <a:blip r:embed="rId1"/>
          <a:stretch/>
        </p:blipFill>
        <p:spPr>
          <a:xfrm>
            <a:off x="3652920" y="2897280"/>
            <a:ext cx="1838160" cy="1695240"/>
          </a:xfrm>
          <a:prstGeom prst="rect">
            <a:avLst/>
          </a:prstGeom>
          <a:ln w="0">
            <a:noFill/>
          </a:ln>
        </p:spPr>
      </p:pic>
      <p:pic>
        <p:nvPicPr>
          <p:cNvPr id="397"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04920" y="990720"/>
            <a:ext cx="8534160" cy="5140080"/>
          </a:xfrm>
          <a:prstGeom prst="rect">
            <a:avLst/>
          </a:prstGeom>
          <a:noFill/>
          <a:ln w="0">
            <a:noFill/>
          </a:ln>
        </p:spPr>
        <p:style>
          <a:lnRef idx="0"/>
          <a:fillRef idx="0"/>
          <a:effectRef idx="0"/>
          <a:fontRef idx="minor"/>
        </p:style>
        <p:txBody>
          <a:bodyPr lIns="90000" rIns="90000" tIns="46800" bIns="46800" anchor="t">
            <a:noAutofit/>
          </a:bodyPr>
          <a:p>
            <a:pPr lvl="2" marL="1170000" indent="-255600">
              <a:lnSpc>
                <a:spcPct val="80000"/>
              </a:lnSpc>
              <a:spcBef>
                <a:spcPts val="400"/>
              </a:spcBef>
              <a:buClr>
                <a:srgbClr val="72a376"/>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560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0" name="Rectangle 3"/>
          <p:cNvSpPr/>
          <p:nvPr/>
        </p:nvSpPr>
        <p:spPr>
          <a:xfrm>
            <a:off x="457200" y="228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6a55"/>
                </a:solidFill>
                <a:latin typeface="Lucida Sans Unicode"/>
                <a:ea typeface="Lucida Sans Unicode"/>
              </a:rPr>
              <a:t>MarkeTrak – Meeting: March 5th</a:t>
            </a:r>
            <a:endParaRPr b="0" lang="en-US" sz="3600" spc="-1" strike="noStrike">
              <a:solidFill>
                <a:srgbClr val="000000"/>
              </a:solidFill>
              <a:latin typeface="Verdana"/>
            </a:endParaRPr>
          </a:p>
        </p:txBody>
      </p:sp>
      <p:pic>
        <p:nvPicPr>
          <p:cNvPr id="381" name="Rectangle 3" descr=""/>
          <p:cNvPicPr/>
          <p:nvPr/>
        </p:nvPicPr>
        <p:blipFill>
          <a:blip r:embed="rId1"/>
          <a:stretch/>
        </p:blipFill>
        <p:spPr>
          <a:xfrm>
            <a:off x="371520" y="1090440"/>
            <a:ext cx="7950240" cy="889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838080"/>
            <a:ext cx="8229600" cy="51688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eas for Improvement:</a:t>
            </a:r>
            <a:endParaRPr b="0" lang="en-US" sz="2700" spc="-1" strike="noStrike">
              <a:solidFill>
                <a:srgbClr val="000000"/>
              </a:solidFill>
              <a:latin typeface="Lucida Sans Unicode"/>
            </a:endParaRPr>
          </a:p>
          <a:p>
            <a:pPr lvl="1" marL="620640" indent="-228600">
              <a:spcBef>
                <a:spcPts val="326"/>
              </a:spcBef>
              <a:buClr>
                <a:srgbClr val="4b73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ould like to have more Market Participants involved on the Taskforce.</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b73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release documentation in a more timely manner.</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b73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 better manage the testing is to have the testing group in one room and go around the table so that we don’t have to send emails. Dedicated in one space at one time.</a:t>
            </a:r>
            <a:endParaRPr b="0" lang="en-US" sz="2300" spc="-1" strike="noStrike">
              <a:solidFill>
                <a:srgbClr val="000000"/>
              </a:solidFill>
              <a:latin typeface="Lucida Sans Unicode"/>
            </a:endParaRPr>
          </a:p>
          <a:p>
            <a:pPr lvl="1" marL="620640" indent="-228600">
              <a:spcBef>
                <a:spcPts val="326"/>
              </a:spcBef>
              <a:buClr>
                <a:srgbClr val="4b73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b73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view test scripts in checklist prior to testing.</a:t>
            </a:r>
            <a:endParaRPr b="0" lang="en-US" sz="2300" spc="-1" strike="noStrike">
              <a:solidFill>
                <a:srgbClr val="000000"/>
              </a:solidFill>
              <a:latin typeface="Lucida Sans Unicode"/>
            </a:endParaRPr>
          </a:p>
        </p:txBody>
      </p:sp>
      <p:pic>
        <p:nvPicPr>
          <p:cNvPr id="383" name="Title 2" descr=""/>
          <p:cNvPicPr/>
          <p:nvPr/>
        </p:nvPicPr>
        <p:blipFill>
          <a:blip r:embed="rId1"/>
          <a:stretch/>
        </p:blipFill>
        <p:spPr>
          <a:xfrm>
            <a:off x="268200" y="-30240"/>
            <a:ext cx="8425080" cy="103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066320"/>
            <a:ext cx="8229600" cy="49402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here were great suggestions provided for future enhancements to the tool.   </a:t>
            </a: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n email will be sent out to the MarkeTrak distribution list with these suggestions:</a:t>
            </a: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tion Item:   Schedule a meeting in your shop,  review and provide comments.  </a:t>
            </a: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3" marL="1143000" indent="-228600">
              <a:spcBef>
                <a:spcPts val="349"/>
              </a:spcBef>
              <a:buClr>
                <a:srgbClr val="b0ccb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ote:  this was one of the lessons learned -  would like more participation from the Market Participants</a:t>
            </a:r>
            <a:endParaRPr b="0" lang="en-US" sz="1900" spc="-1" strike="noStrike">
              <a:solidFill>
                <a:srgbClr val="000000"/>
              </a:solidFill>
              <a:latin typeface="Lucida Sans Unicode"/>
            </a:endParaRPr>
          </a:p>
        </p:txBody>
      </p:sp>
      <p:pic>
        <p:nvPicPr>
          <p:cNvPr id="385" name="Title 2" descr=""/>
          <p:cNvPicPr/>
          <p:nvPr/>
        </p:nvPicPr>
        <p:blipFill>
          <a:blip r:embed="rId1"/>
          <a:stretch/>
        </p:blipFill>
        <p:spPr>
          <a:xfrm>
            <a:off x="268200" y="-73080"/>
            <a:ext cx="842508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914400"/>
            <a:ext cx="8229600" cy="5092560"/>
          </a:xfrm>
          <a:prstGeom prst="rect">
            <a:avLst/>
          </a:prstGeom>
          <a:noFill/>
          <a:ln w="0">
            <a:noFill/>
          </a:ln>
        </p:spPr>
        <p:txBody>
          <a:bodyPr anchor="t">
            <a:normAutofit/>
          </a:bodyPr>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72a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ank escalation contacts in the rolodex to automatically be populated with the Admin contact information -  ERCO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72a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re are currently 4,700 MarkeTrak users.   Each Admin will review all of their users set up in the tool.  If no longer a user, please de-activate the user (see section 7 of the User Guide for instructions)  -   Each MarkeTrak Admin</a:t>
            </a:r>
            <a:endParaRPr b="0" lang="en-US" sz="2300" spc="-1" strike="noStrike">
              <a:solidFill>
                <a:srgbClr val="000000"/>
              </a:solidFill>
              <a:latin typeface="Lucida Sans Unicode"/>
            </a:endParaRPr>
          </a:p>
          <a:p>
            <a:pPr lvl="4" marL="1371600" indent="-228600">
              <a:spcBef>
                <a:spcPts val="349"/>
              </a:spcBef>
              <a:buClr>
                <a:srgbClr val="b0ccb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225360" y="195120"/>
            <a:ext cx="8467920" cy="8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From Retail SLA (MarkeTrak, section 2.2.3, page 11)</a:t>
            </a:r>
            <a:endParaRPr b="0" lang="en-US" sz="12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Lucida Sans Unicode"/>
              </a:rPr>
              <a:t>Additionally, ERCOT will track response time for API Query List, Query Detail, Update and Submit, and also GUI.  This data will be monitored from the Ercot network perimeter at 5 minute intervals, and reported monthly.  Once data has been analyzed for a period of 3 months, TDTWG will recommend a benchmark for degradation level of API and GUI no later than the end of 1Q 2009.</a:t>
            </a: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439"/>
                </a:solidFill>
                <a:latin typeface="Lucida Sans Unicode"/>
              </a:rPr>
              <a:t>ERCOT gave a presentation at TDTWG and at the MarkeTrak Taskforce meeting providing the results of the analysis of the response times</a:t>
            </a:r>
            <a:r>
              <a:rPr b="1" lang="en-US" sz="1800" spc="-1" strike="noStrike">
                <a:solidFill>
                  <a:srgbClr val="000000"/>
                </a:solidFill>
                <a:latin typeface="Lucida Sans Unicode"/>
              </a:rPr>
              <a:t>.</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PI Query List:ERCOT Recommended Service Level Objective: 3.75 seconds</a:t>
            </a:r>
            <a:endParaRPr b="0" lang="en-US" sz="1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PI Query Detail:  ERCOT Recommended Service Level Objective: 2.5 seconds</a:t>
            </a:r>
            <a:endParaRPr b="0" lang="en-US" sz="1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PI Update: ERCOT Recommended Service Level Objective: 8 seconds</a:t>
            </a:r>
            <a:endParaRPr b="0" lang="en-US" sz="1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rkeTrak GUI:  ERCOT Recommended Service Level Objective: .5 seconds</a:t>
            </a:r>
            <a:endParaRPr b="0" lang="en-US" sz="1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I Update – Historic Comparison</a:t>
            </a:r>
            <a:endParaRPr b="0" lang="en-US" sz="1800" spc="-1" strike="noStrike">
              <a:solidFill>
                <a:srgbClr val="000000"/>
              </a:solidFill>
              <a:latin typeface="Lucida Sans Unicode"/>
            </a:endParaRPr>
          </a:p>
          <a:p>
            <a:pPr marL="365040" indent="-255600" algn="ctr">
              <a:spcBef>
                <a:spcPts val="876"/>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Performance has improved since September ’08</a:t>
            </a:r>
            <a:endParaRPr b="0" lang="en-US" sz="1400" spc="-1" strike="noStrike">
              <a:solidFill>
                <a:srgbClr val="000000"/>
              </a:solidFill>
              <a:latin typeface="Lucida Sans Unicode"/>
            </a:endParaRPr>
          </a:p>
          <a:p>
            <a:pPr marL="365040" indent="-255600" algn="ctr">
              <a:spcBef>
                <a:spcPts val="876"/>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verage decreased from 7.45 to 5.27 seconds)</a:t>
            </a:r>
            <a:endParaRPr b="0" lang="en-US" sz="1400" spc="-1" strike="noStrike">
              <a:solidFill>
                <a:srgbClr val="000000"/>
              </a:solidFill>
              <a:latin typeface="Lucida Sans Unicode"/>
            </a:endParaRPr>
          </a:p>
          <a:p>
            <a:pPr marL="365040" indent="-255600" algn="ctr">
              <a:spcBef>
                <a:spcPts val="876"/>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876"/>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ction Item:</a:t>
            </a:r>
            <a:endParaRPr b="0" lang="en-US" sz="1400" spc="-1" strike="noStrike">
              <a:solidFill>
                <a:srgbClr val="000000"/>
              </a:solidFill>
              <a:latin typeface="Lucida Sans Unicode"/>
            </a:endParaRPr>
          </a:p>
          <a:p>
            <a:pPr lvl="1" marL="62064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o have Market Participants review the presentation ( will send out).  A MarkeTrak Taskforce conference call will be scheduled tentatively for April 2</a:t>
            </a:r>
            <a:r>
              <a:rPr b="0" lang="en-US" sz="1400" spc="-1" strike="noStrike" baseline="30000">
                <a:solidFill>
                  <a:srgbClr val="000000"/>
                </a:solidFill>
                <a:latin typeface="Lucida Sans Unicode"/>
              </a:rPr>
              <a:t>nd</a:t>
            </a:r>
            <a:r>
              <a:rPr b="0" lang="en-US" sz="1400" spc="-1" strike="noStrike">
                <a:solidFill>
                  <a:srgbClr val="000000"/>
                </a:solidFill>
                <a:latin typeface="Lucida Sans Unicode"/>
              </a:rPr>
              <a:t>.   The Taskforce will review and prepare a recommendation to TDTWG for the service level response times for each category and the degradation level.</a:t>
            </a:r>
            <a:endParaRPr b="0" lang="en-US" sz="1400" spc="-1" strike="noStrike">
              <a:solidFill>
                <a:srgbClr val="000000"/>
              </a:solidFill>
              <a:latin typeface="Lucida Sans Unicode"/>
            </a:endParaRPr>
          </a:p>
          <a:p>
            <a:pPr lvl="1" marL="620640" indent="-228600">
              <a:spcBef>
                <a:spcPts val="624"/>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39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fontScale="97000"/>
          </a:bodyPr>
          <a:p>
            <a:pPr marL="353880" indent="-24768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When:</a:t>
            </a:r>
            <a:r>
              <a:rPr b="0" lang="en-US" sz="1600" spc="-1" strike="noStrike">
                <a:solidFill>
                  <a:srgbClr val="000000"/>
                </a:solidFill>
                <a:latin typeface="Lucida Sans Unicode"/>
              </a:rPr>
              <a:t>           Thursday, March 26, 2009 </a:t>
            </a:r>
            <a:endParaRPr b="0" lang="en-US" sz="16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                    </a:t>
            </a:r>
            <a:r>
              <a:rPr b="0" lang="en-US" sz="1600" spc="-1" strike="noStrike">
                <a:solidFill>
                  <a:srgbClr val="000000"/>
                </a:solidFill>
                <a:latin typeface="Lucida Sans Unicode"/>
              </a:rPr>
              <a:t>MarkeTrak Workshop - 9:00 AM - 3:00 PM</a:t>
            </a:r>
            <a:endParaRPr b="0" lang="en-US" sz="16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53880" indent="-24768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Where:</a:t>
            </a:r>
            <a:r>
              <a:rPr b="0" lang="en-US" sz="1600" spc="-1" strike="noStrike">
                <a:solidFill>
                  <a:srgbClr val="000000"/>
                </a:solidFill>
                <a:latin typeface="Lucida Sans Unicode"/>
              </a:rPr>
              <a:t>          ERCOT MET Center            7620 Metro Center Drive</a:t>
            </a:r>
            <a:endParaRPr b="0" lang="en-US" sz="16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                    </a:t>
            </a:r>
            <a:r>
              <a:rPr b="0" lang="en-US" sz="1600" spc="-1" strike="noStrike">
                <a:solidFill>
                  <a:srgbClr val="000000"/>
                </a:solidFill>
                <a:latin typeface="Lucida Sans Unicode"/>
              </a:rPr>
              <a:t>Austin, Texas 78744</a:t>
            </a:r>
            <a:endParaRPr b="0" lang="en-US" sz="16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3880" indent="-24768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 this workshop, the Retail Client Services team will cover the following topics: </a:t>
            </a:r>
            <a:endParaRPr b="0" lang="en-US" sz="1400" spc="-1" strike="noStrike">
              <a:solidFill>
                <a:srgbClr val="000000"/>
              </a:solidFill>
              <a:latin typeface="Lucida Sans Unicode"/>
            </a:endParaRPr>
          </a:p>
          <a:p>
            <a:pPr marL="353880" indent="-24768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rkeTrak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verview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ay-to-Day Issues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ata Extract Variance (DEV) Issues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inking issues, Notifications and Item locks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ulk Insert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ss Update/Transition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porting </a:t>
            </a:r>
            <a:endParaRPr b="0" lang="en-US" sz="1400" spc="-1" strike="noStrike">
              <a:solidFill>
                <a:srgbClr val="000000"/>
              </a:solidFill>
              <a:latin typeface="Lucida Sans Unicode"/>
            </a:endParaRPr>
          </a:p>
          <a:p>
            <a:pPr lvl="1" marL="601920" indent="-2214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dministrative Roles </a:t>
            </a:r>
            <a:endParaRPr b="0" lang="en-US" sz="1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3880" indent="-24768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3" name="Title 2" descr=""/>
          <p:cNvPicPr/>
          <p:nvPr/>
        </p:nvPicPr>
        <p:blipFill>
          <a:blip r:embed="rId1"/>
          <a:stretch/>
        </p:blipFill>
        <p:spPr>
          <a:xfrm>
            <a:off x="378000" y="268200"/>
            <a:ext cx="831528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066320"/>
            <a:ext cx="8229600" cy="49402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5353"/>
                </a:solidFill>
                <a:uFillTx/>
                <a:latin typeface="Lucida Sans Unicode"/>
                <a:hlinkClick r:id="rId1"/>
              </a:rPr>
              <a:t>http://www.ercot.com/services/client_svcs/mktrk_info/</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 Guide</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lk Insert Template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Workflow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Tips and Trick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API WSDL/XSD</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so direct link from MarkeTrak tool</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5" name="Title 2" descr=""/>
          <p:cNvPicPr/>
          <p:nvPr/>
        </p:nvPicPr>
        <p:blipFill>
          <a:blip r:embed="rId2"/>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00017167</cp:lastModifiedBy>
  <dcterms:modified xsi:type="dcterms:W3CDTF">2009-03-10T16:25:43Z</dcterms:modified>
  <cp:revision>289</cp:revision>
  <dc:subject/>
  <dc:title>MarkeTrak Task Force</dc:title>
</cp:coreProperties>
</file>