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E764-FFA1-4B35-AD56-5721094EF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61_01 Moved to ON Hold:  Freed up approx. $120k, however not recommended for release by C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0196B-BCDA-40F9-936F-F7D962A8F4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17A06-367A-47EA-862D-76FB2F78EF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FDCC9-F110-4074-98DA-2AA0B49C8A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D66AE-149A-4662-95D5-4CCFB7E921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5441E-D959-4DE1-ADE7-F83BEE7115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6AB8E-029B-41AF-8593-F2B1C265E4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4F470-EE3A-48D5-94B0-331D4E60DC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4DD72-495A-4C71-AA75-F4F4F478B1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51830-B3C4-474B-9767-7EDB22CBED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3D773-33EE-42D8-9D94-304E4DCCCA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097A0-366B-42B3-9FC8-5246B62A8F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982FF-A1A4-4327-854A-0AF9AA257F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598D-8813-4CB7-8565-6F219B6D8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 11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983EED69-996D-4E3E-938C-E40DAABB8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day@ercot.co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rcot.com/content/services/projects/keydocs/2009/Project_Priority_List_20090211_Mkt_Posted.xls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167616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March 2009 RO Projects Financial Overview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Retail Market Subcommitte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March 11, 2009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Heather Day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Market Operations Division Projects Organ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3352680"/>
            <a:ext cx="716256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/ Cont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371600"/>
            <a:ext cx="82296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her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Operations Divisional Projects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41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day@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3AA31-E828-4564-BBB6-ED94C3F5BF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9 Proje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0880" y="838080"/>
          <a:ext cx="838224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838224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82BE0-65AD-4D30-975D-DFAE670BAB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fini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Merged Rank – Ranking from the MERGED PPL, IO, CO, SO, RO, and MO based on Compliance, Business needs, and Capabiliti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Priority Lists (including Merged) are posted to the ERCOT Website: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ntent/services/projects/keydocs/2009/Project_Priority_List_20090211_Mkt_Posted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4724280"/>
            <a:ext cx="2286000" cy="609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nned Carry Over from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ry-over 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Green Shaded Are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4724280"/>
            <a:ext cx="2286000" cy="609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s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ABOV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rrent Capability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range Shaded Are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4724280"/>
            <a:ext cx="2286000" cy="6098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s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BELOW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rrent Capability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Yellow Shaded Are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104DF-0D24-4725-8BF0-861C74FB59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in Execu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5508720"/>
            <a:ext cx="822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4724280"/>
            <a:ext cx="84582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80028_01 – Execution complete, expected to move to closing once all invoices recei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80027_01 – Pending Execution Phase per Board Approval (see PR80027 update material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70007_01 – Moving to Closing 03/13/2009.  Final summary will be presented at April 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60006_01 – Moving to Closing 03/13/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04920" y="762120"/>
          <a:ext cx="8534160" cy="38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85341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100F6-63AC-4E58-AF89-BC2C7E4B4E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in Plann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4191120"/>
            <a:ext cx="868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46280" y="4224240"/>
            <a:ext cx="771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8600" y="838080"/>
          <a:ext cx="8763120" cy="27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38080"/>
                    <a:ext cx="8763120" cy="27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304920" y="3886200"/>
            <a:ext cx="81532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50061_01:  Recently moved back to Planning to synch with recent technology changes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s placed on hold to due to infrastructure changes with AIX and development resource constrai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ently onsolidated the scope from PR50061_02 to streamline and expedite delivery.  No longer a need to phase due to delay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8E60A-51A5-457C-AC2B-A6FA1B90CE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in Initiation or Not Start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676520"/>
          <a:ext cx="8229600" cy="2836800"/>
        </p:xfrm>
        <a:graphic>
          <a:graphicData uri="http://schemas.openxmlformats.org/drawingml/2006/table">
            <a:tbl>
              <a:tblPr/>
              <a:tblGrid>
                <a:gridCol w="744480"/>
                <a:gridCol w="768240"/>
                <a:gridCol w="744840"/>
                <a:gridCol w="744480"/>
                <a:gridCol w="744480"/>
                <a:gridCol w="2093760"/>
                <a:gridCol w="900360"/>
                <a:gridCol w="744480"/>
                <a:gridCol w="744480"/>
              </a:tblGrid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Portfolio Ra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r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gram Ar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rce D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 Nu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 Name /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 Prior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 Revised Budget Ran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5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007_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vanced Metering – Long-Term Settlement Solu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-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50k-$500k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030_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rak Phase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-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250k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031_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tail Application Upgrad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-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50k-$500k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011_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vanced Metering - Retail Market Interfa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-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500k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33520" y="11430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 projects in Init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4724280"/>
            <a:ext cx="6705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80030_01 – Expect to Initiate in the next 30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80031_01 – Expect to Initiate in the next 30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50900-71F7-4D80-8F1A-0B5244FD28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Closed or Cancell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04920" y="838080"/>
          <a:ext cx="8534160" cy="238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838080"/>
                    <a:ext cx="8534160" cy="23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457200" y="350532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50061_02 – Cancelled.  Effort moved to parent project PR50061_0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5D733-F37B-43D8-B819-FF1ED35A14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l Overview as of 03/01/2009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52280" y="762120"/>
          <a:ext cx="8763120" cy="4432320"/>
        </p:xfrm>
        <a:graphic>
          <a:graphicData uri="http://schemas.openxmlformats.org/drawingml/2006/table">
            <a:tbl>
              <a:tblPr/>
              <a:tblGrid>
                <a:gridCol w="2629080"/>
                <a:gridCol w="1035000"/>
                <a:gridCol w="5099040"/>
              </a:tblGrid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 PPL Budget 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/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RO Capability Line Budget Fu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.39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approved RO funding allo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ates where the capability line fa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$3.33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d on current expectations and run rates for active and not started projects above the capability 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$6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 is difference between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 Capability Line Budget Funding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be monitored throughout 2009 for reallocation to other RO projec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reach out to other funding alternatives if additional funds are needed to support AMI effor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F53BB-2C62-4E57-A64A-84B9E7C9F1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l Financials for 2008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80880" y="990720"/>
          <a:ext cx="8763120" cy="4343400"/>
        </p:xfrm>
        <a:graphic>
          <a:graphicData uri="http://schemas.openxmlformats.org/drawingml/2006/table">
            <a:tbl>
              <a:tblPr/>
              <a:tblGrid>
                <a:gridCol w="2629080"/>
                <a:gridCol w="1035000"/>
                <a:gridCol w="5099040"/>
              </a:tblGrid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 PPL Budget 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/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2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RO Capability Line Budget Fu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.63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approved RO funding allo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ates where the capability line fa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27M Released due to deferred projects (Originally $6.1M Approv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K Transferred to MO to cover the AMIT Study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 Spend of projects above the Capability Li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$2.76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d on current expectations and run rates for active and not started projects above the capability 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$87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 is difference between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 Capability Line Budget Funding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nce attributed to projects deferred to future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FE0F4-28F9-4ECE-8628-5A040ECB71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hsatterfield</cp:lastModifiedBy>
  <dcterms:modified xsi:type="dcterms:W3CDTF">2009-03-09T21:12:02Z</dcterms:modified>
  <cp:revision>426</cp:revision>
  <dc:subject/>
  <dc:title>Role of Account Management at ERCOT</dc:title>
</cp:coreProperties>
</file>