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65D184-124A-461B-A3DA-3D2028F1F0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8320" y="687240"/>
            <a:ext cx="4592520" cy="3445200"/>
          </a:xfrm>
          <a:prstGeom prst="rect">
            <a:avLst/>
          </a:prstGeom>
          <a:ln w="0">
            <a:noFill/>
          </a:ln>
        </p:spPr>
      </p:sp>
      <p:sp>
        <p:nvSpPr>
          <p:cNvPr id="7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04EABD-9C7F-4C94-80B2-295DBAA6A6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A74B7B-A634-417E-AD91-BFE6CD78D7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27B984A-4904-4B43-93EE-DB38C5B4E0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0F2DFB0-FA64-4362-8CFF-6381EA4593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41CE74-A955-49C1-972E-5E8696DD66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E2E00AE-3489-42D4-9BB1-784DFDEA08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9EB8BC-0504-49F6-875C-FDDA2A8148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8320" y="687240"/>
            <a:ext cx="4592520" cy="3445200"/>
          </a:xfrm>
          <a:prstGeom prst="rect">
            <a:avLst/>
          </a:prstGeom>
          <a:ln w="0">
            <a:noFill/>
          </a:ln>
        </p:spPr>
      </p:sp>
      <p:sp>
        <p:nvSpPr>
          <p:cNvPr id="9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542129E-B94F-4A61-9DEA-982316FAA4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EFDDC-EF14-4154-B747-6A51E75E1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D2F5C-E15B-4195-AEB7-69919F0F2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7C3D5-7CDB-4059-A4A4-3B7F3BF8A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E856-46C2-4D8F-A223-696F21585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2689C-9273-45F0-9866-2B7CB4B9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B1C2-22CE-4AED-BB51-C424BE71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BD9BB-3F31-4EFA-BEB3-772D1FC5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6C161-E131-4DAF-9889-1B6E10F6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816A1-4FA5-4B7A-9F16-6B91FAEB2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FFAA7-217A-4060-AD82-D4A3E7FC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1195-DC26-4698-8758-B407407B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539A-E649-482A-BAF6-15B0EB14B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044F-9EE0-47A6-AEA3-40ED6E15937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D524-8270-4B8F-9B16-45AEBD280F2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121932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Goals and Scope</a:t>
            </a:r>
            <a:endParaRPr b="0" lang="en-US" sz="4400" spc="-1" strike="noStrike">
              <a:solidFill>
                <a:srgbClr val="000000"/>
              </a:solidFill>
              <a:latin typeface="Arial"/>
            </a:endParaRPr>
          </a:p>
        </p:txBody>
      </p:sp>
      <p:sp>
        <p:nvSpPr>
          <p:cNvPr id="53" name="PlaceHolder 2"/>
          <p:cNvSpPr>
            <a:spLocks noGrp="1"/>
          </p:cNvSpPr>
          <p:nvPr>
            <p:ph type="subTitle"/>
          </p:nvPr>
        </p:nvSpPr>
        <p:spPr>
          <a:xfrm>
            <a:off x="198108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a:t>
            </a:r>
            <a:endParaRPr b="0" lang="en-US" sz="3200" spc="-1" strike="noStrike">
              <a:solidFill>
                <a:srgbClr val="000000"/>
              </a:solidFill>
              <a:latin typeface="Arial"/>
            </a:endParaRPr>
          </a:p>
        </p:txBody>
      </p:sp>
      <p:sp>
        <p:nvSpPr>
          <p:cNvPr id="54" name="Text Box 4"/>
          <p:cNvSpPr/>
          <p:nvPr/>
        </p:nvSpPr>
        <p:spPr>
          <a:xfrm>
            <a:off x="5410080" y="5943600"/>
            <a:ext cx="3505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11, 2009</a:t>
            </a: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54A5-BECD-469C-AB78-E560F4C4B07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 Objective</a:t>
            </a:r>
            <a:endParaRPr b="0" lang="en-US" sz="3200" spc="-1" strike="noStrike">
              <a:solidFill>
                <a:srgbClr val="000000"/>
              </a:solidFill>
              <a:latin typeface="Arial"/>
            </a:endParaRPr>
          </a:p>
        </p:txBody>
      </p:sp>
      <p:sp>
        <p:nvSpPr>
          <p:cNvPr id="5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facilitate development of data delivery processes for the Texas Market, and monitor performance measures as directed by 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velop RMGRR for expanded scope based on merger of MMWG and TDTW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r>
              <a:rPr b="1" lang="en-US" sz="3200" spc="-1" strike="noStrike">
                <a:solidFill>
                  <a:srgbClr val="000000"/>
                </a:solidFill>
                <a:latin typeface="Arial"/>
              </a:rPr>
              <a:t>- </a:t>
            </a:r>
            <a:r>
              <a:rPr b="1" lang="en-US" sz="3200" spc="-1" strike="noStrike">
                <a:solidFill>
                  <a:srgbClr val="000000"/>
                </a:solidFill>
                <a:latin typeface="Monotype Corsiva"/>
              </a:rPr>
              <a:t>Final</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Data Transport Working Group (TDTWG) is responsibl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a guide which describes the data transport process used by Market Participants and ERCO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the Retail Market IT Services SLA (Service Level Agre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ERCOT’s adherence to performance targets specified in the Retail SL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arket performance metrics reported by ERCOT to the P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to support Market Metrics Activity: Maintenance of metric templates and facilitate compliance of the PUCT substantive rule 25.88;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ing issues as directed by the RMS.</a:t>
            </a:r>
            <a:endParaRPr b="0" lang="en-US" sz="20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426F-627F-419F-9743-B76EB6D4658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62"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50</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work with ERCOT to assess the success of upgrades to web browsers and determine resolution of SCR750 at March meeting</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System Outages and Communica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continue to work with ERCOT and Market Participants to determine  the most efficient manner for resolution of NAESB and other system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continue to support ERCOT resolution efforts in addressing each outage experienced and provide information to RMS</a:t>
            </a:r>
            <a:endParaRPr b="0" lang="en-US" sz="2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84D8-837B-4A11-BFB0-03CC7DFDCB3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65"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Retail Market Services SL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the Retail Market Services SLA annually and, if needed, work with ERCOT to assess any potential chang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 Market Metrics reported by ERCOT to PUCT</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ERCOT reported Market Metrics and provide a forum for Market Participants’ questions and/or issues regarding these quarterly performance statistics</a:t>
            </a: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50E6-6700-4922-8366-7306383D378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7"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68"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181C-5DB4-4B1F-8CE4-6DC20E2A736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0"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as needed,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00FF-261D-4582-8E41-3416CFC501C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9</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the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7759-E825-47B6-B44D-0544C815741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9-03-04T22:04:26Z</dcterms:modified>
  <cp:revision>394</cp:revision>
  <dc:subject/>
  <dc:title>PowerPoint Presentation</dc:title>
</cp:coreProperties>
</file>