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E73C-688C-4633-B34A-93DAA2ED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B2C3-C916-466E-A5DA-D5D95DE5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FA6A-DFF6-49B8-8635-C68368DE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898C-0EE3-46D1-B5A2-C48521DD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E86C-4051-4B6A-9131-33EB5556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53A52-3CEB-41B5-BBCD-AD503C3511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5DBD6-05DD-489E-9FDE-3745A2E2DC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BA90C-84C0-4FA2-8CCF-482882B633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B38F8-91C7-4982-8951-6C5FBEAE30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6A642-8447-442E-982F-155027F96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DB10-1625-4B42-BEBB-9FE8AADC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C5DE7-99F7-411F-9985-7FF1921AC6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13748-FA40-4160-968C-023AAC694F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E0EFC-DAD6-43A0-837E-2E6CF3C6C2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A2D55-D258-4793-8374-0945E7EB67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33B45-475F-4ABC-8126-15BB0F885E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58082-28E0-47EF-9664-DCCECA4059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A7F6B-51E7-40A7-B28F-854C67F13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6EBF-E14D-4FB5-8AC0-ABD17A66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9E8B-BD26-4513-BEF9-199DFE24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24FD-1735-4C63-A99B-9D218E20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0889-C4F8-43BA-805F-CF89AFF2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CE16-5715-415D-BFC8-80143187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4605-8E53-45E0-B90D-EC0D2019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8765-FDCE-49EA-889B-2FAD50154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18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903-FA45-47EB-84DA-075694C64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EEEF-C11F-4A12-8211-FEA7CB30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D0A4-FB01-433F-B0EA-C7731F2B4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pdate on Advanced Metering Projec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438280" y="4723920"/>
            <a:ext cx="634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ther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Manager, MO DP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362320" y="3124080"/>
            <a:ext cx="5638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Market Sub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11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Metering Projects – Re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80027_01 Advanced Metering Interi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Proj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PL – Advanced Metering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Footer Placeholder 7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584"/>
          <p:cNvGraphicFramePr/>
          <p:nvPr/>
        </p:nvGraphicFramePr>
        <p:xfrm>
          <a:off x="304920" y="838080"/>
          <a:ext cx="854388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58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543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80027_01 Project Status – Execution Pha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685800" y="763560"/>
            <a:ext cx="784872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ion –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–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– Pending Board Approval 03/17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ing – 03/19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Accomplis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, Conceptual Designs, Security Assessment, and defined testing strategy and time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ain Board Approval – 03/17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Architecture Complete – 05/15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Complete – 07/24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 Designs (done in parallel to development) – 08/11/2009 (as bui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80027_01 Estimated Project Cos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Forecasted Budg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 Spend to Date: ~$204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ining Forecast:  ~$1.34M (includes a 25% contingenc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closely aligns with the PRR Cost Estimates from the CBA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R766 – $750k cost est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R756 - $750k cost est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ng factors to increase in forecasted budge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resources to ensure delivery by 2009 delivery 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Aggregation Rewrite must be reworked into Zonal code due to Nodal Delay (was originally planned to deliver with original Nodal schedule and provides performance enhancements for higher volu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Executive request for 25% Contin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80027_01 High-Level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95280" y="914400"/>
          <a:ext cx="6629400" cy="2459160"/>
        </p:xfrm>
        <a:graphic>
          <a:graphicData uri="http://schemas.openxmlformats.org/drawingml/2006/table">
            <a:tbl>
              <a:tblPr/>
              <a:tblGrid>
                <a:gridCol w="3998880"/>
                <a:gridCol w="263052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Phase Milest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rchitecture 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15/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Designs Fin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10/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 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24/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T and Performance Test 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06/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Test 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06/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L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4/20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Live (Contingency Da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2/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zation 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19/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21/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28" descr=""/>
          <p:cNvPicPr/>
          <p:nvPr/>
        </p:nvPicPr>
        <p:blipFill>
          <a:blip r:embed="rId1"/>
          <a:stretch/>
        </p:blipFill>
        <p:spPr>
          <a:xfrm>
            <a:off x="76320" y="3809880"/>
            <a:ext cx="899136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80027_01 Project Risk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risks in executing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schedule delays should key contract or ERCOT resources be pulled from the proje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ion:  All required contractors identified and engaged.  Resource efforts are continually monitored and any issues are addressed immediately with the resource manager.  Increased contingency to allow for additional resources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schedule delays if adequate storage, power and space  is not available by go-live to support increased data volu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ion:  Working closely and continually with infrastructure team to ensure necessary storage, power and space if available to support project throughout development, at go-live and on-going.  Increased contingency to allow for additional resources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schedule delays due to competing with Nodal integration testing for limited iTest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ion: Detailed coordination steps are being identified and refined to ensure that all parties are aware of competing activities, etc.  Increased contingency to allow for additional resources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9-03-09T16:56:00Z</dcterms:modified>
  <cp:revision>98</cp:revision>
  <dc:subject/>
  <dc:title>Instructions</dc:title>
</cp:coreProperties>
</file>