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5E33249-CDB1-4B54-B999-1A62E1E41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5A02EB4-F7C1-463B-9D92-50BBE032B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96960"/>
            <a:ext cx="4647960" cy="3486240"/>
          </a:xfrm>
          <a:prstGeom prst="rect">
            <a:avLst/>
          </a:prstGeom>
          <a:ln w="0">
            <a:noFill/>
          </a:ln>
        </p:spPr>
      </p:sp>
      <p:sp>
        <p:nvSpPr>
          <p:cNvPr id="13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746C24-8CC3-4CC1-BF29-E5DA02316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06640" y="696960"/>
            <a:ext cx="4647960" cy="3486240"/>
          </a:xfrm>
          <a:prstGeom prst="rect">
            <a:avLst/>
          </a:prstGeom>
          <a:ln w="0">
            <a:noFill/>
          </a:ln>
        </p:spPr>
      </p:sp>
      <p:sp>
        <p:nvSpPr>
          <p:cNvPr id="14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9609599-AA58-4DAE-96E0-B6652CF4D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06640" y="696960"/>
            <a:ext cx="4647960" cy="3486240"/>
          </a:xfrm>
          <a:prstGeom prst="rect">
            <a:avLst/>
          </a:prstGeom>
          <a:ln w="0">
            <a:noFill/>
          </a:ln>
        </p:spPr>
      </p:sp>
      <p:sp>
        <p:nvSpPr>
          <p:cNvPr id="14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966AF94-FEE1-4800-8606-A5E5F4774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A93E41-EB99-4702-85C2-698D5758C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06640" y="696960"/>
            <a:ext cx="4647960" cy="3486240"/>
          </a:xfrm>
          <a:prstGeom prst="rect">
            <a:avLst/>
          </a:prstGeom>
          <a:ln w="0">
            <a:noFill/>
          </a:ln>
        </p:spPr>
      </p:sp>
      <p:sp>
        <p:nvSpPr>
          <p:cNvPr id="14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572DDB-2012-4BED-89DB-8770B11A7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06640" y="696960"/>
            <a:ext cx="4647960" cy="3486240"/>
          </a:xfrm>
          <a:prstGeom prst="rect">
            <a:avLst/>
          </a:prstGeom>
          <a:ln w="0">
            <a:noFill/>
          </a:ln>
        </p:spPr>
      </p:sp>
      <p:sp>
        <p:nvSpPr>
          <p:cNvPr id="15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0871BA-C278-4C4C-A278-27603002E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6640" y="696960"/>
            <a:ext cx="4647960" cy="3486240"/>
          </a:xfrm>
          <a:prstGeom prst="rect">
            <a:avLst/>
          </a:prstGeom>
          <a:ln w="0">
            <a:noFill/>
          </a:ln>
        </p:spPr>
      </p:sp>
      <p:sp>
        <p:nvSpPr>
          <p:cNvPr id="15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C2AA3E2-C82E-47B6-B361-3FC04BF05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06640" y="696960"/>
            <a:ext cx="4647960" cy="3486240"/>
          </a:xfrm>
          <a:prstGeom prst="rect">
            <a:avLst/>
          </a:prstGeom>
          <a:ln w="0">
            <a:noFill/>
          </a:ln>
        </p:spPr>
      </p:sp>
      <p:sp>
        <p:nvSpPr>
          <p:cNvPr id="15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75F7F-66F8-4B65-B352-22B0AAC7D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C8A11-8AE5-4F8F-9DC8-3A687E5B0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F7242-EEB8-408C-AE32-699188FD6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A6473-EECB-4F9C-AAD4-5645B76A1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C9FE5-680D-4312-9C79-B427C0E41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F04E-41AE-46F3-815D-0149925E4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65BF-13A2-47A4-80BE-CAC57F72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711BE-EF54-4382-A895-CC75022C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5504-4A58-4E9A-86E2-977450BA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EEA2-BBD1-4ADD-9E9C-DCB4FF594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158B-8CEE-44DC-A441-A9AD2B06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7DEF-D119-4624-AC20-F49EB574F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842E-092D-4632-86A9-E67D10A3C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78CE-2288-49F7-90A2-048F0B6EB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3EC9-5ACF-4759-8D01-71064A4A9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D219-BE25-4123-B337-C5AE09710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7" descr=""/>
          <p:cNvPicPr/>
          <p:nvPr/>
        </p:nvPicPr>
        <p:blipFill>
          <a:blip r:embed="rId1"/>
          <a:stretch/>
        </p:blipFill>
        <p:spPr>
          <a:xfrm>
            <a:off x="149400" y="1646280"/>
            <a:ext cx="8823240" cy="42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C861-BE95-4601-AB04-9B200E042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2DED-7196-4CAD-B75B-9F03DB333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69A0-B2E6-4BCC-B035-B019DABC4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9" descr=""/>
          <p:cNvPicPr/>
          <p:nvPr/>
        </p:nvPicPr>
        <p:blipFill>
          <a:blip r:embed="rId1"/>
          <a:stretch/>
        </p:blipFill>
        <p:spPr>
          <a:xfrm>
            <a:off x="152280" y="1905120"/>
            <a:ext cx="88520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4E79-2D10-4988-9D6C-5ED20AEAA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88EB-8864-442B-AF82-7190F844E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7" descr=""/>
          <p:cNvPicPr/>
          <p:nvPr/>
        </p:nvPicPr>
        <p:blipFill>
          <a:blip r:embed="rId1"/>
          <a:stretch/>
        </p:blipFill>
        <p:spPr>
          <a:xfrm>
            <a:off x="95400" y="1844640"/>
            <a:ext cx="8943840" cy="310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8A51-DEA5-4D13-8DE6-75AD5684F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2"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4"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8133-D4B4-4DA5-9F4E-6CDC5D455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1A9A-6ABF-479E-AD77-F87329663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8014-2769-45DC-B8B1-FC0856FF4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1752480" y="1371600"/>
            <a:ext cx="5786640" cy="530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6A6C-341A-4D27-BFD4-114AFD45B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1D9F-2A3B-45D7-A338-D22D85D85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57240" y="3657600"/>
            <a:ext cx="9023400" cy="21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7E84-3240-43B3-8CD3-12B4811C7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515" descr=""/>
          <p:cNvPicPr/>
          <p:nvPr/>
        </p:nvPicPr>
        <p:blipFill>
          <a:blip r:embed="rId1"/>
          <a:stretch/>
        </p:blipFill>
        <p:spPr>
          <a:xfrm>
            <a:off x="371520" y="1589040"/>
            <a:ext cx="84265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4EB4-A8F0-4EE0-9A39-053646E46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D75B-FEC1-47A4-99A4-13EBA79FA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7" descr=""/>
          <p:cNvPicPr/>
          <p:nvPr/>
        </p:nvPicPr>
        <p:blipFill>
          <a:blip r:embed="rId1"/>
          <a:stretch/>
        </p:blipFill>
        <p:spPr>
          <a:xfrm>
            <a:off x="77760" y="1812960"/>
            <a:ext cx="8970840" cy="420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3-04T21:01:44Z</dcterms:modified>
  <cp:revision>836</cp:revision>
  <dc:subject/>
  <dc:title>PowerPoint Presentation</dc:title>
</cp:coreProperties>
</file>