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F5D4-92F0-4166-A583-C6892ECB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141B-1D3C-4A32-9B0A-4D471090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D57E-DC39-41C9-86A5-BFB7651E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09F9-33FC-4094-8DE0-0FE7AEBB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BEEE5-D155-4425-B6CB-A6F287D4A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EF389-A011-46BC-B152-D784FD96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7237A-78D2-4C85-8506-4FBF7BC8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99767-098C-40E4-A6CC-66D38134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80267-8E30-4B74-B0EA-741F7D95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F059D-DCAB-4CEA-963A-B992F441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478BD-4BD7-4085-9817-603DE738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4BBE-7B73-4C36-9F1F-B7CC6221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010D4-50D1-46E7-91C4-9E96688A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E362B-C460-4D1B-A5E3-8E33BC0B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65ED7-536B-49D7-92D1-AE8C9B59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CFFFD-625C-4425-BD65-F9E9BC2B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C42BF-277D-4373-B271-0DA7B8F81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46BA-5D97-4157-B2FA-095E969C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D934-5A3C-4A32-81D4-98C0773C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303E-A960-411A-8E93-6DEAF151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EBF5-6A39-45A5-84B0-AD818CA0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B2D0-A7DC-4336-8A06-47A99B0E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4372-CAF6-4B65-B436-B614FCEC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F1F0-D667-4C98-BD95-B948FF8F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E8D7-9ACE-4322-86E2-0C4BD7FD8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FC21-6093-484C-90FA-9C17DD9F15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9283-6D85-4E82-9508-8F98C6F7C7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Arial"/>
              </a:rPr>
              <a:t>TX SET </a:t>
            </a:r>
            <a:br>
              <a:rPr sz="5400"/>
            </a:br>
            <a:r>
              <a:rPr b="0" lang="en-US" sz="5400" spc="-1" strike="noStrike">
                <a:solidFill>
                  <a:srgbClr val="000066"/>
                </a:solidFill>
                <a:latin typeface="Arial"/>
              </a:rPr>
              <a:t>Update to RM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rch 11, 200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3B6B-3112-478F-A41A-2548B53A0F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The next TX SET meeting 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will be March 23</a:t>
            </a:r>
            <a:r>
              <a:rPr b="0" lang="en-US" sz="3600" spc="-1" strike="noStrike" baseline="30000">
                <a:solidFill>
                  <a:srgbClr val="000066"/>
                </a:solidFill>
                <a:latin typeface="Tahoma"/>
              </a:rPr>
              <a:t>rd</a:t>
            </a: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 and 24</a:t>
            </a:r>
            <a:r>
              <a:rPr b="0" lang="en-US" sz="3600" spc="-1" strike="noStrike" baseline="30000">
                <a:solidFill>
                  <a:srgbClr val="000066"/>
                </a:solidFill>
                <a:latin typeface="Tahoma"/>
              </a:rPr>
              <a:t>th</a:t>
            </a: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 at ERCOT Met Center </a:t>
            </a:r>
            <a:br>
              <a:rPr sz="3600"/>
            </a:br>
            <a:br>
              <a:rPr sz="6000"/>
            </a:b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Any question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0AB5-D7BB-461B-9F23-3F2BA5896D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2009 Leadershi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air – Jennifer Frederick (Direct Energ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Endorsed by RMS at February Mee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Vice Chair – Steven Bordelon (PNM Resourc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Request RMS Endorsemen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7913-DD32-4DE1-B30A-7FE20042AD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ssues Under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087 – PUCT Substantive Rule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§25.493 (e) states that ERCOT “shall develop procedures to facilitate the expeditious transfer of large numbers of customers from one REP to another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ext Step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RMGRR submitted to for Short-term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Texas SET developing procedures for Long-term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44CA-3D91-4081-BAA8-575036B829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ssues Under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089 – Ability for ERCOT to display AMS meter indicator on T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ext Step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Issue has been closed and a PRR submitted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090 – Need additional information to resolve errors on the CBCI f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ext Step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ERCOT to provide feedback on whether Market Testing would be requi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F5E0-176D-4855-B256-21DEBA373C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ssues Under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091 – CNP received 814_08 A95 cancels on several 814_26 (historical usage) transactions from ERCOT in err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ext Step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ERCOT researching why these cancels went ou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7E2D-F87A-4C24-81CF-01975ED5D1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ssues Under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093 – Review the language for the CBCI and determine if CSAs should be included in the monthly CBCI file submi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ext Step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Issue has been closed and a RMGRR submitte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9754-4974-4315-A7B5-15E86206ED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ssues Under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094 – Allowing only 1 ignore loop in a monthly meter read is causing information to be lost when a meter change occ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ext Step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DRG outflow needs to come in one ignore loop – whether that be on the original 867 or through a replacement of that information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TDSPs are researching what option is most viable in their syst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RMGRR Activ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RMGRR 072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– Clarification that ESI ID Count is for Active REP of Record in the CBCI F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ormal Timeli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ext Step: April R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RMGRR 073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– Mass Transition of ESI IDs due to Acquis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ormal Timeli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ext Step: April R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7C26-8A19-4088-9AEA-56439B2C00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PRR Activ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761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PRR 806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– Re-Registration of Market Participant due to Mass Transition of ESI 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ormal Timeli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ext Step:  April R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PRR 805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– Adding POLR Customer Class and AMS Meter Flag to the Database Query Function on the M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ormal Timeli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ext Step:  April R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284D-64DE-49A3-AB3D-ED699E8DDD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7:54:20Z</dcterms:created>
  <dc:creator>rbevill</dc:creator>
  <dc:description/>
  <dc:language>en-US</dc:language>
  <cp:lastModifiedBy>jfrederick</cp:lastModifiedBy>
  <dcterms:modified xsi:type="dcterms:W3CDTF">2009-03-09T15:28:37Z</dcterms:modified>
  <cp:revision>258</cp:revision>
  <dc:subject/>
  <dc:title>TX SET  Update to RMS</dc:title>
</cp:coreProperties>
</file>