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alibri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3B4F-6D23-4CFA-8F33-F4B385237B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0189-0DC4-4E24-A3DE-27FFA9D91C3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B898-A19B-4BD9-B547-ACC85897E6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2BA3-F1FC-468A-8970-828356E006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E00C-C921-4383-992C-0C796835A8C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3340-179C-4A8C-AF6F-85E78D2D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83F-8100-4467-8983-51766841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4B3F-50E5-42E0-B6AA-D10B3030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ED7-7D2F-4462-95C5-182979F4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AD68-E46C-47A2-94F8-037E75C9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A370-F3E9-40C9-A704-7261F6EB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530E-9F4D-4082-BC34-A1ECE60C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EF13-AB2C-442E-87B5-19568A42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82CA-DE12-4FD9-89F6-2D3F8920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FC08-1869-4F79-93BC-49411595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ADD7-5500-4056-9EA9-0999941F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8A95-7BB1-41F6-8109-AE83E801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24A0-7038-479D-BEC5-542A6224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287F-243E-4023-B765-9822B9D9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BB3C-7005-419A-8AF7-D85A9ABF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071A-9086-4E64-9701-F775F70F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5C65-4463-4BA6-B3D8-A6373C09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235F-35BA-43FB-904D-7789F9BD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4FAB-1345-41C8-A910-833369F7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888E-5929-44A0-9F28-D7FB699E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7F5-3783-43B2-BD48-DD5CD85F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822-F90A-42B5-AB2C-DF3E842A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103-3CFF-4710-BF0D-F39043F5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AC5-6031-4530-880D-18D0D61C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777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eaeae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E273-87F3-4D40-A829-01436D6C3032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212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777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eaeae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744B-908A-4082-BDA0-A96E2370B455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685800" y="1600200"/>
            <a:ext cx="84582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andara"/>
              </a:rPr>
              <a:t>Technical Advisory Committee Update</a:t>
            </a:r>
            <a:r>
              <a:rPr b="1" lang="en-US" sz="5400" spc="-1" strike="noStrike">
                <a:solidFill>
                  <a:srgbClr val="ffffcc"/>
                </a:solidFill>
                <a:latin typeface="Candar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andara"/>
              </a:rPr>
              <a:t>March 5, 2009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66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Calibri"/>
              </a:rPr>
              <a:t>RMS Meeting</a:t>
            </a: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1203c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CR750, Upgrade ERCOT’s Systems so Users Can Upgrade to Internet Explorer 7.0 and Beyond “Tabled” until March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RMS meet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MS endorsed WG/TF Leadership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85800" y="2624040"/>
            <a:ext cx="3809880" cy="370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12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AS SE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air: Jennifer Frederick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C: Steve Bordelon*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as Test Plan Tea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air: Kyle Mill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C: Roger Tenenbow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C: Jim Purd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RS TF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air: Kathy Scot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800600" y="2624040"/>
            <a:ext cx="3809880" cy="328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12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tail Metering W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air: Terry Bat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C: Mike McCab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rkeTrak TF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air: Karen Malke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as Data Transport W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air: Johnny Roberts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C: Annette Mort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1203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Calibri"/>
              </a:rPr>
              <a:t>TDTWG and Market Metrics</a:t>
            </a: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1203c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DTWG and Market Metrics W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7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Texas Data Transport Working Group will be redefining working group procedures to include performance measures. 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XAS SE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7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orking on “Short Term” and “Long Term” solutions for CR acquisitio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7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ML indicator for AMS meters, which TX SET will submit a PRR for approval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680840" y="1676160"/>
            <a:ext cx="7002360" cy="26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Questions ?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balbracht</cp:lastModifiedBy>
  <dcterms:modified xsi:type="dcterms:W3CDTF">2009-03-10T20:44:09Z</dcterms:modified>
  <cp:revision>43</cp:revision>
  <dc:subject/>
  <dc:title>Slide 1</dc:title>
</cp:coreProperties>
</file>