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8301A-D0BC-4549-9B96-68EF6C598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46300-90E4-4371-9ECD-FF3E4C4AC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6A34E-7779-4B43-A3E8-4173FA3B5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9DB48-C275-4A1C-B209-CA85F5F92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CAC03-4BDB-4B84-AB04-085989ADB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A4AD8-2D18-4BB0-BAC0-05F54265A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33C3B-E697-46E3-A91F-BD19C0C17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64821-1715-40DA-877D-A8E596A79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DD969-FD4C-43B0-A008-2D6B1962E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46E86-0A71-41EC-A7C4-4CC717DA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0B7EC-9562-41FA-9FC5-92EFA731E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25BD9-7312-4721-86FB-EA1F3B76C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4A17E-1B1E-4061-B864-68BA2B9B62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bruary 11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A6706-C7CB-4D7F-BFA5-0B0A2582C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ebruary 11,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kpatrick@reliant.com" TargetMode="External"/><Relationship Id="rId2" Type="http://schemas.openxmlformats.org/officeDocument/2006/relationships/hyperlink" Target="mailto:kathy.scott@centerpointenergy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johnny.robertson@txu.com" TargetMode="External"/><Relationship Id="rId2" Type="http://schemas.openxmlformats.org/officeDocument/2006/relationships/hyperlink" Target="mailto:ammorton@aep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terry.bates@oncor.com" TargetMode="External"/><Relationship Id="rId2" Type="http://schemas.openxmlformats.org/officeDocument/2006/relationships/hyperlink" Target="mailto:mmccabe@reliant.com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kyle.miller@centerpointenergy.com" TargetMode="External"/><Relationship Id="rId2" Type="http://schemas.openxmlformats.org/officeDocument/2006/relationships/hyperlink" Target="mailto:jbpurdy@aep.com&#160;" TargetMode="External"/><Relationship Id="rId3" Type="http://schemas.openxmlformats.org/officeDocument/2006/relationships/hyperlink" Target="mailto:jbpurdy@aep.com&#160;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1447920" y="1905120"/>
            <a:ext cx="6476760" cy="12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tail Market Subcommitt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1752480" y="3505320"/>
            <a:ext cx="6343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Working Group and Task Force Leader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bruary 11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etail Market Subcommittee (RMS)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yle Patrick, Chai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kpatrick@relian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13-497-33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athy Scott, Vice Chai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kathy.scott@centerpointenergy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13-582-865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bruary 11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MS Working Group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ket Metrics (MMWG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s are to merge MMWG responsibilities in with TDTWG and sunset MMW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as Data Transport (TDTWG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hnny Robertson, Ch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ohnny.robertson@txu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72-868-82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ette Morton, Vice Ch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mmorton@aep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14-205-65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meeting – March 4,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bruary 11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MS Working Group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tail Metering (RMWG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ry Bates, Ch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erry.bates@oncor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4-486-59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ke McCabe, Vice Ch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mccabe@relian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13-497-35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meeting – to be determ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MS Working Group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as Standard Electronic Transaction (Texas SET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nnifer Frederick, Ch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nnifer.frederick@directenergy.c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12-320-791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ven Bordelon, Vice Chai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ven.bordelon@pnmresource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69-484-853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bruary 11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MS Working Group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as Test Plan Team (TTPT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yle Miller, Ch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kyle.miller@centerpointenergy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13-207-669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im Purdy, Vice Chai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jbpurdy@aep.com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14-716-14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ger Tenenbown, Vice Ch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ger.tenenbown@eso-global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13-403-87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Meeting – March 26,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bruary 11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MS Task Force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ket Advanced Readings and Settlements Task Force (MAR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thy Scott, Ch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thy.scott@centerpointenergy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13-582-86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meeting – March 9,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keTrak Task For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ren Mal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ren.malkey@centerpointenergy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13 207-667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meeting – March 5,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Tindall</dc:creator>
  <dc:description/>
  <dc:language>en-US</dc:language>
  <cp:lastModifiedBy>SDT</cp:lastModifiedBy>
  <dcterms:modified xsi:type="dcterms:W3CDTF">2009-03-05T16:05:50Z</dcterms:modified>
  <cp:revision>47</cp:revision>
  <dc:subject/>
  <dc:title>Instructions</dc:title>
</cp:coreProperties>
</file>