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E685-F1B3-41A4-8975-1ED0624E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359B-975D-4B4D-B485-2D0B23FB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0C10-B860-4E34-B75F-A869A0D9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6E4F-EEA0-45DB-A16F-6118B38E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3463-5149-4C72-8B54-F0D1AFD4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2457-9F03-4D69-AE71-92206C87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6AF5-03FA-4FEA-BB6C-F6DABE9B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A701-F0B9-4EEA-9BC6-30511C8A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2BC1-203A-4585-B257-EB7955C8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C1B4-7CF2-418A-A412-1C9AABD9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ABDD-B45D-4283-BC93-F065AC63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E783-1F63-4A81-9182-D210A0BD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B37F-34E2-40C7-B31D-AB95D88F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FD07-2565-4088-803E-7CAB664A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7987-01F5-4FAB-9539-A7B406C2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957F-DB58-4372-A39D-1AB0D839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5B2C-8AB0-4F1E-B86E-E01902C2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27B2-A49F-4A8E-BDF2-314AFFC2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76F4-466E-4338-B7A3-088A49D0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115C-FDDB-418B-BB37-DBB53F91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C507-6A71-4C99-B97A-17F2038C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E569-D8D5-4EE0-979A-FCB85825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C628-E25E-41CB-B82D-A52EE3CD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5F71-95E2-47B5-B1B5-4D65B3F7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F462-C941-4D72-B2E6-0B4D0D42ED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A47D-F6F9-46A4-BEC9-B662885F7B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914400"/>
            <a:ext cx="784836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ommercial Operation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ubcommittee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Update to RM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March 11, 200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March 10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COPS Communication W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ved COPMGRR009, Planned Scheduled Release and Planned Maintenance Outage Notific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nned Scheduled Release dates moved from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ek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nned Maintenance Outage dates moved from 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unday to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unday and changes time from 8am-8pm (12 hrs) to 6am-9pm (15 h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s a 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amp; 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unday from 8am-8pm (12 hrs) as Planned Maintenance Outage d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MGRR010, Creating Section 12, Renewable Energy Cred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 address “micro-generator” information at later 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ved updated COPS 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ed SEWG and deleted Commercial Protocol W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March 10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Profile W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RCOT will accept 15 data by AMS if the load research IDR is repla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Round 2 LRS data collection ends Dec 31,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60k annual validation 814_20s not an issue with 1 million 814_20s for 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MS 15 minute data could be initially settled with profile, then final settlement with 15 minut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1938 combinations of load profile IDs, up from 163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March 10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Settlement &amp; Extracts W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Approved lead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Jim Galvin – Lumin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Heddie Lockadoo – N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Report &amp; Extract issues continue to dec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3 incidents during the mid Jan - Fe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2 incidents were TML outages lasting less than 30 minut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1was a late posting of extracts by 5 minut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Working to develop more formal process for ad hoc invoic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March 10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er 2008 Defaults Uplift Process is compl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plift in Jan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$2,500,000.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plift in Feb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$2,243,772.8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tal amount uplifted was $4,161,186.8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2008 Final MO Financ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Budget Funding of $1.32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$190K transferred from RO to MO to cover AMIT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Spend of projects was $1.27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Budget Variance ~$52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balbracht</cp:lastModifiedBy>
  <dcterms:modified xsi:type="dcterms:W3CDTF">2009-03-10T21:10:12Z</dcterms:modified>
  <cp:revision>5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99266346</vt:r8>
  </property>
  <property fmtid="{D5CDD505-2E9C-101B-9397-08002B2CF9AE}" pid="3" name="_AuthorEmail">
    <vt:lpwstr>Chuck.Moore@directenergy.com</vt:lpwstr>
  </property>
  <property fmtid="{D5CDD505-2E9C-101B-9397-08002B2CF9AE}" pid="4" name="_AuthorEmailDisplayName">
    <vt:lpwstr>Moore, Chuck</vt:lpwstr>
  </property>
  <property fmtid="{D5CDD505-2E9C-101B-9397-08002B2CF9AE}" pid="5" name="_EmailSubject">
    <vt:lpwstr>COPS presentation for March 11 RMS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