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 type="sldNum" idx="1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096AB-8821-4E54-9266-2309C44ACB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A462C-0613-4264-9001-E9492970496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E6255-5887-4B57-9D72-9458E634077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08193-4106-434B-BF59-A6B5AED6BF1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50099-7801-4CEE-977E-913040F6AA9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36713-D7ED-46BE-ACE4-1E7861B4BE3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AEC89-D7A0-4F41-B43D-187525B7A67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9B129-33E8-470B-93C8-1F4F083F2FB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7DD54-808A-49C4-800A-CD5D0205247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DE87E-CB3A-4EF5-BF36-EF0145246F3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47DA7-CFEF-4682-8ABF-2905984D148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8072C-2B82-42F2-A047-5EB5A903D86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D78B-EB34-4857-80E3-7A4BB09FA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6D31-1C62-4AA4-8CD5-5E344A6DA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0230-E5F4-4410-A129-28BA72B4A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420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628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420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628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F837-ABBB-46D3-8889-F20774011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1003F-ABB7-46E1-A956-E6EE8F28A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078B1-1828-4BEC-AF30-745A6DEED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8579B-F388-4774-84DC-D554EA8B2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04AF0-5C28-4C79-B1DF-1F16C6A66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F78AE-65DC-4D25-BD95-2707515FE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333000"/>
            <a:ext cx="7696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D0D02-EEDD-4B9E-A771-68443A501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EE565-F879-42FD-90AD-1279B7301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B861-2F2D-4A08-9A3B-43710D476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6B4B2-09CC-46B6-B53C-6670319E3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D4FAE-2896-4B5E-A8DD-66F30A91C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1F1C1-F7C3-4C77-A003-E0C425023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BF9FC-39DD-4027-8003-7EBEBAB57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6420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628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6420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628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2C6E2-F62A-43E1-98CB-0D7BD79BF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A2BE96-AAD9-474E-8303-AA556BFAD58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064C1E-1845-465D-9495-FD25B2055C6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CF4C73-A742-4D8B-BF55-D14E810237B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8E282D-E142-41FB-AAC4-DE2BB9F80A0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33F318-408F-4E21-A6FC-F271F3C3E5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D044-213F-4D9E-AE99-D8950526B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762120" y="333000"/>
            <a:ext cx="7696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BD1E7E-0455-4E8C-8699-E0B453DAE18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BD9C9B-72F6-4843-8715-6EC3995C9EF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8B54B7-8704-4C33-A327-0354390B933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AA2CA6-C135-4096-B4F5-8C0396ACCF8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A06688-42CF-4EEA-8C35-186D9C11640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E1D704-BDAD-45A5-8DC6-5ABD0D9C050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36420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6628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76212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36420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6628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417CA0-AA85-495B-8540-B9A42A21EE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5BE8-F151-483A-88ED-DFB06E74A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268B-1AE0-4ADA-A74C-149B8EA38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333000"/>
            <a:ext cx="7696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CF4E-4F18-4CE7-B325-8D5288F0E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1A74-4187-41CF-A2EF-8F89E2C71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BFB5-3DF7-4530-8263-0CB58716B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D6F8-ADB4-476A-8BD4-A103DE99A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063F0-356A-4686-8241-BE1C48D244E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595E5-3153-42B5-910F-701B6AA4FF3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C6AD3-CAD0-48CE-9111-3870538D9D93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560" y="5229360"/>
            <a:ext cx="77230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MARS Taskforce 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04560" y="6021000"/>
            <a:ext cx="7723080" cy="79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MS Update March 11, 2009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Next Steps for MARS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762120" y="1773000"/>
            <a:ext cx="7696080" cy="4856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omplete the review and finalize new section Retail Market Guide Section 7.15 “Advanced Meter Interval Data File Format and Submission” by mid-April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ontinue to update RMS and COPS on the progress of Project 80027 Execution Plan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Revisit the 814_20 AMS Profile change volume question in July 09 to determine the best solution for the market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ontinue to complete and resolve action items by providing timely feedback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Questions?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pic>
        <p:nvPicPr>
          <p:cNvPr id="152" name="Content Placeholder 3" descr="j0083153.wmf"/>
          <p:cNvPicPr/>
          <p:nvPr/>
        </p:nvPicPr>
        <p:blipFill>
          <a:blip r:embed="rId1"/>
          <a:stretch/>
        </p:blipFill>
        <p:spPr>
          <a:xfrm>
            <a:off x="2968560" y="3651120"/>
            <a:ext cx="3133800" cy="3060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153" name="Picture 4" descr="j0385990.jpg"/>
          <p:cNvPicPr/>
          <p:nvPr/>
        </p:nvPicPr>
        <p:blipFill>
          <a:blip r:embed="rId2"/>
          <a:stretch/>
        </p:blipFill>
        <p:spPr>
          <a:xfrm>
            <a:off x="-6480" y="1670040"/>
            <a:ext cx="3292560" cy="34448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j0320142.wmf"/>
          <p:cNvPicPr/>
          <p:nvPr/>
        </p:nvPicPr>
        <p:blipFill>
          <a:blip r:embed="rId3"/>
          <a:stretch/>
        </p:blipFill>
        <p:spPr>
          <a:xfrm>
            <a:off x="5877000" y="1695600"/>
            <a:ext cx="3029040" cy="69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MARS Taskforce </a:t>
            </a:r>
            <a:br>
              <a:rPr sz="4400"/>
            </a:b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March 9, 2009 Meeting 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RCOT Project Status Report for Planning Pha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lanning Complete                   02/20/2009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 Complet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skforce reviewed the Market Testing and Execution Phase milestones and critical tasks for Project 80027 Advanced Metering Interim Settlement Solution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Execution Phase </a:t>
            </a:r>
            <a:br>
              <a:rPr sz="4400"/>
            </a:br>
            <a:r>
              <a:rPr b="0" lang="en-US" sz="3600" spc="-1" strike="noStrike">
                <a:solidFill>
                  <a:srgbClr val="e8edf2"/>
                </a:solidFill>
                <a:latin typeface="Tahoma"/>
              </a:rPr>
              <a:t>Testing Requirements </a:t>
            </a:r>
            <a:endParaRPr b="0" lang="en-US" sz="36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62120" y="1600200"/>
            <a:ext cx="7696080" cy="554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cope of Market Testing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DSP submits Advanced Metering LSE interval data file submission and ERCOT returns a file-level acknowledg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arget Dates for Market Testing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ctober 19 – November 6, 200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Next Step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 the project progresses through development activities and the detailed ERCOT testing schedule is refined, coordination activities will be scheduled with the TDSP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86868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Execution Phase Schedule</a:t>
            </a:r>
            <a:br>
              <a:rPr sz="4400"/>
            </a:br>
            <a:r>
              <a:rPr b="0" lang="en-US" sz="3600" spc="-1" strike="noStrike">
                <a:solidFill>
                  <a:srgbClr val="e8edf2"/>
                </a:solidFill>
                <a:latin typeface="Tahoma"/>
              </a:rPr>
              <a:t>Milestones and Critical Tasks</a:t>
            </a:r>
            <a:endParaRPr b="0" lang="en-US" sz="3600" spc="-1" strike="noStrike">
              <a:solidFill>
                <a:srgbClr val="e8edf2"/>
              </a:solidFill>
              <a:latin typeface="Tahom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600200" y="1676520"/>
          <a:ext cx="6781680" cy="4952880"/>
        </p:xfrm>
        <a:graphic>
          <a:graphicData uri="http://schemas.openxmlformats.org/drawingml/2006/table">
            <a:tbl>
              <a:tblPr/>
              <a:tblGrid>
                <a:gridCol w="4091040"/>
                <a:gridCol w="2690640"/>
              </a:tblGrid>
              <a:tr h="380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ion Mileston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e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line Da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ef4"/>
                    </a:solidFill>
                  </a:tcPr>
                </a:tc>
              </a:tr>
              <a:tr h="447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chnical Architecture Comple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5/15/200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6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velopment  Comple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7/24/200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5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tailed Designs Comple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8/11/200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7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Test Comple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8/11/200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6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est Comple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/06/200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7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 Test Comple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/06/200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 LIVE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14/2009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off-cycle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447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 Live (Contingency Date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/12/200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7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bilization Comple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3/19/20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ject Comple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5/21/20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AutoShape 23"/>
          <p:cNvSpPr/>
          <p:nvPr/>
        </p:nvSpPr>
        <p:spPr>
          <a:xfrm>
            <a:off x="5867280" y="4876920"/>
            <a:ext cx="381240" cy="380880"/>
          </a:xfrm>
          <a:prstGeom prst="pi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-21600000">
                                      <p:cBhvr>
                                        <p:cTn id="1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69608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March 9, 2009 </a:t>
            </a:r>
            <a:br>
              <a:rPr sz="4400"/>
            </a:b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Meeting </a:t>
            </a:r>
            <a:br>
              <a:rPr sz="4400"/>
            </a:b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762120" y="1599840"/>
            <a:ext cx="7696080" cy="5257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RS Taskforce reviewed initial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draft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f new Retail Market Guide Section 7.15 “Advanced Meter Interval Data File Format and Submission”, which includ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55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File layout and data requirements for ERCOT Specified File Format for both ERCOT and TDSP’s FTP site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55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rocess for TDSPs to post files to FTP site for CR downloads or transmit files via NAESB to ERCOT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55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File Naming Convention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55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Documented file size limitations for files sent to ERCOT will contain no more than 50,000 transaction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Questions Answered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761760" y="1523520"/>
            <a:ext cx="7848360" cy="500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arified  that a transaction is comprised of a single day of interval data reads – 96 reads (92 or 100 reads if changing to or from Daylight Savings Time (DST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extracts and web services will be available to market participants at project go-live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499400" indent="-219240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hanges impacting 727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499400" indent="-219240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When effective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499400" indent="-219240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Others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901520" indent="-219240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901520" indent="-219240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1" name="Object 4"/>
          <p:cNvGraphicFramePr/>
          <p:nvPr/>
        </p:nvGraphicFramePr>
        <p:xfrm>
          <a:off x="6858000" y="5715000"/>
          <a:ext cx="914400" cy="7142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0" y="5715000"/>
                    <a:ext cx="9144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Questions Discussed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761760" y="1523520"/>
            <a:ext cx="7848360" cy="500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hen ERCOT is ready to start receiving 814_20 Load Profile changes for AMS would the TDSP need to provide an 814_20 Load Profile update for the AMS profile on a meter read date? 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yes, how will the volume be managed for each TDSP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ERCOT’s Response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Consideration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effective date of the profile change (814_20) can not be future dated.  Therefore, the profile changes will need to be submitted after project go-live (11/14/09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load profile annual validation will be occurring approximately the same time frame or within a month of go-live and early stabiliz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Annual Validation </a:t>
            </a:r>
            <a:br>
              <a:rPr sz="4400"/>
            </a:b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Questions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hat about Annual Validation being performed around this time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814_20 Volume for all TDSPs involved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ources needed to manage this effort and scheduling impacts to comple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ime needed for issue resol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alue?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01:21:15Z</dcterms:created>
  <dc:creator>Scott, Kathy D.</dc:creator>
  <dc:description/>
  <dc:language>en-US</dc:language>
  <cp:lastModifiedBy>Scott, Kathy D.</cp:lastModifiedBy>
  <dcterms:modified xsi:type="dcterms:W3CDTF">2009-03-10T16:54:02Z</dcterms:modified>
  <cp:revision>75</cp:revision>
  <dc:subject/>
  <dc:title>MARS Taskforce </dc:title>
</cp:coreProperties>
</file>