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A18A-2C10-4BCC-98CB-609ACE37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9722-0F7C-484C-86C6-95F83099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4D41-504A-44F7-80B5-995C0657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BE34-EB48-4045-BCE6-06C84197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B77F-46A9-4A1D-95ED-4F3B1808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345C-6CD1-4E51-9DA2-ACF5E05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61F9-5224-4049-9085-60BCDA07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A180-E778-475E-B41E-14625C0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C368-3E7F-4BD9-A943-0808BEE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0F2-71B2-449B-B0CE-4B38054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218E-BF95-4C56-A861-4682BBA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5CE5-A5AF-44CA-80FC-EBA09C0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F63-D0AD-4558-80E3-19B91D04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1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y 18; Approximately halfway point of transac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209 scheduled to conclude on 03/31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4/17/09 (blackout period be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Rs who were testing Change of Service Provider have withdrawn from testing and decided to remain with their current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Rs have completed testing for a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6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5/20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5/26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6/19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06/22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8/04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3-04T15:09:09Z</dcterms:modified>
  <cp:revision>110</cp:revision>
  <dc:subject/>
  <dc:title>Instructions</dc:title>
</cp:coreProperties>
</file>