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7EE2-6331-4E5F-AAF6-ED1B38E96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D005-DA3E-463F-905D-78C01F82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7D59-A5C2-493F-9181-D0B8FBA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669B2-21CF-45DE-9CE5-1C5E0717A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EA5-85CD-4607-AEC1-8FE82031D3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679-EF48-4D6E-BDC8-2966A3D6EA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BA2F-9FA1-4BFC-B158-1D6F49D108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57D-1B81-4B32-9580-ABB165312E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CFC-6751-4508-B358-616FAD776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8CF7-D81B-4124-9EC0-9321D9D03D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27C-5599-4424-8ADF-26B5F06319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3FCB-863C-47E0-BDB7-1BD437A7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409-CA18-4E08-8D39-90B4B01205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71A-C078-4389-871D-7D74C5C4D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423-D70F-4257-833A-A3D7F41EEF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C9C6-F89A-4026-B165-70F6747F41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F7E-E9CC-4F5C-BDBE-7809CD0B2D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30AC4-8A0D-4EA7-ACF2-52EACF8BE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056E5-2EC5-4D34-86CA-80ED4D9D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9362B-345F-447D-B03D-A059B89E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F6292-005D-4170-A837-276A4411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EDC29-D8A2-4D2D-B840-54A8FD06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F41D6-10F2-4D70-A2CE-12736F83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FAB43-E8E7-4450-BC69-2E0EBE88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B0839-E683-4BEF-8C5F-614F1CD2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68AF8-C99C-42D3-8287-6E8B7762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44AB-3061-47C3-92E3-36552BB9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B4FB5-1D20-49AE-8821-194A6BF5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5424-9487-4D7F-BA32-9AF298E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64B6A-3AF4-4371-A0AB-211042CBE7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409D-A61B-4751-ACD6-F3DF1E43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05ED-B7E9-41AA-A8AF-E49B58F8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42FB1-4CB1-4A1D-AC99-65A6EA16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9354-4B4F-404A-954A-FD3B3C8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7E844-BBF7-4573-A782-A14A81C1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9A16-8910-4B06-B88C-E6EF098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8AB2-3D4D-4688-8D9B-876EC85DB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5F6B-84F6-4AE2-93CE-EF01FE31B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3345-BA82-4555-9E1F-F5D81ECC74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yl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10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7C2D-73E7-45CC-BA3E-5DECEDF155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6320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DD66-304F-4924-A6BF-1B18131265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1752480"/>
            <a:ext cx="83818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d Research PWG Consensus 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shall accept the 15 minute data by the advanced meter if the load research IDR is repla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gap in data due to IDR to AMS shall be minimized by the TD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nd 2 load research data collection ends on Dec. 31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WG finalized the timeline at the 2/25/09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8F36-787A-42C1-8F2F-37C20720FE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010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2BE83-DC7D-4CD2-916E-9422AF5DDB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447920"/>
            <a:ext cx="8381880" cy="45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5 Minute Interim vs. Annual Valid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ed and concluded the 60,000 Annual Validation Business 814_20 transactions should not be an issue with the estimated 1 million 814_20 transactions for the 15 Minute Interim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ed that perhaps at least a 150 market notice is needed for the 15 minute interim solution highlighting all the new Load Profile ID vali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ll be 1938 combinations of Load Profile IDs, up from 1634, reference the LPGRR03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C755-1FCC-43E8-9B25-2FFC0AAEA8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9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. 25 and the 4th Wedn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48013-4B87-4345-8302-244F6E664F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9-02-27T13:28:57Z</dcterms:modified>
  <cp:revision>334</cp:revision>
  <dc:subject/>
  <dc:title>PowerPoint Presentation</dc:title>
</cp:coreProperties>
</file>