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1D43-538C-43E7-B7DF-FF1F83DB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9A26-DCB2-40E2-8322-D51AF9D3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238C-F7A2-4974-B0BB-48C63086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0FEB-6121-4687-87B3-149063D9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D4D82-6706-4A16-8A42-7FBACE1D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DB2C-87BB-43ED-9E53-2D8FF714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720D-90AF-41DF-A992-56167CFA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B429-3E71-4980-8AF5-19BFF996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0937B-BF66-4427-85F1-F63EE8EF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57DA-557E-422C-A3E6-0BD98A1B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97A4-A856-4029-92F3-55D383A2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0A00-8882-4FB7-B19F-B27B3D9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E597-1F45-4863-9B47-162B49FB0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55AD-82F9-4B5A-923E-E2269DEC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rch 10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ILS REMIND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R78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p for approval at the 3/17 BOD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pproved, will go into effect for Oct08-Jan09 EILS Contract Period settleme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LS Oct08-Jan09 Contract Period settlement d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settlement for last day of Contract Period posts 3/31/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LS Settlement will go on 2/10/09 FINAL, which pos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/10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LS Resettlement will go on 2/10/09 TRUE-UP, which pos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11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If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pproved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LS Oct08-Jan09 Contract Period settlement d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k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go on 3/31/09 INITIAL, which pos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/10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ither case, a Market Notice will provide detail of dates and amounts to be sett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bauld</cp:lastModifiedBy>
  <dcterms:modified xsi:type="dcterms:W3CDTF">2009-03-09T17:38:56Z</dcterms:modified>
  <cp:revision>37</cp:revision>
  <dc:subject/>
  <dc:title>Instructions</dc:title>
</cp:coreProperties>
</file>