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0AA-B776-40D6-8AAC-89FB1BB0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673-DC47-44DA-958E-F72E9D98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282-BDEE-4E2C-BF7C-AC4ED3BA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566-D84D-42E0-ACA1-4303639B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AA50-F2B0-4C8F-A8EF-1DB55469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385E-9C33-42B4-B3AF-47CDD8B3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4536-C936-45B0-BC91-52B401DD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D3B3-A6A1-4F55-8315-AFBDD9DC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34FE-D40A-4DF6-8247-8EB2F981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1C1A-47D5-4CD4-8D94-E044E2E1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8F65-01AE-4570-BB0C-D6F2A502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730-2612-4521-9BE8-573B8DF7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6B65-675A-44C6-A70E-D0CCD4C3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AF6D-0702-4B77-A738-D84E7D42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3F47-710D-4C9C-B475-33A7DF3F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D62B-A8DA-4CC4-BC62-0EAE6B9E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2124-8B74-4BB9-B1F2-0D57D024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DD9-7340-470C-B203-FD6F6ACD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49AA-BA71-4BE4-8AE8-0385B744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336-0100-4127-80FC-38A4E818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278-CFF4-474D-8AB9-B5BC9C52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491C-D595-42D8-84FF-A58A8D5C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85E-10A3-4C12-B518-40288996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D31-A3BC-41D0-9612-EE2C08D1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97CC-2DEC-4AA4-B397-81201736D6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8792-ADCB-428D-8844-E1B165C69C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sla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4725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WG Meeting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to COP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/10/200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version of DEWG/SDAWG- SEW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692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4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dopted the Joint Goals as previously submitted by SDAWG and DEW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34776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Nodal COMS Revie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34776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Nodal Readiness communicatio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nd tracking for commercial issu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34776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EDS Settlement Testing for Noda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34776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ubmitting NPRR's and PRR’s as need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focus on Data Extract, Report Timeliness and other Settlement issu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34776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Tracking and reporting on Data Extract and Report Issues in Current Marke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347760">
              <a:lnSpc>
                <a:spcPct val="10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Studying impacts of Hurricane Ike and UFE on Settleme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ract Issu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reported on the Extract and Report issues from the mid January to Febru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ercot.com/services/sla/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 issues continue to be on the decline, 3 incidents during the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incidents were TML outages lasting no more than 30 min and a late posting of extracts by 5-min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dal CO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staff provided updates to the COMs spreadshe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posting of data has been made since meeting and will be discussed at next SEWG meet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DL com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Gu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will seek input from stakeholders on these items, this will cover the majority of our next mee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 Hoc Invoicing Proc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G discussed issues around the Ad Hoc Invoices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reason for Ad Hoc invoices are market short pays, ADR resolutions or litigation dec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example of concerns about the lack of documented proc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stency in communication of Invo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 to QSE contact of Inv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G will work with ERCOT staff to determine a more formal process for Ad Hoc invo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FE Upda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staff provided brief update on UFE during Hurricane Ike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will be providing its 2008 UFE report and may have additional find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DSP estimation processes may have contributed to the swing over months of UF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and resources are limited for going back and doing a thorough analysis of the UFE tre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odal Load Aggreg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827000"/>
            <a:ext cx="792504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RCOT staff proposed a question to consider addition to LSEGUNADJ cut of load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erminant could be used to identify actual, estimate or historical read statu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sented to SEWG members for consideration, more discussions will follow this yea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41:07Z</dcterms:created>
  <dc:creator>Registered User</dc:creator>
  <dc:description/>
  <dc:language>en-US</dc:language>
  <cp:lastModifiedBy>Registered User</cp:lastModifiedBy>
  <dcterms:modified xsi:type="dcterms:W3CDTF">2009-03-09T18:48:41Z</dcterms:modified>
  <cp:revision>33</cp:revision>
  <dc:subject/>
  <dc:title>DEWG Meeting Summary</dc:title>
</cp:coreProperties>
</file>