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BB71-E63A-4FDC-B6FF-14EECD30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6523B-40A8-4566-A8CF-0D4D59AD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2947-7E9E-45D4-B400-F855ED3A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A4AC-E662-4811-A005-95168A21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FFBB-A78C-4F84-92E1-41A26E81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0F42-3A5A-43E4-AFFC-2ED97BC4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C91D-A64A-4AF1-80BF-04E2E63E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0B72D-F3DC-42CB-B338-6E6E10E7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FC12-0233-4EAE-9813-92F3512D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A732-ED55-4AC1-9039-A682AD72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F3F3-D9E7-4553-932B-496BB0FD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6A97-F361-4BD7-956C-91CA76EF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85B7-4306-4F15-A70F-9E108DA48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3F18-BDF5-4603-8906-7F6D51663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ngestion Repor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sabel Flo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pervisor, System Performan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CPE 2006-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op Congested Elements -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447920" y="838080"/>
          <a:ext cx="6171840" cy="4952880"/>
        </p:xfrm>
        <a:graphic>
          <a:graphicData uri="http://schemas.openxmlformats.org/drawingml/2006/table">
            <a:tbl>
              <a:tblPr/>
              <a:tblGrid>
                <a:gridCol w="4435200"/>
                <a:gridCol w="1736640"/>
              </a:tblGrid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op transfor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9,035,741.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ard transfor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6,742,796.6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dow-Elgin 138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6,542,963.4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cogdoches transfor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4,146,030.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 Springs Switch-Big Spring West 138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2,638,292.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essa North-North Cowden 69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2,333,010.9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yne Switch-Alla Hubbard 138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1,693,094.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dow-Salty 138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1,365,960.3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guin-Zorn 138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1,288,447.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herton-North Laredo 138k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921,611.8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ilene Mulberry Creek East Reactor Series 138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891,661.9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Angelo Red Creek 345/138kV transfor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831,576.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hens-Elk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      825,309.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s for Congestion Relief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8240" y="898560"/>
            <a:ext cx="8866080" cy="506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 on System Planning Activiti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G Project Revi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stakeholder can propose project to relieve 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rojects have been recommended through this mechan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ve-Year Transmiss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s to forecast congestion for up to five years into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es transmission projects that satisfy economic criteria to relieve constraints that result in 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erm Studies (Ne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recurring congestion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whether projects are already planned to resolve these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interim solutions (projects or operating fix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forecasting models based on histori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-zonal Congestion Costs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90720" y="5410080"/>
          <a:ext cx="6989760" cy="833400"/>
        </p:xfrm>
        <a:graphic>
          <a:graphicData uri="http://schemas.openxmlformats.org/drawingml/2006/table">
            <a:tbl>
              <a:tblPr/>
              <a:tblGrid>
                <a:gridCol w="1247760"/>
                <a:gridCol w="998280"/>
                <a:gridCol w="998640"/>
                <a:gridCol w="1332000"/>
                <a:gridCol w="1081080"/>
                <a:gridCol w="133200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-zonal Congestion Costs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49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752480" y="5486400"/>
          <a:ext cx="6248520" cy="750960"/>
        </p:xfrm>
        <a:graphic>
          <a:graphicData uri="http://schemas.openxmlformats.org/drawingml/2006/table">
            <a:tbl>
              <a:tblPr/>
              <a:tblGrid>
                <a:gridCol w="1114920"/>
                <a:gridCol w="893160"/>
                <a:gridCol w="893160"/>
                <a:gridCol w="1189800"/>
                <a:gridCol w="966600"/>
                <a:gridCol w="1190880"/>
              </a:tblGrid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.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 of Zonal Congestion Occurrences - Interval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762120"/>
          <a:ext cx="8000640" cy="5394240"/>
        </p:xfrm>
        <a:graphic>
          <a:graphicData uri="http://schemas.openxmlformats.org/drawingml/2006/table">
            <a:tbl>
              <a:tblPr/>
              <a:tblGrid>
                <a:gridCol w="644040"/>
                <a:gridCol w="736200"/>
                <a:gridCol w="736200"/>
                <a:gridCol w="642600"/>
                <a:gridCol w="736200"/>
                <a:gridCol w="738000"/>
                <a:gridCol w="734760"/>
                <a:gridCol w="736560"/>
                <a:gridCol w="898200"/>
                <a:gridCol w="664920"/>
                <a:gridCol w="732960"/>
              </a:tblGrid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o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3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 of Zonal Congestion Occurrences - Day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04920" y="914400"/>
          <a:ext cx="8381880" cy="4927680"/>
        </p:xfrm>
        <a:graphic>
          <a:graphicData uri="http://schemas.openxmlformats.org/drawingml/2006/table">
            <a:tbl>
              <a:tblPr/>
              <a:tblGrid>
                <a:gridCol w="685800"/>
                <a:gridCol w="762120"/>
                <a:gridCol w="761760"/>
                <a:gridCol w="838440"/>
                <a:gridCol w="761760"/>
                <a:gridCol w="762120"/>
                <a:gridCol w="762120"/>
                <a:gridCol w="838080"/>
                <a:gridCol w="838080"/>
                <a:gridCol w="609840"/>
                <a:gridCol w="761760"/>
              </a:tblGrid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_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_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_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08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ackground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trend of local congestion costs for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s shown in mill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M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PE trend for 2006-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zonal c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OMC 2008 - $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80880" y="5334120"/>
          <a:ext cx="8153640" cy="874440"/>
        </p:xfrm>
        <a:graphic>
          <a:graphicData uri="http://schemas.openxmlformats.org/drawingml/2006/table">
            <a:tbl>
              <a:tblPr/>
              <a:tblGrid>
                <a:gridCol w="838440"/>
                <a:gridCol w="1752480"/>
                <a:gridCol w="1981080"/>
                <a:gridCol w="1676520"/>
                <a:gridCol w="1905120"/>
              </a:tblGrid>
              <a:tr h="30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39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Down 2008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5334120"/>
          <a:ext cx="8229600" cy="81900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48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Down 2008 - $M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5181480"/>
          <a:ext cx="8229600" cy="88128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76312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OM Up 2008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5105520"/>
          <a:ext cx="8229600" cy="957240"/>
        </p:xfrm>
        <a:graphic>
          <a:graphicData uri="http://schemas.openxmlformats.org/drawingml/2006/table">
            <a:tbl>
              <a:tblPr/>
              <a:tblGrid>
                <a:gridCol w="846000"/>
                <a:gridCol w="1768680"/>
                <a:gridCol w="2000160"/>
                <a:gridCol w="1692360"/>
                <a:gridCol w="1922400"/>
              </a:tblGrid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alancing Energy Up 2008 - $M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880" y="5181480"/>
          <a:ext cx="8229600" cy="919440"/>
        </p:xfrm>
        <a:graphic>
          <a:graphicData uri="http://schemas.openxmlformats.org/drawingml/2006/table">
            <a:tbl>
              <a:tblPr/>
              <a:tblGrid>
                <a:gridCol w="846360"/>
                <a:gridCol w="1768320"/>
                <a:gridCol w="2000160"/>
                <a:gridCol w="1692360"/>
                <a:gridCol w="1922400"/>
              </a:tblGrid>
              <a:tr h="32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763120" cy="43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ocal Congestion Costs 2001-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2120" y="5334120"/>
          <a:ext cx="7238880" cy="833400"/>
        </p:xfrm>
        <a:graphic>
          <a:graphicData uri="http://schemas.openxmlformats.org/drawingml/2006/table">
            <a:tbl>
              <a:tblPr/>
              <a:tblGrid>
                <a:gridCol w="1247760"/>
                <a:gridCol w="998280"/>
                <a:gridCol w="1332000"/>
                <a:gridCol w="1081080"/>
                <a:gridCol w="1332000"/>
                <a:gridCol w="124776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on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ED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E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 Dow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M 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47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placement Reserve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280" y="5715000"/>
          <a:ext cx="8763120" cy="485640"/>
        </p:xfrm>
        <a:graphic>
          <a:graphicData uri="http://schemas.openxmlformats.org/drawingml/2006/table">
            <a:tbl>
              <a:tblPr/>
              <a:tblGrid>
                <a:gridCol w="846360"/>
                <a:gridCol w="525240"/>
                <a:gridCol w="609840"/>
                <a:gridCol w="761760"/>
                <a:gridCol w="609840"/>
                <a:gridCol w="685800"/>
                <a:gridCol w="685800"/>
                <a:gridCol w="685800"/>
                <a:gridCol w="738000"/>
                <a:gridCol w="614520"/>
                <a:gridCol w="538200"/>
                <a:gridCol w="768240"/>
                <a:gridCol w="69372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8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5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6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5 March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ercot/if</cp:lastModifiedBy>
  <dcterms:modified xsi:type="dcterms:W3CDTF">2009-03-10T15:27:48Z</dcterms:modified>
  <cp:revision>55</cp:revision>
  <dc:subject/>
  <dc:title>Instructions</dc:title>
</cp:coreProperties>
</file>