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12EE-31CF-4559-86FD-2CC11180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978B-EB34-4382-874E-9F5882B1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39AB-DDD0-4BD8-A530-E29D5113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6977-675F-4B04-9054-27D79143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3BC8-03F4-4DA9-813F-BD13E81F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595E-2BEC-4E06-822B-C7552F7F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0B7D-5316-4405-ABD4-2A9929BB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91002-017E-48B8-BE79-E409F2DA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7006-FCAF-484A-B7AE-03B0BEAD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1F5B-05C4-47AC-B9EA-95094590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FF5E-6539-4B33-93A8-77CA1E2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E4D5-C651-4618-8536-799104E9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C3E7-8230-485C-A91A-F5580F7A7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3467-F697-46C0-9FA8-E462562F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ch 1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plift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dy Baul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February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er 2008 Defaults’ Uplift Process is comple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523880"/>
          <a:ext cx="7543800" cy="4136760"/>
        </p:xfrm>
        <a:graphic>
          <a:graphicData uri="http://schemas.openxmlformats.org/drawingml/2006/table">
            <a:tbl>
              <a:tblPr/>
              <a:tblGrid>
                <a:gridCol w="1447920"/>
                <a:gridCol w="4038480"/>
                <a:gridCol w="205740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st Uplift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Jan 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lift Invoice Pay-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y-out to Short-Paid ent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nd Uplif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b 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lift Invoice Pay-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661,186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te Fee Recovery (Misc Db) Pay-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79,484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maining Credits on H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03,10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y-out to Short-Paid ent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243,772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mount Uplif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161,186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aid to Short-Paid e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,743,772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s Learned’ discussions / action items (@ SEWG?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Process in the past / 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rocesses should be consistent regardless of the specific default scena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processes may change, depending upon the scena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drafting PRR language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Late Fee calculations (similar to Nodal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”…provided that ERCOT may cease charging late fees earlier than 180 days following a short-payment of an Invoice if ERCOT, in its sole discretion, determines that the recovery of late fees from the defaulting Entity is unlikely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hold back of x (5-10?)% collateral to fund small resettlements through finals and true up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-Hoc Invoice process (already at SE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focus on communication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bauld</cp:lastModifiedBy>
  <dcterms:modified xsi:type="dcterms:W3CDTF">2009-03-09T19:39:29Z</dcterms:modified>
  <cp:revision>34</cp:revision>
  <dc:subject/>
  <dc:title>Instructions</dc:title>
</cp:coreProperties>
</file>