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2981-9C13-4130-93DC-AAAAC1D1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06E-7F02-44AF-8A6B-9B5510BE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64B-3C16-451D-8D42-74E15C96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5E36-C490-41E3-95C5-CEB88F9E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3A19-BD39-4815-A97D-29459E01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2CB7-F7C0-4E52-AFB2-8AAADF9E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900D-FEC9-4C6F-8586-6AD4459A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52B3-A24A-4DB9-BC40-D7867343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6F08-C0DA-4C92-8402-D962779D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471E-07AD-4C67-9152-B8957DD9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0410-26E4-4A30-9BCA-3F7BEDF7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6ECC-B511-4C45-ADFB-C42D07E6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8200-5610-47A0-BA3C-AC10FA62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3062-F1E4-4E07-B8E1-5636EA36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8F5E-DA04-4F43-991C-39DAA0C8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B97E-E31D-4D83-B776-EB221295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7D8F-6557-45D4-8F7E-F9FDA07B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5DB-0E6D-4A49-8E3C-537D6985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ED1B-60D8-4838-8245-85B7F73A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5D2-A8C9-4E01-906E-766B3FCB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EC6-EEA5-4ED0-BFAB-C5D257CA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7608-A7AC-4D8B-9B78-A16E46F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432D-195E-41DB-8967-E3ECCA92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4DA-2AE8-4865-87DB-5AD38086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7BD4-7BE6-4E3D-ACD9-C3FE31909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CD7D-B7A1-42C5-81DB-6D48333323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762120" y="914400"/>
            <a:ext cx="78483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arch TAC Upda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o COP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March 5, 200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BE3A-572A-4BE0-8C11-3F6CDB4C67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r 5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ard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all PRRs recommended by T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 745, Retail Market Outage Evaluation and Resolution – Approved to close the project without proceeding to Phase I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the revised Nodal schedule, budget, and surcharge recommendation to the P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ved revisions to the ERCOT Ancillary services Procurement Method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ation of NSRS procur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d the number of MWs of RRS provided by LaaRs when ERCOT procures between 2300 and 2800 MW of R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97CB-DE0C-4C9D-954F-C871B8A67F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r 5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S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789, Removal of Grey Box Language Related to Lagged Dynamics Load Profiling Due to Unfunded Projects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790, Load Profile ID Annual Validation Change Request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RR146, ICCP Telemetry Information Submittals (Post Go-Live)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abled until the process for the Parking Deck procedure is defi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776, Automatic MCPE Adjustment During Intervals of Non-Spinning Reserve Service Deployment – A motion failed to pass PRR776 with latest TIEC Comments.  A motion failed to pass PRR776 as amended by the 2-24-09 Discussion Group Comments that add the PRR791 language.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 recommendation from TAC to the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R791, Shortage Pricing Mechanism –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 vote ta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-Nodal Go-Live Parking Deck – PRS will report back to TAC in Ap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Metrics Review – PRS will continue to review performance standards as time per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F8F9-2BB3-49F3-90CC-7E7CABB45D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r 5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S 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GRR219, Time Error Correction – UREGEN –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GRR220, Synchronization with PRR799, ERCOT CEO Approval of NPRRs and SCRs Prior to Posting on MIS – URGENT –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GRR023, Hotline Changes for QSEs Representing Multiple Entities –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GRR025, Monitoring Programs for QSEs, TSPs, and ERCOT TAC Response to PUCT and TRE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ewable Technologies Working Group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ed list of potential topics for Wind Workshop III, to be in Apr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C endorsed the PUCT Quarterly Report as required by Final Order in Docket No. 336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 and begin review of whitepapers for issues in the Undermined categ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elop a Renewable Technologies Integration Plan (RTIP) to ensure the efficient and reliable integration of renewable generation into the ERCOT Mar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2DE9-4A29-41C9-9416-F061CEDC86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Highlights of Mar 5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TAC Mee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ly Related Elements (C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ewellen-Peters and Hockley-Tomball CREs will be voted on by TAC via email vote this we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as Nodal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al Schedule –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 2010 implementation date; TPTF agreed that the schedule is achiev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Development Ov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ed Top 10 Questions asked about Standards Develop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E Update – Regional Standards not appropriate, at next LSERWG meeting will begin drafting agreements for functions perfor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ed metrics – No Entities Fai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stop reporting SCPS2 Scores for Wind Only QSEs because it is not enforce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0883-B497-4F55-86CB-504E6FC702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TAC Retreat Mar 6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committee Engagement in Nod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TPTF Final Report for sense of what fits in our Subcommittee, expertise needed, and workloa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transitional issues and S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 back to TAC in April for comment; Final adoption at May 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Email Distribution 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only for Subcommittee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is charged by per email; there are numerous subscri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ewable Technologies Integratio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 presented to TAC at April me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be presented to Subcommittees for review/com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 TAC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al Market Imple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ewable Technologies Integration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sed - Zonal Congestion Issues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6E35-21F4-405E-AF86-616B6C2F89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A001-43E5-4C0A-9959-8E6252D7D2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trenarym</cp:lastModifiedBy>
  <dcterms:modified xsi:type="dcterms:W3CDTF">2009-03-09T22:38:32Z</dcterms:modified>
  <cp:revision>53</cp:revision>
  <dc:subject/>
  <dc:title>Slide 1</dc:title>
</cp:coreProperties>
</file>