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6AA0D-1E4A-447B-BF56-E00CAAEBD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9B0A6-A418-4869-9EE5-3C7410A36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D9918-613F-4069-B3B0-96F636441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D2EB5-A4FD-4884-871D-0DCFFDA64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B7F267-F08A-4621-81FE-4C2110E4F5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7DE5A-5A7E-4E16-A934-67F0AB6EB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81CE8-CCE0-49E3-BFD1-B1018D387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4047F-3293-4646-9EE1-1BC9170D0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5E73A-AE07-46A9-82E8-A843987E8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0FC3D-3573-4D05-AA02-F9102EAEF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81955-69C7-4C16-B9A8-D317ABD7D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1F7D3-686F-4D21-942F-DA06FBA65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10BDE-585A-49DD-B45A-7E6E5B612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5AB61-389F-42FA-8FA3-5B21EA86E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E7BEA-0D90-49B2-91A2-AD78B3EE3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6941F-01AF-4A5C-A753-D6F5A9ED4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18B88-3999-4B6F-8AA2-FC98B64A8F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8150F-4FAA-4E93-A773-364C63208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E4CAC-2618-4508-9F48-592675E3F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8779D-E802-4483-BBF2-EB38FDD39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F331A-7205-4B7F-89E2-16F760259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9B4E3-8292-4E84-829A-C25FC3283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190D2-A17C-4AE5-BF4D-94DE534A7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5E47A-08A6-44A2-A2A6-0F4AD1001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C6F4-1C61-4C69-A647-F1B9B8B8CF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91C2A-62B4-4276-8593-CB67CB6673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February 24</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92" name="PlaceHolder 2"/>
          <p:cNvSpPr>
            <a:spLocks noGrp="1"/>
          </p:cNvSpPr>
          <p:nvPr>
            <p:ph/>
          </p:nvPr>
        </p:nvSpPr>
        <p:spPr>
          <a:xfrm>
            <a:off x="609480" y="2286000"/>
            <a:ext cx="7925040" cy="3733920"/>
          </a:xfrm>
          <a:prstGeom prst="rect">
            <a:avLst/>
          </a:prstGeom>
          <a:noFill/>
          <a:ln w="0">
            <a:noFill/>
          </a:ln>
        </p:spPr>
        <p:txBody>
          <a:bodyPr anchor="t">
            <a:normAutofit/>
          </a:bodyPr>
          <a:p>
            <a:pPr marL="343080" indent="-343080" algn="ctr">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CWG Update to COPS</a:t>
            </a:r>
            <a:endParaRPr b="0" lang="en-US" sz="3200" spc="-1" strike="noStrike">
              <a:solidFill>
                <a:srgbClr val="000000"/>
              </a:solidFill>
              <a:latin typeface="Arial"/>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ch 10,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February 24</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94" name="PlaceHolder 2"/>
          <p:cNvSpPr>
            <a:spLocks noGrp="1"/>
          </p:cNvSpPr>
          <p:nvPr>
            <p:ph/>
          </p:nvPr>
        </p:nvSpPr>
        <p:spPr>
          <a:xfrm>
            <a:off x="609480" y="1600200"/>
            <a:ext cx="7925040" cy="46483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PMG Update</a:t>
            </a:r>
            <a:endParaRPr b="0" lang="en-US" sz="32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601"/>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MGRR011, Updates to include the implementation of Project 70006 – 02 Website Enhancements for ERCOT Outages to be reviewed by CCWG this month</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11, Disputes and Data Extract Variances – New COPMGRR currently in its 21 day comment period</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s currently be done on Section 5, Commercial System Model, Section 7, Inputs to Settlement Process and Data Aggregation, and Section 13, Congestion Revenue Righ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February 24</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96" name="PlaceHolder 2"/>
          <p:cNvSpPr>
            <a:spLocks noGrp="1"/>
          </p:cNvSpPr>
          <p:nvPr>
            <p:ph/>
          </p:nvPr>
        </p:nvSpPr>
        <p:spPr>
          <a:xfrm>
            <a:off x="609480" y="1523880"/>
            <a:ext cx="7925040" cy="46483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ee Voting Items</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MGRR 009 – Planned Scheduled Release and Planned Maintenance Outage Notifications</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MGRR 010 – Section 12, Renewable Energy Credits </a:t>
            </a:r>
            <a:endParaRPr b="0" lang="en-US" sz="2800" spc="-1" strike="noStrike">
              <a:solidFill>
                <a:srgbClr val="000000"/>
              </a:solidFill>
              <a:latin typeface="Arial"/>
            </a:endParaRPr>
          </a:p>
          <a:p>
            <a:pPr lvl="1" marL="743040" indent="-285840">
              <a:lnSpc>
                <a:spcPct val="90000"/>
              </a:lnSpc>
              <a:spcBef>
                <a:spcPts val="700"/>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S Procedures Document</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February 24</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98" name="PlaceHolder 2"/>
          <p:cNvSpPr>
            <a:spLocks noGrp="1"/>
          </p:cNvSpPr>
          <p:nvPr>
            <p:ph/>
          </p:nvPr>
        </p:nvSpPr>
        <p:spPr>
          <a:xfrm>
            <a:off x="609480" y="1447920"/>
            <a:ext cx="7925040" cy="495288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MGRR 009 – Planned Scheduled Release and Planned Maintenance Outage Notifications</a:t>
            </a:r>
            <a:endParaRPr b="0" lang="en-US" sz="2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d to reflect Retail Market IT Services SLA</a:t>
            </a:r>
            <a:endParaRPr b="0" lang="en-US" sz="2400" spc="-1" strike="noStrike">
              <a:solidFill>
                <a:srgbClr val="000000"/>
              </a:solidFill>
              <a:latin typeface="Arial"/>
            </a:endParaRPr>
          </a:p>
          <a:p>
            <a:pPr lvl="1" marL="743040" indent="-285840">
              <a:lnSpc>
                <a:spcPct val="90000"/>
              </a:lnSpc>
              <a:spcBef>
                <a:spcPts val="575"/>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anges Planned Scheduled Release dates from second weekend of each month to fourth weekend of each month</a:t>
            </a:r>
            <a:endParaRPr b="0" lang="en-US" sz="2300" spc="-1" strike="noStrike">
              <a:solidFill>
                <a:srgbClr val="000000"/>
              </a:solidFill>
              <a:latin typeface="Arial"/>
            </a:endParaRPr>
          </a:p>
          <a:p>
            <a:pPr lvl="1" marL="743040" indent="-285840">
              <a:lnSpc>
                <a:spcPct val="90000"/>
              </a:lnSpc>
              <a:spcBef>
                <a:spcPts val="575"/>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hanges Planned Maintenance Outage dates from third and fourth Sunday of each month to first and second Sunday of each month and changes the time from 8am to 8pm (12 hours) to 6am to 9pm (15 hours)</a:t>
            </a:r>
            <a:endParaRPr b="0" lang="en-US" sz="2300" spc="-1" strike="noStrike">
              <a:solidFill>
                <a:srgbClr val="000000"/>
              </a:solidFill>
              <a:latin typeface="Arial"/>
            </a:endParaRPr>
          </a:p>
          <a:p>
            <a:pPr lvl="1" marL="743040" indent="-285840">
              <a:lnSpc>
                <a:spcPct val="90000"/>
              </a:lnSpc>
              <a:spcBef>
                <a:spcPts val="575"/>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so adds third and fifth Sunday of each month from 8am to 8pm (12 hours) as Planned Maintenance Outage dates </a:t>
            </a:r>
            <a:endParaRPr b="0" lang="en-US" sz="23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February 24</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00" name="PlaceHolder 2"/>
          <p:cNvSpPr>
            <a:spLocks noGrp="1"/>
          </p:cNvSpPr>
          <p:nvPr>
            <p:ph/>
          </p:nvPr>
        </p:nvSpPr>
        <p:spPr>
          <a:xfrm>
            <a:off x="609480" y="1447560"/>
            <a:ext cx="7925040" cy="4800600"/>
          </a:xfrm>
          <a:prstGeom prst="rect">
            <a:avLst/>
          </a:prstGeom>
          <a:noFill/>
          <a:ln w="0">
            <a:noFill/>
          </a:ln>
        </p:spPr>
        <p:txBody>
          <a:bodyPr anchor="t">
            <a:normAutofit/>
          </a:bodyPr>
          <a:p>
            <a:pPr marL="343080" indent="-343080">
              <a:lnSpc>
                <a:spcPct val="90000"/>
              </a:lnSpc>
              <a:spcBef>
                <a:spcPts val="77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PMGRR 010 – Section 12, Renewable Energy Credits</a:t>
            </a:r>
            <a:endParaRPr b="0" lang="en-US" sz="31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s new section to the COPMG</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comments submitted to include PRR 792, Revised Renewable Portfolio Standards Allocation Process, Pursuant to P.U.C. Subst. R. 25.173</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February 24</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02" name="PlaceHolder 2"/>
          <p:cNvSpPr>
            <a:spLocks noGrp="1"/>
          </p:cNvSpPr>
          <p:nvPr>
            <p:ph/>
          </p:nvPr>
        </p:nvSpPr>
        <p:spPr>
          <a:xfrm>
            <a:off x="609480" y="1447560"/>
            <a:ext cx="7925040" cy="4800600"/>
          </a:xfrm>
          <a:prstGeom prst="rect">
            <a:avLst/>
          </a:prstGeom>
          <a:noFill/>
          <a:ln w="0">
            <a:noFill/>
          </a:ln>
        </p:spPr>
        <p:txBody>
          <a:bodyPr anchor="t">
            <a:normAutofit fontScale="99000"/>
          </a:bodyPr>
          <a:p>
            <a:pPr marL="339480" indent="-339480">
              <a:lnSpc>
                <a:spcPct val="90000"/>
              </a:lnSpc>
              <a:spcBef>
                <a:spcPts val="77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PS Procedures Document</a:t>
            </a:r>
            <a:endParaRPr b="0" lang="en-US" sz="31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s Commercial Protocol Review Working Group and Data Extracts Working Group from Current Working Groups reporting to COPS</a:t>
            </a:r>
            <a:endParaRPr b="0" lang="en-US" sz="2400" spc="-1" strike="noStrike">
              <a:solidFill>
                <a:srgbClr val="000000"/>
              </a:solidFill>
              <a:latin typeface="Arial"/>
            </a:endParaRPr>
          </a:p>
          <a:p>
            <a:pPr marL="339480" indent="-339480">
              <a:lnSpc>
                <a:spcPct val="9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s Settlement and Extracts Working Group (SEWG) to Current Working Groups reporting to COPS</a:t>
            </a:r>
            <a:endParaRPr b="0" lang="en-US" sz="2400" spc="-1" strike="noStrike">
              <a:solidFill>
                <a:srgbClr val="000000"/>
              </a:solidFill>
              <a:latin typeface="Arial"/>
            </a:endParaRPr>
          </a:p>
          <a:p>
            <a:pPr marL="339480" indent="-339480">
              <a:lnSpc>
                <a:spcPct val="9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The Subcommittee shall provide liasons to the other TAC Subcommittees, which shall report back to the COPS “on a regular basis.” to “on an as needed basis.”</a:t>
            </a:r>
            <a:endParaRPr b="0" lang="en-US" sz="2400" spc="-1" strike="noStrike">
              <a:solidFill>
                <a:srgbClr val="000000"/>
              </a:solidFill>
              <a:latin typeface="Arial"/>
            </a:endParaRPr>
          </a:p>
          <a:p>
            <a:pPr marL="339480" indent="-339480">
              <a:lnSpc>
                <a:spcPct val="9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 up changes – Capitalization of defined words, etc.</a:t>
            </a:r>
            <a:endParaRPr b="0" lang="en-US" sz="24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February 24</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04" name="PlaceHolder 2"/>
          <p:cNvSpPr>
            <a:spLocks noGrp="1"/>
          </p:cNvSpPr>
          <p:nvPr>
            <p:ph/>
          </p:nvPr>
        </p:nvSpPr>
        <p:spPr>
          <a:xfrm>
            <a:off x="609480" y="1447560"/>
            <a:ext cx="7925040" cy="4800600"/>
          </a:xfrm>
          <a:prstGeom prst="rect">
            <a:avLst/>
          </a:prstGeom>
          <a:noFill/>
          <a:ln w="0">
            <a:noFill/>
          </a:ln>
        </p:spPr>
        <p:txBody>
          <a:bodyPr anchor="t">
            <a:normAutofit/>
          </a:bodyPr>
          <a:p>
            <a:pPr marL="343080" indent="-343080">
              <a:lnSpc>
                <a:spcPct val="90000"/>
              </a:lnSpc>
              <a:spcBef>
                <a:spcPts val="77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Motions:</a:t>
            </a:r>
            <a:endParaRPr b="0" lang="en-US" sz="31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S approves COPMGRR009 as submitted and recommends for TAC approval.</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S approves COPMGRR010 with comments and recommends for TAC approval.</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S approves changes to the COPS Procedures documents and recommends for TAC approval.</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February 24</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 meeting is:</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 24th at ERCO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9:30am – 12:30pm</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ation of COPMG Work</a:t>
            </a: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of ERCOT.com Website enhancement progress and requests</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y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5T15:58:45Z</dcterms:created>
  <dc:creator>BP - Judy Briscoe</dc:creator>
  <dc:description/>
  <dc:language>en-US</dc:language>
  <cp:lastModifiedBy>trenarym</cp:lastModifiedBy>
  <dcterms:modified xsi:type="dcterms:W3CDTF">2009-03-02T15:06:28Z</dcterms:modified>
  <cp:revision>73</cp:revision>
  <dc:subject/>
  <dc:title>CCWG 2006 Accomplishments</dc:title>
</cp:coreProperties>
</file>