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4439-8D6B-4D28-AAF5-0FBF047D3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6526-D205-4582-ACFA-33475A0FB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BB21-F705-499B-8630-7907C2793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3B50-A0C8-40B0-AC8A-0811ABC34D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2280-5F42-4A82-9984-45E9EB459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25BDE-2F66-4405-BB33-108D23EB1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DCE5-248B-405C-A406-9F727FA90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F18D4-CE4B-40B9-815E-C4EA1ED04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7FF1-102F-48CA-B30F-4E91044DD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EA67-392F-4908-AE95-6A52BA969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33DA-B730-410B-BABD-500CCDB7A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88B3-6685-4027-9FB7-7B8B4B9EA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8DE6-7D76-48C1-9171-88481079B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0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C584D4E-484E-4C1D-B180-5AB2F070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ntent/services/projects/keydocs/2009/Project_Priority_List_20090211_Mkt_Posted.xls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ch 2009 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rch 10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F58C-B014-45C6-8B5B-008088504F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M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2009 Financial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2008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6EAC-81B6-4D68-ADEC-A40D63B42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12920" y="714240"/>
          <a:ext cx="8502480" cy="545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714240"/>
                    <a:ext cx="850248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63D8-56D8-43F7-87CD-1DF3AC551C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Merged Rank – Ranking from the MERGED PPL, IO, CO, SO, RO, and MO based on Compliance, Business needs, and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Priority Lists (including Merged) are posted to the ERCOT Websit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services/projects/keydocs/2009/Project_Priority_List_20090211_Mkt_Posted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724280"/>
            <a:ext cx="2286000" cy="609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ned Carry Over from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ry-over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4724280"/>
            <a:ext cx="2286000" cy="609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4724280"/>
            <a:ext cx="2286000" cy="609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6212-21A6-4AAC-9D75-E2935EDEC9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in Initi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5087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429000"/>
            <a:ext cx="84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90006_01 – Expected to move to Planning 03/20/2009.  SAIC presenting the final report for an Information Lifecycle Management Roadmap to Executive team this wee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76520"/>
          <a:ext cx="8229600" cy="130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229600" cy="13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04920" y="914400"/>
            <a:ext cx="6476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ly no projects in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ly no projects in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ECF9-408D-4CC4-96C7-EC84C67002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Not Start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895480"/>
            <a:ext cx="670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 currently below the cutline, however will monitor and evaluate Initiating if funding becomes available from other sour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066680"/>
          <a:ext cx="8220240" cy="1490760"/>
        </p:xfrm>
        <a:graphic>
          <a:graphicData uri="http://schemas.openxmlformats.org/drawingml/2006/table">
            <a:tbl>
              <a:tblPr/>
              <a:tblGrid>
                <a:gridCol w="622440"/>
                <a:gridCol w="641160"/>
                <a:gridCol w="620640"/>
                <a:gridCol w="622440"/>
                <a:gridCol w="770040"/>
                <a:gridCol w="1782720"/>
                <a:gridCol w="984240"/>
                <a:gridCol w="709560"/>
                <a:gridCol w="844560"/>
                <a:gridCol w="62244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folio R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 D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Name /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 Budget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unning 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15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b-enabled Registr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High/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017_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.com CMS Replac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tarte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C3FC-F161-4BC0-B68E-9CF5175685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Closed or Cancell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05320"/>
            <a:ext cx="7162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70057_01 – Expected to Close on 03/20/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90005_01 – Cancelled.  Effort consolidated with the remaining MPIM implementation with Nodal.  After analysis, the effort to complete has been reduced to configu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838080"/>
          <a:ext cx="8381880" cy="233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3818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AB2F-978D-4AA2-8E6C-AAC2D9D399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3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762120"/>
          <a:ext cx="8763120" cy="506736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R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cast will increase this month as PR90006_01 – ILM moves into Planning and Exec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60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reach out to other funding alternatives if additional funds are needed to support ILM efforts (IO CART, etc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144-742F-4120-BDF6-5C609CDC61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l Financials for 2008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762120"/>
          <a:ext cx="8229600" cy="511632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0K transferred from RO to MO to cover the AMI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final costs for 2008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5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DFCC-EE20-4E20-AD5D-D6815DB0DE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9-03-10T00:43:23Z</dcterms:modified>
  <cp:revision>428</cp:revision>
  <dc:subject/>
  <dc:title>Role of Account Management at ERCOT</dc:title>
</cp:coreProperties>
</file>