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802F9-8667-4D31-ACB9-6A821C88A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70072-9BC6-4F71-A347-33E3FCD6D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3618F-D07A-413F-B403-F47748AEE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24083-1769-493C-8F05-9DA52039C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DC82D-6250-4C47-90F4-F6AF2FC4B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8D726-14F0-4060-B612-F0227CFC7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4EF66-7EE0-45A5-96ED-6780A44BA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BF116-40C2-4A96-B290-C6A6D22FB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AFD5E-4757-4AA8-9A21-50FAEF79C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651BC-0251-4730-9284-AEC964690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B57C9-6967-451C-A86B-8BBE2CC70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00B05-C22B-4DCD-8BBB-1F0EC97D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9F9B1-CB80-4B38-B9D1-AE9736C84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88E35-7B36-4F04-8FC5-98807EAA3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CF16A-1CEC-453B-9402-A2FA31261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D2D1C-E104-419C-A240-4C2B1F851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A6FCC-19CC-44B9-A8FF-58FE3E462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73488-1515-49F6-9D2A-055FF9E0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D8DB1-C01F-4AF0-A831-643FE7E21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4E46E-41A0-441E-84D7-C6507F100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F85D-851F-4BF8-A048-DFEFE3C11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5E59F-E777-48B3-8C07-E8246257B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6C86B-AB32-44FD-AF67-B75CFC81B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69DF-7078-4FD8-A98F-51BC972C1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0D35-B594-4F61-B9DB-9C5D59B99FA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3BE0-DDB8-4173-8E57-A263139C95F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cot.com/content/committees/board/tac/tptf/keydocs/2009/tptf_charter_approved_tac_090607.doc" TargetMode="External"/><Relationship Id="rId2" Type="http://schemas.openxmlformats.org/officeDocument/2006/relationships/hyperlink" Target="http://www.ercot.com/content/committees/board/tac/tptf/keydocs/2009/ERCOT_Nodal_Transition_Plan_062807.doc" TargetMode="External"/><Relationship Id="rId3" Type="http://schemas.openxmlformats.org/officeDocument/2006/relationships/hyperlink" Target="http://www.ercot.com/content/committees/board/tac/tptf/keydocs/2009/TPTF_Punchlist.xls"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ndy Jones on Behalf of the Transition Plan Task Force (TPTF)</a:t>
            </a:r>
            <a:endParaRPr b="0" lang="en-US" sz="3000" spc="-1" strike="noStrike">
              <a:solidFill>
                <a:srgbClr val="000000"/>
              </a:solidFill>
              <a:latin typeface="Verdana"/>
            </a:endParaRPr>
          </a:p>
        </p:txBody>
      </p:sp>
      <p:sp>
        <p:nvSpPr>
          <p:cNvPr id="91" name="PlaceHolder 2"/>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TPTF Final Report To TAC</a:t>
            </a:r>
            <a:br>
              <a:rPr sz="5200"/>
            </a:br>
            <a:endParaRPr b="0" lang="en-US" sz="5200" spc="-1" strike="noStrike">
              <a:solidFill>
                <a:srgbClr val="999900"/>
              </a:solidFill>
              <a:latin typeface="Garamond"/>
            </a:endParaRPr>
          </a:p>
        </p:txBody>
      </p:sp>
      <p:sp>
        <p:nvSpPr>
          <p:cNvPr id="92" name=""/>
          <p:cNvSpPr/>
          <p:nvPr/>
        </p:nvSpPr>
        <p:spPr>
          <a:xfrm>
            <a:off x="790920" y="533412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bruary 24, 200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a:t>
            </a:r>
            <a:endParaRPr b="0" lang="en-US" sz="4400" spc="-1" strike="noStrike">
              <a:solidFill>
                <a:srgbClr val="999900"/>
              </a:solidFill>
              <a:latin typeface="Garamond"/>
            </a:endParaRPr>
          </a:p>
        </p:txBody>
      </p:sp>
      <p:sp>
        <p:nvSpPr>
          <p:cNvPr id="9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requested by the TAC the Transition Plan Task Force (TPTF) prepared a final report on the status of those tasks and responsibilities previously assigned by TAC to the TPTF in the:</a:t>
            </a:r>
            <a:endParaRPr b="0" lang="en-US" sz="20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PTF Charter, and </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C approved ERCOT Nodal Transition Plan</a:t>
            </a:r>
            <a:endParaRPr b="0" lang="en-US" sz="18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PTF report</a:t>
            </a:r>
            <a:endParaRPr b="0" lang="en-US" sz="20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vers the period from the TPTF first meeting on November 30, 2005 through the February 24, 2009,</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s the current status of those TPTF tasks and activities that remain as on-going or scheduled, and that should be completed between now and the Texas Nodal Market Implementation Date (TNMID)</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TPTF recommendations for the continuation and final disposition of these tasks and activities by the TAC, or its designee</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s approved by the TPTF by roll call vote on February 24, 2009</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B387AB84-CB71-4E05-B79C-89A09778CA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PTF Report Structure</a:t>
            </a:r>
            <a:endParaRPr b="0" lang="en-US" sz="4400" spc="-1" strike="noStrike">
              <a:solidFill>
                <a:srgbClr val="9999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ble A addresses the duties and responsibilities that are assigned to TPTF in the TPTF Charter or the ERCOT Nodal Transition Pla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 activity or responsibility in the Charter or the Transition Plan, the final report provides:</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ption of the assigned task</a:t>
            </a:r>
            <a:endParaRPr b="0" lang="en-US" sz="20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PTF’s view of the remaining work to support the Nodal Schedule Go-Live date,  and</a:t>
            </a:r>
            <a:endParaRPr b="0" lang="en-US" sz="20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recommendations to TAC</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4CD0BB69-89AB-4B04-B9C0-218185034E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PTF Report Structure</a:t>
            </a:r>
            <a:endParaRPr b="0" lang="en-US" sz="4400" spc="-1" strike="noStrike">
              <a:solidFill>
                <a:srgbClr val="999900"/>
              </a:solidFill>
              <a:latin typeface="Garamond"/>
            </a:endParaRPr>
          </a:p>
        </p:txBody>
      </p:sp>
      <p:sp>
        <p:nvSpPr>
          <p:cNvPr id="98" name="PlaceHolder 2"/>
          <p:cNvSpPr>
            <a:spLocks noGrp="1"/>
          </p:cNvSpPr>
          <p:nvPr>
            <p:ph/>
          </p:nvPr>
        </p:nvSpPr>
        <p:spPr>
          <a:xfrm>
            <a:off x="609480" y="1523520"/>
            <a:ext cx="8229600" cy="5715000"/>
          </a:xfrm>
          <a:prstGeom prst="rect">
            <a:avLst/>
          </a:prstGeom>
          <a:noFill/>
          <a:ln w="0">
            <a:noFill/>
          </a:ln>
        </p:spPr>
        <p:txBody>
          <a:bodyPr lIns="90000" rIns="90000" tIns="46800" bIns="46800" anchor="t">
            <a:normAutofit/>
          </a:bodyPr>
          <a:p>
            <a:pPr marL="343080" indent="-343080">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ble B lists those TPTF punch list items that remain open</a:t>
            </a:r>
            <a:endParaRPr b="0" lang="en-US" sz="2800" spc="-1" strike="noStrike">
              <a:solidFill>
                <a:srgbClr val="000000"/>
              </a:solidFill>
              <a:latin typeface="Verdana"/>
            </a:endParaRPr>
          </a:p>
          <a:p>
            <a:pPr lvl="1" marL="743040" indent="-285840">
              <a:lnSpc>
                <a:spcPct val="90000"/>
              </a:lnSpc>
              <a:spcBef>
                <a:spcPts val="3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 Open punch list items are identified</a:t>
            </a:r>
            <a:endParaRPr b="0" lang="en-US" sz="2400" spc="-1" strike="noStrike">
              <a:solidFill>
                <a:srgbClr val="000000"/>
              </a:solidFill>
              <a:latin typeface="Verdana"/>
            </a:endParaRPr>
          </a:p>
          <a:p>
            <a:pPr lvl="1" marL="743040" indent="-285840">
              <a:lnSpc>
                <a:spcPct val="90000"/>
              </a:lnSpc>
              <a:spcBef>
                <a:spcPts val="3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 item the current status is listed and a recommended disposition for closure</a:t>
            </a:r>
            <a:endParaRPr b="0" lang="en-US" sz="24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ble C lists those issues that TPTF referred to its Quick Response Working Group (QRWG) for off-line discussion and consensus building</a:t>
            </a:r>
            <a:endParaRPr b="0" lang="en-US" sz="2800" spc="-1" strike="noStrike">
              <a:solidFill>
                <a:srgbClr val="000000"/>
              </a:solidFill>
              <a:latin typeface="Verdana"/>
            </a:endParaRPr>
          </a:p>
          <a:p>
            <a:pPr lvl="1" marL="743040" indent="-285840">
              <a:lnSpc>
                <a:spcPct val="90000"/>
              </a:lnSpc>
              <a:spcBef>
                <a:spcPts val="3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remaining Open QRWG issues are identified</a:t>
            </a:r>
            <a:endParaRPr b="0" lang="en-US" sz="2400" spc="-1" strike="noStrike">
              <a:solidFill>
                <a:srgbClr val="000000"/>
              </a:solidFill>
              <a:latin typeface="Verdana"/>
            </a:endParaRPr>
          </a:p>
          <a:p>
            <a:pPr lvl="1" marL="743040" indent="-285840">
              <a:lnSpc>
                <a:spcPct val="90000"/>
              </a:lnSpc>
              <a:spcBef>
                <a:spcPts val="3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 issue the current status of discussions and consensus building is outlined and recommended disposition</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43254DD-5C21-4479-8708-A16CB99E2D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Executive Summary - Recommendations</a:t>
            </a:r>
            <a:endParaRPr b="0" lang="en-US" sz="4000" spc="-1" strike="noStrike">
              <a:solidFill>
                <a:srgbClr val="999900"/>
              </a:solidFill>
              <a:latin typeface="Garamond"/>
            </a:endParaRPr>
          </a:p>
        </p:txBody>
      </p:sp>
      <p:sp>
        <p:nvSpPr>
          <p:cNvPr id="100"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PTF recommends that TAC continue to track and complete the Table A, B and C tasks and activities</a:t>
            </a:r>
            <a:endParaRPr b="0" lang="en-US" sz="18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RCOT Nodal Project Team and the TPTF have jointly identified and worked to resolve issues in meeting the Protocol requirements consistent with the capabilities of the vendor’s and ERCOT’s systems</a:t>
            </a:r>
            <a:endParaRPr b="0" lang="en-US" sz="18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PTF suggests that the need to address design issues will be ongoing throughout the remainder of this project and recommends TAC consider an organizational structure that is sufficiently robust to respond in a timely and knowledgeable manner</a:t>
            </a:r>
            <a:endParaRPr b="0" lang="en-US" sz="16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and Market Participants must be prepared to act in accordance with the ERCOT Nodal Project Schedule </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PTF reaffirms its previous recommendations to TAC on February 5, 2009, provided in its suggested reconfiguration of Stakeholder participatio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CE68F0BD-E371-4A41-8033-DC7A4C831B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ppendix – Support Documents</a:t>
            </a:r>
            <a:endParaRPr b="0" lang="en-US" sz="4400" spc="-1" strike="noStrike">
              <a:solidFill>
                <a:srgbClr val="999900"/>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k to the TPTF Char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k to the Nodal Market Transition Pla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k to the TPTF punch list</a:t>
            </a:r>
            <a:endParaRPr b="0" lang="en-US" sz="2800" spc="-1" strike="noStrike">
              <a:solidFill>
                <a:srgbClr val="000000"/>
              </a:solidFill>
              <a:latin typeface="Verdana"/>
            </a:endParaRPr>
          </a:p>
        </p:txBody>
      </p:sp>
      <p:sp>
        <p:nvSpPr>
          <p:cNvPr id="103" name=""/>
          <p:cNvSpPr/>
          <p:nvPr/>
        </p:nvSpPr>
        <p:spPr>
          <a:xfrm>
            <a:off x="863280" y="2481120"/>
            <a:ext cx="76377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Verdana"/>
                <a:hlinkClick r:id="rId1"/>
              </a:rPr>
              <a:t>http://www.ercot.com/content/committees/board/tac/tptf/keydocs/2009/tptf_charter_approved_tac_090607.doc</a:t>
            </a:r>
            <a:r>
              <a:rPr b="0" lang="en-US" sz="1100" spc="-1" strike="noStrike" u="sng">
                <a:solidFill>
                  <a:srgbClr val="000000"/>
                </a:solidFill>
                <a:uFillTx/>
                <a:latin typeface="Verdana"/>
              </a:rPr>
              <a:t>  </a:t>
            </a:r>
            <a:endParaRPr b="0" lang="en-US" sz="1100" spc="-1" strike="noStrike">
              <a:solidFill>
                <a:srgbClr val="000000"/>
              </a:solidFill>
              <a:latin typeface="Arial"/>
            </a:endParaRPr>
          </a:p>
        </p:txBody>
      </p:sp>
      <p:sp>
        <p:nvSpPr>
          <p:cNvPr id="104" name=""/>
          <p:cNvSpPr/>
          <p:nvPr/>
        </p:nvSpPr>
        <p:spPr>
          <a:xfrm>
            <a:off x="878760" y="3948120"/>
            <a:ext cx="795312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Verdana"/>
                <a:hlinkClick r:id="rId2"/>
              </a:rPr>
              <a:t>http://www.ercot.com/content/committees/board/tac/tptf/keydocs/2009/ERCOT_Nodal_Transition_Plan_062807.doc</a:t>
            </a:r>
            <a:r>
              <a:rPr b="0" lang="en-US" sz="1100" spc="-1" strike="noStrike" u="sng">
                <a:solidFill>
                  <a:srgbClr val="000000"/>
                </a:solidFill>
                <a:uFillTx/>
                <a:latin typeface="Verdana"/>
              </a:rPr>
              <a:t>    </a:t>
            </a:r>
            <a:endParaRPr b="0" lang="en-US" sz="1100" spc="-1" strike="noStrike">
              <a:solidFill>
                <a:srgbClr val="000000"/>
              </a:solidFill>
              <a:latin typeface="Arial"/>
            </a:endParaRPr>
          </a:p>
        </p:txBody>
      </p:sp>
      <p:sp>
        <p:nvSpPr>
          <p:cNvPr id="105" name=""/>
          <p:cNvSpPr/>
          <p:nvPr/>
        </p:nvSpPr>
        <p:spPr>
          <a:xfrm>
            <a:off x="790560" y="5548320"/>
            <a:ext cx="627660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Verdana"/>
                <a:hlinkClick r:id="rId3"/>
              </a:rPr>
              <a:t>http://www.ercot.com/content/committees/board/tac/tptf/keydocs/2009/TPTF_Punchlist.xls</a:t>
            </a:r>
            <a:r>
              <a:rPr b="0" lang="en-US" sz="1100" spc="-1" strike="noStrike" u="sng">
                <a:solidFill>
                  <a:srgbClr val="000000"/>
                </a:solidFill>
                <a:uFillTx/>
                <a:latin typeface="Verdana"/>
              </a:rPr>
              <a:t>  </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EFAB4A4-6098-483C-9479-003CACB2F251}"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7:11:41Z</dcterms:created>
  <dc:creator>Luminant</dc:creator>
  <dc:description/>
  <dc:language>en-US</dc:language>
  <cp:lastModifiedBy>Randy Jones</cp:lastModifiedBy>
  <dcterms:modified xsi:type="dcterms:W3CDTF">2009-02-25T22:55:35Z</dcterms:modified>
  <cp:revision>8</cp:revision>
  <dc:subject/>
  <dc:title>TPTF Final Report To TAC (February 24, 200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