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03E-D5DB-4CAE-9DA0-93E3D41B6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B5E-9088-41E4-BCB2-55B1FB5FE4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938-E370-400A-84E4-BDB994EC74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37D-137E-45C7-91D2-4CB655BDCF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2A5A-A380-402D-B384-EABD32465C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68D-499B-4035-A8DD-9DAEC00C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F88-9D37-4516-9F2D-A5802E3D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009-D814-45B5-BD8B-4D5373B4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BBD-087D-4069-AA37-149862FD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E18-EA09-42F0-A35D-77363032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A17-413F-42C6-9F8B-1B6A581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F2E-4404-4A97-847B-ACA0AD4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9FA-E96E-44CB-919F-08E94214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B4C-D2C5-4057-BCC7-1DF58F4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5C70-644F-4C8F-BCDB-EBA6FC7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5BA-C034-465D-ACD3-0F5BF6F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5F1-FE7E-4BB0-81A6-7BF51728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909C-BD6E-469F-900D-37AEA9E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6A3-0C3F-47DA-86DE-44B39BA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A7CF-577D-497E-B25A-4A481BB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1AA-EEED-48B7-978A-63F435E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6B04-C765-4C6E-B749-790F7FBE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09E-CB24-4FD3-BAB3-EBBC2558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FE0-9E07-4062-863B-EEB6986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A13-A127-42BB-980B-8595E55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579-546E-42A0-A0FD-8D21A72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46F-CF7E-49E4-B858-DF0B9BCB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7E7-3CAA-4C12-9FC0-5C359B5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965-EEAC-4404-8DBF-BF8CDD5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7FC-E317-4122-8E70-785A7E3ADA67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AF1-AC94-4E7F-93F2-7DC0A12C5F4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85800" y="1600200"/>
            <a:ext cx="84582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ndara"/>
              </a:rPr>
              <a:t>Technical Advisory Committee Update</a:t>
            </a:r>
            <a:r>
              <a:rPr b="1" lang="en-US" sz="5400" spc="-1" strike="noStrike">
                <a:solidFill>
                  <a:srgbClr val="ffffcc"/>
                </a:solidFill>
                <a:latin typeface="Candar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andara"/>
              </a:rPr>
              <a:t>March 5, 200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RMS Meeting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R750, Upgrade ERCOT’s Systems so Users Can Upgrade to Internet Explorer 7.0 and Beyond “Tabled” until March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RMS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MS endorsed WG/TF Leadershi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5800" y="2624040"/>
            <a:ext cx="3809880" cy="37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12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S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Jennifer Frederi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Steve Bordelon*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Test Plan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yle Mil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Roger Tenenbow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Jim Purd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S T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athy Scot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00600" y="2624040"/>
            <a:ext cx="3809880" cy="32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12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tail Metering W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Terry Ba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Mike McCab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keTrak T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aren Malke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Data Transport W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Johnny Roberts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Annette Mor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TDTWG and Market Metrics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DTWG and Market Metrics W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Texas Data Transport Working Group will be redefining working group procedures to include performance measures.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orking on “Short Term” and “Long Term” solutions for CR acquisi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ML indicator for AMS meters, which TX SET will submit a PRR for appro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80840" y="1676160"/>
            <a:ext cx="700236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Questions 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Windows XP ver. 2.2</cp:lastModifiedBy>
  <dcterms:modified xsi:type="dcterms:W3CDTF">2009-03-04T19:36:07Z</dcterms:modified>
  <cp:revision>43</cp:revision>
  <dc:subject/>
  <dc:title>Slide 1</dc:title>
</cp:coreProperties>
</file>