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F13EB-6A2C-4C48-83C8-377866D55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04499-1FC6-4338-AEE7-0EBEA99A9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2C075-2985-41F6-99AF-6BCDAE3E5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80D0D-B660-41F1-AA8C-527DC4C62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5097E-F6FE-4832-8F4F-7CD272A98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A260B-0A8A-4139-8EE9-8CBAE415C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FFCA1-D128-4894-851D-AF0731E9C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D4CD0-F6D1-4A02-8073-6DDE3C34B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C9A8B-F179-468D-AF27-ABFEF32D5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DE3E4-2526-4868-8209-0CC4ADD4A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A631C-E608-4C0A-9FB2-C4BB7FDB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8FCE-D9BB-42B1-BFE9-21ABF2B3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A3B12-D64E-450C-86A3-AF6811EEA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C11F5-64F3-4833-8D35-87226B007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9E6FA-4EA9-4ACE-80F5-4ABF431F9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E6455-D0B4-483B-B818-427016C8A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D0EB5-D5AA-49B9-AC6C-504126FE5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C9D66-EF02-4CC1-9C52-85B2D7D67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13687-51E6-4510-9FF0-F574CFC34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2E802-A12D-40F3-9F75-3A8FF3398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015B7-D8D7-4A2B-A728-BE6357FB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E146-DB5A-4673-815E-CDD2E3C2B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9A5D-3278-420E-A98C-EE236589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5D4ED-E180-4438-8829-F1253AF39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8736-C3F7-4317-9461-BDF3011E574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C535-E3BF-4529-BCB9-346FC6FD64F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Reconfiguring Nodal Stakeholder Participation</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to the </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COT Technical Advisory Committee</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xas Nodal Transition Planning Task Force</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bruary 5, 200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05CE8F-38C0-4D20-A675-1437A9B0639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nfiguration Goals</a:t>
            </a:r>
            <a:endParaRPr b="1" lang="en-US" sz="4400" spc="-1" strike="noStrike">
              <a:solidFill>
                <a:srgbClr val="b9efee"/>
              </a:solidFill>
              <a:latin typeface="Garamond"/>
            </a:endParaRPr>
          </a:p>
        </p:txBody>
      </p:sp>
      <p:sp>
        <p:nvSpPr>
          <p:cNvPr id="11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gnize that TPTF has completed many, but not all of its chartered tasks</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rove stakeholder process impact on ERCOT Nodal Project resource time commitments</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ist ERCOT Nodal Project on technical implementation issues as requested by ERCOT</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to provide technical expertise to TAC</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communications between ERCOT and Market Participant for the nodal project</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hance Market Participant influence in the ERCOT nodal implementation program</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A12661F1-B24E-4CBB-8412-1F72A0FF3B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hallenge to the Finish Line</a:t>
            </a:r>
            <a:endParaRPr b="1" lang="en-US" sz="4400" spc="-1" strike="noStrike">
              <a:solidFill>
                <a:srgbClr val="b9efee"/>
              </a:solidFill>
              <a:latin typeface="Garamond"/>
            </a:endParaRPr>
          </a:p>
        </p:txBody>
      </p:sp>
      <p:sp>
        <p:nvSpPr>
          <p:cNvPr id="11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Left To Do</a:t>
            </a:r>
            <a:endParaRPr b="0" lang="en-US" sz="24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ure Market Participant interface software and ERCOT  systems operate within the intent of the nodal protocols in a production environment</a:t>
            </a:r>
            <a:endParaRPr b="0" lang="en-US" sz="20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valuate Market Participant readiness metrics and scorecards</a:t>
            </a:r>
            <a:endParaRPr b="0" lang="en-US" sz="20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tinue to assure consistency between protocols and system design</a:t>
            </a:r>
            <a:endParaRPr b="0" lang="en-US" sz="20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ist ERCOT in the development and review of its internal business processes and procedures to meet protocol requirements and operate successfully in the ERCOT nodal market design</a:t>
            </a:r>
            <a:endParaRPr b="0" lang="en-US" sz="2000" spc="-1" strike="noStrike">
              <a:solidFill>
                <a:srgbClr val="ffffff"/>
              </a:solidFill>
              <a:latin typeface="Garamond"/>
            </a:endParaRPr>
          </a:p>
          <a:p>
            <a:pPr marL="312120" indent="-31212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frames </a:t>
            </a:r>
            <a:endParaRPr b="0" lang="en-US" sz="24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lete production systems testing three months prior to the 168-Hour test </a:t>
            </a:r>
            <a:endParaRPr b="0" lang="en-US" sz="20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lete Business Process review with sufficient lead time to complete any software needed to support those processes (e.g., operator displays)</a:t>
            </a:r>
            <a:endParaRPr b="0" lang="en-US" sz="2000" spc="-1" strike="noStrike">
              <a:solidFill>
                <a:srgbClr val="ffffff"/>
              </a:solidFill>
              <a:latin typeface="Garamond"/>
            </a:endParaRPr>
          </a:p>
          <a:p>
            <a:pPr lvl="1" marL="676080" indent="-2599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xecute the Go-Live Procedure in time to meet Texas Nodal Market Implementation Date</a:t>
            </a:r>
            <a:endParaRPr b="0" lang="en-US" sz="2000" spc="-1" strike="noStrike">
              <a:solidFill>
                <a:srgbClr val="ffffff"/>
              </a:solidFill>
              <a:latin typeface="Garamond"/>
            </a:endParaRPr>
          </a:p>
        </p:txBody>
      </p:sp>
      <p:sp>
        <p:nvSpPr>
          <p:cNvPr id="4" name="PlaceHolder 3"/>
          <p:cNvSpPr>
            <a:spLocks noGrp="1"/>
          </p:cNvSpPr>
          <p:nvPr>
            <p:ph type="sldNum" idx="3"/>
          </p:nvPr>
        </p:nvSpPr>
        <p:spPr/>
        <p:txBody>
          <a:bodyPr/>
          <a:p>
            <a:fld id="{57A3606E-E417-4CBE-8A28-BD4C4C9CFA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nfigured Participation</a:t>
            </a:r>
            <a:endParaRPr b="1" lang="en-US" sz="4400" spc="-1" strike="noStrike">
              <a:solidFill>
                <a:srgbClr val="b9efee"/>
              </a:solidFill>
              <a:latin typeface="Garamond"/>
            </a:endParaRPr>
          </a:p>
        </p:txBody>
      </p:sp>
      <p:sp>
        <p:nvSpPr>
          <p:cNvPr id="121"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fontScale="90000"/>
          </a:bodyPr>
          <a:p>
            <a:pPr marL="308520" indent="-30852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dal Technical Assistance Resource Task Force (NTAR TF)</a:t>
            </a:r>
            <a:endParaRPr b="0" lang="en-US" sz="2400" spc="-1" strike="noStrike">
              <a:solidFill>
                <a:srgbClr val="ffffff"/>
              </a:solidFill>
              <a:latin typeface="Garamond"/>
            </a:endParaRPr>
          </a:p>
          <a:p>
            <a:pPr lvl="1" marL="668520" indent="-2570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requested by ERCOT, provide subject matter expertise to review and comment on technical content of new NPRRs, SCRs, design issues, business processes, and testing variances</a:t>
            </a: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rket Readiness &amp; Testing Task Force (MRT TF)</a:t>
            </a:r>
            <a:endParaRPr b="0" lang="en-US" sz="2400" spc="-1" strike="noStrike">
              <a:solidFill>
                <a:srgbClr val="ffffff"/>
              </a:solidFill>
              <a:latin typeface="Garamond"/>
            </a:endParaRPr>
          </a:p>
          <a:p>
            <a:pPr lvl="1" marL="668520" indent="-2570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an interface between Market Participants and ERCOT nodal test teams to coordinate testing, documentation, and scheduling of Market Participant testing and evaluate nodal market readiness to achieve the December 2010 nodal “go-live” date</a:t>
            </a:r>
            <a:endParaRPr b="0" lang="en-US" sz="2400" spc="-1" strike="noStrike">
              <a:solidFill>
                <a:srgbClr val="ffffff"/>
              </a:solidFill>
              <a:latin typeface="Garamond"/>
            </a:endParaRPr>
          </a:p>
        </p:txBody>
      </p:sp>
      <p:sp>
        <p:nvSpPr>
          <p:cNvPr id="4" name="PlaceHolder 3"/>
          <p:cNvSpPr>
            <a:spLocks noGrp="1"/>
          </p:cNvSpPr>
          <p:nvPr>
            <p:ph type="sldNum" idx="3"/>
          </p:nvPr>
        </p:nvSpPr>
        <p:spPr/>
        <p:txBody>
          <a:bodyPr/>
          <a:p>
            <a:fld id="{4809C874-51B0-4D4A-809D-4811CB226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Nodal Technical Assistance Resource Task Force (NTAR TF)</a:t>
            </a:r>
            <a:endParaRPr b="1" lang="en-US" sz="4000" spc="-1" strike="noStrike">
              <a:solidFill>
                <a:srgbClr val="b9efee"/>
              </a:solidFill>
              <a:latin typeface="Garamond"/>
            </a:endParaRPr>
          </a:p>
        </p:txBody>
      </p:sp>
      <p:sp>
        <p:nvSpPr>
          <p:cNvPr id="12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nctions</a:t>
            </a:r>
            <a:endParaRPr b="0" lang="en-US" sz="2400" spc="-1" strike="noStrike">
              <a:solidFill>
                <a:srgbClr val="ffffff"/>
              </a:solidFill>
              <a:latin typeface="Garamond"/>
            </a:endParaRPr>
          </a:p>
          <a:p>
            <a:pPr lvl="1" marL="713160" indent="-27432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 nodal market subject matter experts to assist ERCOT in completing the technical implementation of the nodal project</a:t>
            </a:r>
            <a:endParaRPr b="0" lang="en-US" sz="2000" spc="-1" strike="noStrike">
              <a:solidFill>
                <a:srgbClr val="ffffff"/>
              </a:solidFill>
              <a:latin typeface="Garamond"/>
            </a:endParaRPr>
          </a:p>
          <a:p>
            <a:pPr lvl="2" marL="1097280" indent="-219240">
              <a:lnSpc>
                <a:spcPct val="90000"/>
              </a:lnSpc>
              <a:spcBef>
                <a:spcPts val="45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Quick Response Working Group would be available to make quick calls on questions submitted by ERCOT</a:t>
            </a:r>
            <a:endParaRPr b="0" lang="en-US" sz="1800" spc="-1" strike="noStrike">
              <a:solidFill>
                <a:srgbClr val="ffffff"/>
              </a:solidFill>
              <a:latin typeface="Garamond"/>
            </a:endParaRPr>
          </a:p>
          <a:p>
            <a:pPr lvl="1" marL="713160" indent="-27432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 input to ERCOT CEO regarding NPRRs when requested</a:t>
            </a:r>
            <a:endParaRPr b="0" lang="en-US" sz="2000" spc="-1" strike="noStrike">
              <a:solidFill>
                <a:srgbClr val="ffffff"/>
              </a:solidFill>
              <a:latin typeface="Garamond"/>
            </a:endParaRPr>
          </a:p>
          <a:p>
            <a:pPr lvl="1" marL="713160" indent="-27432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and comment on ERCOT draft Nodal Business/Operating Procedures to determine if such are consistent with the protocols and intent of the market design</a:t>
            </a:r>
            <a:endParaRPr b="0" lang="en-US" sz="2000" spc="-1" strike="noStrike">
              <a:solidFill>
                <a:srgbClr val="ffffff"/>
              </a:solidFill>
              <a:latin typeface="Garamond"/>
            </a:endParaRPr>
          </a:p>
          <a:p>
            <a:pPr lvl="1" marL="713160" indent="-27432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 technical support to the ERCOT Board’s Special Nodal Program Committee as requested</a:t>
            </a:r>
            <a:endParaRPr b="0" lang="en-US" sz="2000" spc="-1" strike="noStrike">
              <a:solidFill>
                <a:srgbClr val="ffffff"/>
              </a:solidFill>
              <a:latin typeface="Garamond"/>
            </a:endParaRPr>
          </a:p>
          <a:p>
            <a:pPr lvl="1" marL="713160" indent="-27432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modifications to requirements documents to determine if changes are consistent with the Nodal Protocols</a:t>
            </a:r>
            <a:endParaRPr b="0" lang="en-US" sz="2000" spc="-1" strike="noStrike">
              <a:solidFill>
                <a:srgbClr val="ffffff"/>
              </a:solidFill>
              <a:latin typeface="Garamond"/>
            </a:endParaRPr>
          </a:p>
          <a:p>
            <a:pPr lvl="1" marL="713160" indent="-27432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and provide recommendations on post-nodal NPRR project priority to PRS, ROS, WMS and COPS for all NPRRs/whitepapers</a:t>
            </a:r>
            <a:endParaRPr b="0" lang="en-US" sz="2000" spc="-1" strike="noStrike">
              <a:solidFill>
                <a:srgbClr val="ffffff"/>
              </a:solidFill>
              <a:latin typeface="Garamond"/>
            </a:endParaRPr>
          </a:p>
        </p:txBody>
      </p:sp>
      <p:sp>
        <p:nvSpPr>
          <p:cNvPr id="4" name="PlaceHolder 3"/>
          <p:cNvSpPr>
            <a:spLocks noGrp="1"/>
          </p:cNvSpPr>
          <p:nvPr>
            <p:ph type="sldNum" idx="3"/>
          </p:nvPr>
        </p:nvSpPr>
        <p:spPr/>
        <p:txBody>
          <a:bodyPr/>
          <a:p>
            <a:fld id="{5A1FEC51-B7A7-4E7B-BDC7-1F9ED41BC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arket Readiness &amp; Testing Task Force (MRT TF)</a:t>
            </a:r>
            <a:endParaRPr b="1" lang="en-US" sz="4000" spc="-1" strike="noStrike">
              <a:solidFill>
                <a:srgbClr val="b9efee"/>
              </a:solidFill>
              <a:latin typeface="Garamond"/>
            </a:endParaRPr>
          </a:p>
        </p:txBody>
      </p:sp>
      <p:sp>
        <p:nvSpPr>
          <p:cNvPr id="125"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nctions</a:t>
            </a:r>
            <a:endParaRPr b="0" lang="en-US" sz="24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ist ERCOT testing staff to plan Market Participant testing, documentation, and scheduling</a:t>
            </a:r>
            <a:endParaRPr b="0" lang="en-US" sz="20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testing documentation to determine project progress</a:t>
            </a:r>
            <a:endParaRPr b="0" lang="en-US" sz="20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any revisions to the ERCOT/Market Participant testing plans</a:t>
            </a:r>
            <a:endParaRPr b="0" lang="en-US" sz="20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results of the 168-Hour Test</a:t>
            </a:r>
            <a:endParaRPr b="0" lang="en-US" sz="20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of TAC-approved metrics and scorecards for Market Participants and ERCOT</a:t>
            </a:r>
            <a:endParaRPr b="0" lang="en-US" sz="2000" spc="-1" strike="noStrike">
              <a:solidFill>
                <a:srgbClr val="ffffff"/>
              </a:solidFill>
              <a:latin typeface="Garamond"/>
            </a:endParaRPr>
          </a:p>
          <a:p>
            <a:pPr lvl="2" marL="1097280" indent="-219240">
              <a:lnSpc>
                <a:spcPct val="80000"/>
              </a:lnSpc>
              <a:spcBef>
                <a:spcPts val="45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ceive and review inputs from ERCOT Project Management Office (PMO) on status of the Texas Nodal Market Implementation</a:t>
            </a:r>
            <a:endParaRPr b="0" lang="en-US" sz="1800" spc="-1" strike="noStrike">
              <a:solidFill>
                <a:srgbClr val="ffffff"/>
              </a:solidFill>
              <a:latin typeface="Garamond"/>
            </a:endParaRPr>
          </a:p>
          <a:p>
            <a:pPr lvl="2" marL="1097280" indent="-219240">
              <a:lnSpc>
                <a:spcPct val="80000"/>
              </a:lnSpc>
              <a:spcBef>
                <a:spcPts val="45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vide input to TAC concerning overall ERCOT and Market Participant Readiness for Nodal Market Operation</a:t>
            </a:r>
            <a:endParaRPr b="0" lang="en-US" sz="18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Network Operations Model (NOM) before initial nodal price testing for the settlements process</a:t>
            </a:r>
            <a:endParaRPr b="0" lang="en-US" sz="20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Nodal Training Curriculum and continuing education progress toward meeting Market Participant training needs</a:t>
            </a:r>
            <a:endParaRPr b="0" lang="en-US" sz="2000" spc="-1" strike="noStrike">
              <a:solidFill>
                <a:srgbClr val="ffffff"/>
              </a:solidFill>
              <a:latin typeface="Garamond"/>
            </a:endParaRPr>
          </a:p>
          <a:p>
            <a:pPr lvl="1" marL="713160" indent="-2743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 monthly assessments and recommendations to TAC</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6" name=""/>
          <p:cNvSpPr/>
          <p:nvPr/>
        </p:nvSpPr>
        <p:spPr>
          <a:xfrm>
            <a:off x="1066680" y="6400800"/>
            <a:ext cx="6629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items that will require a change to the Nodal Transition Plan because the current function is to “approve”.</a:t>
            </a:r>
            <a:endParaRPr b="0" lang="en-US" sz="1000" spc="-1" strike="noStrike">
              <a:solidFill>
                <a:srgbClr val="ffffff"/>
              </a:solidFill>
              <a:latin typeface="Arial"/>
            </a:endParaRPr>
          </a:p>
        </p:txBody>
      </p:sp>
      <p:sp>
        <p:nvSpPr>
          <p:cNvPr id="4" name="PlaceHolder 3"/>
          <p:cNvSpPr>
            <a:spLocks noGrp="1"/>
          </p:cNvSpPr>
          <p:nvPr>
            <p:ph type="sldNum" idx="3"/>
          </p:nvPr>
        </p:nvSpPr>
        <p:spPr/>
        <p:txBody>
          <a:bodyPr/>
          <a:p>
            <a:fld id="{95B716F2-22EA-4AC3-B8ED-CE5CF963A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ime Profile</a:t>
            </a:r>
            <a:endParaRPr b="1" lang="en-US" sz="4400" spc="-1" strike="noStrike">
              <a:solidFill>
                <a:srgbClr val="b9efee"/>
              </a:solidFill>
              <a:latin typeface="Garamond"/>
            </a:endParaRPr>
          </a:p>
        </p:txBody>
      </p:sp>
      <p:sp>
        <p:nvSpPr>
          <p:cNvPr id="128"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fontScale="99000"/>
          </a:bodyPr>
          <a:p>
            <a:pPr marL="339480" indent="-3394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dal Technical Assistance Resource Task Force (NTAR TF)</a:t>
            </a:r>
            <a:endParaRPr b="0" lang="en-US" sz="2400" spc="-1" strike="noStrike">
              <a:solidFill>
                <a:srgbClr val="ffffff"/>
              </a:solidFill>
              <a:latin typeface="Garamond"/>
            </a:endParaRPr>
          </a:p>
          <a:p>
            <a:pPr lvl="1" marL="735480" indent="-28296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raction with ERCOT is determined by ERCOT</a:t>
            </a:r>
            <a:endParaRPr b="0" lang="en-US" sz="2000" spc="-1" strike="noStrike">
              <a:solidFill>
                <a:srgbClr val="ffffff"/>
              </a:solidFill>
              <a:latin typeface="Garamond"/>
            </a:endParaRPr>
          </a:p>
          <a:p>
            <a:pPr lvl="1" marL="735480" indent="-28296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est activity level expected in 2009 during the FAT testing and integration test sequences at ERCOT</a:t>
            </a:r>
            <a:endParaRPr b="0" lang="en-US" sz="2000" spc="-1" strike="noStrike">
              <a:solidFill>
                <a:srgbClr val="ffffff"/>
              </a:solidFill>
              <a:latin typeface="Garamond"/>
            </a:endParaRPr>
          </a:p>
          <a:p>
            <a:pPr lvl="1" marL="735480" indent="-28296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minished activities in 2010</a:t>
            </a:r>
            <a:endParaRPr b="0" lang="en-US" sz="2000" spc="-1" strike="noStrike">
              <a:solidFill>
                <a:srgbClr val="ffffff"/>
              </a:solidFill>
              <a:latin typeface="Garamond"/>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rket Readiness &amp; Testing Task Force (MRT TF)</a:t>
            </a:r>
            <a:endParaRPr b="0" lang="en-US" sz="2400" spc="-1" strike="noStrike">
              <a:solidFill>
                <a:srgbClr val="ffffff"/>
              </a:solidFill>
              <a:latin typeface="Garamond"/>
            </a:endParaRPr>
          </a:p>
          <a:p>
            <a:pPr lvl="1" marL="735480" indent="-28296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lanning activities in 2009 </a:t>
            </a:r>
            <a:endParaRPr b="0" lang="en-US" sz="2000" spc="-1" strike="noStrike">
              <a:solidFill>
                <a:srgbClr val="ffffff"/>
              </a:solidFill>
              <a:latin typeface="Garamond"/>
            </a:endParaRPr>
          </a:p>
          <a:p>
            <a:pPr lvl="1" marL="735480" indent="-28296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pport testing in 2009 according to current schedule</a:t>
            </a:r>
            <a:endParaRPr b="0" lang="en-US" sz="2000" spc="-1" strike="noStrike">
              <a:solidFill>
                <a:srgbClr val="ffffff"/>
              </a:solidFill>
              <a:latin typeface="Garamond"/>
            </a:endParaRPr>
          </a:p>
          <a:p>
            <a:pPr lvl="1" marL="735480" indent="-28296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est activity level focused in 2010 during the EDS test sequences and the Go-Live Period</a:t>
            </a:r>
            <a:endParaRPr b="0" lang="en-US" sz="2000" spc="-1" strike="noStrike">
              <a:solidFill>
                <a:srgbClr val="ffffff"/>
              </a:solidFill>
              <a:latin typeface="Garamond"/>
            </a:endParaRPr>
          </a:p>
        </p:txBody>
      </p:sp>
      <p:sp>
        <p:nvSpPr>
          <p:cNvPr id="4" name="PlaceHolder 3"/>
          <p:cNvSpPr>
            <a:spLocks noGrp="1"/>
          </p:cNvSpPr>
          <p:nvPr>
            <p:ph type="sldNum" idx="3"/>
          </p:nvPr>
        </p:nvSpPr>
        <p:spPr/>
        <p:txBody>
          <a:bodyPr/>
          <a:p>
            <a:fld id="{726A3D0B-252A-4FA4-B21D-8E39E4DAF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overnance and Meetings</a:t>
            </a:r>
            <a:endParaRPr b="1" lang="en-US" sz="4400" spc="-1" strike="noStrike">
              <a:solidFill>
                <a:srgbClr val="b9efee"/>
              </a:solidFill>
              <a:latin typeface="Garamond"/>
            </a:endParaRPr>
          </a:p>
        </p:txBody>
      </p:sp>
      <p:sp>
        <p:nvSpPr>
          <p:cNvPr id="130"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dal Technical Assistance Resource Task Force (NTAR TF)</a:t>
            </a:r>
            <a:endParaRPr b="0" lang="en-US" sz="20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overnance</a:t>
            </a:r>
            <a:endParaRPr b="0" lang="en-US" sz="16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hair/Vice-Chair – Market Participants selected by TAC</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dership coordinates NTAR TF activities with ERCOT Nodal Project Executive Director</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nthly report to TAC</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mbership &amp; voting structure as described in the existing TPTF Charter</a:t>
            </a:r>
            <a:endParaRPr b="0" lang="en-US" sz="14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etings</a:t>
            </a:r>
            <a:endParaRPr b="0" lang="en-US" sz="16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nthly</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RCOT Market Rules or Project Support personnel required</a:t>
            </a:r>
            <a:endParaRPr b="0" lang="en-US" sz="1400" spc="-1" strike="noStrike">
              <a:solidFill>
                <a:srgbClr val="ffffff"/>
              </a:solidFill>
              <a:latin typeface="Garamond"/>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arket Readiness &amp; Testing Task Force (MRT TF)</a:t>
            </a:r>
            <a:endParaRPr b="0" lang="en-US" sz="20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overnance</a:t>
            </a:r>
            <a:endParaRPr b="0" lang="en-US" sz="16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chaired by ERCOT as assigned by the ERCOT CEO and a Market Participant selected by TAC</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dership coordinates MRT TF activities with ERCOT Nodal Project Executive Director</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nthly report to TAC</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mbership &amp; voting structure as described in the existing TPTF Charter</a:t>
            </a:r>
            <a:endParaRPr b="0" lang="en-US" sz="14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etings</a:t>
            </a:r>
            <a:endParaRPr b="0" lang="en-US" sz="16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nthly</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RCOT EDS support required</a:t>
            </a:r>
            <a:endParaRPr b="0" lang="en-US" sz="1400" spc="-1" strike="noStrike">
              <a:solidFill>
                <a:srgbClr val="ffffff"/>
              </a:solidFill>
              <a:latin typeface="Garamond"/>
            </a:endParaRPr>
          </a:p>
          <a:p>
            <a:pPr lvl="2" marL="1143000" indent="-2286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RCOT Market Rules or Project Support personnel support required</a:t>
            </a:r>
            <a:endParaRPr b="0" lang="en-US" sz="1400" spc="-1" strike="noStrike">
              <a:solidFill>
                <a:srgbClr val="ffffff"/>
              </a:solidFill>
              <a:latin typeface="Garamond"/>
            </a:endParaRPr>
          </a:p>
        </p:txBody>
      </p:sp>
      <p:sp>
        <p:nvSpPr>
          <p:cNvPr id="4" name="PlaceHolder 3"/>
          <p:cNvSpPr>
            <a:spLocks noGrp="1"/>
          </p:cNvSpPr>
          <p:nvPr>
            <p:ph type="sldNum" idx="3"/>
          </p:nvPr>
        </p:nvSpPr>
        <p:spPr/>
        <p:txBody>
          <a:bodyPr/>
          <a:p>
            <a:fld id="{8B50F739-D870-4D44-B50A-26CFF57589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ow Is Efficiency Increased?</a:t>
            </a:r>
            <a:endParaRPr b="1" lang="en-US" sz="4400" spc="-1" strike="noStrike">
              <a:solidFill>
                <a:srgbClr val="b9efee"/>
              </a:solidFill>
              <a:latin typeface="Garamond"/>
            </a:endParaRPr>
          </a:p>
        </p:txBody>
      </p:sp>
      <p:sp>
        <p:nvSpPr>
          <p:cNvPr id="13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RCOT Resource participation level at the discretion of ERCOT</a:t>
            </a:r>
            <a:endParaRPr b="0" lang="en-US" sz="20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staff participation coordinated by TF leadership and Nodal Executive Director</a:t>
            </a:r>
            <a:endParaRPr b="0" lang="en-US" sz="16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enerally, if ERCOT has no issues to discuss, there is no impact on ERCOT staff resources for NTAR TF</a:t>
            </a:r>
            <a:endParaRPr b="0" lang="en-US" sz="1600" spc="-1" strike="noStrike">
              <a:solidFill>
                <a:srgbClr val="ffffff"/>
              </a:solidFill>
              <a:latin typeface="Garamond"/>
            </a:endParaRPr>
          </a:p>
          <a:p>
            <a:pPr lvl="2" marL="1085760" indent="-27144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amples: CEO requests NTAR TF to review NPRR originated by ERCOT Nodal Project (ERCOT Staff not required); NPRR prioritization recommendations likely not to require ERCOT staff; stakeholders take responsibility for TAC/Subcommittee reports.</a:t>
            </a:r>
            <a:endParaRPr b="0" lang="en-US" sz="14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configuration allows for more flexible meeting schedules </a:t>
            </a:r>
            <a:endParaRPr b="0" lang="en-US" sz="1600" spc="-1" strike="noStrike">
              <a:solidFill>
                <a:srgbClr val="ffffff"/>
              </a:solidFill>
              <a:latin typeface="Garamond"/>
            </a:endParaRPr>
          </a:p>
          <a:p>
            <a:pPr lvl="2" marL="1085760" indent="-27144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etings likely scheduled back-to-back and last only as long as needed</a:t>
            </a:r>
            <a:endParaRPr b="0" lang="en-US" sz="1400" spc="-1" strike="noStrike">
              <a:solidFill>
                <a:srgbClr val="ffffff"/>
              </a:solidFill>
              <a:latin typeface="Garamond"/>
            </a:endParaRPr>
          </a:p>
          <a:p>
            <a:pPr lvl="2" marL="1085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32580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configuration matches stakeholder interaction with scheduled ERCOT activity</a:t>
            </a:r>
            <a:endParaRPr b="0" lang="en-US" sz="20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circa 2009 activities of requirements completion, procedures development, system completion and integration matched by NTAR TF</a:t>
            </a:r>
            <a:endParaRPr b="0" lang="en-US" sz="16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circa 2010 activities of testing, readiness determination and Go-Live Plan implementation matched by MRT TF</a:t>
            </a:r>
            <a:endParaRPr b="0" lang="en-US" sz="1600" spc="-1" strike="noStrike">
              <a:solidFill>
                <a:srgbClr val="ffffff"/>
              </a:solidFill>
              <a:latin typeface="Garamond"/>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5800" indent="-32580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aintains, if not better targets, transparent communication to stakeholders of nodal project issues, proposed solutions, and overall project status</a:t>
            </a:r>
            <a:endParaRPr b="0" lang="en-US" sz="2000" spc="-1" strike="noStrike">
              <a:solidFill>
                <a:srgbClr val="ffffff"/>
              </a:solidFill>
              <a:latin typeface="Garamond"/>
            </a:endParaRPr>
          </a:p>
        </p:txBody>
      </p:sp>
      <p:sp>
        <p:nvSpPr>
          <p:cNvPr id="4" name="PlaceHolder 3"/>
          <p:cNvSpPr>
            <a:spLocks noGrp="1"/>
          </p:cNvSpPr>
          <p:nvPr>
            <p:ph type="sldNum" idx="3"/>
          </p:nvPr>
        </p:nvSpPr>
        <p:spPr/>
        <p:txBody>
          <a:bodyPr/>
          <a:p>
            <a:fld id="{047C4529-D294-49DC-BE5C-46428661CA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9:45:41Z</dcterms:created>
  <dc:creator>Reliant</dc:creator>
  <dc:description/>
  <dc:language>en-US</dc:language>
  <cp:lastModifiedBy>balbracht</cp:lastModifiedBy>
  <dcterms:modified xsi:type="dcterms:W3CDTF">2009-02-26T19:02:07Z</dcterms:modified>
  <cp:revision>26</cp:revision>
  <dc:subject/>
  <dc:title>???</dc:title>
</cp:coreProperties>
</file>