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6B9-F347-4908-B1C0-589D450C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793-E961-4AD9-BD8F-00FFA9ED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259-CB56-4A6A-BA38-055D5E70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62D-7C64-4999-98BE-2B22A13A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68D-E6D8-40F1-97D9-3C322487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877C-439B-4C02-A226-CBB72C54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5D7-3B66-4F43-A137-33F89987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DAA-0FD8-4845-9DA2-972FF086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38E-9222-4204-A53C-9DA085F1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692-7C9B-447A-8BB6-78322268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929-85EC-46EB-ADB2-A9A96C4D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7EB-2235-4438-981C-E51E90C4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85800" y="-76320"/>
            <a:ext cx="10515600" cy="7010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EB4B-D8A6-411B-8574-7750B7933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WG Report to T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Durrwa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982-D451-498E-B72E-B44B5562CD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ies to 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twice in Febr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list of potential topics for Wind Workshop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d development of quarterly report to P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9F9-8853-4E42-8062-3AC0AABDAB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for Wind Workshop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Requirements for Low Voltage Ride-Through (LVRT)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llec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emetry Requirements for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orological Tele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Telemetry (z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Telemetry (nod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of Resource Asset Registration Forms (RARF) for Wind Gen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OGRRs, PRRs, NPRRs that impact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 in the Nodal Market (Presentation by Floyd Tref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 of wind generators during nodal market operations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Implementation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Market tools to manage wind generation in the Nodal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6A0-2FD9-46B5-BD58-6A54A74597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erly Report to the P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required by Final Order in Docket No. 336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of report and attachment provided to TAC for review prior to thi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 of Quarterly Re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us of Wind Generation in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Related to Increased Wind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Completed This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D78-E256-4489-A3C9-C7DCC0D7A4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WG Request of T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 the Quarterly Report dated February 2009 (and the associated attachment A – List of Issues) for discussion with the Public Utility Commission of Texas at one of the Commission Open Meetings in March,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112-E641-4634-A7B4-FE5EF54369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ERCOT Operations to finalize agenda for Wind Workshop I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d begin review of whitepapers for issues in the Undetermined categ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Renewable Technologies Integration Plan (RTIP) to ensure the efficient and reliable integration of renewable generation into the ERCOT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B1B-1408-4AF2-B5A1-695DE4C901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3:49:35Z</dcterms:created>
  <dc:creator>Henry Durrwachter</dc:creator>
  <dc:description/>
  <dc:language>en-US</dc:language>
  <cp:lastModifiedBy>Henry Durrwachter</cp:lastModifiedBy>
  <dcterms:modified xsi:type="dcterms:W3CDTF">2009-03-02T16:43:10Z</dcterms:modified>
  <cp:revision>9</cp:revision>
  <dc:subject/>
  <dc:title>Slide 1</dc:title>
</cp:coreProperties>
</file>