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D43AA-255E-4CB0-B4ED-A91829A4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CF5E-AE32-47B8-B552-9C397AF9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775E5-12CB-4146-93E0-EDF9B3F3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E260A-E631-43B8-A25E-126CA125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6422-CC49-4475-BAB6-973005C7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E7C8-FD01-4E69-9F95-594DD14A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5579-2B20-4801-9763-B0B891F4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8EAD-0697-4403-B5AC-A476F1E7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CA2E-9242-4A1C-A3AD-DD54F959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86EF-BB05-438B-AF67-4ABA23D1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7FC5-58BC-4C69-A37C-49C18B63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6857-CDAA-45D5-ACD7-FDCED99A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AC68-EB40-4339-A50E-1743883A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C3AB-A28A-4C66-8DC8-87CBD406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5C1B-033B-43CF-8B1E-E7BF3BD9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E2F9-34D9-44D5-8842-FBA4244E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603C-3640-494F-B4B1-8F024E5F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1C891-1036-493F-BFD3-E0CFE0BA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C56E-FDF3-4DDA-9595-0CFB2E2E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B4FD0-2F43-4F34-8BD7-FB5ABCF1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888D-BB18-49DF-B8AA-E148A00C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55E3C-00EB-47CE-89FD-B7908C0A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433C-23D4-4DBF-BC56-7240EF29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D7A9-B7BB-467D-A826-F0CDDD72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6BAC-1249-4CEB-9024-8E21A843B2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6398-D68C-457B-8B30-12FD27F675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7912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otocol Revision Subcommitt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ch 5,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R/NPRR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vision Requests Unanimously Recommended for Approval with No Imp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R 789 – Removal of Grey Box Language Related to Lagged Dynamics Load Profiling Due to Unfunded Projec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R 790 – Load Profile ID Annual Validation Change Requ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vision Requests Unanimously Recommended for Approval with No Impact Analy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NPRR 146 -- ICCP Telemetry Information Submitta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S Discussion Upd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atus of Post-”Go-Live” NPR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S discussed basic framework for combining NPRRs into releases – no decisions ma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“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Gray-boxing” policy for use in nod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Interaction of subcommittees for release schedulin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Implementation of Protocol change prior to system change completi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PPL managemen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Will report status to TAC in Apri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erformance Metric Revie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Recent PRRs raise concerns regarding performance metrics and how they may be interpreted for possible enforcement ac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PRS currently addressing on an ad hoc basis as specific PRRs are submitte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TAC may want to consider initiating a more comprehensive review of performance standard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S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1120" y="1987200"/>
            <a:ext cx="792936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 PRRs for Appro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 NPRR for Appro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rrent Discus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atus of Post-”Go-Live” NPR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erformance Metr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Revision Requests Unanimously Recommended for Approval with No Impact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RR 789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– Removal of Grey Box Language Related to Lagged Dynamics Load Profiling Due to Unfunded Project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752480"/>
          <a:ext cx="8076960" cy="4254480"/>
        </p:xfrm>
        <a:graphic>
          <a:graphicData uri="http://schemas.openxmlformats.org/drawingml/2006/table">
            <a:tbl>
              <a:tblPr/>
              <a:tblGrid>
                <a:gridCol w="2209680"/>
                <a:gridCol w="1477800"/>
                <a:gridCol w="43894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irect Energy for Profiling W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moves grey-box language related to the use of lagged dynamic samples for new profil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ministrative clean-up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; all Market Segments were presen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y 1, 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RR 789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– Removal of Grey Box Language Related to Lagged Dynamics Load Profiling Due to Unfunded Project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5181480"/>
            <a:ext cx="2103480" cy="82404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RR 790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– Load Profile ID Annual Validation Change Request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3520" y="1752480"/>
          <a:ext cx="8076960" cy="4370400"/>
        </p:xfrm>
        <a:graphic>
          <a:graphicData uri="http://schemas.openxmlformats.org/drawingml/2006/table">
            <a:tbl>
              <a:tblPr/>
              <a:tblGrid>
                <a:gridCol w="2209680"/>
                <a:gridCol w="1477800"/>
                <a:gridCol w="43894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irect Energy for Profiling W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lows for changes in the Annual Validation process timeline due to extreme event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lows Market Participants to utilize their resources to handle emergency situation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y 1, 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RR 790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– Load Profile ID Annual Validation Change Request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5181480"/>
            <a:ext cx="2103480" cy="82404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Revision Requests Unanimously Recommended for Approval with No Impact Analysi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PRR 146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– ICCP Telemetry Information Submittal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33520" y="1752480"/>
          <a:ext cx="8076960" cy="4618080"/>
        </p:xfrm>
        <a:graphic>
          <a:graphicData uri="http://schemas.openxmlformats.org/drawingml/2006/table">
            <a:tbl>
              <a:tblPr/>
              <a:tblGrid>
                <a:gridCol w="2209680"/>
                <a:gridCol w="1477800"/>
                <a:gridCol w="438948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EP, IOU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anges the ICCP data object names submittal to 15 day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mproves the quality of information ERCOT receives on ICCP data object nam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duced burden on TSPs and QSEs to provide needed information in a timely and correct manner.  Prevents TSPs and ERCOT from modeling ICCP data object names that may not ever exist and then removing them at a later da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; all Market Segments were present except the IGEN segmen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RCOT believes NPRR 146 is not needed for “go-live”; no IA performed at this tim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kgresham</cp:lastModifiedBy>
  <dcterms:modified xsi:type="dcterms:W3CDTF">2009-03-04T14:56:29Z</dcterms:modified>
  <cp:revision>333</cp:revision>
  <dc:subject/>
  <dc:title>Protocol Revision Subcommittee</dc:title>
</cp:coreProperties>
</file>