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6"/>
          </p:nvPr>
        </p:nvSpPr>
        <p:spPr>
          <a:xfrm>
            <a:off x="3973320" y="0"/>
            <a:ext cx="30366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7"/>
          </p:nvPr>
        </p:nvSpPr>
        <p:spPr>
          <a:xfrm>
            <a:off x="0" y="8831160"/>
            <a:ext cx="303696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8"/>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2FD478-0787-458A-A61C-26105113F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E7273B1C-FD1F-4FDB-8CA5-188798031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risk with a label that can be used in conversing about the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e where we are in handling this risk  - highlight one block in b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 – identifying and analyzing the impact of the r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 – establishing the details for mitigating the r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age – executing the mitigation plans and monitoring progr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tch – we have the risk in control, using our mitigation plans, or there is no plan and we are just keeping an eye on th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igation plans identify the work being done, with current status as of the reporting date</a:t>
            </a:r>
            <a:endParaRPr b="0" lang="en-US" sz="1200" spc="-1" strike="noStrike">
              <a:solidFill>
                <a:srgbClr val="000000"/>
              </a:solidFill>
              <a:latin typeface="Arial"/>
            </a:endParaRPr>
          </a:p>
        </p:txBody>
      </p:sp>
      <p:sp>
        <p:nvSpPr>
          <p:cNvPr id="143"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C91851CD-0C12-44C4-9F6D-0974EFF0C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B9E3ACFD-663D-4C13-A93F-0C5D7F495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463D637F-0693-46B8-A981-71E5776ED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82600" y="696960"/>
            <a:ext cx="4648320" cy="3486240"/>
          </a:xfrm>
          <a:prstGeom prst="rect">
            <a:avLst/>
          </a:prstGeom>
          <a:ln w="0">
            <a:noFill/>
          </a:ln>
        </p:spPr>
      </p:sp>
      <p:sp>
        <p:nvSpPr>
          <p:cNvPr id="1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BF15E83A-1A84-4494-8F56-D092EC5E9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973320" y="8831160"/>
            <a:ext cx="30366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328D6E-9068-4042-AA00-C0DAB95B5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0" y="8831160"/>
            <a:ext cx="30369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0" y="0"/>
            <a:ext cx="30369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973320" y="0"/>
            <a:ext cx="30366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A20D3B-ACBB-4C9F-ADDD-40DB1FA65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5197BE73-42ED-42B9-A6B9-95C627883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risk with a label that can be used in conversing about the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e where we are in handling this risk  - highlight one block in b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 – identifying and analyzing the impact of the r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 – establishing the details for mitigating the r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age – executing the mitigation plans and monitoring progr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tch – we have the risk in control, using our mitigation plans, or there is no plan and we are just keeping an eye on th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igation plans identify the work being done, with current status as of the reporting date</a:t>
            </a:r>
            <a:endParaRPr b="0" lang="en-US" sz="1200" spc="-1" strike="noStrike">
              <a:solidFill>
                <a:srgbClr val="000000"/>
              </a:solidFill>
              <a:latin typeface="Arial"/>
            </a:endParaRPr>
          </a:p>
        </p:txBody>
      </p:sp>
      <p:sp>
        <p:nvSpPr>
          <p:cNvPr id="139"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443CF686-0A65-48D6-B75C-4E739E101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B5A1350-7A76-4220-8F8D-C2EC50A44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9AF3FFF-E6D1-46E4-9BEC-74832C627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19B23A3-2110-4797-8758-1BD4AAAB8E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FCF5030-2837-4C7B-BAAB-C91B244F72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17F7684-1EE5-4BF8-A3D6-DB6E96EC5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D7847F6-A88F-44E9-9861-AA86AE500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DBC6046-FC48-4A6B-B747-B31A7BA5D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0315733-DF12-4024-AA77-2B9C9D73E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BAAD71-9F20-4C77-93F3-FBB8B11CA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0CE4ABD-F2C4-4E6D-AE3B-235FE132F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8E4F7A-B49F-4FFB-8A3F-1B430507D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5095F4-1468-4C5B-BDA6-DBB0A36F8E2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CA52-D4EF-4EDC-BE66-CB67622FB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5638320" y="6458040"/>
            <a:ext cx="31244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5, 2009</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F31D-9448-4295-B53E-06862E72A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304920"/>
            <a:ext cx="1295280" cy="51912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ch 5, 2009</a:t>
            </a:r>
            <a:endParaRPr b="0" lang="en-US" sz="2400" spc="-1" strike="noStrike">
              <a:solidFill>
                <a:srgbClr val="000000"/>
              </a:solidFill>
              <a:latin typeface="Times New Roman"/>
            </a:endParaRPr>
          </a:p>
        </p:txBody>
      </p:sp>
      <p:sp>
        <p:nvSpPr>
          <p:cNvPr id="53"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cal Advisory Committee Meeting</a:t>
            </a:r>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3160" y="1904760"/>
            <a:ext cx="665820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as Nodal Program Implementation:</a:t>
            </a:r>
            <a:br>
              <a:rPr sz="2400"/>
            </a:br>
            <a:r>
              <a:rPr b="0" lang="en-US" sz="2400" spc="-1" strike="noStrike">
                <a:solidFill>
                  <a:srgbClr val="ffffff"/>
                </a:solidFill>
                <a:latin typeface="Arial Black"/>
              </a:rPr>
              <a:t>Program Update</a:t>
            </a:r>
            <a:endParaRPr b="0" lang="en-US" sz="2400" spc="-1" strike="noStrike">
              <a:solidFill>
                <a:srgbClr val="ffffff"/>
              </a:solidFill>
              <a:latin typeface="Arial Black"/>
            </a:endParaRPr>
          </a:p>
        </p:txBody>
      </p:sp>
      <p:sp>
        <p:nvSpPr>
          <p:cNvPr id="99"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ip Doggett</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Nodal Program Updat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dal Program Risk: </a:t>
            </a:r>
            <a:br>
              <a:rPr sz="2400"/>
            </a:br>
            <a:r>
              <a:rPr b="0" lang="en-US" sz="2000" spc="-1" strike="noStrike">
                <a:solidFill>
                  <a:srgbClr val="ffffff"/>
                </a:solidFill>
                <a:latin typeface="Arial Black"/>
              </a:rPr>
              <a:t>Nodal Integration Test (iTest) and EDS Environments</a:t>
            </a:r>
            <a:endParaRPr b="0" lang="en-US" sz="2000" spc="-1" strike="noStrike">
              <a:solidFill>
                <a:srgbClr val="ffffff"/>
              </a:solidFill>
              <a:latin typeface="Arial Black"/>
            </a:endParaRPr>
          </a:p>
        </p:txBody>
      </p:sp>
      <p:graphicFrame>
        <p:nvGraphicFramePr>
          <p:cNvPr id="118" name=""/>
          <p:cNvGraphicFramePr/>
          <p:nvPr/>
        </p:nvGraphicFramePr>
        <p:xfrm>
          <a:off x="304920" y="914400"/>
          <a:ext cx="8458200" cy="4595760"/>
        </p:xfrm>
        <a:graphic>
          <a:graphicData uri="http://schemas.openxmlformats.org/drawingml/2006/table">
            <a:tbl>
              <a:tblPr/>
              <a:tblGrid>
                <a:gridCol w="761760"/>
                <a:gridCol w="838440"/>
                <a:gridCol w="761760"/>
                <a:gridCol w="685800"/>
                <a:gridCol w="1371600"/>
                <a:gridCol w="1295640"/>
                <a:gridCol w="2743200"/>
              </a:tblGrid>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Nodal Integration Test (iTest) and EDS Environment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 current iTest environment is set up in the EDS (passive) environment, and because it lacks all of the required platform software and permissions, the Nodal program cannot effectively conduct integration testing.  Delays in integration testing threaten program delivery.</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n</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ag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7575d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ch</a:t>
                      </a:r>
                      <a:endParaRPr b="0" lang="en-US" sz="11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4590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view current iTest environment and strateg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Meine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667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tablish a detailed plan and project schedule for key activities and milestones to establish and maintain the iTest environment.  Include elements such as:</a:t>
                      </a:r>
                      <a:endParaRPr b="0" lang="en-US" sz="1200" spc="-1" strike="noStrike">
                        <a:solidFill>
                          <a:srgbClr val="000000"/>
                        </a:solidFill>
                        <a:latin typeface="Arial"/>
                      </a:endParaRPr>
                    </a:p>
                    <a:p>
                      <a:pPr lvl="1" marL="457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all technical architecture documents are current</a:t>
                      </a:r>
                      <a:endParaRPr b="0" lang="en-US" sz="1200" spc="-1" strike="noStrike">
                        <a:solidFill>
                          <a:srgbClr val="000000"/>
                        </a:solidFill>
                        <a:latin typeface="Arial"/>
                      </a:endParaRPr>
                    </a:p>
                    <a:p>
                      <a:pPr lvl="1" marL="457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 all needed  HW</a:t>
                      </a:r>
                      <a:endParaRPr b="0" lang="en-US" sz="1200" spc="-1" strike="noStrike">
                        <a:solidFill>
                          <a:srgbClr val="000000"/>
                        </a:solidFill>
                        <a:latin typeface="Arial"/>
                      </a:endParaRPr>
                    </a:p>
                    <a:p>
                      <a:pPr lvl="1" marL="457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 all Nodal systems, with  required components</a:t>
                      </a:r>
                      <a:endParaRPr b="0" lang="en-US" sz="1200" spc="-1" strike="noStrike">
                        <a:solidFill>
                          <a:srgbClr val="000000"/>
                        </a:solidFill>
                        <a:latin typeface="Arial"/>
                      </a:endParaRPr>
                    </a:p>
                    <a:p>
                      <a:pPr lvl="1" marL="457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release procedures with appropriate controls </a:t>
                      </a:r>
                      <a:endParaRPr b="0" lang="en-US" sz="1200" spc="-1" strike="noStrike">
                        <a:solidFill>
                          <a:srgbClr val="000000"/>
                        </a:solidFill>
                        <a:latin typeface="Arial"/>
                      </a:endParaRPr>
                    </a:p>
                    <a:p>
                      <a:pPr lvl="1" marL="457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iTest environments match needs of integrated testing strateg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Meine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date 2/20/09; updated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7/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09   Identified  elements for initial iTest environment, to be complete 3/20/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0/09  Established initial milestones for completion of analysis and iTest build.  Working on plan for iTest readiness for test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95F58A16-EE0B-4FCD-9521-45EDF0ED3A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dal Program Risk: </a:t>
            </a:r>
            <a:br>
              <a:rPr sz="2400"/>
            </a:br>
            <a:r>
              <a:rPr b="0" lang="en-US" sz="2000" spc="-1" strike="noStrike">
                <a:solidFill>
                  <a:srgbClr val="ffffff"/>
                </a:solidFill>
                <a:latin typeface="Arial Black"/>
              </a:rPr>
              <a:t>Information Transmitted Over External Web Services</a:t>
            </a:r>
            <a:endParaRPr b="0" lang="en-US" sz="2000" spc="-1" strike="noStrike">
              <a:solidFill>
                <a:srgbClr val="ffffff"/>
              </a:solidFill>
              <a:latin typeface="Arial Black"/>
            </a:endParaRPr>
          </a:p>
        </p:txBody>
      </p:sp>
      <p:graphicFrame>
        <p:nvGraphicFramePr>
          <p:cNvPr id="120" name=""/>
          <p:cNvGraphicFramePr/>
          <p:nvPr/>
        </p:nvGraphicFramePr>
        <p:xfrm>
          <a:off x="304920" y="914400"/>
          <a:ext cx="8458200" cy="4730760"/>
        </p:xfrm>
        <a:graphic>
          <a:graphicData uri="http://schemas.openxmlformats.org/drawingml/2006/table">
            <a:tbl>
              <a:tblPr/>
              <a:tblGrid>
                <a:gridCol w="761760"/>
                <a:gridCol w="838440"/>
                <a:gridCol w="761760"/>
                <a:gridCol w="685800"/>
                <a:gridCol w="1371600"/>
                <a:gridCol w="1295640"/>
                <a:gridCol w="2743200"/>
              </a:tblGrid>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Information Transmitted Over External Web Servic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volume  and content of the information transmitted over Nodal external web services is not defined in detail, then market participant applications may attempt to transmit information in forms and of sizes that the Nodal applications are unable to process.</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n</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9c9c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ag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ch</a:t>
                      </a:r>
                      <a:endParaRPr b="0" lang="en-US" sz="11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0065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dentify an approach to handle appropriate sizes of file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Brandaw</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0/09  An initial meeting was held to explain the actions required, so that a strategy can be explained at the next Board of Directors meeting on 3/17/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1016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tablish a specification of the format of the information content to be transmitted by market participant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Brandaw</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0/09  An initial meeting was held to explain the actions required, so that a strategy can be explained at the next Board of Directors meeting on 3/17/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7/09  Team has contacted technical rep from large MP – no need to chunk files; contacted Structure, PSI, and PJM for recommendation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AFEB6906-1370-483B-8A83-1D8BF8BD5D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Wide Risk:</a:t>
            </a:r>
            <a:br>
              <a:rPr sz="2400"/>
            </a:br>
            <a:r>
              <a:rPr b="0" lang="en-US" sz="2000" spc="-1" strike="noStrike">
                <a:solidFill>
                  <a:srgbClr val="ffffff"/>
                </a:solidFill>
                <a:latin typeface="Arial Black"/>
              </a:rPr>
              <a:t>Zonal Resource Constraints for Nodal Program</a:t>
            </a:r>
            <a:endParaRPr b="0" lang="en-US" sz="2000" spc="-1" strike="noStrike">
              <a:solidFill>
                <a:srgbClr val="ffffff"/>
              </a:solidFill>
              <a:latin typeface="Arial Black"/>
            </a:endParaRPr>
          </a:p>
        </p:txBody>
      </p:sp>
      <p:graphicFrame>
        <p:nvGraphicFramePr>
          <p:cNvPr id="122" name=""/>
          <p:cNvGraphicFramePr/>
          <p:nvPr/>
        </p:nvGraphicFramePr>
        <p:xfrm>
          <a:off x="304920" y="1066680"/>
          <a:ext cx="8458200" cy="3772080"/>
        </p:xfrm>
        <a:graphic>
          <a:graphicData uri="http://schemas.openxmlformats.org/drawingml/2006/table">
            <a:tbl>
              <a:tblPr/>
              <a:tblGrid>
                <a:gridCol w="761760"/>
                <a:gridCol w="838440"/>
                <a:gridCol w="761760"/>
                <a:gridCol w="685800"/>
                <a:gridCol w="1295640"/>
                <a:gridCol w="1295280"/>
                <a:gridCol w="2819520"/>
              </a:tblGrid>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Zonal Resource Constraints for Nodal Program</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 Nodal go-live date has been delayed, there are a number of Zonal projects, PRRs, and IMM suggestions for Zonal improvements that may result in resource constraints for the Nodal Program.</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an</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ag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a3a3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ch</a:t>
                      </a:r>
                      <a:endParaRPr b="0" lang="en-US" sz="11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3716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nage list of PRRs and SCRs to a resource plan that uses a strategy to avoid impacting Nodal personnel resources when delivering additional Zonal enhancement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roxt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nderso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9 – Completed review with  PRS and WMS on the current list of reconsidered and new PRRs and SCRs.  No expected impact to Nodal.  Updates will be provided to Nodal PMO as the list evol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09 – To review the list with TAC</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10065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nage Project Priority List (PPL) with clear view of resources needed for any projects in flight or about to be launched, with a strategy to avoid impact on Nodal personnel resource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roxtell</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09 – Current PPL shows no threat to Nodal personnel resource; updates to be provided to Nodal PMO as the PPL evolves; sent the list to Nodal PMO.</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E9250DA0-AAB5-43E1-874D-8BEADE82DB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Wide Risk:</a:t>
            </a:r>
            <a:br>
              <a:rPr sz="2400"/>
            </a:br>
            <a:r>
              <a:rPr b="0" lang="en-US" sz="2000" spc="-1" strike="noStrike">
                <a:solidFill>
                  <a:srgbClr val="ffffff"/>
                </a:solidFill>
                <a:latin typeface="Arial Black"/>
              </a:rPr>
              <a:t>Data Center Space Concerns</a:t>
            </a:r>
            <a:endParaRPr b="0" lang="en-US" sz="2000" spc="-1" strike="noStrike">
              <a:solidFill>
                <a:srgbClr val="ffffff"/>
              </a:solidFill>
              <a:latin typeface="Arial Black"/>
            </a:endParaRPr>
          </a:p>
        </p:txBody>
      </p:sp>
      <p:graphicFrame>
        <p:nvGraphicFramePr>
          <p:cNvPr id="124" name=""/>
          <p:cNvGraphicFramePr/>
          <p:nvPr/>
        </p:nvGraphicFramePr>
        <p:xfrm>
          <a:off x="304920" y="838080"/>
          <a:ext cx="8610480" cy="4800600"/>
        </p:xfrm>
        <a:graphic>
          <a:graphicData uri="http://schemas.openxmlformats.org/drawingml/2006/table">
            <a:tbl>
              <a:tblPr/>
              <a:tblGrid>
                <a:gridCol w="776160"/>
                <a:gridCol w="852480"/>
                <a:gridCol w="776160"/>
                <a:gridCol w="698760"/>
                <a:gridCol w="930240"/>
                <a:gridCol w="1681200"/>
                <a:gridCol w="2895480"/>
              </a:tblGrid>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Data Center Space Concer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enter capacity, space, and power may be inadequate for Nodal Program go-live, unless plans for expansion are adequate.</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an</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ag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a3a3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ch</a:t>
                      </a:r>
                      <a:endParaRPr b="0" lang="en-US" sz="11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3716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stablish an Information Lifecycle Management approach, to manage the life cycle of data being managed.</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Hinsle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dmap by March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roject PR 90006_01 Commercial Systems Information Lifecycle Management: Proje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IC to be Project Manag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IC is engaged to complete a roadmap for a strategy by March 6.</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15541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xpand current data center space, and build out new data center, to increase ERCOT data center capac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Hinsle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C1 build out complete by 9/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DC in production Feb 20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C3 in production May 2011</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roject PR_8004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C1 equipment to be purchased May 20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roject PR_8000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DC will run parallel  Oct 2010 – Feb 2011 to test and avoid disruption to Nodal</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r>
              <a:tr h="4590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Validate and monitor Nodal data capacity assumption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Hinsle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20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underway to validate current assumption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D76BD08C-5CBB-4527-AA2E-E8277F252C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udget – Cost Management</a:t>
            </a:r>
            <a:endParaRPr b="0" lang="en-US" sz="2400" spc="-1" strike="noStrike">
              <a:solidFill>
                <a:srgbClr val="ffffff"/>
              </a:solidFill>
              <a:latin typeface="Arial Black"/>
            </a:endParaRPr>
          </a:p>
        </p:txBody>
      </p:sp>
      <p:sp>
        <p:nvSpPr>
          <p:cNvPr id="126" name=""/>
          <p:cNvSpPr/>
          <p:nvPr/>
        </p:nvSpPr>
        <p:spPr>
          <a:xfrm>
            <a:off x="457200" y="914400"/>
            <a:ext cx="83059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gram’s monthly budget actuals have been under the forecast over the last several months</a:t>
            </a:r>
            <a:endParaRPr b="0" lang="en-US" sz="18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scrubbing the Nodal budgets on a project-by-project basis to ensure appropriate staffing levels, mix of internal and external labor, and estimates based on current information</a:t>
            </a:r>
            <a:endParaRPr b="0" lang="en-US" sz="1600" spc="-1" strike="noStrike">
              <a:solidFill>
                <a:srgbClr val="000000"/>
              </a:solidFill>
              <a:latin typeface="Arial"/>
            </a:endParaRPr>
          </a:p>
          <a:p>
            <a:pPr marL="343080" indent="-3430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ing new financial processes</a:t>
            </a:r>
            <a:endParaRPr b="0" lang="en-US" sz="18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ng a “Current Month-End Spend Projection” that is a combination of expenses and liabilities incurred during the first half of a month combined with a projection of expenses and liabilities during the second half of a month</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gram, at a project level beginning in February, will update forecasted spend for a minimum of the subsequent three months and further out if known</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financial work session will be scheduled the last week of each month with each project for the purpose of reviewing the prior month budget to actual performance in order to explain all variances and impacts to schedule or forecasted expense and to review forecast changes for approval</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project reviews will be revised include both budget and schedule together, as well as other key controls of the program</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0FFEF4DD-18F7-4525-82FC-833A228F63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9144000" cy="6858000"/>
          </a:xfrm>
          <a:prstGeom prst="rect">
            <a:avLst/>
          </a:prstGeom>
          <a:solidFill>
            <a:srgbClr val="5469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438280" y="3048120"/>
            <a:ext cx="426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Question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odal Program Update</a:t>
            </a:r>
          </a:p>
        </p:txBody>
      </p:sp>
      <p:sp>
        <p:nvSpPr>
          <p:cNvPr id="3" name="PlaceHolder 2"/>
          <p:cNvSpPr>
            <a:spLocks noGrp="1"/>
          </p:cNvSpPr>
          <p:nvPr>
            <p:ph type="sldNum" idx="1"/>
          </p:nvPr>
        </p:nvSpPr>
        <p:spPr/>
        <p:txBody>
          <a:bodyPr/>
          <a:p>
            <a:fld id="{7B93D28E-FC0F-46B3-B0DC-5ADAC9666AFB}"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genda</a:t>
            </a:r>
            <a:endParaRPr b="0" lang="en-US" sz="2400" spc="-1" strike="noStrike">
              <a:solidFill>
                <a:srgbClr val="ffffff"/>
              </a:solidFill>
              <a:latin typeface="Arial Black"/>
            </a:endParaRPr>
          </a:p>
        </p:txBody>
      </p:sp>
      <p:sp>
        <p:nvSpPr>
          <p:cNvPr id="101" name="Rectangle 3"/>
          <p:cNvSpPr/>
          <p:nvPr/>
        </p:nvSpPr>
        <p:spPr>
          <a:xfrm>
            <a:off x="479520" y="1095480"/>
            <a:ext cx="8229600" cy="46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Highlig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cast – Audit Points to Addr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ed Risk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 – Cost Managemen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13376FD5-38B2-4091-AD3F-CF255C5381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am Highlights – 1</a:t>
            </a:r>
            <a:endParaRPr b="0" lang="en-US" sz="2400" spc="-1" strike="noStrike">
              <a:solidFill>
                <a:srgbClr val="ffffff"/>
              </a:solidFill>
              <a:latin typeface="Arial Black"/>
            </a:endParaRPr>
          </a:p>
        </p:txBody>
      </p:sp>
      <p:sp>
        <p:nvSpPr>
          <p:cNvPr id="103" name="PlaceHolder 2"/>
          <p:cNvSpPr>
            <a:spLocks noGrp="1"/>
          </p:cNvSpPr>
          <p:nvPr>
            <p:ph/>
          </p:nvPr>
        </p:nvSpPr>
        <p:spPr>
          <a:xfrm>
            <a:off x="456840" y="914040"/>
            <a:ext cx="8077320" cy="5334120"/>
          </a:xfrm>
          <a:prstGeom prst="rect">
            <a:avLst/>
          </a:prstGeom>
          <a:noFill/>
          <a:ln w="0">
            <a:noFill/>
          </a:ln>
        </p:spPr>
        <p:txBody>
          <a:bodyPr lIns="90000" rIns="90000" tIns="46800" bIns="46800" anchor="t">
            <a:normAutofit/>
          </a:bodyPr>
          <a:p>
            <a:pPr marL="343080" indent="-34308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dal schedule and budget were approved by the Board, as submitted, on Feb. 17</a:t>
            </a:r>
            <a:endParaRPr b="1" lang="en-US" sz="2000" spc="-1" strike="noStrike">
              <a:solidFill>
                <a:srgbClr val="000000"/>
              </a:solidFill>
              <a:latin typeface="Arial"/>
            </a:endParaRPr>
          </a:p>
          <a:p>
            <a:pPr lvl="1" marL="743040" indent="-28584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 go live in December 2010</a:t>
            </a:r>
            <a:endParaRPr b="0" lang="en-US" sz="2000" spc="-1" strike="noStrike">
              <a:solidFill>
                <a:srgbClr val="000000"/>
              </a:solidFill>
              <a:latin typeface="Arial"/>
            </a:endParaRPr>
          </a:p>
          <a:p>
            <a:pPr lvl="1" marL="743040" indent="-28584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not to exceed $658.7 million</a:t>
            </a:r>
            <a:endParaRPr b="0" lang="en-US" sz="2000" spc="-1" strike="noStrike">
              <a:solidFill>
                <a:srgbClr val="000000"/>
              </a:solidFill>
              <a:latin typeface="Arial"/>
            </a:endParaRPr>
          </a:p>
          <a:p>
            <a:pPr marL="343080" indent="-343080">
              <a:lnSpc>
                <a:spcPct val="8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schedule was replanned June 1, 2008, all tasks on the program critical path are currently on schedule</a:t>
            </a:r>
            <a:endParaRPr b="1" lang="en-US" sz="2000" spc="-1" strike="noStrike">
              <a:solidFill>
                <a:srgbClr val="000000"/>
              </a:solidFill>
              <a:latin typeface="Arial"/>
            </a:endParaRPr>
          </a:p>
          <a:p>
            <a:pPr lvl="1" marL="743040" indent="-285840">
              <a:lnSpc>
                <a:spcPct val="8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16 scheduled tasks on the critical path (to date), the program has hit 16</a:t>
            </a:r>
            <a:endParaRPr b="0" lang="en-US" sz="2000" spc="-1" strike="noStrike">
              <a:solidFill>
                <a:srgbClr val="000000"/>
              </a:solidFill>
              <a:latin typeface="Arial"/>
            </a:endParaRPr>
          </a:p>
          <a:p>
            <a:pPr lvl="1" marL="743040" indent="-285840">
              <a:lnSpc>
                <a:spcPct val="8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2,913 total scheduled tasks (to date), the program has hit 2,59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gration and testing projects are undergoing a change in leadership and approach to address concerns raise by Utilicast in Report #8.  More details on subsequent slid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Program Update</a:t>
            </a:r>
          </a:p>
        </p:txBody>
      </p:sp>
      <p:sp>
        <p:nvSpPr>
          <p:cNvPr id="5" name="PlaceHolder 4"/>
          <p:cNvSpPr>
            <a:spLocks noGrp="1"/>
          </p:cNvSpPr>
          <p:nvPr>
            <p:ph type="sldNum" idx="1"/>
          </p:nvPr>
        </p:nvSpPr>
        <p:spPr/>
        <p:txBody>
          <a:bodyPr/>
          <a:p>
            <a:fld id="{E29FB0DB-714A-4F4D-9A8D-3B9593063F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gram Highlights – 2</a:t>
            </a:r>
            <a:endParaRPr b="0" lang="en-US" sz="2400" spc="-1" strike="noStrike">
              <a:solidFill>
                <a:srgbClr val="ffffff"/>
              </a:solidFill>
              <a:latin typeface="Arial Black"/>
            </a:endParaRPr>
          </a:p>
        </p:txBody>
      </p:sp>
      <p:sp>
        <p:nvSpPr>
          <p:cNvPr id="105" name="PlaceHolder 2"/>
          <p:cNvSpPr>
            <a:spLocks noGrp="1"/>
          </p:cNvSpPr>
          <p:nvPr>
            <p:ph/>
          </p:nvPr>
        </p:nvSpPr>
        <p:spPr>
          <a:xfrm>
            <a:off x="457200" y="966960"/>
            <a:ext cx="8229600" cy="480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projects and associated releases</a:t>
            </a:r>
            <a:endParaRPr b="1" lang="en-US" sz="2400" spc="-1" strike="noStrike">
              <a:solidFill>
                <a:srgbClr val="000000"/>
              </a:solidFill>
              <a:latin typeface="Arial"/>
            </a:endParaRPr>
          </a:p>
        </p:txBody>
      </p:sp>
      <p:graphicFrame>
        <p:nvGraphicFramePr>
          <p:cNvPr id="106" name=""/>
          <p:cNvGraphicFramePr/>
          <p:nvPr/>
        </p:nvGraphicFramePr>
        <p:xfrm>
          <a:off x="936720" y="1523880"/>
          <a:ext cx="7445160" cy="4127760"/>
        </p:xfrm>
        <a:graphic>
          <a:graphicData uri="http://schemas.openxmlformats.org/drawingml/2006/table">
            <a:tbl>
              <a:tblPr/>
              <a:tblGrid>
                <a:gridCol w="1044360"/>
                <a:gridCol w="6400800"/>
              </a:tblGrid>
              <a:tr h="580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33280" indent="-233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ucting functional acceptance test (FAT) for NMMS 6; scheduled to complete by Apr. 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04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3280" indent="-233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FAT on release 6.2.x (release to address several SIG issues and NPRRs) on Feb. 9 and completed FAT on release 6.4.x (CIM Importer additions based on synchronized model (v1.21 schema) and additional SIGs) on Feb. 20</a:t>
                      </a:r>
                      <a:endParaRPr b="0" lang="en-US" sz="1600" spc="-1" strike="noStrike">
                        <a:solidFill>
                          <a:srgbClr val="000000"/>
                        </a:solidFill>
                        <a:latin typeface="Arial"/>
                      </a:endParaRPr>
                    </a:p>
                    <a:p>
                      <a:pPr marL="233280" indent="-233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d to start FAT on release 6.5.x (regression test and SPR Patch 2 Release) on Mar. 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1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3280" indent="-233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FAT testing for MMS4 Patch7 (CIM importer additions based on synchronized model (v1.21 schema) and bug fixes) on Feb. 20</a:t>
                      </a:r>
                      <a:endParaRPr b="0" lang="en-US" sz="1600" spc="-1" strike="noStrike">
                        <a:solidFill>
                          <a:srgbClr val="000000"/>
                        </a:solidFill>
                        <a:latin typeface="Arial"/>
                      </a:endParaRPr>
                    </a:p>
                    <a:p>
                      <a:pPr marL="233280" indent="-233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d to start FAT on MMS5 (last scheduled release of functionality) on Apr. 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33280" indent="-233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d to start FAT on CSI7.0 (COMS integration refactoring with MMS 5) on Mar. 0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Nodal Program Update</a:t>
            </a:r>
          </a:p>
        </p:txBody>
      </p:sp>
      <p:sp>
        <p:nvSpPr>
          <p:cNvPr id="5" name="PlaceHolder 4"/>
          <p:cNvSpPr>
            <a:spLocks noGrp="1"/>
          </p:cNvSpPr>
          <p:nvPr>
            <p:ph type="sldNum" idx="1"/>
          </p:nvPr>
        </p:nvSpPr>
        <p:spPr/>
        <p:txBody>
          <a:bodyPr/>
          <a:p>
            <a:fld id="{4E8A9383-7111-4F5A-AE9D-E74BA0F5D7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dit Points to Address from Utilicast Report 8 – 1</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graphicFrame>
        <p:nvGraphicFramePr>
          <p:cNvPr id="108" name=""/>
          <p:cNvGraphicFramePr/>
          <p:nvPr/>
        </p:nvGraphicFramePr>
        <p:xfrm>
          <a:off x="380880" y="838080"/>
          <a:ext cx="8458200" cy="5288040"/>
        </p:xfrm>
        <a:graphic>
          <a:graphicData uri="http://schemas.openxmlformats.org/drawingml/2006/table">
            <a:tbl>
              <a:tblPr/>
              <a:tblGrid>
                <a:gridCol w="568440"/>
                <a:gridCol w="1955880"/>
                <a:gridCol w="2809800"/>
                <a:gridCol w="1371600"/>
                <a:gridCol w="175248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on Pl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ponsible Manag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rget 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26492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08-01</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The individual project budgets should be challenged in the following areas: </a:t>
                      </a:r>
                      <a:br>
                        <a:rPr sz="1200"/>
                      </a:br>
                      <a:r>
                        <a:rPr b="0" lang="en-US" sz="1200" spc="-1" strike="noStrike">
                          <a:solidFill>
                            <a:srgbClr val="000000"/>
                          </a:solidFill>
                          <a:latin typeface="MS Sans Serif"/>
                        </a:rPr>
                        <a:t>a. Vendor contracts</a:t>
                      </a:r>
                      <a:br>
                        <a:rPr sz="1200"/>
                      </a:br>
                      <a:r>
                        <a:rPr b="0" lang="en-US" sz="1200" spc="-1" strike="noStrike">
                          <a:solidFill>
                            <a:srgbClr val="000000"/>
                          </a:solidFill>
                          <a:latin typeface="MS Sans Serif"/>
                        </a:rPr>
                        <a:t>b. Contract staff</a:t>
                      </a:r>
                      <a:br>
                        <a:rPr sz="1200"/>
                      </a:br>
                      <a:r>
                        <a:rPr b="0" lang="en-US" sz="1200" spc="-1" strike="noStrike">
                          <a:solidFill>
                            <a:srgbClr val="000000"/>
                          </a:solidFill>
                          <a:latin typeface="MS Sans Serif"/>
                        </a:rPr>
                        <a:t>c. Internal staff</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marL="231840" indent="-23184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vendor contracts will be negotiated with the assistance of a 3</a:t>
                      </a:r>
                      <a:r>
                        <a:rPr b="0" lang="en-US" sz="1200" spc="-1" strike="noStrike" baseline="30000">
                          <a:solidFill>
                            <a:srgbClr val="000000"/>
                          </a:solidFill>
                          <a:latin typeface="Arial"/>
                        </a:rPr>
                        <a:t>rd</a:t>
                      </a:r>
                      <a:r>
                        <a:rPr b="0" lang="en-US" sz="1200" spc="-1" strike="noStrike">
                          <a:solidFill>
                            <a:srgbClr val="000000"/>
                          </a:solidFill>
                          <a:latin typeface="Arial"/>
                        </a:rPr>
                        <a:t> party negotiator, to address budget matters as well as others.  3</a:t>
                      </a:r>
                      <a:r>
                        <a:rPr b="0" lang="en-US" sz="1200" spc="-1" strike="noStrike" baseline="30000">
                          <a:solidFill>
                            <a:srgbClr val="000000"/>
                          </a:solidFill>
                          <a:latin typeface="Arial"/>
                        </a:rPr>
                        <a:t>rd</a:t>
                      </a:r>
                      <a:r>
                        <a:rPr b="0" lang="en-US" sz="1200" spc="-1" strike="noStrike">
                          <a:solidFill>
                            <a:srgbClr val="000000"/>
                          </a:solidFill>
                          <a:latin typeface="Arial"/>
                        </a:rPr>
                        <a:t> parties are being interviewed at this time</a:t>
                      </a:r>
                      <a:endParaRPr b="0" lang="en-US" sz="12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  Plans for use of contract staff, as well as the orderly transition to ERCOT teams are being examined, as we refine the schedule and plan for the remainder of the schedul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Pl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marL="228600" indent="-2286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7/09: contract in process for 3</a:t>
                      </a:r>
                      <a:r>
                        <a:rPr b="0" lang="en-US" sz="1200" spc="-1" strike="noStrike" baseline="30000">
                          <a:solidFill>
                            <a:srgbClr val="000000"/>
                          </a:solidFill>
                          <a:latin typeface="Arial"/>
                        </a:rPr>
                        <a:t>rd</a:t>
                      </a:r>
                      <a:r>
                        <a:rPr b="0" lang="en-US" sz="1200" spc="-1" strike="noStrike">
                          <a:solidFill>
                            <a:srgbClr val="000000"/>
                          </a:solidFill>
                          <a:latin typeface="Arial"/>
                        </a:rPr>
                        <a:t> party negotiator; 6/30/09 for contracts to be renegotiated for top 5 vendors</a:t>
                      </a:r>
                      <a:endParaRPr b="0" lang="en-US" sz="1200" spc="-1" strike="noStrike">
                        <a:solidFill>
                          <a:srgbClr val="000000"/>
                        </a:solidFill>
                        <a:latin typeface="Arial"/>
                      </a:endParaRPr>
                    </a:p>
                    <a:p>
                      <a:pPr marL="228600" indent="-2286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schedule is being re-planned incrementally, with full re-plan to be complete in March, 20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2873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08-02</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Given the high risks of the integration phase of the Nodal Program, this area should be reviewed in detail and be the subject of Nodal Oversight Report 9.</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tem is closed. The integration phase of the Nodal Program was made the subject of Nodal Oversight Report Number 9.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Pl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nd verified; 2/2/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08-03</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Scope for the December 2010 release of the Nodal Program should be locked down with any proposed changes subject to a strict change control process.</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tem is closed.  There is now a clear policy supported by the Board of Directors that any change that affects Nodal schedule and budget must by approved by the ERCOT CEO and Board of Directo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Dogget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nd verified; 2/17/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0C19263F-A7E9-4DBA-B4C3-15FBA25A43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dit Points to Address from Utilicast Report 8 – 2</a:t>
            </a:r>
            <a:r>
              <a:rPr b="0" lang="en-US" sz="2000" spc="-1" strike="noStrike">
                <a:solidFill>
                  <a:srgbClr val="ffffff"/>
                </a:solidFill>
                <a:latin typeface="Arial Black"/>
              </a:rPr>
              <a:t> </a:t>
            </a:r>
            <a:r>
              <a:rPr b="0" lang="en-US" sz="1600" spc="-1" strike="noStrike">
                <a:solidFill>
                  <a:srgbClr val="ffffff"/>
                </a:solidFill>
                <a:latin typeface="Arial Black"/>
              </a:rPr>
              <a:t> </a:t>
            </a:r>
            <a:endParaRPr b="0" lang="en-US" sz="1600" spc="-1" strike="noStrike">
              <a:solidFill>
                <a:srgbClr val="ffffff"/>
              </a:solidFill>
              <a:latin typeface="Arial Black"/>
            </a:endParaRPr>
          </a:p>
        </p:txBody>
      </p:sp>
      <p:graphicFrame>
        <p:nvGraphicFramePr>
          <p:cNvPr id="110" name=""/>
          <p:cNvGraphicFramePr/>
          <p:nvPr/>
        </p:nvGraphicFramePr>
        <p:xfrm>
          <a:off x="380880" y="990720"/>
          <a:ext cx="8229600" cy="4984560"/>
        </p:xfrm>
        <a:graphic>
          <a:graphicData uri="http://schemas.openxmlformats.org/drawingml/2006/table">
            <a:tbl>
              <a:tblPr/>
              <a:tblGrid>
                <a:gridCol w="541440"/>
                <a:gridCol w="1862280"/>
                <a:gridCol w="3311280"/>
                <a:gridCol w="1295640"/>
                <a:gridCol w="121896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on Pl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ponsible Manag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rget 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11890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08-04</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No enhancements should be considered for zonal market applications or processes unless assessed as business critical.</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tem is closed. The ERCOT PMO is carefully monitoring Zonal project work, with guidelines in place to avoid use of Nodal resources.  As of 1/30/09, there are no known requirements for use of Nodal resources in the work for 20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Dogget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nd verified; 1/30/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8255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08-05</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There should be immediate investment in new data center capacity to allow for expansion of IT infrastructure to support the Nodal Program.</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760" rIns="6876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A project has been initiated to expand the data center in Taylor (PR-80047).  The planned occupancy date is September 2009.  The plan to add or move hardware is under development.  Additional data center space is planned as part of the Met Center disposition project (PR-80001).  Those data centers should be online in early 2011.  Plans are under development to provide capacity prior to those new data centers becoming availabl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Floy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20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469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08-06</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Given the risks of market readiness and Market Participants potentially delaying  "Go-live" due to ambiguous EDS exit criteria, this area should be subject to a detail review.</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tem is closed. The Special Nodal Program Committee decided the topic for Utilicast Report #10 will be "Infrastructure and Integration Readine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Pl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nd verified; 2/26/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03989F75-983F-49A3-B880-3B8D395975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dit Points to Address from Utilicast Report 9 – 1</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graphicFrame>
        <p:nvGraphicFramePr>
          <p:cNvPr id="112" name=""/>
          <p:cNvGraphicFramePr/>
          <p:nvPr/>
        </p:nvGraphicFramePr>
        <p:xfrm>
          <a:off x="380880" y="990720"/>
          <a:ext cx="8229600" cy="4333680"/>
        </p:xfrm>
        <a:graphic>
          <a:graphicData uri="http://schemas.openxmlformats.org/drawingml/2006/table">
            <a:tbl>
              <a:tblPr/>
              <a:tblGrid>
                <a:gridCol w="541440"/>
                <a:gridCol w="2811600"/>
                <a:gridCol w="2361960"/>
                <a:gridCol w="1295640"/>
                <a:gridCol w="1218960"/>
              </a:tblGrid>
              <a:tr h="672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commend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on Plan Statu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ponsible Manag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rget 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8240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L09-01</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The application project teams should own and be accountable for developing and testing their application interfaces.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wnership has been reassigned and was communicated to the teams on 2/18/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Clark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o be verifi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3716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L09-02</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The scope of system integration testing (end-to-end testing) should be limited to confirming that the individual applications can operate as a single enterprise solution.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to leaders was done on 2/18/09, and they carried the information to their teams that wee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6/09 End to End scenario criteria are under developm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Clark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40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L09-03</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Clearly define and communicate the scope, objectives and expected deliverables of the core system integration components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09  The approach has been communicated. Project Managers are in the re-planning proce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Clark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15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L09-04</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Assign a qualified integration project lead.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tem is closed.  Linda Clarke has been assign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Pl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nd verified; 2/13/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74BAD0D3-3C13-4703-9331-34B1293895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dit Points to Address from Utilicast Report 9 – 2</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graphicFrame>
        <p:nvGraphicFramePr>
          <p:cNvPr id="114" name=""/>
          <p:cNvGraphicFramePr/>
          <p:nvPr/>
        </p:nvGraphicFramePr>
        <p:xfrm>
          <a:off x="380880" y="990720"/>
          <a:ext cx="8229600" cy="5256000"/>
        </p:xfrm>
        <a:graphic>
          <a:graphicData uri="http://schemas.openxmlformats.org/drawingml/2006/table">
            <a:tbl>
              <a:tblPr/>
              <a:tblGrid>
                <a:gridCol w="541440"/>
                <a:gridCol w="2506680"/>
                <a:gridCol w="3048120"/>
                <a:gridCol w="1371600"/>
                <a:gridCol w="761760"/>
              </a:tblGrid>
              <a:tr h="574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commend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on Plan Statu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ponsible Manag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rget 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13716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L09-05</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Appoint qualified leaders with clear ownership of clearly defined deliverables to the key system integration roles.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6/09 – ERCOT has provided offers to potential candidates for 4 of 5 positions. We have commitments for the following positions: Technical Solution Lead, Market Trials Lead, End-to-End Business Scenario Testing Lead. On target to complete offers by mid-Marc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Clark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7398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L09-06</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pdate project plans and budgets based on revised integration scope, objectives, roles and responsibilities.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7/09 Work is in progre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Project Managers and J. Pl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048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L09-07</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Define and implement (in conjunction with the Market Participants) the specification for the volume and content of information transmitted over external web services.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0/09  Action items were assigned to the EIP Project Manager to establish a plan and a specification for content by 3/12/09, in preparation for the next Board of Directors meet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Brandaw</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7/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15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L09-08</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Build and configure a dedicated integration test environment.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7/09  Data has been gathered and a plan is under development for the tasks required to comple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Meine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40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UTIL09-09</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rPr>
                        <a:t>Review access policies and IT controls for non-production environments.</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0/09  Among the plans in the integration test environment preparation is a description of the procedures for handling access and IT control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Meine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DD8001A3-41D9-4517-A56B-C95F015CD4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dal Program Risk: </a:t>
            </a:r>
            <a:br>
              <a:rPr sz="2400"/>
            </a:br>
            <a:r>
              <a:rPr b="0" lang="en-US" sz="2000" spc="-1" strike="noStrike">
                <a:solidFill>
                  <a:srgbClr val="ffffff"/>
                </a:solidFill>
                <a:latin typeface="Arial Black"/>
              </a:rPr>
              <a:t>Integration Testing Strategy Needs Updating</a:t>
            </a:r>
            <a:endParaRPr b="0" lang="en-US" sz="2000" spc="-1" strike="noStrike">
              <a:solidFill>
                <a:srgbClr val="ffffff"/>
              </a:solidFill>
              <a:latin typeface="Arial Black"/>
            </a:endParaRPr>
          </a:p>
        </p:txBody>
      </p:sp>
      <p:graphicFrame>
        <p:nvGraphicFramePr>
          <p:cNvPr id="116" name=""/>
          <p:cNvGraphicFramePr/>
          <p:nvPr/>
        </p:nvGraphicFramePr>
        <p:xfrm>
          <a:off x="304920" y="914400"/>
          <a:ext cx="8458200" cy="4575240"/>
        </p:xfrm>
        <a:graphic>
          <a:graphicData uri="http://schemas.openxmlformats.org/drawingml/2006/table">
            <a:tbl>
              <a:tblPr/>
              <a:tblGrid>
                <a:gridCol w="761760"/>
                <a:gridCol w="838440"/>
                <a:gridCol w="761760"/>
                <a:gridCol w="685800"/>
                <a:gridCol w="1295640"/>
                <a:gridCol w="1295280"/>
                <a:gridCol w="2819520"/>
              </a:tblGrid>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Integration Testing Strategy Needs Updating</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isting integration testing strategy (e.g. planning approach, team structure, methodology) may not be adequate to successfully perform integration.</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n</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9c9c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age</a:t>
                      </a:r>
                      <a:endParaRPr b="0" lang="en-US" sz="11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ch</a:t>
                      </a:r>
                      <a:endParaRPr b="0" lang="en-US" sz="11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82404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dentify leader for the entire Enterprise Verification effort (interface and end-to-end testing, market trials and system cutover)</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Pl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3/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Complete</a:t>
                      </a:r>
                      <a:r>
                        <a:rPr b="0" lang="en-US" sz="1200" spc="-1" strike="noStrike">
                          <a:solidFill>
                            <a:srgbClr val="000000"/>
                          </a:solidFill>
                          <a:latin typeface="Arial"/>
                        </a:rPr>
                        <a:t>; Linda Clarke named as the  Nodal Enterprise Verification Lead</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82404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 high level approach for Enterprise Verificatio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Clark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8/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Complete </a:t>
                      </a:r>
                      <a:r>
                        <a:rPr b="0" lang="en-US" sz="1200" spc="-1" strike="noStrike">
                          <a:solidFill>
                            <a:srgbClr val="000000"/>
                          </a:solidFill>
                          <a:latin typeface="Arial"/>
                        </a:rPr>
                        <a:t> Approach for interface testing rolled-out to PMs, who are updating schedules and moving forward with implementatio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r>
              <a:tr h="15541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view and refine the leadership and staffing levels for Nodal Enterprise Verificatio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Clark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date 2/27/09; updated to 3/15/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6/09 – ERCOT has provided offers to potential candidates for 4 of 5 positions. We have commitments for the following positions: Technical Solution Lead, Market Trials Lead, End-to-End Business Scenario Testing Lead. On target to complete offers by mid-March.</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F283ABFD-0E43-4A8F-993C-900CC544FD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MO Communications</dc:creator>
  <dc:description/>
  <dc:language>en-US</dc:language>
  <cp:lastModifiedBy>amartinez</cp:lastModifiedBy>
  <dcterms:modified xsi:type="dcterms:W3CDTF">2009-02-27T22:45:45Z</dcterms:modified>
  <cp:revision>1275</cp:revision>
  <dc:subject>TAC Presentation 03_05_2009</dc:subject>
  <dc:title>Nodal Program Update</dc:title>
</cp:coreProperties>
</file>