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D942B-F073-4A98-A29A-971E367B8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961C0-D558-4452-8039-C8BEFCA54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D078B-B8AA-4B65-8CA6-6135F499F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885C6-8A78-48C6-BAD4-D331ADC74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11A46-5125-4ABC-9381-97026DD2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DDA75-BAEE-44A7-A671-A9D254AA8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CD109-19EC-4CA7-B5EA-74C581DAA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3D46F-B334-4FD8-B261-2FAF071CD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AA681-5086-4F36-AA10-56DC22F91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416D5-6AC2-418F-B5A9-082C1FED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83D45-B1D2-423F-BD3C-8E77450C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5E7D0-07CF-47BF-963F-C895142C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7764B-8A05-4702-B2BB-EB26CE8FAA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65F0E-5ED0-4365-8227-1903D068B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ongestion Repor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sabel Flor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upervisor, System Performanc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5 March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CPE 2006-2008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280" y="914400"/>
            <a:ext cx="8839440" cy="525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5 March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op Congested Elements - 2008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447920" y="838080"/>
          <a:ext cx="6171840" cy="4952880"/>
        </p:xfrm>
        <a:graphic>
          <a:graphicData uri="http://schemas.openxmlformats.org/drawingml/2006/table">
            <a:tbl>
              <a:tblPr/>
              <a:tblGrid>
                <a:gridCol w="4435200"/>
                <a:gridCol w="1736640"/>
              </a:tblGrid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strop transform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 9,035,741.7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nard transform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 6,742,796.6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ndow-Elgin 138k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 6,542,963.4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cogdoches transform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 4,146,030.2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ig Springs Switch-Big Spring West 138k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 2,638,292.6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dessa North-North Cowden 69k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 2,333,010.9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yne Switch-Alla Hubbard 138k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 1,693,094.9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ndow-Salty 138k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 1,365,960.3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guin-Zorn 138k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 1,288,447.9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herton-North Laredo 138k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    921,611.8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ilene Mulberry Creek East Reactor Series 138k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    891,661.9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n Angelo Red Creek 345/138kV transform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    831,576.2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hens-Elk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    825,309.5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5 March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ojects for Congestion Relief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38240" y="898560"/>
            <a:ext cx="8866080" cy="506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5 March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Background on System Planning Activiti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PG Project Revie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stakeholder can propose project to relieve cong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rojects have been recommended through this mechanis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ve-Year Transmission Pl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empts to forecast congestion for up to five years into the fu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ies transmission projects that satisfy economic criteria to relieve constraints that result in cong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ar Term Studies (New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 recurring congestion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whether projects are already planned to resolve these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interim solutions (projects or operating fix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 forecasting models based on historic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5 March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nter-zonal Congestion Costs 2008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990720" y="5410080"/>
          <a:ext cx="6989760" cy="833400"/>
        </p:xfrm>
        <a:graphic>
          <a:graphicData uri="http://schemas.openxmlformats.org/drawingml/2006/table">
            <a:tbl>
              <a:tblPr/>
              <a:tblGrid>
                <a:gridCol w="1247760"/>
                <a:gridCol w="998280"/>
                <a:gridCol w="998640"/>
                <a:gridCol w="1332000"/>
                <a:gridCol w="1081080"/>
                <a:gridCol w="1332000"/>
              </a:tblGrid>
              <a:tr h="32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on$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_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.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8.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883944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5 March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nter-zonal Congestion Costs 2008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8763120" cy="4496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8" name=""/>
          <p:cNvGraphicFramePr/>
          <p:nvPr/>
        </p:nvGraphicFramePr>
        <p:xfrm>
          <a:off x="1752480" y="5486400"/>
          <a:ext cx="6248520" cy="750960"/>
        </p:xfrm>
        <a:graphic>
          <a:graphicData uri="http://schemas.openxmlformats.org/drawingml/2006/table">
            <a:tbl>
              <a:tblPr/>
              <a:tblGrid>
                <a:gridCol w="1114920"/>
                <a:gridCol w="893160"/>
                <a:gridCol w="893160"/>
                <a:gridCol w="1189800"/>
                <a:gridCol w="966600"/>
                <a:gridCol w="1190880"/>
              </a:tblGrid>
              <a:tr h="25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on$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_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.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8.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5 March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68680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ummary of Zonal Congestion Occurrences - Interval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57200" y="762120"/>
          <a:ext cx="8000640" cy="5394240"/>
        </p:xfrm>
        <a:graphic>
          <a:graphicData uri="http://schemas.openxmlformats.org/drawingml/2006/table">
            <a:tbl>
              <a:tblPr/>
              <a:tblGrid>
                <a:gridCol w="644040"/>
                <a:gridCol w="736200"/>
                <a:gridCol w="736200"/>
                <a:gridCol w="642600"/>
                <a:gridCol w="736200"/>
                <a:gridCol w="738000"/>
                <a:gridCol w="734760"/>
                <a:gridCol w="736560"/>
                <a:gridCol w="898200"/>
                <a:gridCol w="664920"/>
                <a:gridCol w="732960"/>
              </a:tblGrid>
              <a:tr h="31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_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 tot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9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0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9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ot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8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4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0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5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2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3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5 March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68680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ummary of Zonal Congestion Occurrences - Day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04920" y="914400"/>
          <a:ext cx="8381880" cy="4927680"/>
        </p:xfrm>
        <a:graphic>
          <a:graphicData uri="http://schemas.openxmlformats.org/drawingml/2006/table">
            <a:tbl>
              <a:tblPr/>
              <a:tblGrid>
                <a:gridCol w="685800"/>
                <a:gridCol w="762120"/>
                <a:gridCol w="761760"/>
                <a:gridCol w="838440"/>
                <a:gridCol w="761760"/>
                <a:gridCol w="762120"/>
                <a:gridCol w="762120"/>
                <a:gridCol w="838080"/>
                <a:gridCol w="838080"/>
                <a:gridCol w="609840"/>
                <a:gridCol w="761760"/>
              </a:tblGrid>
              <a:tr h="31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_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5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7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 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008 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5 March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Background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 trend of local congestion costs for 200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ts shown in mill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O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OM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BE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OM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BE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P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CPE trend for 2006-200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-zonal cos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5 March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OMC 2008 - $M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80880" y="5334120"/>
          <a:ext cx="8153640" cy="874440"/>
        </p:xfrm>
        <a:graphic>
          <a:graphicData uri="http://schemas.openxmlformats.org/drawingml/2006/table">
            <a:tbl>
              <a:tblPr/>
              <a:tblGrid>
                <a:gridCol w="838440"/>
                <a:gridCol w="1752480"/>
                <a:gridCol w="1981080"/>
                <a:gridCol w="1676520"/>
                <a:gridCol w="1905120"/>
              </a:tblGrid>
              <a:tr h="30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on$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8763120" cy="439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5 March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OOM Down 2008 - $M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57200" y="5334120"/>
          <a:ext cx="8229600" cy="819000"/>
        </p:xfrm>
        <a:graphic>
          <a:graphicData uri="http://schemas.openxmlformats.org/drawingml/2006/table">
            <a:tbl>
              <a:tblPr/>
              <a:tblGrid>
                <a:gridCol w="846000"/>
                <a:gridCol w="1768680"/>
                <a:gridCol w="2000160"/>
                <a:gridCol w="1692360"/>
                <a:gridCol w="19224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on$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8839440" cy="4484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5 March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Balancing Energy Down 2008 - $M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57200" y="5181480"/>
          <a:ext cx="8229600" cy="881280"/>
        </p:xfrm>
        <a:graphic>
          <a:graphicData uri="http://schemas.openxmlformats.org/drawingml/2006/table">
            <a:tbl>
              <a:tblPr/>
              <a:tblGrid>
                <a:gridCol w="846000"/>
                <a:gridCol w="1768680"/>
                <a:gridCol w="2000160"/>
                <a:gridCol w="1692360"/>
                <a:gridCol w="1922400"/>
              </a:tblGrid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on$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8763120" cy="419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5 March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OOM Up 2008 - $M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5105520"/>
          <a:ext cx="8229600" cy="957240"/>
        </p:xfrm>
        <a:graphic>
          <a:graphicData uri="http://schemas.openxmlformats.org/drawingml/2006/table">
            <a:tbl>
              <a:tblPr/>
              <a:tblGrid>
                <a:gridCol w="846000"/>
                <a:gridCol w="1768680"/>
                <a:gridCol w="2000160"/>
                <a:gridCol w="1692360"/>
                <a:gridCol w="1922400"/>
              </a:tblGrid>
              <a:tr h="31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on$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868680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5 March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Balancing Energy Up 2008 - $M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80880" y="5181480"/>
          <a:ext cx="8229600" cy="919440"/>
        </p:xfrm>
        <a:graphic>
          <a:graphicData uri="http://schemas.openxmlformats.org/drawingml/2006/table">
            <a:tbl>
              <a:tblPr/>
              <a:tblGrid>
                <a:gridCol w="846360"/>
                <a:gridCol w="1768320"/>
                <a:gridCol w="2000160"/>
                <a:gridCol w="1692360"/>
                <a:gridCol w="1922400"/>
              </a:tblGrid>
              <a:tr h="32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on$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8763120" cy="431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5 March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Local Congestion Costs 2001-2008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762120" y="5334120"/>
          <a:ext cx="7238880" cy="833400"/>
        </p:xfrm>
        <a:graphic>
          <a:graphicData uri="http://schemas.openxmlformats.org/drawingml/2006/table">
            <a:tbl>
              <a:tblPr/>
              <a:tblGrid>
                <a:gridCol w="1247760"/>
                <a:gridCol w="998280"/>
                <a:gridCol w="1332000"/>
                <a:gridCol w="1081080"/>
                <a:gridCol w="1332000"/>
                <a:gridCol w="1247760"/>
              </a:tblGrid>
              <a:tr h="32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on$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OM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BED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BE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OM Dow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OM 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.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8839440" cy="4470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5 March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placement Reserve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52280" y="5715000"/>
          <a:ext cx="8763120" cy="485640"/>
        </p:xfrm>
        <a:graphic>
          <a:graphicData uri="http://schemas.openxmlformats.org/drawingml/2006/table">
            <a:tbl>
              <a:tblPr/>
              <a:tblGrid>
                <a:gridCol w="846360"/>
                <a:gridCol w="525240"/>
                <a:gridCol w="609840"/>
                <a:gridCol w="761760"/>
                <a:gridCol w="609840"/>
                <a:gridCol w="685800"/>
                <a:gridCol w="685800"/>
                <a:gridCol w="685800"/>
                <a:gridCol w="738000"/>
                <a:gridCol w="614520"/>
                <a:gridCol w="538200"/>
                <a:gridCol w="768240"/>
                <a:gridCol w="69372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ousand$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.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0.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2.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8.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25.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76.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7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0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8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7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8839440" cy="441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5 March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Dan Woodfin</cp:lastModifiedBy>
  <dcterms:modified xsi:type="dcterms:W3CDTF">2009-02-27T16:29:31Z</dcterms:modified>
  <cp:revision>55</cp:revision>
  <dc:subject/>
  <dc:title>Instructions</dc:title>
</cp:coreProperties>
</file>