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87FC-A730-46D4-94DF-756A7C7C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7824-E913-426D-B92C-4CC706D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91CE-2FA9-4F5A-8358-3A970CCC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32CD-68C8-4E4B-A849-FD82F2BA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CFFD-BDA7-4A23-B025-436B121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2CBA-175A-48CF-AEAE-2412C7F9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F5BA-DC86-4AD8-8B9C-0963CF8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6102-6FCC-4B07-BE7F-C4FE0B2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5CA2-97AB-42C6-A61A-828961E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06C-800D-4060-A982-C368F3C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CA77-1D27-438B-9034-222CD73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0748-9CC5-4766-82D1-A08474D2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7D8-A130-4319-A628-3DDF82C09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EA6C-FC61-4F05-AC83-5696732A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tting to Know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stem Plann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935520" y="1792440"/>
            <a:ext cx="1189080" cy="55692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n Wood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irecto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00640" y="3693960"/>
            <a:ext cx="1189080" cy="55728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T and Special 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43040" y="3695760"/>
            <a:ext cx="1189080" cy="55728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abel Flo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21320" y="3693960"/>
            <a:ext cx="1189080" cy="55728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5320" y="2835360"/>
            <a:ext cx="118908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rren La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. Assess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27440" y="2835360"/>
            <a:ext cx="118908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y Teixei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gional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05360" y="3695760"/>
            <a:ext cx="1189080" cy="55728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se Co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liability Assm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4200" y="3695760"/>
            <a:ext cx="1189080" cy="55728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ff Bil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1440" y="2835360"/>
            <a:ext cx="118908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ug Ev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nn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3" idx="2"/>
            <a:endCxn id="101" idx="0"/>
          </p:cNvCxnSpPr>
          <p:nvPr/>
        </p:nvCxnSpPr>
        <p:spPr>
          <a:xfrm rot="5400000">
            <a:off x="2454840" y="760320"/>
            <a:ext cx="486720" cy="366444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3" idx="2"/>
            <a:endCxn id="98" idx="0"/>
          </p:cNvCxnSpPr>
          <p:nvPr/>
        </p:nvCxnSpPr>
        <p:spPr>
          <a:xfrm rot="5400000">
            <a:off x="3732840" y="2038320"/>
            <a:ext cx="486720" cy="110880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3" idx="2"/>
            <a:endCxn id="97" idx="0"/>
          </p:cNvCxnSpPr>
          <p:nvPr/>
        </p:nvCxnSpPr>
        <p:spPr>
          <a:xfrm flipH="1" rot="16200000">
            <a:off x="4972680" y="1906920"/>
            <a:ext cx="486720" cy="137088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7639200" y="2835360"/>
            <a:ext cx="1188720" cy="59364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y McC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gulatory Support and 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857160"/>
            <a:ext cx="1311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nt Saath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ice Presiden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Planning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3" idx="2"/>
            <a:endCxn id="105" idx="0"/>
          </p:cNvCxnSpPr>
          <p:nvPr/>
        </p:nvCxnSpPr>
        <p:spPr>
          <a:xfrm flipH="1" rot="16200000">
            <a:off x="6139440" y="740160"/>
            <a:ext cx="486720" cy="370440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119160" y="3451320"/>
            <a:ext cx="1635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SWG/SPWG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ology Processing and Model On Demand (Nod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P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ning Web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MCR verification (fu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38320" y="4375080"/>
            <a:ext cx="142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Year Plan Develop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PG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ration Interconn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4375080"/>
            <a:ext cx="1424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DR and related data and fil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seasonal and LT NERC assess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annual planning reports (“Constraints and Needs”, etc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TSA (gener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95880" y="4375080"/>
            <a:ext cx="142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TSA (transmission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cial and Interregional 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Z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43040" y="4375080"/>
            <a:ext cx="1424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ual congestion analysis and near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A congestion fc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ual vs modeled congestion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S and RMR 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05360" y="4375080"/>
            <a:ext cx="14238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ynamic Analy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WG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RC planning compliance stud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3000" y="3473280"/>
            <a:ext cx="14875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RC Compliance activities for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rgy Lab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7280" y="1792440"/>
            <a:ext cx="1189080" cy="556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John Ada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Directo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Gri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1280" y="1792440"/>
            <a:ext cx="1188720" cy="556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Colleen Fros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Manag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System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2"/>
            <a:endCxn id="115" idx="0"/>
          </p:cNvCxnSpPr>
          <p:nvPr/>
        </p:nvCxnSpPr>
        <p:spPr>
          <a:xfrm rot="5400000">
            <a:off x="6591240" y="1645200"/>
            <a:ext cx="288360" cy="6840"/>
          </a:xfrm>
          <a:prstGeom prst="bentConnector3">
            <a:avLst>
              <a:gd name="adj1" fmla="val 49625"/>
            </a:avLst>
          </a:prstGeom>
          <a:ln w="9360">
            <a:solidFill>
              <a:srgbClr val="c0c0c0"/>
            </a:solidFill>
            <a:miter/>
          </a:ln>
        </p:spPr>
      </p:cxnSp>
      <p:cxnSp>
        <p:nvCxnSpPr>
          <p:cNvPr id="118" name=""/>
          <p:cNvCxnSpPr>
            <a:stCxn id="106" idx="2"/>
            <a:endCxn id="116" idx="0"/>
          </p:cNvCxnSpPr>
          <p:nvPr/>
        </p:nvCxnSpPr>
        <p:spPr>
          <a:xfrm flipH="1" rot="16200000">
            <a:off x="7338600" y="904320"/>
            <a:ext cx="288360" cy="1488240"/>
          </a:xfrm>
          <a:prstGeom prst="bentConnector3">
            <a:avLst>
              <a:gd name="adj1" fmla="val 49625"/>
            </a:avLst>
          </a:prstGeom>
          <a:ln w="9360">
            <a:solidFill>
              <a:srgbClr val="c0c0c0"/>
            </a:solidFill>
            <a:miter/>
          </a:ln>
        </p:spPr>
      </p:cxnSp>
      <p:cxnSp>
        <p:nvCxnSpPr>
          <p:cNvPr id="119" name=""/>
          <p:cNvCxnSpPr>
            <a:stCxn id="106" idx="2"/>
            <a:endCxn id="93" idx="0"/>
          </p:cNvCxnSpPr>
          <p:nvPr/>
        </p:nvCxnSpPr>
        <p:spPr>
          <a:xfrm rot="5400000">
            <a:off x="5490360" y="544320"/>
            <a:ext cx="288360" cy="220896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98" idx="2"/>
            <a:endCxn id="95" idx="0"/>
          </p:cNvCxnSpPr>
          <p:nvPr/>
        </p:nvCxnSpPr>
        <p:spPr>
          <a:xfrm rot="5400000">
            <a:off x="2680560" y="2954160"/>
            <a:ext cx="299160" cy="1184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98" idx="2"/>
            <a:endCxn id="100" idx="0"/>
          </p:cNvCxnSpPr>
          <p:nvPr/>
        </p:nvCxnSpPr>
        <p:spPr>
          <a:xfrm rot="5400000">
            <a:off x="3271320" y="3544920"/>
            <a:ext cx="29916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98" idx="2"/>
            <a:endCxn id="99" idx="0"/>
          </p:cNvCxnSpPr>
          <p:nvPr/>
        </p:nvCxnSpPr>
        <p:spPr>
          <a:xfrm flipH="1" rot="16200000">
            <a:off x="3862080" y="2957040"/>
            <a:ext cx="299160" cy="117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7" idx="2"/>
            <a:endCxn id="94" idx="0"/>
          </p:cNvCxnSpPr>
          <p:nvPr/>
        </p:nvCxnSpPr>
        <p:spPr>
          <a:xfrm rot="5400000">
            <a:off x="5749200" y="3543120"/>
            <a:ext cx="297360" cy="540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97" idx="2"/>
            <a:endCxn id="96" idx="0"/>
          </p:cNvCxnSpPr>
          <p:nvPr/>
        </p:nvCxnSpPr>
        <p:spPr>
          <a:xfrm flipH="1" rot="16200000">
            <a:off x="6310440" y="2987280"/>
            <a:ext cx="297360" cy="111672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8209080" y="1638360"/>
            <a:ext cx="5331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2-27T18:44:32Z</dcterms:modified>
  <cp:revision>71</cp:revision>
  <dc:subject/>
  <dc:title>Instructions</dc:title>
</cp:coreProperties>
</file>