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A229-D7AE-4C2F-90C8-051607FC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91A41-68BB-438D-9A29-8ABF852E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51B3-B01C-4EAF-BA87-54FD9C70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081A-C7AC-4D5A-B736-76B2B0A1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E1F25-9CCA-4E82-95FF-14D8E3C6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9BFD-BFF3-4DBC-9660-F9DDBEB1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C01C-0671-49FE-9B8E-C450D21C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6F90-9EFA-4A18-9E04-0FE8970B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8384-03F9-40A5-ADFC-5407501D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301E-BA26-4436-9F6F-F326A51C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D6E5-FF18-4933-9CC6-252EE5CC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53B1-CD29-4174-9580-60A5CED3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F0FF-1E05-49AC-A86F-ADE72F726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535B-C40F-4519-9454-2D1475D8D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manded RPG Charter Issue: RPG Review of Generation Interconnection Facilities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an Woodfi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irector, System Plan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3/0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PG Charter, as endorsed by TAC, was considered by Board at January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C voiced concerns about exemption from RPG review of high-cost lines to connect generation, citing example of Kelson CC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ard approved RPG Charter with revised language that removed exemption from RPG Review for generation interconnection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nded this issue back to TAC for further discussion and 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PG discussed this topic at 2/13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unable to come to consensus on approach to recommend to TAC and seemed unlikely to be able to do so even with more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3/0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oard Languag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153280" cy="961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14400" y="2103480"/>
            <a:ext cx="6934320" cy="413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3/0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Statu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pproved language of the Charter requires generation interconnection projects costing more than $15 million or requiring CCNs to be reviewed by RPG (including ERCOT Independent Review and Board approval as appropria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ability impacts and requirements for these projects are already studied through generation interconnection stud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evaluation in RPG/ERCOT Independent Review would consist of stakeholder comment and economic evalu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evaluation for these projects will essentially be estimating the value of the generation to the market, net of the cost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3/0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tions Discussed at 2/13 RPG Mee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t to TAC-endorsed Charter Language (exempt direct connection facilities from RPG Review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CT Sub. Rule 25.191 (d)(3) “A TSP shall interconnect its facilities with new generating sources and construct facilities needed for such an interconnec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ft language to exempt generation interconnection projects except those that meet certain criteria that would not conflict with PUCT Rule.  Examples discuss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generators that are already interconnected and are seeking to modify their inter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or future generators that are “outside ERCOT” (definition needed) or that can switch Power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ve Charter language as approved by Board (RPG Review for interconnections cost &gt;$15M or requiring CC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the projects are not economic – can we “say no” to interconne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3/0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ther Considerations Discussed by RP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ssion Staff testimony in Kelson CCN docket expressed need for ERCOT review on these types of CC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to preserve non-discriminatory transmission access in whatever process is adop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 for RPG review to delay interconnection 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priateness of ERCOT ro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3/0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236232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3/0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Dan Woodfin</cp:lastModifiedBy>
  <dcterms:modified xsi:type="dcterms:W3CDTF">2009-02-27T15:33:44Z</dcterms:modified>
  <cp:revision>101</cp:revision>
  <dc:subject/>
  <dc:title>Instructions</dc:title>
</cp:coreProperties>
</file>