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95A-F2B9-47BB-8D36-813F45C0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AC2-57C9-437B-A2BD-26B62585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C9E-2CD8-48C1-ADD3-365B8A1C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1BC-1970-4649-AEE9-49CAE8E0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A2B3-C55B-4B5E-81DA-1EFFCAFF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370E-0940-4E3F-B060-177C7008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4FDE-5CBF-4E2D-8995-ACF990D1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951A-E435-4F16-8FD2-DE31945A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5756-3CA0-4A59-81CE-E97FBA31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3702-B0BC-4959-91DD-A90B741C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16DD-1C7E-4E4E-9B49-38885E05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52B-9119-4F03-B31B-EA113232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5683-0FB1-4406-A77C-99A0A189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B076-D778-438D-AB36-C9E3BEE1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93E1-8C5C-406C-942E-9AF8C6B6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6F1B-D26D-4E5E-BF2F-CD05FDED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37AA-07EA-43E4-9D0B-C0053671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230-8EA5-4181-9E31-66E11FE7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163B-E3B4-488B-8A77-9C805086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18A-FA4D-4CF0-B2BD-A9EC6C07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8F2-759D-4296-B15A-1722B8A3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A12E-1DEB-4965-9BCE-A1EA947A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0C59-C71F-4628-8B7C-4194A348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C8C5-3459-4FA3-BD87-86D12809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D989-7E6E-49C9-8D50-F7D88251D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0289-3DDA-4854-B9CB-D5CCE785DE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rcot.com/services/sla/" TargetMode="External"/><Relationship Id="rId3" Type="http://schemas.openxmlformats.org/officeDocument/2006/relationships/hyperlink" Target="http://www.ercot.com/services/sla/" TargetMode="External"/><Relationship Id="rId4" Type="http://schemas.openxmlformats.org/officeDocument/2006/relationships/hyperlink" Target="http://www.ercot.com/services/sla/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762120" y="914400"/>
            <a:ext cx="784836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ub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Update to TAC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March 5, 200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Feb 10</a:t>
            </a:r>
            <a:r>
              <a:rPr b="0" lang="en-US" sz="40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ndorsed Working Group Lead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ir: Michelle Trenary, Tenaska P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C: Phyllis Castillo, Reliant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W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ir: Jim Galvin, Lumin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C: Heddie Lookadoo, NR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DA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ir: Heather Boisseau, LC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ce Chair: Jack Brown, Garland Power &amp; L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ir: Ernie Podraza, Direct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ce Chair: Kyle Miller, CenterPoint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Approved 2009 WG Goals (PWG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 2008 UFE 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9 Annual Valid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PGRR language Chapter 15 for consistency with PUCT Load Research R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 Weather Sensitivity Corre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 Proxy Day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with SEWG to evaluate Hurricane Ike affect on settlement for possible improv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R Analysis – 2 issues outstanding from original 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 profile models using Round 2 load research data, review if having more weather stations adds accuracy, and review if the weighting of weather stations is appropri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 Business Profile ID assignment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evaluate distribution loss methodology due to advanced me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te the methodology for profile scaling factors (per UFETF Nov. 16, 20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Long Term Strategy of Load Profiles including refreshed time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mand Response LPG or PRR language change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Approved 2009 WG 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CW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date the COPMG and incorporate Nodal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st ERCOT in review of the ERCOT.com website recommendations for improvement received throughout the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on-going review of ERCOT Market Not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WG/SDAW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dal COMS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dal Readiness communication and tracking for commercial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S Settlement Testing for Nod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mitting NPRRs and PRRs as needed focus on Data Extract, Report Timeliness and other Settlement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ing and reporting on Data Extract and Report Issues in Current Mar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 with PWG to studying impacts of Hurricane Ike and UFE on Sett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CCWG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COPMGRR 009 – Planned Scheduled Release and Planned Maintenance Outage 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come to COPS next month for appro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COPMGRR 010 – Section 12, Renewable Energy Cred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come to COPS next month for appro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COPMG Section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tion 8, Settlement Statement and Det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tion 11, Disputes and Data Extract Vari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tion 5, Commercial Systems Model and Section 12, Congestion Review R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DEWG / SDAWG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Extract Report and Incident Log stored at the following URL: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Times New Roman"/>
                <a:hlinkClick r:id="rId3"/>
              </a:rPr>
              <a:t>www.ercot.com/services/sla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Times New Roman"/>
                <a:hlinkClick r:id="rId4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SzPct val="10972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Report and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Extract issues since January on the declin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SzPct val="10972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Began discussions with ERCOT staff on the impacts of Hurricane Ike and UF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SzPct val="10972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UFE settlement over the periods of Sep - Nov 2008 created swings in UFE that caused significant cash flow settlement challenges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SzPct val="10972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ill continue to follow the development and testing processes for Nodal CO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PWG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6108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ed load research sample replacement procedures for a premise that changes to an Advanced 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COT shall accept the 15 minute data by the advanced 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tative Round 2 load research data collection ends on Dec 31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New Working Group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al of new a Working Group, called Settlement and Extracts Working Group (SEW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ponsible for ensuring COPS involvement in extracts, data delivery, data presentation and reports for financial settlement and data aggregation processe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WG will focus on aiding ERCOT and Market Participants in reviewing financial settlement and data aggregation system design and operations; providing a forum to discuss issues addressing settlements; and reviewing the details and requirements of data extracts and repor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ired SDAWG and DEWG, as SEWG will re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hort Pay &amp; Uplift Update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$4.7m in short pay after collateral appl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COT approached process differently in an attempt to ease administrative aspect for QSEs and provide an easier audit t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nal reconciliation rather than weekly small trans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 QSEs end up in the same place under either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 for final reconcil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the short payments in June/July, defaulting entities were due credits from Finals &amp; True 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RCOT held these pay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 the last 6-7 months, QSEs received late fee (interest) cred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cellaneous Debit will be used to recover $200k in late f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rt paid QSEs  get money back, but not late fees (intere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 QSEs uplifted short pay, including late payment 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Chuck Moore</cp:lastModifiedBy>
  <dcterms:modified xsi:type="dcterms:W3CDTF">2009-02-27T14:21:58Z</dcterms:modified>
  <cp:revision>5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02888058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COPS Presentation for TAC</vt:lpwstr>
  </property>
  <property fmtid="{D5CDD505-2E9C-101B-9397-08002B2CF9AE}" pid="6" name="_NewReviewCycle">
    <vt:lpwstr/>
  </property>
</Properties>
</file>