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3E40-1F90-4403-8B2E-2DF65FD6F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76C-8A69-4394-8418-97E80AEC7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DFD-B462-4310-8DD1-A8E60A3F0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A9F0-31E7-452A-8310-BD536E217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BE1-7106-4008-A85D-07DBFF674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C01-D928-41BE-B0C3-5F95B4661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D2C-A5AE-4BFD-8CC2-57BA9D35E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6D3-FC43-4133-87D2-7D355FC3B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E36-7216-434F-BB31-FBA214343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524-ACF2-4925-87BD-F45AC9C8F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A88-1A28-44E7-8B1D-C251EF3B5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BC7-1A0D-49AB-A1F0-191589608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AC96-1987-47BF-B97B-8E06A5C26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FCD-47F4-4E0E-99DB-9FCB3C8B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49B-C8D9-4608-A6F8-F417402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3201-C41D-467E-AA0C-DE7B6D3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C2B3C-A343-4639-81A4-93D23905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5354D-A906-490A-8C0A-4867765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42D5-5E2E-4D54-94C1-ACE4A85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33F3F-73A9-4DDF-BE42-DB75900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E5422-3AEB-4473-9E36-9D8DE04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CE482-AE49-4748-9054-8603003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536B3-C776-4C95-8F2C-FE849988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5C0F9-9C1A-4040-9F28-E44FFEBB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9DD14-9AD0-45D2-B214-B3054ABB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A96-C61C-4014-B39C-24775C57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566B5-529F-4306-A15C-867DCE4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543E2-9B41-4C62-8655-8E4E5056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E7E2C-73A5-4D00-AF57-9DAAC41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E6ED3-CD05-44F4-998C-4ACB1EE7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C8E13-65BC-452D-9E04-A93C282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B7953-1296-4E65-9C82-9FA1C9A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70B46-F09C-4AE0-A71E-A7577D7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15372-12D4-4BB4-8DB5-DD7869F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8D6E1-0089-4C70-94DD-34ED9613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B43C9-F6B4-4963-8123-81CC3719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FA7-027C-429A-987F-2EC93B2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9065-EDBE-466E-A138-2EE328D4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C80F-8E31-4785-9EA8-5E54862F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68C95-36A7-4809-A1BF-8F69969F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AECC-DECE-412E-931D-EB2AC1FA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1BDB-90E4-4CB1-BC9E-6C943C21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3D91-56D5-4641-9E38-D20B6A2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9164-0FFC-42B2-8F4F-B44D8EC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F688-B3A8-404A-87EC-0DEBDDB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78B1-F5C3-435B-B87C-460427A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4BF3D-27E3-4307-A22F-C6CC531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BD6A-907E-4F3C-AAC1-268F56CF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48C60-25B2-4AEC-8F1B-A3B9F7E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22AAF-9510-4F19-980B-69371596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23081-58B6-46F1-B1EC-BFDCAEC0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5853A-D7D9-4F8A-8446-966EF323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027D0-210B-4515-97BD-ECF03A4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67C66-36F7-4604-8359-A18DFF9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0349A-B8DA-4E42-9E79-2AD4E2F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81808-43DC-42E7-A683-DC1F7BD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FD85E-3505-497D-AA7A-A85D90C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CD006-5B9F-42C5-893E-4595AA4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0A8C-080A-4D39-BCFE-2A6ECBB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A75B1-FFA4-4A68-977E-A659D8C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BB376-7B01-4CF4-AD65-AF7C8F5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14FA4-1181-4774-B9A1-21DA1E2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76071-9401-4D15-8245-6E00BB56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892A-5062-4C77-9AD5-90BDC455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D297-7669-4F9C-8E65-5802988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E41C-B743-4AF2-AA1C-EEA4593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D8AF-8428-4621-BB02-EFDCFEC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8DF-B42D-4110-99E3-E67A3EB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9D6D-A430-4F09-B2F3-750F987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AE5-1BC4-4C3F-9D11-D3ECA37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A72-1AD4-48A4-BAAF-00E6FA4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4EB-587B-4908-B866-F05F724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7AD9-3366-4382-882B-59858EC8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5A93-2C08-4F07-A152-2F6961D6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8DE-A631-4980-8DB7-0FB3187D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0A97-B1E2-4B9A-AD79-4EF8B995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6D7C-5536-4937-8118-29FA4FED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BC5A-5C9D-42C1-808D-9ECC58C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DBC6-0E5C-41F5-83CA-E868C43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8553-9C5B-4AC3-864A-F09115E9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734-F848-4DAE-93B0-C38582F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F604-D601-4E2D-A618-9B30B257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996E-C8BC-4BE6-9874-A4A9636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3764-BEEC-443F-8E17-07A8FE5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225B-F7FA-4698-9ABE-4BF6640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4193-8465-4D6F-937A-E2B7D95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AA8E-65D7-470F-A12E-71939723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1737-87C3-4259-9150-E8F06335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0B65-212E-49FB-9E59-8414B843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79F0-6746-4B75-A2FC-7BE152B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5A0B-DE9F-4FCA-8D4B-D96A88E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E31-2049-400B-8755-DAE2385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B3DB-6A09-44C7-A499-F874791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9BC7-F291-4FD6-80BE-A8306AB5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7DF0-2055-4646-92FB-88F32D0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0F72-A9AD-4C8F-A8C3-1D11B04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0B0A-BCE2-40D5-B9D4-C9063BF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034F-FA04-4918-8B51-F9D467D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0EE3-FD28-488B-B02D-8F90DFD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41BD-BD5D-4862-9AB4-3E55925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09EA-A5B1-4E4E-AE44-DBC3CCE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5AAC-A8DE-4FCA-AE2D-026EB416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AEF-40F3-451E-ADD1-74484711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3EC46-C943-4997-8214-5E0CB37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0D3A-F067-4CD9-BAD5-43C4DB49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5CF6-FA9A-4923-BB04-2846FA8F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6C2F-BB10-4142-B512-F140F39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7027-60D6-4C9E-A2A5-F85C486A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739E-4E69-47DA-8F56-FA22123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DD39-565D-4268-B012-D39B9ED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8613-5995-492C-AB53-8B5A97B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6C33-E302-4390-AC22-3ACF79FB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4B51-C17F-4CC5-9B13-C48EB143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D10-5AC4-46F7-A847-D94BFF9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DADE-99CD-4C53-87E0-8C58BCAC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BD11B-7B8C-48E8-A2E4-6642347A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72C9B-4495-470D-B908-EA22C7F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C98FD-8245-4BFF-91BA-0C6361E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B067F-F2D0-421A-A8A7-585F0FA0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569B9-EBB8-4A40-B62F-88862828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5D94C-164E-4C48-94B2-8F49AC4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03A97-81FD-4E7F-8CE4-1D16BA0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DB058-9314-4139-A33B-7C21BA4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F152D-07C5-4C11-A69F-9A7126A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D81-1B1C-437C-B8CC-F4A8DCE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EC251-5A57-4A63-AFD4-6EDB1E7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1DA0C-4CBB-46C7-B543-A4C08FF8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737F3-0FC3-43AC-BCAC-CDAC452B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ACFD-F08D-456B-9826-0AFF1546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EF23-8751-4D2F-9C36-606412B2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2FF9-039D-46D8-B398-610BEFF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758CE-9554-46FF-9A1D-DF5D30A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B1F9-0D5C-4C8E-B2B9-A0F3F637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858A7-5436-4698-A46A-2EBC6DB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2557-473E-4FF9-887F-5B0D5D7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A6A-E395-4841-8AEA-0E6672D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0FB3-3224-4822-86ED-A7B5A39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6E85-A3E4-4A4C-8CD2-C0238EE0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9F2D-54CF-4DC5-8394-C9F928AB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9BE9-FE42-4FC9-B929-C8D87F57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06B9-304C-4441-93BB-AB77843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057F-359A-4ACB-ADA2-659D6381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1535E-682A-4CD3-A51D-B662BDEE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E091D-B1AA-4F60-B89D-3FC1C8A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37A1-F972-41A5-AAB2-00A6F30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3AB9-75BB-483A-8EEA-2388F756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345-291E-42C3-A3E1-DB51773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FF89-E329-4705-BE9D-0A327B0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1E3C4-2B67-4164-8A26-1443BB8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12AB-24F8-4CD8-9DF6-7D0B397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B475-EA3A-47EB-9F81-48D5283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5EBF-B1DC-4E28-8400-7B925F03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3AAB-A2DB-4CFD-B5A2-270D859B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17A8-9815-490D-B421-9BE892B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1D0B7-E339-4699-9043-7A896DF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6BDDE-3523-4A85-91E7-B195165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B23C1-74B7-4DD8-BAC9-0712AB33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79D5-DD4A-4D57-8AC1-5B408280C69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F72C-2303-44EE-ADAD-27D4A29E683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1F8-0213-40D6-A165-4AE21D42E00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F662-5A5A-48B0-9B06-4843E8F75DB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2CF-DC8E-4053-B2EB-33898522B96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98D7-3AFE-42E8-8CCD-3DDCE994569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D9AE-F739-45F8-887D-F275E5CC835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C3A-9B9B-4AED-B238-2AA0C9EFF3B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783-0432-49AE-9DFD-1C173BA384B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D4D-65D7-4D6D-A674-899D29C35DB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261-CED2-473F-839F-F7017560AD9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D70-32EA-4DA7-817D-1CC5B1234F5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402-E4FC-4A69-9A98-01A73F935AB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CC6-D418-4D27-BC1C-E49D3FCF0C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66C-87B5-4139-8043-314F5DF4A0A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62B4-C282-44DD-807E-400948AF19C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1528-92A3-424C-9ADA-79C6A5838C1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FD18-BB97-46D6-B50B-660DC8B8801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62B-D982-4B40-9AFB-574660BDCA7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7D17-8008-4BB6-9B98-FF6AE614984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3DF-7C27-4FEC-B287-1165DA62D6B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7B3-D97C-4031-B8CE-993CB9D06B9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21F-FF36-4D96-AC14-37002974DF3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73D8-0D3E-4D1D-ADDE-CB3D5474622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4582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ck-cast of 2008 Shortage Intervals to estimate PRR 776 &amp; 791 Impac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arry Gurle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RR 776 Discussion Grou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AC Meeting March 5, 200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hortage Where No NSRS Procured or Procured and Deploy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94B-0487-47BD-9C22-A74CCD1794E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09480" y="2286000"/>
          <a:ext cx="7391520" cy="4416480"/>
        </p:xfrm>
        <a:graphic>
          <a:graphicData uri="http://schemas.openxmlformats.org/drawingml/2006/table">
            <a:tbl>
              <a:tblPr/>
              <a:tblGrid>
                <a:gridCol w="1055880"/>
                <a:gridCol w="1055520"/>
                <a:gridCol w="1055880"/>
                <a:gridCol w="1057320"/>
                <a:gridCol w="1055520"/>
                <a:gridCol w="1055880"/>
                <a:gridCol w="1055520"/>
              </a:tblGrid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RS Schedu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RS De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fall (M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age after 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MC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lculated MC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6/08 19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9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9/08 17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8 1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92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8 13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8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8 14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3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8 16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3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62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8 16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3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8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8/08 15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8/08 15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4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/08 7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9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/08 1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/08 17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/08 18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3.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5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6/08 8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2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6/08 9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8.8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9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/08 18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9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/08 18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9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/08 19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9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4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008 Shortage Intervals Impacted by PRR 791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RS procured and fully deployed 9 shortage interv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RS procured and partially deployed such that amount of quick start not available in 4 interv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R 791 shortage pricing would have triggered on 13 shortage intervals in 2008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13 intervals PRR 791 would have increased the cost to the market $203 million or $0.65/MW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459-647A-4D9C-BE31-915E173D661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008 Shortage intervals mitigated by PRR 776 and not triggering 79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DBD0-39DD-4C30-96DC-F867B2CDA7A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914400" y="2286000"/>
          <a:ext cx="6172200" cy="314496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</a:tblGrid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RS Schedu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RS D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fall (M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al MC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/08 18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1/08 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1/08 7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08 18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08 19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/08 15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3/08 18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9/08 17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2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7/08 18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c0006"/>
                          </a:solidFill>
                          <a:latin typeface="Arial"/>
                        </a:rPr>
                        <a:t>8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99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/08 1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/08 17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3/08 14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99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/08 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43.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687" name="TextBox 5"/>
          <p:cNvSpPr/>
          <p:nvPr/>
        </p:nvSpPr>
        <p:spPr>
          <a:xfrm>
            <a:off x="380880" y="5562720"/>
            <a:ext cx="782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RR 776 offers for quick start capacity will be at or below $600, 13 intervals would have likely had lower prices.  Had all been $600, annual average would have been $162 million or $0.52/MWh 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alysis Objecti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the number of intervals in 2008 where there was shortage as indicated by Up Balancing Energy Service (UBES) offer stack deple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imate the impact in these intervals if PRR 776 had been in pl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imate the impact of PRR 791 in addition to PRR 77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E47-1181-4A12-BB24-5D25FFF179D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alysis Resul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IMM determined that there 103 shortage intervals in 2008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the 103 intervals, PRR 776 would have eliminated 9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the 90 intervals eliminated, 13 intervals would have likely had lower pric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rtage would have persisted for 13 intervals (different 13) and would be impacted by PRR 79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1063-CDF4-4718-B70B-A666B2DD0F2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stimated Economic Impa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the 13 intervals where shortage was eliminated under PRR7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ssume quick start offer in BES at $600 and MCPE is at $600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st to the wholesale market would have been approximately $162 million or $0.52/MWh low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the 13 intervals where shortage persisted under PRR 776 if PRR 791 were appli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ssume 80 MW priced from $500 to $2250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st to the market would have been approximately $203 million or $0.65 high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DB9C-37F6-46A1-9176-806704173C7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008 Shortage Interval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IMM determined that there were 103 intervals in 2008 where there was shortage due to Up Balancing Energy Service (UBES) offer stack deple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ividual QSE ramp rate constraints were violated to honor system balance constraint, 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balance not achiev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95AD-69EB-40D3-883E-9AF9C354BF1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Statistics on 2008 Short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rtage occurred during on-peak hours 78 of the 103 interval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 the 78 shortage intervals during on-peak, ERCOT had procured NSRS during 76.  (Remember the 2 differenc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 the 76 on-peak shortage intervals where NSRS was procured, NSRS was deployed in 16 interval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 the 16 intervals where NSRS was deployed, it was fully deployed in 9 interva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 the 7 intervals where NSRS was partially deployed, there were 2 intervals where the remaining was insufficient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Slide Number Placeholder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FD80-3F3E-4D23-B1AF-D0696E43A83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5C1-2C16-4926-9272-856DE52190C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umptions on PRR 776 Impact on 2008 Hist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effect of PRR 776 is to add the quick start capacity to the UBES stack when NSRS is procur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ick start capacity is assumed to be approximately 1000 M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NSRS were not procured, the quick start capacity is assumed to have already been in UB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81F0-65FA-4CDB-AFDC-B1667FC7812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ssump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NSRS were procured and not fully deployed during shortage intervals, PRR 776 would relieve that shortage if the shortage amount were less than undeployed quick start NS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7D02-BEF2-44AE-A183-3898FCA7289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9:33:06Z</dcterms:created>
  <dc:creator>Larry Gurley</dc:creator>
  <dc:description/>
  <dc:language>en-US</dc:language>
  <cp:lastModifiedBy>Larry Gurley</cp:lastModifiedBy>
  <dcterms:modified xsi:type="dcterms:W3CDTF">2009-02-25T01:41:15Z</dcterms:modified>
  <cp:revision>32</cp:revision>
  <dc:subject/>
  <dc:title>Gibbons Creek Valuation</dc:title>
</cp:coreProperties>
</file>