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9DDAE-34BA-45CE-BC2D-8B1942EC9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B1806-EE80-46F6-9025-98746A46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E698F-43B5-4312-8975-2500DEFB3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799B9-C80C-4ADD-A66B-CCA1515B8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3767-4E7D-464F-AB70-0F12AC84D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A7C1-A289-444A-B3F2-8723F0C7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FFC8-18FB-42DF-B158-352D2F54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7F2A-7E6F-4944-8EED-E79C7F99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97CF-5F62-46FD-AB21-3DD930BA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8C80-D215-49D8-B10D-276BD2A3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B55A-C8FC-4685-A376-DCFF4DED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260A6-833C-426E-A0BE-8328363F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A5F3-0F04-4E72-A6FD-EB37830D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14F7-B5BB-4046-9F19-28F56E50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A9A6-CE5F-4804-B174-7A91174A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C75C-58D0-4007-B743-1100ABBAB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B96D-9D1A-4B93-9FD2-2DECEE278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221DF-292D-44AB-8D31-4E0998A8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A1260-AD83-4F20-8C3B-0AB22AC6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36CB0-DB21-44CE-BA4A-1E41CD00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45704-46F2-4DAC-9C46-D23AE582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10E41-BD7E-4C08-A0AA-3C3A3824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30900-78F4-4869-B226-09071AB2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E3B53-4063-44CE-A450-F8ED0461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634E-4249-4DE0-9744-6B428AC6D0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F6CA-16A9-4766-BEC5-4B58C8DEDC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81280"/>
            <a:ext cx="777240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Verifiable Cost Manual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Updat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sentation to th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RCOT Wholesale Market Subcommitte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ebruary 18, 200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7365600" y="621648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no Gonzal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RC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asons for the VC Manual Updat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t VC Manual approved on 5/21/08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PRR144 Five RUC Deployments Needed Before Requiring Verifiable Costs was approved by B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dded language in VC Manual to address NPRR144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Reasons for the VC Manual Updat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PRR145 PPAs as Resource-Specific Verifiable Costs Documentation was approved by B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reated rules in VC Manual for determining the costs of PP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reatment of “alternate” Resource for CCP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asons for the VC Manual Updat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reatment of Split Generation Resourc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nguage detailing Emission cos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  Pricing mechanisms for NOx and S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on-attainment area NOx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tartup Fuel should be startup to breaker close – will modify before post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ew appendix:  General Equat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Requesting Approval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of  the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VC Manua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3505320" y="2286000"/>
            <a:ext cx="1484280" cy="2514600"/>
            <a:chOff x="3505320" y="2286000"/>
            <a:chExt cx="1484280" cy="251460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3505320" y="2286000"/>
              <a:ext cx="148428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059720" y="2638080"/>
              <a:ext cx="602640" cy="36828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Britannic Bold"/>
                </a:rPr>
                <a:t>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59720" y="4046040"/>
              <a:ext cx="602640" cy="36828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Britannic Bold"/>
                </a:rPr>
                <a:t>OF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00:20Z</dcterms:created>
  <dc:creator>Reliant</dc:creator>
  <dc:description/>
  <dc:language>en-US</dc:language>
  <cp:lastModifiedBy>igonzalez</cp:lastModifiedBy>
  <dcterms:modified xsi:type="dcterms:W3CDTF">2009-02-17T22:21:36Z</dcterms:modified>
  <cp:revision>248</cp:revision>
  <dc:subject/>
  <dc:title>Protocol Revision Subcommittee</dc:title>
</cp:coreProperties>
</file>