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9032-310E-4239-81E8-8D6AB725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3B13-A4D3-4B89-BEC1-95C8BB1B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AC6F-9971-429D-A5EB-7485A777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4459B-5CEE-48F2-956C-740D4EBD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FD54-E24B-4E67-A07A-D9E163D6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B14A-3FC3-4EEE-AF35-8FF5EBA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B640-8165-4C4C-A5CC-880030A0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071E-7508-469D-9F71-0EDD8409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4065-E274-4C91-BE6E-D082C7C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CD19-5877-4501-8A13-B7ABDED3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AC9D-FB96-4D1C-909C-6CEB706E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9EE3-0B37-48D1-AAA9-444B396C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B63-9CF4-4360-969D-639D73A31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C40-00A1-44C3-808F-9678B8979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6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-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47920" y="838080"/>
          <a:ext cx="6171840" cy="4952880"/>
        </p:xfrm>
        <a:graphic>
          <a:graphicData uri="http://schemas.openxmlformats.org/drawingml/2006/table">
            <a:tbl>
              <a:tblPr/>
              <a:tblGrid>
                <a:gridCol w="4435200"/>
                <a:gridCol w="1736640"/>
              </a:tblGrid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op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9,035,741.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ard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6,742,796.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ow-Elgin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6,542,963.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ogdoches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4,146,030.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 Springs Switch-Big Spring West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2,638,292.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ssa North-North Cowden 69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2,333,010.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ne Switch-Alla Hubbard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693,094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ow-Salty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365,960.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in-Zorn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288,447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herton-North Laredo 138k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921,611.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lene Mulberry Creek East Reactor Series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91,661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Angelo Red Creek 345/138kV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31,576.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hens-Elk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25,309.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5410080"/>
          <a:ext cx="698976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998640"/>
                <a:gridCol w="1332000"/>
                <a:gridCol w="1081080"/>
                <a:gridCol w="133200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4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752480" y="5486400"/>
          <a:ext cx="6248520" cy="750960"/>
        </p:xfrm>
        <a:graphic>
          <a:graphicData uri="http://schemas.openxmlformats.org/drawingml/2006/table">
            <a:tbl>
              <a:tblPr/>
              <a:tblGrid>
                <a:gridCol w="1114920"/>
                <a:gridCol w="893160"/>
                <a:gridCol w="893160"/>
                <a:gridCol w="1189800"/>
                <a:gridCol w="966600"/>
                <a:gridCol w="119088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Interv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762120"/>
          <a:ext cx="8000640" cy="5394240"/>
        </p:xfrm>
        <a:graphic>
          <a:graphicData uri="http://schemas.openxmlformats.org/drawingml/2006/table">
            <a:tbl>
              <a:tblPr/>
              <a:tblGrid>
                <a:gridCol w="644040"/>
                <a:gridCol w="736200"/>
                <a:gridCol w="736200"/>
                <a:gridCol w="642600"/>
                <a:gridCol w="736200"/>
                <a:gridCol w="738000"/>
                <a:gridCol w="734760"/>
                <a:gridCol w="736560"/>
                <a:gridCol w="898200"/>
                <a:gridCol w="664920"/>
                <a:gridCol w="7329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Day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914400"/>
          <a:ext cx="8381880" cy="492768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761760"/>
                <a:gridCol w="838440"/>
                <a:gridCol w="761760"/>
                <a:gridCol w="762120"/>
                <a:gridCol w="762120"/>
                <a:gridCol w="838080"/>
                <a:gridCol w="838080"/>
                <a:gridCol w="609840"/>
                <a:gridCol w="76176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PE trend for 2006-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2008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2008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cal Congestion Costs 2001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5334120"/>
          <a:ext cx="723888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1332000"/>
                <a:gridCol w="1081080"/>
                <a:gridCol w="1332000"/>
                <a:gridCol w="124776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D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5715000"/>
          <a:ext cx="8763120" cy="485640"/>
        </p:xfrm>
        <a:graphic>
          <a:graphicData uri="http://schemas.openxmlformats.org/drawingml/2006/table">
            <a:tbl>
              <a:tblPr/>
              <a:tblGrid>
                <a:gridCol w="84636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9-02-18T17:09:27Z</dcterms:modified>
  <cp:revision>51</cp:revision>
  <dc:subject/>
  <dc:title>Instructions</dc:title>
</cp:coreProperties>
</file>