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8959850" cy="6721475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9EAA-A49A-4F79-84C9-E38766E10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75F8-0DA4-4FB1-B604-1C4827D34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06CA-3A21-42A6-BC8D-87A4A2094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06072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1076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1068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06072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1076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656E-0249-45AC-932D-1731608CF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36440" y="38772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21C2-9EE3-4D5F-9F18-C413FBA3F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6072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810760" y="11509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1068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06072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810760" y="2488320"/>
            <a:ext cx="261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C50D-3C16-4399-B915-221873C3C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E3C77-2317-4A1F-820B-946CBCC56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99B0-71BB-454A-AC9A-61EBFF69C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6440" y="387720"/>
            <a:ext cx="709776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FDD2-3170-4914-B174-E4629B2CC8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2A1C-F4EC-4F61-A4C2-D216270F2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478040" y="24883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6D9F-0A20-4CBF-8F99-8DCC58873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78040" y="1150920"/>
            <a:ext cx="39686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10680" y="2488320"/>
            <a:ext cx="813276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D2DF-E09C-42A4-8D55-AA4F874D8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551800" y="6511680"/>
            <a:ext cx="185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9F139C73-84F0-4C06-8CAE-464B4615A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0920"/>
            <a:ext cx="813276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165240">
              <a:buClr>
                <a:srgbClr val="006b61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65240">
              <a:buClr>
                <a:srgbClr val="000000"/>
              </a:buClr>
              <a:buSzPct val="89000"/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68360" indent="-110880"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5280" y="922320"/>
            <a:ext cx="8602920" cy="0"/>
          </a:xfrm>
          <a:prstGeom prst="line">
            <a:avLst/>
          </a:prstGeom>
          <a:ln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25280" y="650556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5280" y="192240"/>
            <a:ext cx="8602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6" name="McK Slide Elements"/>
          <p:cNvGrpSpPr/>
          <p:nvPr/>
        </p:nvGrpSpPr>
        <p:grpSpPr>
          <a:xfrm>
            <a:off x="136440" y="1122480"/>
            <a:ext cx="8595360" cy="5371920"/>
            <a:chOff x="136440" y="1122480"/>
            <a:chExt cx="8595360" cy="5371920"/>
          </a:xfrm>
        </p:grpSpPr>
        <p:sp>
          <p:nvSpPr>
            <p:cNvPr id="7" name="McK Measure" hidden="1"/>
            <p:cNvSpPr/>
            <p:nvPr/>
          </p:nvSpPr>
          <p:spPr>
            <a:xfrm>
              <a:off x="137520" y="1122480"/>
              <a:ext cx="1433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 of meas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McK Footnote" hidden="1"/>
            <p:cNvSpPr/>
            <p:nvPr/>
          </p:nvSpPr>
          <p:spPr>
            <a:xfrm>
              <a:off x="136440" y="6103440"/>
              <a:ext cx="85917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tno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63400" indent="-563400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r" pos="51768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" name="McK Legend"/>
            <p:cNvGrpSpPr/>
            <p:nvPr/>
          </p:nvGrpSpPr>
          <p:grpSpPr>
            <a:xfrm>
              <a:off x="7872480" y="1538280"/>
              <a:ext cx="859320" cy="767160"/>
              <a:chOff x="7872480" y="1538280"/>
              <a:chExt cx="859320" cy="76716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7872480" y="1538280"/>
                <a:ext cx="859320" cy="182880"/>
                <a:chOff x="7872480" y="1538280"/>
                <a:chExt cx="859320" cy="182880"/>
              </a:xfrm>
            </p:grpSpPr>
            <p:sp>
              <p:nvSpPr>
                <p:cNvPr id="11" name="" hidden="1"/>
                <p:cNvSpPr/>
                <p:nvPr/>
              </p:nvSpPr>
              <p:spPr>
                <a:xfrm>
                  <a:off x="7872480" y="1560600"/>
                  <a:ext cx="284040" cy="139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McK Footnote" hidden="1"/>
                <p:cNvSpPr/>
                <p:nvPr/>
              </p:nvSpPr>
              <p:spPr>
                <a:xfrm>
                  <a:off x="8219160" y="153828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"/>
              <p:cNvGrpSpPr/>
              <p:nvPr/>
            </p:nvGrpSpPr>
            <p:grpSpPr>
              <a:xfrm>
                <a:off x="7872480" y="1731960"/>
                <a:ext cx="859320" cy="182880"/>
                <a:chOff x="7872480" y="1731960"/>
                <a:chExt cx="859320" cy="182880"/>
              </a:xfrm>
            </p:grpSpPr>
            <p:sp>
              <p:nvSpPr>
                <p:cNvPr id="14" name="" hidden="1"/>
                <p:cNvSpPr/>
                <p:nvPr/>
              </p:nvSpPr>
              <p:spPr>
                <a:xfrm>
                  <a:off x="7872480" y="1754280"/>
                  <a:ext cx="284040" cy="139680"/>
                </a:xfrm>
                <a:prstGeom prst="rect">
                  <a:avLst/>
                </a:prstGeom>
                <a:solidFill>
                  <a:srgbClr val="47474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McK Footnote" hidden="1"/>
                <p:cNvSpPr/>
                <p:nvPr/>
              </p:nvSpPr>
              <p:spPr>
                <a:xfrm>
                  <a:off x="8219160" y="17319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872480" y="1927440"/>
                <a:ext cx="859320" cy="182880"/>
                <a:chOff x="7872480" y="1927440"/>
                <a:chExt cx="859320" cy="182880"/>
              </a:xfrm>
            </p:grpSpPr>
            <p:sp>
              <p:nvSpPr>
                <p:cNvPr id="17" name="" hidden="1"/>
                <p:cNvSpPr/>
                <p:nvPr/>
              </p:nvSpPr>
              <p:spPr>
                <a:xfrm>
                  <a:off x="7872480" y="1949400"/>
                  <a:ext cx="284040" cy="140040"/>
                </a:xfrm>
                <a:prstGeom prst="rect">
                  <a:avLst/>
                </a:prstGeom>
                <a:solidFill>
                  <a:srgbClr val="67676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McK Footnote" hidden="1"/>
                <p:cNvSpPr/>
                <p:nvPr/>
              </p:nvSpPr>
              <p:spPr>
                <a:xfrm>
                  <a:off x="8219160" y="192744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"/>
              <p:cNvGrpSpPr/>
              <p:nvPr/>
            </p:nvGrpSpPr>
            <p:grpSpPr>
              <a:xfrm>
                <a:off x="7872480" y="2122560"/>
                <a:ext cx="859320" cy="182880"/>
                <a:chOff x="7872480" y="2122560"/>
                <a:chExt cx="859320" cy="182880"/>
              </a:xfrm>
            </p:grpSpPr>
            <p:sp>
              <p:nvSpPr>
                <p:cNvPr id="20" name="" hidden="1"/>
                <p:cNvSpPr/>
                <p:nvPr/>
              </p:nvSpPr>
              <p:spPr>
                <a:xfrm>
                  <a:off x="7872480" y="2144880"/>
                  <a:ext cx="284040" cy="1396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b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McK Footnote" hidden="1"/>
                <p:cNvSpPr/>
                <p:nvPr/>
              </p:nvSpPr>
              <p:spPr>
                <a:xfrm>
                  <a:off x="8219160" y="2122560"/>
                  <a:ext cx="5126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04960"/>
                      <a:tab algn="l" pos="1609560"/>
                      <a:tab algn="l" pos="2414520"/>
                      <a:tab algn="l" pos="3219480"/>
                      <a:tab algn="l" pos="4024440"/>
                      <a:tab algn="l" pos="4829040"/>
                      <a:tab algn="l" pos="5634000"/>
                      <a:tab algn="l" pos="6438960"/>
                      <a:tab algn="l" pos="7243920"/>
                      <a:tab algn="l" pos="8048520"/>
                      <a:tab algn="l" pos="8853480"/>
                      <a:tab algn="l" pos="9658440"/>
                      <a:tab algn="l" pos="104630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gen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" name="McK Sticker"/>
            <p:cNvGrpSpPr/>
            <p:nvPr/>
          </p:nvGrpSpPr>
          <p:grpSpPr>
            <a:xfrm>
              <a:off x="7289280" y="1166400"/>
              <a:ext cx="1434960" cy="221400"/>
              <a:chOff x="7289280" y="1166400"/>
              <a:chExt cx="1434960" cy="221400"/>
            </a:xfrm>
          </p:grpSpPr>
          <p:sp>
            <p:nvSpPr>
              <p:cNvPr id="23" name="McK Sticker" hidden="1"/>
              <p:cNvSpPr/>
              <p:nvPr/>
            </p:nvSpPr>
            <p:spPr>
              <a:xfrm>
                <a:off x="7289280" y="1166760"/>
                <a:ext cx="1434960" cy="219600"/>
              </a:xfrm>
              <a:prstGeom prst="leftRightArrow">
                <a:avLst>
                  <a:gd name="adj1" fmla="val 100000"/>
                  <a:gd name="adj2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360" bIns="18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STICKER (ALL CAP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" name=""/>
              <p:cNvCxnSpPr/>
              <p:nvPr/>
            </p:nvCxnSpPr>
            <p:spPr>
              <a:xfrm>
                <a:off x="7291080" y="116640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" name=""/>
              <p:cNvCxnSpPr/>
              <p:nvPr/>
            </p:nvCxnSpPr>
            <p:spPr>
              <a:xfrm>
                <a:off x="7291080" y="1387080"/>
                <a:ext cx="1430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0960" y="2884320"/>
            <a:ext cx="5732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46160" y="1677960"/>
            <a:ext cx="8668800" cy="3053880"/>
            <a:chOff x="146160" y="1677960"/>
            <a:chExt cx="8668800" cy="3053880"/>
          </a:xfrm>
        </p:grpSpPr>
        <p:sp>
          <p:nvSpPr>
            <p:cNvPr id="64" name=""/>
            <p:cNvSpPr/>
            <p:nvPr/>
          </p:nvSpPr>
          <p:spPr>
            <a:xfrm>
              <a:off x="146160" y="473184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6160" y="1677960"/>
              <a:ext cx="866880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McK Title Elements"/>
          <p:cNvGrpSpPr/>
          <p:nvPr/>
        </p:nvGrpSpPr>
        <p:grpSpPr>
          <a:xfrm>
            <a:off x="7754760" y="1023840"/>
            <a:ext cx="1117800" cy="4138920"/>
            <a:chOff x="7754760" y="1023840"/>
            <a:chExt cx="1117800" cy="4138920"/>
          </a:xfrm>
        </p:grpSpPr>
        <p:sp>
          <p:nvSpPr>
            <p:cNvPr id="67" name="McK Sticker" hidden="1"/>
            <p:cNvSpPr/>
            <p:nvPr/>
          </p:nvSpPr>
          <p:spPr>
            <a:xfrm>
              <a:off x="7754760" y="1023840"/>
              <a:ext cx="1117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I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McK Date" hidden="1"/>
            <p:cNvSpPr/>
            <p:nvPr/>
          </p:nvSpPr>
          <p:spPr>
            <a:xfrm>
              <a:off x="8488440" y="49798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47840" y="1572480"/>
            <a:ext cx="8064000" cy="38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160" indent="488880" algn="ctr">
              <a:buClr>
                <a:srgbClr val="006b61"/>
              </a:buClr>
              <a:buFont typeface="Arial"/>
              <a:buChar char="–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97000" indent="680760" algn="ctr">
              <a:buClr>
                <a:srgbClr val="000000"/>
              </a:buClr>
              <a:buSzPct val="89000"/>
              <a:buFont typeface="Arial"/>
              <a:buChar char="»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433440" indent="824040" algn="ctr">
              <a:buClr>
                <a:srgbClr val="000000"/>
              </a:buClr>
              <a:buFont typeface="Arial"/>
              <a:buChar char="•"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433440" indent="824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433440" indent="8240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325240"/>
            <a:ext cx="7848360" cy="16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MS Update on</a:t>
            </a: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Demand Side Working Group</a:t>
            </a:r>
            <a:br>
              <a:rPr sz="3000"/>
            </a:br>
            <a:br>
              <a:rPr sz="3000"/>
            </a:b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ebruary 18,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58520" y="5601240"/>
            <a:ext cx="176292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                                    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Mary Anne Brelinsky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3399"/>
                </a:solidFill>
                <a:latin typeface="Arial"/>
                <a:ea typeface="Arial"/>
              </a:rPr>
              <a:t>Eagle Energy Partn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48520" y="5418000"/>
            <a:ext cx="1508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emand Side Working Group Agenda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147160" y="131760"/>
            <a:ext cx="655560" cy="68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31690" t="28796" r="21726" b="33076"/>
          <a:stretch/>
        </p:blipFill>
        <p:spPr>
          <a:xfrm>
            <a:off x="290520" y="1150920"/>
            <a:ext cx="7620120" cy="497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34C4-C706-46D3-8DA4-5290B8A671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3040" y="46404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2009 DSWG Goal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0" t="7074" r="0" b="0"/>
          <a:stretch/>
        </p:blipFill>
        <p:spPr>
          <a:xfrm>
            <a:off x="214200" y="1063800"/>
            <a:ext cx="8458200" cy="5192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79F6-5F00-48D4-A4BC-3C1A359257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9360" y="40356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odal LaaR Potential Protocol Revision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23066" t="49504" r="23975" b="17765"/>
          <a:stretch/>
        </p:blipFill>
        <p:spPr>
          <a:xfrm>
            <a:off x="290520" y="1836720"/>
            <a:ext cx="7848720" cy="3786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320" y="1211400"/>
            <a:ext cx="1145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4.7.2.1 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DF11-1178-4D3C-BF22-89E85D7757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oad Participation in ERCO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14791" t="30579" r="15023" b="14168"/>
          <a:stretch/>
        </p:blipFill>
        <p:spPr>
          <a:xfrm>
            <a:off x="214200" y="1227240"/>
            <a:ext cx="8305920" cy="52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C2DA-CC1F-49F9-AB00-FF1F8287C7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aaR Participation in RRS Market 2006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6772" t="32686" r="16643" b="15955"/>
          <a:stretch/>
        </p:blipFill>
        <p:spPr>
          <a:xfrm>
            <a:off x="214200" y="1227240"/>
            <a:ext cx="8169480" cy="5029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AA27-DD2E-4931-A4AC-FA7F4CD589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3929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aaR Participation in RRS Market 2008 to Presen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3664" t="28921" r="12294" b="12061"/>
          <a:stretch/>
        </p:blipFill>
        <p:spPr>
          <a:xfrm>
            <a:off x="214200" y="998640"/>
            <a:ext cx="8398080" cy="5343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3C4F-7617-490A-BACB-7C7EAC6011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LaaR Response to VDI Deployment on 12-16-08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1801" t="29101" r="11182" b="11756"/>
          <a:stretch/>
        </p:blipFill>
        <p:spPr>
          <a:xfrm>
            <a:off x="214200" y="1074600"/>
            <a:ext cx="8610840" cy="5276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E9B8-AD09-40B1-AC1B-35E6DF5486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440" y="387720"/>
            <a:ext cx="70977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Demand Side Working Group Meetings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062920" y="127080"/>
            <a:ext cx="736560" cy="7952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0680" y="1150920"/>
            <a:ext cx="8132760" cy="22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s for balance of the y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April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Jun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August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October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buClr>
                <a:srgbClr val="00279f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December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80A0-D83E-4C0B-93B4-A4C7CAE8EB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brelins</cp:lastModifiedBy>
  <dcterms:modified xsi:type="dcterms:W3CDTF">2009-02-17T18:54:34Z</dcterms:modified>
  <cp:revision>85</cp:revision>
  <dc:subject/>
  <dc:title>DSWG Update to W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B_TRACKING_NAME">
    <vt:lpwstr>\\leh\wam\users\HE\mbrelins\ERCOT\DSWG\2008 October\DSWG Update WMS Slides 10-20-08.ppt - mbrelins - 10/21/2008 2:56:29 PM</vt:lpwstr>
  </property>
</Properties>
</file>