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6B9D-3308-4AD9-B6A0-9A208125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94DD-E6DB-42B8-9E6F-763A663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BF0D-AA81-48E1-81E8-84CB71C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0385-6F28-4FC9-98E4-D431F0E7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34E0-9222-4832-A8B4-518EFE9D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0CED-ED1D-420B-9A71-47A521AF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9536-A070-402B-8482-EC76AF28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5682-C44A-46EA-8E82-E036203E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B9EE-26BF-4192-B9A1-0FD10CFA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436F-6073-45BD-A46F-97EAADF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CAC1-9911-412A-824C-09A0E5F6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B8C4-D7DA-4973-9428-6704BB7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93D2-2349-4677-A356-B86520FB6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6E5F-4270-47BB-ABEE-0D0814AC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6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5410080"/>
          <a:ext cx="698976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998640"/>
                <a:gridCol w="1332000"/>
                <a:gridCol w="1081080"/>
                <a:gridCol w="133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920"/>
                <a:gridCol w="893160"/>
                <a:gridCol w="893160"/>
                <a:gridCol w="1189800"/>
                <a:gridCol w="966600"/>
                <a:gridCol w="119088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Interv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762120"/>
          <a:ext cx="8000640" cy="5394240"/>
        </p:xfrm>
        <a:graphic>
          <a:graphicData uri="http://schemas.openxmlformats.org/drawingml/2006/table">
            <a:tbl>
              <a:tblPr/>
              <a:tblGrid>
                <a:gridCol w="644040"/>
                <a:gridCol w="736200"/>
                <a:gridCol w="736200"/>
                <a:gridCol w="642600"/>
                <a:gridCol w="736200"/>
                <a:gridCol w="738000"/>
                <a:gridCol w="734760"/>
                <a:gridCol w="736560"/>
                <a:gridCol w="898200"/>
                <a:gridCol w="664920"/>
                <a:gridCol w="7329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Day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914400"/>
          <a:ext cx="8381880" cy="492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1760"/>
                <a:gridCol w="838440"/>
                <a:gridCol w="761760"/>
                <a:gridCol w="762120"/>
                <a:gridCol w="762120"/>
                <a:gridCol w="838080"/>
                <a:gridCol w="838080"/>
                <a:gridCol w="609840"/>
                <a:gridCol w="761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 for 2006-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8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8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5334120"/>
          <a:ext cx="723888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1332000"/>
                <a:gridCol w="1081080"/>
                <a:gridCol w="1332000"/>
                <a:gridCol w="124776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5715000"/>
          <a:ext cx="8763120" cy="485640"/>
        </p:xfrm>
        <a:graphic>
          <a:graphicData uri="http://schemas.openxmlformats.org/drawingml/2006/table">
            <a:tbl>
              <a:tblPr/>
              <a:tblGrid>
                <a:gridCol w="84636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8 February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2-18T01:30:23Z</dcterms:modified>
  <cp:revision>50</cp:revision>
  <dc:subject/>
  <dc:title>Instructions</dc:title>
</cp:coreProperties>
</file>