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7BE61-8077-4355-8746-8334D8D88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A55F9-E6AE-4970-9611-5F8B9A205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AC593-BC18-4234-817B-BE5EE6E5A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4DD7B-15E2-49DF-AEE4-73F5FF23D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BDC82-CD04-49CE-B9BC-78FFED690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B8C90-ED8C-4F75-86DC-340836A69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24D9A-E9F5-429C-B947-43C110A50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D12B6-FFB6-47E7-BBC8-164E3761C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2B231-CA8A-46F4-B8C5-A0D996810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AC00B-D477-40CB-9A1A-7B83B9D36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39395-B892-4D5B-8C5B-D33E3B940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94EF2-CA32-4E27-AD11-95956464A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A886E-C30C-4E9B-8715-8709ED2EC9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COT Market Credit Working Group (“MWCG”) </a:t>
            </a:r>
            <a:endParaRPr b="0" lang="en-US" sz="4400" spc="-1" strike="noStrike">
              <a:solidFill>
                <a:srgbClr val="000000"/>
              </a:solidFill>
              <a:latin typeface="Calibri"/>
            </a:endParaRPr>
          </a:p>
        </p:txBody>
      </p:sp>
      <p:sp>
        <p:nvSpPr>
          <p:cNvPr id="43" name="PlaceHolder 2"/>
          <p:cNvSpPr>
            <a:spLocks noGrp="1"/>
          </p:cNvSpPr>
          <p:nvPr>
            <p:ph type="subTitle"/>
          </p:nvPr>
        </p:nvSpPr>
        <p:spPr>
          <a:xfrm>
            <a:off x="1142640" y="3885840"/>
            <a:ext cx="7086600" cy="24382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bruary 2008 Update to the</a:t>
            </a:r>
            <a:endParaRPr b="0" lang="en-US" sz="3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98989"/>
                </a:solidFill>
                <a:latin typeface="Calibri"/>
              </a:rPr>
              <a:t>Wholesale Market Subcommittee</a:t>
            </a:r>
            <a:endParaRPr b="0" lang="en-US" sz="40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February 18, 2008</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WCG Update to WMS</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CWG Char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MCWG Meeting and Agenda Items to D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920"/>
            <a:ext cx="8229600" cy="838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CWG Charter -Purpose and Authority</a:t>
            </a:r>
            <a:br>
              <a:rPr sz="4000"/>
            </a:br>
            <a:endParaRPr b="0" lang="en-US" sz="3600" spc="-1" strike="noStrike">
              <a:solidFill>
                <a:srgbClr val="000000"/>
              </a:solidFill>
              <a:latin typeface="Calibri"/>
            </a:endParaRPr>
          </a:p>
        </p:txBody>
      </p:sp>
      <p:sp>
        <p:nvSpPr>
          <p:cNvPr id="47" name=""/>
          <p:cNvSpPr txBox="1"/>
          <p:nvPr/>
        </p:nvSpPr>
        <p:spPr>
          <a:xfrm>
            <a:off x="304560" y="1142640"/>
            <a:ext cx="8458200" cy="53341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C directed WMS to establish the MCWG</a:t>
            </a:r>
            <a:r>
              <a:rPr b="1" lang="en-US" sz="2800" spc="-1" strike="noStrike">
                <a:solidFill>
                  <a:srgbClr val="000000"/>
                </a:solidFill>
                <a:latin typeface="Calibri"/>
              </a:rPr>
              <a:t> </a:t>
            </a:r>
            <a:r>
              <a:rPr b="0" lang="en-US" sz="2800" spc="-1" strike="noStrike">
                <a:solidFill>
                  <a:srgbClr val="000000"/>
                </a:solidFill>
                <a:latin typeface="Calibri"/>
              </a:rPr>
              <a:t>to provide WMS with input and recommendations on issues of credit risk management, including but not limited to:</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dit risk mitiga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dit impact of potential ERCOT Protocol or market design chang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areas of implementing best practice credit standards either at the direction on WMS or through review performed by MCWG for consideration by WM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ther Key Charter Terms of MCWG (1)</a:t>
            </a:r>
            <a:endParaRPr b="0" lang="en-US" sz="4000" spc="-1" strike="noStrike">
              <a:solidFill>
                <a:srgbClr val="000000"/>
              </a:solidFill>
              <a:latin typeface="Calibri"/>
            </a:endParaRPr>
          </a:p>
        </p:txBody>
      </p:sp>
      <p:sp>
        <p:nvSpPr>
          <p:cNvPr id="49" name=""/>
          <p:cNvSpPr txBox="1"/>
          <p:nvPr/>
        </p:nvSpPr>
        <p:spPr>
          <a:xfrm>
            <a:off x="228600" y="1218960"/>
            <a:ext cx="8610480" cy="518148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ports to WMS (see II)</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open to any interested party (see IV, </a:t>
            </a:r>
            <a:r>
              <a:rPr b="0" i="1" lang="en-US" sz="2600" spc="-1" strike="noStrike">
                <a:solidFill>
                  <a:srgbClr val="000000"/>
                </a:solidFill>
                <a:latin typeface="Calibri"/>
              </a:rPr>
              <a:t>A</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ll provide CWG and F&amp;A with copies of a summary of all reports to WMS (see IV, </a:t>
            </a:r>
            <a:r>
              <a:rPr b="0" i="1" lang="en-US" sz="2600" spc="-1" strike="noStrike">
                <a:solidFill>
                  <a:srgbClr val="000000"/>
                </a:solidFill>
                <a:latin typeface="Calibri"/>
              </a:rPr>
              <a:t>A</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oting: informal forum that submits consensus-based recommendations to the WMS (see I)</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not unanimous, the Chair will present the issue and majority and alternative opinion(s) to WM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member of the MCWG may also be present to present their view of the issue to WM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MS may either act on the issue or remand it back to the MCWG with instructions on how to proceed</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arter reviewed/ratified at least annually by the WMS (IV, </a:t>
            </a:r>
            <a:r>
              <a:rPr b="0" i="1" lang="en-US" sz="2600" spc="-1" strike="noStrike">
                <a:solidFill>
                  <a:srgbClr val="000000"/>
                </a:solidFill>
                <a:latin typeface="Calibri"/>
              </a:rPr>
              <a:t>B</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ther Key Charter Terms of MCWG (2)</a:t>
            </a:r>
            <a:br>
              <a:rPr sz="4000"/>
            </a:br>
            <a:endParaRPr b="0" lang="en-US" sz="4000" spc="-1" strike="noStrike">
              <a:solidFill>
                <a:srgbClr val="000000"/>
              </a:solidFill>
              <a:latin typeface="Calibri"/>
            </a:endParaRPr>
          </a:p>
        </p:txBody>
      </p:sp>
      <p:sp>
        <p:nvSpPr>
          <p:cNvPr id="51" name=""/>
          <p:cNvSpPr txBox="1"/>
          <p:nvPr/>
        </p:nvSpPr>
        <p:spPr>
          <a:xfrm>
            <a:off x="304560" y="914040"/>
            <a:ext cx="8458200" cy="56386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adership (see IV, </a:t>
            </a:r>
            <a:r>
              <a:rPr b="0" i="1" lang="en-US" sz="2200" spc="-1" strike="noStrike">
                <a:solidFill>
                  <a:srgbClr val="000000"/>
                </a:solidFill>
                <a:latin typeface="Calibri"/>
              </a:rPr>
              <a:t>A</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itially, the Chair of the MCWG shall be appointed by a vote of WM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the inception year, and after approval by WMS of the initial Charter, MCWG shall select a Vice-Chair for WMS confirma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ter the first year, the MCWG shall select a Chair and Vice-Chair for confirmation by the WMS to a one-year term on a calendar year basi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etings (see IV, </a:t>
            </a:r>
            <a:r>
              <a:rPr b="0" i="1" lang="en-US" sz="2200" spc="-1" strike="noStrike">
                <a:solidFill>
                  <a:srgbClr val="000000"/>
                </a:solidFill>
                <a:latin typeface="Calibri"/>
              </a:rPr>
              <a:t>B</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CWG Chair include scheduling meetings as often as necessary for the working group to perform its duti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eting notices ~sent to the MCWG distribution list and posted on the ERCOT web site at least one (1) week prior to the meeting, unless an urgent condition necessitates otherwis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y interested party may request that an item be added to the MCWG agenda, in writing, at least 72 hours prior to the scheduled meeting. At least 48 hours prior to the scheduled meeting the draft agenda will be posted and sent to the electronic MCWG exploder lis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endance, either in person or by conference link, is requir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COT will support the MCWG in a facilitator’s ro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rst MCWG Meeting and Agenda Items to Date</a:t>
            </a:r>
            <a:br>
              <a:rPr sz="4000"/>
            </a:br>
            <a:endParaRPr b="0" lang="en-US" sz="4000" spc="-1" strike="noStrike">
              <a:solidFill>
                <a:srgbClr val="000000"/>
              </a:solidFill>
              <a:latin typeface="Calibri"/>
            </a:endParaRPr>
          </a:p>
        </p:txBody>
      </p:sp>
      <p:sp>
        <p:nvSpPr>
          <p:cNvPr id="53" name=""/>
          <p:cNvSpPr txBox="1"/>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ntatively planned for First week of March (Mon March 2 –  Thurs March 5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nda Items to Dat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PRR147, DAM Short Pay Chang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 Credit Risk Standar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RC  Jan 13, 2009 Credit Technical Conference Update </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are not governed by FERC, but its prudent to see what is happening with the other ISO/RTOs</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Item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CWG on MCWG activities tomorrow (Feb 19, 200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ditional feedback from WMS on direction/items for MCW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l provide feedback to WMS from first meeting(s) of MCWG for March 2009 WMS meet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03:09:06Z</dcterms:created>
  <dc:creator>Morgan</dc:creator>
  <dc:description/>
  <dc:language>en-US</dc:language>
  <cp:lastModifiedBy>balbracht</cp:lastModifiedBy>
  <dcterms:modified xsi:type="dcterms:W3CDTF">2009-02-18T14:15:20Z</dcterms:modified>
  <cp:revision>3</cp:revision>
  <dc:subject/>
  <dc:title>ERCOT Market Credit Working Group (“MWCG”)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0555852</vt:r8>
  </property>
</Properties>
</file>