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A48B532-D531-4B36-A8AE-198D78B7C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B544-6AD7-4EC0-8FD5-E8DA31DBD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9A7C-F0BD-47FD-9066-5E67B30EE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DF94-0ABE-4907-8B1A-547AB0B6E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65D7-9053-4329-B937-7A808BCE6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084A-CCF0-4225-8D04-31E859420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56D5-2BC8-4A91-B291-46EEB8E24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EE1C-5089-4513-AADF-92C663814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1E89-ACAD-498C-BC04-23ED7A85C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838188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EBCF-AAF8-4EE9-84FC-45796CAF6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5696-B74D-48B1-B38A-2CBB715D9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BBE4-AEE5-4D3D-8135-AC3605E37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30A3-1662-4779-92AC-DE9620781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2B776-0332-48D5-855A-2D97EDAF31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gestion Management Work Group Up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ed to WMS February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guerite Wagner, PSEG, T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b Work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ess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 2/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ems Discus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mended Chair/Co-Ch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COT CCT Tool Up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rterly Outage Tracking Up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COT Local Congestion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COT CCT Up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ing with vendor on revised rel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COT staff will share summary test results to CMWG Sub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results will go to CMWG and up to W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frame – anticipate resolution of software issues by 5/31/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rterly Outage Up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33520" y="1627200"/>
            <a:ext cx="7696080" cy="52308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28600" y="91440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= (# Sig Scheduled Outages) /  (# Historical annual outag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l Congestion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0592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urce Plan Nonbid Fla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ecked Remove resource from system deployments for local cong mgm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COT Local Constraint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 Balancing Instructions Category 3 &amp; 4 OOMC, O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 noted that most local congestion is managed through O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llenging conditions – particularly in W Z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nual vs. System Deploy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341360"/>
            <a:ext cx="830592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s opportunity for most efficient congestion management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result in holding OOMs beyond when necess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tional research is warra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coming Meet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rocess of coordinating/scheduling for early March (could be 2/27 if more agenda items arise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14:19:45Z</dcterms:created>
  <dc:creator>Reliant-mw</dc:creator>
  <dc:description/>
  <dc:language>en-US</dc:language>
  <cp:lastModifiedBy>PSEG</cp:lastModifiedBy>
  <dcterms:modified xsi:type="dcterms:W3CDTF">2009-02-17T14:28:21Z</dcterms:modified>
  <cp:revision>50</cp:revision>
  <dc:subject/>
  <dc:title>Congestion Management Work Group Update</dc:title>
</cp:coreProperties>
</file>