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25F8-503C-43B6-B2C3-F3AFDAB1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1405-F047-4008-82EC-8D829E0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135B-772F-4098-A1B9-713F5266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7601-E92A-4C02-845C-75B88E23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8BB0-7B71-41D2-8AC9-3DA182D6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49E4-B424-4767-A3F3-46937A0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F37DF-DC04-4FC1-B8F9-1068538C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5E32-9205-44DD-9196-19E3BFC2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8164-D3C4-47AA-B56D-31EA058B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BF2F-8215-4B58-9496-259716B1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A73E-81F3-48FC-893D-1580A7EA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7EBF-0FEA-4C85-AE2A-BFE57E6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2D0-455A-4526-B7EF-54403A861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2E81-8768-42E6-83C2-8A0AD3685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 Management Working Group (CM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Marguerite Wagner, PSEG 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Eric Goff, Reli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and Side Working Group (DS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MaryAnne Brelinsky, Eagle Energy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-Vice Chairs: Nelson Nease, BBRS; and Tim Carter, Conste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Credit Working Group (MC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Morgan Davies, Calp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ering Working Group (M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Dottie DiSanto, S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Mark Rollins, LC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dorsed at the January 2009 WMS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SE Managers Working Group (QMW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: David Detelich, CPS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able Cost Working Group (VC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 Chairs:  Heddie Lookadoo, NRG; and Ino Gonzalez,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ce Chair: Russell Lovelace, Shell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27960" y="15228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9 WMS Working Group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2-17T16:46:37Z</dcterms:modified>
  <cp:revision>77</cp:revision>
  <dc:subject/>
  <dc:title>Instructions</dc:title>
</cp:coreProperties>
</file>