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6A7E-3EC7-463E-9CB2-52B4BC6F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1181-3686-4A1C-BFD0-218FF800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0639-3102-4719-A25C-F70FF88B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36E4-7553-400C-A3C6-455D8BB0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0CB3-5CA9-4AF8-B443-9CD41411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D8D32-E2A0-4AC0-9E09-75B3B6C0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CADE6-D5EF-4E40-8726-7B27B56B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B214D-C2A9-40DC-9F62-DE2569C7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38021-960F-4BC8-A760-C9F5CED8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BDE0D-EB33-4EC5-8BA1-46621C34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0B67-DCF4-4239-B3B6-9D969444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EEA3E-D298-4721-AE23-39B13AF4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57A0E-FF62-402C-A6A1-297F954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35B9B-E0EA-4781-A500-1D79DA7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38B02-9A5B-4816-98E6-C92E6593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7359B-2104-46D2-813F-167314A6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87DF0-ADE0-4F9A-B946-59D2B943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A4665-746A-4997-A00E-03EFC4B6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9986-3057-4205-9407-FF0FE83C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7A6D-9D1B-43F7-A072-F96B9E32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37BD-C1AB-40A0-80F5-2D64EE32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CF24-BDAB-458A-969C-5398A915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36E6-751D-47DF-AD25-8632CD0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8096-2AA4-4C7E-A85D-E2633CE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B7C7-BC1B-4A47-A709-A39D636B2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9316-D1D8-4896-8304-803EBA7FE4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2EC8-FFC0-408C-BF56-665A4DFD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6D6F-DEA6-47F3-9497-824BD05902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AC33-5E7A-4198-BACC-8AB01F6B6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016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2009 WMS GOALS/ACTIVITI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480" y="819000"/>
          <a:ext cx="8972280" cy="5203800"/>
        </p:xfrm>
        <a:graphic>
          <a:graphicData uri="http://schemas.openxmlformats.org/drawingml/2006/table">
            <a:tbl>
              <a:tblPr/>
              <a:tblGrid>
                <a:gridCol w="6858000"/>
                <a:gridCol w="21142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MS input/direction needed 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Market Tran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-go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dal Verifiable Cost Method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-going (VCW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roved Zonal PRRs – Analysis and Priorit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-Q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ation of timely, economic improvements to Zonal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Q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termine CSCs fo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(CMW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ssues Related t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 iss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going (MCW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and AS Mark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ing advanced meters &amp; other demand response into Ancillary Service Mark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going (DSW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 &amp; related renewable technology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going (QMWG/RTW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E461-E4EE-473D-A9F8-1BB342A6BB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5A7024-9889-4BF8-84B7-57C34E9825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 Clemenhagen</cp:lastModifiedBy>
  <dcterms:modified xsi:type="dcterms:W3CDTF">2009-02-12T22:44:32Z</dcterms:modified>
  <cp:revision>332</cp:revision>
  <dc:subject/>
  <dc:title>Texas Nodal Market Implementation ERCOT Board of Directors Meeting Budget Rationale October 17, 2006  Kathy Hager, Market Redesign Program Director </dc:title>
</cp:coreProperties>
</file>