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D9728D-1B62-445A-89DF-276045228A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05162F82-7088-4A63-9AE7-6D4DD46B8B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C3A97852-9F35-45DF-A6E0-96CC0E5512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767F01D3-C440-4C8A-8AD1-30BCC66A66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sldNum" idx="1"/>
          </p:nvPr>
        </p:nvSpPr>
        <p:spPr/>
        <p:txBody>
          <a:bodyPr/>
          <a:p>
            <a:fld id="{9BD1C51A-E9A3-4B2D-BA4C-A9C968B958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504BCBCF-9E38-4CB2-A54B-CC7F9CF889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7773B553-2F0A-43C5-BA99-856D7C4EE4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848044BA-D630-4967-9DB2-6A1D730C58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2D6E7D9F-7838-4FCD-9447-D9A7558BCE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766712B9-450E-478F-94C1-2E548E1C41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307B1C82-6DCE-4596-ADBE-7FD3943E65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562CD6C0-AD9C-47AE-974E-7872417E7E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BE603-A032-45A1-9850-F70F91624B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657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7834-6121-4FB9-8F7E-76CA0F41ADE7}"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228600" y="304920"/>
            <a:ext cx="1295280" cy="519120"/>
          </a:xfrm>
          <a:prstGeom prst="rect">
            <a:avLst/>
          </a:prstGeom>
          <a:ln w="0">
            <a:noFill/>
          </a:ln>
        </p:spPr>
      </p:pic>
      <p:sp>
        <p:nvSpPr>
          <p:cNvPr id="4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erc.com/filez/standards/EOP-001-0_Interpretation_RECM.html" TargetMode="External"/><Relationship Id="rId2" Type="http://schemas.openxmlformats.org/officeDocument/2006/relationships/hyperlink" Target="https://standards.nerc.ne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71240" y="1904760"/>
            <a:ext cx="650556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OP-001 Reliability Standard Interpretation</a:t>
            </a:r>
            <a:endParaRPr b="0" lang="en-US" sz="2800" spc="-1" strike="noStrike">
              <a:solidFill>
                <a:srgbClr val="ffffff"/>
              </a:solidFill>
              <a:latin typeface="Arial Black"/>
            </a:endParaRPr>
          </a:p>
        </p:txBody>
      </p:sp>
      <p:sp>
        <p:nvSpPr>
          <p:cNvPr id="87" name="PlaceHolder 2"/>
          <p:cNvSpPr>
            <a:spLocks noGrp="1"/>
          </p:cNvSpPr>
          <p:nvPr>
            <p:ph type="subTitle"/>
          </p:nvPr>
        </p:nvSpPr>
        <p:spPr>
          <a:xfrm>
            <a:off x="2343240" y="3200040"/>
            <a:ext cx="5333760" cy="1143000"/>
          </a:xfrm>
          <a:prstGeom prst="rect">
            <a:avLst/>
          </a:prstGeom>
          <a:noFill/>
          <a:ln w="0">
            <a:noFill/>
          </a:ln>
        </p:spPr>
        <p:txBody>
          <a:bodyPr lIns="90000" rIns="90000" tIns="46800" bIns="46800"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ERCOT Wholesale Market Subcommittee</a:t>
            </a:r>
            <a:endParaRPr b="0" lang="en-US" sz="2200" spc="-1" strike="noStrike">
              <a:solidFill>
                <a:srgbClr val="ffffff"/>
              </a:solidFill>
              <a:latin typeface="Arial Black"/>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February 18</a:t>
            </a:r>
            <a:r>
              <a:rPr b="0" lang="en-US" sz="2200" spc="-1" strike="noStrike" baseline="30000">
                <a:solidFill>
                  <a:srgbClr val="ffffff"/>
                </a:solidFill>
                <a:latin typeface="Arial Black"/>
              </a:rPr>
              <a:t>th</a:t>
            </a:r>
            <a:r>
              <a:rPr b="0" lang="en-US" sz="2200" spc="-1" strike="noStrike">
                <a:solidFill>
                  <a:srgbClr val="ffffff"/>
                </a:solidFill>
                <a:latin typeface="Arial Black"/>
              </a:rPr>
              <a:t>, 2009</a:t>
            </a:r>
            <a:endParaRPr b="0" lang="en-US" sz="2200" spc="-1" strike="noStrike">
              <a:solidFill>
                <a:srgbClr val="ffffff"/>
              </a:solidFill>
              <a:latin typeface="Arial Black"/>
            </a:endParaRPr>
          </a:p>
        </p:txBody>
      </p:sp>
      <p:sp>
        <p:nvSpPr>
          <p:cNvPr id="88" name=""/>
          <p:cNvSpPr/>
          <p:nvPr/>
        </p:nvSpPr>
        <p:spPr>
          <a:xfrm>
            <a:off x="2438280" y="4876920"/>
            <a:ext cx="45720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gle Low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ager – Divisional Project 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verview</a:t>
            </a:r>
            <a:endParaRPr b="0" lang="en-US" sz="2000" spc="-1" strike="noStrike">
              <a:solidFill>
                <a:srgbClr val="ffffff"/>
              </a:solidFill>
              <a:latin typeface="Arial Black"/>
            </a:endParaRPr>
          </a:p>
        </p:txBody>
      </p:sp>
      <p:sp>
        <p:nvSpPr>
          <p:cNvPr id="9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C has proposed a change to its interpretation of standard EOP-001 which changes ERCOTS situation from having no adjacent reliability coordinators and balancing authorities to having adjacent RC’s and BA’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change creates many additional documentation obligations across multiple standards which ERCOT ISO does not believe increases reliability; but could significantly increase cost and regulatory risk.</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nterpretation creates obligations to ERCOT ISO in 31 standards and 61 separate requirement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ISO requests that ERCOT market participant’s which are members of the NERC balloting group for EOP-001 vote against this interpretation. </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D17988D0-F3C4-4DC9-8D39-7DD81776E4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tail</a:t>
            </a:r>
            <a:endParaRPr b="0" lang="en-US" sz="2000" spc="-1" strike="noStrike">
              <a:solidFill>
                <a:srgbClr val="ffffff"/>
              </a:solidFill>
              <a:latin typeface="Arial Black"/>
            </a:endParaRPr>
          </a:p>
        </p:txBody>
      </p:sp>
      <p:sp>
        <p:nvSpPr>
          <p:cNvPr id="9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C interpretation is posted at:</a:t>
            </a:r>
            <a:endParaRPr b="1"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nerc.com/filez/standards/EOP-001-0_Interpretation_RECM.html</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discover if you are on the balloting pool for EOP-001 go to the NERC standards page at </a:t>
            </a:r>
            <a:r>
              <a:rPr b="1" lang="en-US" sz="2000" spc="-1" strike="noStrike" u="sng">
                <a:solidFill>
                  <a:srgbClr val="009999"/>
                </a:solidFill>
                <a:uFillTx/>
                <a:latin typeface="Arial"/>
                <a:hlinkClick r:id="rId2"/>
              </a:rPr>
              <a:t>https://standards.nerc.ne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e Standards menu: select ballot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Ballot Pools” and:</a:t>
            </a: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Request for Interpretation- EOP-001-0-RECM_in” NERC interpretation is posted a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 Interpretation said adjacent meant interconnected by AC ties</a:t>
            </a:r>
            <a:endParaRPr b="1"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Interpretation removed the limitation to AC ties and refers to the NERC Glossary of Terms definition of Adjacent Balancing Authority, which does not differentiate between AC ties and DC tie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A7D0BAC-1EB8-452F-932D-604F141434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at ERCOT wants</a:t>
            </a:r>
            <a:endParaRPr b="0" lang="en-US" sz="2000" spc="-1" strike="noStrike">
              <a:solidFill>
                <a:srgbClr val="ffffff"/>
              </a:solidFill>
              <a:latin typeface="Arial Black"/>
            </a:endParaRPr>
          </a:p>
        </p:txBody>
      </p:sp>
      <p:sp>
        <p:nvSpPr>
          <p:cNvPr id="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vote to reject the proposed interpretation of EOP-001</a:t>
            </a:r>
            <a:endParaRPr b="1"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5E556B47-FE98-4FCE-9773-187AA44F46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447920" y="2247840"/>
            <a:ext cx="617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Questions ?</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B0F14662-892B-4783-89B5-10CCB208890A}"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Baseline 1&amp;2 final review pre-TPTF</cp:lastModifiedBy>
  <dcterms:modified xsi:type="dcterms:W3CDTF">2009-02-16T23:32:36Z</dcterms:modified>
  <cp:revision>239</cp:revision>
  <dc:subject/>
  <dc:title>Instructions</dc:title>
</cp:coreProperties>
</file>