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6FB4-2911-439B-8A7F-EDD3FE1B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462F-7D3B-4D78-85E9-DE81A90B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8E1F-0F83-4925-BBDA-8EC0F40D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4E22-47E2-4417-A3D2-03F315AE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6568-9766-49D0-B493-3FF8C96A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56C4-95E7-4D22-AE62-5375458E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5A43-076B-4E1C-B7A9-9D5FDD62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44BC-C5F3-421C-9D24-0EEDF64D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48A0-AF15-4047-9D13-FCDB654A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E55FE-AE88-4071-9E5C-703E41C0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2A4F-9619-4B78-94A7-CB6FCFDD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6C009-C2D9-47FA-81D0-D131DDBA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67F2-3B75-46BF-86A8-BC3933A8B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60C3-4F4E-42B7-9273-9295220B3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1904760"/>
            <a:ext cx="601956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R754 WGRPP Forecasts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520" y="434304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agle Low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nager – Divisional Project Org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200400"/>
            <a:ext cx="64767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ERCOT Wholesale Market Subcommitt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February 18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033560"/>
                <a:tab algn="l" pos="1143000"/>
                <a:tab algn="l" pos="2624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CR754-Replace Emailed WGRPP Forecast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riginal System Change Propos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ed a more reliable solution to replace emailing of foreca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ood this was a high priority for the Market and ERCOT System Operation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al had developed a solution for processing wind forecasts and sending out to WGR QSE’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peed of delivery a small development &amp; testing effort needed to migrate the Nodal code to existing Zonal backend systems which have a similar framework as Nod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final testing in late January discovered that several of the Zonal backend systems are routinely taken down for maintenance several times a month over the weeken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“near time” failover capability between datacenters only disaster 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s would be unavailable over some weekends from 12 to 24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time presents unacceptable reliability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oduction design does not have this same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5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9BCE-5F8B-4D1B-838C-AB7CB79535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CR754-Replace Emailed WGRPP Forecast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New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ystem Change Propos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Zonal EMMS infra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availability within each datacenter and failover capability between datace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rage existing backend proces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the Zonal Market User Interface (MUI) that is used today by QSE’s using qu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cillary Service Requ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cillary Service Oblig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a Load Foreca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will need to be established to manage the eff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eater coordination among several IT groups to impl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application testing since dealing with the various EMMS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ed testing with QSE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d 3 months to implement, 50K-100K c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2E7F-61C6-4C3A-B14B-49BF01B190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CR754-Replace Emailed WGRPP Forecast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Implementation Timelin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9" name="Object 2"/>
          <p:cNvGraphicFramePr/>
          <p:nvPr/>
        </p:nvGraphicFramePr>
        <p:xfrm>
          <a:off x="228600" y="1266840"/>
          <a:ext cx="8315280" cy="44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66840"/>
                    <a:ext cx="831528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6F2C-5034-4944-90FB-95262A2133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wlowe</cp:lastModifiedBy>
  <dcterms:modified xsi:type="dcterms:W3CDTF">2009-02-17T00:13:02Z</dcterms:modified>
  <cp:revision>312</cp:revision>
  <dc:subject/>
  <dc:title>Instructions</dc:title>
</cp:coreProperties>
</file>