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AA1C-DA02-4D84-9E8C-7A828F07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8F2C-E0C8-4C29-A29A-305FFFF9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A583-7756-43C4-BB2D-F3C33DCC9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90E7-C53D-41C5-A94A-40CF9509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0344-8583-45C1-A4B4-BDE0FF31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FC6F-8E97-48CC-9E8C-2509F689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E4AA-8E79-421C-8CCB-4A4945FF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026F-85DD-4163-ABB5-8C4C0475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DAD2-B939-463C-8487-D2E045E0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F3FD-4A36-4EE5-9BDC-71C09076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8F14-F13B-40A3-8D95-3A8C2C8A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83C7-AA35-4A00-8D37-579187CE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1495-D5FC-4C77-A8D5-E97222B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D940-C3DC-4FA1-8966-6B2583E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F05E-6B08-47C0-881C-73D530D8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5606-B5A9-48D5-93CB-07B53468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2C6F-3652-4FED-B581-BD181303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DB4BE-0B51-4F5D-BE09-475F6D2B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64C8-2383-4F37-860A-375155A5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2DC9-7749-4108-BEF4-0EE50BBC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D8A6-6744-437B-9029-B013A300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A190-BD0C-4CF5-BD7F-D997035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67FE8-2966-432E-B932-BB026131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56C5-9F99-4140-B41F-5B38AC15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C2EE-5716-4F1C-856E-9AB9D9987B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E19C-401D-4C03-8010-A69067241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Verifiable Cost  Working Group (VCWG) 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Upd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880" y="44197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ation to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RCOT Wholesale Market Subcommitt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bruary 18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EA8B-348D-47B1-9C2A-D4833F54621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CWG Meeting February 9,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IR Emissions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ederal NOX rules in effect Jan.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uld take up to 3 years to revise the CAIR ru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IR is currently just NOX but SO2 should be implemented by the end of the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IR affects only 29 states including Tex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urrent Pricing of NOX is $3000/t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CWG will be reviewing language for the VC manual to address the CAIR ruling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3D5D-3540-4C4B-8F45-FD939F04977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PRR 168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abled at PRS for TPTF to review how to handle the issue of including all fuel for BC to LS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PTF tabled  and assigned to QRWG to review how Nodal settlements account for all fuel when making units who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QRWG setup meeting on 2/17/2009 to discuss.  Updates from this meeting will be discussed at next VCW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A2E5-3349-4D5E-A94A-161C3173D4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-65340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PRR 167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CWG added language to address concerns on compliance by requiring the QSE and Resource to submit an affidavit when the Resource was the submitting part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QSE costs can not be included in the VC Submission regardless of who submits the V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RCOT believes that the Protocols do not Allow ERCOT to release any VC information to the QSE when the Resource Submit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1024560" indent="-571680"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VCWG will be bringing a presentation and a whitepaper to the March WMS meeting to address concerns about NPRR167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95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95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BBE75-B3DB-4B2E-8DBD-BE99A2503B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UC Cancell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identified a gap in the Protocols for RUC Cancellations that are cancelled prior to breaker clo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tocols are silent as to how to handle RUC Cancell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urrent Protocols do not provide for any pay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would like direction from WM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hould VCWG continue addressing this Issue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hould “Real” costs be addressed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s the Startup offer sufficient payment or should it be actual realized costs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9984-785D-4849-B5E3-3FF1A29F31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CWG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P Modif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will bring back a draft NPRR in March based on the directive of WMS to use a 10% add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VCWG would like direction from WM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ow is Option 1 to be settled when Disputes over 10% are granted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sts added to  Make-whole Pay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Uplifted to LR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oes VCWG need to present Settlement calculation for Option 2 at the same time as the NPRR for Options 1 is presented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8188-1ADB-43FB-B8FC-82F25C285D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uture Meetin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xt meeting will be March 2, 2009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09680" indent="0">
              <a:spcBef>
                <a:spcPts val="16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?’s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16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3B3F-5B7F-4012-9F65-1036280640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00:20Z</dcterms:created>
  <dc:creator>Reliant</dc:creator>
  <dc:description/>
  <dc:language>en-US</dc:language>
  <cp:lastModifiedBy>hlookado</cp:lastModifiedBy>
  <dcterms:modified xsi:type="dcterms:W3CDTF">2009-02-17T15:55:02Z</dcterms:modified>
  <cp:revision>260</cp:revision>
  <dc:subject/>
  <dc:title>Protocol Revision Subcommittee</dc:title>
</cp:coreProperties>
</file>