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55EE-C587-48C0-B534-6EA04B2EC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FFDF-040C-458A-A0F4-6C85F919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4AD5-102F-4821-A65D-C4B2B66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665C-72D6-4013-AA45-1FAA79DE6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ECBC-A2B8-4985-97EF-781A5D6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142E-3402-4DFF-89AA-CE6C5DA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943-DCB0-4B47-9D56-2288BC6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0160-86D4-4927-9972-324EA170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C26F-782B-4B7D-A545-55534862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80FE-EFC0-4C19-AC48-A55C95A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E7DA-5920-40AB-8340-046BE80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8E49-DC5E-4A28-A8F2-16B43BA7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00F-B7D9-4EC5-A196-3FCFB8AC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2DC-4E34-4B01-8575-A36D3261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finance_audit/keydocs/2009/0217/20090217_FA_Meeting_Materials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bruary 19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799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by the Board on 2/17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Funding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jected spending report of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140B-68C9-4188-A3E8-30B372EA3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PRR799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7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EO Approval of NPRRs and SCRs Prior to Posting on M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he Board on 2/17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s have been held with Bob Kahn to work through the details of the CEO Revi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mponents of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Market Rules determines a submitted NPRR or SCR (with a Nodal impact) is complete, the ERCOT CEO has 5 days to evaluate the request for inclusion in the Nodal project scope fo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ardless of the content of the ERCOT CEO posi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quest and the CEO decision will be posted to the 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quest will be distributed to the appropriate market sub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CEO determines the request is needed for Go-L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akeholder process will proceed as we are accusto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CEO determines the request is not needed for Go-L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MEs will not be deployed to assess the impact of th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cision can be appealed to the ERCOT Board (within 10 days of the CEO deci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9BC2-00E8-4A42-9E0D-A174B01198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PRR799 Implement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79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EO Approval of NPRRs and SCRs Prior to Posting on M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developed a mechanism to collect information from key individuals in ERCOT to provide input to the ERCOT CEO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 being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all primary aspects of Nodal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Nodal include all essential aspects of Zon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Nodal still h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 Market Practi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known views are also captured for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swim lane diagram of NPRR review and approval process with the addition of the CEO Review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D6B9-EDF6-45C5-A210-3BC369715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Spending Update – 2/16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838080"/>
          <a:ext cx="8305560" cy="495612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3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9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67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658,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493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175,7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28,3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32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359,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15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64,7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Data Cen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46,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571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267080" y="17524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3526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9D7B-7C20-40A6-BE74-84EF5E953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523880"/>
            <a:ext cx="85345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Enhancements (SCR7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3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L Audi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36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COT / TRE Accoun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finance_audit/keydocs/2009/0217/200902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(p. 8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6A55-42F0-4C80-A3AB-AF03615E5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2-18T17:51:43Z</dcterms:modified>
  <cp:revision>342</cp:revision>
  <dc:subject/>
  <dc:title>Instructions</dc:title>
</cp:coreProperties>
</file>