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EA0A-39C5-41A9-9EB4-6B36B4AEF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5BFC-6302-4D91-A8FB-0E92C85F1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648E-04FC-4A36-89C0-0454B0AB1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1D7E-9FF5-4930-9AB5-52358553D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14CD-3C3B-4D04-B443-B2F40F7E0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4B56-7B7F-4245-80D1-28296BE75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896B-58A0-4948-81AB-D2664C668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ECBC-8507-4613-A188-9DC6A6818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75F0-7776-4E6F-BEC3-DD09E124E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62E2-48C6-470B-9335-640920FF4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046D-1965-46F4-BD9F-352825DC1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1AFE-5D2D-4760-9D95-FFE355C8A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A770-F8B1-43A8-A60E-2F7CE465B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822960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BCE2-DE39-4FE4-B476-10F29284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PRR Parking Deck Discuss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96216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tocol Revision Subcommitte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ebruary 19, 200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Protocol Content…”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Nodal Go-Live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2ED4-1930-4DF3-9800-2BE5F249AB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Discussion - “Managing Protocol Content…” Approach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king Deck houses Post-TMNID NPRRs requiring system additions and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to Parking Deck originates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PRRs addressing functionality or processes that cannot be implemented through a system change or workaround by the TNMID due to software problems, missing procedures or Market readiness criteria failure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“Managing Protocol Content During TNM Implementation”, Board approved 4/15/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keholder NPRR sub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y Boxes in the Nodal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 boxes in the Nodal Protocols at TNMID reflect unimplemented functionality o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ubmits NPRRs initiating TNMID gray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-TNMID Gray Boxing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y box all approved revisions with either approved funding or scheduled into a future rele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y boxes would include expected releas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process to revisit projects linked to approved revisions but not implemen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6C15-AAD2-4A11-87D2-0FE4D64CDD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09480" y="762120"/>
          <a:ext cx="8153640" cy="5376600"/>
        </p:xfrm>
        <a:graphic>
          <a:graphicData uri="http://schemas.openxmlformats.org/drawingml/2006/table">
            <a:tbl>
              <a:tblPr/>
              <a:tblGrid>
                <a:gridCol w="2533680"/>
                <a:gridCol w="5619960"/>
              </a:tblGrid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Go-Live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 / 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Stabi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6 month effort to stabilize Nodal software post-Go-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 critical needs discovered after Go-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Impact Analysis on deferred NPR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placement of NPRRs in future rel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“Approved Post-Go-Live” I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s and other functionality developed by the Nodal team but not included at Go-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s and other functionality approved by the Board for inclusion in the first major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date based on time needed by ERCOT and the market for planning, development, testing, and implementation of approved fun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 incorporating other requests that impact specific components being changed in the release (“while the hood is up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 excluding specific system components that would benefit from continued stabi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zation of Major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zation of Release 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enhan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x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Rel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ity not approved for inclusion in previous rel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ar approach as noted above for Release 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648320" y="380880"/>
            <a:ext cx="3733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- Post-Nodal Go-Live Phas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For discussion purposes onl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1898640" y="6346800"/>
            <a:ext cx="600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Releases suggested on this slide apply to Nodal systems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D956-7952-42B8-8756-9E86C627A8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king Deck Discussion -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Until Nodal Go-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s where the ERCOT CEO authorizes an Impact Analysis (IA) will have the following possible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pproved by TAC/Board for Go-Live, they will be implemented for Nodal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roved by TAC/Board for Go-Live (approved by TAC/Board for post Go-Live), they will be put in the Parking Deck and targeted for a specific future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NPRR is deferred without an IA and recommended for approval by PRS, PRS will preliminarily target it for a specific future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content of each future Nodal release will be captured on the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contents will be periodically reviewed at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-Go-Liv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Nodal Go-Live, individual IAs will be done for all deferred N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completion of the IAs, the content of the future Nodal releases will be assessed for reasonableness, time to deliver, cost and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omponents of each release will be reviewed in the stakeholder process before proc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dates for each phase will be adjusted as releases are reasses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29F9-72C5-46C0-AEF6-FC6A769CDB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2-17T16:48:13Z</dcterms:modified>
  <cp:revision>347</cp:revision>
  <dc:subject/>
  <dc:title>Instructions</dc:title>
</cp:coreProperties>
</file>