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56F-6D95-40F1-98BD-84D28ED2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CA2-52D2-458D-822E-4F353C62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AAB-AAA0-4D3D-8CB2-F0344AE6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857-C3A7-42D5-B045-45FE3144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5E1-D248-4F4E-AE9B-F62FA9BB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1547-B531-493E-9446-57E09C9D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837-BBEE-4BDE-AA84-720DDFF2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13E-2278-41B5-BBC8-F16BC3E4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38F-E90B-4F2E-A28C-500510BD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8F5-B0FD-4F5A-A8AB-D9FF979C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918-378A-46FF-A592-333560B9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540-03FF-4AFB-846E-89FE29CF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32480"/>
            <a:ext cx="2895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"/>
          <p:cNvSpPr/>
          <p:nvPr/>
        </p:nvSpPr>
        <p:spPr>
          <a:xfrm>
            <a:off x="5791320" y="644508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 2006 Accomplishments &amp; 2007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3733920" y="64098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5333-B030-4C4B-94B3-E7F3F502D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liability and Operations Subcommittee (ROS): 2008 Goa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communications to TAC on reliability issues and/or ev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te criteria to staff regional reliability standard drafting teams for Standard Authorization Requests (SARs) approved by R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&amp; analyze ERCOT System Operations, Emergency Electric Curtailment Plan (EECP) events &amp; significant outa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changes to ERCOT Operating Guides, Protocols and Standar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implementation of nodal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 the existing ERCOT Operating Guides to conform to the new nodal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technical assistance and recommendations regarding network modeling implementation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28E-816C-4C7F-92B9-37E095B657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liability and Operations Subcommittee (ROS):  2008 Goals (con’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Schedule Control Error (SCE) scores and related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NERC Standards that have been approved by FERC in conjunction with potential ERCOT related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need for changes in ERCOT Protocols and Operating Guides due to implementation of FERC ERO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y language and terminology for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 duplicative or conflict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WMS, as needed, in implementing the Wind Impact Study’s recommendations for Regulation Service as wind penetration increases/post Nodal Go-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E81-D9E0-481F-8C23-94E1E80E5B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balbracht</cp:lastModifiedBy>
  <dcterms:modified xsi:type="dcterms:W3CDTF">2008-03-12T22:23:33Z</dcterms:modified>
  <cp:revision>111</cp:revision>
  <dc:subject/>
  <dc:title>Role of Account Management at ERCOT</dc:title>
</cp:coreProperties>
</file>