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5B96-2F4C-4930-81B2-EA39A793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D546-C8E5-4D2B-8A94-736FBB4A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CD99-7AB1-48AF-A6FA-0F550D2A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DCEA-8BCA-49CA-87F6-D8CBB23B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4304-5FB5-4A97-A078-DAE94D9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D984-A2A8-4F41-ABF4-CAF4C1FF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70E2-421D-432B-BD97-D4C64F48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27B4-342F-4529-8F26-AAD7F2E0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15A9-E4BF-4EC3-B974-5D8FFFDE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AB16-1DAE-44DE-BFE8-33A3CE1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60E1-F4C9-4986-B6DD-42351575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B71F-D9AA-4AA9-960C-2961402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8725-9A70-4B2C-BB10-A3F9281A2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66E5-24D1-4986-A29A-90C375D7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ical Infrastructure Protection Working Group (CIP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ir: Steve Martin, Onc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ce Chair: David Grubbs, Garland Power &amp;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ynamics Working Group (D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ir: David Milner, CPS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ce Chair: John Moore, ST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Data Support Working Group (NDS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ir: Ebby John, CenterPoint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ce Chair: James Jacoby, A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Working Group (O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ir: Jack Thormahlen, LC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ce Chair: Frank Owens, TM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 Disturbance Compliance Working Group (PDC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ir: Bob Green, Garland Power &amp;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ce Chair: Sydney Niemeyer, NRG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Protection Working Group (SP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ir: Glenn Hargrave, CPS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ce Chair: Sam Woolard, TN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ady State Working Group (SS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ir: Brad Woods, LC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ce Chair: Wesley Woitt, CenterPoint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43440" y="15228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09 ROS Working Group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9-02-11T23:48:26Z</dcterms:modified>
  <cp:revision>71</cp:revision>
  <dc:subject/>
  <dc:title>Instructions</dc:title>
</cp:coreProperties>
</file>