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2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13.jpeg" ContentType="image/jpeg"/>
  <Override PartName="/ppt/media/image44.png" ContentType="image/png"/>
  <Override PartName="/ppt/media/image41.jpeg" ContentType="image/jpeg"/>
  <Override PartName="/ppt/media/image42.png" ContentType="image/png"/>
  <Override PartName="/ppt/media/image30.jpeg" ContentType="image/jpeg"/>
  <Override PartName="/ppt/media/image43.png" ContentType="image/png"/>
  <Override PartName="/ppt/media/image45.png" ContentType="image/png"/>
  <Override PartName="/ppt/media/image46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31.wmf" ContentType="image/x-wmf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713105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7280" y="40201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1FC64-BC34-49AC-8573-5130F069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CAA3F-84BB-4A73-AA67-485569AF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0" y="9360"/>
            <a:ext cx="914400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DCB13-D646-456A-9F05-4E63AB52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5B92D-76B8-47E5-B82A-8161F2DE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3996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4D09A-0BC2-496E-9F0C-B7F84617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B31AA-4CD8-4541-A53C-DB2F3939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57280" y="40201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D4600-FF00-4E8E-9311-6E897561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3996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3A548-EFC4-4FE7-8EDC-2CA5C8DF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18528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81292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5728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18528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81292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C84F9-A993-466A-8E00-449BE84F07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3996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528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292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728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528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292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7280" y="14029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9360"/>
            <a:ext cx="914400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57280" y="14029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3996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7280" y="40201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3996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528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1292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5728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528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1292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57280" y="14029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9360"/>
            <a:ext cx="914400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3996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57280" y="40201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3996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18528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81292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5728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18528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81292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0BE7B-4674-42D2-8B66-9445A598CE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57280" y="14029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093FB-F15A-4C0A-BEB2-E17877EE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B4ED-86A1-4F5B-8A75-7C1507B5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9D2CC-425D-4AE6-8225-87BF0777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204BA-88FF-4D55-8098-D43390BF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0" y="9360"/>
            <a:ext cx="914400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55A4-2AF9-4D0E-A6C6-DC32CAF2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A099-2753-4314-954D-F564DDD9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3996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B1B2E-DD41-435C-B95D-552CB5E1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1EA89-98DC-4118-8D4A-DAC0E64E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7280" y="40201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ACA11-63F2-40DF-A25A-6E9A65C5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3996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A8D21-6E05-4495-AC42-62986D0C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18528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292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5728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18528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81292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4C566-090C-4CBD-BCD6-8F1D454EB7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33601-26F8-473B-920D-65EF4C7421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57280" y="14029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CBFE7-8847-4E9E-864B-944E214D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4A847-5FED-48B3-80DC-82DF1A55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76C20-77AB-45C8-BCAA-7C37E974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A40F1-9D09-4F89-8E16-1108EB43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0" y="9360"/>
            <a:ext cx="914400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A0ADE-15F9-468F-A5D4-21409A57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CF6BC-6A02-4017-A25D-C19E6509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3996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79F79-1C16-4235-9C69-7232F2B4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8F6B5-2667-49A3-B14D-840BC305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57280" y="40201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152A5-7916-4AC9-8B21-3D67655A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3996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E2488-53D0-424B-BDC6-AB61043F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9360"/>
            <a:ext cx="914400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8528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1292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5728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8528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1292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2E8B5-B61F-44C4-990E-E83F842D02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FB94-2E5B-4CEB-95E8-358E42EA24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557280" y="14029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C931-46FE-48E8-83E0-A08FC831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11AC-1B21-4D66-BF38-41EB1607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488B-8FDC-4AC1-814F-E3CFBEC3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C5CB-FC8B-44F5-82B0-BC6EACC0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0" y="9360"/>
            <a:ext cx="914400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2025-21DA-4BDB-BE49-27BE03BB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2F1C-11A5-45E9-9ADF-8C293D99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3996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BE59-603D-43EC-9C15-D2267486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63D9-2A42-4E85-9C62-5BCD4700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7280" y="40201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4304-EE46-4A4F-9EB4-CF759574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3996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3C51-AE26-4B65-A36A-BAA14B33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18528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81292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728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18528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81292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FE7A-D825-435C-9871-C61DAB406E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8F561-5B41-41A0-B33E-B8E81A1696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57280" y="14029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BAF50-1F65-49B8-B347-9D9B5860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6E1DE-EC8E-4B5A-9D6C-0B619DC1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C7616-FE4C-4B7A-AE22-A8E862B6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2073B-8512-48C1-987B-31C0F945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9360"/>
            <a:ext cx="914400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1D9BA-C0CD-4DE0-B4FD-5223B55A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E9DE4-E7FD-4EC7-85CB-A8846CB1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3996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3996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CCD265-DC26-4CEE-A6CA-0D7C3F16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0F4C8-CEDD-4447-8D21-2CC5C477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57280" y="40201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29326-03D0-4FA9-BCCF-CEB142B5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3996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65546-2FEC-42B6-B9AF-7D73B108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18528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81292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5728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18528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81292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A1493-6C00-4CE3-9DA4-6C362A1226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0DAD9C-87F4-4612-86A1-D9994B58FE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57280" y="14029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E7606E-764E-4972-A82E-BEE49777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784796-6E8E-4D1D-BFC5-49FC48FD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3EB9EB-2B73-4CE1-8F4A-07415F6C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983F52-D512-4D81-991C-A937C75F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0" y="9360"/>
            <a:ext cx="914400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DC7938-5C0C-4F80-8193-A0CAD5CD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0AF1CE-D99F-45AD-B620-0CB5D911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3996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61D129-2BF1-4CBA-BDCF-E77324C2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7FFA03-B2F5-4E74-8ABE-19CBB5F0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57280" y="4020120"/>
            <a:ext cx="77724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41235A-C0C8-47F0-A6B7-DF043CD9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39960" y="14029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5728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39960" y="4020120"/>
            <a:ext cx="379260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3D082C-7AEE-4D87-9ED4-C413EBF0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18528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812920" y="14029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5728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18528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812920" y="4020120"/>
            <a:ext cx="250236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9A112B-6084-4731-A611-3FC6BEFCC5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2D18D-E4AC-4D30-9A1C-D419C602F0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557280" y="14029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D6812-86F3-4E7D-9A33-714F5CA1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57280" y="14029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79B4-E102-4ED7-AB84-07D57BF8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doe color"/>
          <p:cNvPicPr/>
          <p:nvPr/>
        </p:nvPicPr>
        <p:blipFill>
          <a:blip r:embed="rId2"/>
          <a:stretch/>
        </p:blipFill>
        <p:spPr>
          <a:xfrm>
            <a:off x="5097600" y="6699240"/>
            <a:ext cx="703080" cy="557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9320" y="12157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76"/>
          <p:cNvSpPr/>
          <p:nvPr/>
        </p:nvSpPr>
        <p:spPr>
          <a:xfrm>
            <a:off x="184320" y="6649920"/>
            <a:ext cx="8775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200" descr="CERTS Logo: red and blue"/>
          <p:cNvPicPr/>
          <p:nvPr/>
        </p:nvPicPr>
        <p:blipFill>
          <a:blip r:embed="rId3"/>
          <a:stretch/>
        </p:blipFill>
        <p:spPr>
          <a:xfrm>
            <a:off x="6678720" y="6713640"/>
            <a:ext cx="1803240" cy="336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4"/>
          <a:stretch/>
        </p:blipFill>
        <p:spPr>
          <a:xfrm>
            <a:off x="573120" y="6670800"/>
            <a:ext cx="982800" cy="461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2309760" y="6667560"/>
            <a:ext cx="191304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5" descr="doe color"/>
          <p:cNvPicPr/>
          <p:nvPr/>
        </p:nvPicPr>
        <p:blipFill>
          <a:blip r:embed="rId2"/>
          <a:stretch/>
        </p:blipFill>
        <p:spPr>
          <a:xfrm>
            <a:off x="5264280" y="6624720"/>
            <a:ext cx="641160" cy="507960"/>
          </a:xfrm>
          <a:prstGeom prst="rect">
            <a:avLst/>
          </a:prstGeom>
          <a:ln w="0">
            <a:noFill/>
          </a:ln>
        </p:spPr>
      </p:pic>
      <p:sp>
        <p:nvSpPr>
          <p:cNvPr id="44" name="Line 176"/>
          <p:cNvSpPr/>
          <p:nvPr/>
        </p:nvSpPr>
        <p:spPr>
          <a:xfrm>
            <a:off x="184320" y="6649920"/>
            <a:ext cx="8775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" name="Picture 200" descr="CERTS Logo: red and blue"/>
          <p:cNvPicPr/>
          <p:nvPr/>
        </p:nvPicPr>
        <p:blipFill>
          <a:blip r:embed="rId3"/>
          <a:stretch/>
        </p:blipFill>
        <p:spPr>
          <a:xfrm>
            <a:off x="6507000" y="6713640"/>
            <a:ext cx="1659240" cy="309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782640" y="6670800"/>
            <a:ext cx="982800" cy="4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57280" y="14029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514600" y="6667560"/>
            <a:ext cx="191304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5" descr="doe color"/>
          <p:cNvPicPr/>
          <p:nvPr/>
        </p:nvPicPr>
        <p:blipFill>
          <a:blip r:embed="rId2"/>
          <a:stretch/>
        </p:blipFill>
        <p:spPr>
          <a:xfrm>
            <a:off x="2257560" y="6647040"/>
            <a:ext cx="641160" cy="507960"/>
          </a:xfrm>
          <a:prstGeom prst="rect">
            <a:avLst/>
          </a:prstGeom>
          <a:ln w="0">
            <a:noFill/>
          </a:ln>
        </p:spPr>
      </p:pic>
      <p:sp>
        <p:nvSpPr>
          <p:cNvPr id="87" name="Line 176"/>
          <p:cNvSpPr/>
          <p:nvPr/>
        </p:nvSpPr>
        <p:spPr>
          <a:xfrm>
            <a:off x="184320" y="6649920"/>
            <a:ext cx="8775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8" name="Picture 200" descr="CERTS Logo: red and blue"/>
          <p:cNvPicPr/>
          <p:nvPr/>
        </p:nvPicPr>
        <p:blipFill>
          <a:blip r:embed="rId3"/>
          <a:stretch/>
        </p:blipFill>
        <p:spPr>
          <a:xfrm>
            <a:off x="4008600" y="6827760"/>
            <a:ext cx="1276200" cy="238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4"/>
          <a:stretch/>
        </p:blipFill>
        <p:spPr>
          <a:xfrm>
            <a:off x="66600" y="6670800"/>
            <a:ext cx="982800" cy="46188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101"/>
          <p:cNvGrpSpPr/>
          <p:nvPr/>
        </p:nvGrpSpPr>
        <p:grpSpPr>
          <a:xfrm>
            <a:off x="6284880" y="6808680"/>
            <a:ext cx="2076120" cy="234720"/>
            <a:chOff x="6284880" y="6808680"/>
            <a:chExt cx="2076120" cy="234720"/>
          </a:xfrm>
        </p:grpSpPr>
        <p:sp>
          <p:nvSpPr>
            <p:cNvPr id="91" name="Freeform 102"/>
            <p:cNvSpPr/>
            <p:nvPr/>
          </p:nvSpPr>
          <p:spPr>
            <a:xfrm>
              <a:off x="6554880" y="6851160"/>
              <a:ext cx="119160" cy="13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" name="Rectangle 103"/>
            <p:cNvSpPr/>
            <p:nvPr/>
          </p:nvSpPr>
          <p:spPr>
            <a:xfrm>
              <a:off x="6687720" y="6851160"/>
              <a:ext cx="10800" cy="13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" name="Freeform 104"/>
            <p:cNvSpPr/>
            <p:nvPr/>
          </p:nvSpPr>
          <p:spPr>
            <a:xfrm>
              <a:off x="6714360" y="6888600"/>
              <a:ext cx="8964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Freeform 105"/>
            <p:cNvSpPr/>
            <p:nvPr/>
          </p:nvSpPr>
          <p:spPr>
            <a:xfrm>
              <a:off x="6819120" y="6888600"/>
              <a:ext cx="93960" cy="10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Freeform 106"/>
            <p:cNvSpPr/>
            <p:nvPr/>
          </p:nvSpPr>
          <p:spPr>
            <a:xfrm>
              <a:off x="6918480" y="6852600"/>
              <a:ext cx="4608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" name="Freeform 107"/>
            <p:cNvSpPr/>
            <p:nvPr/>
          </p:nvSpPr>
          <p:spPr>
            <a:xfrm>
              <a:off x="6977160" y="6888600"/>
              <a:ext cx="48960" cy="9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Freeform 108"/>
            <p:cNvSpPr/>
            <p:nvPr/>
          </p:nvSpPr>
          <p:spPr>
            <a:xfrm>
              <a:off x="7036560" y="6855840"/>
              <a:ext cx="10440" cy="1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" name="Freeform 109"/>
            <p:cNvSpPr/>
            <p:nvPr/>
          </p:nvSpPr>
          <p:spPr>
            <a:xfrm>
              <a:off x="7065720" y="6888600"/>
              <a:ext cx="95400" cy="10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" name="Freeform 110"/>
            <p:cNvSpPr/>
            <p:nvPr/>
          </p:nvSpPr>
          <p:spPr>
            <a:xfrm>
              <a:off x="7231320" y="6851160"/>
              <a:ext cx="120600" cy="13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" name="Freeform 111"/>
            <p:cNvSpPr/>
            <p:nvPr/>
          </p:nvSpPr>
          <p:spPr>
            <a:xfrm>
              <a:off x="7360200" y="6888600"/>
              <a:ext cx="96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Freeform 112"/>
            <p:cNvSpPr/>
            <p:nvPr/>
          </p:nvSpPr>
          <p:spPr>
            <a:xfrm>
              <a:off x="7462440" y="6891840"/>
              <a:ext cx="133560" cy="9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Freeform 113"/>
            <p:cNvSpPr/>
            <p:nvPr/>
          </p:nvSpPr>
          <p:spPr>
            <a:xfrm>
              <a:off x="7602840" y="6888600"/>
              <a:ext cx="9000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" name="Freeform 114"/>
            <p:cNvSpPr/>
            <p:nvPr/>
          </p:nvSpPr>
          <p:spPr>
            <a:xfrm>
              <a:off x="7710120" y="6888600"/>
              <a:ext cx="50400" cy="9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" name="Freeform 115"/>
            <p:cNvSpPr/>
            <p:nvPr/>
          </p:nvSpPr>
          <p:spPr>
            <a:xfrm>
              <a:off x="7824240" y="6844320"/>
              <a:ext cx="143280" cy="14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" name="Freeform 116"/>
            <p:cNvSpPr/>
            <p:nvPr/>
          </p:nvSpPr>
          <p:spPr>
            <a:xfrm>
              <a:off x="7985880" y="6888600"/>
              <a:ext cx="48960" cy="9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Freeform 117"/>
            <p:cNvSpPr/>
            <p:nvPr/>
          </p:nvSpPr>
          <p:spPr>
            <a:xfrm>
              <a:off x="8044200" y="6888600"/>
              <a:ext cx="9540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Freeform 118"/>
            <p:cNvSpPr/>
            <p:nvPr/>
          </p:nvSpPr>
          <p:spPr>
            <a:xfrm>
              <a:off x="8158680" y="6891840"/>
              <a:ext cx="88560" cy="9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Freeform 119"/>
            <p:cNvSpPr/>
            <p:nvPr/>
          </p:nvSpPr>
          <p:spPr>
            <a:xfrm>
              <a:off x="8269920" y="6890400"/>
              <a:ext cx="91080" cy="13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" name="Freeform 120"/>
            <p:cNvSpPr/>
            <p:nvPr/>
          </p:nvSpPr>
          <p:spPr>
            <a:xfrm>
              <a:off x="6284880" y="6808680"/>
              <a:ext cx="187920" cy="234720"/>
            </a:xfrm>
            <a:prstGeom prst="pie">
              <a:avLst/>
            </a:prstGeom>
            <a:solidFill>
              <a:srgbClr val="3333cc"/>
            </a:solidFill>
            <a:ln w="3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12157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5" descr="doe color"/>
          <p:cNvPicPr/>
          <p:nvPr/>
        </p:nvPicPr>
        <p:blipFill>
          <a:blip r:embed="rId2"/>
          <a:stretch/>
        </p:blipFill>
        <p:spPr>
          <a:xfrm>
            <a:off x="2257560" y="6647040"/>
            <a:ext cx="641160" cy="507960"/>
          </a:xfrm>
          <a:prstGeom prst="rect">
            <a:avLst/>
          </a:prstGeom>
          <a:ln w="0">
            <a:noFill/>
          </a:ln>
        </p:spPr>
      </p:pic>
      <p:sp>
        <p:nvSpPr>
          <p:cNvPr id="149" name="Line 176"/>
          <p:cNvSpPr/>
          <p:nvPr/>
        </p:nvSpPr>
        <p:spPr>
          <a:xfrm>
            <a:off x="184320" y="6649920"/>
            <a:ext cx="8775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200" descr="CERTS Logo: red and blue"/>
          <p:cNvPicPr/>
          <p:nvPr/>
        </p:nvPicPr>
        <p:blipFill>
          <a:blip r:embed="rId3"/>
          <a:stretch/>
        </p:blipFill>
        <p:spPr>
          <a:xfrm>
            <a:off x="3770280" y="6827760"/>
            <a:ext cx="1276560" cy="238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4"/>
          <a:stretch/>
        </p:blipFill>
        <p:spPr>
          <a:xfrm>
            <a:off x="66600" y="6670800"/>
            <a:ext cx="982800" cy="4618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101"/>
          <p:cNvGrpSpPr/>
          <p:nvPr/>
        </p:nvGrpSpPr>
        <p:grpSpPr>
          <a:xfrm>
            <a:off x="6000840" y="6777000"/>
            <a:ext cx="2646000" cy="299880"/>
            <a:chOff x="6000840" y="6777000"/>
            <a:chExt cx="2646000" cy="299880"/>
          </a:xfrm>
        </p:grpSpPr>
        <p:sp>
          <p:nvSpPr>
            <p:cNvPr id="153" name="Freeform 102"/>
            <p:cNvSpPr/>
            <p:nvPr/>
          </p:nvSpPr>
          <p:spPr>
            <a:xfrm>
              <a:off x="6345360" y="6831000"/>
              <a:ext cx="15048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Rectangle 103"/>
            <p:cNvSpPr/>
            <p:nvPr/>
          </p:nvSpPr>
          <p:spPr>
            <a:xfrm>
              <a:off x="6514200" y="6831000"/>
              <a:ext cx="1368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Freeform 104"/>
            <p:cNvSpPr/>
            <p:nvPr/>
          </p:nvSpPr>
          <p:spPr>
            <a:xfrm>
              <a:off x="6549840" y="6878880"/>
              <a:ext cx="11484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Freeform 105"/>
            <p:cNvSpPr/>
            <p:nvPr/>
          </p:nvSpPr>
          <p:spPr>
            <a:xfrm>
              <a:off x="6681600" y="6878880"/>
              <a:ext cx="11988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Freeform 106"/>
            <p:cNvSpPr/>
            <p:nvPr/>
          </p:nvSpPr>
          <p:spPr>
            <a:xfrm>
              <a:off x="6808680" y="6833160"/>
              <a:ext cx="58680" cy="17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Freeform 107"/>
            <p:cNvSpPr/>
            <p:nvPr/>
          </p:nvSpPr>
          <p:spPr>
            <a:xfrm>
              <a:off x="6882840" y="6878880"/>
              <a:ext cx="6228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Freeform 108"/>
            <p:cNvSpPr/>
            <p:nvPr/>
          </p:nvSpPr>
          <p:spPr>
            <a:xfrm>
              <a:off x="6960240" y="6837480"/>
              <a:ext cx="13680" cy="16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Freeform 109"/>
            <p:cNvSpPr/>
            <p:nvPr/>
          </p:nvSpPr>
          <p:spPr>
            <a:xfrm>
              <a:off x="6995880" y="6878880"/>
              <a:ext cx="12168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Freeform 110"/>
            <p:cNvSpPr/>
            <p:nvPr/>
          </p:nvSpPr>
          <p:spPr>
            <a:xfrm>
              <a:off x="7207200" y="6831000"/>
              <a:ext cx="1537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Freeform 111"/>
            <p:cNvSpPr/>
            <p:nvPr/>
          </p:nvSpPr>
          <p:spPr>
            <a:xfrm>
              <a:off x="7369560" y="6878880"/>
              <a:ext cx="12312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Freeform 112"/>
            <p:cNvSpPr/>
            <p:nvPr/>
          </p:nvSpPr>
          <p:spPr>
            <a:xfrm>
              <a:off x="7501320" y="6883200"/>
              <a:ext cx="17028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Freeform 113"/>
            <p:cNvSpPr/>
            <p:nvPr/>
          </p:nvSpPr>
          <p:spPr>
            <a:xfrm>
              <a:off x="7680600" y="6878880"/>
              <a:ext cx="11484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Freeform 114"/>
            <p:cNvSpPr/>
            <p:nvPr/>
          </p:nvSpPr>
          <p:spPr>
            <a:xfrm>
              <a:off x="7817400" y="6878880"/>
              <a:ext cx="6588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Freeform 115"/>
            <p:cNvSpPr/>
            <p:nvPr/>
          </p:nvSpPr>
          <p:spPr>
            <a:xfrm>
              <a:off x="7962480" y="6822720"/>
              <a:ext cx="182520" cy="18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Freeform 116"/>
            <p:cNvSpPr/>
            <p:nvPr/>
          </p:nvSpPr>
          <p:spPr>
            <a:xfrm>
              <a:off x="8170560" y="6878880"/>
              <a:ext cx="6084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Freeform 117"/>
            <p:cNvSpPr/>
            <p:nvPr/>
          </p:nvSpPr>
          <p:spPr>
            <a:xfrm>
              <a:off x="8242920" y="6878880"/>
              <a:ext cx="11808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Freeform 118"/>
            <p:cNvSpPr/>
            <p:nvPr/>
          </p:nvSpPr>
          <p:spPr>
            <a:xfrm>
              <a:off x="8388720" y="6883200"/>
              <a:ext cx="11304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Freeform 119"/>
            <p:cNvSpPr/>
            <p:nvPr/>
          </p:nvSpPr>
          <p:spPr>
            <a:xfrm>
              <a:off x="8530560" y="6881400"/>
              <a:ext cx="116280" cy="17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Freeform 120"/>
            <p:cNvSpPr/>
            <p:nvPr/>
          </p:nvSpPr>
          <p:spPr>
            <a:xfrm>
              <a:off x="6000840" y="6777000"/>
              <a:ext cx="239760" cy="299880"/>
            </a:xfrm>
            <a:prstGeom prst="pie">
              <a:avLst/>
            </a:prstGeom>
            <a:solidFill>
              <a:srgbClr val="3333cc"/>
            </a:solidFill>
            <a:ln w="3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12157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"/>
          </p:nvPr>
        </p:nvSpPr>
        <p:spPr>
          <a:xfrm>
            <a:off x="685800" y="6536880"/>
            <a:ext cx="1905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35DB-0F98-4EA1-B607-249D7A1195B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2"/>
          </p:nvPr>
        </p:nvSpPr>
        <p:spPr>
          <a:xfrm>
            <a:off x="4114440" y="6686640"/>
            <a:ext cx="10666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990669-E6A5-407F-87C0-D2A5F6EE05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08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5" descr="doe color"/>
          <p:cNvPicPr/>
          <p:nvPr/>
        </p:nvPicPr>
        <p:blipFill>
          <a:blip r:embed="rId2"/>
          <a:stretch/>
        </p:blipFill>
        <p:spPr>
          <a:xfrm>
            <a:off x="2257560" y="6647040"/>
            <a:ext cx="641160" cy="507960"/>
          </a:xfrm>
          <a:prstGeom prst="rect">
            <a:avLst/>
          </a:prstGeom>
          <a:ln w="0">
            <a:noFill/>
          </a:ln>
        </p:spPr>
      </p:pic>
      <p:sp>
        <p:nvSpPr>
          <p:cNvPr id="213" name="Line 176"/>
          <p:cNvSpPr/>
          <p:nvPr/>
        </p:nvSpPr>
        <p:spPr>
          <a:xfrm>
            <a:off x="184320" y="6649920"/>
            <a:ext cx="8775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4" name="Picture 200" descr="CERTS Logo: red and blue"/>
          <p:cNvPicPr/>
          <p:nvPr/>
        </p:nvPicPr>
        <p:blipFill>
          <a:blip r:embed="rId3"/>
          <a:stretch/>
        </p:blipFill>
        <p:spPr>
          <a:xfrm>
            <a:off x="3770280" y="6827760"/>
            <a:ext cx="1276560" cy="238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4"/>
          <a:stretch/>
        </p:blipFill>
        <p:spPr>
          <a:xfrm>
            <a:off x="66600" y="6670800"/>
            <a:ext cx="982800" cy="46188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101"/>
          <p:cNvGrpSpPr/>
          <p:nvPr/>
        </p:nvGrpSpPr>
        <p:grpSpPr>
          <a:xfrm>
            <a:off x="6000840" y="6777000"/>
            <a:ext cx="2646000" cy="299880"/>
            <a:chOff x="6000840" y="6777000"/>
            <a:chExt cx="2646000" cy="299880"/>
          </a:xfrm>
        </p:grpSpPr>
        <p:sp>
          <p:nvSpPr>
            <p:cNvPr id="217" name="Freeform 102"/>
            <p:cNvSpPr/>
            <p:nvPr/>
          </p:nvSpPr>
          <p:spPr>
            <a:xfrm>
              <a:off x="6345360" y="6831000"/>
              <a:ext cx="15048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Rectangle 103"/>
            <p:cNvSpPr/>
            <p:nvPr/>
          </p:nvSpPr>
          <p:spPr>
            <a:xfrm>
              <a:off x="6514200" y="6831000"/>
              <a:ext cx="1368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Freeform 104"/>
            <p:cNvSpPr/>
            <p:nvPr/>
          </p:nvSpPr>
          <p:spPr>
            <a:xfrm>
              <a:off x="6549840" y="6878880"/>
              <a:ext cx="11484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Freeform 105"/>
            <p:cNvSpPr/>
            <p:nvPr/>
          </p:nvSpPr>
          <p:spPr>
            <a:xfrm>
              <a:off x="6681600" y="6878880"/>
              <a:ext cx="11988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Freeform 106"/>
            <p:cNvSpPr/>
            <p:nvPr/>
          </p:nvSpPr>
          <p:spPr>
            <a:xfrm>
              <a:off x="6808680" y="6833160"/>
              <a:ext cx="58680" cy="17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Freeform 107"/>
            <p:cNvSpPr/>
            <p:nvPr/>
          </p:nvSpPr>
          <p:spPr>
            <a:xfrm>
              <a:off x="6882840" y="6878880"/>
              <a:ext cx="6228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Freeform 108"/>
            <p:cNvSpPr/>
            <p:nvPr/>
          </p:nvSpPr>
          <p:spPr>
            <a:xfrm>
              <a:off x="6960240" y="6837480"/>
              <a:ext cx="13680" cy="16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Freeform 109"/>
            <p:cNvSpPr/>
            <p:nvPr/>
          </p:nvSpPr>
          <p:spPr>
            <a:xfrm>
              <a:off x="6995880" y="6878880"/>
              <a:ext cx="12168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Freeform 110"/>
            <p:cNvSpPr/>
            <p:nvPr/>
          </p:nvSpPr>
          <p:spPr>
            <a:xfrm>
              <a:off x="7207200" y="6831000"/>
              <a:ext cx="1537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Freeform 111"/>
            <p:cNvSpPr/>
            <p:nvPr/>
          </p:nvSpPr>
          <p:spPr>
            <a:xfrm>
              <a:off x="7369560" y="6878880"/>
              <a:ext cx="12312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Freeform 112"/>
            <p:cNvSpPr/>
            <p:nvPr/>
          </p:nvSpPr>
          <p:spPr>
            <a:xfrm>
              <a:off x="7501320" y="6883200"/>
              <a:ext cx="17028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Freeform 113"/>
            <p:cNvSpPr/>
            <p:nvPr/>
          </p:nvSpPr>
          <p:spPr>
            <a:xfrm>
              <a:off x="7680600" y="6878880"/>
              <a:ext cx="11484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Freeform 114"/>
            <p:cNvSpPr/>
            <p:nvPr/>
          </p:nvSpPr>
          <p:spPr>
            <a:xfrm>
              <a:off x="7817400" y="6878880"/>
              <a:ext cx="6588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Freeform 115"/>
            <p:cNvSpPr/>
            <p:nvPr/>
          </p:nvSpPr>
          <p:spPr>
            <a:xfrm>
              <a:off x="7962480" y="6822720"/>
              <a:ext cx="182520" cy="18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Freeform 116"/>
            <p:cNvSpPr/>
            <p:nvPr/>
          </p:nvSpPr>
          <p:spPr>
            <a:xfrm>
              <a:off x="8170560" y="6878880"/>
              <a:ext cx="6084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Freeform 117"/>
            <p:cNvSpPr/>
            <p:nvPr/>
          </p:nvSpPr>
          <p:spPr>
            <a:xfrm>
              <a:off x="8242920" y="6878880"/>
              <a:ext cx="11808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Freeform 118"/>
            <p:cNvSpPr/>
            <p:nvPr/>
          </p:nvSpPr>
          <p:spPr>
            <a:xfrm>
              <a:off x="8388720" y="6883200"/>
              <a:ext cx="11304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Freeform 119"/>
            <p:cNvSpPr/>
            <p:nvPr/>
          </p:nvSpPr>
          <p:spPr>
            <a:xfrm>
              <a:off x="8530560" y="6881400"/>
              <a:ext cx="116280" cy="17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Freeform 120"/>
            <p:cNvSpPr/>
            <p:nvPr/>
          </p:nvSpPr>
          <p:spPr>
            <a:xfrm>
              <a:off x="6000840" y="6777000"/>
              <a:ext cx="239760" cy="299880"/>
            </a:xfrm>
            <a:prstGeom prst="pie">
              <a:avLst/>
            </a:prstGeom>
            <a:solidFill>
              <a:srgbClr val="3333cc"/>
            </a:solidFill>
            <a:ln w="3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12157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3"/>
          </p:nvPr>
        </p:nvSpPr>
        <p:spPr>
          <a:xfrm>
            <a:off x="685800" y="6536880"/>
            <a:ext cx="1905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D321-9F34-48C1-B95F-EB5DC78CCFA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4"/>
          </p:nvPr>
        </p:nvSpPr>
        <p:spPr>
          <a:xfrm>
            <a:off x="4114440" y="6686640"/>
            <a:ext cx="10666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C380774-4E8B-46F6-B304-EEA39DFCDC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08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5" descr="doe color"/>
          <p:cNvPicPr/>
          <p:nvPr/>
        </p:nvPicPr>
        <p:blipFill>
          <a:blip r:embed="rId2"/>
          <a:stretch/>
        </p:blipFill>
        <p:spPr>
          <a:xfrm>
            <a:off x="2257560" y="6647040"/>
            <a:ext cx="641160" cy="507960"/>
          </a:xfrm>
          <a:prstGeom prst="rect">
            <a:avLst/>
          </a:prstGeom>
          <a:ln w="0">
            <a:noFill/>
          </a:ln>
        </p:spPr>
      </p:pic>
      <p:sp>
        <p:nvSpPr>
          <p:cNvPr id="277" name="Line 176"/>
          <p:cNvSpPr/>
          <p:nvPr/>
        </p:nvSpPr>
        <p:spPr>
          <a:xfrm>
            <a:off x="184320" y="6649920"/>
            <a:ext cx="8775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78" name="Picture 200" descr="CERTS Logo: red and blue"/>
          <p:cNvPicPr/>
          <p:nvPr/>
        </p:nvPicPr>
        <p:blipFill>
          <a:blip r:embed="rId3"/>
          <a:stretch/>
        </p:blipFill>
        <p:spPr>
          <a:xfrm>
            <a:off x="3770280" y="6827760"/>
            <a:ext cx="1276560" cy="238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"/>
          <p:cNvPicPr/>
          <p:nvPr/>
        </p:nvPicPr>
        <p:blipFill>
          <a:blip r:embed="rId4"/>
          <a:stretch/>
        </p:blipFill>
        <p:spPr>
          <a:xfrm>
            <a:off x="66600" y="6670800"/>
            <a:ext cx="982800" cy="46188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101"/>
          <p:cNvGrpSpPr/>
          <p:nvPr/>
        </p:nvGrpSpPr>
        <p:grpSpPr>
          <a:xfrm>
            <a:off x="6000840" y="6777000"/>
            <a:ext cx="2646000" cy="299880"/>
            <a:chOff x="6000840" y="6777000"/>
            <a:chExt cx="2646000" cy="299880"/>
          </a:xfrm>
        </p:grpSpPr>
        <p:sp>
          <p:nvSpPr>
            <p:cNvPr id="281" name="Freeform 102"/>
            <p:cNvSpPr/>
            <p:nvPr/>
          </p:nvSpPr>
          <p:spPr>
            <a:xfrm>
              <a:off x="6345360" y="6831000"/>
              <a:ext cx="15048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Rectangle 103"/>
            <p:cNvSpPr/>
            <p:nvPr/>
          </p:nvSpPr>
          <p:spPr>
            <a:xfrm>
              <a:off x="6514200" y="6831000"/>
              <a:ext cx="1368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Freeform 104"/>
            <p:cNvSpPr/>
            <p:nvPr/>
          </p:nvSpPr>
          <p:spPr>
            <a:xfrm>
              <a:off x="6549840" y="6878880"/>
              <a:ext cx="11484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Freeform 105"/>
            <p:cNvSpPr/>
            <p:nvPr/>
          </p:nvSpPr>
          <p:spPr>
            <a:xfrm>
              <a:off x="6681600" y="6878880"/>
              <a:ext cx="11988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Freeform 106"/>
            <p:cNvSpPr/>
            <p:nvPr/>
          </p:nvSpPr>
          <p:spPr>
            <a:xfrm>
              <a:off x="6808680" y="6833160"/>
              <a:ext cx="58680" cy="17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Freeform 107"/>
            <p:cNvSpPr/>
            <p:nvPr/>
          </p:nvSpPr>
          <p:spPr>
            <a:xfrm>
              <a:off x="6882840" y="6878880"/>
              <a:ext cx="6228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Freeform 108"/>
            <p:cNvSpPr/>
            <p:nvPr/>
          </p:nvSpPr>
          <p:spPr>
            <a:xfrm>
              <a:off x="6960240" y="6837480"/>
              <a:ext cx="13680" cy="16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Freeform 109"/>
            <p:cNvSpPr/>
            <p:nvPr/>
          </p:nvSpPr>
          <p:spPr>
            <a:xfrm>
              <a:off x="6995880" y="6878880"/>
              <a:ext cx="12168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Freeform 110"/>
            <p:cNvSpPr/>
            <p:nvPr/>
          </p:nvSpPr>
          <p:spPr>
            <a:xfrm>
              <a:off x="7207200" y="6831000"/>
              <a:ext cx="1537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Freeform 111"/>
            <p:cNvSpPr/>
            <p:nvPr/>
          </p:nvSpPr>
          <p:spPr>
            <a:xfrm>
              <a:off x="7369560" y="6878880"/>
              <a:ext cx="12312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Freeform 112"/>
            <p:cNvSpPr/>
            <p:nvPr/>
          </p:nvSpPr>
          <p:spPr>
            <a:xfrm>
              <a:off x="7501320" y="6883200"/>
              <a:ext cx="17028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Freeform 113"/>
            <p:cNvSpPr/>
            <p:nvPr/>
          </p:nvSpPr>
          <p:spPr>
            <a:xfrm>
              <a:off x="7680600" y="6878880"/>
              <a:ext cx="11484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Freeform 114"/>
            <p:cNvSpPr/>
            <p:nvPr/>
          </p:nvSpPr>
          <p:spPr>
            <a:xfrm>
              <a:off x="7817400" y="6878880"/>
              <a:ext cx="6588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Freeform 115"/>
            <p:cNvSpPr/>
            <p:nvPr/>
          </p:nvSpPr>
          <p:spPr>
            <a:xfrm>
              <a:off x="7962480" y="6822720"/>
              <a:ext cx="182520" cy="18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Freeform 116"/>
            <p:cNvSpPr/>
            <p:nvPr/>
          </p:nvSpPr>
          <p:spPr>
            <a:xfrm>
              <a:off x="8170560" y="6878880"/>
              <a:ext cx="6084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Freeform 117"/>
            <p:cNvSpPr/>
            <p:nvPr/>
          </p:nvSpPr>
          <p:spPr>
            <a:xfrm>
              <a:off x="8242920" y="6878880"/>
              <a:ext cx="11808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Freeform 118"/>
            <p:cNvSpPr/>
            <p:nvPr/>
          </p:nvSpPr>
          <p:spPr>
            <a:xfrm>
              <a:off x="8388720" y="6883200"/>
              <a:ext cx="11304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Freeform 119"/>
            <p:cNvSpPr/>
            <p:nvPr/>
          </p:nvSpPr>
          <p:spPr>
            <a:xfrm>
              <a:off x="8530560" y="6881400"/>
              <a:ext cx="116280" cy="17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9" name="Freeform 120"/>
            <p:cNvSpPr/>
            <p:nvPr/>
          </p:nvSpPr>
          <p:spPr>
            <a:xfrm>
              <a:off x="6000840" y="6777000"/>
              <a:ext cx="239760" cy="299880"/>
            </a:xfrm>
            <a:prstGeom prst="pie">
              <a:avLst/>
            </a:prstGeom>
            <a:solidFill>
              <a:srgbClr val="3333cc"/>
            </a:solidFill>
            <a:ln w="3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12157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5"/>
          </p:nvPr>
        </p:nvSpPr>
        <p:spPr>
          <a:xfrm>
            <a:off x="685800" y="6536880"/>
            <a:ext cx="1905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DA1C-CD14-4F1B-AFD2-45072B7D78C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6"/>
          </p:nvPr>
        </p:nvSpPr>
        <p:spPr>
          <a:xfrm>
            <a:off x="4114440" y="6686640"/>
            <a:ext cx="10666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DA45E57-2D23-4BBC-B0D8-37D514E407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08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5" descr="doe color"/>
          <p:cNvPicPr/>
          <p:nvPr/>
        </p:nvPicPr>
        <p:blipFill>
          <a:blip r:embed="rId2"/>
          <a:stretch/>
        </p:blipFill>
        <p:spPr>
          <a:xfrm>
            <a:off x="2257560" y="6647040"/>
            <a:ext cx="641160" cy="507960"/>
          </a:xfrm>
          <a:prstGeom prst="rect">
            <a:avLst/>
          </a:prstGeom>
          <a:ln w="0">
            <a:noFill/>
          </a:ln>
        </p:spPr>
      </p:pic>
      <p:sp>
        <p:nvSpPr>
          <p:cNvPr id="341" name="Line 176"/>
          <p:cNvSpPr/>
          <p:nvPr/>
        </p:nvSpPr>
        <p:spPr>
          <a:xfrm>
            <a:off x="184320" y="6649920"/>
            <a:ext cx="8775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2" name="Picture 200" descr="CERTS Logo: red and blue"/>
          <p:cNvPicPr/>
          <p:nvPr/>
        </p:nvPicPr>
        <p:blipFill>
          <a:blip r:embed="rId3"/>
          <a:stretch/>
        </p:blipFill>
        <p:spPr>
          <a:xfrm>
            <a:off x="3770280" y="6827760"/>
            <a:ext cx="1276560" cy="2383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4"/>
          <a:stretch/>
        </p:blipFill>
        <p:spPr>
          <a:xfrm>
            <a:off x="66600" y="6670800"/>
            <a:ext cx="982800" cy="461880"/>
          </a:xfrm>
          <a:prstGeom prst="rect">
            <a:avLst/>
          </a:prstGeom>
          <a:ln w="0">
            <a:noFill/>
          </a:ln>
        </p:spPr>
      </p:pic>
      <p:grpSp>
        <p:nvGrpSpPr>
          <p:cNvPr id="344" name="Group 101"/>
          <p:cNvGrpSpPr/>
          <p:nvPr/>
        </p:nvGrpSpPr>
        <p:grpSpPr>
          <a:xfrm>
            <a:off x="6000840" y="6777000"/>
            <a:ext cx="2646000" cy="299880"/>
            <a:chOff x="6000840" y="6777000"/>
            <a:chExt cx="2646000" cy="299880"/>
          </a:xfrm>
        </p:grpSpPr>
        <p:sp>
          <p:nvSpPr>
            <p:cNvPr id="345" name="Freeform 102"/>
            <p:cNvSpPr/>
            <p:nvPr/>
          </p:nvSpPr>
          <p:spPr>
            <a:xfrm>
              <a:off x="6345360" y="6831000"/>
              <a:ext cx="15048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Rectangle 103"/>
            <p:cNvSpPr/>
            <p:nvPr/>
          </p:nvSpPr>
          <p:spPr>
            <a:xfrm>
              <a:off x="6514200" y="6831000"/>
              <a:ext cx="1368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Freeform 104"/>
            <p:cNvSpPr/>
            <p:nvPr/>
          </p:nvSpPr>
          <p:spPr>
            <a:xfrm>
              <a:off x="6549840" y="6878880"/>
              <a:ext cx="11484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Freeform 105"/>
            <p:cNvSpPr/>
            <p:nvPr/>
          </p:nvSpPr>
          <p:spPr>
            <a:xfrm>
              <a:off x="6681600" y="6878880"/>
              <a:ext cx="11988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Freeform 106"/>
            <p:cNvSpPr/>
            <p:nvPr/>
          </p:nvSpPr>
          <p:spPr>
            <a:xfrm>
              <a:off x="6808680" y="6833160"/>
              <a:ext cx="58680" cy="17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Freeform 107"/>
            <p:cNvSpPr/>
            <p:nvPr/>
          </p:nvSpPr>
          <p:spPr>
            <a:xfrm>
              <a:off x="6882840" y="6878880"/>
              <a:ext cx="6228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1" name="Freeform 108"/>
            <p:cNvSpPr/>
            <p:nvPr/>
          </p:nvSpPr>
          <p:spPr>
            <a:xfrm>
              <a:off x="6960240" y="6837480"/>
              <a:ext cx="13680" cy="16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Freeform 109"/>
            <p:cNvSpPr/>
            <p:nvPr/>
          </p:nvSpPr>
          <p:spPr>
            <a:xfrm>
              <a:off x="6995880" y="6878880"/>
              <a:ext cx="12168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Freeform 110"/>
            <p:cNvSpPr/>
            <p:nvPr/>
          </p:nvSpPr>
          <p:spPr>
            <a:xfrm>
              <a:off x="7207200" y="6831000"/>
              <a:ext cx="1537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Freeform 111"/>
            <p:cNvSpPr/>
            <p:nvPr/>
          </p:nvSpPr>
          <p:spPr>
            <a:xfrm>
              <a:off x="7369560" y="6878880"/>
              <a:ext cx="12312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Freeform 112"/>
            <p:cNvSpPr/>
            <p:nvPr/>
          </p:nvSpPr>
          <p:spPr>
            <a:xfrm>
              <a:off x="7501320" y="6883200"/>
              <a:ext cx="17028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Freeform 113"/>
            <p:cNvSpPr/>
            <p:nvPr/>
          </p:nvSpPr>
          <p:spPr>
            <a:xfrm>
              <a:off x="7680600" y="6878880"/>
              <a:ext cx="11484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Freeform 114"/>
            <p:cNvSpPr/>
            <p:nvPr/>
          </p:nvSpPr>
          <p:spPr>
            <a:xfrm>
              <a:off x="7817400" y="6878880"/>
              <a:ext cx="6588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Freeform 115"/>
            <p:cNvSpPr/>
            <p:nvPr/>
          </p:nvSpPr>
          <p:spPr>
            <a:xfrm>
              <a:off x="7962480" y="6822720"/>
              <a:ext cx="182520" cy="18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Freeform 116"/>
            <p:cNvSpPr/>
            <p:nvPr/>
          </p:nvSpPr>
          <p:spPr>
            <a:xfrm>
              <a:off x="8170560" y="6878880"/>
              <a:ext cx="6084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Freeform 117"/>
            <p:cNvSpPr/>
            <p:nvPr/>
          </p:nvSpPr>
          <p:spPr>
            <a:xfrm>
              <a:off x="8242920" y="6878880"/>
              <a:ext cx="11808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Freeform 118"/>
            <p:cNvSpPr/>
            <p:nvPr/>
          </p:nvSpPr>
          <p:spPr>
            <a:xfrm>
              <a:off x="8388720" y="6883200"/>
              <a:ext cx="11304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Freeform 119"/>
            <p:cNvSpPr/>
            <p:nvPr/>
          </p:nvSpPr>
          <p:spPr>
            <a:xfrm>
              <a:off x="8530560" y="6881400"/>
              <a:ext cx="116280" cy="17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Freeform 120"/>
            <p:cNvSpPr/>
            <p:nvPr/>
          </p:nvSpPr>
          <p:spPr>
            <a:xfrm>
              <a:off x="6000840" y="6777000"/>
              <a:ext cx="239760" cy="299880"/>
            </a:xfrm>
            <a:prstGeom prst="pie">
              <a:avLst/>
            </a:prstGeom>
            <a:solidFill>
              <a:srgbClr val="3333cc"/>
            </a:solidFill>
            <a:ln w="3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79320" y="12157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7"/>
          </p:nvPr>
        </p:nvSpPr>
        <p:spPr>
          <a:xfrm>
            <a:off x="685800" y="6536880"/>
            <a:ext cx="1905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9F7C-4599-497A-94E4-23D664B9769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8"/>
          </p:nvPr>
        </p:nvSpPr>
        <p:spPr>
          <a:xfrm>
            <a:off x="4114440" y="6686640"/>
            <a:ext cx="10666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234DB20-F2EB-452B-9BE8-6EC10D9394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08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35" descr="doe color"/>
          <p:cNvPicPr/>
          <p:nvPr/>
        </p:nvPicPr>
        <p:blipFill>
          <a:blip r:embed="rId2"/>
          <a:stretch/>
        </p:blipFill>
        <p:spPr>
          <a:xfrm>
            <a:off x="2257560" y="6647040"/>
            <a:ext cx="641160" cy="507960"/>
          </a:xfrm>
          <a:prstGeom prst="rect">
            <a:avLst/>
          </a:prstGeom>
          <a:ln w="0">
            <a:noFill/>
          </a:ln>
        </p:spPr>
      </p:pic>
      <p:sp>
        <p:nvSpPr>
          <p:cNvPr id="405" name="Line 176"/>
          <p:cNvSpPr/>
          <p:nvPr/>
        </p:nvSpPr>
        <p:spPr>
          <a:xfrm>
            <a:off x="184320" y="6649920"/>
            <a:ext cx="8775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06" name="Picture 200" descr="CERTS Logo: red and blue"/>
          <p:cNvPicPr/>
          <p:nvPr/>
        </p:nvPicPr>
        <p:blipFill>
          <a:blip r:embed="rId3"/>
          <a:stretch/>
        </p:blipFill>
        <p:spPr>
          <a:xfrm>
            <a:off x="3770280" y="6827760"/>
            <a:ext cx="1276560" cy="238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"/>
          <p:cNvPicPr/>
          <p:nvPr/>
        </p:nvPicPr>
        <p:blipFill>
          <a:blip r:embed="rId4"/>
          <a:stretch/>
        </p:blipFill>
        <p:spPr>
          <a:xfrm>
            <a:off x="66600" y="6670800"/>
            <a:ext cx="982800" cy="46188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101"/>
          <p:cNvGrpSpPr/>
          <p:nvPr/>
        </p:nvGrpSpPr>
        <p:grpSpPr>
          <a:xfrm>
            <a:off x="6000840" y="6777000"/>
            <a:ext cx="2646000" cy="299880"/>
            <a:chOff x="6000840" y="6777000"/>
            <a:chExt cx="2646000" cy="299880"/>
          </a:xfrm>
        </p:grpSpPr>
        <p:sp>
          <p:nvSpPr>
            <p:cNvPr id="409" name="Freeform 102"/>
            <p:cNvSpPr/>
            <p:nvPr/>
          </p:nvSpPr>
          <p:spPr>
            <a:xfrm>
              <a:off x="6345360" y="6831000"/>
              <a:ext cx="15048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Rectangle 103"/>
            <p:cNvSpPr/>
            <p:nvPr/>
          </p:nvSpPr>
          <p:spPr>
            <a:xfrm>
              <a:off x="6514200" y="6831000"/>
              <a:ext cx="1368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Freeform 104"/>
            <p:cNvSpPr/>
            <p:nvPr/>
          </p:nvSpPr>
          <p:spPr>
            <a:xfrm>
              <a:off x="6549840" y="6878880"/>
              <a:ext cx="11484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Freeform 105"/>
            <p:cNvSpPr/>
            <p:nvPr/>
          </p:nvSpPr>
          <p:spPr>
            <a:xfrm>
              <a:off x="6681600" y="6878880"/>
              <a:ext cx="11988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3" name="Freeform 106"/>
            <p:cNvSpPr/>
            <p:nvPr/>
          </p:nvSpPr>
          <p:spPr>
            <a:xfrm>
              <a:off x="6808680" y="6833160"/>
              <a:ext cx="58680" cy="17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4" name="Freeform 107"/>
            <p:cNvSpPr/>
            <p:nvPr/>
          </p:nvSpPr>
          <p:spPr>
            <a:xfrm>
              <a:off x="6882840" y="6878880"/>
              <a:ext cx="6228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Freeform 108"/>
            <p:cNvSpPr/>
            <p:nvPr/>
          </p:nvSpPr>
          <p:spPr>
            <a:xfrm>
              <a:off x="6960240" y="6837480"/>
              <a:ext cx="13680" cy="16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Freeform 109"/>
            <p:cNvSpPr/>
            <p:nvPr/>
          </p:nvSpPr>
          <p:spPr>
            <a:xfrm>
              <a:off x="6995880" y="6878880"/>
              <a:ext cx="12168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7" name="Freeform 110"/>
            <p:cNvSpPr/>
            <p:nvPr/>
          </p:nvSpPr>
          <p:spPr>
            <a:xfrm>
              <a:off x="7207200" y="6831000"/>
              <a:ext cx="1537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8" name="Freeform 111"/>
            <p:cNvSpPr/>
            <p:nvPr/>
          </p:nvSpPr>
          <p:spPr>
            <a:xfrm>
              <a:off x="7369560" y="6878880"/>
              <a:ext cx="12312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Freeform 112"/>
            <p:cNvSpPr/>
            <p:nvPr/>
          </p:nvSpPr>
          <p:spPr>
            <a:xfrm>
              <a:off x="7501320" y="6883200"/>
              <a:ext cx="17028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Freeform 113"/>
            <p:cNvSpPr/>
            <p:nvPr/>
          </p:nvSpPr>
          <p:spPr>
            <a:xfrm>
              <a:off x="7680600" y="6878880"/>
              <a:ext cx="11484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Freeform 114"/>
            <p:cNvSpPr/>
            <p:nvPr/>
          </p:nvSpPr>
          <p:spPr>
            <a:xfrm>
              <a:off x="7817400" y="6878880"/>
              <a:ext cx="6588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Freeform 115"/>
            <p:cNvSpPr/>
            <p:nvPr/>
          </p:nvSpPr>
          <p:spPr>
            <a:xfrm>
              <a:off x="7962480" y="6822720"/>
              <a:ext cx="182520" cy="18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Freeform 116"/>
            <p:cNvSpPr/>
            <p:nvPr/>
          </p:nvSpPr>
          <p:spPr>
            <a:xfrm>
              <a:off x="8170560" y="6878880"/>
              <a:ext cx="6084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Freeform 117"/>
            <p:cNvSpPr/>
            <p:nvPr/>
          </p:nvSpPr>
          <p:spPr>
            <a:xfrm>
              <a:off x="8242920" y="6878880"/>
              <a:ext cx="11808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Freeform 118"/>
            <p:cNvSpPr/>
            <p:nvPr/>
          </p:nvSpPr>
          <p:spPr>
            <a:xfrm>
              <a:off x="8388720" y="6883200"/>
              <a:ext cx="11304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Freeform 119"/>
            <p:cNvSpPr/>
            <p:nvPr/>
          </p:nvSpPr>
          <p:spPr>
            <a:xfrm>
              <a:off x="8530560" y="6881400"/>
              <a:ext cx="116280" cy="17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Freeform 120"/>
            <p:cNvSpPr/>
            <p:nvPr/>
          </p:nvSpPr>
          <p:spPr>
            <a:xfrm>
              <a:off x="6000840" y="6777000"/>
              <a:ext cx="239760" cy="299880"/>
            </a:xfrm>
            <a:prstGeom prst="pie">
              <a:avLst/>
            </a:prstGeom>
            <a:solidFill>
              <a:srgbClr val="3333cc"/>
            </a:solidFill>
            <a:ln w="3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79320" y="12157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9"/>
          </p:nvPr>
        </p:nvSpPr>
        <p:spPr>
          <a:xfrm>
            <a:off x="685800" y="6536880"/>
            <a:ext cx="1905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71AB-5999-4819-8B1B-E11B3F7F092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0"/>
          </p:nvPr>
        </p:nvSpPr>
        <p:spPr>
          <a:xfrm>
            <a:off x="4114440" y="6686640"/>
            <a:ext cx="10666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5001F46-FE37-47E4-887C-018D8B8BCF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08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35" descr="doe color"/>
          <p:cNvPicPr/>
          <p:nvPr/>
        </p:nvPicPr>
        <p:blipFill>
          <a:blip r:embed="rId2"/>
          <a:stretch/>
        </p:blipFill>
        <p:spPr>
          <a:xfrm>
            <a:off x="2257560" y="6647040"/>
            <a:ext cx="641160" cy="507960"/>
          </a:xfrm>
          <a:prstGeom prst="rect">
            <a:avLst/>
          </a:prstGeom>
          <a:ln w="0">
            <a:noFill/>
          </a:ln>
        </p:spPr>
      </p:pic>
      <p:sp>
        <p:nvSpPr>
          <p:cNvPr id="469" name="Line 176"/>
          <p:cNvSpPr/>
          <p:nvPr/>
        </p:nvSpPr>
        <p:spPr>
          <a:xfrm>
            <a:off x="184320" y="6649920"/>
            <a:ext cx="87753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0" name="Picture 200" descr="CERTS Logo: red and blue"/>
          <p:cNvPicPr/>
          <p:nvPr/>
        </p:nvPicPr>
        <p:blipFill>
          <a:blip r:embed="rId3"/>
          <a:stretch/>
        </p:blipFill>
        <p:spPr>
          <a:xfrm>
            <a:off x="3770280" y="6827760"/>
            <a:ext cx="1276560" cy="2383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"/>
          <p:cNvPicPr/>
          <p:nvPr/>
        </p:nvPicPr>
        <p:blipFill>
          <a:blip r:embed="rId4"/>
          <a:stretch/>
        </p:blipFill>
        <p:spPr>
          <a:xfrm>
            <a:off x="66600" y="6670800"/>
            <a:ext cx="982800" cy="461880"/>
          </a:xfrm>
          <a:prstGeom prst="rect">
            <a:avLst/>
          </a:prstGeom>
          <a:ln w="0">
            <a:noFill/>
          </a:ln>
        </p:spPr>
      </p:pic>
      <p:grpSp>
        <p:nvGrpSpPr>
          <p:cNvPr id="472" name="Group 101"/>
          <p:cNvGrpSpPr/>
          <p:nvPr/>
        </p:nvGrpSpPr>
        <p:grpSpPr>
          <a:xfrm>
            <a:off x="6000840" y="6777000"/>
            <a:ext cx="2646000" cy="299880"/>
            <a:chOff x="6000840" y="6777000"/>
            <a:chExt cx="2646000" cy="299880"/>
          </a:xfrm>
        </p:grpSpPr>
        <p:sp>
          <p:nvSpPr>
            <p:cNvPr id="473" name="Freeform 102"/>
            <p:cNvSpPr/>
            <p:nvPr/>
          </p:nvSpPr>
          <p:spPr>
            <a:xfrm>
              <a:off x="6345360" y="6831000"/>
              <a:ext cx="15048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Rectangle 103"/>
            <p:cNvSpPr/>
            <p:nvPr/>
          </p:nvSpPr>
          <p:spPr>
            <a:xfrm>
              <a:off x="6514200" y="6831000"/>
              <a:ext cx="1368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Freeform 104"/>
            <p:cNvSpPr/>
            <p:nvPr/>
          </p:nvSpPr>
          <p:spPr>
            <a:xfrm>
              <a:off x="6549840" y="6878880"/>
              <a:ext cx="11484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Freeform 105"/>
            <p:cNvSpPr/>
            <p:nvPr/>
          </p:nvSpPr>
          <p:spPr>
            <a:xfrm>
              <a:off x="6681600" y="6878880"/>
              <a:ext cx="11988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7" name="Freeform 106"/>
            <p:cNvSpPr/>
            <p:nvPr/>
          </p:nvSpPr>
          <p:spPr>
            <a:xfrm>
              <a:off x="6808680" y="6833160"/>
              <a:ext cx="58680" cy="17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Freeform 107"/>
            <p:cNvSpPr/>
            <p:nvPr/>
          </p:nvSpPr>
          <p:spPr>
            <a:xfrm>
              <a:off x="6882840" y="6878880"/>
              <a:ext cx="6228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9" name="Freeform 108"/>
            <p:cNvSpPr/>
            <p:nvPr/>
          </p:nvSpPr>
          <p:spPr>
            <a:xfrm>
              <a:off x="6960240" y="6837480"/>
              <a:ext cx="13680" cy="16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Freeform 109"/>
            <p:cNvSpPr/>
            <p:nvPr/>
          </p:nvSpPr>
          <p:spPr>
            <a:xfrm>
              <a:off x="6995880" y="6878880"/>
              <a:ext cx="12168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Freeform 110"/>
            <p:cNvSpPr/>
            <p:nvPr/>
          </p:nvSpPr>
          <p:spPr>
            <a:xfrm>
              <a:off x="7207200" y="6831000"/>
              <a:ext cx="1537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2" name="Freeform 111"/>
            <p:cNvSpPr/>
            <p:nvPr/>
          </p:nvSpPr>
          <p:spPr>
            <a:xfrm>
              <a:off x="7369560" y="6878880"/>
              <a:ext cx="12312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Freeform 112"/>
            <p:cNvSpPr/>
            <p:nvPr/>
          </p:nvSpPr>
          <p:spPr>
            <a:xfrm>
              <a:off x="7501320" y="6883200"/>
              <a:ext cx="17028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4" name="Freeform 113"/>
            <p:cNvSpPr/>
            <p:nvPr/>
          </p:nvSpPr>
          <p:spPr>
            <a:xfrm>
              <a:off x="7680600" y="6878880"/>
              <a:ext cx="11484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5" name="Freeform 114"/>
            <p:cNvSpPr/>
            <p:nvPr/>
          </p:nvSpPr>
          <p:spPr>
            <a:xfrm>
              <a:off x="7817400" y="6878880"/>
              <a:ext cx="6588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6" name="Freeform 115"/>
            <p:cNvSpPr/>
            <p:nvPr/>
          </p:nvSpPr>
          <p:spPr>
            <a:xfrm>
              <a:off x="7962480" y="6822720"/>
              <a:ext cx="182520" cy="18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7" name="Freeform 116"/>
            <p:cNvSpPr/>
            <p:nvPr/>
          </p:nvSpPr>
          <p:spPr>
            <a:xfrm>
              <a:off x="8170560" y="6878880"/>
              <a:ext cx="6084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Freeform 117"/>
            <p:cNvSpPr/>
            <p:nvPr/>
          </p:nvSpPr>
          <p:spPr>
            <a:xfrm>
              <a:off x="8242920" y="6878880"/>
              <a:ext cx="118080" cy="13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9" name="Freeform 118"/>
            <p:cNvSpPr/>
            <p:nvPr/>
          </p:nvSpPr>
          <p:spPr>
            <a:xfrm>
              <a:off x="8388720" y="6883200"/>
              <a:ext cx="11304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0" name="Freeform 119"/>
            <p:cNvSpPr/>
            <p:nvPr/>
          </p:nvSpPr>
          <p:spPr>
            <a:xfrm>
              <a:off x="8530560" y="6881400"/>
              <a:ext cx="116280" cy="17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1" name="Freeform 120"/>
            <p:cNvSpPr/>
            <p:nvPr/>
          </p:nvSpPr>
          <p:spPr>
            <a:xfrm>
              <a:off x="6000840" y="6777000"/>
              <a:ext cx="239760" cy="299880"/>
            </a:xfrm>
            <a:prstGeom prst="pie">
              <a:avLst/>
            </a:prstGeom>
            <a:solidFill>
              <a:srgbClr val="3333cc"/>
            </a:solidFill>
            <a:ln w="3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9320" y="121572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1"/>
          </p:nvPr>
        </p:nvSpPr>
        <p:spPr>
          <a:xfrm>
            <a:off x="685800" y="6536880"/>
            <a:ext cx="1905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ACE2-E64F-4C7A-95B1-6F9726416A7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2"/>
          </p:nvPr>
        </p:nvSpPr>
        <p:spPr>
          <a:xfrm>
            <a:off x="4114440" y="6686640"/>
            <a:ext cx="10666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2BCBA1-B2A4-4177-868D-896A25C791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08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hyperlink" Target="http://www.sharylandutilities.com/main.asp" TargetMode="External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jpe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64680" y="948960"/>
            <a:ext cx="8420040" cy="15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exas Phasor Projec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514440" y="2514600"/>
            <a:ext cx="821664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Reliability and Operations Subcommittee (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12,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t Holloway, Center for the Commercialization of Electric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 Parashar, Consortium for Electric Reliability Technology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hn Adams,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782640" y="6670800"/>
            <a:ext cx="982800" cy="4618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2514600" y="6667560"/>
            <a:ext cx="1913040" cy="4651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5" descr="doe color"/>
          <p:cNvPicPr/>
          <p:nvPr/>
        </p:nvPicPr>
        <p:blipFill>
          <a:blip r:embed="rId3"/>
          <a:stretch/>
        </p:blipFill>
        <p:spPr>
          <a:xfrm>
            <a:off x="5264280" y="6624720"/>
            <a:ext cx="641160" cy="5079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00" descr="CERTS Logo: red and blue"/>
          <p:cNvPicPr/>
          <p:nvPr/>
        </p:nvPicPr>
        <p:blipFill>
          <a:blip r:embed="rId4"/>
          <a:stretch/>
        </p:blipFill>
        <p:spPr>
          <a:xfrm>
            <a:off x="6507000" y="6713640"/>
            <a:ext cx="165924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4"/>
          <p:cNvSpPr/>
          <p:nvPr/>
        </p:nvSpPr>
        <p:spPr>
          <a:xfrm>
            <a:off x="4114800" y="6686640"/>
            <a:ext cx="10666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2A3F58-839C-4643-86E7-A35A3631524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90408</a:t>
            </a:r>
            <a:endParaRPr b="1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al Time Dynamics Monitoring System - ERCOT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619" name="Group 47"/>
          <p:cNvGrpSpPr/>
          <p:nvPr/>
        </p:nvGrpSpPr>
        <p:grpSpPr>
          <a:xfrm>
            <a:off x="0" y="1144440"/>
            <a:ext cx="9144000" cy="5542200"/>
            <a:chOff x="0" y="1144440"/>
            <a:chExt cx="9144000" cy="5542200"/>
          </a:xfrm>
        </p:grpSpPr>
        <p:pic>
          <p:nvPicPr>
            <p:cNvPr id="620" name="Picture 13" descr="ERCOTDB.jpg"/>
            <p:cNvPicPr/>
            <p:nvPr/>
          </p:nvPicPr>
          <p:blipFill>
            <a:blip r:embed="rId1"/>
            <a:stretch/>
          </p:blipFill>
          <p:spPr>
            <a:xfrm>
              <a:off x="0" y="1144440"/>
              <a:ext cx="9144000" cy="554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1" name="Oval 7"/>
            <p:cNvGrpSpPr/>
            <p:nvPr/>
          </p:nvGrpSpPr>
          <p:grpSpPr>
            <a:xfrm>
              <a:off x="6071760" y="1727280"/>
              <a:ext cx="2950560" cy="1023840"/>
              <a:chOff x="6071760" y="1727280"/>
              <a:chExt cx="2950560" cy="1023840"/>
            </a:xfrm>
          </p:grpSpPr>
          <p:pic>
            <p:nvPicPr>
              <p:cNvPr id="622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6071760" y="1727280"/>
                <a:ext cx="2950560" cy="102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"/>
              <p:cNvSpPr/>
              <p:nvPr/>
            </p:nvSpPr>
            <p:spPr>
              <a:xfrm>
                <a:off x="6567120" y="1938960"/>
                <a:ext cx="1953360" cy="59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24" name="Oval 12"/>
            <p:cNvGrpSpPr/>
            <p:nvPr/>
          </p:nvGrpSpPr>
          <p:grpSpPr>
            <a:xfrm>
              <a:off x="6778800" y="2800080"/>
              <a:ext cx="444960" cy="530280"/>
              <a:chOff x="6778800" y="2800080"/>
              <a:chExt cx="444960" cy="530280"/>
            </a:xfrm>
          </p:grpSpPr>
          <p:pic>
            <p:nvPicPr>
              <p:cNvPr id="625" name="Oval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778800" y="2800080"/>
                <a:ext cx="444960" cy="53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6" name=""/>
              <p:cNvSpPr/>
              <p:nvPr/>
            </p:nvSpPr>
            <p:spPr>
              <a:xfrm>
                <a:off x="6905160" y="2942640"/>
                <a:ext cx="18180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27" name="Oval 14"/>
            <p:cNvGrpSpPr/>
            <p:nvPr/>
          </p:nvGrpSpPr>
          <p:grpSpPr>
            <a:xfrm>
              <a:off x="8065080" y="2775600"/>
              <a:ext cx="444960" cy="530280"/>
              <a:chOff x="8065080" y="2775600"/>
              <a:chExt cx="444960" cy="530280"/>
            </a:xfrm>
          </p:grpSpPr>
          <p:pic>
            <p:nvPicPr>
              <p:cNvPr id="628" name="Oval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65080" y="2775600"/>
                <a:ext cx="444960" cy="53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"/>
              <p:cNvSpPr/>
              <p:nvPr/>
            </p:nvSpPr>
            <p:spPr>
              <a:xfrm>
                <a:off x="8191080" y="2914200"/>
                <a:ext cx="18180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30" name="Oval 15"/>
            <p:cNvGrpSpPr/>
            <p:nvPr/>
          </p:nvGrpSpPr>
          <p:grpSpPr>
            <a:xfrm>
              <a:off x="6730200" y="3817800"/>
              <a:ext cx="444960" cy="536040"/>
              <a:chOff x="6730200" y="3817800"/>
              <a:chExt cx="444960" cy="536040"/>
            </a:xfrm>
          </p:grpSpPr>
          <p:pic>
            <p:nvPicPr>
              <p:cNvPr id="631" name="Oval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730200" y="3817800"/>
                <a:ext cx="444960" cy="53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>
                <a:off x="6857640" y="3961440"/>
                <a:ext cx="18180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33" name="Oval 16"/>
            <p:cNvGrpSpPr/>
            <p:nvPr/>
          </p:nvGrpSpPr>
          <p:grpSpPr>
            <a:xfrm>
              <a:off x="8016480" y="3793320"/>
              <a:ext cx="481320" cy="530280"/>
              <a:chOff x="8016480" y="3793320"/>
              <a:chExt cx="481320" cy="530280"/>
            </a:xfrm>
          </p:grpSpPr>
          <p:pic>
            <p:nvPicPr>
              <p:cNvPr id="634" name="Oval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016480" y="3793320"/>
                <a:ext cx="481320" cy="53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>
                <a:off x="8148960" y="3933000"/>
                <a:ext cx="20880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36" name="TextBox 19"/>
            <p:cNvSpPr/>
            <p:nvPr/>
          </p:nvSpPr>
          <p:spPr>
            <a:xfrm>
              <a:off x="2085840" y="1692000"/>
              <a:ext cx="3009960" cy="519840"/>
            </a:xfrm>
            <a:prstGeom prst="rect">
              <a:avLst/>
            </a:prstGeom>
            <a:solidFill>
              <a:srgbClr val="ffffff">
                <a:alpha val="86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AUGE</a:t>
              </a:r>
              <a:endParaRPr b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ntifies the worst performing metric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TextBox 20"/>
            <p:cNvSpPr/>
            <p:nvPr/>
          </p:nvSpPr>
          <p:spPr>
            <a:xfrm>
              <a:off x="2771640" y="3016080"/>
              <a:ext cx="3009960" cy="702360"/>
            </a:xfrm>
            <a:prstGeom prst="rect">
              <a:avLst/>
            </a:prstGeom>
            <a:solidFill>
              <a:srgbClr val="ffffff">
                <a:alpha val="86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CATION INDICATORS</a:t>
              </a:r>
              <a:endParaRPr b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vides information for specific locations or jurisdictions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TextBox 21"/>
            <p:cNvSpPr/>
            <p:nvPr/>
          </p:nvSpPr>
          <p:spPr>
            <a:xfrm>
              <a:off x="1952640" y="4340160"/>
              <a:ext cx="3009960" cy="702360"/>
            </a:xfrm>
            <a:prstGeom prst="rect">
              <a:avLst/>
            </a:prstGeom>
            <a:solidFill>
              <a:srgbClr val="ffffff">
                <a:alpha val="86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FFIC LIGHTS</a:t>
              </a:r>
              <a:endParaRPr b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vides status of specific metrics across the interconnection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39" name="Right Arrow 22"/>
            <p:cNvGrpSpPr/>
            <p:nvPr/>
          </p:nvGrpSpPr>
          <p:grpSpPr>
            <a:xfrm>
              <a:off x="4968360" y="1946520"/>
              <a:ext cx="1426320" cy="450720"/>
              <a:chOff x="4968360" y="1946520"/>
              <a:chExt cx="1426320" cy="450720"/>
            </a:xfrm>
          </p:grpSpPr>
          <p:pic>
            <p:nvPicPr>
              <p:cNvPr id="640" name="Right Arrow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4968360" y="1946520"/>
                <a:ext cx="1426320" cy="45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"/>
              <p:cNvSpPr/>
              <p:nvPr/>
            </p:nvSpPr>
            <p:spPr>
              <a:xfrm>
                <a:off x="5086440" y="2118600"/>
                <a:ext cx="1135800" cy="10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cxnSp>
          <p:nvCxnSpPr>
            <p:cNvPr id="642" name="Elbow Connector 26"/>
            <p:cNvCxnSpPr>
              <a:stCxn id="637" idx="3"/>
              <a:endCxn id="625" idx="2"/>
            </p:cNvCxnSpPr>
            <p:nvPr/>
          </p:nvCxnSpPr>
          <p:spPr>
            <a:xfrm flipV="1">
              <a:off x="5781600" y="3063600"/>
              <a:ext cx="1086480" cy="306720"/>
            </a:xfrm>
            <a:prstGeom prst="bentConnector3">
              <a:avLst>
                <a:gd name="adj1" fmla="val 49983"/>
              </a:avLst>
            </a:prstGeom>
            <a:ln w="25560">
              <a:solidFill>
                <a:srgbClr val="ff0000"/>
              </a:solidFill>
              <a:round/>
              <a:tailEnd len="med" type="arrow" w="med"/>
            </a:ln>
          </p:spPr>
        </p:cxnSp>
        <p:cxnSp>
          <p:nvCxnSpPr>
            <p:cNvPr id="643" name="Shape 29"/>
            <p:cNvCxnSpPr>
              <a:stCxn id="637" idx="3"/>
              <a:endCxn id="628" idx="3"/>
            </p:cNvCxnSpPr>
            <p:nvPr/>
          </p:nvCxnSpPr>
          <p:spPr>
            <a:xfrm flipV="1">
              <a:off x="5781240" y="3155760"/>
              <a:ext cx="2410200" cy="214200"/>
            </a:xfrm>
            <a:prstGeom prst="bentConnector2">
              <a:avLst/>
            </a:prstGeom>
            <a:ln w="0">
              <a:noFill/>
            </a:ln>
          </p:spPr>
        </p:cxnSp>
        <p:cxnSp>
          <p:nvCxnSpPr>
            <p:cNvPr id="644" name="Elbow Connector 31"/>
            <p:cNvCxnSpPr>
              <a:stCxn id="637" idx="3"/>
            </p:cNvCxnSpPr>
            <p:nvPr/>
          </p:nvCxnSpPr>
          <p:spPr>
            <a:xfrm flipV="1">
              <a:off x="5781600" y="3063600"/>
              <a:ext cx="2334240" cy="306720"/>
            </a:xfrm>
            <a:prstGeom prst="bentConnector3">
              <a:avLst>
                <a:gd name="adj1" fmla="val 49992"/>
              </a:avLst>
            </a:prstGeom>
            <a:ln w="25560">
              <a:solidFill>
                <a:srgbClr val="ff0000"/>
              </a:solidFill>
              <a:round/>
              <a:tailEnd len="med" type="arrow" w="med"/>
            </a:ln>
          </p:spPr>
        </p:cxnSp>
        <p:cxnSp>
          <p:nvCxnSpPr>
            <p:cNvPr id="645" name="Elbow Connector 32"/>
            <p:cNvCxnSpPr>
              <a:stCxn id="637" idx="3"/>
            </p:cNvCxnSpPr>
            <p:nvPr/>
          </p:nvCxnSpPr>
          <p:spPr>
            <a:xfrm>
              <a:off x="5781600" y="3370320"/>
              <a:ext cx="1172160" cy="684720"/>
            </a:xfrm>
            <a:prstGeom prst="bentConnector3">
              <a:avLst>
                <a:gd name="adj1" fmla="val 49984"/>
              </a:avLst>
            </a:prstGeom>
            <a:ln w="25560">
              <a:solidFill>
                <a:srgbClr val="ff0000"/>
              </a:solidFill>
              <a:round/>
              <a:tailEnd len="med" type="arrow" w="med"/>
            </a:ln>
          </p:spPr>
        </p:cxnSp>
        <p:cxnSp>
          <p:nvCxnSpPr>
            <p:cNvPr id="646" name="Elbow Connector 35"/>
            <p:cNvCxnSpPr>
              <a:stCxn id="637" idx="3"/>
            </p:cNvCxnSpPr>
            <p:nvPr/>
          </p:nvCxnSpPr>
          <p:spPr>
            <a:xfrm>
              <a:off x="5781240" y="3370320"/>
              <a:ext cx="2515320" cy="465840"/>
            </a:xfrm>
            <a:prstGeom prst="bentConnector3">
              <a:avLst>
                <a:gd name="adj1" fmla="val 75751"/>
              </a:avLst>
            </a:prstGeom>
            <a:ln w="25560">
              <a:solidFill>
                <a:srgbClr val="ff0000"/>
              </a:solidFill>
              <a:round/>
              <a:tailEnd len="med" type="arrow" w="med"/>
            </a:ln>
          </p:spPr>
        </p:cxnSp>
        <p:grpSp>
          <p:nvGrpSpPr>
            <p:cNvPr id="647" name="Oval 39"/>
            <p:cNvGrpSpPr/>
            <p:nvPr/>
          </p:nvGrpSpPr>
          <p:grpSpPr>
            <a:xfrm>
              <a:off x="792360" y="5366160"/>
              <a:ext cx="725400" cy="578880"/>
              <a:chOff x="792360" y="5366160"/>
              <a:chExt cx="725400" cy="578880"/>
            </a:xfrm>
          </p:grpSpPr>
          <p:pic>
            <p:nvPicPr>
              <p:cNvPr id="648" name="Oval 39" descr=""/>
              <p:cNvPicPr/>
              <p:nvPr/>
            </p:nvPicPr>
            <p:blipFill>
              <a:blip r:embed="rId8"/>
              <a:stretch/>
            </p:blipFill>
            <p:spPr>
              <a:xfrm>
                <a:off x="792360" y="5366160"/>
                <a:ext cx="725400" cy="57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9" name=""/>
              <p:cNvSpPr/>
              <p:nvPr/>
            </p:nvSpPr>
            <p:spPr>
              <a:xfrm>
                <a:off x="963720" y="5511600"/>
                <a:ext cx="37728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50" name="Oval 40"/>
            <p:cNvGrpSpPr/>
            <p:nvPr/>
          </p:nvGrpSpPr>
          <p:grpSpPr>
            <a:xfrm>
              <a:off x="1822680" y="5390280"/>
              <a:ext cx="725400" cy="578880"/>
              <a:chOff x="1822680" y="5390280"/>
              <a:chExt cx="725400" cy="578880"/>
            </a:xfrm>
          </p:grpSpPr>
          <p:pic>
            <p:nvPicPr>
              <p:cNvPr id="651" name="Oval 40" descr=""/>
              <p:cNvPicPr/>
              <p:nvPr/>
            </p:nvPicPr>
            <p:blipFill>
              <a:blip r:embed="rId9"/>
              <a:stretch/>
            </p:blipFill>
            <p:spPr>
              <a:xfrm>
                <a:off x="1822680" y="5390280"/>
                <a:ext cx="725400" cy="57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>
                <a:off x="1992600" y="5540040"/>
                <a:ext cx="37728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53" name="Oval 41"/>
            <p:cNvGrpSpPr/>
            <p:nvPr/>
          </p:nvGrpSpPr>
          <p:grpSpPr>
            <a:xfrm>
              <a:off x="2999160" y="5299200"/>
              <a:ext cx="578880" cy="725040"/>
              <a:chOff x="2999160" y="5299200"/>
              <a:chExt cx="578880" cy="725040"/>
            </a:xfrm>
          </p:grpSpPr>
          <p:pic>
            <p:nvPicPr>
              <p:cNvPr id="654" name="Oval 41" descr=""/>
              <p:cNvPicPr/>
              <p:nvPr/>
            </p:nvPicPr>
            <p:blipFill>
              <a:blip r:embed="rId10"/>
              <a:stretch/>
            </p:blipFill>
            <p:spPr>
              <a:xfrm>
                <a:off x="2999160" y="5299200"/>
                <a:ext cx="578880" cy="72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 rot="16200000">
                <a:off x="3097440" y="5520600"/>
                <a:ext cx="376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56" name="Oval 42"/>
            <p:cNvGrpSpPr/>
            <p:nvPr/>
          </p:nvGrpSpPr>
          <p:grpSpPr>
            <a:xfrm>
              <a:off x="4065840" y="5311080"/>
              <a:ext cx="578880" cy="718920"/>
              <a:chOff x="4065840" y="5311080"/>
              <a:chExt cx="578880" cy="718920"/>
            </a:xfrm>
          </p:grpSpPr>
          <p:pic>
            <p:nvPicPr>
              <p:cNvPr id="657" name="Oval 42" descr=""/>
              <p:cNvPicPr/>
              <p:nvPr/>
            </p:nvPicPr>
            <p:blipFill>
              <a:blip r:embed="rId11"/>
              <a:stretch/>
            </p:blipFill>
            <p:spPr>
              <a:xfrm>
                <a:off x="4065840" y="5311080"/>
                <a:ext cx="578880" cy="71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 rot="16200000">
                <a:off x="4164120" y="5529960"/>
                <a:ext cx="376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59" name="Oval 43"/>
            <p:cNvGrpSpPr/>
            <p:nvPr/>
          </p:nvGrpSpPr>
          <p:grpSpPr>
            <a:xfrm>
              <a:off x="5132880" y="5274720"/>
              <a:ext cx="578880" cy="718920"/>
              <a:chOff x="5132880" y="5274720"/>
              <a:chExt cx="578880" cy="718920"/>
            </a:xfrm>
          </p:grpSpPr>
          <p:pic>
            <p:nvPicPr>
              <p:cNvPr id="660" name="Oval 43" descr=""/>
              <p:cNvPicPr/>
              <p:nvPr/>
            </p:nvPicPr>
            <p:blipFill>
              <a:blip r:embed="rId12"/>
              <a:stretch/>
            </p:blipFill>
            <p:spPr>
              <a:xfrm>
                <a:off x="5132880" y="5274720"/>
                <a:ext cx="578880" cy="71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1" name=""/>
              <p:cNvSpPr/>
              <p:nvPr/>
            </p:nvSpPr>
            <p:spPr>
              <a:xfrm rot="16200000">
                <a:off x="5231160" y="5492160"/>
                <a:ext cx="376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62" name="Oval 44"/>
            <p:cNvSpPr/>
            <p:nvPr/>
          </p:nvSpPr>
          <p:spPr>
            <a:xfrm>
              <a:off x="5284080" y="5547240"/>
              <a:ext cx="278280" cy="261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d0d0d"/>
                  </a:solidFill>
                  <a:latin typeface="Arial"/>
                </a:rPr>
                <a:t>R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3" name="TextBox 45"/>
            <p:cNvSpPr/>
            <p:nvPr/>
          </p:nvSpPr>
          <p:spPr>
            <a:xfrm>
              <a:off x="5686560" y="5112000"/>
              <a:ext cx="2934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4" name="Oval 46"/>
            <p:cNvSpPr/>
            <p:nvPr/>
          </p:nvSpPr>
          <p:spPr>
            <a:xfrm>
              <a:off x="3119400" y="5542560"/>
              <a:ext cx="278280" cy="261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d0d0d"/>
                  </a:solidFill>
                  <a:latin typeface="Arial"/>
                </a:rPr>
                <a:t>Y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cxnSp>
        <p:nvCxnSpPr>
          <p:cNvPr id="665" name="Shape 50"/>
          <p:cNvCxnSpPr>
            <a:stCxn id="638" idx="1"/>
            <a:endCxn id="648" idx="0"/>
          </p:cNvCxnSpPr>
          <p:nvPr/>
        </p:nvCxnSpPr>
        <p:spPr>
          <a:xfrm flipV="1" rot="10800000">
            <a:off x="1154880" y="4702680"/>
            <a:ext cx="785160" cy="662760"/>
          </a:xfrm>
          <a:prstGeom prst="bentConnector2">
            <a:avLst/>
          </a:prstGeom>
          <a:ln w="0">
            <a:noFill/>
          </a:ln>
        </p:spPr>
      </p:cxnSp>
      <p:cxnSp>
        <p:nvCxnSpPr>
          <p:cNvPr id="666" name="Shape 52"/>
          <p:cNvCxnSpPr>
            <a:stCxn id="638" idx="1"/>
            <a:endCxn id="648" idx="0"/>
          </p:cNvCxnSpPr>
          <p:nvPr/>
        </p:nvCxnSpPr>
        <p:spPr>
          <a:xfrm flipV="1" rot="10800000">
            <a:off x="1154880" y="4702680"/>
            <a:ext cx="785160" cy="662760"/>
          </a:xfrm>
          <a:prstGeom prst="bentConnector2">
            <a:avLst/>
          </a:prstGeom>
          <a:ln w="255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667" name="Shape 53"/>
          <p:cNvCxnSpPr>
            <a:stCxn id="638" idx="1"/>
            <a:endCxn id="651" idx="0"/>
          </p:cNvCxnSpPr>
          <p:nvPr/>
        </p:nvCxnSpPr>
        <p:spPr>
          <a:xfrm flipH="1" flipV="1" rot="10800000">
            <a:off x="1938960" y="4702680"/>
            <a:ext cx="246600" cy="686520"/>
          </a:xfrm>
          <a:prstGeom prst="bentConnector4">
            <a:avLst>
              <a:gd name="adj1" fmla="val -87719"/>
              <a:gd name="adj2" fmla="val 76600"/>
            </a:avLst>
          </a:prstGeom>
          <a:ln w="255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668" name="Shape 56"/>
          <p:cNvCxnSpPr>
            <a:stCxn id="638" idx="2"/>
          </p:cNvCxnSpPr>
          <p:nvPr/>
        </p:nvCxnSpPr>
        <p:spPr>
          <a:xfrm rot="5400000">
            <a:off x="3198960" y="5166360"/>
            <a:ext cx="345240" cy="17208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669" name="Shape 56"/>
          <p:cNvCxnSpPr/>
          <p:nvPr/>
        </p:nvCxnSpPr>
        <p:spPr>
          <a:xfrm>
            <a:off x="3419640" y="5181120"/>
            <a:ext cx="915120" cy="329040"/>
          </a:xfrm>
          <a:prstGeom prst="bentConnector2">
            <a:avLst/>
          </a:prstGeom>
          <a:ln w="255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670" name="Shape 56"/>
          <p:cNvCxnSpPr>
            <a:stCxn id="638" idx="3"/>
          </p:cNvCxnSpPr>
          <p:nvPr/>
        </p:nvCxnSpPr>
        <p:spPr>
          <a:xfrm>
            <a:off x="4975200" y="4703760"/>
            <a:ext cx="505440" cy="660600"/>
          </a:xfrm>
          <a:prstGeom prst="bentConnector2">
            <a:avLst/>
          </a:prstGeom>
          <a:ln w="2556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0" y="236160"/>
            <a:ext cx="91440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Phasor-Grid Dynamics Analyzer (PGDA)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– Offline Analysis Tool  (Dec. 16, 2008 Event)</a:t>
            </a:r>
            <a:br>
              <a:rPr sz="3200"/>
            </a:b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72" name="Picture 5" descr="ModalEvent.jpg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5388120"/>
          </a:xfrm>
          <a:prstGeom prst="rect">
            <a:avLst/>
          </a:prstGeom>
          <a:ln w="0">
            <a:noFill/>
          </a:ln>
        </p:spPr>
      </p:pic>
      <p:pic>
        <p:nvPicPr>
          <p:cNvPr id="673" name="Rounded Rectangular Callout 6" descr=""/>
          <p:cNvPicPr/>
          <p:nvPr/>
        </p:nvPicPr>
        <p:blipFill>
          <a:blip r:embed="rId2"/>
          <a:stretch/>
        </p:blipFill>
        <p:spPr>
          <a:xfrm>
            <a:off x="79200" y="2651040"/>
            <a:ext cx="1700280" cy="1665360"/>
          </a:xfrm>
          <a:prstGeom prst="rect">
            <a:avLst/>
          </a:prstGeom>
          <a:ln w="0">
            <a:noFill/>
          </a:ln>
        </p:spPr>
      </p:pic>
      <p:pic>
        <p:nvPicPr>
          <p:cNvPr id="674" name="Rounded Rectangular Callout 7" descr=""/>
          <p:cNvPicPr/>
          <p:nvPr/>
        </p:nvPicPr>
        <p:blipFill>
          <a:blip r:embed="rId3"/>
          <a:stretch/>
        </p:blipFill>
        <p:spPr>
          <a:xfrm>
            <a:off x="3681360" y="3170160"/>
            <a:ext cx="1811520" cy="322200"/>
          </a:xfrm>
          <a:prstGeom prst="rect">
            <a:avLst/>
          </a:prstGeom>
          <a:ln w="0">
            <a:noFill/>
          </a:ln>
        </p:spPr>
      </p:pic>
      <p:pic>
        <p:nvPicPr>
          <p:cNvPr id="675" name="Rounded Rectangular Callout 8" descr=""/>
          <p:cNvPicPr/>
          <p:nvPr/>
        </p:nvPicPr>
        <p:blipFill>
          <a:blip r:embed="rId4"/>
          <a:stretch/>
        </p:blipFill>
        <p:spPr>
          <a:xfrm>
            <a:off x="1243080" y="1584360"/>
            <a:ext cx="1146240" cy="336600"/>
          </a:xfrm>
          <a:prstGeom prst="rect">
            <a:avLst/>
          </a:prstGeom>
          <a:ln w="0">
            <a:noFill/>
          </a:ln>
        </p:spPr>
      </p:pic>
      <p:pic>
        <p:nvPicPr>
          <p:cNvPr id="676" name="Rounded Rectangular Callout 9" descr=""/>
          <p:cNvPicPr/>
          <p:nvPr/>
        </p:nvPicPr>
        <p:blipFill>
          <a:blip r:embed="rId5"/>
          <a:stretch/>
        </p:blipFill>
        <p:spPr>
          <a:xfrm>
            <a:off x="4286160" y="1504800"/>
            <a:ext cx="136548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What Are ERCOT’s Plans for 2009?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0440" y="1123560"/>
            <a:ext cx="83916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 BPA PDC at Tay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network of PMUs (AEP, Onco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experience with RTDMS; improve data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 studies of damping on ERCO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thresholds for intelligent ala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value of PMUs for ERCOT operations; if net positive, assess options and next steps for sustaining a monitoring capability at ERCOT (e.g., acquire production grade PDC from commercial vendor in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NERC/NASPI staff to resolve data shar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47160"/>
            <a:ext cx="91440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Texas Phasor Research and Implementation --Proposed Time-line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679320" y="1197000"/>
          <a:ext cx="7772400" cy="5010120"/>
        </p:xfrm>
        <a:graphic>
          <a:graphicData uri="http://schemas.openxmlformats.org/drawingml/2006/table">
            <a:tbl>
              <a:tblPr/>
              <a:tblGrid>
                <a:gridCol w="4111920"/>
                <a:gridCol w="885600"/>
                <a:gridCol w="905040"/>
                <a:gridCol w="923760"/>
                <a:gridCol w="9460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√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√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ded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√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√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√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Grade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√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-TIME MONITORING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zation and Alarming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√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√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√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√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Stability Applications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√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√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√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LINE ANALYSIS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ed Data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√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√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√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√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8000" y="47160"/>
            <a:ext cx="8918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Schweitzer has provided UT Austin with starter PMU network for research and educational purposes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27160" y="1019160"/>
            <a:ext cx="33019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’s measurements are being made a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oltages; no information has been provided on the signal processing algorithms used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out additional information or context, it is difficult to draw conclusions from these dat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analysis is planned (enabled by RTDMS) to determine the significance of these measurements for the reliable operation TX’s high voltage transmission system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079800" y="5033880"/>
            <a:ext cx="576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17440" y="4925880"/>
            <a:ext cx="86187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T Austin’s efforts to date demonstrate the ease by which new technologies  are enabling information previously available only to grid operators is becoming available to wider audiences –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his trend cannot be revers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RCOT recognizes this trend and plans to be pro-active in assessing the value these efforts may offer for improving the operation of the gri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3722760" y="1041480"/>
            <a:ext cx="506556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ontacts and Follow Up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679320" y="762120"/>
          <a:ext cx="7772400" cy="5386320"/>
        </p:xfrm>
        <a:graphic>
          <a:graphicData uri="http://schemas.openxmlformats.org/drawingml/2006/table">
            <a:tbl>
              <a:tblPr/>
              <a:tblGrid>
                <a:gridCol w="2306880"/>
                <a:gridCol w="3800520"/>
                <a:gridCol w="166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RCOT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spcBef>
                          <a:spcPts val="451"/>
                        </a:spcBef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Adams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dams@ercot.com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.694.3364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CET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t Holloway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olloway@electrictechnologycenter.com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.472.3800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NASPI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spcBef>
                          <a:spcPts val="451"/>
                        </a:spcBef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son Silverstein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sonsilverstein@mac.com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.670.3497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spcBef>
                          <a:spcPts val="451"/>
                        </a:spcBef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my Glotfelty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Glotfelty@icfi.com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3.445.2002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spcBef>
                          <a:spcPts val="451"/>
                        </a:spcBef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 Johnson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.johnson@nerc.net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9.524.7012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OE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spcBef>
                          <a:spcPts val="451"/>
                        </a:spcBef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 Overholt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ip.Overholt@hq.doe.gov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.586.8110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ERTS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spcBef>
                          <a:spcPts val="451"/>
                        </a:spcBef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to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eto@lbl.gov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.486.7284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spcBef>
                          <a:spcPts val="451"/>
                        </a:spcBef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l Imhoff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l.imhoff@pnl.gov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9.375.4328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spcBef>
                          <a:spcPts val="451"/>
                        </a:spcBef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 Parashar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shar@electricpowergroup.com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6.685.2015</a:t>
                      </a:r>
                      <a:endParaRPr b="1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Rectangle 139"/>
          <p:cNvSpPr/>
          <p:nvPr/>
        </p:nvSpPr>
        <p:spPr>
          <a:xfrm>
            <a:off x="3359880" y="6407280"/>
            <a:ext cx="2532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naspi.org/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Box 2"/>
          <p:cNvSpPr/>
          <p:nvPr/>
        </p:nvSpPr>
        <p:spPr>
          <a:xfrm>
            <a:off x="2707920" y="3341520"/>
            <a:ext cx="35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ACKUP SLIDE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What is the State of Art in Use of Phasor Technology?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58720" y="965160"/>
            <a:ext cx="79344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AS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cessor to EIPP and covers all of North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VA hosting phasor data hub for Eastern Interconnection; transitioning to a NERC-funded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80 PMUs networked in the East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DMS server installed at TVA; over 60 RTDMS users across the Eastern Inter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ing, with DOE support, NASPInet data architecture for a fully distributed phasor data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ing data sharing issues - NERC and FE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A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ed from concept and research in 2002, moved phasor system to control room in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50 PMUs from around WECC sending data to CA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DMS server installed at CAISO and networked with 14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onneville Power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oneer in use of phasor technology since mid-9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DMS implemented at B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 collaboration with CERTS and univers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Western Electric Coordinating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l-established model validation and post disturbance analysis procedures based on utilization of phaso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Inter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, Brazil, Europe (UCTE), India all actively engaged in phasor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tarter Phasor Monitoring System (SPMS) – Accomplishments to Date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90240" y="1216080"/>
            <a:ext cx="823284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merican Electric Power (A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P enabled 3 SEL 421 Relays within AEP Texas with PMU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 421 Relays sending data in real-time to AEP PDC at Columbus, Oh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P PDC supports IEEE C37.118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P PDC is sending AEP Texas data via VPN to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DMS server installed at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mittal in real-time to RTDMS server at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ERTS - Electric Powe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ed RTDMS server software at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RTDMS client software and training to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Issues to be Resolved in Tex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haring – Nondisclosure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6"/>
          <p:cNvSpPr/>
          <p:nvPr/>
        </p:nvSpPr>
        <p:spPr>
          <a:xfrm>
            <a:off x="5283360" y="630396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2009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Rectangle 27"/>
          <p:cNvSpPr/>
          <p:nvPr/>
        </p:nvSpPr>
        <p:spPr>
          <a:xfrm>
            <a:off x="1589040" y="630396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2008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Rectangle 28"/>
          <p:cNvSpPr/>
          <p:nvPr/>
        </p:nvSpPr>
        <p:spPr>
          <a:xfrm>
            <a:off x="7453440" y="630396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2010+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-60480" y="47520"/>
            <a:ext cx="953640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Proposed Phasor Technology Planning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oadmap for ERCO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Rectangle 28"/>
          <p:cNvSpPr/>
          <p:nvPr/>
        </p:nvSpPr>
        <p:spPr>
          <a:xfrm>
            <a:off x="7453440" y="630396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2010+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99" name="Group 46"/>
          <p:cNvGrpSpPr/>
          <p:nvPr/>
        </p:nvGrpSpPr>
        <p:grpSpPr>
          <a:xfrm>
            <a:off x="-392040" y="1325520"/>
            <a:ext cx="10048680" cy="4905360"/>
            <a:chOff x="-392040" y="1325520"/>
            <a:chExt cx="10048680" cy="4905360"/>
          </a:xfrm>
        </p:grpSpPr>
        <p:sp>
          <p:nvSpPr>
            <p:cNvPr id="700" name="Rectangle 6"/>
            <p:cNvSpPr/>
            <p:nvPr/>
          </p:nvSpPr>
          <p:spPr>
            <a:xfrm>
              <a:off x="1258920" y="1325520"/>
              <a:ext cx="296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Arial"/>
                  <a:ea typeface="Arial"/>
                </a:rPr>
                <a:t>Past Accomplishments (Completed)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Rectangle 7"/>
            <p:cNvSpPr/>
            <p:nvPr/>
          </p:nvSpPr>
          <p:spPr>
            <a:xfrm>
              <a:off x="7072200" y="1396800"/>
              <a:ext cx="258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0000"/>
                  </a:solidFill>
                  <a:latin typeface="Arial"/>
                  <a:ea typeface="Arial"/>
                </a:rPr>
                <a:t>Future Activities</a:t>
              </a:r>
              <a:endParaRPr b="1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2" name="Rectangle 12"/>
            <p:cNvSpPr/>
            <p:nvPr/>
          </p:nvSpPr>
          <p:spPr>
            <a:xfrm>
              <a:off x="1038240" y="1878120"/>
              <a:ext cx="3354480" cy="122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Establish Starter Phasor Monitoring System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(SPMS) utilizing existing infrastructure: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 existing 3 AEP PMUs. </a:t>
              </a:r>
              <a:endParaRPr b="1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verage AEP PDC at Columbus</a:t>
              </a:r>
              <a:endParaRPr b="1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ime-synchronization</a:t>
              </a:r>
              <a:endParaRPr b="1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 VPN link between AEP &amp; ERCOT</a:t>
              </a:r>
              <a:endParaRPr b="1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3" name="Rectangle 15"/>
            <p:cNvSpPr/>
            <p:nvPr/>
          </p:nvSpPr>
          <p:spPr>
            <a:xfrm>
              <a:off x="-361800" y="3863880"/>
              <a:ext cx="180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Arial"/>
                  <a:ea typeface="Arial"/>
                </a:rPr>
                <a:t>Real-Time 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Arial"/>
                  <a:ea typeface="Arial"/>
                </a:rPr>
                <a:t>Monitoring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4" name="Rectangle 16"/>
            <p:cNvSpPr/>
            <p:nvPr/>
          </p:nvSpPr>
          <p:spPr>
            <a:xfrm>
              <a:off x="-392040" y="5207040"/>
              <a:ext cx="1805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Arial"/>
                  <a:ea typeface="Arial"/>
                </a:rPr>
                <a:t>Offline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800000"/>
                  </a:solidFill>
                  <a:latin typeface="Arial"/>
                  <a:ea typeface="Arial"/>
                </a:rPr>
                <a:t>Analysis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5" name="Rectangle 22"/>
            <p:cNvSpPr/>
            <p:nvPr/>
          </p:nvSpPr>
          <p:spPr>
            <a:xfrm>
              <a:off x="4505400" y="1355760"/>
              <a:ext cx="245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800000"/>
                  </a:solidFill>
                  <a:latin typeface="Arial"/>
                  <a:ea typeface="Arial"/>
                </a:rPr>
                <a:t>Planned (In Progress)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6" name="Rectangle 29"/>
            <p:cNvSpPr/>
            <p:nvPr/>
          </p:nvSpPr>
          <p:spPr>
            <a:xfrm>
              <a:off x="-19080" y="1628640"/>
              <a:ext cx="1805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Arial"/>
                </a:rPr>
                <a:t>INFRASTRUCTURE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Arial"/>
                </a:rPr>
                <a:t>PLATFORM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7" name="Rectangle 30"/>
            <p:cNvSpPr/>
            <p:nvPr/>
          </p:nvSpPr>
          <p:spPr>
            <a:xfrm>
              <a:off x="-260280" y="3387600"/>
              <a:ext cx="18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Arial"/>
                </a:rPr>
                <a:t>APPLICATIONS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8" name="Rectangle 12"/>
            <p:cNvSpPr/>
            <p:nvPr/>
          </p:nvSpPr>
          <p:spPr>
            <a:xfrm>
              <a:off x="4392720" y="1874880"/>
              <a:ext cx="2922480" cy="122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Expand ERCOT Phasor Network: 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all PDC at ERCOT</a:t>
              </a:r>
              <a:endParaRPr b="1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 additional PMUs from AEP, Oncor,</a:t>
              </a:r>
              <a:endParaRPr b="1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point (others).</a:t>
              </a:r>
              <a:endParaRPr b="1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Resolve data quality issues.</a:t>
              </a:r>
              <a:endParaRPr b="1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9" name="Rectangle 12"/>
            <p:cNvSpPr/>
            <p:nvPr/>
          </p:nvSpPr>
          <p:spPr>
            <a:xfrm>
              <a:off x="1014480" y="3659040"/>
              <a:ext cx="3375000" cy="122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Install Real Time Dynamics Monitoring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System (RTDMS) at ERCOT: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TDMS Server installed at ERCOT Taylor facility.</a:t>
              </a:r>
              <a:endParaRPr b="1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TDMS Visualization Clients accessible at</a:t>
              </a:r>
              <a:endParaRPr b="1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COT Taylor and Austin facilities over Citrix.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0" name="Pentagon 35"/>
            <p:cNvSpPr/>
            <p:nvPr/>
          </p:nvSpPr>
          <p:spPr>
            <a:xfrm>
              <a:off x="7327800" y="1881000"/>
              <a:ext cx="1728720" cy="122256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61" y="0"/>
                  </a:lnTo>
                  <a:lnTo>
                    <a:pt x="21600" y="10800"/>
                  </a:lnTo>
                  <a:lnTo>
                    <a:pt x="13961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1" name="Rectangle 12"/>
            <p:cNvSpPr/>
            <p:nvPr/>
          </p:nvSpPr>
          <p:spPr>
            <a:xfrm>
              <a:off x="1014480" y="4865760"/>
              <a:ext cx="3382920" cy="1365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- Archive Phasor data in Database 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(30 day historical archive)</a:t>
              </a:r>
              <a:endParaRPr b="1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buClr>
                  <a:srgbClr val="191966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Capture &amp; permanently store event files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(5 minutes of pre-event &amp; post-event data)</a:t>
              </a:r>
              <a:endParaRPr b="1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buClr>
                  <a:srgbClr val="191966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Install Phasor-Grid Dynamics Analyzer (PGDA)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line analysis tool.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2" name="Rectangle 12"/>
            <p:cNvSpPr/>
            <p:nvPr/>
          </p:nvSpPr>
          <p:spPr>
            <a:xfrm>
              <a:off x="4400640" y="3655800"/>
              <a:ext cx="2923920" cy="122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Implement intelligent alarming on: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gular separation.</a:t>
              </a:r>
              <a:endParaRPr b="1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scillations.</a:t>
              </a:r>
              <a:endParaRPr b="1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ient events.</a:t>
              </a:r>
              <a:endParaRPr b="1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3" name="Rectangle 12"/>
            <p:cNvSpPr/>
            <p:nvPr/>
          </p:nvSpPr>
          <p:spPr>
            <a:xfrm>
              <a:off x="4394160" y="4859280"/>
              <a:ext cx="2924280" cy="1371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buClr>
                  <a:srgbClr val="191966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Benchmark planning studies using 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  </a:t>
              </a: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measurement data.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buClr>
                  <a:srgbClr val="191966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Perform event analysis using PMU data.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buClr>
                  <a:srgbClr val="191966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Identify and baseline ERCOT oscillatory 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   </a:t>
              </a: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modes &amp; damping.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buClr>
                  <a:srgbClr val="191966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Establish alarming limits and triggering 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  </a:t>
              </a: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thresholds.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4" name="Rectangle 12"/>
            <p:cNvSpPr/>
            <p:nvPr/>
          </p:nvSpPr>
          <p:spPr>
            <a:xfrm>
              <a:off x="7267680" y="1868400"/>
              <a:ext cx="178884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Migrate to production 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grade hardware. 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5" name="Pentagon 41"/>
            <p:cNvSpPr/>
            <p:nvPr/>
          </p:nvSpPr>
          <p:spPr>
            <a:xfrm>
              <a:off x="7327800" y="3655800"/>
              <a:ext cx="1728720" cy="122256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61" y="0"/>
                  </a:lnTo>
                  <a:lnTo>
                    <a:pt x="21600" y="10800"/>
                  </a:lnTo>
                  <a:lnTo>
                    <a:pt x="13961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6" name="Rectangle 12"/>
            <p:cNvSpPr/>
            <p:nvPr/>
          </p:nvSpPr>
          <p:spPr>
            <a:xfrm>
              <a:off x="7329600" y="3643200"/>
              <a:ext cx="17874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191966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Define operator 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  </a:t>
              </a: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actions.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- Prototype advanced 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  </a:t>
              </a: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stability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  </a:t>
              </a: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applications.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7" name="Pentagon 43"/>
            <p:cNvSpPr/>
            <p:nvPr/>
          </p:nvSpPr>
          <p:spPr>
            <a:xfrm>
              <a:off x="7327800" y="4865760"/>
              <a:ext cx="1728720" cy="13651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365120"/>
                <a:gd name="textAreaBottom" fmla="*/ 1365480 h 136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070" y="0"/>
                  </a:lnTo>
                  <a:lnTo>
                    <a:pt x="21600" y="10800"/>
                  </a:lnTo>
                  <a:lnTo>
                    <a:pt x="1307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8" name="Rectangle 12"/>
            <p:cNvSpPr/>
            <p:nvPr/>
          </p:nvSpPr>
          <p:spPr>
            <a:xfrm>
              <a:off x="7280280" y="4863960"/>
              <a:ext cx="1787400" cy="12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Establish 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‘</a:t>
              </a:r>
              <a:r>
                <a:rPr b="0" lang="en-US" sz="1200" spc="-1" strike="noStrike">
                  <a:solidFill>
                    <a:srgbClr val="191966"/>
                  </a:solidFill>
                  <a:latin typeface="Arial"/>
                  <a:ea typeface="Arial"/>
                </a:rPr>
                <a:t>Best Practices’ for:</a:t>
              </a:r>
              <a:endParaRPr b="1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ent Analysis</a:t>
              </a:r>
              <a:endParaRPr b="1" lang="en-US" sz="11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el Validation</a:t>
              </a:r>
              <a:endParaRPr b="1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396720"/>
            <a:ext cx="9144000" cy="1030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opperplate Gothic Bold"/>
              </a:rPr>
              <a:t>Who is CCET?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48120" y="2219400"/>
            <a:ext cx="2819160" cy="13478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334120" y="2219400"/>
            <a:ext cx="2819160" cy="13478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2120" y="2219400"/>
            <a:ext cx="2819160" cy="13478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219320" y="2496960"/>
            <a:ext cx="1600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University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Researchers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657600" y="237816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Electric Utilities &amp; Competitive Retailers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943600" y="2496960"/>
            <a:ext cx="152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High-Tech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mpanies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62120" y="4834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enter for the Commercialization of Electric Technolog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rings together electric utilities, university researchers and high-tech companies to find technology solutions to challenges facing the electric power indust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276720" y="3249720"/>
            <a:ext cx="360" cy="633240"/>
          </a:xfrm>
          <a:prstGeom prst="lin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76720" y="3882960"/>
            <a:ext cx="2361960" cy="360"/>
          </a:xfrm>
          <a:prstGeom prst="lin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638680" y="3249720"/>
            <a:ext cx="360" cy="633240"/>
          </a:xfrm>
          <a:prstGeom prst="lin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396252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echnology Solutions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153280" y="6656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Line 2"/>
          <p:cNvSpPr/>
          <p:nvPr/>
        </p:nvSpPr>
        <p:spPr>
          <a:xfrm flipH="1">
            <a:off x="2657160" y="1581120"/>
            <a:ext cx="1019160" cy="1019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Line 3"/>
          <p:cNvSpPr/>
          <p:nvPr/>
        </p:nvSpPr>
        <p:spPr>
          <a:xfrm>
            <a:off x="5505480" y="1571760"/>
            <a:ext cx="1028520" cy="102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835200" y="2666880"/>
            <a:ext cx="3403440" cy="66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AutoShape 5"/>
          <p:cNvSpPr/>
          <p:nvPr/>
        </p:nvSpPr>
        <p:spPr>
          <a:xfrm>
            <a:off x="123840" y="2862360"/>
            <a:ext cx="674640" cy="338040"/>
          </a:xfrm>
          <a:prstGeom prst="rightArrow">
            <a:avLst>
              <a:gd name="adj1" fmla="val 50000"/>
              <a:gd name="adj2" fmla="val 49894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Phasor Technology Utilization in Texas -- Vision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0720" y="2634840"/>
            <a:ext cx="423864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r Syste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existing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 additional PMUs at Texas ut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Reliable, Fully-Integrated, Production Qualit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production hardware with redundancy (example: CAI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41640" y="2634840"/>
            <a:ext cx="415908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mpilation &amp; Clean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system/protocols for data arch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Ta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 event detection, tagging &amp; file manag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phasor-based offline analysis into planning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9"/>
          <p:cNvSpPr/>
          <p:nvPr/>
        </p:nvSpPr>
        <p:spPr>
          <a:xfrm>
            <a:off x="2215440" y="1046160"/>
            <a:ext cx="4745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hasor Data Acquisitio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Rectangle 10"/>
          <p:cNvSpPr/>
          <p:nvPr/>
        </p:nvSpPr>
        <p:spPr>
          <a:xfrm>
            <a:off x="4724280" y="2619360"/>
            <a:ext cx="4229280" cy="3505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Text Box 11"/>
          <p:cNvSpPr/>
          <p:nvPr/>
        </p:nvSpPr>
        <p:spPr>
          <a:xfrm>
            <a:off x="1691640" y="1827360"/>
            <a:ext cx="231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al Tim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Text Box 12"/>
          <p:cNvSpPr/>
          <p:nvPr/>
        </p:nvSpPr>
        <p:spPr>
          <a:xfrm>
            <a:off x="4699800" y="1827360"/>
            <a:ext cx="3029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rchived Dat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Texas Phasor Project -- Building Blocks &amp; Roles and Responsibilities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63440" y="1047600"/>
          <a:ext cx="8685360" cy="5673960"/>
        </p:xfrm>
        <a:graphic>
          <a:graphicData uri="http://schemas.openxmlformats.org/drawingml/2006/table">
            <a:tbl>
              <a:tblPr/>
              <a:tblGrid>
                <a:gridCol w="1139760"/>
                <a:gridCol w="1758960"/>
                <a:gridCol w="5786640"/>
              </a:tblGrid>
              <a:tr h="3160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.</a:t>
                      </a:r>
                      <a:endParaRPr b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Block</a:t>
                      </a:r>
                      <a:endParaRPr b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ies</a:t>
                      </a:r>
                      <a:endParaRPr b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07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NASPI/</a:t>
                      </a:r>
                      <a:endParaRPr b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OE/</a:t>
                      </a:r>
                      <a:endParaRPr b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ERTS</a:t>
                      </a:r>
                      <a:endParaRPr b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Knowledge and Knowledge Transfer</a:t>
                      </a:r>
                      <a:endParaRPr b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technical know-how and expertise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with CCET, ERCOT, and Texas utilities on phasor project roadmap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assistance with phasor network architecture, deployment, connectivity, applications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e deployment of RTDMS phasor applications currently in use in other interconnections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RCOT</a:t>
                      </a:r>
                      <a:endParaRPr b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Bed, Technology Adoption and Integration with Operations for Wide-Area Applications</a:t>
                      </a:r>
                      <a:endParaRPr b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ign lead engineer/project manager for ERCOT phasor technology initiative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 phasor applications and PDC in test bed environment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 knowledge base among ERCOT planners, engineers, and operators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e technology to operating environment and integrate with operations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-up – expanded coverage, PDC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Utilities</a:t>
                      </a:r>
                      <a:endParaRPr b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 Deployment </a:t>
                      </a:r>
                      <a:endParaRPr b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Data Communications</a:t>
                      </a:r>
                      <a:endParaRPr b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 phasor measurement units – new or existing relay-based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PMUs and transmit data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d coverage with PMUs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 PDCs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local networks and applications – RAS, dynamics, state estimation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CET</a:t>
                      </a:r>
                      <a:endParaRPr b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&amp; Research Management</a:t>
                      </a:r>
                      <a:endParaRPr b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Texas phasor research and phasor implementation plan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ain funding commitments from DOE, ETF, ERCOT, utilities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Universities</a:t>
                      </a:r>
                      <a:endParaRPr b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Workforce Development</a:t>
                      </a:r>
                      <a:endParaRPr b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ing edge research on application of phasor technology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Areas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lvl="1" marL="685800" indent="-22860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Placement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lvl="1" marL="685800" indent="-22860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Estimation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lvl="1" marL="685800" indent="-22860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Monitoring, e.g., PSS</a:t>
                      </a: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lvl="1" marL="685800" indent="-22860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lvl="1" marL="685800" indent="-228600">
                        <a:lnSpc>
                          <a:spcPct val="90000"/>
                        </a:lnSpc>
                        <a:buClr>
                          <a:srgbClr val="990033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2" name="Rectangle 39"/>
          <p:cNvSpPr/>
          <p:nvPr/>
        </p:nvSpPr>
        <p:spPr>
          <a:xfrm>
            <a:off x="6095880" y="5629320"/>
            <a:ext cx="2743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S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ynamic Ratings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obal Voltage Monitoring and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Control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396720"/>
            <a:ext cx="9144000" cy="1030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opperplate Gothic Bold"/>
              </a:rPr>
              <a:t>CCET Members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4419720" y="4121280"/>
            <a:ext cx="685800" cy="48096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5638680" y="3408480"/>
            <a:ext cx="952560" cy="40644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5943600" y="4675320"/>
            <a:ext cx="942840" cy="3776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7620120" y="5310360"/>
            <a:ext cx="790560" cy="3855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5943600" y="5230800"/>
            <a:ext cx="1571760" cy="6336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6"/>
          <a:stretch/>
        </p:blipFill>
        <p:spPr>
          <a:xfrm>
            <a:off x="7086600" y="4775040"/>
            <a:ext cx="1428840" cy="3765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7"/>
          <a:stretch/>
        </p:blipFill>
        <p:spPr>
          <a:xfrm>
            <a:off x="6629400" y="3487680"/>
            <a:ext cx="1428840" cy="37620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TXU  Energy"/>
          <p:cNvPicPr/>
          <p:nvPr/>
        </p:nvPicPr>
        <p:blipFill>
          <a:blip r:embed="rId8"/>
          <a:stretch/>
        </p:blipFill>
        <p:spPr>
          <a:xfrm>
            <a:off x="4419720" y="5310360"/>
            <a:ext cx="952560" cy="47448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CenterPoint Logo &gt; Home Page"/>
          <p:cNvPicPr/>
          <p:nvPr/>
        </p:nvPicPr>
        <p:blipFill>
          <a:blip r:embed="rId9"/>
          <a:stretch/>
        </p:blipFill>
        <p:spPr>
          <a:xfrm>
            <a:off x="3352680" y="3564000"/>
            <a:ext cx="990720" cy="6364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581280" y="6316560"/>
            <a:ext cx="1676520" cy="6573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12"/>
          <a:srcRect l="0" t="0" r="0" b="49131"/>
          <a:stretch/>
        </p:blipFill>
        <p:spPr>
          <a:xfrm>
            <a:off x="3200400" y="4280040"/>
            <a:ext cx="1981080" cy="6919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13"/>
          <a:stretch/>
        </p:blipFill>
        <p:spPr>
          <a:xfrm>
            <a:off x="3352680" y="5230800"/>
            <a:ext cx="990720" cy="58896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14"/>
          <a:stretch/>
        </p:blipFill>
        <p:spPr>
          <a:xfrm>
            <a:off x="3657600" y="5864400"/>
            <a:ext cx="1685880" cy="3967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GridPoint"/>
          <p:cNvPicPr/>
          <p:nvPr/>
        </p:nvPicPr>
        <p:blipFill>
          <a:blip r:embed="rId15"/>
          <a:stretch/>
        </p:blipFill>
        <p:spPr>
          <a:xfrm>
            <a:off x="6248520" y="5943600"/>
            <a:ext cx="1790640" cy="2970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16"/>
          <a:srcRect l="18186" t="25081" r="13642" b="29782"/>
          <a:stretch/>
        </p:blipFill>
        <p:spPr>
          <a:xfrm>
            <a:off x="4267080" y="3508200"/>
            <a:ext cx="1143000" cy="7128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Freescale Semiconductor"/>
          <p:cNvPicPr/>
          <p:nvPr/>
        </p:nvPicPr>
        <p:blipFill>
          <a:blip r:embed="rId17"/>
          <a:stretch/>
        </p:blipFill>
        <p:spPr>
          <a:xfrm>
            <a:off x="5486400" y="3962520"/>
            <a:ext cx="1676520" cy="5140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18"/>
          <a:stretch/>
        </p:blipFill>
        <p:spPr>
          <a:xfrm>
            <a:off x="1523880" y="3328920"/>
            <a:ext cx="743040" cy="8715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3048120" y="1822320"/>
            <a:ext cx="2819160" cy="13478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34120" y="1822320"/>
            <a:ext cx="2819160" cy="13478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62120" y="1822320"/>
            <a:ext cx="2819160" cy="13478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219320" y="2100240"/>
            <a:ext cx="1600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University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Researchers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657600" y="2100240"/>
            <a:ext cx="1447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943600" y="2100240"/>
            <a:ext cx="152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High-Tech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mpanies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153280" y="6656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9"/>
          <a:stretch/>
        </p:blipFill>
        <p:spPr>
          <a:xfrm>
            <a:off x="7238880" y="3962520"/>
            <a:ext cx="1295640" cy="51588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3657600" y="19810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Electric Utilities &amp; Competitive Retailers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314880" y="317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lectric Utilities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38560" y="49132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mpetitive Retailers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20"/>
          <a:stretch/>
        </p:blipFill>
        <p:spPr>
          <a:xfrm>
            <a:off x="762120" y="4280040"/>
            <a:ext cx="1123920" cy="72684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1"/>
          <a:stretch/>
        </p:blipFill>
        <p:spPr>
          <a:xfrm>
            <a:off x="1981080" y="4280040"/>
            <a:ext cx="685800" cy="71280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22"/>
          <a:stretch/>
        </p:blipFill>
        <p:spPr>
          <a:xfrm>
            <a:off x="1066680" y="5230800"/>
            <a:ext cx="663840" cy="80640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3"/>
          <a:stretch/>
        </p:blipFill>
        <p:spPr>
          <a:xfrm>
            <a:off x="1905120" y="5230800"/>
            <a:ext cx="914400" cy="75888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24"/>
          <a:stretch/>
        </p:blipFill>
        <p:spPr>
          <a:xfrm>
            <a:off x="1589040" y="6022800"/>
            <a:ext cx="696960" cy="9064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8" descr="2004_iaw_blue6sb"/>
          <p:cNvPicPr/>
          <p:nvPr/>
        </p:nvPicPr>
        <p:blipFill>
          <a:blip r:embed="rId25"/>
          <a:stretch/>
        </p:blipFill>
        <p:spPr>
          <a:xfrm>
            <a:off x="5638680" y="6200640"/>
            <a:ext cx="259092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2689200"/>
            <a:ext cx="6782040" cy="39704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396720"/>
            <a:ext cx="9144000" cy="1030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opperplate Gothic Bold"/>
              </a:rPr>
              <a:t>CCET: A Unique Approach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85800" y="174312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CCET, electric utilities, technology companies and educational institutions collaborate and fund projects to enhance the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liability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 Qualit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Texas electric infrastructure through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search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monstration and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mercialization of advanced technologi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in the Electric Reliability Council of Texas (ERCOT) interconnected grid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153280" y="6656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396360"/>
            <a:ext cx="9144000" cy="110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Copperplate Gothic Bold"/>
              </a:rPr>
              <a:t>CCET Has Funded Five Projects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14400" y="1901880"/>
            <a:ext cx="68580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and Response Pilo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hronized Sampling and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Phasor Develop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te Terminal Unit Develop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Information Mod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EEE Student Contest to Develop Transformer Moni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153280" y="6656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Who Is CERTS? Why Are We Here?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60440" y="825480"/>
            <a:ext cx="8391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sortium for Electric Reliability Technology Solutions (CERTS) was organized in 1999 as a partnership among four DOE national labs (LBNL, ORNL, PNNL, SNL), universities (PSERC), and the Electric Powe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S has been managing phasor research since 2002 and has extensive experience with phasor technology, applications, and utilization within the Eastern Interconnection and Western Inter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the direction of the DOE Office of Electric Delivery and Energy Reliability, CERTS provided technical support for the start-up of the Eastern Interconnection Phasor Project, which has now transitioned to be the industry-led North American Synchrophasor Initiative (NASPI) managed by NE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September 4, 2008, the CCET Board passed a resolution inviting DOE/NASPI/CERTS to transfer expertise and provide resources to support CCET/ERCOT/Texas utilities deploy phasor technology in Tex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8399520" y="6657840"/>
            <a:ext cx="106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7920E3-3CF3-402A-9C1C-6BD75D524DB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.12.09</a:t>
            </a:r>
            <a:endParaRPr b="1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8399520" y="6657840"/>
            <a:ext cx="106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13C72B-30D7-43AB-B1E6-FFB2521820A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.12.09</a:t>
            </a:r>
            <a:endParaRPr b="1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-360" y="18720"/>
            <a:ext cx="9132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What is Phasor Technology? 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                 </a:t>
            </a:r>
            <a:r>
              <a:rPr b="1" i="1" lang="en-US" sz="3200" spc="-1" strike="noStrike">
                <a:solidFill>
                  <a:srgbClr val="800000"/>
                </a:solidFill>
                <a:latin typeface="Symbol"/>
                <a:ea typeface="Symbol"/>
              </a:rPr>
              <a:t>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Key for the Grid of The Future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31840" y="1305000"/>
            <a:ext cx="54165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or Measurement Units – Mature Hardware, Emerging Networks and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ements 4-second scan rate of current SCADA technology with higher resolution scans (e.g., 30 samples per seco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PS time stamping enables synchronization of data from multiple sources spanning an entire inter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MRI Quality Visibility of a Power System Compared to  X-ray Quality Visibility From Traditional SC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es Current Industr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ualization – wide area, common data, common 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 Assessment – safe operating z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-disturbance Analysis and Model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ewables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ability Standards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5575320" y="1755720"/>
            <a:ext cx="3342960" cy="3306960"/>
            <a:chOff x="5575320" y="1755720"/>
            <a:chExt cx="3342960" cy="3306960"/>
          </a:xfrm>
        </p:grpSpPr>
        <p:sp>
          <p:nvSpPr>
            <p:cNvPr id="600" name="Oval 5"/>
            <p:cNvSpPr/>
            <p:nvPr/>
          </p:nvSpPr>
          <p:spPr>
            <a:xfrm>
              <a:off x="5575320" y="3857760"/>
              <a:ext cx="1167120" cy="117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01" name="Group 6"/>
            <p:cNvGrpSpPr/>
            <p:nvPr/>
          </p:nvGrpSpPr>
          <p:grpSpPr>
            <a:xfrm>
              <a:off x="5692680" y="1755720"/>
              <a:ext cx="3225600" cy="3306960"/>
              <a:chOff x="5692680" y="1755720"/>
              <a:chExt cx="3225600" cy="3306960"/>
            </a:xfrm>
          </p:grpSpPr>
          <p:pic>
            <p:nvPicPr>
              <p:cNvPr id="602" name="Picture 7" descr="satellite-navstar GPS"/>
              <p:cNvPicPr/>
              <p:nvPr/>
            </p:nvPicPr>
            <p:blipFill>
              <a:blip r:embed="rId1"/>
              <a:stretch/>
            </p:blipFill>
            <p:spPr>
              <a:xfrm>
                <a:off x="6260040" y="1755720"/>
                <a:ext cx="2658240" cy="3192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03" name="Group 8"/>
              <p:cNvGrpSpPr/>
              <p:nvPr/>
            </p:nvGrpSpPr>
            <p:grpSpPr>
              <a:xfrm>
                <a:off x="5692680" y="3719160"/>
                <a:ext cx="878040" cy="1343520"/>
                <a:chOff x="5692680" y="3719160"/>
                <a:chExt cx="878040" cy="1343520"/>
              </a:xfrm>
            </p:grpSpPr>
            <p:sp>
              <p:nvSpPr>
                <p:cNvPr id="604" name="AutoShape 9"/>
                <p:cNvSpPr/>
                <p:nvPr/>
              </p:nvSpPr>
              <p:spPr>
                <a:xfrm rot="7231200">
                  <a:off x="5794920" y="3865320"/>
                  <a:ext cx="684360" cy="603000"/>
                </a:xfrm>
                <a:prstGeom prst="lightningBol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5" name="AutoShape 10"/>
                <p:cNvSpPr/>
                <p:nvPr/>
              </p:nvSpPr>
              <p:spPr>
                <a:xfrm rot="6550200">
                  <a:off x="5747400" y="4128480"/>
                  <a:ext cx="684000" cy="603000"/>
                </a:xfrm>
                <a:prstGeom prst="lightningBol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6" name="AutoShape 11"/>
                <p:cNvSpPr/>
                <p:nvPr/>
              </p:nvSpPr>
              <p:spPr>
                <a:xfrm rot="5074200">
                  <a:off x="5699880" y="4392000"/>
                  <a:ext cx="684000" cy="603000"/>
                </a:xfrm>
                <a:prstGeom prst="lightningBol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tarter Phasor Measurement System Architecture – Currently Installed at ERCOT 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75760" y="4406400"/>
            <a:ext cx="8572680" cy="22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dvant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990033"/>
              </a:buClr>
              <a:buFont typeface="Arial"/>
              <a:buChar char="-"/>
              <a:tabLst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le architecture design to include other Texas utilities in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Expansion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990033"/>
              </a:buClr>
              <a:buFont typeface="Arial"/>
              <a:buChar char="-"/>
              <a:tabLst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 BPA-developed PDC at ERC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990033"/>
              </a:buClr>
              <a:buFont typeface="Arial"/>
              <a:buChar char="-"/>
              <a:tabLst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additional AEP and Oncor PMUs to ERCOT P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990033"/>
              </a:buClr>
              <a:buFont typeface="Arial"/>
              <a:buChar char="-"/>
              <a:tabLst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 and network PMUs at other utilities to ERCOT P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990033"/>
              </a:buClr>
              <a:buFont typeface="Arial"/>
              <a:buChar char="-"/>
              <a:tabLst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age NASPI technical specifications and distributed architecture designs/protocols – Install next generation PDC at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0" y="795240"/>
            <a:ext cx="914400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P PDC sending data to RTDMS Web Server installed at ERCOT via VP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10" name="Object 5"/>
          <p:cNvGraphicFramePr/>
          <p:nvPr/>
        </p:nvGraphicFramePr>
        <p:xfrm>
          <a:off x="568440" y="1141560"/>
          <a:ext cx="7840440" cy="34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1141560"/>
                    <a:ext cx="7840440" cy="34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6"/>
          <p:cNvSpPr/>
          <p:nvPr/>
        </p:nvSpPr>
        <p:spPr>
          <a:xfrm>
            <a:off x="8399520" y="6657840"/>
            <a:ext cx="106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6D762A-6339-4268-B23C-BCE01413122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.12.09</a:t>
            </a:r>
            <a:endParaRPr b="1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8399520" y="6657840"/>
            <a:ext cx="106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0F0C65-24E2-402E-A329-8BDB8B505AD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.12.09</a:t>
            </a:r>
            <a:endParaRPr b="1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91440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al Time Dynamics Monitoring System (RTDMS)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7800" y="1015560"/>
            <a:ext cx="859176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00000"/>
                </a:solidFill>
                <a:uFillTx/>
                <a:latin typeface="Arial"/>
              </a:rPr>
              <a:t>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DM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d Phasor-RTDMS) is a software application platform that utilizes high resolution time-synchronized data for electric power grid reliability monitoring and management by electric power grid operators, reliability coordinators, reliability managers, and operating engin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00000"/>
                </a:solidFill>
                <a:uFillTx/>
                <a:latin typeface="Arial"/>
              </a:rPr>
              <a:t>Uses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-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DMS application helps ident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 Stress --- phase angle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 Robustness – damping status and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gerous Oscillations – low da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Instability – frequency variation across inter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Instability – low voltage 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ility Margin – “How far are we from the edge” – sensitivity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00000"/>
                </a:solidFill>
                <a:uFillTx/>
                <a:latin typeface="Arial"/>
              </a:rPr>
              <a:t>Application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prototype application was tested in 2003 – currently in use at CAISO, BPA, TVA, WECC utilities, and other NASPI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1236600" y="6269040"/>
            <a:ext cx="662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al Time Dynamics Monitoring System. ®Built upon GRID-3P Platform, U.S. Patent 7,233,843. Electric Power Group. All rights reserve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7:16:13Z</dcterms:created>
  <dc:creator>Electric Power Group</dc:creator>
  <dc:description>for presentation by:
John Adams, ERCOT
Manu Parashar, EPG</dc:description>
  <dc:language>en-US</dc:language>
  <cp:lastModifiedBy>jheupp</cp:lastModifiedBy>
  <cp:lastPrinted>2001-03-29T03:46:19Z</cp:lastPrinted>
  <dcterms:modified xsi:type="dcterms:W3CDTF">2009-02-05T04:57:52Z</dcterms:modified>
  <cp:revision>2568</cp:revision>
  <dc:subject>Reliability &amp; Operations Subcommittee Meeting</dc:subject>
  <dc:title>Texas Phasor Project</dc:title>
</cp:coreProperties>
</file>