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6AF4-FBCF-42BF-9FD9-05212B912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32F7-E56F-466B-8B3C-5200C382B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8082-5BD2-4F37-9E17-F54284FD0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3529-AB2E-4892-984E-C7993DD8C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9AE0-D193-4F6B-A7CD-42C1D57B4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A083-8E96-44DE-B5FE-7609EC68C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333E-E3F5-4952-911B-953059C84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A304-D55C-45F9-81C1-934C23762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6DA1-89A2-47DD-A077-8913FA627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43E85-4A0C-41F0-9960-7A0AA2BB2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000B5-FE6B-49F0-8524-E665CC2E2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A3749-9A3B-428F-98E2-EA002919F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58924-D722-4B5F-A8CC-FCBB1AA3E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53479-AD64-4BBF-B5A9-F9F3F8581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2E89A-3A00-43C1-96F8-979E8ECB2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668C6-6823-4F85-9F1E-BCB206140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8DFB-245C-4E8E-917F-36A286828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1B802-24C7-4D8E-BE24-6888DAB21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07932-D7D3-466C-B58A-62C31B5E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B783E-7D62-4922-B76A-3DC9FDADD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EBF9-DC13-4C43-A7CC-961CA4F83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1928-A560-44D6-B905-2B7E8BB15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14"/>
          <p:cNvGrpSpPr/>
          <p:nvPr/>
        </p:nvGrpSpPr>
        <p:grpSpPr>
          <a:xfrm>
            <a:off x="55440" y="87480"/>
            <a:ext cx="9043920" cy="6701760"/>
            <a:chOff x="55440" y="87480"/>
            <a:chExt cx="9043920" cy="6701760"/>
          </a:xfrm>
        </p:grpSpPr>
        <p:sp>
          <p:nvSpPr>
            <p:cNvPr id="6" name="Rectangle 8"/>
            <p:cNvSpPr/>
            <p:nvPr/>
          </p:nvSpPr>
          <p:spPr>
            <a:xfrm>
              <a:off x="139320" y="87480"/>
              <a:ext cx="886824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3"/>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7"/>
            <p:cNvSpPr/>
            <p:nvPr/>
          </p:nvSpPr>
          <p:spPr>
            <a:xfrm>
              <a:off x="98640" y="131760"/>
              <a:ext cx="896184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Rectangle 11"/>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2" descr="Header_Logo"/>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nerc.com/docs/standards/sar/Interpretation_EOP-001-0_R1_RECM_2008-09_Redline_to_initial.pdf" TargetMode="External"/><Relationship Id="rId2" Type="http://schemas.openxmlformats.org/officeDocument/2006/relationships/hyperlink" Target="http://www.nerc.com/filez/standards/EOP-001-0_Interpretation_RECM.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nerc.com/docs/standards/sar/Interpretation_EOP-001-0_R1_RECM_19May08.pdf" TargetMode="External"/><Relationship Id="rId2" Type="http://schemas.openxmlformats.org/officeDocument/2006/relationships/hyperlink" Target="http://www.nerc.com/docs/standards/sar/Interpretation_EOP-001-0_R1_RECM_2008-09_Redline_to_initial.pdf" TargetMode="External"/><Relationship Id="rId3" Type="http://schemas.openxmlformats.org/officeDocument/2006/relationships/hyperlink" Target="http://www.nerc.com/docs/standards/rs/Glossary_12Feb08.pdf"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erc.com/files/BAL-005-0b.pdf" TargetMode="External"/><Relationship Id="rId2" Type="http://schemas.openxmlformats.org/officeDocument/2006/relationships/hyperlink" Target="http://www.nerc.com/files/BAL-006-1.pdf" TargetMode="External"/><Relationship Id="rId3" Type="http://schemas.openxmlformats.org/officeDocument/2006/relationships/hyperlink" Target="http://www.nerc.com/files/EOP-001-0.pdf" TargetMode="External"/><Relationship Id="rId4" Type="http://schemas.openxmlformats.org/officeDocument/2006/relationships/hyperlink" Target="http://www.nerc.com/files/EOP-005-1.pdf" TargetMode="External"/><Relationship Id="rId5" Type="http://schemas.openxmlformats.org/officeDocument/2006/relationships/hyperlink" Target="http://www.nerc.com/files/EOP-006-1.pdf" TargetMode="External"/><Relationship Id="rId6" Type="http://schemas.openxmlformats.org/officeDocument/2006/relationships/hyperlink" Target="http://www.nerc.com/files/FAC-010-1.pdf" TargetMode="External"/><Relationship Id="rId7" Type="http://schemas.openxmlformats.org/officeDocument/2006/relationships/hyperlink" Target="http://www.nerc.com/files/FAC-011-1.pdf" TargetMode="External"/><Relationship Id="rId8" Type="http://schemas.openxmlformats.org/officeDocument/2006/relationships/hyperlink" Target="http://www.nerc.com/files/FAC-012-1.pdf" TargetMode="External"/><Relationship Id="rId9" Type="http://schemas.openxmlformats.org/officeDocument/2006/relationships/hyperlink" Target="http://www.nerc.com/files/FAC-014-1.pdf" TargetMode="External"/><Relationship Id="rId10" Type="http://schemas.openxmlformats.org/officeDocument/2006/relationships/hyperlink" Target="http://www.nerc.com/files/INT-006-2.pdf" TargetMode="External"/><Relationship Id="rId11" Type="http://schemas.openxmlformats.org/officeDocument/2006/relationships/hyperlink" Target="http://www.nerc.com/files/IRO-001-1.pdf" TargetMode="External"/><Relationship Id="rId12" Type="http://schemas.openxmlformats.org/officeDocument/2006/relationships/hyperlink" Target="http://www.nerc.com/files/IRO-002-1.pdf" TargetMode="External"/><Relationship Id="rId13" Type="http://schemas.openxmlformats.org/officeDocument/2006/relationships/hyperlink" Target="http://www.nerc.com/files/IRO-003-2.pdf" TargetMode="External"/><Relationship Id="rId14" Type="http://schemas.openxmlformats.org/officeDocument/2006/relationships/hyperlink" Target="http://www.nerc.com/files/IRO-004-1.pdf" TargetMode="External"/><Relationship Id="rId15" Type="http://schemas.openxmlformats.org/officeDocument/2006/relationships/hyperlink" Target="http://www.nerc.com/files/IRO-005-1.pdf" TargetMode="External"/><Relationship Id="rId16" Type="http://schemas.openxmlformats.org/officeDocument/2006/relationships/hyperlink" Target="http://www.nerc.com/files/IRO-015-1.pdf" TargetMode="External"/><Relationship Id="rId17" Type="http://schemas.openxmlformats.org/officeDocument/2006/relationships/hyperlink" Target="http://www.nerc.com/files/MOD-001-0.pdf" TargetMode="External"/><Relationship Id="rId18" Type="http://schemas.openxmlformats.org/officeDocument/2006/relationships/hyperlink" Target="http://www.nerc.com/files/MOD-004-0.pdf" TargetMode="External"/><Relationship Id="rId19" Type="http://schemas.openxmlformats.org/officeDocument/2006/relationships/hyperlink" Target="http://www.nerc.com/files/MOD-028-1.pdf" TargetMode="External"/><Relationship Id="rId20" Type="http://schemas.openxmlformats.org/officeDocument/2006/relationships/hyperlink" Target="http://www.nerc.com/files/MOD-030-1.pdf" TargetMode="External"/><Relationship Id="rId21" Type="http://schemas.openxmlformats.org/officeDocument/2006/relationships/hyperlink" Target="http://www.nerc.com/files/TOP-001-1.pdf" TargetMode="External"/><Relationship Id="rId22" Type="http://schemas.openxmlformats.org/officeDocument/2006/relationships/hyperlink" Target="http://www.nerc.com/files/EOP-001-0.pdf" TargetMode="External"/><Relationship Id="rId23" Type="http://schemas.openxmlformats.org/officeDocument/2006/relationships/hyperlink" Target="http://www.nerc.com/files/EOP-002-2.pdf" TargetMode="External"/><Relationship Id="rId24" Type="http://schemas.openxmlformats.org/officeDocument/2006/relationships/hyperlink" Target="http://www.nerc.com/files/EOP-005-1.pdf" TargetMode="External"/><Relationship Id="rId25" Type="http://schemas.openxmlformats.org/officeDocument/2006/relationships/hyperlink" Target="http://www.nerc.com/files/EOP-006-1.pdf" TargetMode="External"/><Relationship Id="rId26" Type="http://schemas.openxmlformats.org/officeDocument/2006/relationships/hyperlink" Target="http://www.nerc.com/files/IRO-002-1.pdf" TargetMode="External"/><Relationship Id="rId27" Type="http://schemas.openxmlformats.org/officeDocument/2006/relationships/hyperlink" Target="http://www.nerc.com/files/IRO-005-1.pdf" TargetMode="External"/><Relationship Id="rId28" Type="http://schemas.openxmlformats.org/officeDocument/2006/relationships/hyperlink" Target="http://www.nerc.com/files/MOD-001-0.pdf" TargetMode="External"/><Relationship Id="rId29" Type="http://schemas.openxmlformats.org/officeDocument/2006/relationships/hyperlink" Target="http://www.nerc.com/files/PER-004-1.pdf" TargetMode="External"/><Relationship Id="rId30" Type="http://schemas.openxmlformats.org/officeDocument/2006/relationships/hyperlink" Target="http://www.nerc.com/files/PRC-001-1.pdf" TargetMode="External"/><Relationship Id="rId31" Type="http://schemas.openxmlformats.org/officeDocument/2006/relationships/slideLayout" Target="../slideLayouts/slideLayout1.xml"/><Relationship Id="rId3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4" name="Text Box 2"/>
          <p:cNvSpPr/>
          <p:nvPr/>
        </p:nvSpPr>
        <p:spPr>
          <a:xfrm>
            <a:off x="228600" y="1397160"/>
            <a:ext cx="8686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Reliability Standard EOP 001</a:t>
            </a:r>
            <a:endParaRPr b="0" lang="en-US" sz="3200" spc="-1" strike="noStrike">
              <a:solidFill>
                <a:srgbClr val="000000"/>
              </a:solidFill>
              <a:latin typeface="Arial"/>
            </a:endParaRPr>
          </a:p>
        </p:txBody>
      </p:sp>
      <p:sp>
        <p:nvSpPr>
          <p:cNvPr id="55" name="TextBox 4"/>
          <p:cNvSpPr/>
          <p:nvPr/>
        </p:nvSpPr>
        <p:spPr>
          <a:xfrm>
            <a:off x="1779480" y="2590920"/>
            <a:ext cx="577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 Interpretation of “Adjacent”</a:t>
            </a:r>
            <a:endParaRPr b="0" lang="en-US" sz="3200" spc="-1" strike="noStrike">
              <a:solidFill>
                <a:srgbClr val="000000"/>
              </a:solidFill>
              <a:latin typeface="Arial"/>
            </a:endParaRPr>
          </a:p>
        </p:txBody>
      </p:sp>
      <p:sp>
        <p:nvSpPr>
          <p:cNvPr id="56" name="TextBox 3"/>
          <p:cNvSpPr/>
          <p:nvPr/>
        </p:nvSpPr>
        <p:spPr>
          <a:xfrm>
            <a:off x="1219320" y="3429000"/>
            <a:ext cx="670536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the potential to have major impact in compliance efforts with many other NERC Reliability Stant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7" name="Text Box 2"/>
          <p:cNvSpPr/>
          <p:nvPr/>
        </p:nvSpPr>
        <p:spPr>
          <a:xfrm>
            <a:off x="228600" y="228600"/>
            <a:ext cx="8686800" cy="573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Proposed </a:t>
            </a:r>
            <a:r>
              <a:rPr b="0" lang="en-US" sz="2400" spc="-1" strike="noStrike" u="sng">
                <a:solidFill>
                  <a:srgbClr val="009999"/>
                </a:solidFill>
                <a:uFillTx/>
                <a:latin typeface="Arial"/>
                <a:hlinkClick r:id="rId1"/>
              </a:rPr>
              <a:t>Interpretation</a:t>
            </a:r>
            <a:r>
              <a:rPr b="0" lang="en-US" sz="2400" spc="-1" strike="noStrike">
                <a:solidFill>
                  <a:srgbClr val="000000"/>
                </a:solidFill>
                <a:latin typeface="Arial"/>
              </a:rPr>
              <a:t> of NERC Reliability Standard EOP-001 that is open for pre-ballot com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nerc.com/filez/standards/EOP-001-0_Interpretation_RECM.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requested by Regional Entity Compliance Manag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Questions were posed for Interpret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RCOT region should be concerned about the interpretation of Question 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What was intended by using the adjective “adjacent” in Requirement 1? Does “adjacent Balancing Authorities” mean “All” or something else? Is there qualifying criteria to determine if a very small adjacent Balancing Authority area has enough capacity to offer emergency as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8" name="Text Box 3"/>
          <p:cNvSpPr/>
          <p:nvPr/>
        </p:nvSpPr>
        <p:spPr>
          <a:xfrm>
            <a:off x="237960" y="762120"/>
            <a:ext cx="8601120" cy="106884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Original Interpretation </a:t>
            </a:r>
            <a:r>
              <a:rPr b="0" lang="en-US" sz="3200" spc="-1" strike="noStrike">
                <a:solidFill>
                  <a:srgbClr val="000000"/>
                </a:solidFill>
                <a:latin typeface="Arial"/>
              </a:rPr>
              <a:t>said adjacent meant interconnected by AC ties</a:t>
            </a:r>
            <a:endParaRPr b="0" lang="en-US" sz="3200" spc="-1" strike="noStrike">
              <a:solidFill>
                <a:srgbClr val="000000"/>
              </a:solidFill>
              <a:latin typeface="Arial"/>
            </a:endParaRPr>
          </a:p>
        </p:txBody>
      </p:sp>
      <p:sp>
        <p:nvSpPr>
          <p:cNvPr id="59" name="Text Box 4"/>
          <p:cNvSpPr/>
          <p:nvPr/>
        </p:nvSpPr>
        <p:spPr>
          <a:xfrm>
            <a:off x="304920" y="1828800"/>
            <a:ext cx="7864200" cy="301860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Revised Interpretation </a:t>
            </a:r>
            <a:r>
              <a:rPr b="0" lang="en-US" sz="3200" spc="-1" strike="noStrike">
                <a:solidFill>
                  <a:srgbClr val="000000"/>
                </a:solidFill>
                <a:latin typeface="Arial"/>
              </a:rPr>
              <a:t>removed the limitation to AC ties and refers to the NERC Glossary of Terms definition of </a:t>
            </a:r>
            <a:r>
              <a:rPr b="0" lang="en-US" sz="3200" spc="-1" strike="noStrike" u="sng">
                <a:solidFill>
                  <a:srgbClr val="009999"/>
                </a:solidFill>
                <a:uFillTx/>
                <a:latin typeface="Arial"/>
                <a:hlinkClick r:id="rId3"/>
              </a:rPr>
              <a:t>Adjacent Balancing Authority</a:t>
            </a:r>
            <a:r>
              <a:rPr b="0" lang="en-US" sz="3200" spc="-1" strike="noStrike">
                <a:solidFill>
                  <a:srgbClr val="000000"/>
                </a:solidFill>
                <a:latin typeface="Arial"/>
              </a:rPr>
              <a:t>, which does not differentiate between AC ties and DC ties</a:t>
            </a:r>
            <a:endParaRPr b="0" lang="en-US" sz="3200" spc="-1" strike="noStrike">
              <a:solidFill>
                <a:srgbClr val="000000"/>
              </a:solidFill>
              <a:latin typeface="Arial"/>
            </a:endParaRPr>
          </a:p>
        </p:txBody>
      </p:sp>
      <p:sp>
        <p:nvSpPr>
          <p:cNvPr id="60" name="Text Box 5"/>
          <p:cNvSpPr/>
          <p:nvPr/>
        </p:nvSpPr>
        <p:spPr>
          <a:xfrm>
            <a:off x="304920" y="4830840"/>
            <a:ext cx="8458200" cy="155628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retation no longer addresses Interconnections which are interconnected ONLY by DC 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1" name="Text Box 2"/>
          <p:cNvSpPr/>
          <p:nvPr/>
        </p:nvSpPr>
        <p:spPr>
          <a:xfrm>
            <a:off x="228600" y="304920"/>
            <a:ext cx="86868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IS A CONC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s “adjacent” and “neighboring” are used frequently (about 50 times at our count) in NERC Reliability Standards to require the establishment of relationships or actions between registered functional entit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xt typically is that the adjacent or neighboring entities will impact one another on a synchronous basis.  (i.e., changes on one system will influence the other system because they are synchronously connec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Ties between Interconnections do not meet that context – because flows across DC ties remain at their scheduled values and do not impact the “other side” of the 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2" name="Text Box 2"/>
          <p:cNvSpPr/>
          <p:nvPr/>
        </p:nvSpPr>
        <p:spPr>
          <a:xfrm>
            <a:off x="228600" y="304920"/>
            <a:ext cx="868680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O recommends that ERCOT Market Participants enter the Ballot Body and submit comments on this proposed interpre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 each organization comment that the interpretation should clarify that “adjacent” and “neighboring” mean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registered functional entities with AC ties or DC ties within an Interconnection, and does not apply to DC ties between Interconn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3" name="Text Box 2"/>
          <p:cNvSpPr/>
          <p:nvPr/>
        </p:nvSpPr>
        <p:spPr>
          <a:xfrm>
            <a:off x="304920" y="304920"/>
            <a:ext cx="8610480" cy="594612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out a return to the initial wording:</a:t>
            </a:r>
            <a:endParaRPr b="0" lang="en-US" sz="24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standard requirements which ERCOT ISO believes would be unnecessary and burdensome for ERCOT, because we have no “adjacent” or “neighboring” functional entities which influence our system or which our system impacts</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pretation of those standard requirements would cause development of numerous agreements between ERCOT and other functional entities outside the ERCOT Interconnection – with no impact to reliability</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elevant actions such as weekly conference calls, notifications, sharing and monitoring of limits and methodologies would be required to be compli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4" name="Text Box 2"/>
          <p:cNvSpPr/>
          <p:nvPr/>
        </p:nvSpPr>
        <p:spPr>
          <a:xfrm>
            <a:off x="228600" y="22860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Reference of Standards with “adjacent” or “neighboring”</a:t>
            </a:r>
            <a:endParaRPr b="0" lang="en-US" sz="2400" spc="-1" strike="noStrike">
              <a:solidFill>
                <a:srgbClr val="000000"/>
              </a:solidFill>
              <a:latin typeface="Arial"/>
            </a:endParaRPr>
          </a:p>
        </p:txBody>
      </p:sp>
      <p:graphicFrame>
        <p:nvGraphicFramePr>
          <p:cNvPr id="65" name=""/>
          <p:cNvGraphicFramePr/>
          <p:nvPr/>
        </p:nvGraphicFramePr>
        <p:xfrm>
          <a:off x="380880" y="685800"/>
          <a:ext cx="4600800" cy="5683320"/>
        </p:xfrm>
        <a:graphic>
          <a:graphicData uri="http://schemas.openxmlformats.org/drawingml/2006/table">
            <a:tbl>
              <a:tblPr/>
              <a:tblGrid>
                <a:gridCol w="889200"/>
                <a:gridCol w="3711600"/>
              </a:tblGrid>
              <a:tr h="276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djacen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ar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quirement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
                        </a:rPr>
                        <a:t>BAL-005-0b</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9, R12, R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
                        </a:rPr>
                        <a:t>BAL-00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 R3, R4, R4.1, R4.3, R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3"/>
                        </a:rPr>
                        <a:t>EOP-00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1, R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rPr>
                        <a:t>EOP-0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11.5.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5"/>
                        </a:rPr>
                        <a:t>EOP-00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6"/>
                        </a:rPr>
                        <a:t>FAC-01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7"/>
                        </a:rPr>
                        <a:t>FAC-01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8"/>
                        </a:rPr>
                        <a:t>FAC-01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9"/>
                        </a:rPr>
                        <a:t>FAC-01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5.3, R5.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0"/>
                        </a:rPr>
                        <a:t>INT-006-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1.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1"/>
                        </a:rPr>
                        <a:t>IRO-0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2"/>
                        </a:rPr>
                        <a:t>IRO-00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3"/>
                        </a:rPr>
                        <a:t>IRO-00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4"/>
                        </a:rPr>
                        <a:t>IRO-00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5"/>
                        </a:rPr>
                        <a:t>IRO-0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6"/>
                        </a:rPr>
                        <a:t>IRO-01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7"/>
                        </a:rPr>
                        <a:t>MOD 0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8"/>
                        </a:rPr>
                        <a:t>MOD 0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9"/>
                        </a:rPr>
                        <a:t>MOD 0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2, R3, R4.3, R6.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0"/>
                        </a:rPr>
                        <a:t>MOD 0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2.1.2, R3.5, R4, R5.2, R6, R6.2, R6.4, R6.6, R7.2, R7.2, R7.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1"/>
                        </a:rPr>
                        <a:t>TOP-0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6" name=""/>
          <p:cNvGraphicFramePr/>
          <p:nvPr/>
        </p:nvGraphicFramePr>
        <p:xfrm>
          <a:off x="5029200" y="685800"/>
          <a:ext cx="2144880" cy="3971880"/>
        </p:xfrm>
        <a:graphic>
          <a:graphicData uri="http://schemas.openxmlformats.org/drawingml/2006/table">
            <a:tbl>
              <a:tblPr/>
              <a:tblGrid>
                <a:gridCol w="844560"/>
                <a:gridCol w="1300320"/>
              </a:tblGrid>
              <a:tr h="27648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ighbor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ar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quirement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2"/>
                        </a:rPr>
                        <a:t>EOP-00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3"/>
                        </a:rPr>
                        <a:t>EOP-002-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4"/>
                        </a:rPr>
                        <a:t>EOP-0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5"/>
                        </a:rPr>
                        <a:t>EOP-00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6"/>
                        </a:rPr>
                        <a:t>IRO-00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7"/>
                        </a:rPr>
                        <a:t>IRO-0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4, R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8"/>
                        </a:rPr>
                        <a:t>MOD 0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9"/>
                        </a:rPr>
                        <a:t>PER-00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30"/>
                        </a:rPr>
                        <a:t>PRC-0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RC 0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3.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TOP-0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TOP-002-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4, R11, R12, R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TOP-00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VAR-0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7" name="Rectangle 2"/>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68" name="Rectangle 3"/>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Autofit/>
          </a:bodyPr>
          <a:p>
            <a:pPr marL="343080" indent="-34308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69" name="Rectangle 5"/>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Autofit/>
          </a:bodyPr>
          <a:p>
            <a:pPr marL="343080" indent="-34308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Steve Myers, ERCOT</cp:lastModifiedBy>
  <dcterms:modified xsi:type="dcterms:W3CDTF">2009-02-05T15:13:28Z</dcterms:modified>
  <cp:revision>41</cp:revision>
  <dc:subject/>
  <dc:title>Slide 1</dc:title>
</cp:coreProperties>
</file>