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AE5B94-BA69-4E19-BAA7-B6BEA81990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881CE-64DA-4E3F-B507-975A4654A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E2E48-16D6-49D1-858E-A3F37A501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CEF36-F125-4811-BC6F-3F88F6428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09716-CC40-443F-82E7-9B4118C28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15A8D-09E6-46BD-91BB-E030C8543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E64D6-E044-4C2C-814B-CF1CC3BC0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A89FD-CC7E-4CCB-AD59-C974FB869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F3650-62F5-4915-B1DB-4A8AA1AD8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3F00B-CC39-4B18-AAB3-1CAE16F35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5BF50-CA8D-4574-832C-9C42C258A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84C35-42FB-43D1-ACFF-D6AE6B1E1E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F03CB-B609-49FA-9310-3243179DC9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761760"/>
            <a:ext cx="78487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osed Wind Operations Task Force Scope </a:t>
            </a:r>
            <a:endParaRPr b="0" lang="en-US" sz="4000" spc="-1" strike="noStrike">
              <a:solidFill>
                <a:srgbClr val="000000"/>
              </a:solidFill>
              <a:latin typeface="Arial"/>
            </a:endParaRPr>
          </a:p>
        </p:txBody>
      </p:sp>
      <p:sp>
        <p:nvSpPr>
          <p:cNvPr id="42" name="PlaceHolder 2"/>
          <p:cNvSpPr>
            <a:spLocks noGrp="1"/>
          </p:cNvSpPr>
          <p:nvPr>
            <p:ph type="subTitle"/>
          </p:nvPr>
        </p:nvSpPr>
        <p:spPr>
          <a:xfrm>
            <a:off x="762120" y="1828440"/>
            <a:ext cx="7619760" cy="43434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hip of the Wind Operations Task Force (WOTF) consists of representatives including, but not limited to, QSEs, TDSPs, WGRs, and ERCOT.  The WOTF reports to the Reliability and Operations Subcommittee (ROS) on a regular basi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OS Chair, with ROS approval, appoints the WOTF Chair.</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sensus cannot be achieved on an issue, majority and minority opinions are presented to the RO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ir of the WOTF schedules meetings as required to discharge its responsibilitie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of the WOTF are assigned by ROS and include:</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the Action Plan as developed at the March 17, 2008 Wind Workshop and subsequent Wind Workshops</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recommendations to mitigate the effects of future wind related events. </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further wind integration issues as assigned to it by ROS and make recommendations.</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4T18:51:29Z</dcterms:created>
  <dc:creator>mgarrett</dc:creator>
  <dc:description/>
  <dc:language>en-US</dc:language>
  <cp:lastModifiedBy>mgarrett</cp:lastModifiedBy>
  <dcterms:modified xsi:type="dcterms:W3CDTF">2009-02-04T19:28:09Z</dcterms:modified>
  <cp:revision>2</cp:revision>
  <dc:subject/>
  <dc:title>Proposed Wind Operations Task Force Scope </dc:title>
</cp:coreProperties>
</file>