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77198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38360" y="3609720"/>
            <a:ext cx="77198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94040" y="130788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38360" y="360972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94040" y="360972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24854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48360" y="1307880"/>
            <a:ext cx="24854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58720" y="1307880"/>
            <a:ext cx="24854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738360" y="3609720"/>
            <a:ext cx="24854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48360" y="3609720"/>
            <a:ext cx="24854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58720" y="3609720"/>
            <a:ext cx="24854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738360" y="1307880"/>
            <a:ext cx="77198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77198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37670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94040" y="1307880"/>
            <a:ext cx="37670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909720" y="609120"/>
            <a:ext cx="7548480" cy="19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94040" y="1307880"/>
            <a:ext cx="37670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738360" y="360972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738360" y="1307880"/>
            <a:ext cx="77198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37670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4040" y="130788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94040" y="360972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4040" y="130788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38360" y="3609720"/>
            <a:ext cx="77198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77198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738360" y="3609720"/>
            <a:ext cx="77198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4040" y="130788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38360" y="360972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94040" y="360972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24854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348360" y="1307880"/>
            <a:ext cx="24854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58720" y="1307880"/>
            <a:ext cx="24854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738360" y="3609720"/>
            <a:ext cx="24854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348360" y="3609720"/>
            <a:ext cx="24854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58720" y="3609720"/>
            <a:ext cx="24854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738360" y="1307880"/>
            <a:ext cx="77198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77198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37670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94040" y="1307880"/>
            <a:ext cx="37670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77198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909720" y="609120"/>
            <a:ext cx="7548480" cy="19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94040" y="1307880"/>
            <a:ext cx="37670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738360" y="360972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37670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94040" y="130788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94040" y="360972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94040" y="130788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738360" y="3609720"/>
            <a:ext cx="77198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77198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738360" y="3609720"/>
            <a:ext cx="77198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94040" y="130788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738360" y="360972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94040" y="360972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24854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348360" y="1307880"/>
            <a:ext cx="24854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958720" y="1307880"/>
            <a:ext cx="24854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738360" y="3609720"/>
            <a:ext cx="24854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348360" y="3609720"/>
            <a:ext cx="24854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5958720" y="3609720"/>
            <a:ext cx="24854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738360" y="1307880"/>
            <a:ext cx="77198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77198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37670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94040" y="1307880"/>
            <a:ext cx="37670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37670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94040" y="1307880"/>
            <a:ext cx="37670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909720" y="609120"/>
            <a:ext cx="7548480" cy="19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94040" y="1307880"/>
            <a:ext cx="37670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738360" y="360972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37670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94040" y="130788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94040" y="360972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94040" y="130788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738360" y="3609720"/>
            <a:ext cx="77198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77198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738360" y="3609720"/>
            <a:ext cx="77198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4040" y="130788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738360" y="360972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94040" y="360972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24854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348360" y="1307880"/>
            <a:ext cx="24854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958720" y="1307880"/>
            <a:ext cx="24854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738360" y="3609720"/>
            <a:ext cx="24854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348360" y="3609720"/>
            <a:ext cx="24854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5958720" y="3609720"/>
            <a:ext cx="24854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09720" y="609120"/>
            <a:ext cx="7548480" cy="19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4040" y="1307880"/>
            <a:ext cx="37670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738360" y="360972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37670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94040" y="130788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94040" y="360972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94040" y="130788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38360" y="3609720"/>
            <a:ext cx="77198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909720" y="5940360"/>
            <a:ext cx="7777080" cy="0"/>
          </a:xfrm>
          <a:prstGeom prst="line">
            <a:avLst/>
          </a:prstGeom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38360" y="1307880"/>
            <a:ext cx="77198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7840" indent="-17784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457200" indent="-165240">
              <a:spcBef>
                <a:spcPts val="499"/>
              </a:spcBef>
              <a:buClr>
                <a:srgbClr val="ff6633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749160" indent="-1774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3" marL="1028880" indent="-165240">
              <a:spcBef>
                <a:spcPts val="499"/>
              </a:spcBef>
              <a:buClr>
                <a:srgbClr val="ff6633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4" marL="1490760" indent="-233280">
              <a:spcBef>
                <a:spcPts val="4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5" marL="1490760" indent="-233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6" marL="1490760" indent="-233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232680" y="5952960"/>
            <a:ext cx="2639880" cy="831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09360" y="669600"/>
            <a:ext cx="7777080" cy="3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4149720"/>
            <a:ext cx="9144000" cy="271476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6297480" y="5872320"/>
            <a:ext cx="2789280" cy="879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6586560" y="6113520"/>
            <a:ext cx="2138400" cy="41112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909720" y="5940360"/>
            <a:ext cx="7777080" cy="0"/>
          </a:xfrm>
          <a:prstGeom prst="line">
            <a:avLst/>
          </a:prstGeom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738360" y="1307880"/>
            <a:ext cx="77198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7840" indent="-17784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457200" indent="-165240">
              <a:spcBef>
                <a:spcPts val="499"/>
              </a:spcBef>
              <a:buClr>
                <a:srgbClr val="ff6633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749160" indent="-1774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3" marL="1028880" indent="-165240">
              <a:spcBef>
                <a:spcPts val="499"/>
              </a:spcBef>
              <a:buClr>
                <a:srgbClr val="ff6633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4" marL="1490760" indent="-233280">
              <a:spcBef>
                <a:spcPts val="4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5" marL="1490760" indent="-233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6" marL="1490760" indent="-233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09360" y="669600"/>
            <a:ext cx="7777080" cy="3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0" y="4149720"/>
            <a:ext cx="9144000" cy="2714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Wind Operations Task Force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77198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Overview for ROS Feb 2009 mtg: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177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177840" indent="-17784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WOTF has drafted a scope for ROS to consider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177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177840" indent="-17784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WOTF recommendations for Chair &amp; Vice Chair: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749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Chair – Mark Garrett (Direct Energy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749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Vice Chair – Mark Soutter (Invenergy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177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177840" indent="-17784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WOTF makes no recommendation on WOTF vs WOWG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177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177840" indent="-17784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WOTF is continuing work on issues #1a/b/c, 1d, 3e, and 5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177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909720" y="609480"/>
            <a:ext cx="6710400" cy="419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Wind Operations Task Force – status on #1a/b/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38360" y="1308240"/>
            <a:ext cx="771984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80880" indent="-380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Issue 1a/b/c: Better defined voltage support requirements &amp; practices, and SCADA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Phase 1 is a survey by staff of existing capabilities, and </a:t>
            </a:r>
            <a:r>
              <a:rPr b="0" lang="en-US" sz="1800" spc="-1" strike="noStrike" u="sng">
                <a:solidFill>
                  <a:srgbClr val="333333"/>
                </a:solidFill>
                <a:uFillTx/>
                <a:latin typeface="Arial"/>
              </a:rPr>
              <a:t>was just completed in Jan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Phase 2 was holding the Wind Workshop II on Aug 22 (complet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WOTF has begun brainstorming on possible action item for Phase 3.  The main item being discuss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Possible improvements in better coordination of all data requests and requirements.  The WOTF has established a Modeling Subgroup, led by Brad Schwarz (E.On).  </a:t>
            </a:r>
            <a:r>
              <a:rPr b="0" lang="en-US" sz="1800" spc="-1" strike="noStrike" u="sng">
                <a:solidFill>
                  <a:srgbClr val="333333"/>
                </a:solidFill>
                <a:uFillTx/>
                <a:latin typeface="Arial"/>
              </a:rPr>
              <a:t>It met first on Jan 22, drafting a list of data requirements and discussing the merits of detailed vs equivalanced subtransmission models.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  It will meet again on Feb 25 (prior to WOTF 2/26 mtg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909720" y="609480"/>
            <a:ext cx="6710400" cy="419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Wind Operations Task Force – status on #1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8360" y="1308240"/>
            <a:ext cx="771984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80880" indent="-380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Issue 1d: Generation Interconnection Check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Part 1 is complete – development of the Nodal readiness metri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Part 2 – review of a voltage control test, prequalification, and synchronization test requirements – The WOTF is still waiting on a first draft from staff.  Staff has a draft under consideration.  See Operating Guide 3.1.4.3 -- Unit Reactive Capability Tes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909720" y="609480"/>
            <a:ext cx="6710400" cy="419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Wind Operations Task Force – status on #3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38360" y="1308240"/>
            <a:ext cx="771984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80880" indent="-380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Issue 3e: Evaluating possible coordination of transmission line outag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CMWG helped develop, PRS has approved, and TAC is considering </a:t>
            </a:r>
            <a:r>
              <a:rPr b="0" lang="en-US" sz="2000" spc="-1" strike="noStrike" u="sng">
                <a:solidFill>
                  <a:srgbClr val="333333"/>
                </a:solidFill>
                <a:uFillTx/>
                <a:latin typeface="Arial"/>
              </a:rPr>
              <a:t>PRR 795</a:t>
            </a: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: “90-Day Transmission Outage Scheduling Timeline” to cover TCR deadlines.  This should be effective March 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he CMWG is not drafting any further developments at this time, waiting to see the results of PRR 79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he WOTF has kept this issue open as a placeholder to consider the reliability aspects of a coordination proposal if one was developed by the marketing grou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909720" y="609480"/>
            <a:ext cx="6710400" cy="419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Wind Operations Task Force – status on #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38360" y="1308240"/>
            <a:ext cx="771984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80880" indent="-380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Issue 5: Alternate solutions to high frequency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OOM instructions to wind resources – Staff will continue to use OOM instructions under selected conditions, but isn’t seeking further codification into the Operating Guid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Governor Response – Since Type 3 &amp; Type 4 wind turbines can possibly provide such service, how can this capability be utilized?  </a:t>
            </a:r>
            <a:r>
              <a:rPr b="0" lang="en-US" sz="1800" spc="-1" strike="noStrike" u="sng">
                <a:solidFill>
                  <a:srgbClr val="333333"/>
                </a:solidFill>
                <a:uFillTx/>
                <a:latin typeface="Arial"/>
              </a:rPr>
              <a:t>The WOTF discussed a possible requirement for future wind farms to be able to provide governor response service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, and will likely be drafting a PRR to cover thi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Reg down bids – Response capability is technology specific; and protocol changes would be necessary.  How can we measure response of an intermittent resource?  The WOTF will be discussing a white paper next mon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909720" y="609480"/>
            <a:ext cx="6710400" cy="419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Wind Operations Task Force – further discu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38360" y="1308240"/>
            <a:ext cx="771984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80880" indent="-380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Unassigned Issue: Possible overreliance on N-0 SP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SPSs to run back wind resources – </a:t>
            </a:r>
            <a:r>
              <a:rPr b="0" lang="en-US" sz="1800" spc="-1" strike="noStrike" u="sng">
                <a:solidFill>
                  <a:srgbClr val="333333"/>
                </a:solidFill>
                <a:uFillTx/>
                <a:latin typeface="Arial"/>
              </a:rPr>
              <a:t>The WOTF discussed concepts for a potential Op Guide revision for “N-0” SPSs.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  With 70 wind farms using the “No Bid” flag, staff has had to deal with numerous daily local congestion in an individual manual manner.  The question is: Can very selective line flow information be provided to a WGR to give a more flexible guidance before tripping occurs?  Staff is drafting an OGRR for consideration by the OGRT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909720" y="609480"/>
            <a:ext cx="6710400" cy="419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Wind Operations Task Force – upco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8360" y="1308240"/>
            <a:ext cx="771984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80880" indent="-3808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The next WOTF mtgs will be Thurs Feb 26 &amp; Tues March 3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The next WOTF Modeling Subgroup mtg will be Wed Feb 2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An e-mail list at lists.ercot.com will be established for the group short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4T04:25:02Z</dcterms:created>
  <dc:creator>mgarrett</dc:creator>
  <dc:description/>
  <dc:language>en-US</dc:language>
  <cp:lastModifiedBy>mgarrett</cp:lastModifiedBy>
  <dcterms:modified xsi:type="dcterms:W3CDTF">2009-02-04T21:42:44Z</dcterms:modified>
  <cp:revision>20</cp:revision>
  <dc:subject/>
  <dc:title>Wind Operations Task Force</dc:title>
</cp:coreProperties>
</file>