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917D-B982-44EE-90D2-5A45642BB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0160" y="221760"/>
            <a:ext cx="87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81080" y="1422360"/>
            <a:ext cx="87804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81080" y="3944880"/>
            <a:ext cx="87804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EFB4-A13B-4300-B885-33840B88B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00160" y="221760"/>
            <a:ext cx="87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81080" y="1422360"/>
            <a:ext cx="428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360" y="1422360"/>
            <a:ext cx="428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81080" y="3944880"/>
            <a:ext cx="428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360" y="3944880"/>
            <a:ext cx="428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40C6-CC1E-48C5-929B-E22492301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0160" y="221760"/>
            <a:ext cx="87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81080" y="1422360"/>
            <a:ext cx="282708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50000" y="1422360"/>
            <a:ext cx="282708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8560" y="1422360"/>
            <a:ext cx="282708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81080" y="3944880"/>
            <a:ext cx="282708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50000" y="3944880"/>
            <a:ext cx="282708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8560" y="3944880"/>
            <a:ext cx="282708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D791-2DFD-4A6D-AB6B-CD71EA326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0160" y="221760"/>
            <a:ext cx="87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81080" y="1422360"/>
            <a:ext cx="8780400" cy="48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0FB8-E800-4BCA-A245-4411BA98F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0160" y="221760"/>
            <a:ext cx="87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81080" y="1422360"/>
            <a:ext cx="87804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612E-F4A6-40AB-A99B-9F1629918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0160" y="221760"/>
            <a:ext cx="87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81080" y="1422360"/>
            <a:ext cx="428472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360" y="1422360"/>
            <a:ext cx="428472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D52E-F6A9-4131-8031-32BA8773C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0160" y="221760"/>
            <a:ext cx="87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2482-6B6C-4439-85D5-2543E2424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00160" y="221760"/>
            <a:ext cx="8772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5A70-B210-4D4B-9240-DBC3253D1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0160" y="221760"/>
            <a:ext cx="87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1080" y="1422360"/>
            <a:ext cx="428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360" y="1422360"/>
            <a:ext cx="428472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1080" y="3944880"/>
            <a:ext cx="428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162C-4594-4E79-8B58-DBA31310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0160" y="221760"/>
            <a:ext cx="87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1080" y="1422360"/>
            <a:ext cx="428472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360" y="1422360"/>
            <a:ext cx="428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360" y="3944880"/>
            <a:ext cx="428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4920-5B05-4942-BF60-C8F6389C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0160" y="221760"/>
            <a:ext cx="87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1080" y="1422360"/>
            <a:ext cx="428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360" y="1422360"/>
            <a:ext cx="428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81080" y="3944880"/>
            <a:ext cx="87804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0B99-E6E0-42C3-9E17-2BFED9057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0160" y="221760"/>
            <a:ext cx="87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1080" y="1422360"/>
            <a:ext cx="87804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579640" y="6559560"/>
            <a:ext cx="340380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55440" y="87480"/>
            <a:ext cx="9044280" cy="6702120"/>
            <a:chOff x="55440" y="87480"/>
            <a:chExt cx="9044280" cy="6702120"/>
          </a:xfrm>
        </p:grpSpPr>
        <p:sp>
          <p:nvSpPr>
            <p:cNvPr id="4" name=""/>
            <p:cNvSpPr/>
            <p:nvPr/>
          </p:nvSpPr>
          <p:spPr>
            <a:xfrm>
              <a:off x="139680" y="87480"/>
              <a:ext cx="8872560" cy="6702120"/>
            </a:xfrm>
            <a:prstGeom prst="rect">
              <a:avLst/>
            </a:prstGeom>
            <a:noFill/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5440" y="176040"/>
              <a:ext cx="9044280" cy="6527880"/>
            </a:xfrm>
            <a:prstGeom prst="rect">
              <a:avLst/>
            </a:prstGeom>
            <a:noFill/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98280" y="131760"/>
              <a:ext cx="8958240" cy="661680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165240" y="6556320"/>
            <a:ext cx="213336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45400" y="6397560"/>
            <a:ext cx="213336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D9F20-E8F9-43B3-95EE-BD81B46FA98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39760" y="457200"/>
            <a:ext cx="86518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Reliability and Operations Subcommitte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Procedures and Activities</a:t>
            </a:r>
            <a:br>
              <a:rPr sz="24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stin, TX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bruary 12,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89240" y="4538520"/>
            <a:ext cx="6400800" cy="15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nneth A. Donohoo, P.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ir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cor Electric Delivery Company LL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0160" y="221760"/>
            <a:ext cx="87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ROS Scop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81080" y="1422360"/>
            <a:ext cx="87804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orting to the Technical Advisory Committee (TAC), the Reliability and Operations Subcommittee (ROS) develops, reviews and maintains operating guides and planning criteri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OS reviews ERCOT reports and procedures related to the reliable operation of the ERCOT system, including planning assessment; blackout restoration procedures; coordination of protective relay settings; operational communication facilities; operating reserve obligations; emergency operations; abnormal system conditions; transmission interconnections to generation; coordination of outage schedules; and other activities. The ROS also reviews ERCOT protocol revisions and performs protocol-required reviews of ancillary service provisions and commercially significant constraint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S Procedure and Objectives Discus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93A0-F01A-40D8-8DC7-D340ACBEEDE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02/05/2009 Ken Donoho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0160" y="221760"/>
            <a:ext cx="87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Objective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81080" y="1422360"/>
            <a:ext cx="87804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 ROS and WG Proced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RC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ling require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ing nature of g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ing and future generation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ing and future transmission technolo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e Transparency of Plan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ical congestion and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e future congestion and develop methods to resolve and inform stakeholders of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forum for activities and discu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S Procedure and Objectives Discus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15C0-A48F-4A5E-854F-EAF079F4684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02/05/2009 Ken Donoho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6:00:00Z</dcterms:created>
  <dc:creator/>
  <dc:description/>
  <dc:language>en-US</dc:language>
  <cp:lastModifiedBy/>
  <dcterms:modified xsi:type="dcterms:W3CDTF">2009-02-04T22:55:03Z</dcterms:modified>
  <cp:revision>15</cp:revision>
  <dc:subject/>
  <dc:title>Slide 1</dc:title>
</cp:coreProperties>
</file>