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AD3-15D9-4DC1-BA16-5DFEAAA5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7F2-6494-469D-8D8D-5AB4552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FA4-6274-4FED-B8CA-F549566B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F68-05C7-40AC-9EDE-F0F20663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2AC-5A2E-485E-92F1-AFB2BC9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60B-F5C8-45DD-B748-9F06199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DE7-21C8-450C-99AA-6A3E74E6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6D6-425F-45C8-A239-F332B67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070-53BF-4767-9DA1-EB7CD00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0BA-4556-48DA-BD2D-44B6878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9E8-B112-475A-A570-BD5E4F1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EFE-A20C-490E-B19D-2346CB2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5A60-FC2E-42BE-BD32-C07E9EE6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WOWG (possible vo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Procedures: “The subcommittee will direct these work groups … The Subcommittee may form other standing work groups and temporary or ad hoc task forces on an as needed basi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of 11 April 2008 ROS mtg: “Bob Green moved that ROS adopt the action plan for carrying out the follow-up assignment from the TAC leadership in regard to the EECP event of February 26, 2008 as amended by ROS. … Mr. R. Jones suggested that the Wind Operations Task Force (WOTF) meet at least twice before the May 2008 ROS meeting … Mr. R. Jones noted that items identified at the March 17, 2008 Wind Workshop at ERCOT Austin would be addressed by the newly formed WOTF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18:39Z</dcterms:created>
  <dc:creator>mgarrett</dc:creator>
  <dc:description/>
  <dc:language>en-US</dc:language>
  <cp:lastModifiedBy>mgarrett</cp:lastModifiedBy>
  <dcterms:modified xsi:type="dcterms:W3CDTF">2009-02-04T21:25:12Z</dcterms:modified>
  <cp:revision>3</cp:revision>
  <dc:subject/>
  <dc:title>Consideration of xxx</dc:title>
</cp:coreProperties>
</file>