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C7F-1CAA-4F10-B1A5-84BD9A18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2E0-4C77-4997-A33F-8A5E4D9A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945-763C-42AC-B20F-977CCDF2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E3C-252B-4038-9F21-2D52B6F7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885-D091-4096-BE1F-CAE7491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62D-2302-4C12-B691-87CD87E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5DD-77AA-48A6-954A-CD15A6A4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75B-5507-47AA-9DB7-7F9829B8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920-1E92-42C6-9FC7-ABBDB622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93A-B64D-4521-8A60-4B80566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1B8-3E93-449D-AB51-ECE8BB30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C69-CE81-48DF-AA16-711AF77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2BF-AB55-4367-B334-65187DDB8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C Field Tri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COT Time Error Corr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lancing Authority Control Standards Drafting Team (BACSDT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suing the option to eliminate Time Error Correction (TEC) as a reliability standard defined in BAL - 00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leted Industry Surv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 paper covering the history and reasons to remove/keep TEC went out with the Surv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ting Field Trial to reduce TEC offset from 20 to 10mHz (Eastern Interconn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ting Field Trial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erform Time Error Correction (ERCO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lance Authority Control SDT Ta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ress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C Order 693” applies to NERC standards BAL-002, 004, 005, and 00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Error Cor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Area Control Error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vertent Inter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ability requirements/business practices wi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RC and NAESB collaborative particip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eld Trial in ERC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ten verification from NERC that ERCOT ISO will not be in violation of NERC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Stakeholder support of OGR to modify TEC requ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ten verification from TRE that ERCOT will not be in violation of the Protocols and OG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GRR2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38080" y="1600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1.5 , Time Error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the last sentence by removing the following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at no time should the accumulated time error be allowed to exceed five (5) seconds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07:15Z</dcterms:created>
  <dc:creator>kmcintyre</dc:creator>
  <dc:description/>
  <dc:language>en-US</dc:language>
  <cp:lastModifiedBy>balbracht</cp:lastModifiedBy>
  <dcterms:modified xsi:type="dcterms:W3CDTF">2009-02-06T18:43:43Z</dcterms:modified>
  <cp:revision>19</cp:revision>
  <dc:subject/>
  <dc:title>Slide 1</dc:title>
</cp:coreProperties>
</file>