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C24-E1B8-4F16-AFCC-87997B79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339-6E01-460F-8590-3EF09D9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E39-730A-4E0C-86B9-286DF45E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62C-D434-4D17-B695-DC5DD925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87C1-5FB4-4BFF-BB5E-7E601B27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45FA-2259-4EF6-824D-B616E3E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B762-E1AB-4D89-88B7-442FA1DF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B65D-68A3-476D-960E-143563FE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2F0F-4A1F-4640-BE70-69D878A0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3715-6B1F-4CE9-A4C7-8D4E50A9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3E22-CFC0-4528-A3E5-B015084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C2A-4B1C-480C-9B55-5540DAE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FD43-80AA-47BC-A875-26D6656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DA12-1289-4680-90D0-67D2D71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F24-31C5-4F24-84E8-E107183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E9C9-FEA0-4462-A54E-03CD39B6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BE3F-46DA-4E7E-952C-9FA3881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D8B-4AFD-4B11-94DA-239BC9E5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423-B919-4FEC-9557-C12F971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D14-3460-41EE-8B30-F5FD63FE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18C-5609-4DCF-8B72-6868FB3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B6E-61B4-4CE2-AE7B-E0BB19C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AAA-2318-4FD7-8943-C41E5DC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6FD-A7B7-47EE-9F3A-35C77DD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C48E-E3DF-4B03-A894-66EE6501D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D057-E72E-48D8-B0E5-28D883347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rcot.com/services/sla/" TargetMode="External"/><Relationship Id="rId3" Type="http://schemas.openxmlformats.org/officeDocument/2006/relationships/hyperlink" Target="http://www.ercot.com/services/sla/" TargetMode="External"/><Relationship Id="rId4" Type="http://schemas.openxmlformats.org/officeDocument/2006/relationships/hyperlink" Target="http://www.ercot.com/services/sla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R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ebruary 11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Feb 10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dorsed Working Group 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Michelle Trenary, Tenaska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C: Phyllis Castillo, Relian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Jim Galvin, Lu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C: Heddie Lookadoo, NR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DA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Heather Boisseau, LC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ce Chair: Jack Brown, Garland Power &amp; 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ir: Ernie Podraza, Direc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ce Chair: Kyle Miller, CenterPoint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MGRR 009 – Planned Scheduled Release and Planned Maintenance Outa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come to COPS next month for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MGRR 010 – Section 12, Renewable Energy Cred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come to COPS next month for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OPMG Sec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ion 8, Settlement Statement and D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ion 11, Disputes and Data Extract Var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ion 5, Commercial Systems Model and Section 12, Congestion Review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xtract Report and Incident Log stored at the following UR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3"/>
              </a:rPr>
              <a:t>www.ercot.com/services/sla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eport an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xtract issues since January on the decli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Began discussions with ERCOT staff on the impacts of Hurricane Ike and UF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UFE settlement over the periods of Sep - Nov 2008 created swings in UFE that caused significant cash flow settlement challenges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097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ill continue to follow the development and testing processes for Nodal CO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ed load research sample replacement procedures for a premise that changes to an Advanced 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COT shall accept the 15 minute data by the advanced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tative Round 2 load research data collection ends on Dec 31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w Working Group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al of new a Working Group, called Settlement and Extracts Working Group (SEW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ible for ensuring COPS involvement in extracts, data delivery, data presentation and reports for financial settlement and data aggregation proces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WG will focus on aiding ERCOT and Market Participants in reviewing financial settlement and data aggregation system design and operations; providing a forum to discuss issues addressing settlements; and reviewing the details and requirements of data extracts and repo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d SDAWG and DEWG, as SEWG will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hort Pay &amp; Uplift Update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4.7m in short pay after collateral appl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COT approached process differently in an attempt to ease administrative aspect for QSEs and provide an easier audit t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l reconciliation rather than weekly small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QSEs end up in the same place under eithe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for final reconcil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short payments in June/July, defaulting entities were due credits from Finals &amp; True 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held thes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the last 6-7 months, QSEs received late fee (interest) cred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 Debit will be used to recover $200k in late f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paid QSEs  get money back, but not late fees (inter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QSEs uplifted short pay, including late payment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huck Moore</cp:lastModifiedBy>
  <dcterms:modified xsi:type="dcterms:W3CDTF">2009-02-10T22:06:13Z</dcterms:modified>
  <cp:revision>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604165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OPS presentation for RMS</vt:lpwstr>
  </property>
  <property fmtid="{D5CDD505-2E9C-101B-9397-08002B2CF9AE}" pid="6" name="_NewReviewCycle">
    <vt:lpwstr/>
  </property>
</Properties>
</file>