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EA6D9-CFA6-43B5-83F9-96B213604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AEACC-C848-412E-A019-CA80F82B7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44429-E30A-4A03-9A87-30101C9EE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0B16C-0753-45FE-8DB0-C26CE0ABF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81EC6-C6CD-4499-A999-DEFCC8C8D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12A7D-A23D-4DB3-9E42-2B1E9FD6D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67037-3638-4A76-937C-609399980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A113D-229F-4A2B-BDED-030A5B9B7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26961-3CD9-4186-A3FA-5CA727B2D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88AB6-C2B9-49E9-904F-33316EC1A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68D4D-604F-4C80-B941-6342A3704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AD40A-C5AB-4DBD-BAE4-8806176D1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96EBE-563B-433B-A15B-2FF16B7FFD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ail Market Sub Committ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11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2333520" y="5466960"/>
            <a:ext cx="2619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ebruary 11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2333160" y="5067360"/>
            <a:ext cx="60483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tail Market Subcommittee Me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Flight Testing Updat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RMS Upda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08/09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90440" y="195120"/>
            <a:ext cx="7932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light 0209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" name=""/>
          <p:cNvSpPr/>
          <p:nvPr/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9480" y="1219320"/>
            <a:ext cx="82296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33520" y="1219320"/>
            <a:ext cx="82296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ta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ght 0209 Kick-Off Conference Call will be 02/13/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ght scheduled to begin with Day 1 transactions flowing on 02/16/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ght scheduled to conclude on 03/31/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ngency Testing scheduled to conclude on 04/17/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MS Upda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8/09/2006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90440" y="195120"/>
            <a:ext cx="7932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light 0209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" name=""/>
          <p:cNvSpPr/>
          <p:nvPr/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09480" y="1219320"/>
            <a:ext cx="82296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33520" y="1066680"/>
            <a:ext cx="8229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light Manif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TDS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 New CRs – 54 New Relationships; 9 Existing C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Existing CRs testing a Banking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Existing CRs testing Change of Service Provider (Established S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CRs adding new territories (6 new relationshi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2,856 Total Task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MS Upda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8/09/2006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gres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nectivity statu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1090440" y="195120"/>
            <a:ext cx="7932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light 0209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MS Upda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8/09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gcervenka</cp:lastModifiedBy>
  <dcterms:modified xsi:type="dcterms:W3CDTF">2009-02-02T19:26:55Z</dcterms:modified>
  <cp:revision>101</cp:revision>
  <dc:subject/>
  <dc:title>Instructions</dc:title>
</cp:coreProperties>
</file>