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364DCF-41F5-4FD0-AAB6-F5DA7034127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5D7B1E-F397-4D66-A227-DCADFB4622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8320" y="687240"/>
            <a:ext cx="4592520" cy="3445200"/>
          </a:xfrm>
          <a:prstGeom prst="rect">
            <a:avLst/>
          </a:prstGeom>
          <a:ln w="0">
            <a:noFill/>
          </a:ln>
        </p:spPr>
      </p:sp>
      <p:sp>
        <p:nvSpPr>
          <p:cNvPr id="10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A15ACF-4C58-49A9-8821-764BE754E4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E4EC4B-38F2-4C52-9AE2-E40F087A42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54B361D-91BD-40B2-953A-93230827D2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56859A-F188-4058-9654-EB79778087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99E07E-4CA2-4F78-A55C-85287939A2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8BCB71-23C3-491F-9294-EB8878BC39A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8320" y="687240"/>
            <a:ext cx="4592520" cy="3445200"/>
          </a:xfrm>
          <a:prstGeom prst="rect">
            <a:avLst/>
          </a:prstGeom>
          <a:ln w="0">
            <a:noFill/>
          </a:ln>
        </p:spPr>
      </p:sp>
      <p:sp>
        <p:nvSpPr>
          <p:cNvPr id="9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388820B-C068-43A9-8BB7-C0653F4A3D2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38320" y="687240"/>
            <a:ext cx="4592520" cy="3445200"/>
          </a:xfrm>
          <a:prstGeom prst="rect">
            <a:avLst/>
          </a:prstGeom>
          <a:ln w="0">
            <a:noFill/>
          </a:ln>
        </p:spPr>
      </p:sp>
      <p:sp>
        <p:nvSpPr>
          <p:cNvPr id="1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8B2899-77EB-4E5C-8910-A52B7FECF2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2740E-7A43-493B-885E-7786442B3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F07E-7577-46B8-AFA1-563A8864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20DF2-C206-481E-984B-8C60BFFE2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213F6-5A12-4C10-B322-FE817D989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7B336-52CE-4628-B528-490881EF8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0040-3FC4-453A-AAEC-FBAEE197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70877-F856-46FD-85CA-0AA1B1D8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C70C-6547-45D7-9B50-CE410C04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D60C-6EF1-4D9B-B88D-2D8551BB2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03EC-F0CC-4164-8F5F-E7A939B2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E2F7-3EBF-4C54-AB8D-D0BB40681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432C-FB8F-46F8-AB40-D8CA7270B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5BF1-E305-4D88-A2A3-62DC3775AB9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D1E1-68D3-459A-84AF-87CA66A627A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 Goals</a:t>
            </a:r>
            <a:endParaRPr b="0" lang="en-US" sz="3200" spc="-1" strike="noStrike">
              <a:solidFill>
                <a:srgbClr val="000000"/>
              </a:solidFill>
              <a:latin typeface="Arial"/>
            </a:endParaRPr>
          </a:p>
        </p:txBody>
      </p:sp>
      <p:sp>
        <p:nvSpPr>
          <p:cNvPr id="54" name="Text Box 4"/>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1, 2009</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657F-DB2E-4295-9B58-8E0FA4E62AA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9"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0FCB-1CEF-4CDD-9B22-E8311CFADD9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ohnny Robertson, Cha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nette Morton, Vic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BCE2-9176-44EB-8C66-CB8F7A5514F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9 Objective</a:t>
            </a:r>
            <a:endParaRPr b="0" lang="en-US" sz="3200" spc="-1" strike="noStrike">
              <a:solidFill>
                <a:srgbClr val="000000"/>
              </a:solidFill>
              <a:latin typeface="Arial"/>
            </a:endParaRPr>
          </a:p>
        </p:txBody>
      </p:sp>
      <p:sp>
        <p:nvSpPr>
          <p:cNvPr id="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facilitate development of data delivery processes for the Texas Market, and monitor performance measures as directed by 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velop RMGRR for expanded scope based on merger of MMWG and TDTW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r>
              <a:rPr b="1" lang="en-US" sz="3200" spc="-1" strike="noStrike">
                <a:solidFill>
                  <a:srgbClr val="000000"/>
                </a:solidFill>
                <a:latin typeface="Arial"/>
              </a:rPr>
              <a:t>- </a:t>
            </a:r>
            <a:r>
              <a:rPr b="1" lang="en-US" sz="3200" spc="-1" strike="noStrike">
                <a:solidFill>
                  <a:srgbClr val="000000"/>
                </a:solidFill>
                <a:latin typeface="Monotype Corsiva"/>
              </a:rPr>
              <a:t>DRAFT</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as Data Transport Working Group (TDTWG) is responsible 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 of a guide which describes the data transport process used by Market Participants and ERC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 of the Retail Market IT Services SLA (Service Level Agre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ing ERCOT’s adherence to performance targets specified in the Retail SL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ing of market performance metrics reported to the PUCT by ERCOT, and issues related to these items as directed by the RMS.</a:t>
            </a:r>
            <a:endParaRPr b="0" lang="en-US" sz="24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5CAE-7B51-4123-BCF4-EE9601A5656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65"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50</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work with ERCOT to assess the success of upgrades to web browsers and determine resolution of SCR750 at March meeting</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System Outages and Communica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continue to work with ERCOT and Market Participants to determine  the most efficient manner for resolution of NAESB and other system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continue to support ERCOT resolution efforts in addressing each outage experienced and provide information to RMS</a:t>
            </a: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A2BA-3CBB-4856-BA4A-08C92222D0D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7"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68"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Retail Market Services SL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the Retail Market Services SLA annually and, if needed, work with ERCOT to assess any potential chang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 Market Metrics reported to PUCT by ERCOT</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ERCOT reported Market Metrics and provide a forum for Market Participants’ questions and/or issues regarding these quarterly performance statistics</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37BE-73E3-4089-82F6-9C262FD7A68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0"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endParaRPr b="0" lang="en-US" sz="2800" spc="-1" strike="noStrike">
              <a:solidFill>
                <a:srgbClr val="000000"/>
              </a:solidFill>
              <a:latin typeface="Arial"/>
            </a:endParaRPr>
          </a:p>
        </p:txBody>
      </p:sp>
      <p:sp>
        <p:nvSpPr>
          <p:cNvPr id="71"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B446-4C1C-4E51-9250-3A4682C093F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0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as needed,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08C8-CFF5-496F-B6B9-5B142E3F5F3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9</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mmccarty</cp:lastModifiedBy>
  <cp:lastPrinted>2002-09-24T18:27:58Z</cp:lastPrinted>
  <dcterms:modified xsi:type="dcterms:W3CDTF">2009-02-05T19:17:46Z</dcterms:modified>
  <cp:revision>389</cp:revision>
  <dc:subject/>
  <dc:title>PowerPoint Presentation</dc:title>
</cp:coreProperties>
</file>