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B5B-9BAF-40E7-AAB2-4242AC21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26F-BF96-4BC0-BC58-F50B7CF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906-90EC-4D46-B3CA-722AF684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4C9-6264-4C80-A090-6B75F14F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AA691-B2DA-4D3F-8425-EDA90F7B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60424-8A5C-49CF-8CC9-4E3FF09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E3A5-2B77-4C80-82F1-758A1ED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5E1D0-3B8B-494F-9625-4ED61ED9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FEC76-E7F2-40C2-9809-B67B8F5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AC767-FB11-475E-891D-FC68D6E6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A8B50-B0BA-4E82-88C0-2C52F8E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70A-8ACE-480F-A714-8BBA32CE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2E9F-174B-4268-BD47-0253A55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03D6-5864-4CDD-95B7-FEA98D5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7389C-6417-40E6-82DD-7ECD78E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B1AFB-BB28-49E9-86CA-EA50729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52DAA-9DD3-476B-A951-CC231119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F64-25C3-42AA-A07A-3C64034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267-6276-40C0-B89B-DE23CFF8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3FE-37B4-420F-8857-B88BA502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605-F216-4215-B790-8C6B80C4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9BC-627A-44EF-89C2-AA11F2D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D15-B541-4472-A03A-616FE30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8FC-F70D-4695-BD44-243F230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888A-F177-46BD-A0C1-63AD433A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EF5-2470-42F0-BD02-371ECDF076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43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gency FB"/>
              </a:rPr>
              <a:t>Texas Test Plan T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February RMS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20"/>
          <p:cNvGrpSpPr/>
          <p:nvPr/>
        </p:nvGrpSpPr>
        <p:grpSpPr>
          <a:xfrm>
            <a:off x="2743200" y="228600"/>
            <a:ext cx="3542760" cy="3351240"/>
            <a:chOff x="2743200" y="228600"/>
            <a:chExt cx="3542760" cy="3351240"/>
          </a:xfrm>
        </p:grpSpPr>
        <p:sp>
          <p:nvSpPr>
            <p:cNvPr id="87" name="AutoShape 8"/>
            <p:cNvSpPr/>
            <p:nvPr/>
          </p:nvSpPr>
          <p:spPr>
            <a:xfrm flipV="1">
              <a:off x="2982960" y="942120"/>
              <a:ext cx="3123000" cy="2637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4424040" y="22860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10"/>
            <p:cNvSpPr/>
            <p:nvPr/>
          </p:nvSpPr>
          <p:spPr>
            <a:xfrm>
              <a:off x="3463200" y="52416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AutoShape 11"/>
            <p:cNvSpPr/>
            <p:nvPr/>
          </p:nvSpPr>
          <p:spPr>
            <a:xfrm>
              <a:off x="5438880" y="52416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AutoShape 12"/>
            <p:cNvSpPr/>
            <p:nvPr/>
          </p:nvSpPr>
          <p:spPr>
            <a:xfrm flipH="1" rot="5400000">
              <a:off x="3760560" y="3153960"/>
              <a:ext cx="1861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 flipH="1" rot="5400000">
              <a:off x="3001320" y="2380680"/>
              <a:ext cx="1897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AutoShape 14"/>
            <p:cNvSpPr/>
            <p:nvPr/>
          </p:nvSpPr>
          <p:spPr>
            <a:xfrm flipH="1" rot="5400000">
              <a:off x="2738520" y="1426320"/>
              <a:ext cx="18900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 flipH="1" rot="5400000">
              <a:off x="5201640" y="3100680"/>
              <a:ext cx="1861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 flipV="1">
              <a:off x="3463200" y="1181520"/>
              <a:ext cx="2162160" cy="1915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AutoShape 17"/>
            <p:cNvSpPr/>
            <p:nvPr/>
          </p:nvSpPr>
          <p:spPr>
            <a:xfrm flipH="1" rot="5400000">
              <a:off x="5943600" y="2380680"/>
              <a:ext cx="1897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 flipH="1" rot="5400000">
              <a:off x="6101280" y="1426320"/>
              <a:ext cx="18900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WordArt 19"/>
            <p:cNvSpPr txBox="1"/>
            <p:nvPr/>
          </p:nvSpPr>
          <p:spPr>
            <a:xfrm>
              <a:off x="2982960" y="1425240"/>
              <a:ext cx="3123000" cy="11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12600" dir="5400000" blurRad="0" rotWithShape="0">
                      <a:srgbClr val="ffffff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12600" dir="5400000" blurRad="0" rotWithShape="0">
                    <a:srgbClr val="ffffff"/>
                  </a:outerShdw>
                </a:effectLst>
                <a:latin typeface="Agency FB"/>
                <a:ea typeface="Agency FB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Text Box 3" descr=""/>
          <p:cNvPicPr/>
          <p:nvPr/>
        </p:nvPicPr>
        <p:blipFill>
          <a:blip r:embed="rId1"/>
          <a:stretch/>
        </p:blipFill>
        <p:spPr>
          <a:xfrm>
            <a:off x="-249120" y="-128520"/>
            <a:ext cx="9423360" cy="927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ency FB"/>
              </a:rPr>
              <a:t>Chairperson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230c"/>
              </a:buClr>
              <a:buSzPct val="12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ency FB"/>
              </a:rPr>
              <a:t>Kyle Miller  - CenterPoint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ency FB"/>
              </a:rPr>
              <a:t>Co-Vice Chairperson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230c"/>
              </a:buClr>
              <a:buSzPct val="12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ency FB"/>
              </a:rPr>
              <a:t>Roger Tenenbown – E.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230c"/>
              </a:buClr>
              <a:buSzPct val="12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ency FB"/>
              </a:rPr>
              <a:t>Jim Purdy – American Electric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Text Box 3" descr=""/>
          <p:cNvPicPr/>
          <p:nvPr/>
        </p:nvPicPr>
        <p:blipFill>
          <a:blip r:embed="rId1"/>
          <a:stretch/>
        </p:blipFill>
        <p:spPr>
          <a:xfrm>
            <a:off x="-249120" y="-128520"/>
            <a:ext cx="9423360" cy="927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Design Flight Plan fo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Develop and modify scripts for the approved Flights a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pport Testing for Advanced Metering initia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pport Testing for Nodal initiatives, if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pport Testing for MarkeTrak initi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inue to enhance Retail Testing Website to support market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Maintain content within TMTP, TTPT Procedures and Protocol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Investigate adding more automation in the testing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230c"/>
              </a:buClr>
              <a:buSzPct val="120000"/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Enhance market communication to new CR entering the mar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Text Box 3" descr=""/>
          <p:cNvPicPr/>
          <p:nvPr/>
        </p:nvPicPr>
        <p:blipFill>
          <a:blip r:embed="rId1"/>
          <a:stretch/>
        </p:blipFill>
        <p:spPr>
          <a:xfrm>
            <a:off x="-249120" y="23760"/>
            <a:ext cx="942336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xt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RCOT Met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TTPT</cp:lastModifiedBy>
  <dcterms:modified xsi:type="dcterms:W3CDTF">2009-02-05T01:17:16Z</dcterms:modified>
  <cp:revision>58</cp:revision>
  <dc:subject/>
  <dc:title>No Slide Title</dc:title>
</cp:coreProperties>
</file>