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D015-80B5-4F24-A781-7CAD085E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9609-DBD0-4425-9BFF-6DFBA3C6C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2FC7-801A-4740-9A5E-77F96C2AD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039-4ABC-4EBA-AD14-12421A9D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3AE-F26D-4DB4-B7C4-6119FD64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FD1-9588-47DE-A60F-14B8C6F1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686-A162-4ECF-9E22-737B64DF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BEBE-AB62-4411-9367-E898A887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DAB8-0092-4700-991A-5304309F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B4DD-BB84-4DA5-BE8C-7A3E89AE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5571-8C68-4594-B5AE-34DD5F41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8210-5C55-462F-802B-BA519D4F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B6F7-4F91-41C3-8329-0337F8F8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C154-AB3F-4512-82C4-11E48B18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7C6-0434-4AB7-A395-148D3E90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4A01-B8AE-4941-A0D8-6F2CBD15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395A-31E3-438A-9706-6900390B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6ADC-CEB2-4C72-88E0-39AB85E9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4B1A-D34F-4D2C-A5ED-AF7C6414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D7C7-F867-4DCB-A6DF-882FB70D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86DD0-7D94-4E6A-84C2-739544FE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3EC8-3095-4EE4-9593-F2B0C448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B0D20-FCAB-4BD2-9C69-F492A111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943E7-5176-456B-AA5E-34B463E6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DA592-C58C-49DD-9D5A-7770B78C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52B-76F6-4394-89F1-B3459EC8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B82D-76E0-4E9E-B9E7-3AE9D48A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B2E4-8750-44B2-AF00-96D9E48D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5AB1-F79C-4C17-A47E-5DAF7047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8EC8-44E4-4D3E-A964-13B02505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71262-3AFD-474B-B192-30666FE9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039BB-679D-4178-8852-6FE12CF5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BDC18-A5A8-482C-BC6D-EBA97379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B865-A814-4A81-BB62-C4E0630B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D9CEA-8E64-495B-B9AF-4AA2F53C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DDA2-5BCC-44EC-BFC6-1A63490C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B6A-4EFE-4847-B1B7-311D4DD5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74D1-48BB-41EE-B1BF-EA252923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922B-5633-4B0D-98B3-FAD4125F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D49B-4047-46A1-AC68-FD7E220A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AEA91-5211-4D42-BC39-B92960D1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FEFA-268C-409D-8044-CB5EE835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16DD-45ED-4AAB-96E4-45AE0D4F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9CE3F-8C27-42F4-92CE-A54F7E6A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CCE4-5D54-410B-9096-7428734B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BBED-5BE3-4AA1-8225-21807D50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54F64-4F62-4AC3-9657-C5085B3A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EF4-95EC-4B01-B942-E4862FC7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A42F3-DA9D-4C58-8062-E423AF72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7EED0-7A82-43B8-A46B-E45F3BD1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58F4C-8545-4DA7-BC39-0E58B66B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23BD2-0226-415A-A766-51B37F4C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F209F-6A22-4927-AD6A-DB9BAC22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EB03A-BAA7-4FE1-901D-BF7852B1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F301F-2E12-4DB1-A2A6-439B657F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3C1FF-7077-4469-946B-E068C9D1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4F9E9-BBCE-40A6-9A66-EAD28781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79941-4437-4A24-B7F5-F68D1BB7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481-32C5-48F3-B887-96E39325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E05E4-533A-408B-AE3D-F522327E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9BB4D-C11F-4CA0-B661-D5F0C74A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AF6E3-6B12-424B-B211-56CA01BC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B27A7-A2CE-4A62-BED5-844CD20E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13D2D-05EF-4D10-B9E5-8650E78D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A03A6-FED3-4197-8EA6-775D4437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FA09D-81DF-4C32-B6D4-A640058D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77370-9964-4B9A-A16A-1E58B30C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C8BE4-51DE-4526-9C1E-54DE31FF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19256-3F0A-46AF-BC0D-8786587E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823-C58E-44CC-87C8-C83EC8AA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C1FEC-065F-45C7-A0C9-8FE25BCD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F5EC5-5C0C-4853-B548-58AF0484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3D1D6-A824-4143-96F8-BD82E52E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5A301-5559-4464-A722-D219F29F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D9959-17F9-4717-B7AA-D1A6FB44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3235F-EB52-4A1D-92BC-0065A74A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C5FDF-E021-4C48-90C9-B8D04889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92DFE-4056-4270-BBF9-99196D14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1650A-B160-472D-9835-7A7F8C97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FAAC7-FB27-4DC7-AE27-A98C8F1F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853-2D2A-48DE-89E9-666DCD81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FE37E-B2F6-43EB-B190-DFB8FC74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572D7-FEAF-46A8-9F97-A484E19B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4E582-A582-448A-AC11-7D50C0FD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93D35-F1DE-401F-9BF7-58C3D449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7B1D1-69EA-4DA4-9A62-332F5C9C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AD60C-1CAA-4339-AB29-16243AAE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EC457-684C-49CB-A856-3D8C715B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7FAE5-2FBC-4486-A277-98C6E9AB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DF4B5-089B-4F99-ABDB-29F78C3B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67C37-E0ED-4311-A052-F55501D0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39F-FCF3-4D1D-93F6-C002A0EA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88F76-CFB7-424F-B602-FE1E4EBF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9A18F-3757-4350-9D17-D126302B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6BBA2-76E8-4740-9938-57A9453D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92357-173F-4972-B7BD-30BF3D71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CC633-ECE8-4F31-B7D8-D99031B0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06198-78C6-458A-A6B4-7958C813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9FAFA-F91E-4330-8E3C-B780C6C9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04FE-8FCA-40EE-ACF3-815759161F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048C-823B-438D-B25B-2A51CCC58D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5BC3-2BD3-448E-A325-E6C6077B95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4DB2-9559-4E00-8BD3-CED911955D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57D5-7DD8-4248-BDE1-2ACDBFAE70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657D-C23E-4FB9-9550-B53B61B829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4913-6090-491D-9EFC-77574D94BC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4383-9986-4B44-9D8A-306C396A0F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lient_svcs/mktrk_info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92160" y="1749600"/>
            <a:ext cx="9016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February 11, 200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04920" y="990720"/>
            <a:ext cx="853416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7000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76a55"/>
                </a:solidFill>
                <a:latin typeface="Lucida Sans Unicode"/>
                <a:ea typeface="Lucida Sans Unicode"/>
              </a:rPr>
              <a:t>MarkeTrak – Phase I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Rectangle 3" descr=""/>
          <p:cNvPicPr/>
          <p:nvPr/>
        </p:nvPicPr>
        <p:blipFill>
          <a:blip r:embed="rId1"/>
          <a:stretch/>
        </p:blipFill>
        <p:spPr>
          <a:xfrm>
            <a:off x="450720" y="1090440"/>
            <a:ext cx="7864560" cy="778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9144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b0cc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aura and I ask that you conduct internal meetings at your shops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b0cc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b0ccb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repare your comments for Lessons Learne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b0ccb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uggestions for enhancement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b0cc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lease keep your MarkeTrak Users informed. 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b0ccb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any do not receive the Market Notices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b0ccb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Outag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b0ccb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b0ccb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anges to the too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buClr>
                <a:srgbClr val="b0ccb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www.ercot.com/services/client_svcs/mktrk_info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r Gui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k Insert Templ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Workflow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Tips and Tric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API WSDL/XS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so direct link from MarkeTrak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MCj04042630000[1]"/>
          <p:cNvPicPr/>
          <p:nvPr/>
        </p:nvPicPr>
        <p:blipFill>
          <a:blip r:embed="rId1"/>
          <a:stretch/>
        </p:blipFill>
        <p:spPr>
          <a:xfrm>
            <a:off x="3652920" y="2897280"/>
            <a:ext cx="1838160" cy="1695240"/>
          </a:xfrm>
          <a:prstGeom prst="rect">
            <a:avLst/>
          </a:prstGeom>
          <a:ln w="0">
            <a:noFill/>
          </a:ln>
        </p:spPr>
      </p:pic>
      <p:pic>
        <p:nvPicPr>
          <p:cNvPr id="387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00017167</cp:lastModifiedBy>
  <dcterms:modified xsi:type="dcterms:W3CDTF">2009-02-08T16:11:38Z</dcterms:modified>
  <cp:revision>238</cp:revision>
  <dc:subject/>
  <dc:title>MarkeTrak Task Force</dc:title>
</cp:coreProperties>
</file>