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9F1B-A3A6-4019-B249-333F58B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1735-683E-4135-BCFC-B7D0A19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8C41-7F8B-4595-B628-F8FEF1A8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B00B-92EF-46F1-A17F-38CF495D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A464-3AA7-418E-8EB7-954B59AF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52EA-D86E-434C-9CB3-8775C68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6680-88AF-4AD1-ABC2-893E9E49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193B-F54A-43C4-9B02-D9135E5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1CA5-0611-48DD-AA45-458759E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F201-A08C-47D4-A7EA-F9B7AAF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AC11-562F-4A48-ACFC-57886D8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52CA-390F-4CED-858A-AEE81A4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4939-5D9E-49AF-9008-151A838E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AD8-4542-4AE7-B38D-540476C8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patrick@reliant.com" TargetMode="External"/><Relationship Id="rId2" Type="http://schemas.openxmlformats.org/officeDocument/2006/relationships/hyperlink" Target="mailto:kathy.scott@centerpointenergy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johnny.robertson@txu.com" TargetMode="External"/><Relationship Id="rId2" Type="http://schemas.openxmlformats.org/officeDocument/2006/relationships/hyperlink" Target="mailto:ammorton@aep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erry.bates@oncor.com" TargetMode="External"/><Relationship Id="rId2" Type="http://schemas.openxmlformats.org/officeDocument/2006/relationships/hyperlink" Target="mailto:mmccabe@reliant.com" TargetMode="External"/><Relationship Id="rId3" Type="http://schemas.openxmlformats.org/officeDocument/2006/relationships/hyperlink" Target="mailto:jennifer.frederick@directenergy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44792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Market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752480" y="3505320"/>
            <a:ext cx="63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orking Group and Task Forc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ail Market Subcommittee (RM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le Patrick,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patrick@relia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3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y Scott, Vice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Metrics (MM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are to merge MMWG responsibilities in with TDTWG and sunset MM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Data Transport (TDT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ny Robertson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hnny.robertson@txu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2-868-82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tte Morton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morton@ae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4-205-65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4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etering (RMW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Bates,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y.bates@onco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4-486-5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McCabe,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mccabe@relia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13-497-3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meeting – to be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Standard Electronic Transaction (Texas S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Frederick,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ennifer.frederick@directenergy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-320-79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 Chair to be determined at Febru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meeting – February 23 &amp; 24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Test Plan Team (TTP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le Miller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le.miller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207-669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Purdy, Vice Ch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purdy@aep.com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4-716-14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Tenenbown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.tenenbown@eso-globa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03-87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26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Advanced Readings and Settlements Task Force (MA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ott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9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rak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Mal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.malkey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 207-66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indall</dc:creator>
  <dc:description/>
  <dc:language>en-US</dc:language>
  <cp:lastModifiedBy>SDT</cp:lastModifiedBy>
  <dcterms:modified xsi:type="dcterms:W3CDTF">2009-02-05T20:37:12Z</dcterms:modified>
  <cp:revision>43</cp:revision>
  <dc:subject/>
  <dc:title>Instructions</dc:title>
</cp:coreProperties>
</file>