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jpeg" ContentType="image/jpe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4"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dt" idx="4"/>
          </p:nvPr>
        </p:nvSpPr>
        <p:spPr>
          <a:xfrm>
            <a:off x="388440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15840" y="4416120"/>
            <a:ext cx="502632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31160"/>
            <a:ext cx="297324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type="sldNum" idx="6"/>
          </p:nvPr>
        </p:nvSpPr>
        <p:spPr>
          <a:xfrm>
            <a:off x="3884400" y="8831160"/>
            <a:ext cx="297324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1917C3E-3684-4AC1-B26B-F447DECBF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CB9019D-103C-4993-995B-F7CFBB99D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06640" y="696960"/>
            <a:ext cx="4647960" cy="3486240"/>
          </a:xfrm>
          <a:prstGeom prst="rect">
            <a:avLst/>
          </a:prstGeom>
          <a:ln w="0">
            <a:noFill/>
          </a:ln>
        </p:spPr>
      </p:sp>
      <p:sp>
        <p:nvSpPr>
          <p:cNvPr id="137"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E87F794-DE8A-4ACE-8C8E-847C4A98A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06640" y="696960"/>
            <a:ext cx="4647960" cy="3486240"/>
          </a:xfrm>
          <a:prstGeom prst="rect">
            <a:avLst/>
          </a:prstGeom>
          <a:ln w="0">
            <a:noFill/>
          </a:ln>
        </p:spPr>
      </p:sp>
      <p:sp>
        <p:nvSpPr>
          <p:cNvPr id="140"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C0A74B4-2C57-4A78-A7AD-352F39B4B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06640" y="696960"/>
            <a:ext cx="4647960" cy="3486240"/>
          </a:xfrm>
          <a:prstGeom prst="rect">
            <a:avLst/>
          </a:prstGeom>
          <a:ln w="0">
            <a:noFill/>
          </a:ln>
        </p:spPr>
      </p:sp>
      <p:sp>
        <p:nvSpPr>
          <p:cNvPr id="143"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2DA835D-447D-41AF-913F-574DD8162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06640" y="696960"/>
            <a:ext cx="4647960" cy="3486240"/>
          </a:xfrm>
          <a:prstGeom prst="rect">
            <a:avLst/>
          </a:prstGeom>
          <a:ln w="0">
            <a:noFill/>
          </a:ln>
        </p:spPr>
      </p:sp>
      <p:sp>
        <p:nvSpPr>
          <p:cNvPr id="146"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3C59B24-2ED8-43EC-BE98-7A689DDF2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06640" y="696960"/>
            <a:ext cx="4647960" cy="3486240"/>
          </a:xfrm>
          <a:prstGeom prst="rect">
            <a:avLst/>
          </a:prstGeom>
          <a:ln w="0">
            <a:noFill/>
          </a:ln>
        </p:spPr>
      </p:sp>
      <p:sp>
        <p:nvSpPr>
          <p:cNvPr id="149"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3B78687-67AC-4ECC-8798-9BD0DD224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06640" y="696960"/>
            <a:ext cx="4647960" cy="3486240"/>
          </a:xfrm>
          <a:prstGeom prst="rect">
            <a:avLst/>
          </a:prstGeom>
          <a:ln w="0">
            <a:noFill/>
          </a:ln>
        </p:spPr>
      </p:sp>
      <p:sp>
        <p:nvSpPr>
          <p:cNvPr id="152"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5C4FD21-F5C8-450D-8A03-C8D947545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06640" y="696960"/>
            <a:ext cx="4647960" cy="3486240"/>
          </a:xfrm>
          <a:prstGeom prst="rect">
            <a:avLst/>
          </a:prstGeom>
          <a:ln w="0">
            <a:noFill/>
          </a:ln>
        </p:spPr>
      </p:sp>
      <p:sp>
        <p:nvSpPr>
          <p:cNvPr id="15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37E47D3-808E-4524-BF79-91112289A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06640" y="696960"/>
            <a:ext cx="4647960" cy="3486240"/>
          </a:xfrm>
          <a:prstGeom prst="rect">
            <a:avLst/>
          </a:prstGeom>
          <a:ln w="0">
            <a:noFill/>
          </a:ln>
        </p:spPr>
      </p:sp>
      <p:sp>
        <p:nvSpPr>
          <p:cNvPr id="158"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FA135-363E-4393-B6FB-63830329A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BFCF9-6BB3-4D3A-A60A-FF6633583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E7779-9F07-4D84-B573-A98B8C4FB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CF3F3-42EA-4FA4-8710-177DEE6E8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11BA8-DB21-4F35-84FB-C07C3E10C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1C206-16F4-4FDC-937E-D1E87855E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C1199-7207-46DA-AE86-30910F961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A1DC6-43F5-4356-AA47-074B5150D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9CA49-0774-4556-A1AB-8E2699404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A8868-E6CD-4083-B6A1-D146BFA4E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1AEA4-1703-4A62-AA6F-930953544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1AC9C-6B7F-4F24-9757-201EAF041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E93E-036F-4605-BC90-8C9539F4F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py of Ercot Logo"/>
          <p:cNvPicPr/>
          <p:nvPr/>
        </p:nvPicPr>
        <p:blipFill>
          <a:blip r:embed="rId2"/>
          <a:stretch/>
        </p:blipFill>
        <p:spPr>
          <a:xfrm>
            <a:off x="152280" y="152280"/>
            <a:ext cx="1828800" cy="982800"/>
          </a:xfrm>
          <a:prstGeom prst="rect">
            <a:avLst/>
          </a:prstGeom>
          <a:ln w="0">
            <a:noFill/>
          </a:ln>
        </p:spPr>
      </p:pic>
      <p:sp>
        <p:nvSpPr>
          <p:cNvPr id="6" name="Rectangle 9"/>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5368-DF6B-4BB2-BFB9-91F88830EA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2"/>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6A58-96D3-42CF-9051-CFA4B2660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84" name="Rectangle 229"/>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Rectangle 276"/>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6" name=""/>
          <p:cNvGraphicFramePr/>
          <p:nvPr/>
        </p:nvGraphicFramePr>
        <p:xfrm>
          <a:off x="609480" y="1486080"/>
          <a:ext cx="8229600" cy="4805280"/>
        </p:xfrm>
        <a:graphic>
          <a:graphicData uri="http://schemas.openxmlformats.org/drawingml/2006/table">
            <a:tbl>
              <a:tblPr/>
              <a:tblGrid>
                <a:gridCol w="2178000"/>
                <a:gridCol w="60516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Gain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gained (or is pending the gain)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Los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lost (or is pending the loss)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requesting cancellation of an initiating transaction in instances submitting an 814_08 would result in a rejec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o 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requesting cancellation of an initiating transaction for market defined reasons that do not require approval from the C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ng Trans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is missing any expected 814, 867_04 or 867_03 Fin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age/Billing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point-to-point transactions excluding the 867 Contingency Pla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ject Transac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rejected transactions or reject reason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P of Recor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ERCOT LSE or TDSP LSE relationship histori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jec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issues pertaining to internal/market projects, system trouble, or related problems as defined by the submitt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ebel/Chg Inf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questioning a discrepancy pertaining to Siebel service order status changes and Start/Stop time issues when transactions are present in ERCOT system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997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verification of a 997 sent/receiv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th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Day to Day issues that do not fit one of the Sub Types indicated above such as: Siebel/997 reports, CSA’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Order – 65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missing EDI transactions or 650 transactions which are missing, not completed, or reject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ve Out With Meter Rem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notifying the CR of 650_04 previously sent and the need for the MVO coded B44 to terminate the meter on the accou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emise Typ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premise type for a particular ESIID when an out of sync condition exis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Addres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service address for a particular ESII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fety Ne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has questions pertaining to missing EDI transactions and who the TDSP shows as the Rep of Record  in TDSP system.</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Text Box 514"/>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88" name="Text Box 519"/>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6857-A349-4F51-A392-77793B8E05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Rectangle 2498"/>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92" name="Rectangle 81"/>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Picture 9" descr=""/>
          <p:cNvPicPr/>
          <p:nvPr/>
        </p:nvPicPr>
        <p:blipFill>
          <a:blip r:embed="rId1"/>
          <a:stretch/>
        </p:blipFill>
        <p:spPr>
          <a:xfrm>
            <a:off x="152280" y="1600200"/>
            <a:ext cx="8809200" cy="4664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D7B7-57F0-429F-9E15-A271E7386F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Rectangle 5"/>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Text Box 140"/>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9" name="Text Box 141"/>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0" name=""/>
          <p:cNvGraphicFramePr/>
          <p:nvPr/>
        </p:nvGraphicFramePr>
        <p:xfrm>
          <a:off x="228600" y="1523880"/>
          <a:ext cx="8534520" cy="478656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17A7-25AE-4145-9156-B0CDB2179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Rectangle 4"/>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Text Box 5"/>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6" name="Text Box 6"/>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7" name=""/>
          <p:cNvGraphicFramePr/>
          <p:nvPr/>
        </p:nvGraphicFramePr>
        <p:xfrm>
          <a:off x="228600" y="1828800"/>
          <a:ext cx="8763120" cy="39225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63AF-F3A7-4AC4-AF7D-A3E83CA835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110" name="Rectangle 10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Picture 7" descr=""/>
          <p:cNvPicPr/>
          <p:nvPr/>
        </p:nvPicPr>
        <p:blipFill>
          <a:blip r:embed="rId1"/>
          <a:stretch/>
        </p:blipFill>
        <p:spPr>
          <a:xfrm>
            <a:off x="142920" y="1630440"/>
            <a:ext cx="8877240" cy="30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C1E1-B60B-4286-9F1E-ADC36A3CA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Rectangle 13"/>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Rectangle 60"/>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Rectangle 107"/>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Text Box 324"/>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19" name="Text Box 325"/>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20" name=""/>
          <p:cNvGraphicFramePr/>
          <p:nvPr/>
        </p:nvGraphicFramePr>
        <p:xfrm>
          <a:off x="380880" y="1457280"/>
          <a:ext cx="8305920" cy="478476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9AA1-A1A0-4E28-A132-A782EFC8F3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Rectangle 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5" name="Picture 8" descr=""/>
          <p:cNvPicPr/>
          <p:nvPr/>
        </p:nvPicPr>
        <p:blipFill>
          <a:blip r:embed="rId1"/>
          <a:stretch/>
        </p:blipFill>
        <p:spPr>
          <a:xfrm>
            <a:off x="101520" y="1722600"/>
            <a:ext cx="8966160" cy="3382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2E86-521E-412A-B242-1058B68B9E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Rectangle 4"/>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5"/>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Rectangle 6"/>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2" name=""/>
          <p:cNvGraphicFramePr/>
          <p:nvPr/>
        </p:nvGraphicFramePr>
        <p:xfrm>
          <a:off x="380880" y="2133720"/>
          <a:ext cx="8305920" cy="3546360"/>
        </p:xfrm>
        <a:graphic>
          <a:graphicData uri="http://schemas.openxmlformats.org/drawingml/2006/table">
            <a:tbl>
              <a:tblPr/>
              <a:tblGrid>
                <a:gridCol w="3000600"/>
                <a:gridCol w="5305320"/>
              </a:tblGrid>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Text Box 80"/>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34" name="Text Box 81"/>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B604-24ED-4D56-A1E1-C14B4CBDE6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2"/>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54" name="Rectangle 3"/>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4198-307D-471F-A954-2BF984427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2"/>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4502-F257-4FD4-8A31-78B0D19727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9</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2666880" y="1676520"/>
            <a:ext cx="4071960" cy="447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8EDE-4F22-43EE-89A9-F9DB64A01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C6F5-8EE8-4161-ABDB-9CC5C50F01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66" name="Picture 1024" descr=""/>
          <p:cNvPicPr/>
          <p:nvPr/>
        </p:nvPicPr>
        <p:blipFill>
          <a:blip r:embed="rId1"/>
          <a:stretch/>
        </p:blipFill>
        <p:spPr>
          <a:xfrm>
            <a:off x="352440" y="3738600"/>
            <a:ext cx="8439120" cy="20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72EF-71B4-4CE7-8D13-C296759DB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69" name=""/>
          <p:cNvGraphicFramePr/>
          <p:nvPr/>
        </p:nvGraphicFramePr>
        <p:xfrm>
          <a:off x="797040" y="-150192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0" name=""/>
          <p:cNvGraphicFramePr/>
          <p:nvPr/>
        </p:nvGraphicFramePr>
        <p:xfrm>
          <a:off x="797040" y="-130500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1" name=""/>
          <p:cNvGraphicFramePr/>
          <p:nvPr/>
        </p:nvGraphicFramePr>
        <p:xfrm>
          <a:off x="446040" y="-1511280"/>
          <a:ext cx="7670880" cy="9906120"/>
        </p:xfrm>
        <a:graphic>
          <a:graphicData uri="http://schemas.openxmlformats.org/drawingml/2006/table">
            <a:tbl>
              <a:tblPr/>
              <a:tblGrid>
                <a:gridCol w="609480"/>
                <a:gridCol w="368640"/>
                <a:gridCol w="368280"/>
                <a:gridCol w="368280"/>
                <a:gridCol w="279360"/>
                <a:gridCol w="279360"/>
                <a:gridCol w="279360"/>
                <a:gridCol w="279360"/>
                <a:gridCol w="279360"/>
                <a:gridCol w="609840"/>
                <a:gridCol w="609480"/>
                <a:gridCol w="368280"/>
                <a:gridCol w="368280"/>
                <a:gridCol w="330120"/>
                <a:gridCol w="330120"/>
                <a:gridCol w="330480"/>
                <a:gridCol w="330120"/>
                <a:gridCol w="266760"/>
                <a:gridCol w="406440"/>
                <a:gridCol w="60948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2" name=""/>
          <p:cNvGraphicFramePr/>
          <p:nvPr/>
        </p:nvGraphicFramePr>
        <p:xfrm>
          <a:off x="455760" y="-1116000"/>
          <a:ext cx="599760" cy="39672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73" name="Picture 3062" descr=""/>
          <p:cNvPicPr/>
          <p:nvPr/>
        </p:nvPicPr>
        <p:blipFill>
          <a:blip r:embed="rId1"/>
          <a:stretch/>
        </p:blipFill>
        <p:spPr>
          <a:xfrm>
            <a:off x="609480" y="1676520"/>
            <a:ext cx="7934400" cy="429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CBC4-B2C5-4C55-9B5D-46104CFE99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76" name="Rectangle 3"/>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E162-D78B-4CFB-9402-0567C19BA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79" name="Rectangle 4"/>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Rectangle 5"/>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Picture 7" descr=""/>
          <p:cNvPicPr/>
          <p:nvPr/>
        </p:nvPicPr>
        <p:blipFill>
          <a:blip r:embed="rId1"/>
          <a:stretch/>
        </p:blipFill>
        <p:spPr>
          <a:xfrm>
            <a:off x="85680" y="1616040"/>
            <a:ext cx="8991720" cy="447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ammy stewart</cp:lastModifiedBy>
  <cp:lastPrinted>2002-09-24T18:27:58Z</cp:lastPrinted>
  <dcterms:modified xsi:type="dcterms:W3CDTF">2009-02-05T17:17:19Z</dcterms:modified>
  <cp:revision>832</cp:revision>
  <dc:subject/>
  <dc:title>PowerPoint Presentation</dc:title>
</cp:coreProperties>
</file>