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EA10-9752-48D9-862E-01FA9355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056E-B8DB-46DF-85DE-7F757B67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A9292-B986-477E-8F8B-85BA65841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44C1-B542-4AD7-BEA8-17836A23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524F-BBCF-4CEB-8B3D-985EFA23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52F2-AA09-4373-876D-5C6A3D93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CA6C-637F-4E4D-B822-3192A711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5A68E-C1FD-42A2-A875-3E0ED82F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D7257-9B18-468B-AB60-3069F72B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81A29-B850-4295-A8EB-FED99813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DFF9-8A17-4769-828A-9789BDCF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42D08-E70E-46CB-9F72-1F801FED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2BFC-E83D-4DBF-BF50-AE779D684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logo_C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Rectangle 9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Line 11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2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3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E849-1038-49AE-816B-B321361B2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63241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62481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2" descr="logo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3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3"/>
          <p:cNvSpPr/>
          <p:nvPr/>
        </p:nvSpPr>
        <p:spPr>
          <a:xfrm>
            <a:off x="10666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120" y="837720"/>
            <a:ext cx="79758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2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PS Communications Working Group (CC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Michelle Trenary, Tenaska 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Phyllis Castillo, Relian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Extracts Working Group 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Jim Galvin, Lumin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Heddie Lookadoo, N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ing Working Group (P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Ernie Podraza, Direc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Kyle Miller, CenterPoint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lement and Data Aggregation Working Group (SDA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ir: Heather Boisseau, LC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ce Chair: Jack Brown, Garland Power &amp;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60000" y="152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2009 COPS Working Group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14:28:35Z</dcterms:created>
  <dc:creator/>
  <dc:description/>
  <dc:language>en-US</dc:language>
  <cp:lastModifiedBy>balbracht</cp:lastModifiedBy>
  <dcterms:modified xsi:type="dcterms:W3CDTF">2009-02-09T21:35:07Z</dcterms:modified>
  <cp:revision>63</cp:revision>
  <dc:subject/>
  <dc:title>Instructions</dc:title>
</cp:coreProperties>
</file>