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2D01-BF0C-43A9-A37C-830CCE3AB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2AEA-5F9B-47A7-A1C4-E506CB967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03C5-4205-4710-92A3-91CC70BD8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2E5-E038-4B57-AD6B-1159C9C7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4A621-569C-45D0-9EAE-293AC4A2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CF0B-F875-4FB9-AAA4-04949238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87A47-F35C-4FD8-92FA-00FB3F80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EA46-4B44-497B-B21E-FBD7422A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6A15-091C-4BA0-B6FC-C9349DF6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2E27-DA61-40FA-BFF6-42E1A753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23819-3FDB-4DC8-A247-11D0D5216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FCED-72B4-4E7B-A745-43A1D667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6016-72E0-4696-98FF-74121B6A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6E1A-CA08-4D30-A3EB-CCE23557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4884-9C41-45A3-9E00-C04CFFA9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A5067-01E2-463A-8203-EDDB27D5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EDA8D-DF0A-4ADD-9E58-55B1A8A5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7653-7D87-46B5-923D-81023CD8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C30C-25CE-4FF5-AA32-0B847838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1DF-E131-4A8C-9D5E-3B0342AB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754-7586-4380-8E7D-8D66A339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3477-8BC5-4BC6-8D42-F714F217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FFC5-7844-4C5C-B800-6D909922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654-BE7D-44A0-9975-0F6A0411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7EA0-5ACB-41C0-A2BF-54842E4392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D90A-F1FD-4094-8155-B2667D571B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anuary 27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WG 2009 Leadership 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ir – Michelle Trenary (Tenask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ce-Chair – Phyllis Castillo (Relia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anuary 27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WG 2009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the COPMG and incorporate Noda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 ERCOT in review of the ERCOT.com website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on-going review of ERCOT Market No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anuary 27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WG 2008 Accomplish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COPMG and incorporate Nodal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RR 007 – Organized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RR 008 – Market Notice Communication Process for Outages and Processing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12, Renewable Energy Credits – Currently Under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anuary 27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CCWG 2008 Accomplishments (Cont.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ed COPS Meeting Procedures – Recommended cleanup and language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communications review of Extracts and Reports Service Level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feedback for RMS regarding the ERCOT Market Survey – ‘Website Satisfactio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anuary 27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MGR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RR 009 – Planned Scheduled Release and Planned Maintenance Outage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come to COPS next month for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MGRR 010 – Section 12, Renewable Energy Cre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66999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come to COPS next month for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anuary 27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P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ion 8, Settlement Statement and Det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 review by ERCOT Settl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ion 11, Disputes and Data Extract Vari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der review by Market Rules, will begin 21 day comment period so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ion 5, Commercial Systems Model and Section 12, Congestion Review Righ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ly doing research for these s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99cc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 to do pre-work on remaining s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CWG January 27</a:t>
            </a:r>
            <a:r>
              <a:rPr b="0" lang="en-US" sz="4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Mee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meetin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24th at ERCO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:30am – 12:30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tion of COPMG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5:58:45Z</dcterms:created>
  <dc:creator>BP - Judy Briscoe</dc:creator>
  <dc:description/>
  <dc:language>en-US</dc:language>
  <cp:lastModifiedBy>trenarym</cp:lastModifiedBy>
  <dcterms:modified xsi:type="dcterms:W3CDTF">2009-02-03T14:55:00Z</dcterms:modified>
  <cp:revision>56</cp:revision>
  <dc:subject/>
  <dc:title>CCWG 2006 Accomplishments</dc:title>
</cp:coreProperties>
</file>