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BD1C5-3267-4CCC-90AE-08B0ACEB8D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BB986-9681-48FC-894D-67E55277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99D5C-DDC1-4CF4-9CF7-3D82C573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FE71-77A6-4CB0-A38B-49B422550F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0390-F55D-42C3-8657-E7C2CDE97A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C200-8AB1-446F-99EF-5001A79CC13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7527-3601-45C9-80FD-855BD55AD4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893B-5CD2-4258-9068-8FBEEA8092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01E-8353-49D1-9480-28572E164A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1B98-550A-44A3-BDA6-DF39AE3CAD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7F19-BDC2-4BD1-B472-CB14D5A6CE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841BB-22E9-49A5-8142-EF3E7D036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B07B-89D4-4546-B970-D1D75B6B8C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0D7-09CB-48FA-BEA7-32F24336A5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631-A4C5-4955-AD0D-880E0EF89B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F1CD-BEEE-40E8-B6B5-1D78F07FAD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E7E-F1BE-4E39-B80B-933768677E2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E05208-0C31-4FFA-AD94-1CFE8F917D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4788F-18A9-407C-97BB-6EE55D91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A4AD5F-84B7-4E04-9A37-269861F5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A58061-8D91-4C95-BB0D-22E39B0B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66882D-2E96-4B46-9F79-EB65B989A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80316-8DFB-4A60-B85D-CBBA23A3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8F065-4D1A-446F-92A9-2806C65EF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BC21C-C5C2-4060-9739-BB54CBC8A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4DF592-ED9B-487D-8F8C-0A1E54F4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4BA9A-2CE3-46B3-AD71-2ECAC2C6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CC744-85B1-478D-8859-38BE92FE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D41DC-EECD-477F-8AD7-5AB54CA3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31236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863320" y="129492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617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31236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863320" y="3842280"/>
            <a:ext cx="242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BCB28-840B-4E5C-BCE9-D4AC34E65E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155CD-AD57-4DE8-8A1A-74D13E15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0CD0C-6FCF-4A33-8DD5-935A04A6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CA250-E0B6-4DC8-BFBC-39D91D1D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38890-B536-4967-A50F-55A746CE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384228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6D537-DF37-4AAB-B6EC-2AA74FED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1294920"/>
            <a:ext cx="3681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3842280"/>
            <a:ext cx="7543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451C1-8B63-4BE7-96F1-53028C9C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80880" y="76320"/>
            <a:ext cx="259092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61760" y="1294920"/>
            <a:ext cx="7543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3429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EDDB-27CA-4293-97CF-E442B597B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52680" y="38088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filing Working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19320"/>
            <a:ext cx="9144000" cy="0"/>
          </a:xfrm>
          <a:prstGeom prst="line">
            <a:avLst/>
          </a:prstGeom>
          <a:ln w="5400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44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3"/>
          <p:cNvSpPr>
            <a:spLocks noGrp="1"/>
          </p:cNvSpPr>
          <p:nvPr>
            <p:ph type="sldNum" idx="3"/>
          </p:nvPr>
        </p:nvSpPr>
        <p:spPr>
          <a:xfrm>
            <a:off x="6915240" y="6194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4935-4E96-40A3-97A2-02F7F699E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88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541F-D2FC-4726-B06F-A90245A37F6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295280" cy="69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WG Update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yle Mi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CN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RCOT PWG Vice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nie Podr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irect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COT PWG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PS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ebruary 10,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84361-C8F5-4238-9740-9DB282D6B2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32920" cy="37972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est the COPS Appro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76945-1437-4BF7-B060-8FDF320470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1752480"/>
            <a:ext cx="83818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9 PWG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nie Podraza of Direct Energy as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yle Miller of CenterPoint as Vice 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29784-1FDE-4074-ABF0-0B8AAB3C11A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1752480"/>
            <a:ext cx="838188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ad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WG discussed sample replacement procedures for a premise that changes to an Advanced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RCOT shall accept the 15 minute data by the advanced me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gap in data due to IDR to AMS shall be minimized by the TDS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ntative Round 2 load research data collection ends on Dec. 31, 200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Verdana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WG shall attempt to finalize the timeline at the Feb. me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828B1-0346-4C60-AC19-C8054DD7D3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4114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371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4876920" cy="2590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09480" y="4495680"/>
            <a:ext cx="8001000" cy="10159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WG 2009 meeting dat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. 25 and the 4th Wednesday of the month thru O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3B9E-9BB8-4DE7-AF6F-12341AF9F7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1:33:53Z</dcterms:created>
  <dc:creator>Administrator</dc:creator>
  <dc:description/>
  <dc:language>en-US</dc:language>
  <cp:lastModifiedBy>epodraza</cp:lastModifiedBy>
  <dcterms:modified xsi:type="dcterms:W3CDTF">2009-01-28T17:07:32Z</dcterms:modified>
  <cp:revision>332</cp:revision>
  <dc:subject/>
  <dc:title>PowerPoint Presentation</dc:title>
</cp:coreProperties>
</file>