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0829-B933-4890-83C2-5C4EC767D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2023-69DF-4D20-8316-9A433B7F5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D0B8-7A0D-43C7-A0DA-4396FAFB7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079F-2F84-49BE-96A2-47B191949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F681-D763-465F-BE48-442444571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428A-4BF1-479D-A18D-9ED556EC8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066E-7961-4ACF-B663-9E3E3A32F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625B-CB3F-44F4-AAE7-4CABCE5FD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3796-1B44-4E2E-A98E-688B0EB81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9B9F-6D7E-4CCC-93AB-7B26EB46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A4EC-30D6-42DD-A345-28B1C799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5A4C-E7A8-4147-9D83-41E9A698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3E176-69AD-43E3-9DDE-45183862DE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OPS 2009 Goals: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W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833292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OPS 2009 Goals: CCW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the COPMG and incorporate Nodal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st ERCOT in review of the ERCOT.com website recommendations for improvement received throughout the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on-going review of ERCOT Market No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OPS 2009 Goals: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DEWG/SDAW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dal COMS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dal Readiness commun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tracking for commercial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DS Settlement Testing for Nod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mitting NPRR's and PRR’s as need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cus on Data Extract, Report Timeliness and other Settlement iss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cking and reporting on Data Extract and Report Issues in Current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ying impacts of Hurricane Ike and UFE on Sett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lve Timely issues assigned by C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990720"/>
            <a:ext cx="7543800" cy="36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ffff"/>
                </a:solidFill>
                <a:latin typeface="Times New Roman"/>
              </a:rPr>
              <a:t>Vote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ffff"/>
                </a:solidFill>
                <a:latin typeface="Times New Roman"/>
              </a:rPr>
              <a:t>Approve these 23 2009 COPS goal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5T20:32:04Z</dcterms:created>
  <dc:creator>Lee R. Starr</dc:creator>
  <dc:description/>
  <dc:language>en-US</dc:language>
  <cp:lastModifiedBy>Chuck Moore</cp:lastModifiedBy>
  <dcterms:modified xsi:type="dcterms:W3CDTF">2009-02-02T19:11:58Z</dcterms:modified>
  <cp:revision>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380059551</vt:r8>
  </property>
  <property fmtid="{D5CDD505-2E9C-101B-9397-08002B2CF9AE}" pid="3" name="_AuthorEmail">
    <vt:lpwstr>Chuck.Moore@directenergy.com</vt:lpwstr>
  </property>
  <property fmtid="{D5CDD505-2E9C-101B-9397-08002B2CF9AE}" pid="4" name="_AuthorEmailDisplayName">
    <vt:lpwstr>Moore, Chuck</vt:lpwstr>
  </property>
  <property fmtid="{D5CDD505-2E9C-101B-9397-08002B2CF9AE}" pid="5" name="_EmailSubject">
    <vt:lpwstr>2009 COPS Goals</vt:lpwstr>
  </property>
  <property fmtid="{D5CDD505-2E9C-101B-9397-08002B2CF9AE}" pid="6" name="_NewReviewCycle">
    <vt:lpwstr/>
  </property>
</Properties>
</file>