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DB57FF-FE3B-40DA-90C6-C686E4626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F3ECF-53FD-4DBA-91D2-23973F80E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679596-4FCF-4336-A3E5-C32C5C199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D9F9A-39BE-4ADF-B864-6E9D145E0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4695-6332-47A7-943B-F3E168810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C0EA-4691-48BE-B19B-ACC9E8261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34897-24B6-44BA-A5E4-87E45BA23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8BB7C-8A32-4E46-A1B0-98967A768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785D7-657F-44D0-9E87-302690151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070A7-EE7E-49CA-AE9E-3ED609C4C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5A677-4D07-42BA-94B7-223CCAE0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F513D-0C10-46DE-ACF0-71C2F0C7C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C00B-75CF-4D53-B981-8463F6D7F7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9446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Wording Directly from ERCOT.com</a:t>
            </a:r>
            <a:endParaRPr b="0" lang="en-US" sz="4000" spc="-1" strike="noStrike">
              <a:solidFill>
                <a:srgbClr val="000000"/>
              </a:solidFill>
              <a:latin typeface="Arial"/>
            </a:endParaRPr>
          </a:p>
        </p:txBody>
      </p:sp>
      <p:sp>
        <p:nvSpPr>
          <p:cNvPr id="42" name=""/>
          <p:cNvSpPr txBox="1"/>
          <p:nvPr/>
        </p:nvSpPr>
        <p:spPr>
          <a:xfrm>
            <a:off x="304920" y="1219320"/>
            <a:ext cx="8534160" cy="5410080"/>
          </a:xfrm>
          <a:prstGeom prst="rect">
            <a:avLst/>
          </a:prstGeom>
          <a:solidFill>
            <a:srgbClr val="333399"/>
          </a:solid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WG</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Data Extracts Working Group (DEWG), reporting to the Commercial Operations Subcommittee (COPS), is responsible for the extracts, data delivery, data presentation and reports that are produced by the ERCOT market. DEWG provides a forum for market participants to discuss the details and requirements of current and newly proposed data extracts and reports. The group defines and reviews the requirements for data extracts and reports, including data delivery, accuracy and timeliness, delivery mechanisms and file formats.”</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DAWG</a:t>
            </a:r>
            <a:endParaRPr b="0" lang="en-US" sz="1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The Settlement and Data Aggregation Working Group (SDAWG), reporting to the Commercial Operations Subcommittee (COPS), is responsible for ensuring COPS involvement in financial settlement and data aggregation processes. SDAWG will focus on aiding ERCOT and market participants in achieving a smooth transition to new financial settlement systems and on reviewing financial settlement and data aggregation system design and operations; providing a forum to discuss issues addressing settlements; and reviewing, as appropriate, protocol revision requests (PRRs), nodal PRRs (NPRRs) and system change requests (SCRs) to address financial settlement and data aggrega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Arial"/>
              </a:rPr>
              <a:t>Voting Item</a:t>
            </a:r>
            <a:r>
              <a:rPr b="0" lang="en-U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151920" y="761760"/>
            <a:ext cx="8610840" cy="556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S Recommends to TA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val of new a Working Group, called </a:t>
            </a:r>
            <a:r>
              <a:rPr b="1" lang="en-US" sz="2400" spc="-1" strike="noStrike">
                <a:solidFill>
                  <a:srgbClr val="000000"/>
                </a:solidFill>
                <a:latin typeface="Arial"/>
              </a:rPr>
              <a:t>Settlement and Extracts Working Grou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ttlement and Extracts Working Group (SEWG), reporting to the Commercial Operations Subcommittee (COPS), is responsible for ensuring COPS involvement in extracts, data delivery, data presentation and reports for financial settlement and data aggregation processes.  SEWG will focus on aiding ERCOT and Market Participants in reviewing financial settlement and data aggregation system design and operations; providing a forum to discuss issues addressing settlements; and reviewing the details and requirements of data extracts and reports. </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tire The Settlement and Data Aggregation Working Group (SDAWG) and The Data Extracts Working Group (DEWG), as SEWG will replace SDAWG and DE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
          <p:cNvSpPr/>
          <p:nvPr/>
        </p:nvSpPr>
        <p:spPr>
          <a:xfrm>
            <a:off x="2438280" y="990720"/>
            <a:ext cx="4267440" cy="311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ffffff"/>
                </a:solidFill>
                <a:latin typeface="Times New Roman"/>
              </a:rPr>
              <a:t>Questions  or Comments?</a:t>
            </a:r>
            <a:r>
              <a:rPr b="0" i="1" lang="en-US" sz="6000" spc="-1" strike="noStrike">
                <a:solidFill>
                  <a:srgbClr val="000000"/>
                </a:solidFill>
                <a:latin typeface="Times New Roman"/>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5T20:32:04Z</dcterms:created>
  <dc:creator>Lee R. Starr</dc:creator>
  <dc:description/>
  <dc:language>en-US</dc:language>
  <cp:lastModifiedBy>Chuck Moore</cp:lastModifiedBy>
  <dcterms:modified xsi:type="dcterms:W3CDTF">2009-01-27T17:43:22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7752533</vt:r8>
  </property>
  <property fmtid="{D5CDD505-2E9C-101B-9397-08002B2CF9AE}" pid="3" name="_AuthorEmail">
    <vt:lpwstr>Chuck.Moore@directenergy.com</vt:lpwstr>
  </property>
  <property fmtid="{D5CDD505-2E9C-101B-9397-08002B2CF9AE}" pid="4" name="_AuthorEmailDisplayName">
    <vt:lpwstr>Moore, Chuck</vt:lpwstr>
  </property>
  <property fmtid="{D5CDD505-2E9C-101B-9397-08002B2CF9AE}" pid="5" name="_EmailSubject">
    <vt:lpwstr>Request for Materials/Agenda Review</vt:lpwstr>
  </property>
  <property fmtid="{D5CDD505-2E9C-101B-9397-08002B2CF9AE}" pid="6" name="_NewReviewCycle">
    <vt:lpwstr/>
  </property>
</Properties>
</file>