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516-FECB-4D4B-971F-7EBEF1D9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7EB5-5FDB-473F-AEBE-5A7ACB6B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161F-2939-45DD-9170-EF39CA107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609A-3D3E-4CB8-9B85-DC2032C82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60E6-0E0B-4B94-970C-0308A1B9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26DC-AD9E-49F4-A4E4-07F8A026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E924-CD50-4D29-9FEC-C3E4B170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31E7-4FDF-40EF-A0A4-BA5E501E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9B65-3A54-420C-AF24-2FF5209E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213F-74C7-4730-9E3D-73E96587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0E4E0-BC77-4928-9EF8-30AE2F02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9B6-9D92-4028-A39A-FB9A8078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4310F-DA99-4C8D-9E00-B59DBDC8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3AD4F-B1CE-4113-B9D3-6FC2B71F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0BF4-E7DB-4135-82DB-A0626D21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7624A-1FF5-4DF4-B8E6-E24B06A7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ACCF-18DE-4490-8CF5-BF314B3B5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6B19-9AA9-4CEF-BC49-2A3901BE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061-5800-4F86-8C3B-7981312A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F664-3806-444D-8DDB-255F999C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8CEC-46C5-475E-B189-5E64DB19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17F-B672-46D6-8E85-DFAB9AFC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6E48-344B-4E74-821F-1D1F3F6A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1825-C0AA-4410-8278-B76694A4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C2E1-E6F3-48DB-BE5E-7BE27C76935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6AA4-1910-46F6-B6BB-36EE827EA01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rcot.com/services/sla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47252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DEWG and SDAWG Meeting Summary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Report to COPS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2/10/2009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WG and SDAWG Goal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692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Nodal COMS Review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Nodal Readiness communicatio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and tracking for commercial issu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EDS Settlement Testing for Nodal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ubmitting NPRR's and PRR’s as needed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focus on Data Extract, Report Timeliness and other Settlement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racking and reporting on Data Extract and Report Issues in Current Marke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Studying impacts of Hurricane Ike and UFE on Settlement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Resolve Timely issues assigned by COP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7720" y="301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WG/SDAWG Goals- Observatio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827360"/>
            <a:ext cx="76928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While many of the Goals focus on Nodal Market initiatives, the working groups must continue to focus on current settlement, extract and reporting issu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working groups must be responsive to the needs of ERCOT in relation to testing and review timelines, success criteria, data needs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The working groups must work to inform market participants of the progress made in systems and testing and ensure that market readiness is me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013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xtract Issue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467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reported on the Extract and Report issues from the holidays through the first of the ye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 Report and Incident Log stored at the following URL: </a:t>
            </a:r>
            <a:r>
              <a:rPr b="0" lang="en-US" sz="2400" spc="-1" strike="noStrike" u="sng">
                <a:solidFill>
                  <a:srgbClr val="006666"/>
                </a:solidFill>
                <a:uFillTx/>
                <a:latin typeface="Times New Roman"/>
                <a:hlinkClick r:id="rId1"/>
              </a:rPr>
              <a:t>http://www.ercot.com/services/sla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ct issues since January have been on the dec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F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DAWG and DEWG began discussions with ERCOT staff on the impacts of Hurricane Ike and UF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FE settlement over the periods of September 2008 through November 2008 created swings in UFE that caused significant cash flow settlement challenges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ussions on accuracy of data centered around the TDSP estimation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lans a follow up report on February 16,2009 Mee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Nodal COM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COT provided a refresher on the basics of Nodal Extracts desig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ff  has made considerable progress on the development of Extracts and Reports and has organized the Nodal COMs information for easy access to market participa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WG/SDAWG will continue to follow the development and testing processes for Nodal COMs and will participate as needed by ERCOT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621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ettlement Concern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last meeting, concerns about off-line settlements and notice to market participants has been brought up as an iss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incidences involving off system settlements of a short pay situation and a short pay/litigation situation have prompted questions and suggestions of more stringent guidelines on ERCOT providing notice and appropriate data for these settl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Participants utilize Market Notices for tracking and preparing for off-system settlements as they involve manual eff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3T15:41:07Z</dcterms:created>
  <dc:creator>Registered User</dc:creator>
  <dc:description/>
  <dc:language>en-US</dc:language>
  <cp:lastModifiedBy>Registered User</cp:lastModifiedBy>
  <dcterms:modified xsi:type="dcterms:W3CDTF">2009-02-09T17:28:15Z</dcterms:modified>
  <cp:revision>31</cp:revision>
  <dc:subject/>
  <dc:title>DEWG Meeting Summary</dc:title>
</cp:coreProperties>
</file>