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205727-742F-4D19-B37D-9CC67E860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9B0677-B735-453D-9BED-627A3A195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31A6A7-6A84-4D0E-A561-0D2545D47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81693F-794A-4280-942B-6F0A0EB0D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8CD91-E06A-49E1-BDAD-DE4E7EDA3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6649E-A886-4A86-BC08-7EA607473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B2115-21B4-4133-9CA3-A24D52E59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CD9C2-A060-409F-B846-67E70DF61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B937B-030A-40DB-BA8F-066035ADD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3F21A-DD53-4EF0-BB4C-4018E97A2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590FF-5919-49DB-8322-B3E33704D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7D7777-77DB-4903-BA86-3F2E5ABD5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D4F10-C05D-4288-83FF-8EFEADAD4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397AF-4F4A-4AD3-8722-3C6E9BE46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1F8D0-12EF-4C00-A040-7749D38F2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D4C8F-5CC1-4400-A9A5-E712C1611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C5915-A2A7-4B5D-9103-4110E0C34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6F6D00-9A00-42B7-B80D-38FA0ECC2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850102-4792-463F-866D-2163C7F10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6F9EF9-C374-43E8-9D99-36FAF918F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859D52-A2D9-4BE7-B2CD-186FB4FDE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D4E02-3ED8-4DD7-888F-9E073B702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16792C-D076-43B2-9B55-90D384B93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32C062-A51C-4877-BD60-148709C6D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F6431-9BF4-4647-9C0F-6FF84AC0846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5DB55-8EA7-4BD2-9D96-1A420C1DDC3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Garamond"/>
              </a:rPr>
              <a:t>Verifiable Cost  Working Group (VCWG) </a:t>
            </a:r>
            <a:br>
              <a:rPr sz="6000"/>
            </a:br>
            <a:r>
              <a:rPr b="1" i="1" lang="en-US" sz="6000" spc="-1" strike="noStrike">
                <a:solidFill>
                  <a:srgbClr val="ffffff"/>
                </a:solidFill>
                <a:latin typeface="Garamond"/>
              </a:rPr>
              <a:t>Update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380880" y="4419720"/>
            <a:ext cx="8305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esentation to the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RCOT Wholesale Market Subcommitte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January 28, 2009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CD4F0-C1EB-48CF-BF0D-2268676B704B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Garamond"/>
              </a:rPr>
              <a:t>VCWG Summar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VCWG Meeting January 9, 2009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Elected Leadership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371600" indent="-457200">
              <a:spcBef>
                <a:spcPts val="601"/>
              </a:spcBef>
              <a:buClr>
                <a:srgbClr val="ffffff"/>
              </a:buClr>
              <a:buSzPct val="70000"/>
              <a:buFont typeface="Garamond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Co-Chair – Heddie Lookadoo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371600" indent="-457200">
              <a:spcBef>
                <a:spcPts val="601"/>
              </a:spcBef>
              <a:buClr>
                <a:srgbClr val="ffffff"/>
              </a:buClr>
              <a:buSzPct val="70000"/>
              <a:buFont typeface="Garamond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Co-Chair – Ino Gonzalez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371600" indent="-457200">
              <a:spcBef>
                <a:spcPts val="601"/>
              </a:spcBef>
              <a:buClr>
                <a:srgbClr val="ffffff"/>
              </a:buClr>
              <a:buSzPct val="70000"/>
              <a:buFont typeface="Garamond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Vice Chair – Russell Lovelac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66CCB-823A-4B39-A50D-3ADF9FC54701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Garamond"/>
              </a:rPr>
              <a:t>VCWG Summar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lvl="1" marL="952200" indent="-531360"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RUC Cancellation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296720" indent="-455400">
              <a:spcBef>
                <a:spcPts val="601"/>
              </a:spcBef>
              <a:buClr>
                <a:srgbClr val="ffffff"/>
              </a:buClr>
              <a:buSzPct val="70000"/>
              <a:buFont typeface="Garamond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Garland Comments: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641600" indent="-379800">
              <a:spcBef>
                <a:spcPts val="499"/>
              </a:spcBef>
              <a:buClr>
                <a:srgbClr val="ffffff"/>
              </a:buClr>
              <a:buSzPct val="70000"/>
              <a:buFont typeface="Garamond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Clarification of  “Fuel Costs” ex: commodity price, Imbalance fees, Transport Fees, ect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296720" indent="-455400">
              <a:spcBef>
                <a:spcPts val="601"/>
              </a:spcBef>
              <a:buClr>
                <a:srgbClr val="ffffff"/>
              </a:buClr>
              <a:buSzPct val="70000"/>
              <a:buFont typeface="Garamond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VCWG Commen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641600" indent="-379800">
              <a:spcBef>
                <a:spcPts val="499"/>
              </a:spcBef>
              <a:buClr>
                <a:srgbClr val="ffffff"/>
              </a:buClr>
              <a:buSzPct val="70000"/>
              <a:buFont typeface="Garamond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QSE needs to prove Actual fuel Cost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3" marL="1641600" indent="-379800">
              <a:spcBef>
                <a:spcPts val="499"/>
              </a:spcBef>
              <a:buClr>
                <a:srgbClr val="ffffff"/>
              </a:buClr>
              <a:buSzPct val="70000"/>
              <a:buFont typeface="Garamond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Costs are retroactiv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3" marL="1641600" indent="-379800">
              <a:spcBef>
                <a:spcPts val="499"/>
              </a:spcBef>
              <a:buClr>
                <a:srgbClr val="ffffff"/>
              </a:buClr>
              <a:buSzPct val="70000"/>
              <a:buFont typeface="Garamond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Should be rare even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3" marL="1641600" indent="-379800">
              <a:spcBef>
                <a:spcPts val="499"/>
              </a:spcBef>
              <a:buClr>
                <a:srgbClr val="ffffff"/>
              </a:buClr>
              <a:buSzPct val="70000"/>
              <a:buFont typeface="Garamond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QSE shall have to dispute as ERCOT will not pay initially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3" marL="1641600" indent="-379800">
              <a:spcBef>
                <a:spcPts val="499"/>
              </a:spcBef>
              <a:buClr>
                <a:srgbClr val="ffffff"/>
              </a:buClr>
              <a:buSzPct val="70000"/>
              <a:buFont typeface="Garamond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Losses for purchase and resale of gas are recoverable as long as ERCOT receives proper documentation (invoices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3" marL="1641600" indent="-379800">
              <a:spcBef>
                <a:spcPts val="499"/>
              </a:spcBef>
              <a:buClr>
                <a:srgbClr val="ffffff"/>
              </a:buClr>
              <a:buSzPct val="70000"/>
              <a:buFont typeface="Garamond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Disputes will have invoices that show fuel expenses such as swing contracts, transport fees, ect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3" marL="1641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7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C51FAC-A11C-4177-9307-40A6B961CC54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Garamond"/>
              </a:rPr>
              <a:t>VCWG Summar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9250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646920" indent="-646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FIP Modification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1014120" indent="-565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Garland Comments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381320" indent="-485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Garamond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Support FIP * 1.10 Adde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381320" indent="-485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Garamond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Does not support a deadband, QSE should dispute any values over the 10% adde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1014120" indent="-565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VCWG Options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381320" indent="-485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Garamond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Option 1 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748520" indent="-404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Garamond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FIP *  1.X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381320" indent="-485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Garamond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Option 2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748520" indent="-404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Garamond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FIP * 1.X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748520" indent="-404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Garamond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Deadband 1.Y  - 1.X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F6DF5B-03AF-458F-9DCA-0FAFFA2D80A1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VCWG Summar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Garamond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Value of X ( no consensus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Garamond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10% excess allowable variation in Zonal without providing documentation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Garamond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10% - RMR Adder to O &amp; M Costs in Zonal and Noda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Garamond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Precedent set by other Nodal markets (PJM 10% on reliability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Garamond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Consensus on Adder needed to fuel price (x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Garamond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Value of Y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No consensus that a deadband (y) is needed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Y was considered as a compromise for situations where X overpay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Y - possibly 20% but no consensus on what the value should be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BFC74A-4691-43E3-899B-029D9C9B7CB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VCWG Summar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Request from WM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7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If O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tion 1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at should be the value of X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If O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tion 2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at should be the values of X and Y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F1100F-5E36-4B1D-85C4-81C51485C8C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Future Meeting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VCWG will continue working on the language for the NPRR for RUC Cancellations and FIP Modification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With the reenactment of CAIR Rule VCWG will be reviewing the emissions language again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TPTF has remanded the NPRR 168 Verifiable Cost General Corrections to QWRG to ensure no significant overpays or underpays will result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PRS has remanded the NPRR 167  Options for Filing Verifiable costs – QSE or Resources back to WMS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Next meeting will be February 11, 2009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4B758F-4398-4524-80D7-9CDB6027EEE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1T14:00:20Z</dcterms:created>
  <dc:creator>Reliant</dc:creator>
  <dc:description/>
  <dc:language>en-US</dc:language>
  <cp:lastModifiedBy>igonzalez</cp:lastModifiedBy>
  <dcterms:modified xsi:type="dcterms:W3CDTF">2009-01-26T14:50:11Z</dcterms:modified>
  <cp:revision>253</cp:revision>
  <dc:subject/>
  <dc:title>Protocol Revision Subcommittee</dc:title>
</cp:coreProperties>
</file>