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9445-5894-4F72-82C3-89957E858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urrently written, the language could be interpreted as treating EILS Resources inequitably depending on their baseline assignment; specifically, EILS Resources assigned to the alternate baseline could be subject to a capacity payment reduction for an availability factor of less than 100% but greater than 95%.  (Default baseline EILS Resources are explicitly not subject to such a reduction.)  This change is accomplished by moving language from existing 6.10.13.3(3)(b)(iii) up to the main section of subparagraph (3), thus clarifying that the 95% provision applies to EILS Resources assigned to either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07C8B-5F58-4A6F-822A-E930D58848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A74E6BD3-D9D3-48C6-A80B-69673412D5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412D0A76-49E2-4479-9406-E4E3F56C84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EC2FABCF-26F3-4C3E-B5F0-890844251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5CDF6041-B757-4DAD-82B7-0B95885BCB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B4B1182-A52A-4C86-9EE6-8395EE4E00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BBAACF1E-98D2-4089-B789-A0134EE88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37188F9E-F9F0-4636-9AAE-AF5C4F125D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D0E29F6A-4DE2-4AF7-ACAA-2DAB206D15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28E6697-AA87-40ED-8DC4-199EA3266A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136D143-0717-4E5A-90BB-F4DD8C83AC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6554959-6F41-447E-9EEF-34CA7078CC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A728-7160-46AE-A26D-A54A3E9BC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8862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6A11-2E8D-4E5F-A2F3-4AE86C7D6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dt" idx="2"/>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0" name="PlaceHolder 3"/>
          <p:cNvSpPr>
            <a:spLocks noGrp="1"/>
          </p:cNvSpPr>
          <p:nvPr>
            <p:ph type="ftr" idx="3"/>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rcot.com/content/services/programs/load/eils/keydocs/ERCOT_EILS_Procurement_Process_011808.pdf"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3520" y="2278080"/>
            <a:ext cx="601992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ILS Cost Comparison</a:t>
            </a:r>
            <a:endParaRPr b="0" lang="en-US" sz="2800" spc="-1" strike="noStrike">
              <a:solidFill>
                <a:srgbClr val="ffffff"/>
              </a:solidFill>
              <a:latin typeface="Arial Black"/>
            </a:endParaRPr>
          </a:p>
        </p:txBody>
      </p:sp>
      <p:sp>
        <p:nvSpPr>
          <p:cNvPr id="96" name="PlaceHolder 2"/>
          <p:cNvSpPr>
            <a:spLocks noGrp="1"/>
          </p:cNvSpPr>
          <p:nvPr>
            <p:ph type="subTitle"/>
          </p:nvPr>
        </p:nvSpPr>
        <p:spPr>
          <a:xfrm>
            <a:off x="2343240" y="4635000"/>
            <a:ext cx="5333760" cy="11430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MS</a:t>
            </a:r>
            <a:endParaRPr b="0" lang="en-US" sz="20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n. 28, 2009</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amp;A</a:t>
            </a:r>
            <a:endParaRPr b="0" lang="en-US" sz="2000" spc="-1" strike="noStrike">
              <a:solidFill>
                <a:srgbClr val="ffffff"/>
              </a:solidFill>
              <a:latin typeface="Arial Black"/>
            </a:endParaRPr>
          </a:p>
        </p:txBody>
      </p:sp>
      <p:grpSp>
        <p:nvGrpSpPr>
          <p:cNvPr id="120" name=""/>
          <p:cNvGrpSpPr/>
          <p:nvPr/>
        </p:nvGrpSpPr>
        <p:grpSpPr>
          <a:xfrm>
            <a:off x="3886200" y="2666880"/>
            <a:ext cx="1619280" cy="2743200"/>
            <a:chOff x="3886200" y="2666880"/>
            <a:chExt cx="1619280" cy="2743200"/>
          </a:xfrm>
        </p:grpSpPr>
        <p:pic>
          <p:nvPicPr>
            <p:cNvPr id="121" name="" descr=""/>
            <p:cNvPicPr/>
            <p:nvPr/>
          </p:nvPicPr>
          <p:blipFill>
            <a:blip r:embed="rId1"/>
            <a:stretch/>
          </p:blipFill>
          <p:spPr>
            <a:xfrm>
              <a:off x="3886200" y="2666880"/>
              <a:ext cx="1619280" cy="2743200"/>
            </a:xfrm>
            <a:prstGeom prst="rect">
              <a:avLst/>
            </a:prstGeom>
            <a:ln w="0">
              <a:noFill/>
            </a:ln>
          </p:spPr>
        </p:pic>
        <p:sp>
          <p:nvSpPr>
            <p:cNvPr id="122" name=""/>
            <p:cNvSpPr/>
            <p:nvPr/>
          </p:nvSpPr>
          <p:spPr>
            <a:xfrm>
              <a:off x="4489920" y="3051000"/>
              <a:ext cx="65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N</a:t>
              </a:r>
              <a:endParaRPr b="0" lang="en-US" sz="1800" spc="-1" strike="noStrike">
                <a:solidFill>
                  <a:srgbClr val="000000"/>
                </a:solidFill>
                <a:latin typeface="Arial"/>
              </a:endParaRPr>
            </a:p>
          </p:txBody>
        </p:sp>
        <p:sp>
          <p:nvSpPr>
            <p:cNvPr id="123" name=""/>
            <p:cNvSpPr/>
            <p:nvPr/>
          </p:nvSpPr>
          <p:spPr>
            <a:xfrm>
              <a:off x="4489920" y="4588200"/>
              <a:ext cx="65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itannic Bold"/>
                </a:rPr>
                <a:t>OFF</a:t>
              </a:r>
              <a:endParaRPr b="0" lang="en-US" sz="1800" spc="-1" strike="noStrike">
                <a:solidFill>
                  <a:srgbClr val="000000"/>
                </a:solidFill>
                <a:latin typeface="Arial"/>
              </a:endParaRPr>
            </a:p>
          </p:txBody>
        </p:sp>
      </p:grpSp>
      <p:sp>
        <p:nvSpPr>
          <p:cNvPr id="124" name="PlaceHolder 2"/>
          <p:cNvSpPr>
            <a:spLocks noGrp="1"/>
          </p:cNvSpPr>
          <p:nvPr>
            <p:ph/>
          </p:nvPr>
        </p:nvSpPr>
        <p:spPr>
          <a:xfrm>
            <a:off x="457200" y="1298520"/>
            <a:ext cx="8229600" cy="139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39F9FF9-0159-4B1A-B90D-1D3B59D16916}"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5058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procures Emergency Interruptible Load Service three times annually by Contract Perio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M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Septemb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Janu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id review committee consisting of directors and managers from across several ERCOT departments makes recommendations to the Vice President of System Operations and the ERCOT executive committee</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1635BD4-7B6E-4486-9BB4-745E4ECBA5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uidelines</a:t>
            </a:r>
            <a:endParaRPr b="0" lang="en-US" sz="2000" spc="-1" strike="noStrike">
              <a:solidFill>
                <a:srgbClr val="ffffff"/>
              </a:solidFill>
              <a:latin typeface="Arial Black"/>
            </a:endParaRPr>
          </a:p>
        </p:txBody>
      </p:sp>
      <p:sp>
        <p:nvSpPr>
          <p:cNvPr id="100" name="PlaceHolder 2"/>
          <p:cNvSpPr>
            <a:spLocks noGrp="1"/>
          </p:cNvSpPr>
          <p:nvPr>
            <p:ph/>
          </p:nvPr>
        </p:nvSpPr>
        <p:spPr>
          <a:xfrm>
            <a:off x="447840" y="954000"/>
            <a:ext cx="8229600" cy="5173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45180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 R. 25.507 (d) (1)</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45180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hall pay a capacity payment to each QSE representing an EILS Resource on an as-bid ba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45180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 R. 25.507 (a) (3)</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45180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may determine cost limits for each contract period in order to ensure the EILS Cost Cap is not exceeded.  To minimize the cost of EILS, ERCOT may reject any bid that ERCOT determines to be unreasonable or outside the parameters of an acceptable bi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45180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s 6.5.12 (8):</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45180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ERCOT shall establish a written process for determining the cost limits for each EILS Contract Period and for the reasonableness of bi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45180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is posted at </a:t>
            </a:r>
            <a:r>
              <a:rPr b="0" lang="en-US" sz="2000" spc="-1" strike="noStrike" u="sng">
                <a:solidFill>
                  <a:srgbClr val="009999"/>
                </a:solidFill>
                <a:uFillTx/>
                <a:latin typeface="Arial"/>
                <a:hlinkClick r:id="rId1"/>
              </a:rPr>
              <a:t>http://www.ercot.com/content/services/programs/load/eils/keydocs/ERCOT_EILS_Procurement_Process_011808.pdf</a:t>
            </a:r>
            <a:endParaRPr b="0" lang="en-US" sz="2000" spc="-1" strike="noStrike">
              <a:solidFill>
                <a:srgbClr val="000000"/>
              </a:solidFill>
              <a:latin typeface="Arial"/>
            </a:endParaRPr>
          </a:p>
          <a:p>
            <a:pPr lvl="1" marL="743040" indent="0">
              <a:lnSpc>
                <a:spcPct val="90000"/>
              </a:lnSpc>
              <a:spcBef>
                <a:spcPts val="499"/>
              </a:spcBef>
              <a:buNone/>
              <a:tabLst>
                <a:tab algn="l" pos="0"/>
                <a:tab algn="l" pos="45180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35B3B-3437-48FF-A063-02E75885E1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id review process</a:t>
            </a: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separate bid stacks are evaluated (one for each EILS Time Perio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Hours 1 (HE 0900-HE 1300 M-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Hours 2 (HE 1400-HE 1600 M-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Hours 3 (HE 1700-HE 2000 M-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Business Hours (all other ho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part of the review and recommendation process, historical clearing prices in the Ancillary Services markets are reviewed</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MCPCs are analyzed over three time blocks: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ing months from the prior y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to-d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30 days</a:t>
            </a:r>
            <a:endParaRPr b="0" lang="en-US" sz="20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cludes ERCOT Holidays.  These Time Periods were effective starting with June-Sept. 2008 Contract Period</a:t>
            </a: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27AF82F7-DB43-4592-852A-B71EF9E930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formation Request</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December 4 TAC meeting, ERCOT staff was asked to provide a comparison of average EILS prices ($/MW/Hour) awarded to date, compared to Responsive, Non-spin and Up-Reg average MCPCs across the same procurement period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fulfill this reques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0219534-1CFB-4BCB-8F10-655B563C08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alysis of Reserve Prices for Comparison</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281240"/>
            <a:ext cx="8143920" cy="490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May 2008 Contract Period</a:t>
            </a:r>
            <a:endParaRPr b="1" lang="en-US" sz="1800" spc="-1" strike="noStrike">
              <a:solidFill>
                <a:srgbClr val="000000"/>
              </a:solidFill>
              <a:latin typeface="Arial"/>
            </a:endParaRPr>
          </a:p>
        </p:txBody>
      </p:sp>
      <p:graphicFrame>
        <p:nvGraphicFramePr>
          <p:cNvPr id="107" name=""/>
          <p:cNvGraphicFramePr/>
          <p:nvPr/>
        </p:nvGraphicFramePr>
        <p:xfrm>
          <a:off x="538200" y="2133720"/>
          <a:ext cx="8148600" cy="2489040"/>
        </p:xfrm>
        <a:graphic>
          <a:graphicData uri="http://schemas.openxmlformats.org/drawingml/2006/table">
            <a:tbl>
              <a:tblPr/>
              <a:tblGrid>
                <a:gridCol w="2357280"/>
                <a:gridCol w="2895840"/>
                <a:gridCol w="2895480"/>
              </a:tblGrid>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Hour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Business Hour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a6f8e3"/>
                    </a:solidFill>
                  </a:tcPr>
                </a:tc>
              </a:tr>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L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9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R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5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Re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1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609480" y="5181480"/>
            <a:ext cx="8077320" cy="5806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00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 the first Contract Period, the Business Hours Time Period was HE 0900 through HE 2000, Monday thru Friday except ERCOT Holiday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A55A7-35CA-4722-9720-25AEFC15C2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alysis of Reserve Prices for Comparison</a:t>
            </a:r>
            <a:endParaRPr b="0" lang="en-US" sz="2000" spc="-1" strike="noStrike">
              <a:solidFill>
                <a:srgbClr val="ffffff"/>
              </a:solidFill>
              <a:latin typeface="Arial Black"/>
            </a:endParaRPr>
          </a:p>
        </p:txBody>
      </p:sp>
      <p:sp>
        <p:nvSpPr>
          <p:cNvPr id="110" name="PlaceHolder 2"/>
          <p:cNvSpPr>
            <a:spLocks noGrp="1"/>
          </p:cNvSpPr>
          <p:nvPr>
            <p:ph/>
          </p:nvPr>
        </p:nvSpPr>
        <p:spPr>
          <a:xfrm>
            <a:off x="457200" y="1281240"/>
            <a:ext cx="8143920" cy="490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ne-September 2008 Contract Period</a:t>
            </a:r>
            <a:endParaRPr b="1" lang="en-US" sz="1800" spc="-1" strike="noStrike">
              <a:solidFill>
                <a:srgbClr val="000000"/>
              </a:solidFill>
              <a:latin typeface="Arial"/>
            </a:endParaRPr>
          </a:p>
        </p:txBody>
      </p:sp>
      <p:graphicFrame>
        <p:nvGraphicFramePr>
          <p:cNvPr id="111" name=""/>
          <p:cNvGraphicFramePr/>
          <p:nvPr/>
        </p:nvGraphicFramePr>
        <p:xfrm>
          <a:off x="538200" y="2133720"/>
          <a:ext cx="8148600" cy="2489040"/>
        </p:xfrm>
        <a:graphic>
          <a:graphicData uri="http://schemas.openxmlformats.org/drawingml/2006/table">
            <a:tbl>
              <a:tblPr/>
              <a:tblGrid>
                <a:gridCol w="2205000"/>
                <a:gridCol w="1523880"/>
                <a:gridCol w="1524240"/>
                <a:gridCol w="1447560"/>
                <a:gridCol w="1447920"/>
              </a:tblGrid>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k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ak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H</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a6f8e3"/>
                    </a:solidFill>
                  </a:tcPr>
                </a:tc>
              </a:tr>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L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9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1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R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3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Re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17383E82-2560-436F-8648-AB8F0FDEF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alysis of Reserve Prices for Comparison</a:t>
            </a:r>
            <a:endParaRPr b="0" lang="en-US" sz="2000" spc="-1" strike="noStrike">
              <a:solidFill>
                <a:srgbClr val="ffffff"/>
              </a:solidFill>
              <a:latin typeface="Arial Black"/>
            </a:endParaRPr>
          </a:p>
        </p:txBody>
      </p:sp>
      <p:sp>
        <p:nvSpPr>
          <p:cNvPr id="113" name="PlaceHolder 2"/>
          <p:cNvSpPr>
            <a:spLocks noGrp="1"/>
          </p:cNvSpPr>
          <p:nvPr>
            <p:ph/>
          </p:nvPr>
        </p:nvSpPr>
        <p:spPr>
          <a:xfrm>
            <a:off x="457200" y="1281240"/>
            <a:ext cx="8143920" cy="490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08 – January 2009 Contract Period</a:t>
            </a:r>
            <a:endParaRPr b="1" lang="en-US" sz="1800" spc="-1" strike="noStrike">
              <a:solidFill>
                <a:srgbClr val="000000"/>
              </a:solidFill>
              <a:latin typeface="Arial"/>
            </a:endParaRPr>
          </a:p>
        </p:txBody>
      </p:sp>
      <p:graphicFrame>
        <p:nvGraphicFramePr>
          <p:cNvPr id="114" name=""/>
          <p:cNvGraphicFramePr/>
          <p:nvPr/>
        </p:nvGraphicFramePr>
        <p:xfrm>
          <a:off x="538200" y="2133720"/>
          <a:ext cx="8148600" cy="2489040"/>
        </p:xfrm>
        <a:graphic>
          <a:graphicData uri="http://schemas.openxmlformats.org/drawingml/2006/table">
            <a:tbl>
              <a:tblPr/>
              <a:tblGrid>
                <a:gridCol w="2205000"/>
                <a:gridCol w="1523880"/>
                <a:gridCol w="1524240"/>
                <a:gridCol w="1447560"/>
                <a:gridCol w="1447920"/>
              </a:tblGrid>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H</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a6f8e3"/>
                    </a:solidFill>
                  </a:tcPr>
                </a:tc>
              </a:tr>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L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6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5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R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Re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609480" y="5181480"/>
            <a:ext cx="624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verage MCPCs through Jan. 15, 2009</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93FB8-4F94-4658-86C9-ECDC2F1ACF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alysis of Reserve Prices for Comparison</a:t>
            </a:r>
            <a:endParaRPr b="0" lang="en-US" sz="2000" spc="-1" strike="noStrike">
              <a:solidFill>
                <a:srgbClr val="ffffff"/>
              </a:solidFill>
              <a:latin typeface="Arial Black"/>
            </a:endParaRPr>
          </a:p>
        </p:txBody>
      </p:sp>
      <p:sp>
        <p:nvSpPr>
          <p:cNvPr id="117" name="PlaceHolder 2"/>
          <p:cNvSpPr>
            <a:spLocks noGrp="1"/>
          </p:cNvSpPr>
          <p:nvPr>
            <p:ph/>
          </p:nvPr>
        </p:nvSpPr>
        <p:spPr>
          <a:xfrm>
            <a:off x="457200" y="1143000"/>
            <a:ext cx="8143920" cy="838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 - May 2009 Contract Period</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rds were announced Monday, Jan. 19</a:t>
            </a:r>
            <a:endParaRPr b="0" lang="en-US" sz="1800" spc="-1" strike="noStrike">
              <a:solidFill>
                <a:srgbClr val="000000"/>
              </a:solidFill>
              <a:latin typeface="Arial"/>
            </a:endParaRPr>
          </a:p>
        </p:txBody>
      </p:sp>
      <p:graphicFrame>
        <p:nvGraphicFramePr>
          <p:cNvPr id="118" name=""/>
          <p:cNvGraphicFramePr/>
          <p:nvPr/>
        </p:nvGraphicFramePr>
        <p:xfrm>
          <a:off x="538200" y="2286000"/>
          <a:ext cx="8148600" cy="2489040"/>
        </p:xfrm>
        <a:graphic>
          <a:graphicData uri="http://schemas.openxmlformats.org/drawingml/2006/table">
            <a:tbl>
              <a:tblPr/>
              <a:tblGrid>
                <a:gridCol w="2205000"/>
                <a:gridCol w="1523880"/>
                <a:gridCol w="1524240"/>
                <a:gridCol w="1447560"/>
                <a:gridCol w="1447920"/>
              </a:tblGrid>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a6f8e3"/>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H</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a6f8e3"/>
                    </a:solidFill>
                  </a:tcPr>
                </a:tc>
              </a:tr>
              <a:tr h="4968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LS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R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Re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Unknow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8ADF9A74-E36A-40B6-84BB-30ADC013B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PRS012209</cp:lastModifiedBy>
  <dcterms:modified xsi:type="dcterms:W3CDTF">2009-01-28T21:39:23Z</dcterms:modified>
  <cp:revision>333</cp:revision>
  <dc:subject/>
  <dc:title>Instructions</dc:title>
</cp:coreProperties>
</file>