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55DAF-9500-4984-A45D-E4AA84613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04665-3906-48E8-AA59-084E38D9F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8ACF2-136D-4414-863F-15F7961B7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F7CC9-1F0C-42D1-A286-B20215E11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4B154-EF5E-4B89-AD62-A8ACB183B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2C724-D389-4959-835D-B24FB1C03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E66D0-90CF-4A13-9EAE-80469AD25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880CC-B7B0-4F08-B1B2-FA9BE07A7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726BC-A21E-4C8F-B4D2-92FC350EF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DE4E7-A504-4F65-9F55-AB7934BC9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72F9E-1BBE-4DF8-B2CE-C9A3BE83A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FDAE3-4824-4ECF-A423-50FEC25E3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CDBDA-DBD1-427E-BD07-18919A232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31C90-8FCF-4B64-A3D0-200E381E6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48B60-9C92-4D79-8C4C-285B30432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50535-D611-45AE-992D-59A4CEEBE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35A0C-EF17-4E28-8B4D-939635A49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834B9-0C1C-48A2-922A-7CF71764E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1E9F6-32D5-467F-9C0D-0390592DC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556B4-0E99-46F1-9FC5-7B81355CC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2219B-B4A4-418E-B646-0AB4C0D5F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06411-44DF-4DE5-8284-BA3C0621B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49F77-7820-49A8-9129-26DFF70CC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610E2-63BF-4775-91E0-5B0726DDD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50B3-AD17-458C-9C62-92F669D76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D943-1193-40B1-84F9-8AF80A73B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360"/>
            <a:ext cx="815328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SE Managers Working Group</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048120"/>
            <a:ext cx="7010280" cy="2666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ing Notes</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 January, 2009 </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to WMS </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8 January, 2009</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Detelich - Chairpers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ssues with varying the NSRS daily</a:t>
            </a:r>
            <a:endParaRPr b="0" lang="en-US" sz="34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iming of posting the AS obligation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y not have analysis until later in Day Ahead</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a supplemental AS market almost daily?</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arying daily amounts could affect resource planning and price volatility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MWG Statement on NSRS Procurement – updated at WMS</a:t>
            </a:r>
            <a:endParaRPr b="0" lang="en-US" sz="34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MS believes the procurement of NSRS as described in the 2009 ERCOT Methodologies for Determining Ancillary Service Requirements has improved using the Net Load concept and current tools available.  WMS endorses changing from on-peak/off-peak periods to the 4 hour blocks for NSRS sizing. WMS further agrees alternatives that ERCOT is developing will further optimize the procurement of NSR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GR only QSE Metrics – OC1 Control issue</a:t>
            </a:r>
            <a:endParaRPr b="0" lang="en-US" sz="34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ffset is used for balancing the power balance across the system</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C1 limit control is used to reduce the flow on the CSC</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RCOT produced examples of the unpredictable response provided from WGR QSE’s</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s a deployment metric or an energy schedule accuracy metric need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QMWG – Future Agenda Items</a:t>
            </a:r>
            <a:endParaRPr b="0" lang="en-US" sz="3800" spc="-1" strike="noStrike">
              <a:solidFill>
                <a:srgbClr val="000000"/>
              </a:solidFill>
              <a:latin typeface="Verdana"/>
            </a:endParaRPr>
          </a:p>
        </p:txBody>
      </p:sp>
      <p:sp>
        <p:nvSpPr>
          <p:cNvPr id="112" name="PlaceHolder 2"/>
          <p:cNvSpPr>
            <a:spLocks noGrp="1"/>
          </p:cNvSpPr>
          <p:nvPr>
            <p:ph/>
          </p:nvPr>
        </p:nvSpPr>
        <p:spPr>
          <a:xfrm>
            <a:off x="228600" y="1676160"/>
            <a:ext cx="8577360" cy="4724280"/>
          </a:xfrm>
          <a:prstGeom prst="rect">
            <a:avLst/>
          </a:prstGeom>
          <a:noFill/>
          <a:ln w="0">
            <a:noFill/>
          </a:ln>
        </p:spPr>
        <p:txBody>
          <a:bodyPr lIns="90000" rIns="90000" tIns="46800" bIns="46800" anchor="t">
            <a:normAutofit/>
          </a:bodyPr>
          <a:p>
            <a:pPr marL="495360" indent="-495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RCOT Operations Issu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accuracy reports</a:t>
            </a:r>
            <a:endParaRPr b="0" lang="en-US" sz="2600" spc="-1" strike="noStrike">
              <a:solidFill>
                <a:srgbClr val="000000"/>
              </a:solidFill>
              <a:latin typeface="Verdana"/>
            </a:endParaRPr>
          </a:p>
          <a:p>
            <a:pPr marL="495360" indent="-49536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GR only QSE Metrics</a:t>
            </a:r>
            <a:endParaRPr b="0" lang="en-US" sz="28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urly scheduling metric</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ion of metrics to impact congestion management</a:t>
            </a:r>
            <a:endParaRPr b="0" lang="en-US" sz="2400" spc="-1" strike="noStrike">
              <a:solidFill>
                <a:srgbClr val="000000"/>
              </a:solidFill>
              <a:latin typeface="Verdana"/>
            </a:endParaRPr>
          </a:p>
          <a:p>
            <a:pPr marL="49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95360" indent="-49536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xt Meeting: 2/_/2009</a:t>
            </a:r>
            <a:endParaRPr b="0" lang="en-US" sz="2800" spc="-1" strike="noStrike">
              <a:solidFill>
                <a:srgbClr val="000000"/>
              </a:solidFill>
              <a:latin typeface="Verdana"/>
            </a:endParaRPr>
          </a:p>
          <a:p>
            <a:pPr marL="495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SE Managers Working Group Agenda </a:t>
            </a:r>
            <a:endParaRPr b="0" lang="en-US" sz="34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RCOT Operations Issues</a:t>
            </a:r>
            <a:endParaRPr b="0" lang="en-US" sz="2500" spc="-1" strike="noStrike">
              <a:solidFill>
                <a:srgbClr val="000000"/>
              </a:solidFill>
              <a:latin typeface="Verdana"/>
            </a:endParaRPr>
          </a:p>
          <a:p>
            <a:pPr lvl="1" marL="898560" indent="-4316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GRPP Forecast process improvements</a:t>
            </a:r>
            <a:endParaRPr b="0" lang="en-US" sz="2400" spc="-1" strike="noStrike">
              <a:solidFill>
                <a:srgbClr val="000000"/>
              </a:solidFill>
              <a:latin typeface="Verdana"/>
            </a:endParaRPr>
          </a:p>
          <a:p>
            <a:pPr lvl="1" marL="898560" indent="-4316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GRPP Forecast accuracy analysis</a:t>
            </a:r>
            <a:endParaRPr b="0" lang="en-US" sz="2400" spc="-1" strike="noStrike">
              <a:solidFill>
                <a:srgbClr val="000000"/>
              </a:solidFill>
              <a:latin typeface="Verdana"/>
            </a:endParaRPr>
          </a:p>
          <a:p>
            <a:pPr lvl="1" marL="898560" indent="-4316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n-spin deployments from off line units</a:t>
            </a:r>
            <a:endParaRPr b="0" lang="en-US" sz="2400" spc="-1" strike="noStrike">
              <a:solidFill>
                <a:srgbClr val="000000"/>
              </a:solidFill>
              <a:latin typeface="Verdana"/>
            </a:endParaRPr>
          </a:p>
          <a:p>
            <a:pPr lvl="1" marL="898560" indent="-4316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mp rate constraints of a QSE when ERCOT ends an OOME instruction</a:t>
            </a:r>
            <a:endParaRPr b="0" lang="en-US" sz="2400" spc="-1" strike="noStrike">
              <a:solidFill>
                <a:srgbClr val="000000"/>
              </a:solidFill>
              <a:latin typeface="Verdana"/>
            </a:endParaRPr>
          </a:p>
          <a:p>
            <a:pPr marL="464760" indent="-46476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ptimal Procurement of Ancillary Services assignment from TAC</a:t>
            </a:r>
            <a:endParaRPr b="0" lang="en-US" sz="2500" spc="-1" strike="noStrike">
              <a:solidFill>
                <a:srgbClr val="000000"/>
              </a:solidFill>
              <a:latin typeface="Verdana"/>
            </a:endParaRPr>
          </a:p>
          <a:p>
            <a:pPr marL="464760" indent="-46476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GR only QSE Scheduling Metric – Congestion Managemen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GRPP Forecast process improvements</a:t>
            </a:r>
            <a:endParaRPr b="0" lang="en-US" sz="34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duled implementation is end of January</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WS Truewind needs digital certificate</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will be available in TML as a report for manual download an in PI for programatic download.</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mails will continue until every company no longer needs it</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ket notice to be issued 10 days prior to implement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WGRPP Forecast accuracy analysis</a:t>
            </a:r>
            <a:endParaRPr b="0" lang="en-US" sz="34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 data </a:t>
            </a:r>
            <a:endParaRPr b="0" lang="en-US" sz="24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being used by AWS Truewind internally </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quality issues still exist. </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COT will work with AWS Truewind to verify the MET data</a:t>
            </a:r>
            <a:endParaRPr b="0" lang="en-US" sz="20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uracy reports reviewed </a:t>
            </a:r>
            <a:endParaRPr b="0" lang="en-US" sz="2400" spc="-1" strike="noStrike">
              <a:solidFill>
                <a:srgbClr val="000000"/>
              </a:solidFill>
              <a:latin typeface="Verdana"/>
            </a:endParaRPr>
          </a:p>
          <a:p>
            <a:pPr lvl="1" marL="907920" indent="-4363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ercent error with actual output as denominator</a:t>
            </a:r>
            <a:endParaRPr b="0" lang="en-US" sz="2100" spc="-1" strike="noStrike">
              <a:solidFill>
                <a:srgbClr val="000000"/>
              </a:solidFill>
              <a:latin typeface="Verdana"/>
            </a:endParaRPr>
          </a:p>
          <a:p>
            <a:pPr lvl="1" marL="907920" indent="-4363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ercent error with capacity as denominator (an industry standard)</a:t>
            </a:r>
            <a:endParaRPr b="0" lang="en-US" sz="2100" spc="-1" strike="noStrike">
              <a:solidFill>
                <a:srgbClr val="000000"/>
              </a:solidFill>
              <a:latin typeface="Verdana"/>
            </a:endParaRPr>
          </a:p>
          <a:p>
            <a:pPr lvl="1" marL="907920" indent="-4363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W error – used for Net Load calculation</a:t>
            </a:r>
            <a:endParaRPr b="0" lang="en-US" sz="21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re are targets in place for AWS Truewind</a:t>
            </a:r>
            <a:endParaRPr b="0" lang="en-US" sz="2500" spc="-1" strike="noStrike">
              <a:solidFill>
                <a:srgbClr val="000000"/>
              </a:solidFill>
              <a:latin typeface="Verdana"/>
            </a:endParaRPr>
          </a:p>
          <a:p>
            <a:pPr marL="469800" indent="-469800">
              <a:lnSpc>
                <a:spcPct val="8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RCOT will start presenting reports at ROS meetings along with load forecast MAPE .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ther ERCOT Operations issues</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n-spin deployments from off line unit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 action taken</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amp rate constraints of a QSE when ERCOT ends an OOME instructio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discussion on topic</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RR will be prepared for comments </a:t>
            </a:r>
            <a:endParaRPr b="0" lang="en-US" sz="2600" spc="-1" strike="noStrike">
              <a:solidFill>
                <a:srgbClr val="000000"/>
              </a:solidFill>
              <a:latin typeface="Verdana"/>
            </a:endParaRPr>
          </a:p>
        </p:txBody>
      </p:sp>
      <p:sp>
        <p:nvSpPr>
          <p:cNvPr id="95" name=""/>
          <p:cNvSpPr/>
          <p:nvPr/>
        </p:nvSpPr>
        <p:spPr>
          <a:xfrm>
            <a:off x="0" y="26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ptimal procurement of Ancillary Services assignment from TAC</a:t>
            </a:r>
            <a:endParaRPr b="0" lang="en-US" sz="34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09 ERCOT Methodologies for Determining Ancillary Service Requirement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n-Spinning Reserve Service (NSRS) Requirement Details</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 and analysis from ERCOT reviewed </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uration curve of on-line capacity</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alyze 4-hour categories for sizing the NSRS</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uss proposed alternatives to the current methodology</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uration Curve of On-line Capacity </a:t>
            </a:r>
            <a:endParaRPr b="0" lang="en-US" sz="3400" spc="-1" strike="noStrike">
              <a:solidFill>
                <a:srgbClr val="000000"/>
              </a:solidFill>
              <a:latin typeface="Verdana"/>
            </a:endParaRPr>
          </a:p>
        </p:txBody>
      </p:sp>
      <p:pic>
        <p:nvPicPr>
          <p:cNvPr id="99" name="" descr=""/>
          <p:cNvPicPr/>
          <p:nvPr/>
        </p:nvPicPr>
        <p:blipFill>
          <a:blip r:embed="rId2"/>
          <a:stretch/>
        </p:blipFill>
        <p:spPr>
          <a:xfrm>
            <a:off x="1066680" y="1647720"/>
            <a:ext cx="7129440" cy="486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560"/>
            <a:ext cx="80010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isk Assessment Tool </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is a funded project by ERCOT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ily tool for all servic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 generation capacity factor</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its on line and forced outage rat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ad error and wind error</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T event forecaster</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tool is in development to be used in future AS methodolog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4 hour blocks for NSRS sizing</a:t>
            </a:r>
            <a:endParaRPr b="0" lang="en-US" sz="3800" spc="-1" strike="noStrike">
              <a:solidFill>
                <a:srgbClr val="000000"/>
              </a:solidFill>
              <a:latin typeface="Verdana"/>
            </a:endParaRPr>
          </a:p>
        </p:txBody>
      </p:sp>
      <p:sp>
        <p:nvSpPr>
          <p:cNvPr id="103" name="PlaceHolder 2"/>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analysis results in less total capacity purchased.</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RCOT to continue analysis and propose in future AS methodology</a:t>
            </a:r>
            <a:endParaRPr b="0" lang="en-US" sz="2600" spc="-1" strike="noStrike">
              <a:solidFill>
                <a:srgbClr val="000000"/>
              </a:solidFill>
              <a:latin typeface="Verdana"/>
            </a:endParaRPr>
          </a:p>
        </p:txBody>
      </p:sp>
      <p:pic>
        <p:nvPicPr>
          <p:cNvPr id="104" name="" descr=""/>
          <p:cNvPicPr/>
          <p:nvPr/>
        </p:nvPicPr>
        <p:blipFill>
          <a:blip r:embed="rId2"/>
          <a:stretch/>
        </p:blipFill>
        <p:spPr>
          <a:xfrm>
            <a:off x="1143000" y="1600200"/>
            <a:ext cx="3036960" cy="474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3T15:02:42Z</dcterms:created>
  <dc:creator>Brandon Whittle</dc:creator>
  <dc:description/>
  <dc:language>en-US</dc:language>
  <cp:lastModifiedBy>PRS012209</cp:lastModifiedBy>
  <dcterms:modified xsi:type="dcterms:W3CDTF">2009-01-28T19:56:40Z</dcterms:modified>
  <cp:revision>62</cp:revision>
  <dc:subject/>
  <dc:title>QSE Managers Working Grou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