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C4D56A-6A17-4CF7-A146-E6055CDB7A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C8ACBC1-B407-44C6-AA69-8957103490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905884F2-7D5D-43C3-A4BA-C8A62501B4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E9850B7F-AA6C-45DB-BECD-8426C54C45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42860FEA-A740-4475-A807-13741EFE46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117B93A-88D8-4F1E-8724-E38CEBD66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42F9A3-32FC-4C0E-AA90-92238A417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0375FF-4446-4133-B6A5-2596F0C57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765418-2358-4516-A633-DE4BF892F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DBDAA4-3DF9-4A64-B09A-CFD135BF9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0E67CC3-A22D-4F8A-93D1-608E20AD7D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446AC2-E1C5-45DD-917C-E32D08ADE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764B79-1FEF-4F82-B16B-E8FD2962EA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4126F7-19C6-410C-8C54-2C228EC8B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B694BD-A8EE-48A6-BEDA-BF690DE0E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0CE8D8-2206-4407-B879-0882DEB62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417CE48-0A0B-4F5D-A200-8EA592E12EF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C63F23-2AEB-4FC7-8E23-4BBD38C334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25876AD-01C8-4659-85CF-1D64131C62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sldNum" idx="1"/>
          </p:nvPr>
        </p:nvSpPr>
        <p:spPr/>
        <p:txBody>
          <a:bodyPr/>
          <a:p>
            <a:fld id="{87CE0B40-012E-4DC6-8CB6-5754A2DD90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89A5A803-09BE-49BE-AB42-29128173F7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1C8C043-91EA-476F-9E42-1720374D22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D44164F-6B75-4B17-A16E-EBC4FB265A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88075336-7CCC-41F1-8EAF-7CB6CA33B0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7A7A-D049-406E-967D-C1CD9FDBF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4442-A2EA-432F-A1DF-C2AE5DD3E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CE76-0D7D-4FE1-B77C-CDFC5D714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3520" y="1904760"/>
            <a:ext cx="619920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timated Impacts of Reconsidered and New PRRs and SCRs</a:t>
            </a:r>
            <a:endParaRPr b="0" lang="en-US" sz="2400" spc="-1" strike="noStrike">
              <a:solidFill>
                <a:srgbClr val="ffffff"/>
              </a:solidFill>
              <a:latin typeface="Arial Black"/>
            </a:endParaRPr>
          </a:p>
        </p:txBody>
      </p:sp>
      <p:sp>
        <p:nvSpPr>
          <p:cNvPr id="130" name="PlaceHolder 2"/>
          <p:cNvSpPr>
            <a:spLocks noGrp="1"/>
          </p:cNvSpPr>
          <p:nvPr>
            <p:ph type="subTitle"/>
          </p:nvPr>
        </p:nvSpPr>
        <p:spPr>
          <a:xfrm>
            <a:off x="2343240" y="3580920"/>
            <a:ext cx="6495840" cy="11430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roy Anderson</a:t>
            </a:r>
            <a:endParaRPr b="0" lang="en-US" sz="2400" spc="-1" strike="noStrike">
              <a:solidFill>
                <a:srgbClr val="ffffff"/>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Program Management Office</a:t>
            </a:r>
            <a:endParaRPr b="0" lang="en-US" sz="2400" spc="-1" strike="noStrike">
              <a:solidFill>
                <a:srgbClr val="ffffff"/>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nuary 28, 2009</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ssumptions and Additional Considerations</a:t>
            </a:r>
            <a:endParaRPr b="0" lang="en-US" sz="2000" spc="-1" strike="noStrike">
              <a:solidFill>
                <a:srgbClr val="ffffff"/>
              </a:solidFill>
              <a:latin typeface="Arial Black"/>
            </a:endParaRPr>
          </a:p>
        </p:txBody>
      </p:sp>
      <p:graphicFrame>
        <p:nvGraphicFramePr>
          <p:cNvPr id="132" name=""/>
          <p:cNvGraphicFramePr/>
          <p:nvPr/>
        </p:nvGraphicFramePr>
        <p:xfrm>
          <a:off x="358920" y="903240"/>
          <a:ext cx="8493120" cy="4233960"/>
        </p:xfrm>
        <a:graphic>
          <a:graphicData uri="http://schemas.openxmlformats.org/drawingml/2006/table">
            <a:tbl>
              <a:tblPr/>
              <a:tblGrid>
                <a:gridCol w="1368360"/>
                <a:gridCol w="7124760"/>
              </a:tblGrid>
              <a:tr h="50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i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Com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87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Impact</a:t>
                      </a:r>
                      <a:br>
                        <a:rPr sz="1400"/>
                      </a:br>
                      <a:r>
                        <a:rPr b="0" lang="en-US" sz="1400" spc="-1" strike="noStrike">
                          <a:solidFill>
                            <a:srgbClr val="000000"/>
                          </a:solidFill>
                          <a:latin typeface="Arial"/>
                        </a:rPr>
                        <a:t>Assump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very desirable to avoid impacting Nodal resources when delivering additional Zonal enhance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Availab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MMS Development team has approximately 1 FTE allocated to Zonal efforts.  This capacity is currently working on small system fixes that arise during the normal course of business (known as “SIRs”).  This SIR work would be reprioritized to deliver approved Zonal PRRs and SC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6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Resource Procure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T management team is searching for external application development resources with ERCOT application knowledge to assist in the efforts that are approved.</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important to note that specific knowledge of ERCOT’s EMMS system is important because our system has had numerous customizatio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Resource Constrain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with all software development projects at ERCOT, we have constraints with testing platforms and other shared resources that would be factored into a final proposed delivery schedule for any approved item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A2BEA85-74E6-4A3F-BD98-5428FB8795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75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stimated Impacts of Reconsidered and New PRRs and SCRs</a:t>
            </a:r>
            <a:endParaRPr b="0" lang="en-US" sz="2000" spc="-1" strike="noStrike">
              <a:solidFill>
                <a:srgbClr val="ffffff"/>
              </a:solidFill>
              <a:latin typeface="Arial Black"/>
            </a:endParaRPr>
          </a:p>
        </p:txBody>
      </p:sp>
      <p:graphicFrame>
        <p:nvGraphicFramePr>
          <p:cNvPr id="134" name=""/>
          <p:cNvGraphicFramePr/>
          <p:nvPr/>
        </p:nvGraphicFramePr>
        <p:xfrm>
          <a:off x="250920" y="868320"/>
          <a:ext cx="8642160" cy="5192640"/>
        </p:xfrm>
        <a:graphic>
          <a:graphicData uri="http://schemas.openxmlformats.org/drawingml/2006/table">
            <a:tbl>
              <a:tblPr/>
              <a:tblGrid>
                <a:gridCol w="893520"/>
                <a:gridCol w="2982960"/>
                <a:gridCol w="924120"/>
                <a:gridCol w="981000"/>
                <a:gridCol w="2860560"/>
              </a:tblGrid>
              <a:tr h="443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Impact Com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668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R60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nute Ramping for BES and Base Power Schedu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k-$25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uggestion to change from 7.5/7.5 minute ramping to 7/7 or 7/8 could reduce the system impa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R67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amp Ra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k-$50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5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 suggestion to use “bidding QSEs” to represent varying ramp rates might eliminate system impac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R40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tage Support Servi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rvice will be part of the </a:t>
                      </a:r>
                      <a:r>
                        <a:rPr b="0" lang="en-US" sz="1200" spc="-1" strike="noStrike" u="sng">
                          <a:solidFill>
                            <a:srgbClr val="000000"/>
                          </a:solidFill>
                          <a:uFillTx/>
                          <a:latin typeface="Arial"/>
                        </a:rPr>
                        <a:t>Nodal</a:t>
                      </a:r>
                      <a:r>
                        <a:rPr b="0" lang="en-US" sz="1200" spc="-1" strike="noStrike">
                          <a:solidFill>
                            <a:srgbClr val="000000"/>
                          </a:solidFill>
                          <a:latin typeface="Arial"/>
                        </a:rPr>
                        <a:t> delivery.  Cost and time to deliver in Zonal make it difficult to cost justif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casted Net Zonal Energy and Actual Zonal Gener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k-$10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ly to get traction with the market due to resource impact on EMMS staf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0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72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Total ERCOT Balancing, Responsive, and Non-Spin Deployments, ERCOT SCE, and ERCOT Responsive Reserve Real-Ti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9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R77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MCPE Adjustment During Intervals of Non-Spinning Reserve Service Deploy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776 Discussion Group is attempting to deliver the intent of this PRR with limited or no system chang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R79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age Pricing Mechanis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k-$250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776 Discussion Group is attempting to deliver the intent of this PRR with limited or no system change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
          <p:cNvSpPr/>
          <p:nvPr/>
        </p:nvSpPr>
        <p:spPr>
          <a:xfrm>
            <a:off x="4138560" y="1117440"/>
            <a:ext cx="1886040" cy="1890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Preliminary --</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370D4CB-7745-4480-8E96-8AE4A3E69B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dditional Input</a:t>
            </a:r>
            <a:endParaRPr b="0" lang="en-US" sz="2000" spc="-1" strike="noStrike">
              <a:solidFill>
                <a:srgbClr val="ffffff"/>
              </a:solidFill>
              <a:latin typeface="Arial Black"/>
            </a:endParaRPr>
          </a:p>
        </p:txBody>
      </p:sp>
      <p:graphicFrame>
        <p:nvGraphicFramePr>
          <p:cNvPr id="137" name=""/>
          <p:cNvGraphicFramePr/>
          <p:nvPr/>
        </p:nvGraphicFramePr>
        <p:xfrm>
          <a:off x="358920" y="903240"/>
          <a:ext cx="8493120" cy="2111400"/>
        </p:xfrm>
        <a:graphic>
          <a:graphicData uri="http://schemas.openxmlformats.org/drawingml/2006/table">
            <a:tbl>
              <a:tblPr/>
              <a:tblGrid>
                <a:gridCol w="1368360"/>
                <a:gridCol w="7124760"/>
              </a:tblGrid>
              <a:tr h="50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i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Com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673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 IMM Inpu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MM believes 601, 776 and 791 offer the most improvements in Zonal market efficiency.  Of these three, 776 and 791 would have top priority in their ey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holder Inpu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holder input is critical at this time to allow ERCOT to suggest a delivery approach that can be adequately resourced and delivered in time to provide meaningful benefit to the market before the Zonal systems are retir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4FABFEB0-C505-4F25-A445-84221C7452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livery Options</a:t>
            </a:r>
            <a:endParaRPr b="0" lang="en-US" sz="2000" spc="-1" strike="noStrike">
              <a:solidFill>
                <a:srgbClr val="ffffff"/>
              </a:solidFill>
              <a:latin typeface="Arial Black"/>
            </a:endParaRPr>
          </a:p>
        </p:txBody>
      </p:sp>
      <p:graphicFrame>
        <p:nvGraphicFramePr>
          <p:cNvPr id="139" name=""/>
          <p:cNvGraphicFramePr/>
          <p:nvPr/>
        </p:nvGraphicFramePr>
        <p:xfrm>
          <a:off x="358920" y="903240"/>
          <a:ext cx="8493120" cy="4087800"/>
        </p:xfrm>
        <a:graphic>
          <a:graphicData uri="http://schemas.openxmlformats.org/drawingml/2006/table">
            <a:tbl>
              <a:tblPr/>
              <a:tblGrid>
                <a:gridCol w="3051000"/>
                <a:gridCol w="5442120"/>
              </a:tblGrid>
              <a:tr h="511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ac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Comm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397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items that can be delivered in 2009 using existing ERCOT resources allocated for Zonal effor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approach acknowledges the desire to be responsive to current market needs while minimizing risk to the Nodal projec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a realistic approach to the situation and allows ERCOT to focus on one or two efforts that are expected to provide the most payback prior to Nodal implement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e with efforts to procure outside resources with the right knowledge to allow for additional Zonal efforts to be accomplish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difficult to estimate the likelihood of success of this effort but any positive results could be brought to bear on whatever items are selected for implementation </a:t>
                      </a:r>
                      <a:r>
                        <a:rPr b="0" lang="en-US" sz="1400" spc="-1" strike="noStrike" u="sng">
                          <a:solidFill>
                            <a:srgbClr val="000000"/>
                          </a:solidFill>
                          <a:uFillTx/>
                          <a:latin typeface="Arial"/>
                        </a:rPr>
                        <a:t>or</a:t>
                      </a:r>
                      <a:r>
                        <a:rPr b="0" lang="en-US" sz="1400" spc="-1" strike="noStrike">
                          <a:solidFill>
                            <a:srgbClr val="000000"/>
                          </a:solidFill>
                          <a:latin typeface="Arial"/>
                        </a:rPr>
                        <a:t> any items specified for delivery if resources can be procur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irect resources from the Nodal project to assist in accomplishing additional Zonal effor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option would be difficult to justify with the PUCT and Board of Director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30CAC4D8-9116-4E78-99D5-6AB72F716AFA}"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y Anderson</cp:lastModifiedBy>
  <dcterms:modified xsi:type="dcterms:W3CDTF">2009-01-27T22:39:38Z</dcterms:modified>
  <cp:revision>456</cp:revision>
  <dc:subject>Change Control Overview</dc:subject>
  <dc:title>Texas Nodal Market Implementation </dc:title>
</cp:coreProperties>
</file>