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391E-0BA3-46F8-860A-AEADCB66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6787-8CAC-4B09-9A9A-F7EC0485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129E-2CBB-4EC9-A689-7A946313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1FE1-F6AF-489A-B7DD-EB8DA41F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786D-46D1-46D7-A767-015E3674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E969-15AE-4022-A6B2-6F87AAAB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BA50-4F5F-4C6E-8C8A-2BFC4E58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DC66-5FF0-4605-8FF5-3E6B5D99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1174-78FE-4D65-82A8-CE3F16F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9A8B-31B6-43FF-9512-E0FA006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620B-33F4-44C1-91D0-423BF5B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1C20-D598-4BA3-8C7B-F949B64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739D-688F-48F2-A835-445209756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A156-9001-4047-825E-D492F1A2F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anuary 22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8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90xi System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Tele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roduction SA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ne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COT.com Register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3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llabs DCCS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22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itional SAN Capacity for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08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rms and Conditions &amp;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2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yberSecurity Project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4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porate Application Environment True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1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uby Standard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ecru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38BC-422E-4DEE-B563-1610C835B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Data Mode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3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net Assessment HR &amp;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de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40066_0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4.7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070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Testing Automation and Electronic Submittal – Phas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23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wall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9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Access Control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015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on Procurement Proces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20_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on 9x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D2DF-6755-4472-8845-1874D294AC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3048120"/>
            <a:ext cx="853452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r Phasor Monitoring System (S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6_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 Enhancements for ERCOT Outage Notif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57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Study for Long Term Settlem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072_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NDCRC (Net Dependable Capability &amp; Reactive Cap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28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Renewables / Distribute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54_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e 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099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Minor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85392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FABF-324D-459A-A688-24CBD7999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oject Spending and Delivery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Reforecas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CDD3-AB7E-47F4-B111-1B77F8277F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Spending Update – 1/15/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838080"/>
          <a:ext cx="8305560" cy="393696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676,7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288,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03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987,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94,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69,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635,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584,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71,79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863,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/ Zonal Inter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3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,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,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No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89,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4,708,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4920" y="4952880"/>
          <a:ext cx="8305560" cy="381240"/>
        </p:xfrm>
        <a:graphic>
          <a:graphicData uri="http://schemas.openxmlformats.org/drawingml/2006/table">
            <a:tbl>
              <a:tblPr/>
              <a:tblGrid>
                <a:gridCol w="2038320"/>
                <a:gridCol w="1887480"/>
                <a:gridCol w="2114640"/>
                <a:gridCol w="22651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232,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8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38080" y="5562720"/>
            <a:ext cx="7391520" cy="30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Met Center project is not funded by initial project budget al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6765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90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419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50292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867280"/>
            <a:ext cx="7391520" cy="30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rrows indicate trend since last report (December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1337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2952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9718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930E-1857-40E9-A3E4-53630599F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Deliveries (“Go-Live”) – 1/15/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295280"/>
          <a:ext cx="8305560" cy="297684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Project Delivery Count 1/1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Project Delivery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1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/ 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5A2E-95B6-4F1D-BFE5-0F6DE293B7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Recent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budget has increased from $12.7M to $17.75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riv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termined there is a critical need to expand the Taylor data center in order to properly maintain 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in addition to the data center work planned as part of the Met Center Dispositi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.75M project added to the CO list to expand the current Taylor data center into the remaining raised floor space of TC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-wide effort to fund the data center expansion projec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intain the current 41.71 cent System Administration F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rategic Review Team (SRT) recommended various reductions to the project budget to assist in the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ives elected to take several measures impacting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ed 2 CO projec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CC1 Reconfiguration and Blue Bldg Evacuation Rou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he project contingency on all projects that are not yet started from 35%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and market projects were exempt from the contingency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FB41-9024-49AF-8B34-010E56804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Initiative Lists drafted, revised and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 to prepare for marke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COPS and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updates by 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3 / November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pproved all project 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uary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Endorsed ** with concern expressed about data center outsourcing consid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Approved ** as part of 2009 ERCOT budget – Sys Admin Fee remains at 41.71 c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08DE-DF24-4CB9-A743-646CB1D15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Activity Since PRS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(Corporate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 of Data Center Expansion to meet short term data center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al of Taylor TCC1 Office Reconfiguration and Blue Building Evacuation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Met Center Disposition by $4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O  (IT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 (Market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 (Retail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(System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ng effort to update Impact Analyses and CBA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R601, PRR675, PRR409, SCR720, SCR7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 to have the updated IAs and CBAs available for PRS on 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reviewed and approved the combined project lists on 11/20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budget estimate at time of PRS approval = $12.7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oject budget estimate = $18.1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impacts to PUCT and market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90BA-6DB9-44BE-93C3-E83591192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3840" y="4724280"/>
          <a:ext cx="8458200" cy="381240"/>
        </p:xfrm>
        <a:graphic>
          <a:graphicData uri="http://schemas.openxmlformats.org/drawingml/2006/table">
            <a:tbl>
              <a:tblPr/>
              <a:tblGrid>
                <a:gridCol w="2076480"/>
                <a:gridCol w="1920600"/>
                <a:gridCol w="2154240"/>
                <a:gridCol w="23068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400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88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8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12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9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53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3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6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10E5-0B18-47FB-863F-5591BAE128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0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ETL Too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Center Fac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0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SAS70 Procedures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2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 Security Project #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7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 Microwave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REC Program 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igital Certificat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8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Infrastructure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age Infrastructure Rede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1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ylor Control Room Display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372C-5ED0-470B-B247-F156D083F6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1-21T15:37:32Z</dcterms:modified>
  <cp:revision>319</cp:revision>
  <dc:subject/>
  <dc:title>Instructions</dc:title>
</cp:coreProperties>
</file>