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D5B1-F338-40A1-BF88-4BEE853C7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23B2-E051-4EEC-A393-49AEB84A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3B36-EF4E-4DC1-9B48-39A8A0236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0030-10A7-4147-8975-9E64F1AA4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2180-772A-46D4-8849-3D7C44826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2AB7-F8F8-406A-A059-E55AE222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BBFD-4400-4C92-A747-C25BD191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C424-1371-4170-8736-18FAE50F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9FC7-B680-4EBF-8944-4DAD3692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0E71B-6A99-4B3B-96D4-EC378F72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A73D-72BA-4716-AF20-84DE8E80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E25E-E12F-4E6E-81ED-8FB19B00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41E3-6742-4167-9D8C-E2CCAAC2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D656-9067-475B-BA0C-6F170A09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3872-9AD5-4CDF-AC95-D5B8819D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851B-5965-4449-97C1-34B76E593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5F75C-8E43-40FD-A28C-1D573A392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0678-6366-4C77-9F17-D6AF29CF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0470-F3C1-4919-9B00-932D08C3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D393-51E7-4BE9-BEBE-922E3520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665F-B26D-4A0C-BB2D-CCD7A03D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CDB6-A2BB-4E0C-AB7B-E5CE6A7F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7AD8-C67E-4807-8F58-F471EC4A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7ED4-55E4-449E-889E-E7B64A35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03FD-AE80-4B10-A51C-A5BA7FBD4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9AC0-FD60-4D83-82AA-65FD6C2D4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nuary 8, 2009 TAC Meet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mary for ROS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4647960"/>
            <a:ext cx="2286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ul Ro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S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24444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Voting Items Sponsored by ROS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GRR212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CP Media Appeal Change -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P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GRR22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CP Media Appeal Change -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P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RC CIP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Regional Representatives for 2009 –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P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 discussed CIPW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roup Charter – to be presented to TAC at February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Other TAC Meeting Highlights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8007120" cy="4876920"/>
          </a:xfrm>
          <a:prstGeom prst="rect">
            <a:avLst/>
          </a:prstGeom>
          <a:noFill/>
          <a:ln w="9360">
            <a:solidFill>
              <a:srgbClr val="f1f1f7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rricane Ike Report provided by Bill Blevins - well received and endorsed by T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AR Study Report Status Provided by DWG Chair Tony Hud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able interest by TAC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 to provide final study report to TAC in F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recommendation for further analysis by 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a minimum, results for 2300 MW reserv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Carryover from December Mtg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007120" cy="4648320"/>
          </a:xfrm>
          <a:prstGeom prst="rect">
            <a:avLst/>
          </a:prstGeom>
          <a:noFill/>
          <a:ln w="9360">
            <a:solidFill>
              <a:srgbClr val="f1f1f7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 PRR 777 (WGR QSE Metric Correction) and provide recommendation to TAC (at February TAC mee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ed to OWG at December ROS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18:52:30Z</dcterms:created>
  <dc:creator>Randy Jones</dc:creator>
  <dc:description/>
  <dc:language>en-US</dc:language>
  <cp:lastModifiedBy>00010966</cp:lastModifiedBy>
  <dcterms:modified xsi:type="dcterms:W3CDTF">2009-01-12T17:41:13Z</dcterms:modified>
  <cp:revision>126</cp:revision>
  <dc:subject/>
  <dc:title>ROS’ Action Plan – Following Up on 2/26 EECP &amp; Wind Workshop Issues</dc:title>
</cp:coreProperties>
</file>