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3019-C324-44AA-A141-6467BDD5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22096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Changes to Existing Standard Drafting Team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93760" y="380952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Sarah Hensle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87"/>
                </a:solidFill>
                <a:latin typeface="Arial Black"/>
              </a:rPr>
              <a:t>Standards Development Coordina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5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LSE Standard Drafting Team Slat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14400" y="914400"/>
          <a:ext cx="7315200" cy="469440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51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g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t Pawlowski (Cha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ryl Curtis (Vice Cha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 Krem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 Sol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 Ke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os Elect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 Kna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el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Power Mark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dy Ree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b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 Sik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t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l Firest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a Showal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Brock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e Jack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–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Smi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par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er –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 Zdenek </a:t>
                      </a: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 Alternative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n Mejia </a:t>
                      </a: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 Energy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d Ness </a:t>
                      </a: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5"/>
          <p:cNvSpPr/>
          <p:nvPr/>
        </p:nvSpPr>
        <p:spPr>
          <a:xfrm>
            <a:off x="1905120" y="57261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</a:rPr>
              <a:t>* Resigning from team       ** Addition to te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5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AR-003 CPS2 ERCOT Waiver </a:t>
            </a:r>
            <a:br>
              <a:rPr sz="2400"/>
            </a:b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Standard Drafting Team Membe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219320"/>
          <a:ext cx="7315200" cy="2133360"/>
        </p:xfrm>
        <a:graphic>
          <a:graphicData uri="http://schemas.openxmlformats.org/drawingml/2006/table">
            <a:tbl>
              <a:tblPr/>
              <a:tblGrid>
                <a:gridCol w="2286000"/>
                <a:gridCol w="2514600"/>
                <a:gridCol w="2514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mp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g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ney Niemeyer (Cha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nth Palani (Vice Cha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Co L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or Owned Ut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n Weld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 McInty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ard Ill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 Zdenek </a:t>
                      </a: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 Alternative 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pendent Gen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Box 5"/>
          <p:cNvSpPr/>
          <p:nvPr/>
        </p:nvSpPr>
        <p:spPr>
          <a:xfrm>
            <a:off x="1295280" y="5562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** Addition to te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21:49Z</dcterms:created>
  <dc:creator>shensley</dc:creator>
  <dc:description/>
  <dc:language>en-US</dc:language>
  <cp:lastModifiedBy>shensley</cp:lastModifiedBy>
  <dcterms:modified xsi:type="dcterms:W3CDTF">2009-01-13T20:34:51Z</dcterms:modified>
  <cp:revision>3</cp:revision>
  <dc:subject/>
  <dc:title>Changes to Existing Standard Drafting Teams</dc:title>
</cp:coreProperties>
</file>