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863-A9F4-417D-AE2F-CEAD9229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246-BC7F-4664-87F7-72EE56E5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632-51C9-41BF-A122-8778F16A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0BC-4E44-462C-90A4-6EC9D4B9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6F5C-C842-489D-A1B4-DEEDF96F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CE06-F85D-4A14-9EEF-24BFAAD3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5DEB-CEBE-491D-B4A8-07C6325A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71CD-9C33-49BB-A5EB-E2A1CB3C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40AE-6BE7-42FF-8985-6AF59186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03DC-7C0A-4032-89FB-7EC02986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4C1D-962B-4408-B0E1-0583ECA8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8D8-7457-4798-9B4B-4A309C9E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1BF2-052A-4588-9AD5-D185CA22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3474-7E6D-40E2-BFD5-B293BA5F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DF7F-7DA9-494B-8D63-FBEE8289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4860-97B2-44BC-88C7-814FF056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7B55-4BAA-4CDA-8C9C-D537D0BF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A442-DD60-4D2D-898E-6F178C3B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432-4C80-4E14-9FD4-4A30689C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035-8B63-4FEB-8F01-B868B740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18E-6AF9-4EBD-AFD2-3150535A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4FF-CED9-45BA-B27A-9C765FE6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648-EED0-4672-95F9-5B6632CF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A7F-06DE-4BE2-AD67-051910C3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3C9F-D8AC-4161-A87B-A3C0239A8C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993B-DF3B-4249-9BE8-8413EE3E56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2008 ERCOT LaaRs CAPABILITY STUD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ed by ERCOT DW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UDY DUR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 study duration.  Required engineering people-hours &gt;&gt;&gt; Available engineering people-hou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intensive study.  Massive amount of work involved with preparing model data, planning simulations, running simulations, interpreting results, planning and running follow-up simu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WG engineering people-hours became scarce in 2008.  DWG composed of volunteers from TSPs within ERCOT.  DWG members experienced a significant shift in workloads within their companies during 2008.  In addition to normal transmission planning du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rge in generation interconnect stu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rge in industrial load facility interconnect stu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669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reliability stud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t some DWG expertise in 2008 due to promotion/reassignment of du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UDY RESUL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aking a decision on the maximum amount of LaaRs that can be reliably deployed via underfrequency relay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driver is how the LaaR relays are, or will be set in terms of frequency trip setting.  In gene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st allowable LaaR amounts correspond to scenarios where all LaaRs trip at the same frequ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LaaR amounts are allowable to varying degrees as LaaRs are spread out over a range of trip frequenc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econdary consideration is how the LaaRs are, or will be geographically distribu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6.10.3.2 of the ERCOT Protocols allow a LaaR to be deployed at up to 150% of the amount requested by ERCOT at the time of testing the LaaR.  This potential variance between contracted and actual LaaR amount should be considered when establishing LaaR lim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is point, the DWG seeks the following answers from ROS/TAC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the study conclusions pertaining to the 59.7 Hz tier sufficient for ROS/TAC decision mak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ing quantitative conclusions for the 59.8 Hz tie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still a need for higher tier Laa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so, we need to specify the following 59.7 Hz tier parameters for such analys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aR relay trip frequen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SzPct val="75000"/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aR lo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9:12:32Z</dcterms:created>
  <dc:creator>BTS</dc:creator>
  <dc:description/>
  <dc:language>en-US</dc:language>
  <cp:lastModifiedBy>BTS</cp:lastModifiedBy>
  <dcterms:modified xsi:type="dcterms:W3CDTF">2009-01-02T13:26:07Z</dcterms:modified>
  <cp:revision>8</cp:revision>
  <dc:subject/>
  <dc:title>Slide 1</dc:title>
</cp:coreProperties>
</file>