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441-C764-4FFE-A422-491D390A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6A6-3489-4E34-8CB9-904AE2A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7AF-FDBF-4761-AE4D-3675420D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4EF-5A33-41C8-8546-17C504D3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20D-BF41-475D-9B47-965FE1BA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F8E-2C70-4085-9C82-C9B7477F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6C7-63C0-427C-A83B-26C1239B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4F3-D647-42C3-A8CF-5D8C4138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FEA-C178-4874-BD6C-13C6C86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8B3-EDF9-4DA5-9868-EA74D5D7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AF2-EA64-4C4D-8B5E-F8671FA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809-B522-4D20-8B63-9D66DCB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9EBB-5854-4AB2-8EDA-B642AFE60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nuary 14, 2009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rd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8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523880"/>
          <a:ext cx="8381880" cy="5070240"/>
        </p:xfrm>
        <a:graphic>
          <a:graphicData uri="http://schemas.openxmlformats.org/drawingml/2006/table">
            <a:tbl>
              <a:tblPr/>
              <a:tblGrid>
                <a:gridCol w="2547360"/>
                <a:gridCol w="1492920"/>
                <a:gridCol w="1424520"/>
                <a:gridCol w="1492920"/>
                <a:gridCol w="1424160"/>
              </a:tblGrid>
              <a:tr h="3618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5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6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1,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8,4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,2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8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4,74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2,12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6,2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1,5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4,1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9,5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58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2,4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7,8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7,0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3,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,1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2,9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,6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4,2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6,4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523880"/>
          <a:ext cx="8152920" cy="4876560"/>
        </p:xfrm>
        <a:graphic>
          <a:graphicData uri="http://schemas.openxmlformats.org/drawingml/2006/table">
            <a:tbl>
              <a:tblPr/>
              <a:tblGrid>
                <a:gridCol w="2474640"/>
                <a:gridCol w="1455120"/>
                <a:gridCol w="1383840"/>
                <a:gridCol w="1454040"/>
                <a:gridCol w="1385280"/>
              </a:tblGrid>
              <a:tr h="3484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1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61,33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3,6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9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3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,6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3,9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3,0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41,5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43,6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35,7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39,2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1,42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96,2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7,8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89,0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8,7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2,0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28,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1,4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07,5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07,4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523880"/>
          <a:ext cx="8229600" cy="4952880"/>
        </p:xfrm>
        <a:graphic>
          <a:graphicData uri="http://schemas.openxmlformats.org/drawingml/2006/table">
            <a:tbl>
              <a:tblPr/>
              <a:tblGrid>
                <a:gridCol w="2293920"/>
                <a:gridCol w="1647720"/>
                <a:gridCol w="1284480"/>
                <a:gridCol w="1719360"/>
                <a:gridCol w="1284120"/>
              </a:tblGrid>
              <a:tr h="3538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5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3,9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,2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3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2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9,4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4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8,9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1,4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8,0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3,1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,6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,3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,9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3,9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5,1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4,0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4,96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3,9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,1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8,7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676520"/>
          <a:ext cx="8305560" cy="4800240"/>
        </p:xfrm>
        <a:graphic>
          <a:graphicData uri="http://schemas.openxmlformats.org/drawingml/2006/table">
            <a:tbl>
              <a:tblPr/>
              <a:tblGrid>
                <a:gridCol w="2474640"/>
                <a:gridCol w="1690920"/>
                <a:gridCol w="1384200"/>
                <a:gridCol w="1528920"/>
                <a:gridCol w="1226880"/>
              </a:tblGrid>
              <a:tr h="360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5,8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2,1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1,8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6,5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2,27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8,2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89,08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84,9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5,7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7,4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3,6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7,2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 ID Create/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2106720"/>
          <a:ext cx="8229600" cy="3531960"/>
        </p:xfrm>
        <a:graphic>
          <a:graphicData uri="http://schemas.openxmlformats.org/drawingml/2006/table">
            <a:tbl>
              <a:tblPr/>
              <a:tblGrid>
                <a:gridCol w="3576600"/>
                <a:gridCol w="2443320"/>
                <a:gridCol w="2209680"/>
              </a:tblGrid>
              <a:tr h="345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Create Receiv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0,0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Create S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,8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Maintain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277,0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Maintain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287,1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9-01-07T19:22:30Z</dcterms:modified>
  <cp:revision>435</cp:revision>
  <dc:subject/>
  <dc:title>PowerPoint Presentation</dc:title>
</cp:coreProperties>
</file>