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C3E9997-FBCF-474C-9393-736FFA61B6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6E474C7-CD1A-4C66-9921-91B1420CAD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D43F0B-11D0-450D-874B-5DD1E9CCD35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D1115B9-6D13-420C-9265-39B005CB1D5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78C9A3D-C3C1-4F4D-AADE-5020EEA7AD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9497C89-2D9B-4903-88BC-2ECB3DBAC3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781E823-3D94-47D2-AA69-E5207EBFFE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E4B9475-257E-4A79-B363-E72AC44483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8320" y="687240"/>
            <a:ext cx="4592520" cy="3445200"/>
          </a:xfrm>
          <a:prstGeom prst="rect">
            <a:avLst/>
          </a:prstGeom>
          <a:ln w="0">
            <a:noFill/>
          </a:ln>
        </p:spPr>
      </p:sp>
      <p:sp>
        <p:nvSpPr>
          <p:cNvPr id="10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EFB9D8-900E-44A5-8694-766D26A3CF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38320" y="687240"/>
            <a:ext cx="4592520" cy="3445200"/>
          </a:xfrm>
          <a:prstGeom prst="rect">
            <a:avLst/>
          </a:prstGeom>
          <a:ln w="0">
            <a:noFill/>
          </a:ln>
        </p:spPr>
      </p:sp>
      <p:sp>
        <p:nvSpPr>
          <p:cNvPr id="10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C31B203-70B7-423E-A17F-2069F9ADC8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E24FB-64C6-4FD7-951E-178638918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974B4-2900-4432-B402-BF868892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E3711-4B44-4EB3-959B-5B53C6449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DCB71-C32D-459C-914A-D679C93B2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93870-9891-4806-9226-A7BEA2F14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7D2C1-30D9-478F-9EB3-2CA935A43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8D3E7-B03E-48EE-B569-298DCE679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E0A34-BBB7-437E-8938-4E70619EA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1C6C-CA9D-43E3-95E0-78131BC3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2365-7BB4-4CC5-A7E3-9D693081D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AFC9-32A0-4D6E-8786-3C252DEF5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9E6C-2C79-4F3C-9187-F316A1B52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B80E-B624-4832-B7B5-77C97357796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6C32-D588-4320-9AB2-888E4F1B563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14, 2009</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ADB2-6202-4661-BB94-97ADA470F36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4920"/>
            <a:ext cx="8610840" cy="4953240"/>
          </a:xfrm>
          <a:prstGeom prst="rect">
            <a:avLst/>
          </a:prstGeom>
          <a:noFill/>
          <a:ln w="0">
            <a:noFill/>
          </a:ln>
        </p:spPr>
        <p:txBody>
          <a:bodyPr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ed Officers 2009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ERCOT System Outages and failur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SCR750 and feedback</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merger of Market Metrics Work group activiti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plans to meet face to face quarterly</a:t>
            </a:r>
            <a:endParaRPr b="0" lang="en-US" sz="24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58" name=""/>
          <p:cNvSpPr txBox="1"/>
          <p:nvPr/>
        </p:nvSpPr>
        <p:spPr>
          <a:xfrm>
            <a:off x="457200" y="15238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Elected Chair and Vice Chair 2009</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air: Johnny Robertson – TXU Energ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ce Chair: Annette Morton - AEP</a:t>
            </a:r>
            <a:endParaRPr b="0" lang="en-US" sz="18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1DA1-D733-4392-BC85-BD7FB60A9EB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49BC-9A47-46EF-8169-8F8FC495BF0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228600" y="1599840"/>
            <a:ext cx="8610480" cy="4876920"/>
          </a:xfrm>
          <a:prstGeom prst="rect">
            <a:avLst/>
          </a:prstGeom>
          <a:noFill/>
          <a:ln w="0">
            <a:noFill/>
          </a:ln>
        </p:spPr>
        <p:txBody>
          <a:bodyPr anchor="t">
            <a:normAutofit/>
          </a:bodyPr>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1" lang="en-US" sz="2000" spc="-1" strike="noStrike">
                <a:solidFill>
                  <a:srgbClr val="000000"/>
                </a:solidFill>
                <a:latin typeface="Arial"/>
              </a:rPr>
              <a:t>Continued working with the ERCOT Manager of Operations to address each system incident. </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 Ebbers reviewed the summary and detail pages of the </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ident log. In response to a question, Tim indicated that December MarkeTrak incidents were in general a part of the Release stabilization.</a:t>
            </a:r>
            <a:endParaRPr b="0" lang="en-US" sz="2000" spc="-1" strike="noStrike">
              <a:solidFill>
                <a:srgbClr val="000000"/>
              </a:solidFill>
              <a:latin typeface="Arial"/>
            </a:endParaRPr>
          </a:p>
          <a:p>
            <a:pPr marL="514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endParaRPr b="1" lang="en-US" sz="40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5" name=""/>
          <p:cNvSpPr txBox="1"/>
          <p:nvPr/>
        </p:nvSpPr>
        <p:spPr>
          <a:xfrm>
            <a:off x="457200" y="1447920"/>
            <a:ext cx="8229600" cy="4525920"/>
          </a:xfrm>
          <a:prstGeom prst="rect">
            <a:avLst/>
          </a:prstGeom>
          <a:noFill/>
          <a:ln w="0">
            <a:noFill/>
          </a:ln>
        </p:spPr>
        <p:txBody>
          <a:bodyPr anchor="t">
            <a:normAutofit fontScale="99000"/>
          </a:bodyPr>
          <a:p>
            <a:pPr marL="452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iscuss Proposed changes to SCR750.</a:t>
            </a:r>
            <a:endParaRPr b="0" lang="en-US" sz="2400" spc="-1" strike="noStrike">
              <a:solidFill>
                <a:srgbClr val="000000"/>
              </a:solidFill>
              <a:latin typeface="Arial"/>
            </a:endParaRPr>
          </a:p>
          <a:p>
            <a:pPr marL="452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yle Miller indicated that although initial findings from CenterPoint’s testing of IE 7.n with ERCOT applications were successful; there were still some problems. So he recommended we proceed with SCR750.</a:t>
            </a:r>
            <a:endParaRPr b="0" lang="en-US" sz="2000" spc="-1" strike="noStrike">
              <a:solidFill>
                <a:srgbClr val="000000"/>
              </a:solidFill>
              <a:latin typeface="Arial"/>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Based upon TDTWG discussion in December, consensus was reached that comments should be submitted to reword SCR750 to eliminate specific version numbers of browsers, list specific browsers that ERCOT should support, and indicate a timeframe when ERCOT will be able to support specified browsers (i.e. 6 months after current browser release). Kyle Miller agreed to submit comments on behalf of TDTWG.</a:t>
            </a:r>
            <a:endParaRPr b="0" lang="en-US" sz="2000" spc="-1" strike="noStrike">
              <a:solidFill>
                <a:srgbClr val="000000"/>
              </a:solidFill>
              <a:latin typeface="Arial"/>
            </a:endParaRPr>
          </a:p>
          <a:p>
            <a:pPr marL="452520" indent="-45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3491-B927-4861-A2E8-BC78CD3BD42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5A67-9BA5-48EB-9D56-09754F722CA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69"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4000" spc="-1" strike="noStrike">
                <a:solidFill>
                  <a:srgbClr val="000000"/>
                </a:solidFill>
                <a:latin typeface="Arial"/>
              </a:rPr>
              <a:t>4. </a:t>
            </a:r>
            <a:r>
              <a:rPr b="1" lang="en-US" sz="2400" spc="-1" strike="noStrike">
                <a:solidFill>
                  <a:srgbClr val="000000"/>
                </a:solidFill>
                <a:latin typeface="Arial"/>
              </a:rPr>
              <a:t>Discussed possible review of Qrtly Market Metrics reports at TDTWG, March 4</a:t>
            </a:r>
            <a:r>
              <a:rPr b="1" lang="en-US" sz="2400" spc="-1" strike="noStrike" baseline="30000">
                <a:solidFill>
                  <a:srgbClr val="000000"/>
                </a:solidFill>
                <a:latin typeface="Arial"/>
              </a:rPr>
              <a:t>th</a:t>
            </a:r>
            <a:r>
              <a:rPr b="1" lang="en-US" sz="2400" spc="-1" strike="noStrike">
                <a:solidFill>
                  <a:srgbClr val="000000"/>
                </a:solidFill>
                <a:latin typeface="Arial"/>
              </a:rPr>
              <a:t>, EOY 2008.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combining TDTWG and MMWG responsibilities.</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tained new working group name: Texas Data Transport and Reporting Working Group – TDTRWG.</a:t>
            </a:r>
            <a:endParaRPr b="0" lang="en-US" sz="24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9EB9-DF2C-427F-A57A-0D9B2B6349E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72"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2800" spc="-1" strike="noStrike">
                <a:solidFill>
                  <a:srgbClr val="000000"/>
                </a:solidFill>
                <a:latin typeface="Arial"/>
              </a:rPr>
              <a:t>5. TDTWG plans to meet face-to-face quarterly after Market Metric Reports and System Outages are available.</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other months, TDTWG will review System Outages, status of SCR750, and new items via conference calls.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face-to-face meetings will be scheduled, as necessary.</a:t>
            </a:r>
            <a:endParaRPr b="0" lang="en-US" sz="2800" spc="-1" strike="noStrike">
              <a:solidFill>
                <a:srgbClr val="000000"/>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0BFD-FF40-4552-B2D1-2A7931DC94B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1294920"/>
            <a:ext cx="82296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400"/>
            </a:br>
            <a:br>
              <a:rPr sz="2400"/>
            </a:br>
            <a:endParaRPr b="0" lang="en-US" sz="3200" spc="-1" strike="noStrike">
              <a:solidFill>
                <a:srgbClr val="000000"/>
              </a:solidFill>
              <a:latin typeface="Arial"/>
            </a:endParaRPr>
          </a:p>
        </p:txBody>
      </p:sp>
      <p:sp>
        <p:nvSpPr>
          <p:cNvPr id="75" name="Rectangle 5"/>
          <p:cNvSpPr/>
          <p:nvPr/>
        </p:nvSpPr>
        <p:spPr>
          <a:xfrm>
            <a:off x="457200" y="1295280"/>
            <a:ext cx="82296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DTWG Follow-up item:</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800" spc="-1" strike="noStrike">
                <a:solidFill>
                  <a:srgbClr val="000000"/>
                </a:solidFill>
                <a:latin typeface="Times New Roman"/>
              </a:rPr>
              <a:t>Reminder Note from TDTWG December mtg: A full test of the Disaster Recovery system is scheduled to be tested in 2009 (related to incident of 10/30/08).</a:t>
            </a:r>
            <a:endParaRPr b="1" lang="en-US" sz="18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800" spc="-1" strike="noStrike">
                <a:solidFill>
                  <a:srgbClr val="000000"/>
                </a:solidFill>
                <a:latin typeface="Times New Roman"/>
              </a:rPr>
              <a:t>TAC Recommendation on closing both ERCOT PR 60006_01, and pended ERCOT PR 60006_02 associated with SCR 745.</a:t>
            </a:r>
            <a:endParaRPr b="1" lang="en-US" sz="1800" spc="-1" strike="noStrike">
              <a:solidFill>
                <a:srgbClr val="000000"/>
              </a:solidFill>
              <a:latin typeface="Times New Roman"/>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ADF1-A234-4D1F-9AD7-B3464492056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7"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br>
              <a:rPr sz="4000"/>
            </a:br>
            <a:br>
              <a:rPr sz="4000"/>
            </a:br>
            <a:br>
              <a:rPr sz="4000"/>
            </a:br>
            <a:br>
              <a:rPr sz="2000"/>
            </a:br>
            <a:br>
              <a:rPr sz="2000"/>
            </a:br>
            <a:endParaRPr b="0" lang="en-US" sz="40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Registered User</cp:lastModifiedBy>
  <cp:lastPrinted>2002-09-24T18:27:58Z</cp:lastPrinted>
  <dcterms:modified xsi:type="dcterms:W3CDTF">2009-01-08T17:48:21Z</dcterms:modified>
  <cp:revision>555</cp:revision>
  <dc:subject/>
  <dc:title>PowerPoint Presentation</dc:title>
</cp:coreProperties>
</file>