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cy FB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0D4F-59DA-4E05-BB14-F3048040E7A4}" type="slidenum">
              <a:rPr b="0" lang="en-US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CE64-974A-4D17-A0AA-DE92EACBD1F5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D0E7-276C-4418-8A68-5F242902D48C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CBDC-6EFC-4DB3-809E-8B7A49078DAE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4149-ABD2-48D9-812F-B941AC09FB94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DFA8-F2F3-418B-BAE7-A0E367AC1978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0BD2-C18D-4097-B19D-8BF2EEDF6149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F1D-91A8-46FE-BE29-61AAEBEA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FD4-8555-44AC-82ED-A2A683F0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55E7-B16F-47DC-B347-31A80107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46E-26FD-4ED8-9D1F-089693A1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6D9-2C05-4B0D-99D3-0D32F913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43E-A082-4CF2-A262-1E4D02A0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BE8-363A-42EC-A2BD-078E533A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A4E-4BF8-4490-A5ED-7A3CAFD2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C4D-6315-408D-837A-114D17DC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7C7-3F4B-4D6F-A533-7454687D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A852-431B-4183-B50E-71EF5DC6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82D-729C-41CB-ADCB-B389DA18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EA6B-170B-4B63-9C47-29DDB87EB26F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3C8A-4CAC-43A8-AFCA-ACDB907A7631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Agency FB"/>
              </a:rPr>
              <a:t>2008 Accomplishments and </a:t>
            </a:r>
            <a:br>
              <a:rPr sz="5400"/>
            </a:br>
            <a:r>
              <a:rPr b="1" lang="en-US" sz="5400" spc="-1" strike="noStrike">
                <a:solidFill>
                  <a:srgbClr val="ffc000"/>
                </a:solidFill>
                <a:latin typeface="Agency FB"/>
              </a:rPr>
              <a:t>2009 Goals</a:t>
            </a:r>
            <a:br>
              <a:rPr sz="5100"/>
            </a:br>
            <a:endParaRPr b="0" lang="en-US" sz="5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2819520" y="685800"/>
            <a:ext cx="3581280" cy="24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Oval 27"/>
          <p:cNvSpPr/>
          <p:nvPr/>
        </p:nvSpPr>
        <p:spPr>
          <a:xfrm>
            <a:off x="3251160" y="685800"/>
            <a:ext cx="2733840" cy="24321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2" name="AutoShape 28"/>
          <p:cNvSpPr/>
          <p:nvPr/>
        </p:nvSpPr>
        <p:spPr>
          <a:xfrm>
            <a:off x="3424320" y="785880"/>
            <a:ext cx="2371680" cy="194292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3" name="WordArt 30"/>
          <p:cNvSpPr txBox="1"/>
          <p:nvPr/>
        </p:nvSpPr>
        <p:spPr>
          <a:xfrm>
            <a:off x="2819520" y="1143000"/>
            <a:ext cx="3581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000"/>
                </a:solidFill>
                <a:effectLst>
                  <a:outerShdw dist="38160" dir="5400000" blurRad="0" rotWithShape="0">
                    <a:srgbClr val="c0c0c0"/>
                  </a:outerShdw>
                </a:effectLst>
                <a:latin typeface="Niagara Solid"/>
              </a:rPr>
              <a:t>TX SET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000"/>
              </a:solidFill>
              <a:effectLst>
                <a:outerShdw dist="38160" dir="5400000" blurRad="0" rotWithShape="0">
                  <a:srgbClr val="c0c0c0"/>
                </a:outerShdw>
              </a:effectLst>
              <a:latin typeface="Niagara Solid"/>
              <a:ea typeface="Niagara Soli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FCB6-3156-441A-BB21-507AED7F9323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gency FB"/>
                <a:ea typeface="Lucida Sans Unicode"/>
              </a:rPr>
              <a:t>Analyzed new PUCT Rules and 17 “Issues“ submitted to TX SET by various stakeholders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gency FB"/>
                <a:ea typeface="Lucida Sans Unicode"/>
              </a:rPr>
              <a:t>Assessed impacts to retail transactions and business processes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gency FB"/>
                <a:ea typeface="Lucida Sans Unicode"/>
              </a:rPr>
              <a:t>Submitted </a:t>
            </a: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9 Retail Market Guide Revision Requests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Submitted 1 PRR (PRR 782 – Pending)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Revised the Solution to Stacking Document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pproved 9 TX </a:t>
            </a:r>
            <a:r>
              <a:rPr b="1" lang="en-US" sz="3200" spc="-1" strike="noStrike">
                <a:solidFill>
                  <a:srgbClr val="f2f2f2"/>
                </a:solidFill>
                <a:latin typeface="Agency FB"/>
                <a:ea typeface="Lucida Sans Unicode"/>
              </a:rPr>
              <a:t>SET Change Controls for Future Release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gency FB"/>
                <a:ea typeface="Lucida Sans Unicode"/>
              </a:rPr>
              <a:t>Declined to Schedule a Future TX SET Version Release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Agency FB"/>
              </a:rPr>
              <a:t>TX SET 2008 Accomplishments  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CC11-AAC3-438F-BC97-C0953E132C1E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Submitted the Following Retail Market Guide Revision Requests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MGRR061 – POLR to POLR Transfer Process (Rejected)</a:t>
            </a:r>
            <a:endParaRPr b="0" lang="en-US" sz="2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MGRR063 – Mass Transition Lessons Learned (Approved)</a:t>
            </a:r>
            <a:endParaRPr b="0" lang="en-US" sz="2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MGRR064 – Correction of Leapfrog Process Logic (A)</a:t>
            </a:r>
            <a:endParaRPr b="0" lang="en-US" sz="2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MGRR065 – Updates to DNP Process (A)</a:t>
            </a:r>
            <a:endParaRPr b="0" lang="en-US" sz="2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MGRR066 – Updates to Safety-Net Move-in Process (A)</a:t>
            </a:r>
            <a:endParaRPr b="0" lang="en-US" sz="2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MGRR068 – Out-Flow Power for DRG (A)</a:t>
            </a:r>
            <a:endParaRPr b="0" lang="en-US" sz="2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MGRR069 – Updates to Section 7 (Historical Usage and Estimated Meter Reads) and Section 9 (Transaction Timing Matrix and Letter of Authorization) (A)</a:t>
            </a:r>
            <a:endParaRPr b="0" lang="en-US" sz="2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MGRR070 – Eliminate Weekly Retail Market Conf. Calls </a:t>
            </a:r>
            <a:endParaRPr b="0" lang="en-US" sz="2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MGRR071 – Expedite Stakeholder Process  for Changes with No  Impact  to ERCOT</a:t>
            </a:r>
            <a:endParaRPr b="0" lang="en-US" sz="2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Agency FB"/>
              </a:rPr>
              <a:t>TX SET 2008 Accomplishments  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0643-2AF6-4ED0-AF5E-745F41EAE262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cquisition Task Force: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5000"/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Provided both a Short Term and Long Term Recommended Solution to RMS for processes to expeditiously transfer large numbers of customers from one REP to another, as required by PUCT Subst. R. </a:t>
            </a: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§25.493.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dvanced Metering Implementation Team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(PUCT Project 34610)</a:t>
            </a: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5000"/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Provided an assessment to AMIT of the business requirements for the Retail Market Interface Project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be00"/>
                </a:solidFill>
                <a:latin typeface="Agency FB"/>
              </a:rPr>
              <a:t>TX SET 2008 Accomplishments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D70E-657A-430D-8B5E-CB0C3BEF2D32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gency FB"/>
            </a:endParaRPr>
          </a:p>
          <a:p>
            <a:pPr marL="315360" indent="-315360">
              <a:lnSpc>
                <a:spcPct val="90000"/>
              </a:lnSpc>
              <a:spcBef>
                <a:spcPts val="850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nalyze Issues as they are presented to TX SET to determine if there is a Market need for another TX SET Release based on Market issues and/or approved PUCT Rule requirements</a:t>
            </a:r>
            <a:endParaRPr b="0" lang="en-US" sz="3400" spc="-1" strike="noStrike">
              <a:solidFill>
                <a:srgbClr val="ffffff"/>
              </a:solidFill>
              <a:latin typeface="Agency FB"/>
            </a:endParaRPr>
          </a:p>
          <a:p>
            <a:pPr marL="315360" indent="-315360">
              <a:lnSpc>
                <a:spcPct val="90000"/>
              </a:lnSpc>
              <a:spcBef>
                <a:spcPts val="850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Evaluate upcoming Rulemakings and determine their Transactional and Market impacts to current processes</a:t>
            </a:r>
            <a:endParaRPr b="0" lang="en-US" sz="3400" spc="-1" strike="noStrike">
              <a:solidFill>
                <a:srgbClr val="ffffff"/>
              </a:solidFill>
              <a:latin typeface="Agency FB"/>
            </a:endParaRPr>
          </a:p>
          <a:p>
            <a:pPr marL="315360" indent="-315360">
              <a:lnSpc>
                <a:spcPct val="90000"/>
              </a:lnSpc>
              <a:spcBef>
                <a:spcPts val="850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Improve usability of TX SET EDI Examples by removing them from the Implementation Guides</a:t>
            </a:r>
            <a:endParaRPr b="0" lang="en-US" sz="3400" spc="-1" strike="noStrike">
              <a:solidFill>
                <a:srgbClr val="ffffff"/>
              </a:solidFill>
              <a:latin typeface="Agency FB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be00"/>
                </a:solidFill>
                <a:latin typeface="Agency FB"/>
              </a:rPr>
              <a:t>TX SET 2009 Goals 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924F-5018-44BD-BFAD-042014072116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Update Protocols and Retail Market Guide when and where necessary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maintain and update the Stacking documentation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be involved with all market participants and market meetings to provide assistance and TX SET expertise where needed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SzPct val="75000"/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lways encourage all market participants to attend and participate in TX SET meetings and workshops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Agency FB"/>
              </a:rPr>
              <a:t>TX SET 2009 Goals 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20:37:34Z</dcterms:created>
  <dc:creator>kpatrick</dc:creator>
  <dc:description/>
  <dc:language>en-US</dc:language>
  <cp:lastModifiedBy>rob.bevill</cp:lastModifiedBy>
  <dcterms:modified xsi:type="dcterms:W3CDTF">2008-12-19T22:56:46Z</dcterms:modified>
  <cp:revision>102</cp:revision>
  <dc:subject/>
  <dc:title>PowerPoint Presentation</dc:title>
</cp:coreProperties>
</file>