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7B62-4642-4EB5-8D01-EC1B5AAA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748-7BEA-4775-B7CD-4562CA0E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655E-C1DB-4730-AE6E-B8767C9E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6B28-FB50-4ED0-8CC0-2491A03D5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32EA-D34F-422D-A294-6ECD1193D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B03C-289B-4C04-A5E6-BB78C5175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0C98-EBDF-4D0E-86C6-97D183816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C341-882C-4DCA-8A82-502B86916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0185-2483-475E-BB49-BA1A47EBF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3D5B-ADD4-4E63-BE5C-FA48E14CC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3434-B829-4D6C-8157-71C36F649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1B53-8EFF-475F-BD5E-8ABCCCF55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F5F3-0969-4A72-A847-EAB566B80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EEDE-E56F-4FA2-B4B5-BD82EC72C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ADEA-7997-4736-91F8-7432C9940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1E4-D8FE-4F35-BFB1-ADC4E441C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AF27-1A12-4B98-A83C-718646C7F5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etail Market Subcommitt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anuary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ecember performance was 100%. Overall performance in 2008 was 99.47%, and while below the target of  99.9%, was better than that of 2007 (99.11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,  TML Report Explorer, Retail API and Wholesale Tot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December performance was at 100%. 2008 performance was above the service level tar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r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December performance was 99.48%. December as well as 2008 performances were above service level targe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35120" y="762120"/>
            <a:ext cx="7646760" cy="53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724120" y="2057400"/>
          <a:ext cx="2457360" cy="330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2057400"/>
                    <a:ext cx="245736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362400" y="1905120"/>
          <a:ext cx="2428920" cy="346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1905120"/>
                    <a:ext cx="242892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371760" y="3057480"/>
            <a:ext cx="5335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5040" y="3009960"/>
            <a:ext cx="53352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62400" y="3267000"/>
            <a:ext cx="53316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3228840"/>
            <a:ext cx="53352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200240"/>
            <a:ext cx="22860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0666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07 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1447920" cy="59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760" y="866880"/>
          <a:ext cx="331920" cy="1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760" y="866880"/>
                    <a:ext cx="3319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80880" y="838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LA Ex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33520" y="941400"/>
            <a:ext cx="81198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09480" y="770040"/>
            <a:ext cx="792504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7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843120" y="838080"/>
            <a:ext cx="753876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1-08T22:20:39Z</dcterms:modified>
  <cp:revision>243</cp:revision>
  <dc:subject/>
  <dc:title>Instructions</dc:title>
</cp:coreProperties>
</file>