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ftr" idx="3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 type="sldNum" idx="4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C68A-F4CB-4645-B736-2C206D19B8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6C23-1C40-426C-B7E3-E7274668B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1367A-0FF9-4BEE-BB6A-4A4390996A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E839B-0F3B-4653-B512-312E0C5288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85EE9-6C03-4A19-BBBF-273F477967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79587-F07D-48E6-9B4A-57BDC4E973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EE712-B0E4-4E08-8F02-FD5D504AFE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8CA40-F987-4BDE-A5F1-207C2248FF8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307D8-4EF5-42B7-BC26-10E50406C99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058E4-4763-4006-B629-2D38EE17AD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597EB-F9ED-4937-A631-5E252DA861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DF7C2-94A7-4AD9-9489-2EAB14F2B0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9DE3F-2C8F-4DED-A2E0-8294274613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8128A-3384-40AD-BE06-4376337F30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7511-BB45-4E22-937B-4EC5D2C38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uary 14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C306DBB1-CB02-4A93-B644-002A92C8D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uary 14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40CC6A0D-B056-4069-84D9-36000FADA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uary 14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08E422F7-6254-4DA4-A142-FCCF27402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hparrish@ercot.com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167616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RO Projects Financial Overview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Retail Market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January 14, 2009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Hope Parrish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Market Operations Division Projects Organ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990720" y="2971800"/>
            <a:ext cx="716256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991720" cy="5943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57200" y="1522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9 RO PPL – Approved funding $3.45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5314"/>
          <p:cNvSpPr/>
          <p:nvPr/>
        </p:nvSpPr>
        <p:spPr>
          <a:xfrm>
            <a:off x="1523880" y="1522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9 Projects in Exec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763120" cy="30477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57200" y="411480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70007_01:  MarkeTrak Release 4 scheduled for Go-Live on 01/24/200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9 Projects in Plann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6320" y="762120"/>
            <a:ext cx="8962920" cy="25905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57200" y="3809880"/>
            <a:ext cx="746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80040_01:  Moving to Execution on 01/23/200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9 Projects Not Start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04920" y="885960"/>
            <a:ext cx="8686800" cy="20858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80880" y="3505320"/>
            <a:ext cx="84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80031_01:  Targeting to Initiate in January to begin analys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9 Projects Not fund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686800" cy="11458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80880" y="281952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ject was deferred due to Nodal Del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l Overview as of 12/31/2008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52280" y="762120"/>
          <a:ext cx="8763120" cy="4965480"/>
        </p:xfrm>
        <a:graphic>
          <a:graphicData uri="http://schemas.openxmlformats.org/drawingml/2006/table">
            <a:tbl>
              <a:tblPr/>
              <a:tblGrid>
                <a:gridCol w="2629080"/>
                <a:gridCol w="1035000"/>
                <a:gridCol w="5099040"/>
              </a:tblGrid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 PPL Budget Activit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/commen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2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RO Capability Line Budget Fund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.63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 approved RO funding alloc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ates where the capability line fall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27M Released due to deferred projects (Originally $6.1M Approved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K Transferred to MO to cover the AMIT Study.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$2.58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d on current expectations and run rates for active and not started projects above the capability line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$1.05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 is difference between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 Capability Line Budget Funding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nce attributed to projects deferred to future year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/ Cont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533520" y="1371600"/>
            <a:ext cx="82296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e Parr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, MO DP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Operations Divisional Projects Organ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652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parrish@erco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hsatterfield</cp:lastModifiedBy>
  <dcterms:modified xsi:type="dcterms:W3CDTF">2009-01-13T20:13:33Z</dcterms:modified>
  <cp:revision>434</cp:revision>
  <dc:subject/>
  <dc:title>Role of Account Management at ERCOT</dc:title>
</cp:coreProperties>
</file>