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3C4CD-BC82-4581-9869-A5BD7B4EC5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1B76-0374-42B6-B420-9A61DF57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FBF4-BBE5-46FF-9F1A-7D9DFD06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8EBD-C1BA-4158-B261-F1DA259D45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EB6-4F0F-435C-8530-9B90C7D1FC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55D-0364-42B7-92ED-A854121B0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4B0-587C-4B1B-A0E1-0528D76CD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9A2-55FB-4BC4-8D2C-91AC798543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2FD-D932-4224-A121-51F0835E81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2F4-83A3-4EBE-BA5C-023342CF9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36E-686D-43F1-9B89-7B566ADE6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8BEA-BD56-4662-AA02-C72D125E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E84-5630-4424-8870-D44FD08E7F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9F52-92CD-4B30-9645-EC4A93ABB9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63E2-F016-4890-81BD-CF8B573B3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7CE-D07E-4071-8E85-46EC294487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A6B-0CA2-4A85-BD94-7AE9F4CD2B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1F82E-BBA6-460C-88E5-DD0E7EBCE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5E150-669C-4BF2-B937-DD0F6C7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E0EFA-6665-496B-99AA-8D5675AF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35283-CE1D-4041-A653-8CCF2A89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0407-AE81-4B87-9E0C-D2152E6D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13B5-78CA-41EF-8F7F-861E0BCD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2BEA5-CAE9-416A-B7CD-B5665C74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DA788-5C27-40F0-923E-2FCC6CA0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D32C1-3A22-4525-875D-BE8E7C95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2BCD6-64F3-40D4-A9EF-2D2549A6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D979E-C032-416F-AE06-014FA1D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5E030-5242-451F-B1DE-28790E68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C505C-4F2F-48D9-9873-B5D2F48BDF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5D40-0769-412F-A039-95A3C74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9CF69-37AD-49F0-929C-2200F470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DBBE-A50A-4B87-8281-597FF603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361FD-9625-4251-BF3F-0A3F9E16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9E54-2852-4AC2-BD89-6F2BDEDF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708DE-3B0A-4E9D-A7B5-7B6C7E3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C0DC-AE0E-465B-9DE0-5E4F37CA4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1114-248B-452E-B944-4CA6B6505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8ADD-9854-4A95-BCC9-FFE0E2B277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nuary 13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B8BE-C883-45BC-8DAA-22EDCA9DC1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Updated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ranked by Target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62960" cy="41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97C8-F999-48D5-865D-CD3781A43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omplishments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828800"/>
            <a:ext cx="81532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d Renewable Generation (DRG) Load Profiles built for effective date 1/1/2009 (LPGRR027, PRR736, PRR755 withdrawn and PRR756, LPGRR030, LPGRR031 approv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nd 2 sample load research meters Installed by July 31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and Response activity was placed on hold (PRR736 and LPGRR0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of Use Language revised (LPGRR029 and PRR76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FE 2007 Report and Hurricane UFE discu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report of Hurricane Ike and Edou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Accura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 Validation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790 Load Profile ID Annual Validation Change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789 Removal of Grey Box Langu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2 to support the 15-minute interim solution for settlement with advanced 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CCA4-CF31-493C-BE3A-BB03FAF21E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32920" cy="3797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the COPS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F499-00E5-415F-B95E-629B67F4C4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1371600"/>
            <a:ext cx="76960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PGRR0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le Decision Tree Changes for Advanced Me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Verdana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WG requests the following mo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at COPS recommend to the TAC approval of LPGRR032 with Normal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ttp://www.ercot.com/mktrules/issues/lpgrr/025-049/032/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B567-2DE3-4CD6-AC3B-E19B769915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1752480"/>
            <a:ext cx="838188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R789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moval of Grey Box Language Related to Lagged Dynamics Load Profiling Due to Unfunded Projec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R790 </a:t>
            </a: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oad Profile ID Annual Validation Change Reque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es COPS wish to make Recommend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559F-1593-4013-9FB3-C536937F4E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. 28 and perhaps the fourth Wednesday of the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B7AF-2F0A-45DE-A84F-C6400463A7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8-12-22T17:25:12Z</dcterms:modified>
  <cp:revision>331</cp:revision>
  <dc:subject/>
  <dc:title>PowerPoint Presentation</dc:title>
</cp:coreProperties>
</file>