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2DD538BD-BAEB-4272-AA8C-5BCE05422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ember 8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dal.ercot.com/about/news/2008/0118a.html" TargetMode="External"/><Relationship Id="rId2" Type="http://schemas.openxmlformats.org/officeDocument/2006/relationships/hyperlink" Target="http://nodal.ercot.com/readiness/reports/index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odal.ercot.com/readiness/reports/si/kd/mock_dam_settlement_examples.zip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807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Nodal COMS Updat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mmercial Operations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January 13, 2009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lay Katskee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ERCOT - 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0379F72-9A05-4E40-95DD-ED486BE07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S Remaining Software Release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utes API Discu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B4F911D-A684-47CE-A78F-833598DB7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S Project: S&amp;B and Data Aggreg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610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&amp;B and Data Aggreg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destar Outstanding code (to date):  S&amp;B/Data Aggregation source reports (not extracts), Memory workaround, additional error handling and performance tu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I Outstanding code (to date):  Long Day/Short Day, remaining BDs, MMS4P7 and MMS5 refacto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testing CSI 5.4 and 6.1 with CMM and 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ST refresh scheduled for March - will add some time to the validation of CSI 7.0.  Continue to work towards synchronized data sets required for end to end tes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B8C78FF-1E7C-4171-B705-991FD7A75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S Project: Registration and Disput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5471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ration and Disputes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 In Prog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Phase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Refactoring Changes (MMS, MPIM, Dispute API and changes necessary for other Integration Interfac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internal Test Scheduled:  02/02/2009 – 04/17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March Release due to iTEST Environment refres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king COPS recommendation for timeline to conduct Dispute API Certification Tes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COT recommendation to perform Q4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t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Allow time for ERCOT environment and data prep, MP set up (DC roles, etc.), time for MPs to ensure systems are read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oughts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4C02E0D-8FFA-4403-A488-8BF4D0C53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S Project: Credit Monitoring and Mgm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M 4.1 – schedu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ed weekly drops from Vendor to ERCOT starting 01/16/2009 to maintain testing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 Management of the internal Interface and application (screens, workflows, parameter adjust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standing code to date – Internal reports (4.2) and upgrade to latest software version of ROME5.0 (4.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M 3.1 FAT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 Functionality (Calculations, ACL, and ACL file post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M3.1 Integration Testing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interface testing with CMM will be completed with CSI 6.1 and 6.3 test cy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and ERCOT Turnover resulted in delays to finalization of detailed analysis and designs of the internal custom management functions of 4.1 – New Triplepoint Services Manager and Project Manager have been assigned lead this effort to comple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57200" y="1066680"/>
          <a:ext cx="8229600" cy="4362480"/>
        </p:xfrm>
        <a:graphic>
          <a:graphicData uri="http://schemas.openxmlformats.org/drawingml/2006/table">
            <a:tbl>
              <a:tblPr/>
              <a:tblGrid>
                <a:gridCol w="762120"/>
                <a:gridCol w="1143000"/>
                <a:gridCol w="5029200"/>
                <a:gridCol w="1295280"/>
              </a:tblGrid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6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/DI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S REG5/DISP3:  Refactoring and Disputes API – iTEST Comple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date due to iTEST refresh scheduled for Mar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7 09 (new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Agg Core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estar Bundle for Data Aggregation Re-Write (Initial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19 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I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Systems Integration with S&amp;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3 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I6.3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Systems Integration with CM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3 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I7.0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Systems Integration Refactoring - MMS 5 S&amp;B/CMM Long Day-Short Da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7 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hedule Information for COM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maining Software Releaas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A3262973-F668-401F-BED8-2763D1E34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E4C4785-F74A-4E2F-97E6-CD5033F52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Readiness Cente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Reports, DDLs, and XSD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19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493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Reports Readiness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Nodal Data Services Master List (NDSML) is updated each Friday with the latest information.  It is located at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odal.ercot.com/about/news/2008/0118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site will be updated each Friday with the latest extract &amp; report specifications and DDLs and XSDs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odal.ercot.com/readiness/reports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 noted at TPTF, currently in progress on updating the NDSML with all report status (Build, Test, Post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F9E80CCC-C426-4DE4-A122-74441254B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Readiness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Standard &amp; Mock Statements and Invoic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0" y="19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493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990720"/>
          <a:ext cx="8229600" cy="4600440"/>
        </p:xfrm>
        <a:graphic>
          <a:graphicData uri="http://schemas.openxmlformats.org/drawingml/2006/table">
            <a:tbl>
              <a:tblPr/>
              <a:tblGrid>
                <a:gridCol w="2971800"/>
                <a:gridCol w="52578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ck CARD Invoice and Ex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http://nodal.ercot.com/readiness/reports/si/kd/card_invoices_and_extracts.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ck CRR Balancing Account Invo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http://nodal.ercot.com/readiness/reports/si/kd/mock_crr_balancing_account_invoice_examples.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ck DAM Late Fee Invo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http://nodal.ercot.com/readiness/reports/si/kd/dam_late_fee_invoices.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Invo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http://nodal.ercot.com/readiness/reports/si/kd/Draft%20Invoices.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Settlement Stat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http://nodal.ercot.com/readiness/reports/si/kd/draft_settlement_statements.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ck DAM Settlement Examp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http://nodal.ercot.com/readiness/reports/si/kd/mock_dam_settlement_examples.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8 Settlement Postings (Statements, Invoices, Extracts, Reports, Notic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(http://nodal.ercot.com/readiness/eds4/documents/index.ht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F5ABA7C8-B284-47C7-936A-D965D8694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219320" y="2362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37:36Z</dcterms:created>
  <dc:creator>jhall</dc:creator>
  <dc:description/>
  <dc:language>en-US</dc:language>
  <cp:lastModifiedBy>hsatterfield</cp:lastModifiedBy>
  <dcterms:modified xsi:type="dcterms:W3CDTF">2009-01-12T21:23:25Z</dcterms:modified>
  <cp:revision>550</cp:revision>
  <dc:subject/>
  <dc:title>Texas Nodal Detailled Market Trials Planning Process 30 January 2007</dc:title>
</cp:coreProperties>
</file>