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AC6-336B-473E-85D4-55A6276B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5B7-33DB-462C-A3C2-8785131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453-A8BD-4B91-AC02-E68BCF4B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6AB-E75A-4B4A-86D7-93F7BDA5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83E7-5BB3-484C-BD67-6DD246A2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D27B-3D91-4D10-8F73-2CF7A8A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8BD8-E5E6-4C12-8624-90E1430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EACF-12ED-44C9-B608-6C5F0AC1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9E33-4078-4D65-9A55-9FA12534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B365-B583-4044-A32B-C26B4D27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6D8A-05E4-4D1C-965E-0A718E2B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E98-57CE-4F74-9178-C437AE08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DC31-C182-4290-924E-B73939A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083-226A-4D4D-B9BC-EAF69890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3CB-D7C7-462A-9DE1-E31581E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9C22-CD7F-41A3-BFB3-0DA1D428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870F-CBD4-44E3-9445-61410568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47C-C131-4675-B806-F91D4EE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C8E-3AE7-47F1-8F5C-3B8AEC17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ABC-29F0-4F0F-AA7C-86D298B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B2A-FBDD-4E54-BDD2-DF00336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872-71F0-49C6-AD4C-5D34451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110-0DCE-4224-A937-5A1B138B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D7B-5155-478B-9307-B3C80C5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9D0F-B623-4548-9CD8-CFA6A1957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9EE-1041-4643-86F9-FC0A74621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rcot.com/calendar/2008/12/20081230-CCW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5120" y="0"/>
            <a:ext cx="8034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CWG December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&amp;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e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008 Market Participant Surve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ebsite Satisf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iewed and finalized a list of website improvement recommend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nt list of recommendations to RMS Leadership on 12-30-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COT Website Recommendations 12-18-08.doc is located at </a:t>
            </a:r>
            <a:r>
              <a:rPr b="0" lang="en-US" sz="27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ercot.com/calendar/2008/12/20081230-CCWG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under Key Docu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4A32-A392-4415-A867-CA42880DC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5120" y="0"/>
            <a:ext cx="8034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CWG December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&amp;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e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COPMG Section 12, Renewable Energy Credi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iewed and finalized Section 12, Renewable Energy Cred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PMGRR 01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gan its 21 day comment period on December 30,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ents will be considered at CCWG’s January 27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BB6-EDC5-418E-ABAC-9484F6707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5120" y="0"/>
            <a:ext cx="80344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CWG December 16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&amp; 3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eet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Continue to Develop COPMG for Nod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tion 5, Commercial System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tion 8, Settlement Statement and Detai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tion 10, Congestion Revenue Righ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99ccff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tion 11, Disputes and Data Extract Varia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301-1DED-4A9A-AA06-12924F8B79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uary  27, 200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termine CCWG Lead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view COPMGRR 010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546C-3911-49CA-9DE9-D768E92E0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01-06T14:31:38Z</dcterms:modified>
  <cp:revision>107</cp:revision>
  <dc:subject/>
  <dc:title>CCWG 2006 Accomplishments</dc:title>
</cp:coreProperties>
</file>