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B0FF-43AC-4A7A-BFD9-AE198D82F0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641D-1268-46D4-A6FB-353B6282E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4011B-62AC-4780-8A7F-BE661A7604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1DFF5-C674-42D5-8B33-C4FCE5D9CA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B56A6-67B6-4596-B26D-A5F0E3EBE6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6A187-34F1-4A1A-8A2C-46F91EFA75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37D3F-E5A2-42EC-8DB1-8E0BBC4CE3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69115-7C10-479B-8F3F-BCD167EEC3E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E03E5-7F2D-4D6E-BF8B-A9141DD9C2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4B71C-AB42-4C1D-B52A-1D60D249F5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9A3A8-B13D-4804-92C7-63AAA77509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C1D4E-455F-4364-9CEB-451B309020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AFD3C-6FC1-4AD6-B7CB-70359AF6AF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D1348-7AC3-46A2-A7D0-ECFCBAF478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B50A-5157-4D65-871A-BA5F46B37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uary 13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B958A73D-A14B-4BA8-BDF2-50CEA4172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uary 13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9DB24F1F-7208-4516-809D-00CB38694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hparrish@ercot.com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19807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MO Projects Financial Overview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Commercial Operations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January 13, 2009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Hope Parrish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Market Operations Division Projects Organ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Line 3"/>
          <p:cNvSpPr/>
          <p:nvPr/>
        </p:nvSpPr>
        <p:spPr>
          <a:xfrm>
            <a:off x="990720" y="3352680"/>
            <a:ext cx="716256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O 2009 PPL approved by PR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2" name="Picture 1358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 Overview as of 12/31/2008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762120"/>
          <a:ext cx="8229600" cy="5122800"/>
        </p:xfrm>
        <a:graphic>
          <a:graphicData uri="http://schemas.openxmlformats.org/drawingml/2006/table">
            <a:tbl>
              <a:tblPr/>
              <a:tblGrid>
                <a:gridCol w="2468520"/>
                <a:gridCol w="973080"/>
                <a:gridCol w="478800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PPL Budget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/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2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MO Capability Line Budget Fu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32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approved MO funding allo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ates where the capability line fa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90K transferred from RO to MO to cover the AMIT Stu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27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current expectations for remaining accruals and closing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52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 is difference between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Capability Line Budget Funding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533520" y="1371600"/>
            <a:ext cx="82296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e Parr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, MOD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Operations Divisional Project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6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parrish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Heather Day</cp:lastModifiedBy>
  <dcterms:modified xsi:type="dcterms:W3CDTF">2009-01-08T23:36:47Z</dcterms:modified>
  <cp:revision>419</cp:revision>
  <dc:subject/>
  <dc:title>Role of Account Management at ERCOT</dc:title>
</cp:coreProperties>
</file>