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8CCCE-4194-4371-BB3D-CF9A242550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CF0C7-858C-499A-B13F-1D738FF6C8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BC4BD-F4BC-4E60-A700-DFBDA30066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A2404-7484-4A95-A3FE-760A22CE0A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DEDF2-ABA7-4109-AA46-88121A19A9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5038B-AF20-48A9-875F-5225B5C93B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E5100-5D96-462F-80AA-5F65FBCA73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F80B5-0988-45C3-B1F5-75732A16B9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C2BA7-3EE2-4E9B-8BCC-F58CB45131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AE1B8-337D-43EA-90CB-9F43772C74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050DC-D7ED-4701-96A2-E6A8F8D497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FEEDB-8301-4EC1-B3D8-2ADE655311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60798-4087-4B38-A999-78ECEDECF4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78086-911E-4FA5-98E5-CE7BF26584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D9E89-1682-4658-A272-CFBB78A24A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F141A-7EE2-4010-B374-F5B8B1BEE3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3"/>
          <p:cNvSpPr/>
          <p:nvPr/>
        </p:nvSpPr>
        <p:spPr>
          <a:xfrm>
            <a:off x="3657600" y="64771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F28AE-ECC5-4386-ADF5-F7EC5636CD4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2" descr="logo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3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6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333520" y="1904760"/>
            <a:ext cx="6019920" cy="123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Information Technology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ervice Availability Metric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343240" y="320004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Commercial Operations Subcommitte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January 2009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1"/>
          <p:cNvSpPr/>
          <p:nvPr/>
        </p:nvSpPr>
        <p:spPr>
          <a:xfrm>
            <a:off x="2438280" y="4876920"/>
            <a:ext cx="64771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ey Fel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T Account 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Agenda and Commentar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tail and Wholesale Systems Performa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tail Transaction Processin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December performance was 100%. Overall performance in 2008 was 99.47%, and while below the target of  99.9%, was better than that of 2007 (99.11%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ML,  TML Report Explorer, Retail API and Wholesale Total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– December performance was at 100%. 2008 performance was above the service level target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keTrak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– December performance was 99.48%. December as well as 2008 performances were above service level target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9"/>
          <p:cNvSpPr/>
          <p:nvPr/>
        </p:nvSpPr>
        <p:spPr>
          <a:xfrm>
            <a:off x="6553080" y="6477120"/>
            <a:ext cx="2362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RCOT 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1066680" y="6477120"/>
            <a:ext cx="1905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January 20</a:t>
            </a:r>
            <a:r>
              <a:rPr b="0" lang="en-US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, 200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2008 Net Service Availabilit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6553080" y="6477120"/>
            <a:ext cx="2362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RCOT 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066680" y="6477120"/>
            <a:ext cx="1905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January 20</a:t>
            </a:r>
            <a:r>
              <a:rPr b="0" lang="en-US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, 200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" descr=""/>
          <p:cNvPicPr/>
          <p:nvPr/>
        </p:nvPicPr>
        <p:blipFill>
          <a:blip r:embed="rId1"/>
          <a:stretch/>
        </p:blipFill>
        <p:spPr>
          <a:xfrm>
            <a:off x="735120" y="762120"/>
            <a:ext cx="7646760" cy="5314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4" name=""/>
          <p:cNvGraphicFramePr/>
          <p:nvPr/>
        </p:nvGraphicFramePr>
        <p:xfrm>
          <a:off x="2724120" y="2057400"/>
          <a:ext cx="2457360" cy="3301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24120" y="2057400"/>
                    <a:ext cx="2457360" cy="33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3362400" y="1905120"/>
          <a:ext cx="2428920" cy="3468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362400" y="1905120"/>
                    <a:ext cx="2428920" cy="346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3371760" y="3057480"/>
            <a:ext cx="533520" cy="0"/>
          </a:xfrm>
          <a:prstGeom prst="line">
            <a:avLst/>
          </a:prstGeom>
          <a:ln w="22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05040" y="3009960"/>
            <a:ext cx="533520" cy="0"/>
          </a:xfrm>
          <a:prstGeom prst="line">
            <a:avLst/>
          </a:prstGeom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362400" y="3267000"/>
            <a:ext cx="533160" cy="0"/>
          </a:xfrm>
          <a:prstGeom prst="line">
            <a:avLst/>
          </a:prstGeom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038480" y="3228840"/>
            <a:ext cx="533520" cy="0"/>
          </a:xfrm>
          <a:prstGeom prst="line">
            <a:avLst/>
          </a:prstGeom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52280" y="1200240"/>
            <a:ext cx="228600" cy="0"/>
          </a:xfrm>
          <a:prstGeom prst="line">
            <a:avLst/>
          </a:prstGeom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80880" y="106668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2007 metric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762120"/>
            <a:ext cx="1447920" cy="59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04760" y="866880"/>
          <a:ext cx="331920" cy="1778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4760" y="866880"/>
                    <a:ext cx="331920" cy="1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>
            <a:off x="380880" y="83808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SLA Excep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December 2008 Net Service Availabilit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9" name="Text Box 8"/>
          <p:cNvSpPr/>
          <p:nvPr/>
        </p:nvSpPr>
        <p:spPr>
          <a:xfrm>
            <a:off x="6553080" y="6477120"/>
            <a:ext cx="2362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RCOT 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1066680" y="6477120"/>
            <a:ext cx="1905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January 20</a:t>
            </a:r>
            <a:r>
              <a:rPr b="0" lang="en-US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, 200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6" descr=""/>
          <p:cNvPicPr/>
          <p:nvPr/>
        </p:nvPicPr>
        <p:blipFill>
          <a:blip r:embed="rId1"/>
          <a:stretch/>
        </p:blipFill>
        <p:spPr>
          <a:xfrm>
            <a:off x="533520" y="941400"/>
            <a:ext cx="8119800" cy="500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Retail Transaction Processing Availability Summar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3" name="Text Box 10"/>
          <p:cNvSpPr/>
          <p:nvPr/>
        </p:nvSpPr>
        <p:spPr>
          <a:xfrm>
            <a:off x="6553080" y="6477120"/>
            <a:ext cx="2362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RCOT 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1066680" y="6477120"/>
            <a:ext cx="1905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January 20</a:t>
            </a:r>
            <a:r>
              <a:rPr b="0" lang="en-US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, 200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6" descr=""/>
          <p:cNvPicPr/>
          <p:nvPr/>
        </p:nvPicPr>
        <p:blipFill>
          <a:blip r:embed="rId1"/>
          <a:stretch/>
        </p:blipFill>
        <p:spPr>
          <a:xfrm>
            <a:off x="609480" y="770040"/>
            <a:ext cx="7925040" cy="53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ML Availability Summar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6553080" y="6477120"/>
            <a:ext cx="2362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RCOT 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8"/>
          <p:cNvSpPr/>
          <p:nvPr/>
        </p:nvSpPr>
        <p:spPr>
          <a:xfrm>
            <a:off x="1066680" y="6477120"/>
            <a:ext cx="1905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January 20</a:t>
            </a:r>
            <a:r>
              <a:rPr b="0" lang="en-US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, 200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5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727380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MarkeTrak Availability Summar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1" name="Text Box 8"/>
          <p:cNvSpPr/>
          <p:nvPr/>
        </p:nvSpPr>
        <p:spPr>
          <a:xfrm>
            <a:off x="6553080" y="6477120"/>
            <a:ext cx="2362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RCOT 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1066680" y="6477120"/>
            <a:ext cx="1905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January 20</a:t>
            </a:r>
            <a:r>
              <a:rPr b="0" lang="en-US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, 200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8" descr=""/>
          <p:cNvPicPr/>
          <p:nvPr/>
        </p:nvPicPr>
        <p:blipFill>
          <a:blip r:embed="rId1"/>
          <a:stretch/>
        </p:blipFill>
        <p:spPr>
          <a:xfrm>
            <a:off x="843120" y="838080"/>
            <a:ext cx="7538760" cy="523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tfelton</cp:lastModifiedBy>
  <dcterms:modified xsi:type="dcterms:W3CDTF">2009-01-08T22:22:29Z</dcterms:modified>
  <cp:revision>244</cp:revision>
  <dc:subject/>
  <dc:title>Instructions</dc:title>
</cp:coreProperties>
</file>