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D28-C87D-4FEE-B9DC-5A4FA5EB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923-315A-4054-A966-EC7078E5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F5F-73CD-49CE-868A-586DFED1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813-C785-4D1C-871C-A55B7B18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642F-75DE-4150-A3D5-83507EDA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1E9E-7DB6-4F6D-A28F-E19E004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711E-318D-4FA2-BA1B-4A4D697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ABFB-6FBE-43FB-A11A-723CD47B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2BB9-CC0E-4A40-8FE0-A412AE2D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A748-D157-4219-BAED-F774FF08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8546-8425-40F4-9561-6715CD39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312-3515-4D94-9EDA-6C1875E8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BF91-C8F1-4EEA-B767-5567FAA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32CD-2122-495F-83D7-5C2C5B2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14AE-EF94-45B2-B18D-4A53A591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4E2F-DAD8-4FFA-9BFF-5417F1D8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670-A424-4246-AFE5-FA881ED9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33C-FEC6-471B-A2F2-4D11DC53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67A-AEF1-470F-8315-A2102167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C78-E056-4B22-8D3F-FE107BD0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2A0-CB48-4819-BE9D-A40AD666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8D3-D0E0-4CDD-A274-29841DAA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F71-E164-4C85-95FA-2D3ED50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DCD-E23F-4B94-B4F2-B5CF136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49F-97BE-4186-A6DB-34101024F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E2AC-4E63-48F4-AFF1-84616176F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8, 2009 TAC Meetin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approved at ROS December meeting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GRR21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CP Media Appe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GRR2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CP Media Appe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C CI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Representatives for 2009 (Texas RE Region / ERCOT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PW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ritical Infrastructure Protection Working Group), Working Group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T SAR005/SAR006/SAR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SE Applicability from NERC Reliability Standards EOP-002 and MOD-017 through MOD-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late of members for the SDT (Standard Drafting T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7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QSEs to Enter Outages for All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comments from O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d to February meeting to allow further v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ROS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75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mission Outage Notice Detail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review by the O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TF (Wind Operations Task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ERCOT not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-D111308-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tocol Interpretation Request on Reactive Power Capabil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io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Update on TAC Assignmen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rricane Ik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(January 8, 2009 TAC Agenda I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R77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GR QSE Metric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to OWG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target for recommendation to TAC by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AR Stud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target for ROS Voting Item in January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05401</cp:lastModifiedBy>
  <dcterms:modified xsi:type="dcterms:W3CDTF">2008-12-15T15:40:44Z</dcterms:modified>
  <cp:revision>121</cp:revision>
  <dc:subject/>
  <dc:title>ROS’ Action Plan – Following Up on 2/26 EECP &amp; Wind Workshop Issues</dc:title>
</cp:coreProperties>
</file>