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64B401-7A50-49B7-8DC9-83A66D0BF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6240" cy="3492720"/>
          </a:xfrm>
          <a:prstGeom prst="rect">
            <a:avLst/>
          </a:prstGeom>
          <a:ln w="0">
            <a:noFill/>
          </a:ln>
        </p:spPr>
      </p:sp>
      <p:sp>
        <p:nvSpPr>
          <p:cNvPr id="13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SWG, CMWG, QMWG plus we established the </a:t>
            </a:r>
            <a:r>
              <a:rPr b="0" lang="en-US" sz="1200" spc="-1" strike="noStrike">
                <a:solidFill>
                  <a:srgbClr val="000000"/>
                </a:solidFill>
                <a:latin typeface="Arial"/>
              </a:rPr>
              <a:t>Market Credit Working Group with Morgan Davies of Calpine as its chair.  They will establish a mission statement as part of their early work.  I hope that will include an effort to coordinate with the existing Board level CWG to avoid duplication of work and to increase the transparency of tha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omac Economics Recommendation Task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llocation Task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of Modeling Approach for EPS Meters with Loss Compen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open TAC assignments and WMS Goals and accomplish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submissions for the 12 month forward plans by TOs and Resource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in ERCOT Evaluation Process &amp; Coordination Efforts with TO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Tracking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iscussion of outage evaluation process and potential improvements, don’t know how much more discussion is needed to finalize issue, ERCOT does more for outages than other IS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oing all this outage evaluation work in Zonal, but it is our expectation that what develops will be carried forward into Nod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s unilateral derating process currently at 40% - protocol defense of practice is revenue neutrality, which is weak.  We probably need a PRR to codify the practice.  WMS did not recommend changing the ERCOT practice y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Stability Limits and how they are arrived at and how they are impacting the market.  This is in the hands of ERCOT and the ROS, but there are lots of WMS issues being driven by it.  It is clearly related to the Study Horsepower issue.   It is the subject of ongoing e-mail ex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5840" y="698400"/>
            <a:ext cx="4656240" cy="3492720"/>
          </a:xfrm>
          <a:prstGeom prst="rect">
            <a:avLst/>
          </a:prstGeom>
          <a:ln w="0">
            <a:noFill/>
          </a:ln>
        </p:spPr>
      </p:sp>
      <p:sp>
        <p:nvSpPr>
          <p:cNvPr id="12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 performance has been good in 2008.  Participation is down and there has been not been as much proration as in the past.  Certainly Hurricane Ike impacted participation as loads shut down or were slow to start back. The most compelling answer is downturn in economy as loads (industry) shu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oncern that the EILS program with its much lower system requirements and near zero probability of deployment are taking LaaRs out of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continues on addressing the concerns of small LaaR that can participate in the zonal system due to the way portfolios operate that will not be able to particpate under the unit specific requirements of no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6240" cy="3492720"/>
          </a:xfrm>
          <a:prstGeom prst="rect">
            <a:avLst/>
          </a:prstGeom>
          <a:ln w="0">
            <a:noFill/>
          </a:ln>
        </p:spPr>
      </p:sp>
      <p:sp>
        <p:nvSpPr>
          <p:cNvPr id="13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has been the norm lately, there was a very long discussion regarding the forecast process, both wind and load.  It didn’t help that there was an event of sorts the Monday before our last meeting.  There are some who would like to see some more reporting of forecasts to actual and I suspect this will be requested pretty soon, but a little more work needs to be done on the process to make it clear what is being predicted and how to measure the quality of the work.  I won’t try and recover that ground for TAC but whole topic will remain a focus for the working group and WMS in 2009.</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roup drafted a WGR scheduling metric PRR that WMS endorsed and that is now in the pipeli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roup also drafted PRR on </a:t>
            </a:r>
            <a:r>
              <a:rPr b="0" lang="en-US" sz="1200" spc="-1" strike="noStrike">
                <a:solidFill>
                  <a:srgbClr val="000000"/>
                </a:solidFill>
                <a:latin typeface="Arial"/>
              </a:rPr>
              <a:t>WGR Meteorological Data Requirements that was also endorsed and Is now in the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5840" y="698400"/>
            <a:ext cx="4656240" cy="3492720"/>
          </a:xfrm>
          <a:prstGeom prst="rect">
            <a:avLst/>
          </a:prstGeom>
          <a:ln w="0">
            <a:noFill/>
          </a:ln>
        </p:spPr>
      </p:sp>
      <p:sp>
        <p:nvSpPr>
          <p:cNvPr id="13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pposed to be reporting at this time to TAC on the optimization of A/S procurement.  The QMWG is working on this and is hounding the ERCOT staff f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 can’t report that we have any particular findings.  In one sense this is good as gross overkill in the procurement process has not been found, but the working group is confident that there can be some tuning based on discussion they have had and data that they are anticipa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6240" cy="3492720"/>
          </a:xfrm>
          <a:prstGeom prst="rect">
            <a:avLst/>
          </a:prstGeom>
          <a:ln w="0">
            <a:noFill/>
          </a:ln>
        </p:spPr>
      </p:sp>
      <p:sp>
        <p:nvSpPr>
          <p:cNvPr id="13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formed a task force to review the State of the Market report and weigh in on the recommendations made in that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trix has been compiled and many of the issues are underway and reporting will be month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report was put out prior to the new Nodal schedule and some assumptions regarding cost/benefit are no longer valid.  With this in mind, there are likely to be additions to the list of zonal upgrades outside of this 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y product of the group includes a couple of PRRs, only one of which we got to discuss thoroughly at WMS and that was Scarcity Pricing.  A PRR has been drafted and approved by WMS and is now in the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F91BA-E652-4776-BD1F-0248712AD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8290-0FBA-43C6-B97E-78102CF42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60E60-36F1-4855-8087-199DE3D5F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A389F-BD0E-47CC-9D97-03244A497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EA850-C997-417F-A418-317A300C0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DF564-D3DB-4E3E-B678-BDF9109E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85DAB-123E-48F1-BFBD-B9E31A046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D8166-0A47-4607-AF5B-ED914F2DC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30A67-8CB4-441A-B3B7-057802453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04AA1-BA66-483C-84A5-B185A098F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77D7B-FD7A-4FBB-B3DB-7CEAFAD79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1F27-35BD-4DC4-8A2C-89BB6B01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8652-1B6F-4EEB-B1A2-10DD05527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7C64A-D7A3-4751-A5B8-E7E3AA04F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63E14-81A3-4BF9-9DBE-DD282047B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3CB0D-E4D2-415A-944E-7405B2480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EDD34-103F-4CF2-B39C-9118803A1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C880-27F0-4278-A691-E62C92D3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138D1-41E4-46FB-AFBF-A0A29B44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D3B88-3C5D-4972-992B-E5325EEE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7EEF9-EACE-4586-8CAF-126FE2F2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E609-8E5A-44CD-B36B-A3FE4781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76FB-2F35-441A-B4AF-CA326072B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E99D-ED32-4623-A2FD-9070AE498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085F-E54D-4992-96FC-43FFD9DDDA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62F5-FEE4-4ACA-A6F7-AAF0D2C7B0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2009</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9E3B0E67-F8C6-4612-9209-43D308924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re ancillary servic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tuff the ISO buys that nobody consumes that allows the network to operate reliably.  It allows the network (loads, resources and wires) to change faster than the market systems can respon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DEA0517-AC8C-4886-9D43-B6F799B54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AS are bought for many simultaneously occurring cause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buy a certain amount of ancillary services that allows the network to lose something big.  There are lots of big generators – If you have two 700 MW units, do you need more or less service than if you had two - 350 MW units and one 700 MW uni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ame MW of ancillary service that protects you from a generator loss also protects you from a rapidly changing load, missed forecast, loss of transmission elements,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9E46B0B-80AE-4504-AC83-F8FEDE67C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Incremental A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cillary services overlap.  Regulation, Responsive, and Non-spin can impact the required amounts of each oth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D9C93E0-F20A-4D21-A015-7BD2B9FB2B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commendation</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main with current allocation methodology</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llocating AS is difficult </a:t>
            </a:r>
            <a:endParaRPr b="0" lang="en-US" sz="24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sults in some form of arbitrary cost assignment</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ceived benefits do not appear to be worth the cost of implementing</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ind generation is not the only generation causing ancillary cos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ould require months, not weeks, to complete</a:t>
            </a:r>
            <a:endParaRPr b="0" lang="en-US" sz="20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voids impacts of evolving policy</a:t>
            </a:r>
            <a:endParaRPr b="0" lang="en-US" sz="24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isk of disruption to existing contracts</a:t>
            </a:r>
            <a:endParaRPr b="0" lang="en-US" sz="2000" spc="-1" strike="noStrike">
              <a:solidFill>
                <a:srgbClr val="ffffff"/>
              </a:solidFill>
              <a:latin typeface="Tahoma"/>
            </a:endParaRPr>
          </a:p>
          <a:p>
            <a:pPr lvl="2" marL="1143000" indent="-2286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ocation would need to be re-visited anytime there is change in AS methodology</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63F0940-5CA9-44A1-8ED5-93BC48F73B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onclusion</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osts of Ancillary Services are not directly assignable to individual entities as they are purchased for the totality of the network and not any single entity.</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BB666D4-B28E-4B6E-962D-703795B292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f the Status Quo </a:t>
            </a:r>
            <a:br>
              <a:rPr sz="4000"/>
            </a:br>
            <a:r>
              <a:rPr b="1" lang="en-US" sz="4000" spc="-1" strike="noStrike">
                <a:solidFill>
                  <a:srgbClr val="e5ffff"/>
                </a:solidFill>
                <a:latin typeface="Tahoma"/>
              </a:rPr>
              <a:t>Must Change</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design AS methodology with more complex objectives than simply security at the lowest cost.</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8CC0BCD-DA01-47D6-ACD4-B57446B465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us of WMS assignments from TA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08 Goals upda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6F6368D-53C8-4519-99C7-D9395899F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CA2E5F73-E152-4DDC-8B2D-425DE970F77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Staff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59BE7F9-D024-4E89-B11F-B2C7849889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tage Evaluation Process &amp; Improv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elopment of the TCR cas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 for Nod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D4371E-FE7F-46E0-99DC-848C7D6575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aR performance and particip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aR participation in nodal</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0571E84-3E19-45EA-B67C-AC0A3B501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RCOT Operations Issu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GR only QSE Scheduling Metri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timal Procurement of Ancillary Services assignment from TAC</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4296709-B39F-4651-A346-2C9745725A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 Summary on NSRS Procurement</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MWG believes the procedure for determining the quantity and hours of NSRS required as described in the 2009 ERCOT Methodologies for Determining Ancillary Service Requirements is not optimal.  QMWG believes the modifications to the procedure recommended here and more detailed analysis will optimize the procurement of NSR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07A951C-633E-4AD6-A9E5-C380A9A30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 Potomac Recommendations</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just">
              <a:spcBef>
                <a:spcPts val="799"/>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atton List 2009</a:t>
            </a:r>
            <a:endParaRPr b="0" lang="en-US" sz="3200" spc="-1" strike="noStrike">
              <a:solidFill>
                <a:srgbClr val="ffffff"/>
              </a:solidFill>
              <a:latin typeface="Tahoma"/>
            </a:endParaRPr>
          </a:p>
          <a:p>
            <a:pPr marL="343080" indent="-343080" algn="just">
              <a:spcBef>
                <a:spcPts val="799"/>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carcity Pricing</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D953D55-9977-4B52-93C5-088F5691B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a:t>
            </a:r>
            <a:br>
              <a:rPr sz="4000"/>
            </a:br>
            <a:r>
              <a:rPr b="1" lang="en-US" sz="4000" spc="-1" strike="noStrike">
                <a:solidFill>
                  <a:srgbClr val="e5ffff"/>
                </a:solidFill>
                <a:latin typeface="Tahoma"/>
              </a:rPr>
              <a:t> Cost Allocation</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plore cost allocation of incremental Ancillary Servi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ch we understand to mean; how to directly assign costs to achieve a superior outcome.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72AB259-0834-4F5C-9B6C-E4A2477B5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st causation vs. cost allocation</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ulated worlds recover costs and allocate them</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rkets direct assign costs to lead to better decision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8290ECB-B787-415F-8BDA-AAD340BCF9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9-01-07T20:48:08Z</dcterms:modified>
  <cp:revision>128</cp:revision>
  <dc:subject/>
  <dc:title>WMS Report TO TAC</dc:title>
</cp:coreProperties>
</file>