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E44CE55-0355-43DC-8D50-0C40E5B1C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73BB996-56A4-47D7-8939-14D8772FD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D6B90F4-0A9F-41CA-AA88-76F703FB5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6D146E6-E45A-4195-9876-A089CECAF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9E11AB5-AB1F-4C13-8739-A581E498C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9D53297-D423-491C-87D3-06D502CCD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0E0FD91-82B6-4BED-98F7-2BA160F14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47A2A21-5DD5-46DF-B397-0430393A3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2CD7A2C-03B5-44EE-BB0E-969D8E12B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28B51AE-EB96-4C26-9439-A6BF2E339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0DFDC54-28EA-4E12-BD53-A5BB45E92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EF72512-F760-44D7-BA08-B5D767DA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6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ickey@ercot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tptf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0-TPTFNO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0-TPTFNOD" TargetMode="External"/><Relationship Id="rId2" Type="http://schemas.openxmlformats.org/officeDocument/2006/relationships/hyperlink" Target="http://nodal.ercot.com/about/po/sch/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ntent/committees/board/tac/keydocs/2008/NPRR_Management_Board__041508.doc" TargetMode="External"/><Relationship Id="rId2" Type="http://schemas.openxmlformats.org/officeDocument/2006/relationships/hyperlink" Target="http://nodal.ercot.com/protocols/nprr/126-150/135/index.html" TargetMode="External"/><Relationship Id="rId3" Type="http://schemas.openxmlformats.org/officeDocument/2006/relationships/hyperlink" Target="http://nodal.ercot.com/protocols/nprr/126-150/146/index.html" TargetMode="External"/><Relationship Id="rId4" Type="http://schemas.openxmlformats.org/officeDocument/2006/relationships/hyperlink" Target="http://nodal.ercot.com/protocols/nprr/126-150/149/index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dal.ercot.com/protocols/nprr/151-175/155/index.html" TargetMode="External"/><Relationship Id="rId2" Type="http://schemas.openxmlformats.org/officeDocument/2006/relationships/hyperlink" Target="http://nodal.ercot.com/protocols/nprr/151-175/165/index.html" TargetMode="External"/><Relationship Id="rId3" Type="http://schemas.openxmlformats.org/officeDocument/2006/relationships/hyperlink" Target="http://www.ercot.com/mktrules/issues/prr/675-699/697/index" TargetMode="External"/><Relationship Id="rId4" Type="http://schemas.openxmlformats.org/officeDocument/2006/relationships/hyperlink" Target="http://nodal.ercot.com/protocols/nprr/151-175/169/index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12/20081215-TPTF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429E248-5C9F-46CF-9932-74E8CF5AE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9a2"/>
                </a:solidFill>
                <a:latin typeface="Arial Black"/>
              </a:rPr>
              <a:t>TPTF Update f</a:t>
            </a:r>
            <a:r>
              <a:rPr b="0" lang="en-GB" sz="2400" spc="-1" strike="noStrike">
                <a:solidFill>
                  <a:srgbClr val="5469a2"/>
                </a:solidFill>
                <a:latin typeface="Arial Black"/>
              </a:rPr>
              <a:t>or TAC</a:t>
            </a:r>
            <a:r>
              <a:rPr b="0" lang="en-GB" sz="3600" spc="-1" strike="noStrike">
                <a:solidFill>
                  <a:srgbClr val="5469a2"/>
                </a:solidFill>
                <a:latin typeface="Arial Black"/>
              </a:rPr>
              <a:t> </a:t>
            </a:r>
            <a:br>
              <a:rPr sz="2000"/>
            </a:br>
            <a:r>
              <a:rPr b="0" i="1" lang="en-GB" sz="2000" spc="-1" strike="noStrike">
                <a:solidFill>
                  <a:srgbClr val="5469a2"/>
                </a:solidFill>
                <a:latin typeface="Arial Black"/>
              </a:rPr>
              <a:t>January 8, 2009</a:t>
            </a:r>
            <a:br>
              <a:rPr sz="2000"/>
            </a:br>
            <a:br>
              <a:rPr sz="2800"/>
            </a:br>
            <a:r>
              <a:rPr b="0" lang="en-GB" sz="1600" spc="-1" strike="noStrike">
                <a:solidFill>
                  <a:srgbClr val="5469a2"/>
                </a:solidFill>
                <a:latin typeface="Arial"/>
              </a:rPr>
              <a:t>Joel Mickey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mickey@ercot.com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Picture 5" descr="logo"/>
          <p:cNvPicPr/>
          <p:nvPr/>
        </p:nvPicPr>
        <p:blipFill>
          <a:blip r:embed="rId2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5344D57-CE70-4245-8C32-62688BD1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80880" y="792000"/>
            <a:ext cx="86108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Meet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7, 2009 – TPTF Preliminary Nodal Schedule Revi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12 – 1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6 – 28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3280" y="205740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008 TPTF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A0892F5-0F2C-4AE4-8339-F5C0BCA9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B28E9D5-359C-4C59-9955-F8D753289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942840"/>
          <a:ext cx="8763120" cy="1486080"/>
        </p:xfrm>
        <a:graphic>
          <a:graphicData uri="http://schemas.openxmlformats.org/drawingml/2006/table">
            <a:tbl>
              <a:tblPr/>
              <a:tblGrid>
                <a:gridCol w="2209680"/>
                <a:gridCol w="5334120"/>
                <a:gridCol w="1219320"/>
              </a:tblGrid>
              <a:tr h="2764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te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V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pproval of Miles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A0CDC0B-CEB6-4051-9EFE-315191A8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0880" y="893880"/>
            <a:ext cx="80773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 previous TAC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participated in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liminary Nodal Schedule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cember 10,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held one regularly scheduled TPTF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15 – 16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7995ED-70AA-4E60-A83E-4F645111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0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914400"/>
            <a:ext cx="853452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0, 2008, TPTF participated in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liminary Nodal Schedule Revie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he review, TPTF was provided with an overview of the Preliminary Nodal Integrated Program Schedule, including the following key documents (see postings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about/po/sch/index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Nodal Integrated Program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Early Delivery Systems (EDS) Project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Program Milestones and Critical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PTF feedback from this preliminary review was discussed during the regularly scheduled TPTF meeting 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16, 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64A0887-E78F-4306-9266-017A34B0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914400"/>
            <a:ext cx="853452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Process Discuss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ght of the new Preliminary Nodal Integrated Program Schedule, TPTF requested that ERCOT provide a January 2009 discussion at TPTF to clarify the current change process, the role of TPTF in reviewing NPRRs/SCRs/NOGRRs, and the possible need to update the documen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naging Protocol Content During Texas Nodal Market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Upd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PRR1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eletion of Unaccounted For Energy (UFE) Analysis Zone Languag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NPRR135 but requested that a nodal impact analysis be posted prior to the assignment of an essentialit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PRR14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nter-Control Center Communication Protocol (ICCP) Telemetry Information Submitta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ecember 15, 2008, TPTF reviewed NPRR146 as remanded by PRS and endorsed TPTF comments to be submitted to PRS. The endorsement carried by unanimous roll-call vote. The Consumer Market Segment was not represented for the vo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PRR14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hange the name of Emergency Electric Curtailment Plan (EECP) to Energy Emergency Alert (EE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NPRR149 but requested that a nodal impact analysis be posted prior to the assignment of an essentiality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536025F-0F55-4D8B-BAF9-28F8D8F2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80880" y="914400"/>
            <a:ext cx="853452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Updates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PRR1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larification of Authorized Represent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took no action on this N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PRR1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ynchronizing Section 1 with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R6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eferred discussion of NPRR165 to January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NPRR, Clarify the Calculation and Posting of Locational Marginal Prices (LMPs) for the Load Zone and LMPs for Each Hub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ecember 15, 2008, TPTF endorsed this draft NPRR to be submitted to PRS on behalf of TPTF with a preliminary essentiality status of "Needed for Go-Live." TPTF requested that an Impact Analysis (IA) be performed by ERCOT and returned to TPTF as soon as possible. The endorsement carried by roll-call vote with 100% in favor and one abstention from the Independent Power Marketer (IPM) Market Segment. The Independent Generator and Consumer Market Segments were not represented for the vo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raft NPRR was subsequently posted a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PRR1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B9E8F83-7D9C-492D-9FA8-BEE6BE19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80880" y="914400"/>
            <a:ext cx="853452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5, TPTF discussed (continue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Unit Commitment (RUC) Implement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received clarifications regarding how the current RUC implementation reflects Nodal Protocols. TPTF provided feedback to the clarifications for additional consideration during a future TPTF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Requirements Up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iscussed the proposed approach to reviewing Business Requirements and Conceptual System Designs (CSDs), which are currently being updated to reflect the incorporation of post-Baseline 2 NPRRs, NOGRRs, and SCRs. TPTF will begin reviewing/approving the updated documentation in early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CE9BC11-3C4E-4A79-AC22-F79052110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5 – 16, 2008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914400"/>
            <a:ext cx="85345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cember 16, TPTF discus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Status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Nodal Integrated Progra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TF discussed initial feedback for the new schedule and requested that ERCOT coordinate an additional, ad hoc meeting to discuss the new schedule further on January 7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Vote Summary – December 15 – 16, 200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914400"/>
          <a:ext cx="8610480" cy="231768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990720"/>
                <a:gridCol w="761760"/>
                <a:gridCol w="1676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ecember 15, 2008, TPTF endorsed comments for NPRR146, ICCP Telemetry Information Submittals, to be submitted to P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Power Mark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160"/>
          <p:cNvSpPr/>
          <p:nvPr/>
        </p:nvSpPr>
        <p:spPr>
          <a:xfrm>
            <a:off x="380880" y="58672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the votes in this summary are available for pick-up from the December 15-16 TPT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eting Pa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1"/>
          <p:cNvSpPr/>
          <p:nvPr/>
        </p:nvSpPr>
        <p:spPr>
          <a:xfrm>
            <a:off x="115560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1D2661E-7E69-40ED-AACB-6B6CE489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3352680"/>
          <a:ext cx="8610480" cy="2371680"/>
        </p:xfrm>
        <a:graphic>
          <a:graphicData uri="http://schemas.openxmlformats.org/drawingml/2006/table">
            <a:tbl>
              <a:tblPr/>
              <a:tblGrid>
                <a:gridCol w="2743200"/>
                <a:gridCol w="2438280"/>
                <a:gridCol w="990720"/>
                <a:gridCol w="761760"/>
                <a:gridCol w="1676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c320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ecember 15, 2008, TPTF endorsed the Draft NPRR, Clarify the Calculation and Posting of LMPs for the Load Zone and LMPs for each Hub, with a preliminary essentiality status of "Needed for Go-Live.” TPTF requested that the NPRR be submitted to PRS on behalf of TPTF and that the IA be performed by ERCOT and returned to TPTF as soon as possi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Power Mark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ar Energy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Joel Mickey</dc:creator>
  <dc:description/>
  <dc:language>en-US</dc:language>
  <cp:lastModifiedBy>ERCOT Staff</cp:lastModifiedBy>
  <dcterms:modified xsi:type="dcterms:W3CDTF">2008-12-29T18:57:45Z</dcterms:modified>
  <cp:revision>1348</cp:revision>
  <dc:subject/>
  <dc:title>TAC Update</dc:title>
</cp:coreProperties>
</file>