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93EE-F73A-49DF-8805-C61BF9BF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EB1A-A6C8-49BD-A597-8183FF48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1FDE-7E05-4E38-A52B-B35DD22E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E261-8232-4F0E-A7AA-9E7158C8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07E9-4CD4-43B2-9E9A-4F510F09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5AE04-7E2F-413C-9C2D-A04B72F3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206B8-0908-4089-8D9E-DFC1547E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81BFE-ACD4-4834-8FF5-125F2B91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30F83-1D87-4DBF-B11B-4F7E1C06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7D367-FEA7-416D-9F08-4CEBCE79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696B-1F7E-4E51-8C56-F3826B15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6ADA4-1691-45E4-AAE7-6702A251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3C467-728F-44D2-A482-15354363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E8A8D-DE3E-410E-8CC1-FCA78EBE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65346-BBF7-46FE-894E-F5100514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32259-8154-4932-812A-CE628CBA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E5EC82-6DD6-4554-BABB-F90B7C52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C508B-1D7F-4B1D-9563-8D7F8CFD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93D1-6AC8-472D-89C8-68BA8B0B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636F-B2B4-4E8C-91B5-A4A86237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A1A3-EAC9-4889-8651-01E3DD84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16A8-1536-4CDC-8053-9A64E0C4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7A47-AB9F-4BD2-9FAB-497952D8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C90F-8B2B-4913-ADFF-813CCCDC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3DB4-4B69-4A63-A3DA-9F3910609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7868-21B7-4F03-8696-E42257E1135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2BAA-1CFD-4AAF-A33A-153B94915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4324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A01B-1B35-4866-89F0-9B31F71BA3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EA9A-ABE1-466A-B60C-C7C0D72CA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8 proposed WMS activitie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2600" y="1066680"/>
          <a:ext cx="7886520" cy="4017960"/>
        </p:xfrm>
        <a:graphic>
          <a:graphicData uri="http://schemas.openxmlformats.org/drawingml/2006/table">
            <a:tbl>
              <a:tblPr/>
              <a:tblGrid>
                <a:gridCol w="5962680"/>
                <a:gridCol w="1923840"/>
              </a:tblGrid>
              <a:tr h="75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MS input/direction needed 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dal Market reports / Content, Structure, reten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ing convention for CR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ved in April 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 issues associated with negative LaaR b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on 11/17/200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dal Verifiable Cost Method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CWG created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jor Issu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ission Co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bined Cycle Resourc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-go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whether a limit on the number of CRR auction bids should be implemen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waiting ERCOT feedba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termine CSCs for 2009?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ual CCT for Nodal (use CSCs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ed in  October subject to appea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elop a policy and draft PRR for setting maximum Shadow Pr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R772 Implemented Septem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C46E-B283-4AC3-AC86-5E5E8C71935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4B5ED5-94AA-4C92-8A7E-3850A59614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8 proposed WMS activitie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52600" y="1066680"/>
          <a:ext cx="7886520" cy="3919680"/>
        </p:xfrm>
        <a:graphic>
          <a:graphicData uri="http://schemas.openxmlformats.org/drawingml/2006/table">
            <a:tbl>
              <a:tblPr/>
              <a:tblGrid>
                <a:gridCol w="5962680"/>
                <a:gridCol w="1923840"/>
              </a:tblGrid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MS input/direction needed 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CR Auctions for December 2008 &amp; beyond if we go live post-Dec 2008 (contingency pl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ed with monthly and annual TCR auctions per the current Protoco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TCR auction revenues not yet distributed to Loads at the time of Texas Nodal Market Implementation would be refunded to TCR purchasers per PRR743 methodology – annual (remaining days), monthly and portion of month methodolog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gency plans if integrated NMMS not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-coming or Not Necessa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dal Del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dynamic rating input assumptions for CRR Network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-co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dal Del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ailability of long-term PTP Obligations (beyond one month ahea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-co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dal Del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CA2B-7ECE-4911-91E5-478F2C41DF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59633D-ADFD-4DD2-A315-65AFA324B0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rbara Clemenhagen</cp:lastModifiedBy>
  <dcterms:modified xsi:type="dcterms:W3CDTF">2008-12-17T18:57:43Z</dcterms:modified>
  <cp:revision>331</cp:revision>
  <dc:subject/>
  <dc:title>Texas Nodal Market Implementation ERCOT Board of Directors Meeting Budget Rationale October 17, 2006  Kathy Hager, Market Redesign Program Director </dc:title>
</cp:coreProperties>
</file>