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6F75-0F40-48D5-A030-A1192455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B560-60D9-47E3-9024-B9D372BA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8721-24C4-4C47-9FC2-3A04F924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1D59-FDDD-4B0B-BC56-85818568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FD45-A8E3-44DE-A74F-95B41C06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0C52-748A-450D-BFFB-63E9E4F8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B863-0033-470F-B8F4-2FDE64B7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D3E4-22BC-4F49-8573-B84C2EA6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59A0-42BA-4779-B419-8A741575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DF22-61E2-4814-9FCD-74331252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474A-238A-4F09-8FB4-7ED395FB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4E76-C86B-4A8F-9E24-8329E521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CCA2-75CD-4048-8370-D7F79E1D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BE61-6904-486E-9D6D-B57B0FB4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7FD5-CD16-4F91-9085-263C71C9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FE49-876F-4890-AA65-74BE7E66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98C5-D9E4-476C-82CE-691F4EA7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B810-FD1D-4FB2-B0D9-426D3E87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E763-7473-4772-AC72-18F5891E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889-17B3-47B4-9523-39FF3567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09E-7CB6-4FA4-9CC9-6A9C37CA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0C7A-9D6D-48CE-B2CB-3A35750D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BEFE-203F-46A5-BC4D-62288323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6D35-BBD4-4F47-90A8-5462A6D4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385A-0E03-4062-AE5D-172F189B65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0E6A-324A-4B55-952D-F8348E4D37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008 ERCOT LaaRs CAPABILITY STUD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ucted by ERCOT DW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UDY DUR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ng study duration.  Required engineering people-hours &gt;&gt;&gt; Available engineering people-hou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 intensive study.  Massive amount of work involved with preparing model data, planning simulations, running simulations, interpreting results, planning and running follow-up simul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WG engineering people-hours became scarce in 2008.  DWG composed of volunteers from TSPs within ERCOT.  DWG members experienced a significant shift in workloads within their companies during 2008.  In addition to normal transmission planning duti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rge in generation interconnect stud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rge in industrial load facility interconnect stud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reliability stud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t some DWG expertise in 2008 due to promotion/reassignment of du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UDY RESUL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making a decision on the maximum amount of LaaRs that can be reliably deployed via underfrequency relay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driver is how the LaaR relays are, or will be set in terms of frequency trip setting.  In gene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est allowable LaaR amounts correspond to scenarios where all LaaRs trip at the same frequenc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LaaR amounts are allowable to varying degrees as LaaRs are spread out over a range of trip frequenc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ary consideration is how the LaaRs are, or will be geographically distribu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6.10.3.2 of the ERCOT Protocols allow a LaaR to be deployed at up to 150% of the amount requested by ERCOT at the time of testing the LaaR.  This potential variance between contracted and actual LaaR amount should be considered when establishing LaaR limi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is point, the DWG seeks the following answers from ROS/TAC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the study conclusions pertaining to the 59.7 Hz tier sufficient for ROS/TAC decision mak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ing quantitative conclusions for the 59.8 Hz ti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re still a need for higher tier Laa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so, we need to specify the following 59.7 Hz tier parameters for such analys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aR relay trip frequenc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aR lo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1T19:12:32Z</dcterms:created>
  <dc:creator>BTS</dc:creator>
  <dc:description/>
  <dc:language>en-US</dc:language>
  <cp:lastModifiedBy>BTS</cp:lastModifiedBy>
  <dcterms:modified xsi:type="dcterms:W3CDTF">2009-01-02T13:26:07Z</dcterms:modified>
  <cp:revision>8</cp:revision>
  <dc:subject/>
  <dc:title>Slide 1</dc:title>
</cp:coreProperties>
</file>