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3A72B-2585-4DDA-BB91-B5D69F62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6C7D7-851C-49A5-983A-8F21BD91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BE100-868D-4A00-B159-F0316E84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744E1-4622-4A48-A45F-23899553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1F4CB-6415-4F88-BDCB-647FE5CD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7A0D4-3F3E-47E0-AF70-131D6E1A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AD0E5-8A4D-4B84-B0AF-9091AEA5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80888-FFF9-4122-9ED0-B5BB6EC9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BA16C-3266-4340-A4C1-FC9918DA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826CA-9AED-414B-8E6F-1BC21C02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F66A5-2F48-4511-A28E-BF650600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12551-924D-4180-B852-2591C23F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EB38-16D8-47F4-8CDD-E28C78C8D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A378-AA2B-4993-8374-7606094A3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4760" y="1981080"/>
            <a:ext cx="60195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009 Project Reforecas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14120" y="3657240"/>
            <a:ext cx="649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RCOT Program Management Offic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January 8, 2009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Reforecast – Introductory Commen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9 project budget has increased from $12.7M to $18.4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y driver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determined there is a critical need to expand the Taylor data center in order to properly maintain current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in addition to the data center work planned as part of the Met Center Disposition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6.75M project added to the CO list to expand the current Taylor data center into the remaining raised floor space of TC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-wide effort to fund the data center expansion projec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intain the current 41.71 cent System Administration F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Strategic Review Team (SRT) recommended various reductions to the project budget to assist in the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executives elected to take two measures impacting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erred the CO project to reconfigure the offices in TCC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the project contingency on all projects that are not yet started from 35% to 2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CT and market projects were exempt from the contingency re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54004-493E-48E6-B87F-3F998DAA85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Reforecast – Schedu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9 Project Prioritization Sche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1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 Initiative Lists drafted, revised and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s revise 2009 Initiative Lists to prepare for market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o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eview by market subcommitt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ed by COPS and 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m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updates by ROS, W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vember 13 / November 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S approved all project lis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vember 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January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by T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anuary 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for F&amp;A and Bo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anuary 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011AD-8179-4F4C-8B60-A1E3859AD1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Reforecast – Activity Since PRS Approva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 (Corporate Operation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 of Data Center Expansion to meet short term data center need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$6.75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erral of Taylor TCC1 Office Reconfigu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$0.45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contingency for projects not yet start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$0.02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O  (IT Operation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contingency for projects not yet start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$0.41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 (Market Operation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contingency for projects not yet started (excludes market project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$0.03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 (Retail Operation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contingency for projects not yet started (excludes market project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$0.06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 (System Operation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contingency for projects not yet started (excludes market project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$0.05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ing effort to update Impact Analyses and CBAs f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R601, PRR675, PRR409, SCR720, SCR7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ct to have the updated IAs and CBAs available for PRS on 1/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S reviewed and approved the combined project lists on 11/20/200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budget estimate at time of PRS approval = $12.7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project budget estimate = $18.4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76644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 impacts to PUCT and market pro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CD3DE-7718-44C0-82D5-39282CA895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Reforecast – Summary by CAR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93840" y="4724280"/>
          <a:ext cx="8457840" cy="381240"/>
        </p:xfrm>
        <a:graphic>
          <a:graphicData uri="http://schemas.openxmlformats.org/drawingml/2006/table">
            <a:tbl>
              <a:tblPr/>
              <a:tblGrid>
                <a:gridCol w="2075760"/>
                <a:gridCol w="1922040"/>
                <a:gridCol w="2153520"/>
                <a:gridCol w="2306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Met C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0,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0,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    0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380880" y="5410080"/>
            <a:ext cx="7086600" cy="304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 The Met Center project is funded by a separate line item in the ERCOT bud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80880" y="1066680"/>
          <a:ext cx="8458200" cy="3202200"/>
        </p:xfrm>
        <a:graphic>
          <a:graphicData uri="http://schemas.openxmlformats.org/drawingml/2006/table">
            <a:tbl>
              <a:tblPr/>
              <a:tblGrid>
                <a:gridCol w="2075040"/>
                <a:gridCol w="1923840"/>
                <a:gridCol w="2152800"/>
                <a:gridCol w="230652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 Budge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 Re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dated Re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77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8,06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6,285,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5,52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5,11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410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5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5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 30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4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39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 60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400,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350,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 50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2,7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8,43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5,73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7E265-F3A1-46FE-A0BA-CE0C0DBC4A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roy Anderson</cp:lastModifiedBy>
  <dcterms:modified xsi:type="dcterms:W3CDTF">2009-01-03T22:45:23Z</dcterms:modified>
  <cp:revision>318</cp:revision>
  <dc:subject/>
  <dc:title>Instructions</dc:title>
</cp:coreProperties>
</file>