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6AA0B-9543-4D30-838B-94768594E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9C8D-3D1C-4AE1-8252-D7FDEE713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396CA-D975-4C1D-833D-593ADF64D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AF93D-8840-4DB8-AB92-09EF2C237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98781-2B23-4CB1-A676-3863D75B6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27F98-1A84-4CF1-A416-0D32610ED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0A5D9-7CB0-4AD7-B093-A3F8A4C4D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DE945-BD1D-48BA-B19F-38903FD37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09844-8513-404D-BA4A-5CA9CD843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9A445-5CA5-474A-B0B1-6E6F28921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CEC4B-E921-4D95-AB93-2BD57199B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BA88C-E679-4C36-9115-E0E7AE0D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32135-A45F-46A6-BEC0-8DB2C7030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31629-2B49-4C3D-A2B2-287364B6E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AD363-2FB4-4B94-8C1C-8B253C896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C2F10-8648-44D7-93F8-31674A395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92E4F-671C-42C7-A953-B1DB1FF8F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04375-6B4A-4CAB-AAE8-CE0A97D83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39782-A43E-42D4-AFF1-9A7876BC3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24DC0-C4AD-4946-9346-98A464679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F3661-18BD-4082-BCBD-80C871A3C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D5C5-1FE9-42B1-9BD9-AD9C04D30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77AA-E035-4487-9544-8D24BB43C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01E56-EC30-4E68-8109-7548E06CD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BF26-20A4-46AE-B839-0602C765580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498A-52F9-44DB-8670-CE0C985A271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January 8, 2009</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
          <p:cNvSpPr/>
          <p:nvPr/>
        </p:nvSpPr>
        <p:spPr>
          <a:xfrm>
            <a:off x="7315200" y="60958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e Starr, B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86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Hope Parrish provided COPS the following Updates:</a:t>
            </a:r>
            <a:endParaRPr b="0" lang="en-US" sz="2800" spc="-1" strike="noStrike">
              <a:solidFill>
                <a:srgbClr val="ffffff"/>
              </a:solidFill>
              <a:latin typeface="Arial"/>
            </a:endParaRPr>
          </a:p>
        </p:txBody>
      </p:sp>
      <p:sp>
        <p:nvSpPr>
          <p:cNvPr id="164" name="PlaceHolder 2"/>
          <p:cNvSpPr>
            <a:spLocks noGrp="1"/>
          </p:cNvSpPr>
          <p:nvPr>
            <p:ph/>
          </p:nvPr>
        </p:nvSpPr>
        <p:spPr>
          <a:xfrm>
            <a:off x="304560" y="1066320"/>
            <a:ext cx="8839080" cy="579132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MO Projects Financial Overview </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ed </a:t>
            </a:r>
            <a:r>
              <a:rPr b="1" lang="en-US" sz="2000" spc="-1" strike="noStrike">
                <a:solidFill>
                  <a:srgbClr val="ffffff"/>
                </a:solidFill>
                <a:latin typeface="Times New Roman"/>
              </a:rPr>
              <a:t>2008 project Prioritization</a:t>
            </a:r>
            <a:r>
              <a:rPr b="0" lang="en-US" sz="2000" spc="-1" strike="noStrike">
                <a:solidFill>
                  <a:srgbClr val="ffffff"/>
                </a:solidFill>
                <a:latin typeface="Times New Roman"/>
              </a:rPr>
              <a:t> – PUCT, Market &amp; ERCOT MO projects – Listing activity above and below the “cut lin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ed all projects committed to deliver in 2008 that were achieved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iewed MO 2009 PPL approved by PRS (Current + 2008 carryover + projects deferred due to Nodal delay)</a:t>
            </a:r>
            <a:endParaRPr b="0" lang="en-US" sz="20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Nodal COMS Update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tlements &amp; Billing,  and Data Aggregation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ration and Disputes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it Monitoring and Mgmt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S Remaining Software Release Schedul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rcial Systems Extracts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iness Center Posting Lo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C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6" name="PlaceHolder 2"/>
          <p:cNvSpPr>
            <a:spLocks noGrp="1"/>
          </p:cNvSpPr>
          <p:nvPr>
            <p:ph/>
          </p:nvPr>
        </p:nvSpPr>
        <p:spPr>
          <a:xfrm>
            <a:off x="152280" y="837720"/>
            <a:ext cx="8229600" cy="5867640"/>
          </a:xfrm>
          <a:prstGeom prst="rect">
            <a:avLst/>
          </a:prstGeom>
          <a:noFill/>
          <a:ln w="0">
            <a:noFill/>
          </a:ln>
        </p:spPr>
        <p:txBody>
          <a:bodyPr anchor="t">
            <a:normAutofit/>
          </a:bodyPr>
          <a:p>
            <a:pPr marL="34308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c984"/>
                </a:solidFill>
                <a:latin typeface="Arial"/>
              </a:rPr>
              <a:t>Continues developing nodal Sections in the COPM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ed draft of new Section 12, Renewable Energy Credits. (</a:t>
            </a:r>
            <a:r>
              <a:rPr b="0" i="1" lang="en-US" sz="2400" spc="-1" strike="noStrike">
                <a:solidFill>
                  <a:srgbClr val="ffffff"/>
                </a:solidFill>
                <a:latin typeface="Times New Roman"/>
              </a:rPr>
              <a:t>Section has been sent to Market Rules for review</a:t>
            </a:r>
            <a:r>
              <a:rPr b="0" lang="en-US" sz="2400" spc="-1" strike="noStrike">
                <a:solidFill>
                  <a:srgbClr val="ffffff"/>
                </a:solidFill>
                <a:latin typeface="Times New Roman"/>
              </a:rPr>
              <a:t>)</a:t>
            </a:r>
            <a:endParaRPr b="0" lang="en-US" sz="24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c984"/>
                </a:solidFill>
                <a:latin typeface="Arial"/>
              </a:rPr>
              <a:t>2008 Market Participant Survey (</a:t>
            </a:r>
            <a:r>
              <a:rPr b="0" i="1" lang="en-US" sz="2800" spc="-1" strike="noStrike">
                <a:solidFill>
                  <a:srgbClr val="45c984"/>
                </a:solidFill>
                <a:latin typeface="Times New Roman"/>
              </a:rPr>
              <a:t>Website satisfaction</a:t>
            </a:r>
            <a:r>
              <a:rPr b="0" lang="en-US" sz="2800" spc="-1" strike="noStrike">
                <a:solidFill>
                  <a:srgbClr val="45c984"/>
                </a:solidFill>
                <a:latin typeface="Arial"/>
              </a:rPr>
              <a: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ed a list of recommended improvements for the “ERCOT.com” website to assist ERCOT in understanding website satisfaction survey results.</a:t>
            </a:r>
            <a:endParaRPr b="0" lang="en-US" sz="2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site Improvement Recommendations listed with COPS 12.08.08 materials (</a:t>
            </a:r>
            <a:r>
              <a:rPr b="0" i="1" lang="en-US" sz="2400" spc="-1" strike="noStrike" u="sng">
                <a:solidFill>
                  <a:srgbClr val="ffffff"/>
                </a:solidFill>
                <a:uFillTx/>
                <a:latin typeface="Times New Roman"/>
              </a:rPr>
              <a:t>pages 2 &amp; 3 of report</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DEWG / SDA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76320" y="838080"/>
            <a:ext cx="8610480" cy="55627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Normal report on ERCOT issue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ight decline in number of issues, most recently centered around Lodestar Upgrade, though no major issues.</a:t>
            </a:r>
            <a:endParaRPr b="0" lang="en-US" sz="2000" spc="-1" strike="noStrike">
              <a:solidFill>
                <a:srgbClr val="ffffff"/>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Followed up on the ERCOT stabilization effort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ed projects to watch for in 2009 that address common flaws in the current systems around reports and extracts that need to be maintained until Nodal replacement is implemented.</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Worked with ERCOT to resolve EILS Settlement Issue</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R786, submitted to target ERCOT to use the most recent Load Ratio Share (Final Settlement Version) and so a resettlement using the most current load (True-up Settlement Version)</a:t>
            </a:r>
            <a:endParaRPr b="0" lang="en-US" sz="20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ollowing discussion and review, COPS voted unanimously to recommend support of PRR786 with changes suggested to P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228600"/>
            <a:ext cx="5181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d PWG 2008 Goals</a:t>
            </a:r>
            <a:br>
              <a:rPr sz="2400"/>
            </a:br>
            <a:r>
              <a:rPr b="0" lang="en-US" sz="2000" spc="-1" strike="noStrike">
                <a:solidFill>
                  <a:srgbClr val="ffffff"/>
                </a:solidFill>
                <a:latin typeface="Arial"/>
              </a:rPr>
              <a:t>Ranked by Target Date</a:t>
            </a:r>
            <a:endParaRPr b="0" lang="en-US" sz="2000" spc="-1" strike="noStrike">
              <a:solidFill>
                <a:srgbClr val="ffffff"/>
              </a:solidFill>
              <a:latin typeface="Arial"/>
            </a:endParaRPr>
          </a:p>
        </p:txBody>
      </p:sp>
      <p:pic>
        <p:nvPicPr>
          <p:cNvPr id="170" name="" descr=""/>
          <p:cNvPicPr/>
          <p:nvPr/>
        </p:nvPicPr>
        <p:blipFill>
          <a:blip r:embed="rId1"/>
          <a:stretch/>
        </p:blipFill>
        <p:spPr>
          <a:xfrm>
            <a:off x="304920" y="1066680"/>
            <a:ext cx="853416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200" spc="-1" strike="noStrike">
                <a:solidFill>
                  <a:srgbClr val="ffff00"/>
                </a:solidFill>
                <a:latin typeface="Times New Roman"/>
              </a:rPr>
              <a:t>COPS</a:t>
            </a:r>
            <a:r>
              <a:rPr b="0" lang="en-US" sz="3600" spc="-1" strike="noStrike">
                <a:solidFill>
                  <a:srgbClr val="ffffff"/>
                </a:solidFill>
                <a:latin typeface="Arial"/>
              </a:rPr>
              <a:t> </a:t>
            </a:r>
            <a:r>
              <a:rPr b="0" i="1" lang="en-US" sz="3600" spc="-1" strike="noStrike">
                <a:solidFill>
                  <a:srgbClr val="ffff00"/>
                </a:solidFill>
                <a:latin typeface="Times New Roman"/>
              </a:rPr>
              <a:t>2008 Accomplishments</a:t>
            </a:r>
            <a:endParaRPr b="0" lang="en-US" sz="3600" spc="-1" strike="noStrike">
              <a:solidFill>
                <a:srgbClr val="ffffff"/>
              </a:solidFill>
              <a:latin typeface="Arial"/>
            </a:endParaRPr>
          </a:p>
        </p:txBody>
      </p:sp>
      <p:sp>
        <p:nvSpPr>
          <p:cNvPr id="17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ly participated in review of Nodal Settlement Statements and Invoice presentation format.</a:t>
            </a:r>
            <a:endParaRPr b="0" lang="en-US" sz="24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mmended changes to TRE Billing and the ERO assessment fee.</a:t>
            </a:r>
            <a:endParaRPr b="0" lang="en-US" sz="2400" spc="-1" strike="noStrike">
              <a:solidFill>
                <a:srgbClr val="ffffff"/>
              </a:solidFill>
              <a:latin typeface="Arial"/>
            </a:endParaRPr>
          </a:p>
          <a:p>
            <a:pPr marL="343080" indent="-34308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ed closely and provided support to matters as they related to:</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vanced Metering technologies &amp; implementation</a:t>
            </a:r>
            <a:endParaRPr b="0" lang="en-US" sz="2000" spc="-1" strike="noStrike">
              <a:solidFill>
                <a:srgbClr val="ffffff"/>
              </a:solidFill>
              <a:latin typeface="Arial"/>
            </a:endParaRPr>
          </a:p>
          <a:p>
            <a:pPr lvl="1" marL="7430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es necessary to comply with PUCT Rules for Small Distributed Generation</a:t>
            </a:r>
            <a:endParaRPr b="0" lang="en-US" sz="2000" spc="-1" strike="noStrike">
              <a:solidFill>
                <a:srgbClr val="ffffff"/>
              </a:solidFill>
              <a:latin typeface="Arial"/>
            </a:endParaRPr>
          </a:p>
          <a:p>
            <a:pPr lvl="1" marL="7430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Rs, NPRRs, Extracts, and Data as they relate to issues affecting Settleme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PS -</a:t>
            </a:r>
            <a:r>
              <a:rPr b="0" i="1" lang="en-US" sz="3600" spc="-1" strike="noStrike">
                <a:solidFill>
                  <a:srgbClr val="ffff00"/>
                </a:solidFill>
                <a:latin typeface="Arial"/>
              </a:rPr>
              <a:t>Working Group Accomplishments</a:t>
            </a:r>
            <a:endParaRPr b="0" lang="en-US" sz="36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CWG:</a:t>
            </a:r>
            <a:endParaRPr b="0" lang="en-US" sz="24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pdate COPMG and incorporate Nodal material</a:t>
            </a:r>
            <a:endParaRPr b="0" lang="en-US" sz="2100" spc="-1" strike="noStrike">
              <a:solidFill>
                <a:srgbClr val="ffffff"/>
              </a:solidFill>
              <a:latin typeface="Arial"/>
            </a:endParaRPr>
          </a:p>
          <a:p>
            <a:pPr lvl="2" marL="1143000" indent="-228600">
              <a:lnSpc>
                <a:spcPct val="90000"/>
              </a:lnSpc>
              <a:spcBef>
                <a:spcPts val="524"/>
              </a:spcBef>
              <a:buSzPct val="10584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PMGRR 007 – Organizational Structure </a:t>
            </a:r>
            <a:endParaRPr b="0" lang="en-US" sz="2100" spc="-1" strike="noStrike">
              <a:solidFill>
                <a:srgbClr val="ffffff"/>
              </a:solidFill>
              <a:latin typeface="Arial"/>
            </a:endParaRPr>
          </a:p>
          <a:p>
            <a:pPr lvl="2" marL="1143000" indent="-228600">
              <a:lnSpc>
                <a:spcPct val="90000"/>
              </a:lnSpc>
              <a:spcBef>
                <a:spcPts val="524"/>
              </a:spcBef>
              <a:buSzPct val="10584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PMGRR 008 – Market Notice Communication Process for Outages and Processing Impacts</a:t>
            </a:r>
            <a:endParaRPr b="0" lang="en-US" sz="2100" spc="-1" strike="noStrike">
              <a:solidFill>
                <a:srgbClr val="ffffff"/>
              </a:solidFill>
              <a:latin typeface="Arial"/>
            </a:endParaRPr>
          </a:p>
          <a:p>
            <a:pPr lvl="2" marL="1143000" indent="-228600">
              <a:lnSpc>
                <a:spcPct val="90000"/>
              </a:lnSpc>
              <a:spcBef>
                <a:spcPts val="524"/>
              </a:spcBef>
              <a:buSzPct val="10584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ction 12, Renewable Energy Credits – Currently Under Review</a:t>
            </a:r>
            <a:endParaRPr b="0" lang="en-US" sz="21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eviewed COPS Meeting Procedures – Recommended cleanup and language changes</a:t>
            </a:r>
            <a:endParaRPr b="0" lang="en-US" sz="21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formed communications review of Extracts and Reports Service Level Agreement</a:t>
            </a:r>
            <a:endParaRPr b="0" lang="en-US" sz="21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ovided feedback for RMS regarding the ERCOT Market Survey – “Website Satisfaction”</a:t>
            </a:r>
            <a:endParaRPr b="0" lang="en-US" sz="21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04560"/>
            <a:ext cx="8381880" cy="60958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WG/SDAWG:</a:t>
            </a:r>
            <a:endParaRPr b="0" lang="en-US" sz="2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d the Data Extracts and Reports Service Level Agreement</a:t>
            </a:r>
            <a:endParaRPr b="0" lang="en-US" sz="2000" spc="-1" strike="noStrike">
              <a:solidFill>
                <a:srgbClr val="ffffff"/>
              </a:solidFill>
              <a:latin typeface="Arial"/>
            </a:endParaRPr>
          </a:p>
          <a:p>
            <a:pPr lvl="1" marL="743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in conjunction with ERCOT a reporting format to follow and summarize issues with Data Extracts and Reports</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ed all ERCOT Extract and Report issues and conducted post mortem analysis on each item with help from ERCOT staff</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ed with ERCOT to define the scope and projects for 2009 related to System Stability which is required to stabilize current Extracts and Report Environments in light of the Nodal delay</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ved through submittal of PRR 786 the EILS settlement issue</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d the issue of Mismatched schedules due to system dropping market participant transactions and brought awareness to ERCOT on the difficulties in settling under this scenario with counterparties</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lowed the development of Nodal COMS which is the design for Nodal Market Extracts and Repor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151920"/>
            <a:ext cx="2590920" cy="685800"/>
          </a:xfrm>
          <a:prstGeom prst="rect">
            <a:avLst/>
          </a:prstGeom>
          <a:noFill/>
          <a:ln w="0">
            <a:noFill/>
          </a:ln>
        </p:spPr>
        <p:txBody>
          <a:bodyPr lIns="90000" rIns="90000" tIns="46800" bIns="46800" anchor="ctr">
            <a:noAutofit/>
          </a:bodyPr>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WG</a:t>
            </a:r>
            <a:endParaRPr b="0" lang="en-US" sz="2800" spc="-1" strike="noStrike">
              <a:solidFill>
                <a:srgbClr val="ffffff"/>
              </a:solidFill>
              <a:latin typeface="Arial"/>
            </a:endParaRPr>
          </a:p>
        </p:txBody>
      </p:sp>
      <p:sp>
        <p:nvSpPr>
          <p:cNvPr id="177" name="PlaceHolder 2"/>
          <p:cNvSpPr>
            <a:spLocks noGrp="1"/>
          </p:cNvSpPr>
          <p:nvPr>
            <p:ph/>
          </p:nvPr>
        </p:nvSpPr>
        <p:spPr>
          <a:xfrm>
            <a:off x="228240" y="762120"/>
            <a:ext cx="8458200" cy="548640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Renewable Generation (DRG) Load Profiles built (LPGRR027, PRR736, PRR755 withdrawn and PRR756, LPGRR030, LPGRR031 approved)</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 2 sample load research meters installed by July 31, 2008</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of Use Language revised (LPGRR029 and PRR756)</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FE 2007 Report and Hurricane UFE discussions</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report of Hurricane Ike and Edouard</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lement Accuracy Analysis</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Validation 2008</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790 Load Profile ID Annual Validation Change Request</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789 Removal of Grey Box Language</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GRR032 to support 15-minute interim solution for settlement with advanced meter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ee R. Starr</cp:lastModifiedBy>
  <dcterms:modified xsi:type="dcterms:W3CDTF">2008-12-22T22:17:29Z</dcterms:modified>
  <cp:revision>33</cp:revision>
  <dc:subject/>
  <dc:title>Slide 1</dc:title>
</cp:coreProperties>
</file>