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79483400-768F-41DD-991C-F54D35BD68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F0A792AE-8125-4C3A-AFB1-F2012E43BA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60C00D1-22DA-484A-8D20-434A461C46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A6BA274-A7C9-426A-B166-40C402F9E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A4A7DEC-11E2-4B80-A25E-6B7718E6E4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F10B7F1F-3325-4086-8FA6-E9C494E329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7042A025-1FB0-40A2-803E-78526BE9BA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74C641EC-DEBE-475C-BC8B-2227B2BE8C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DF89889-FA40-4124-A43C-A2612B1743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CAC6F0E4-9E7B-4F20-9C44-372E1B239D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C5358EB5-404E-4EC9-90E4-C56D66DA49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E1DE965-A8AC-474B-AADC-EE87D992F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6"/>
          <p:cNvSpPr/>
          <p:nvPr/>
        </p:nvSpPr>
        <p:spPr>
          <a:xfrm>
            <a:off x="7010280" y="630540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mickey@ercot.co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tptf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08/12/20081210-TPTFNO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08/12/20081210-TPTFNOD" TargetMode="External"/><Relationship Id="rId2" Type="http://schemas.openxmlformats.org/officeDocument/2006/relationships/hyperlink" Target="http://nodal.ercot.com/about/po/sch/index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content/committees/board/tac/keydocs/2008/NPRR_Management_Board__041508.doc" TargetMode="External"/><Relationship Id="rId2" Type="http://schemas.openxmlformats.org/officeDocument/2006/relationships/hyperlink" Target="http://nodal.ercot.com/protocols/nprr/126-150/135/index.html" TargetMode="External"/><Relationship Id="rId3" Type="http://schemas.openxmlformats.org/officeDocument/2006/relationships/hyperlink" Target="http://nodal.ercot.com/protocols/nprr/126-150/146/index.html" TargetMode="External"/><Relationship Id="rId4" Type="http://schemas.openxmlformats.org/officeDocument/2006/relationships/hyperlink" Target="http://nodal.ercot.com/protocols/nprr/126-150/149/index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odal.ercot.com/protocols/nprr/151-175/155/index.html" TargetMode="External"/><Relationship Id="rId2" Type="http://schemas.openxmlformats.org/officeDocument/2006/relationships/hyperlink" Target="http://nodal.ercot.com/protocols/nprr/151-175/165/index.html" TargetMode="External"/><Relationship Id="rId3" Type="http://schemas.openxmlformats.org/officeDocument/2006/relationships/hyperlink" Target="http://www.ercot.com/mktrules/issues/prr/675-699/697/index" TargetMode="External"/><Relationship Id="rId4" Type="http://schemas.openxmlformats.org/officeDocument/2006/relationships/hyperlink" Target="http://nodal.ercot.com/protocols/nprr/151-175/169/index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08/12/20081215-TPTF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C817E6A-4758-4C68-857F-11B2F311E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69a2"/>
                </a:solidFill>
                <a:latin typeface="Arial Black"/>
              </a:rPr>
              <a:t>TPTF Update f</a:t>
            </a:r>
            <a:r>
              <a:rPr b="0" lang="en-GB" sz="2400" spc="-1" strike="noStrike">
                <a:solidFill>
                  <a:srgbClr val="5469a2"/>
                </a:solidFill>
                <a:latin typeface="Arial Black"/>
              </a:rPr>
              <a:t>or TAC</a:t>
            </a:r>
            <a:r>
              <a:rPr b="0" lang="en-GB" sz="3600" spc="-1" strike="noStrike">
                <a:solidFill>
                  <a:srgbClr val="5469a2"/>
                </a:solidFill>
                <a:latin typeface="Arial Black"/>
              </a:rPr>
              <a:t> </a:t>
            </a:r>
            <a:br>
              <a:rPr sz="2000"/>
            </a:br>
            <a:r>
              <a:rPr b="0" i="1" lang="en-GB" sz="2000" spc="-1" strike="noStrike">
                <a:solidFill>
                  <a:srgbClr val="5469a2"/>
                </a:solidFill>
                <a:latin typeface="Arial Black"/>
              </a:rPr>
              <a:t>January 8, 2009</a:t>
            </a:r>
            <a:br>
              <a:rPr sz="2000"/>
            </a:br>
            <a:br>
              <a:rPr sz="2800"/>
            </a:br>
            <a:r>
              <a:rPr b="0" lang="en-GB" sz="1600" spc="-1" strike="noStrike">
                <a:solidFill>
                  <a:srgbClr val="5469a2"/>
                </a:solidFill>
                <a:latin typeface="Arial"/>
              </a:rPr>
              <a:t>Joel Mickey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mickey@ercot.com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" name="Picture 5" descr="logo"/>
          <p:cNvPicPr/>
          <p:nvPr/>
        </p:nvPicPr>
        <p:blipFill>
          <a:blip r:embed="rId2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4D27D94-6923-42A5-A125-F9273EA04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xt Meetin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80880" y="792000"/>
            <a:ext cx="861084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 Meeting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uary 7, 2009 – TPTF Preliminary Nodal Schedule Revi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uary 12 – 13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uary 26 – 28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83280" y="2057400"/>
            <a:ext cx="33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 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2008 TPTF Calen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3FF8A3B9-711A-4F73-861B-315AB3F26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9"/>
          <p:cNvSpPr txBox="1"/>
          <p:nvPr/>
        </p:nvSpPr>
        <p:spPr>
          <a:xfrm>
            <a:off x="3733920" y="2438280"/>
            <a:ext cx="1295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4BCF9B3-B5F1-4759-8B2D-2BC26D36E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942840"/>
          <a:ext cx="8763120" cy="1486080"/>
        </p:xfrm>
        <a:graphic>
          <a:graphicData uri="http://schemas.openxmlformats.org/drawingml/2006/table">
            <a:tbl>
              <a:tblPr/>
              <a:tblGrid>
                <a:gridCol w="2209680"/>
                <a:gridCol w="5334120"/>
                <a:gridCol w="1219320"/>
              </a:tblGrid>
              <a:tr h="2764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eeting 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 of recent TPTF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Vote 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 of recent TPTF V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Next Meet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coming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pproval of Milest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V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84DC705-AF6D-47CE-B80B-AE487EF95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80880" y="893880"/>
            <a:ext cx="80773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 the previous TAC Meet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participated in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liminary Nodal Schedule Revie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cember 10, 20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held one regularly scheduled TPTF Meet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ember 15 – 16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0216254-FB1E-4F4A-94F9-DB71C0947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December 10, 2008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80880" y="914400"/>
            <a:ext cx="8534520" cy="31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December 10, 2008, TPTF participated in a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liminary Nodal Schedule Revie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the review, TPTF was provided with an overview of the Preliminary Nodal Integrated Program Schedule, including the following key documents (see postings a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odal.ercot.com/about/po/sch/index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Nodal Integrated Program Tim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Early Delivery Systems (EDS) Project Tim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Program Milestones and Critical Pa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TPTF feedback from this preliminary review was discussed during the regularly scheduled TPTF meeting 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16, 200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C0CE6E8A-F519-42D7-AA5E-0CC535C3A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December 15 – 16, 2008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80880" y="914400"/>
            <a:ext cx="8534520" cy="60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December 15, TPTF discusse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Process Discuss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ight of the new Preliminary Nodal Integrated Program Schedule, TPTF requested that ERCOT provide a January 2009 discussion at TPTF to clarify the current change process, the role of TPTF in reviewing NPRRs/SCRs/NOGRRs, and the possible need to update the document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naging Protocol Content During Texas Nodal Market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Upda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PRR13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Deletion of Unaccounted For Energy (UFE) Analysis Zone Languag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took no action on NPRR135 but requested that a nodal impact analysis be posted prior to the assignment of an essentiality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PRR14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nter-Control Center Communication Protocol (ICCP) Telemetry Information Submittal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December 15, 2008, TPTF reviewed NPRR146 as remanded by PRS and endorsed TPTF comments to be submitted to PRS. The endorsement carried by unanimous roll-call vote. The Consumer Market Segment was not represented for the vo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PRR14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hange the name of Emergency Electric Curtailment Plan (EECP) to Energy Emergency Alert (EEA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took no action on NPRR149 but requested that a nodal impact analysis be posted prior to the assignment of an essentiality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06611B0-FCB1-4F5A-9C0B-537396C4C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December 15 – 16, 2008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80880" y="914400"/>
            <a:ext cx="853452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December 15, TPTF discussed (continue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Updates (continue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PRR15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larification of Authorized Representati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took no action on this NP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PRR16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ynchronizing Section 1 with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R6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deferred discussion of NPRR165 to January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NPRR, Clarify the Calculation and Posting of Locational Marginal Prices (LMPs) for the Load Zone and LMPs for Each Hub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December 15, 2008, TPTF endorsed this draft NPRR to be submitted to PRS on behalf of TPTF with a preliminary essentiality status of "Needed for Go-Live." TPTF requested that an Impact Analysis (IA) be performed by ERCOT and returned to TPTF as soon as possible. The endorsement carried by roll-call vote with 100% in favor and one abstention from the Independent Power Marketer (IPM) Market Segment. The Independent Generator and Consumer Market Segments were not represented for the vo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raft NPRR was subsequently posted a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PRR1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F4FDEAA-A123-474C-A322-8178382ED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December 15 – 16, 2008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80880" y="914400"/>
            <a:ext cx="853452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December 15, TPTF discussed (continue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ability Unit Commitment (RUC) Implement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received clarifications regarding how the current RUC implementation reflects Nodal Protocols. TPTF provided feedback to the clarifications for additional consideration during a future TPTF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Requirements Up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discussed the proposed approach to reviewing Business Requirements and Conceptual System Designs (CSDs), which are currently being updated to reflect the incorporation of post-Baseline 2 NPRRs, NOGRRs, and SCRs. TPTF will begin reviewing/approving the updated documentation in early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0C61802-F860-4020-9849-F0C9BCC67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December 15 – 16, 2008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80880" y="914400"/>
            <a:ext cx="853452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December 16, TPTF discuss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Status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Nodal Integrated Program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discussed initial feedback for the new schedule and requested that ERCOT coordinate an additional, ad hoc meeting to discuss the new schedule further on January 7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Vote Summary – December 15 – 16, 200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914400"/>
          <a:ext cx="8610480" cy="2317680"/>
        </p:xfrm>
        <a:graphic>
          <a:graphicData uri="http://schemas.openxmlformats.org/drawingml/2006/table">
            <a:tbl>
              <a:tblPr/>
              <a:tblGrid>
                <a:gridCol w="2743200"/>
                <a:gridCol w="2438280"/>
                <a:gridCol w="990720"/>
                <a:gridCol w="761760"/>
                <a:gridCol w="16765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e 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ain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ten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</a:tr>
              <a:tr h="3070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December 15, 2008, TPTF endorsed comments for NPRR146, ICCP Telemetry Information Submittals, to be submitted to P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or Owned Ut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Gener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R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Power Mark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160"/>
          <p:cNvSpPr/>
          <p:nvPr/>
        </p:nvSpPr>
        <p:spPr>
          <a:xfrm>
            <a:off x="380880" y="58672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the votes in this summary are available for pick-up from the December 15-16 TPTF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eeting Pag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F8BFE34F-2D58-4E5C-9803-5496B58CB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3352680"/>
          <a:ext cx="8610480" cy="2371680"/>
        </p:xfrm>
        <a:graphic>
          <a:graphicData uri="http://schemas.openxmlformats.org/drawingml/2006/table">
            <a:tbl>
              <a:tblPr/>
              <a:tblGrid>
                <a:gridCol w="2743200"/>
                <a:gridCol w="2438280"/>
                <a:gridCol w="990720"/>
                <a:gridCol w="761760"/>
                <a:gridCol w="16765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e 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ain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ten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</a:tr>
              <a:tr h="3070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December 15, 2008, TPTF endorsed the Draft NPRR, Clarify the Calculation and Posting of LMPs for the Load Zone and LMPs for each Hub, with a preliminary essentiality status of "Needed for Go-Live.” TPTF requested that the NPRR be submitted to PRS on behalf of TPTF and that the IA be performed by ERCOT and returned to TPTF as soon as possi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or Owned Ut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Gener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R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Power Mark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ar Energy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49:24Z</dcterms:created>
  <dc:creator>Joel Mickey</dc:creator>
  <dc:description/>
  <dc:language>en-US</dc:language>
  <cp:lastModifiedBy>ERCOT Staff</cp:lastModifiedBy>
  <dcterms:modified xsi:type="dcterms:W3CDTF">2008-12-29T18:57:45Z</dcterms:modified>
  <cp:revision>1348</cp:revision>
  <dc:subject/>
  <dc:title>TAC Update</dc:title>
</cp:coreProperties>
</file>