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94A-665E-476B-8701-BCF8DC98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D85-8775-4D9E-8EAE-8FF6DC7D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87D-50ED-49F2-A203-0892832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C4D-4D4E-4694-9301-BB01C6DF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6205-CDA8-4F31-99CE-40213110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6A0-8491-42A0-8100-4660D29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86B-5CA2-42E9-9953-55408185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40A-BCFF-455C-9724-B2EB1358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88B-39C1-44EF-A233-41043AA9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DF90-A48E-42BB-B150-AD6374D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A91F-C367-4591-B9E5-C86BF8D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80B-689A-49D5-95AC-84B28FA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755-234B-4F05-9805-464C9A2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38AD-01C6-41E6-BE23-9F0F900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DA21-21A6-4C76-B12C-5A162C5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C4F2-2449-4901-8584-FB694419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0974-A81D-45B1-B5AF-49CAF21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F8F-BC7E-4478-974C-2DD3251B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C2D-7343-4BE1-87E0-E9FDAB4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85F-2C42-44D2-8874-E8BDE81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CA6-E918-44A7-8B7A-D1A61DF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0C2-EE44-4020-B939-28A6D4E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028-D448-4D47-8A10-03D40FD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5AA-1D29-46DD-B061-1071B9CB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B385-180A-4F34-B30D-E6EE5DDA9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3BBA-CF33-4E12-8174-0D49224A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8, 2009 TAC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approved at ROS December meeting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GRR21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CP Media Appe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GRR2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CP Media Appe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C CI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Representatives for 2009 (Texas RE Region / ERCOT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PW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itical Infrastructure Protection Working Group), Working Group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T SAR005/SAR006/SAR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SE Applicability from NERC Reliability Standards EOP-002 and MOD-017 through MOD-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late of members for the SDT (Standard Drafting T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QSEs to Enter Outages for All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comments from O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d to February meeting to allow further v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5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mission Outage Notice Detail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review by the O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TF (Wind Operations Task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ERCOT not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-D111308-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tocol Interpretation Request on Reactive Power Capabil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io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Update on TAC Assignmen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rricane Ik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(January 8, 2009 TAC Agenda I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7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GR QSE Metric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to OWG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target for recommendation to TAC by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AR Stud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target for ROS Voting Item in January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05401</cp:lastModifiedBy>
  <dcterms:modified xsi:type="dcterms:W3CDTF">2008-12-15T15:40:44Z</dcterms:modified>
  <cp:revision>121</cp:revision>
  <dc:subject/>
  <dc:title>ROS’ Action Plan – Following Up on 2/26 EECP &amp; Wind Workshop Issues</dc:title>
</cp:coreProperties>
</file>