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03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6"/>
          </p:nvPr>
        </p:nvSpPr>
        <p:spPr>
          <a:xfrm>
            <a:off x="3887280" y="0"/>
            <a:ext cx="29703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360" y="8686800"/>
            <a:ext cx="297036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8"/>
          </p:nvPr>
        </p:nvSpPr>
        <p:spPr>
          <a:xfrm>
            <a:off x="3887280" y="8686800"/>
            <a:ext cx="29703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DE0A-E50C-49D6-B8EE-DFD29EAFA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7280" y="8686800"/>
            <a:ext cx="29703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CE80-0053-406B-BAC2-80423FDCF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036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036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7280" y="0"/>
            <a:ext cx="29703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13E1-DC06-4EB9-99AA-25EB74335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ing – November numbers are prelimina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ing – November numbers are prelim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68D3A6-D9B7-446E-B411-AFE2DD611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A10EDE-C920-4537-B36C-FF601FF19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A7B0C1D-8522-4A2A-A992-32E176F23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286E86-FE78-482C-9E4B-24FF8D1C72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30D66C-44EF-4AE3-82F9-E295790CE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717BF1-DD7B-41F3-A4BF-D66AA3612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354C72-A782-4F62-97FC-E2A0A3C5F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55022A-A87B-48FF-9E9B-EAF14CC0A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12D9C1-1759-4AA7-9379-F5D3ADF82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234F5C-EE3D-4AE4-8B98-0201D1FA9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FF2387-AF57-4FF6-9680-96CFEEC77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ABE825-11F1-4EDC-B1C1-08D23D5D89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ADE9-6A39-426F-ADA4-52D19F0AB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5638320" y="6458040"/>
            <a:ext cx="3124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8, 2009</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0B97-D1AA-4C8C-9455-7B94F766B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8, 2009</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3160" y="1904760"/>
            <a:ext cx="665820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as Nodal Program Implementation:</a:t>
            </a:r>
            <a:br>
              <a:rPr sz="2400"/>
            </a:br>
            <a:r>
              <a:rPr b="0" lang="en-US" sz="2400" spc="-1" strike="noStrike">
                <a:solidFill>
                  <a:srgbClr val="ffffff"/>
                </a:solidFill>
                <a:latin typeface="Arial Black"/>
              </a:rPr>
              <a:t>P</a:t>
            </a:r>
            <a:r>
              <a:rPr b="0" lang="en-US" sz="2000" spc="-1" strike="noStrike">
                <a:solidFill>
                  <a:srgbClr val="ffffff"/>
                </a:solidFill>
                <a:latin typeface="Arial Black"/>
              </a:rPr>
              <a:t>rogram Update</a:t>
            </a:r>
            <a:endParaRPr b="0" lang="en-US" sz="2000" spc="-1" strike="noStrike">
              <a:solidFill>
                <a:srgbClr val="ffffff"/>
              </a:solidFill>
              <a:latin typeface="Arial Black"/>
            </a:endParaRPr>
          </a:p>
        </p:txBody>
      </p:sp>
      <p:sp>
        <p:nvSpPr>
          <p:cNvPr id="99"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n Hinsley</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Program Updat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odal Program Update</a:t>
            </a:r>
          </a:p>
        </p:txBody>
      </p:sp>
      <p:sp>
        <p:nvSpPr>
          <p:cNvPr id="3" name="PlaceHolder 2"/>
          <p:cNvSpPr>
            <a:spLocks noGrp="1"/>
          </p:cNvSpPr>
          <p:nvPr>
            <p:ph type="sldNum" idx="1"/>
          </p:nvPr>
        </p:nvSpPr>
        <p:spPr/>
        <p:txBody>
          <a:bodyPr/>
          <a:p>
            <a:fld id="{A2B539A0-9302-40DF-875C-04D77BE54E2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genda</a:t>
            </a:r>
            <a:endParaRPr b="0" lang="en-US" sz="2200" spc="-1" strike="noStrike">
              <a:solidFill>
                <a:srgbClr val="ffffff"/>
              </a:solidFill>
              <a:latin typeface="Arial Black"/>
            </a:endParaRPr>
          </a:p>
        </p:txBody>
      </p:sp>
      <p:sp>
        <p:nvSpPr>
          <p:cNvPr id="101"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liminary Schedule Revie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isks / Issu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A3BB2BEE-4DCA-428F-BAE9-AE596F02AD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lights – 1</a:t>
            </a:r>
            <a:endParaRPr b="0" lang="en-US" sz="2000" spc="-1" strike="noStrike">
              <a:solidFill>
                <a:srgbClr val="ffffff"/>
              </a:solidFill>
              <a:latin typeface="Arial Black"/>
            </a:endParaRPr>
          </a:p>
        </p:txBody>
      </p:sp>
      <p:sp>
        <p:nvSpPr>
          <p:cNvPr id="103" name="PlaceHolder 2"/>
          <p:cNvSpPr>
            <a:spLocks noGrp="1"/>
          </p:cNvSpPr>
          <p:nvPr>
            <p:ph/>
          </p:nvPr>
        </p:nvSpPr>
        <p:spPr>
          <a:xfrm>
            <a:off x="456840" y="914040"/>
            <a:ext cx="8458200" cy="5334120"/>
          </a:xfrm>
          <a:prstGeom prst="rect">
            <a:avLst/>
          </a:prstGeom>
          <a:noFill/>
          <a:ln w="0">
            <a:noFill/>
          </a:ln>
        </p:spPr>
        <p:txBody>
          <a:bodyPr lIns="90000" rIns="90000" tIns="46800" bIns="46800" anchor="t">
            <a:normAutofit/>
          </a:bodyPr>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asks on the program critical path are currently behind schedul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Project Highligh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 delivered a synchronized model (v1.21 schema and data set) on Dec. 10 – a major milestone delivered on time.  </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S Outage Evaluation, Voltage Support,  Interfaces, and Displays release completed FAT on Nov. 14.  The team recently also completed FAT testing on the Habitat 5.6 Security Patch on Dec. 11</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4 FAT for Patch5 completed on Nov. 21.  MMS4 FAT testing for Patch6 is currently underway</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FAT for Patch1.08 completed on Dec. 11.  This completes FAT for the CRR4 release</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S completed FAT on their Registration/Disputes release (REG4/DISP2) on Dec. 10 and completed a migration to production on Dec. 14.  They also completed FAT on the Settlement &amp; Billing Data Aggregation release (Lodestar bundle for data aggregation re-write) on Dec. 19</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6F7D64FD-DD38-4645-91C0-D25B9AAAB7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lights – 2</a:t>
            </a:r>
            <a:endParaRPr b="0" lang="en-US" sz="2000" spc="-1" strike="noStrike">
              <a:solidFill>
                <a:srgbClr val="ffffff"/>
              </a:solidFill>
              <a:latin typeface="Arial Black"/>
            </a:endParaRPr>
          </a:p>
        </p:txBody>
      </p:sp>
      <p:sp>
        <p:nvSpPr>
          <p:cNvPr id="105" name="PlaceHolder 2"/>
          <p:cNvSpPr>
            <a:spLocks noGrp="1"/>
          </p:cNvSpPr>
          <p:nvPr>
            <p:ph/>
          </p:nvPr>
        </p:nvSpPr>
        <p:spPr>
          <a:xfrm>
            <a:off x="456840" y="914040"/>
            <a:ext cx="8001000" cy="533412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cast released their report of the assessment of the new integrated schedule and budget on Dec. 19</a:t>
            </a:r>
            <a:endParaRPr b="1"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cites progress in program controls, accountability and transparency</a:t>
            </a:r>
            <a:endParaRPr b="0"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outlines remaining challenges and risks (see risk slide)</a:t>
            </a:r>
            <a:endParaRPr b="0" lang="en-US" sz="2000" spc="-1" strike="noStrike">
              <a:solidFill>
                <a:srgbClr val="000000"/>
              </a:solidFill>
              <a:latin typeface="Arial"/>
            </a:endParaRPr>
          </a:p>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looking into alternatives to renegotiating contracts with product vendors</a:t>
            </a:r>
            <a:endParaRPr b="1" lang="en-US" sz="2000" spc="-1" strike="noStrike">
              <a:solidFill>
                <a:srgbClr val="000000"/>
              </a:solidFill>
              <a:latin typeface="Arial"/>
            </a:endParaRPr>
          </a:p>
          <a:p>
            <a:pPr marL="34308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080A28AB-9938-4F11-AE4D-5C54C9B388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Scope is Locked Down</a:t>
            </a:r>
            <a:endParaRPr b="0" lang="en-US" sz="2000" spc="-1" strike="noStrike">
              <a:solidFill>
                <a:srgbClr val="ffffff"/>
              </a:solidFill>
              <a:latin typeface="Arial Black"/>
            </a:endParaRPr>
          </a:p>
        </p:txBody>
      </p:sp>
      <p:sp>
        <p:nvSpPr>
          <p:cNvPr id="107" name="PlaceHolder 2"/>
          <p:cNvSpPr>
            <a:spLocks noGrp="1"/>
          </p:cNvSpPr>
          <p:nvPr>
            <p:ph/>
          </p:nvPr>
        </p:nvSpPr>
        <p:spPr>
          <a:xfrm>
            <a:off x="456840" y="914040"/>
            <a:ext cx="8001000" cy="5334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ope for the December 2010 release of the Nodal Program schedule should be locked down with any proposed changes subject to a strict change control process – Utilicas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ange requests (NPRRs, SCRs, CIs) will be judged on impact to schedule and budge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comment on schedule and budget impact only, not on market ne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have been submitted for NPRR164</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752 discussion – impact to Outage Scheduler</a:t>
            </a:r>
            <a:endParaRPr b="1" lang="en-US" sz="2000" spc="-1" strike="noStrike">
              <a:solidFill>
                <a:srgbClr val="000000"/>
              </a:solidFill>
              <a:latin typeface="Arial"/>
            </a:endParaRPr>
          </a:p>
          <a:p>
            <a:pPr marL="34308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50B21DC0-28E6-438C-9E33-1F929CB1C0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ffing</a:t>
            </a:r>
            <a:endParaRPr b="0" lang="en-US" sz="2000" spc="-1" strike="noStrike">
              <a:solidFill>
                <a:srgbClr val="ffffff"/>
              </a:solidFill>
              <a:latin typeface="Arial Black"/>
            </a:endParaRPr>
          </a:p>
        </p:txBody>
      </p:sp>
      <p:pic>
        <p:nvPicPr>
          <p:cNvPr id="109" name="" descr=""/>
          <p:cNvPicPr/>
          <p:nvPr/>
        </p:nvPicPr>
        <p:blipFill>
          <a:blip r:embed="rId1"/>
          <a:stretch/>
        </p:blipFill>
        <p:spPr>
          <a:xfrm>
            <a:off x="1676520" y="1066680"/>
            <a:ext cx="5562360" cy="3278160"/>
          </a:xfrm>
          <a:prstGeom prst="rect">
            <a:avLst/>
          </a:prstGeom>
          <a:ln w="0">
            <a:noFill/>
          </a:ln>
        </p:spPr>
      </p:pic>
      <p:sp>
        <p:nvSpPr>
          <p:cNvPr id="110" name=""/>
          <p:cNvSpPr/>
          <p:nvPr/>
        </p:nvSpPr>
        <p:spPr>
          <a:xfrm>
            <a:off x="403200" y="5410080"/>
            <a:ext cx="1654200" cy="55440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163</a:t>
            </a:r>
            <a:endParaRPr b="0" lang="en-US" sz="1200" spc="-1" strike="noStrike">
              <a:solidFill>
                <a:srgbClr val="000000"/>
              </a:solidFill>
              <a:latin typeface="Arial"/>
            </a:endParaRPr>
          </a:p>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ors 164</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6DA95ED7-104C-4D6F-8149-68E0A691B7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liminary Schedule Reviews</a:t>
            </a:r>
            <a:endParaRPr b="0" lang="en-US" sz="2000" spc="-1" strike="noStrike">
              <a:solidFill>
                <a:srgbClr val="ffffff"/>
              </a:solidFill>
              <a:latin typeface="Arial Black"/>
            </a:endParaRPr>
          </a:p>
        </p:txBody>
      </p:sp>
      <p:graphicFrame>
        <p:nvGraphicFramePr>
          <p:cNvPr id="112" name=""/>
          <p:cNvGraphicFramePr/>
          <p:nvPr/>
        </p:nvGraphicFramePr>
        <p:xfrm>
          <a:off x="914400" y="2416320"/>
          <a:ext cx="6858000" cy="3276360"/>
        </p:xfrm>
        <a:graphic>
          <a:graphicData uri="http://schemas.openxmlformats.org/drawingml/2006/table">
            <a:tbl>
              <a:tblPr/>
              <a:tblGrid>
                <a:gridCol w="4952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 Activity</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80808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808080"/>
                      </a:solidFill>
                    </a:lnT>
                    <a:lnB w="5760">
                      <a:solidFill>
                        <a:srgbClr val="000000"/>
                      </a:solidFill>
                    </a:lnB>
                    <a:solidFill>
                      <a:srgbClr val="bbe0e3"/>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schedule to TPTF for initial review</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 10, 2008 (completed)</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her initial TPTF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 16, 2008 (completed)</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revised schedule to TPTF for additional reviews and incorporate feedback; finalize budget</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TAC and incorporate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Special Nodal Program Committee and incorporate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Board of Directors and incorporate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PUCT</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noFill/>
                  </a:tcPr>
                </a:tc>
              </a:tr>
            </a:tbl>
          </a:graphicData>
        </a:graphic>
      </p:graphicFrame>
      <p:sp>
        <p:nvSpPr>
          <p:cNvPr id="113" name=""/>
          <p:cNvSpPr/>
          <p:nvPr/>
        </p:nvSpPr>
        <p:spPr>
          <a:xfrm>
            <a:off x="457200" y="91440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TPTF review and discussion conducted on Dec. 10 and Dec. 16</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detailed discussion and work session with TPTF scheduled for Jan. 7</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high-level review timelin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16AA6B41-AB07-4BF8-BBB5-37D41C6558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op Risks / Issues – 1</a:t>
            </a:r>
            <a:endParaRPr b="0" lang="en-US" sz="2200" spc="-1" strike="noStrike">
              <a:solidFill>
                <a:srgbClr val="ffffff"/>
              </a:solidFill>
              <a:latin typeface="Arial Black"/>
            </a:endParaRPr>
          </a:p>
        </p:txBody>
      </p:sp>
      <p:graphicFrame>
        <p:nvGraphicFramePr>
          <p:cNvPr id="115" name=""/>
          <p:cNvGraphicFramePr/>
          <p:nvPr/>
        </p:nvGraphicFramePr>
        <p:xfrm>
          <a:off x="228600" y="882720"/>
          <a:ext cx="8610480" cy="5041800"/>
        </p:xfrm>
        <a:graphic>
          <a:graphicData uri="http://schemas.openxmlformats.org/drawingml/2006/table">
            <a:tbl>
              <a:tblPr/>
              <a:tblGrid>
                <a:gridCol w="3986280"/>
                <a:gridCol w="462420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solidFill>
                      <a:srgbClr val="bbe0e3"/>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atus</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solidFill>
                      <a:srgbClr val="bbe0e3"/>
                    </a:solidFill>
                  </a:tcPr>
                </a:tc>
              </a:tr>
              <a:tr h="265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Dec. 12) Existing integration testing strategy (i.e., planning approach, team structure, methodology), as well as the tactical implementation (i.e., execution plan, resource plan, testing schedules) may not be adequate to successfully perform integration.</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gration Team is working to provide more specific task-level scheduling details for the utilization of Functional SMEs from the projects to support Functional Integration Test (FIT) and Business Scenarios (E2E) test execution activities. Meetings with core product PMs are underway. </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Integration Lab (iLab) environment is underway to support more integration component testing in parallel with FAT.  The objective is to identify and resolve integration adaptor issues prior to migrating the applications and associated integration adaptors to iTest. </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Dec 19)  Stability and the ability to physically expand the current IT infrastructure (environments) is a risk to the nodal program schedule. </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s are underway for new data centers that will be online in sufficient time to support go-live.</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Dec 19):  Scope creep may adversely impact the schedule.  The nodal project requirements have not been finalized and locked down.</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00000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ontrol process has more executive oversight incorporated.</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unctionality has been locked as of Dec 19; changes after this date will likely impact schedule and/or budget.</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799AA75B-477D-4A63-B6F5-801915E04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op Risks / Issues – 2</a:t>
            </a:r>
            <a:endParaRPr b="0" lang="en-US" sz="2200" spc="-1" strike="noStrike">
              <a:solidFill>
                <a:srgbClr val="ffffff"/>
              </a:solidFill>
              <a:latin typeface="Arial Black"/>
            </a:endParaRPr>
          </a:p>
        </p:txBody>
      </p:sp>
      <p:graphicFrame>
        <p:nvGraphicFramePr>
          <p:cNvPr id="117" name=""/>
          <p:cNvGraphicFramePr/>
          <p:nvPr/>
        </p:nvGraphicFramePr>
        <p:xfrm>
          <a:off x="228600" y="762120"/>
          <a:ext cx="8610480" cy="5254560"/>
        </p:xfrm>
        <a:graphic>
          <a:graphicData uri="http://schemas.openxmlformats.org/drawingml/2006/table">
            <a:tbl>
              <a:tblPr/>
              <a:tblGrid>
                <a:gridCol w="3986280"/>
                <a:gridCol w="462420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solidFill>
                      <a:srgbClr val="bbe0e3"/>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atus</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solidFill>
                      <a:srgbClr val="bbe0e3"/>
                    </a:solid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ct 17)  Information Lifecycle Management (ILM) strategy for ERCOT is behind schedule.  Current processes do not adequately address archival and storage requirements for nodal; existing data center constraints limit new storage growth.  Without ILM in place and executed, the nodal program go-live data could be delayed because of insufficient storage.</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C has been engaged to complete the Road Map for an ILM strategy at ERCOT.  Estimated 6 week effort, then the ILM Project will proceed.</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views for ILM PM conducted.</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Nov. 21) With the delayed go-live for Nodal, there are a number of Zonal projects, PRRs, and IMM suggestions for Zonal improvements that may result in resource constraints for Nodal.</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ly in process of identifying potential resource conflicts so that ERCOT can reprioritize scheduled Nodal activities and/or identify new resources to perform the additional work.</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79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Nov. 21)  In order to keep the multiple database environments in synch (Dev, iTest, Prod), a refresh of the associated databases must be completed.  This activity is estimated to take approximately one month based on prior refreshes.  Actual downtime is estimated at one to two weeks and has not been incorporated into the schedule.</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00000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tatively scheduled for March 2009; working closely with Nodal project teams to minimize downtime impacts.  Will also need to plan for another refresh in 2010.</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039EA631-32CD-4F48-AB78-5E0154CE0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MO Communications</dc:creator>
  <dc:description/>
  <dc:language>en-US</dc:language>
  <cp:lastModifiedBy>khorne</cp:lastModifiedBy>
  <dcterms:modified xsi:type="dcterms:W3CDTF">2008-12-29T19:28:24Z</dcterms:modified>
  <cp:revision>1248</cp:revision>
  <dc:subject>TAC Presentation 12_04_2008</dc:subject>
  <dc:title>Nodal Program Update</dc:title>
</cp:coreProperties>
</file>