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0F6F-150B-4E9B-96DB-6BC1682D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1B99-CF5C-480B-B421-9ECEBE74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4E38-38A6-4D79-9D6C-99F4A7C4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C72A-E9A3-40F1-9B06-4EF58DD3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AEBD-24B2-442B-BE0A-266034FB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FC02D-ADA0-4C7B-9D70-1B54B778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E1D84-A784-45B0-A025-2FA43569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D9C6B-A7A6-4C01-9E3B-0894BD38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9CBD7-8725-4CF0-BBE0-057776F9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D0372-00C6-4365-BADF-6E6EACCB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400A-07BC-4738-B9A9-63ECAEBC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52712-723F-4978-915A-3813C183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D1398-39B5-4E82-AA7B-C14628B5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78F77-3C0A-45CD-9C92-B00AA62A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96B5A-3B95-4235-B3BB-C428F8C3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3B68D-208A-44A8-9408-B426544C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7D338-4E26-4D6A-86BF-8BE8A28B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2F61C-440F-47CF-9450-D8B8CBBE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DB89-D5B2-4717-A826-AC612C71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2681-12F6-49D3-84F4-A8151939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04EB-4925-4FE6-AC93-DB13C991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CCD1-E19E-44E1-AF61-44914122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A8EE-D802-4682-9039-322C1277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82B6-207C-4182-BDCC-669D33CC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C71A-E1B5-4341-AA19-5E3A66E0E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5639-1D57-4A9B-B39A-ACDFD272ED4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625C-E19E-4E65-8C07-2095AC063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4324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93DF-8214-48B6-ABFC-558CFDDAEB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F478-8B7C-44D0-97EB-41174A42F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8 proposed WMS activitie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2600" y="1066680"/>
          <a:ext cx="7886520" cy="4017960"/>
        </p:xfrm>
        <a:graphic>
          <a:graphicData uri="http://schemas.openxmlformats.org/drawingml/2006/table">
            <a:tbl>
              <a:tblPr/>
              <a:tblGrid>
                <a:gridCol w="5962680"/>
                <a:gridCol w="1923840"/>
              </a:tblGrid>
              <a:tr h="75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MS input/direction needed 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dal Market reports / Content, Structure, reten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ing convention for CR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ved in April 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 issues associated with negative LaaR b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on 11/17/200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dal Verifiable Cost Method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CWG created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jor Issu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ission Co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bined Cycle Resourc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-go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whether a limit on the number of CRR auction bids should be implemen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waiting ERCOT feedba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termine CSCs for 2009?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ual CCT for Nodal (use CSCs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ed in  October subject to appea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 a policy and draft PRR for setting maximum Shadow Pr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R772 Implemented Septem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9A5A-CC71-4830-998E-3568EC68240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2E15DA-E1C7-4E52-9F95-246FA48224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8 proposed WMS activitie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52600" y="1066680"/>
          <a:ext cx="7886520" cy="3919680"/>
        </p:xfrm>
        <a:graphic>
          <a:graphicData uri="http://schemas.openxmlformats.org/drawingml/2006/table">
            <a:tbl>
              <a:tblPr/>
              <a:tblGrid>
                <a:gridCol w="5962680"/>
                <a:gridCol w="192384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MS input/direction needed 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CR Auctions for December 2008 &amp; beyond if we go live post-Dec 2008 (contingency pl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ed with monthly and annual TCR auctions per the current Protoco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TCR auction revenues not yet distributed to Loads at the time of Texas Nodal Market Implementation would be refunded to TCR purchasers per PRR743 methodology – annual (remaining days), monthly and portion of month methodolog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gency plans if integrated NMMS not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-coming or Not Necessa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dal Del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dynamic rating input assumptions for CRR Network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-co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dal Del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ailability of long-term PTP Obligations (beyond one month ahea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-co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dal Del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2EBD-19CB-4A8D-B61D-BC2AC36033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55DB16-8D59-496B-B154-45FC172C06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rbara Clemenhagen</cp:lastModifiedBy>
  <dcterms:modified xsi:type="dcterms:W3CDTF">2008-12-17T18:57:43Z</dcterms:modified>
  <cp:revision>331</cp:revision>
  <dc:subject/>
  <dc:title>Texas Nodal Market Implementation ERCOT Board of Directors Meeting Budget Rationale October 17, 2006  Kathy Hager, Market Redesign Program Director </dc:title>
</cp:coreProperties>
</file>