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E3CBE7-E8C7-4E79-AA8E-4429E8116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AEFA76-757C-48AC-AC11-BB7337B8D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3C5ECA-0AB2-4F16-899E-9542533DA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72B79E-47FF-41EE-B9D6-73FD32876F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49827-D9FF-4BC6-BF1B-1B3B3B191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B1B64-BB59-421F-A4A2-4836E2B11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2CC6C-C07E-4D27-8D62-A80C4514E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F8603-149C-4600-9E40-CECB3C226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3171B-27E8-4CBB-875F-B3E151D92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61A6C-6551-4EA9-936C-762A29B74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6C524-80F4-4106-8324-14BC2BEFF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40A7AF-E8CE-4D75-8617-64D28FF83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C93B-FCD1-4180-BA08-25551356F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17E52-712B-4FF8-AFFB-43BCD3C0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E4C00-9915-43D5-9BF3-13B77E84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781A2-2FE3-4655-9884-31F828673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344A0-E6B1-48AD-AD99-455044082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5AF66-CF9F-45A0-9854-01039C519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CEB09D-DB11-4C7B-AC89-D44810E3C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4BADB-D2F4-4907-A2C9-ECA634972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358AFC-E6E4-4A21-A59C-C31A3A995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649497-80DA-4E67-82AD-DD6A02629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77330-D69D-45B4-AE91-BC4E3BEF3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34379-DA36-449F-8274-00F5131AEF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DDA6-EE4B-4443-AD0D-56C50E0281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Click to edit the outline text format</a:t>
            </a:r>
            <a:endParaRPr b="0" lang="en-US" sz="3200" spc="-1" strike="noStrike">
              <a:solidFill>
                <a:srgbClr val="ffffff"/>
              </a:solidFill>
              <a:latin typeface="Candara"/>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cond Outline Level</a:t>
            </a:r>
            <a:endParaRPr b="0" lang="en-US" sz="3200" spc="-1" strike="noStrike">
              <a:solidFill>
                <a:srgbClr val="ffffff"/>
              </a:solidFill>
              <a:latin typeface="Candara"/>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Third Outline Level</a:t>
            </a:r>
            <a:endParaRPr b="0" lang="en-US" sz="3200" spc="-1" strike="noStrike">
              <a:solidFill>
                <a:srgbClr val="ffffff"/>
              </a:solidFill>
              <a:latin typeface="Candara"/>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ourth Outline Level</a:t>
            </a:r>
            <a:endParaRPr b="0" lang="en-US" sz="3200" spc="-1" strike="noStrike">
              <a:solidFill>
                <a:srgbClr val="ffffff"/>
              </a:solidFill>
              <a:latin typeface="Candara"/>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ifth Outline Level</a:t>
            </a:r>
            <a:endParaRPr b="0" lang="en-US" sz="3200" spc="-1" strike="noStrike">
              <a:solidFill>
                <a:srgbClr val="ffffff"/>
              </a:solidFill>
              <a:latin typeface="Candara"/>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ixth Outline Level</a:t>
            </a:r>
            <a:endParaRPr b="0" lang="en-US" sz="3200" spc="-1" strike="noStrike">
              <a:solidFill>
                <a:srgbClr val="ffffff"/>
              </a:solidFill>
              <a:latin typeface="Candara"/>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venth Outline Level</a:t>
            </a:r>
            <a:endParaRPr b="0" lang="en-US" sz="3200" spc="-1" strike="noStrike">
              <a:solidFill>
                <a:srgbClr val="ffffff"/>
              </a:solidFill>
              <a:latin typeface="Candar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8E28-B702-479A-BDD8-75C2C02D11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ndara"/>
              </a:rPr>
              <a:t>Click to edit the title text format</a:t>
            </a:r>
            <a:endParaRPr b="0" lang="en-US" sz="5000" spc="-1" strike="noStrike">
              <a:solidFill>
                <a:srgbClr val="ffffff"/>
              </a:solidFill>
              <a:latin typeface="Candara"/>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Click to edit the outline text format</a:t>
            </a:r>
            <a:endParaRPr b="0" lang="en-US" sz="3400" spc="-1" strike="noStrike">
              <a:solidFill>
                <a:srgbClr val="ffffff"/>
              </a:solidFill>
              <a:latin typeface="Candar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Second Outline Level</a:t>
            </a:r>
            <a:endParaRPr b="0" lang="en-US" sz="2800" spc="-1" strike="noStrike">
              <a:solidFill>
                <a:srgbClr val="ffffff"/>
              </a:solidFill>
              <a:latin typeface="Candara"/>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ndara"/>
              </a:rPr>
              <a:t>Third Outline Level</a:t>
            </a:r>
            <a:endParaRPr b="0" lang="en-US" sz="2400" spc="-1" strike="noStrike">
              <a:solidFill>
                <a:srgbClr val="ffffff"/>
              </a:solidFill>
              <a:latin typeface="Candara"/>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41200"/>
            <a:ext cx="6019920" cy="129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RMS Update to TAC</a:t>
            </a:r>
            <a:endParaRPr b="0" lang="en-US" sz="4800" spc="-1" strike="noStrike">
              <a:solidFill>
                <a:srgbClr val="ffffff"/>
              </a:solidFill>
              <a:latin typeface="Candara"/>
            </a:endParaRPr>
          </a:p>
        </p:txBody>
      </p:sp>
      <p:sp>
        <p:nvSpPr>
          <p:cNvPr id="107" name="PlaceHolder 2"/>
          <p:cNvSpPr>
            <a:spLocks noGrp="1"/>
          </p:cNvSpPr>
          <p:nvPr>
            <p:ph type="subTitle"/>
          </p:nvPr>
        </p:nvSpPr>
        <p:spPr>
          <a:xfrm>
            <a:off x="3048120" y="2971440"/>
            <a:ext cx="6400800" cy="60948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January 8, 2009</a:t>
            </a:r>
            <a:endParaRPr b="0" lang="en-US" sz="3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Voting Items</a:t>
            </a:r>
            <a:endParaRPr b="0" lang="en-US" sz="4000" spc="-1" strike="noStrike">
              <a:solidFill>
                <a:srgbClr val="ffffff"/>
              </a:solidFill>
              <a:latin typeface="Candara"/>
            </a:endParaRPr>
          </a:p>
        </p:txBody>
      </p:sp>
      <p:sp>
        <p:nvSpPr>
          <p:cNvPr id="109"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83000"/>
          </a:bodyPr>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ndara"/>
              </a:rPr>
              <a:t>From RMS meeting on 12/10/2008</a:t>
            </a:r>
            <a:endParaRPr b="0" lang="en-US" sz="18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69: Texas SET Retail Market Guide Clean-up – Section 7:  Historical Usage and Estimated Meter Readings; Section 9:  Transaction Timing Matrix and Letter of Authorization</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updates the language in the Retail Market Guide to provide clarification of current processes and also to include changes that resulted from implementation of TX SET 3.0.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70: Ad Hoc Retail Market Conference Calls </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outlines the process for Market Participants to request an ad hoc retail market conference call to address issues as they arise.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RMGRR071: Process Change for Review of Impact Analysis on Point to Point Transactions or Processes Between CRs and TDSPs That Have No Impact to ERCOT</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SCR745: Retail Market Outage Evaluation and Resolution </a:t>
            </a:r>
            <a:endParaRPr b="0" lang="en-US" sz="1600" spc="-1" strike="noStrike">
              <a:solidFill>
                <a:srgbClr val="ffffff"/>
              </a:solidFill>
              <a:latin typeface="Candara"/>
            </a:endParaRPr>
          </a:p>
          <a:p>
            <a:pPr lvl="1" marL="616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
          <p:cNvSpPr/>
          <p:nvPr/>
        </p:nvSpPr>
        <p:spPr>
          <a:xfrm>
            <a:off x="533520" y="533520"/>
            <a:ext cx="8534160" cy="561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 Metric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veloped standardized Performance measures templates for all TDSP’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onitored Performance Metrics for 1st and 2nd quarters, and new metrics formats for 3rd quarter of 2008</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MarkeTrak metrics and made recommendations to MarkeTrak Task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IAG Metrics and recommended additional metrics that are currently being reported</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rak Task 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Implemented phased approach to MarkeTrak system upgrad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sed the MarkeTrak User Guide</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nducted 3 test flights for 2008</a:t>
            </a:r>
            <a:endParaRPr b="0" lang="en-US" sz="1800" spc="-1" strike="noStrike">
              <a:solidFill>
                <a:srgbClr val="ffffff"/>
              </a:solidFill>
              <a:latin typeface="Candara"/>
            </a:endParaRPr>
          </a:p>
          <a:p>
            <a:pPr marL="457200" indent="-457200">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5" name=""/>
          <p:cNvSpPr/>
          <p:nvPr/>
        </p:nvSpPr>
        <p:spPr>
          <a:xfrm>
            <a:off x="533520" y="53352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ndara"/>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6840"/>
            <a:ext cx="8229600" cy="3886200"/>
          </a:xfrm>
          <a:prstGeom prst="rect">
            <a:avLst/>
          </a:prstGeom>
          <a:noFill/>
          <a:ln w="0">
            <a:noFill/>
          </a:ln>
        </p:spPr>
        <p:txBody>
          <a:bodyPr lIns="90000" rIns="90000" tIns="46800" bIns="46800" anchor="t">
            <a:normAutofit fontScale="63000"/>
          </a:bodyPr>
          <a:p>
            <a:pPr marL="216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ERCOT System Outages and Communication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LA Updates, SLA exception request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Added out of protocol metric and Gross availability to Incident Log</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echnical Connectivity</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North American Energy Standards Board</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Market Projects as needed</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5</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8</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to AMIT</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on Digital Certificat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lvl="1" marL="4680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lvl="1" marL="46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16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17" name="PlaceHolder 2"/>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0" name=""/>
          <p:cNvSpPr/>
          <p:nvPr/>
        </p:nvSpPr>
        <p:spPr>
          <a:xfrm>
            <a:off x="533520" y="533520"/>
            <a:ext cx="82296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MARS TF</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Completed Review and Finalized 16 Use Case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inalized and Approved</a:t>
            </a:r>
            <a:r>
              <a:rPr b="0" lang="en-US" sz="1800" spc="-1" strike="noStrike">
                <a:solidFill>
                  <a:srgbClr val="ffffff"/>
                </a:solidFill>
                <a:latin typeface="Candara"/>
              </a:rPr>
              <a: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Business Requirements as defined by AMI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ssumptions and Definitions </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Naming Convention</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ARS received “Approval” from TDTWG on November 5</a:t>
            </a:r>
            <a:r>
              <a:rPr b="0" lang="en-US" sz="1800" spc="-1" strike="noStrike" baseline="30000">
                <a:solidFill>
                  <a:srgbClr val="ffffff"/>
                </a:solidFill>
                <a:latin typeface="Candara"/>
              </a:rPr>
              <a:t>th</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Drafted:</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Definitions and Attribut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List of Error/Reject Cod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ata Record Examples</a:t>
            </a:r>
            <a:endParaRPr b="0" lang="en-US" sz="1800" spc="-1" strike="noStrike">
              <a:solidFill>
                <a:srgbClr val="ffffff"/>
              </a:solidFill>
              <a:latin typeface="Candara"/>
            </a:endParaRPr>
          </a:p>
          <a:p>
            <a:pPr lvl="1" marL="114300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2"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76000"/>
          </a:bodyPr>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sign Flight Plan for 2010</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velop and modify scripts for the approved Flights as requir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Advanced Metering initiatives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Nodal initiatives, if need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enhance Retail Testing Website to support market testing</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Maintain content within TMTP, TTPT Procedures and Protocol updates</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S TF</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est Plan along with Test Scripts/Scenarios</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Implement and successfully complete test plan</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he appropriate Data needed for extract reporting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Retail Market Guide Revision section that details process for AMS “Provisioned” meters , FTP and ERCOT Enhanced LSE file. </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Submit proposed RMGRR changes to RMS for Approval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Continue to complete and resolve open action items by providing timely feedback</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work with Market Participants, their agents, ERCOT, the PUCT as well as other interested parties in an effort to improve and protect data delivery processes for the Texas Market.</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Work to absorb the quarterly metrics reporting review that the Market Metrics Working Group performed</a:t>
            </a:r>
            <a:endParaRPr b="0" lang="en-US" sz="1600" spc="-1" strike="noStrike">
              <a:solidFill>
                <a:srgbClr val="ffffff"/>
              </a:solidFill>
              <a:latin typeface="Candara"/>
            </a:endParaRPr>
          </a:p>
          <a:p>
            <a:pPr marL="34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4"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ndara"/>
                <a:ea typeface="Lucida Sans Unicode"/>
              </a:rPr>
              <a:t>TEXAS SET</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nalyze Issues as they are presented to TX SET to determine if there is a Market need for another TX SET Release based on Market issues and/or approved PUCT Rule requirement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Evaluate upcoming Rulemakings and determine their Transactional and Market impacts to current process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Improve usability of TX SET EDI Examples by removing them from the Implementation Guid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Update Protocols and Retail Market Guide when and where necessary </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maintain and update the Stacking documentation</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be involved with all market participants and market meetings to provide assistance and TX SET expertise where needed</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lways encourage all market participants to attend and participate in TX SET meetings and workshops</a:t>
            </a: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Both Market Metrics, MarkeTrak Task Force will sunset</a:t>
            </a: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Questions?</a:t>
            </a:r>
            <a:endParaRPr b="0" lang="en-US" sz="4000" spc="-1" strike="noStrike">
              <a:solidFill>
                <a:srgbClr val="ffffff"/>
              </a:solidFill>
              <a:latin typeface="Candara"/>
            </a:endParaRPr>
          </a:p>
        </p:txBody>
      </p:sp>
      <p:pic>
        <p:nvPicPr>
          <p:cNvPr id="126" name="" descr=""/>
          <p:cNvPicPr/>
          <p:nvPr/>
        </p:nvPicPr>
        <p:blipFill>
          <a:blip r:embed="rId1"/>
          <a:stretch/>
        </p:blipFill>
        <p:spPr>
          <a:xfrm>
            <a:off x="2514600" y="1447920"/>
            <a:ext cx="407664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Windows XP ver. 2.2</cp:lastModifiedBy>
  <dcterms:modified xsi:type="dcterms:W3CDTF">2009-01-06T21:17:02Z</dcterms:modified>
  <cp:revision>99</cp:revision>
  <dc:subject/>
  <dc:title>RMS Update to TAC</dc:title>
</cp:coreProperties>
</file>