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4CAF-2B39-445B-8B01-EE2280A1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63C5-5370-41FD-B77C-EE9A974C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D977-DF37-4A84-A52E-4ED220CD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4958-E8AB-44BA-8C68-B7874600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8DA4-A15F-4601-A193-0E6E75C6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1CA3-9AA6-41F3-BF43-81876C46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FDC4-F887-4F14-8ECC-CE64B713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CE00-52EF-4ABC-B4AF-48071379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6038-1270-4819-B78B-B0433D89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5118-F11E-4927-B10F-36823F3D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1F1A-5819-4014-87EE-C9ACDACC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068B-7CEE-4C06-ACF4-892D146E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FFD2-F485-4831-80FA-D1EAEFA8E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A838-7BA7-4FFF-93DD-DF46A0F3A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1981080"/>
            <a:ext cx="60195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9 Project Reforeca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14120" y="3657240"/>
            <a:ext cx="649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anuary 8, 2009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Introductory Com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budget has increased from $12.7M to $18.4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driv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determined there is a critical need to expand the Taylor data center in order to properly maintain curren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in addition to the data center work planned as part of the Met Center Dispositio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.75M project added to the CO list to expand the current Taylor data center into the remaining raised floor space of TC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-wide effort to fund the data center expansion projec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intain the current 41.71 cent System Administration F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trategic Review Team (SRT) recommended various reductions to the project budget to assist in the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executives elected to take two measures impacting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rred the CO project to reconfigure the offices in TC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he project contingency on all projects that are not yet started from 35% to 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and market projects were exempt from the contingency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2CB3-689F-4803-B359-499F52176E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1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Initiative Lists drafted, revised and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 to prepare for marke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COPS and 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updates by 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13 / November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approved all project li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nuary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nuar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D856-3395-48B2-965C-8E1C71DF97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Activity Since PRS Approv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(Corporate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 of Data Center Expansion to meet short term data center nee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$6.75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rral of Taylor TCC1 Office Reconfigu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$0.45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$0.0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O  (IT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$0.4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 (Market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 (excludes market project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$0.03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 (Retail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 (excludes market project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$0.06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(System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 (excludes market project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$0.05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ng effort to update Impact Analyses and CBAs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R601, PRR675, PRR409, SCR720, SCR7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 to have the updated IAs and CBAs available for PRS on 1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S reviewed and approved the combined project lists on 11/20/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budget estimate at time of PRS approval = $12.7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project budget estimate = $18.4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impacts to PUCT and market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E974-5BE0-40AB-9D2C-2BC973D099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Summary by C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3840" y="4724280"/>
          <a:ext cx="8457840" cy="381240"/>
        </p:xfrm>
        <a:graphic>
          <a:graphicData uri="http://schemas.openxmlformats.org/drawingml/2006/table">
            <a:tbl>
              <a:tblPr/>
              <a:tblGrid>
                <a:gridCol w="2075760"/>
                <a:gridCol w="1922040"/>
                <a:gridCol w="2153520"/>
                <a:gridCol w="230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Met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80880" y="5410080"/>
            <a:ext cx="7086600" cy="304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 The Met Center project is funded by a separate line item in the ERCOT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066680"/>
          <a:ext cx="8458200" cy="3202200"/>
        </p:xfrm>
        <a:graphic>
          <a:graphicData uri="http://schemas.openxmlformats.org/drawingml/2006/table">
            <a:tbl>
              <a:tblPr/>
              <a:tblGrid>
                <a:gridCol w="2075040"/>
                <a:gridCol w="1923840"/>
                <a:gridCol w="2152800"/>
                <a:gridCol w="2306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Budg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 Re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d Re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77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0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6,285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5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11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41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3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39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6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0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5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2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8,43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,73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22B5-6DC7-42EE-A27C-D392B5B0B9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1-03T22:45:23Z</dcterms:modified>
  <cp:revision>318</cp:revision>
  <dc:subject/>
  <dc:title>Instructions</dc:title>
</cp:coreProperties>
</file>