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4EA-08BE-482F-A895-F90C969D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494-EA22-4847-A6E5-8BAD7AAF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DD4-1B8F-40DF-A211-8EEF2ED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051-7A4B-44AD-994B-1D5C494B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6886-B330-47F6-B998-4E1C22FE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DFE3-B69D-4362-8982-635486E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436B-6EF2-46F7-832A-66A68F98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FB6C-407A-4226-BA3F-57DBEA9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241B-A92D-4D69-B4F1-C7DFDD4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4BCC-626A-48BA-B55A-A487DB2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BB68-8EE5-426D-B2AF-07C358E7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791-B88B-4022-87EE-666951DD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78E-6CF5-46F9-B053-1AEFF29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1A46-39A8-4A3C-A18E-EB0FB64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889E-B758-4B56-AB91-48B296D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0CF3-BD7A-4294-9702-1AC857FE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862-1900-4E3B-B502-BCA2539A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CF8-31C5-43BC-A362-C3EF0AED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BEC-1F62-400D-A0B5-DD50F27C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C24-38E0-44CE-969F-FCA1B6C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95D-5E86-4536-BB3E-7B739505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C8A-1C23-4D01-86A7-22E54DC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1D0-B498-4A3A-A2CC-7BA2B4C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B5A-7C9D-43AE-B8DE-4FF4B85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B220-53B7-4450-BB5A-B8764127B2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2249-E38F-4C34-89D6-77544E750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008 ERCOT LaaRs CAPABILITY STU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ed by ERCOT D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UDY DU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study duration.  Required engineering people-hours &gt;&gt;&gt; Available engineering people-h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intensive study.  Massive amount of work involved with preparing model data, planning simulations, running simulations, interpreting results, planning and running follow-up simu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G engineering people-hours became scarce in 2008.  DWG composed of volunteers from TSPs within ERCOT.  DWG members experienced a significant shift in workloads within their companies during 2008.  In addition to normal transmission planning du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rge in generation interconnect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rge in industrial load facility interconnect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reliability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some DWG expertise in 2008 due to promotion/reassignment of du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UDY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aking a decision on the maximum amount of LaaRs that can be reliably deployed via underfrequency relay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river is how the LaaR relays are, or will be set in terms of frequency trip setting.  In gene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st allowable LaaR amounts correspond to scenarios where all LaaRs trip at the same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LaaR amounts are allowable to varying degrees as LaaRs are spread out over a range of trip frequenc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ary consideration is how the LaaRs are, or will be geographically distribu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.10.3.2 of the ERCOT Protocols allow a LaaR to be deployed at up to 150% of the amount requested by ERCOT at the time of testing the LaaR.  This potential variance between contracted and actual LaaR amount should be considered when establishing LaaR lim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point, the DWG seeks the following answers from ROS/TA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study conclusions pertaining to the 59.7 Hz tier sufficient for ROS/TAC decision ma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ing quantitative conclusions for the 59.8 Hz ti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still a need for higher tier La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, we need to specify the following 59.7 Hz tier parameters for such analy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aR relay trip frequen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aR lo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9:12:32Z</dcterms:created>
  <dc:creator>BTS</dc:creator>
  <dc:description/>
  <dc:language>en-US</dc:language>
  <cp:lastModifiedBy>BTS</cp:lastModifiedBy>
  <dcterms:modified xsi:type="dcterms:W3CDTF">2009-01-02T13:26:07Z</dcterms:modified>
  <cp:revision>8</cp:revision>
  <dc:subject/>
  <dc:title>Slide 1</dc:title>
</cp:coreProperties>
</file>