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AA62F-66E9-4796-9478-875C9B4CD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225D-9C78-4FAE-AD21-E300BE813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EF8B9-4E06-42AE-A462-5F5F23996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252E4-61FC-435D-AE2F-C84AA3661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A072F-C407-4518-AF0D-5FBCBC988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AF42E-CA05-4553-A9B3-DD45AB2F3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B7C2E-7E06-4A53-A816-B2C108E6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0B5B5-286D-4F7C-A172-28165B4DC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F370C-86FC-43CC-86C2-1B6A840A3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304E9-3BAF-4BEC-A679-C44E51015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9B75-9AC1-4632-9D39-07A41DB19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6055-B27A-47C0-AF72-361AF687F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233B7-1E35-4D03-BB75-1903B9494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73529-449C-4D24-A821-9F1DC177B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251AF-74A9-4716-8F63-09C6BD04F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CD4C8-447E-4EAB-B2E7-74DC1E0BD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2A60F-E2D2-4C1A-8B6F-DD2D0E572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BAB5-B7EA-4905-AB31-C9C3BBA7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39A6-380F-4A54-A758-3575BCC3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B404-F6D6-4AA9-9DEE-6C0E56010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74C0-20BC-40D7-ACA2-D1819983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2999-4657-498D-B205-DC172C7A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FD99-23FB-442E-8EA2-E5923138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ABA6-02CC-41C2-90B8-A2ADA50C3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FE2B-74BF-4E90-8D10-90E66CB823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9796-94DA-497F-A499-3D64C20BFD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anuary 8, 20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
          <p:cNvSpPr/>
          <p:nvPr/>
        </p:nvSpPr>
        <p:spPr>
          <a:xfrm>
            <a:off x="73152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e Starr, B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Hope Parrish provided COPS the following Updates:</a:t>
            </a:r>
            <a:endParaRPr b="0" lang="en-US" sz="2800" spc="-1" strike="noStrike">
              <a:solidFill>
                <a:srgbClr val="ffffff"/>
              </a:solidFill>
              <a:latin typeface="Arial"/>
            </a:endParaRPr>
          </a:p>
        </p:txBody>
      </p:sp>
      <p:sp>
        <p:nvSpPr>
          <p:cNvPr id="164"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MO Projects Financial Overview </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t>
            </a:r>
            <a:r>
              <a:rPr b="1" lang="en-US" sz="2000" spc="-1" strike="noStrike">
                <a:solidFill>
                  <a:srgbClr val="ffffff"/>
                </a:solidFill>
                <a:latin typeface="Times New Roman"/>
              </a:rPr>
              <a:t>2008 project Prioritization</a:t>
            </a:r>
            <a:r>
              <a:rPr b="0" lang="en-US" sz="2000" spc="-1" strike="noStrike">
                <a:solidFill>
                  <a:srgbClr val="ffffff"/>
                </a:solidFill>
                <a:latin typeface="Times New Roman"/>
              </a:rPr>
              <a:t> – PUCT, Market &amp; ERCOT MO projects – Listing activity above and below the “cut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ll projects committed to deliver in 2008 that were achiev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d MO 2009 PPL approved by PRS (Current + 2008 carryover + projects deferred due to Nodal delay)</a:t>
            </a:r>
            <a:endParaRPr b="0" lang="en-US" sz="20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dal COMS Update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tlements &amp; Billing,  and Data Aggregation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ation and Dispute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it Monitoring and Mgmt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S Remaining Software Release Schedul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rcial Systems Extract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iness Center Posting Lo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6" name="PlaceHolder 2"/>
          <p:cNvSpPr>
            <a:spLocks noGrp="1"/>
          </p:cNvSpPr>
          <p:nvPr>
            <p:ph/>
          </p:nvPr>
        </p:nvSpPr>
        <p:spPr>
          <a:xfrm>
            <a:off x="152280" y="837720"/>
            <a:ext cx="8229600" cy="5867640"/>
          </a:xfrm>
          <a:prstGeom prst="rect">
            <a:avLst/>
          </a:prstGeom>
          <a:noFill/>
          <a:ln w="0">
            <a:noFill/>
          </a:ln>
        </p:spPr>
        <p:txBody>
          <a:bodyPr anchor="t">
            <a:normAutofit/>
          </a:bodyPr>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Continues developing nodal Sections in the COPM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draft of new Section 12, Renewable Energy Credits. (</a:t>
            </a:r>
            <a:r>
              <a:rPr b="0" i="1" lang="en-US" sz="2400" spc="-1" strike="noStrike">
                <a:solidFill>
                  <a:srgbClr val="ffffff"/>
                </a:solidFill>
                <a:latin typeface="Times New Roman"/>
              </a:rPr>
              <a:t>Section has been sent to Market Rules for review</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2008 Market Participant Survey (</a:t>
            </a:r>
            <a:r>
              <a:rPr b="0" i="1" lang="en-US" sz="2800" spc="-1" strike="noStrike">
                <a:solidFill>
                  <a:srgbClr val="45c984"/>
                </a:solidFill>
                <a:latin typeface="Times New Roman"/>
              </a:rPr>
              <a:t>Website satisfaction</a:t>
            </a:r>
            <a:r>
              <a:rPr b="0" lang="en-US" sz="2800" spc="-1" strike="noStrike">
                <a:solidFill>
                  <a:srgbClr val="45c984"/>
                </a:solidFill>
                <a:latin typeface="Arial"/>
              </a:rPr>
              <a: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d a list of recommended improvements for the “ERCOT.com” website to assist ERCOT in understanding website satisfaction survey results.</a:t>
            </a:r>
            <a:endParaRPr b="0" lang="en-US" sz="2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site Improvement Recommendations listed with COPS 12.08.08 materials (</a:t>
            </a:r>
            <a:r>
              <a:rPr b="0" i="1" lang="en-US" sz="2400" spc="-1" strike="noStrike" u="sng">
                <a:solidFill>
                  <a:srgbClr val="ffffff"/>
                </a:solidFill>
                <a:uFillTx/>
                <a:latin typeface="Times New Roman"/>
              </a:rPr>
              <a:t>pages 2 &amp; 3 of repor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EWG / SDA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76320" y="838080"/>
            <a:ext cx="8610480" cy="55627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rmal report on ERCOT issue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ight decline in number of issues, most recently centered around Lodestar Upgrade, though no major issues.</a:t>
            </a:r>
            <a:endParaRPr b="0" lang="en-US" sz="2000" spc="-1" strike="noStrike">
              <a:solidFill>
                <a:srgbClr val="ffffff"/>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Followed up on the ERCOT stabilization effort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projects to watch for in 2009 that address common flaws in the current systems around reports and extracts that need to be maintained until Nodal replacement is implemented.</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Worked with ERCOT to resolve EILS Settlement Issu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786, submitted to target ERCOT to use the most recent Load Ratio Share (Final Settlement Version) and so a resettlement using the most current load (True-up Settlement Version)</a:t>
            </a:r>
            <a:endParaRPr b="0" lang="en-US" sz="20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ollowing discussion and review, COPS voted unanimously to recommend support of PRR786 with changes suggested to P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228600"/>
            <a:ext cx="5181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d PWG 2008 Goals</a:t>
            </a:r>
            <a:br>
              <a:rPr sz="2400"/>
            </a:br>
            <a:r>
              <a:rPr b="0" lang="en-US" sz="2000" spc="-1" strike="noStrike">
                <a:solidFill>
                  <a:srgbClr val="ffffff"/>
                </a:solidFill>
                <a:latin typeface="Arial"/>
              </a:rPr>
              <a:t>Ranked by Target Date</a:t>
            </a:r>
            <a:endParaRPr b="0" lang="en-US" sz="2000" spc="-1" strike="noStrike">
              <a:solidFill>
                <a:srgbClr val="ffffff"/>
              </a:solidFill>
              <a:latin typeface="Arial"/>
            </a:endParaRPr>
          </a:p>
        </p:txBody>
      </p:sp>
      <p:pic>
        <p:nvPicPr>
          <p:cNvPr id="170" name="" descr=""/>
          <p:cNvPicPr/>
          <p:nvPr/>
        </p:nvPicPr>
        <p:blipFill>
          <a:blip r:embed="rId1"/>
          <a:stretch/>
        </p:blipFill>
        <p:spPr>
          <a:xfrm>
            <a:off x="304920" y="1066680"/>
            <a:ext cx="853416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00"/>
                </a:solidFill>
                <a:latin typeface="Times New Roman"/>
              </a:rPr>
              <a:t>COPS</a:t>
            </a:r>
            <a:r>
              <a:rPr b="0" lang="en-US" sz="3600" spc="-1" strike="noStrike">
                <a:solidFill>
                  <a:srgbClr val="ffffff"/>
                </a:solidFill>
                <a:latin typeface="Arial"/>
              </a:rPr>
              <a:t> </a:t>
            </a:r>
            <a:r>
              <a:rPr b="0" i="1" lang="en-US" sz="3600" spc="-1" strike="noStrike">
                <a:solidFill>
                  <a:srgbClr val="ffff00"/>
                </a:solidFill>
                <a:latin typeface="Times New Roman"/>
              </a:rPr>
              <a:t>2008 Accomplishments</a:t>
            </a:r>
            <a:endParaRPr b="0" lang="en-US" sz="3600" spc="-1" strike="noStrike">
              <a:solidFill>
                <a:srgbClr val="ffffff"/>
              </a:solidFill>
              <a:latin typeface="Arial"/>
            </a:endParaRPr>
          </a:p>
        </p:txBody>
      </p:sp>
      <p:sp>
        <p:nvSpPr>
          <p:cNvPr id="17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ly participated in review of Nodal Settlement Statements and Invoice presentation format.</a:t>
            </a: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ended changes to TRE Billing and the ERO assessment fee.</a:t>
            </a:r>
            <a:endParaRPr b="0" lang="en-US" sz="2400" spc="-1" strike="noStrike">
              <a:solidFill>
                <a:srgbClr val="ffffff"/>
              </a:solidFill>
              <a:latin typeface="Arial"/>
            </a:endParaRPr>
          </a:p>
          <a:p>
            <a:pPr marL="343080" indent="-34308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d closely and provided support to matters as they related to:</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d Metering technologies &amp; implement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s necessary to comply with PUCT Rules for Small Distributed Gener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s, NPRRs, Extracts, and Data as they relate to issues affecting Settl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PS -</a:t>
            </a:r>
            <a:r>
              <a:rPr b="0" i="1" lang="en-US" sz="3600" spc="-1" strike="noStrike">
                <a:solidFill>
                  <a:srgbClr val="ffff00"/>
                </a:solidFill>
                <a:latin typeface="Arial"/>
              </a:rPr>
              <a:t>Working Group Accomplishments</a:t>
            </a:r>
            <a:endParaRPr b="0" lang="en-US" sz="36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CWG:</a:t>
            </a:r>
            <a:endParaRPr b="0" lang="en-US" sz="24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pdate COPMG and incorporate Nodal material</a:t>
            </a:r>
            <a:endParaRPr b="0" lang="en-US" sz="2100" spc="-1" strike="noStrike">
              <a:solidFill>
                <a:srgbClr val="ffffff"/>
              </a:solidFill>
              <a:latin typeface="Arial"/>
            </a:endParaRPr>
          </a:p>
          <a:p>
            <a:pPr lvl="2" marL="1143000" indent="-228600">
              <a:lnSpc>
                <a:spcPct val="90000"/>
              </a:lnSpc>
              <a:spcBef>
                <a:spcPts val="524"/>
              </a:spcBef>
              <a:buSzPct val="10584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7 – Organizational Structure </a:t>
            </a:r>
            <a:endParaRPr b="0" lang="en-US" sz="2100" spc="-1" strike="noStrike">
              <a:solidFill>
                <a:srgbClr val="ffffff"/>
              </a:solidFill>
              <a:latin typeface="Arial"/>
            </a:endParaRPr>
          </a:p>
          <a:p>
            <a:pPr lvl="2" marL="1143000" indent="-228600">
              <a:lnSpc>
                <a:spcPct val="90000"/>
              </a:lnSpc>
              <a:spcBef>
                <a:spcPts val="524"/>
              </a:spcBef>
              <a:buSzPct val="10584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8 – Market Notice Communication Process for Outages and Processing Impacts</a:t>
            </a:r>
            <a:endParaRPr b="0" lang="en-US" sz="2100" spc="-1" strike="noStrike">
              <a:solidFill>
                <a:srgbClr val="ffffff"/>
              </a:solidFill>
              <a:latin typeface="Arial"/>
            </a:endParaRPr>
          </a:p>
          <a:p>
            <a:pPr lvl="2" marL="1143000" indent="-228600">
              <a:lnSpc>
                <a:spcPct val="90000"/>
              </a:lnSpc>
              <a:spcBef>
                <a:spcPts val="524"/>
              </a:spcBef>
              <a:buSzPct val="10584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tion 12, Renewable Energy Credits – Currently Under Review</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viewed COPS Meeting Procedures – Recommended cleanup and language changes</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formed communications review of Extracts and Reports Service Level Agreement</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ovided feedback for RMS regarding the ERCOT Market Survey – “Website Satisfaction”</a:t>
            </a:r>
            <a:endParaRPr b="0" lang="en-US" sz="21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04560"/>
            <a:ext cx="8381880" cy="60958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WG/SDAWG:</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d the Data Extracts and Reports Service Level Agreement</a:t>
            </a:r>
            <a:endParaRPr b="0" lang="en-US" sz="2000" spc="-1" strike="noStrike">
              <a:solidFill>
                <a:srgbClr val="ffffff"/>
              </a:solidFill>
              <a:latin typeface="Arial"/>
            </a:endParaRPr>
          </a:p>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conjunction with ERCOT a reporting format to follow and summarize issues with Data Extracts and Report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ed all ERCOT Extract and Report issues and conducted post mortem analysis on each item with help from ERCOT staff</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ed with ERCOT to define the scope and projects for 2009 related to System Stability which is required to stabilize current Extracts and Report Environments in light of the Nodal delay</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ved through submittal of PRR 786 the EILS settlement issue</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the issue of Mismatched schedules due to system dropping market participant transactions and brought awareness to ERCOT on the difficulties in settling under this scenario with counterpartie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lowed the development of Nodal COMS which is the design for Nodal Market Extracts and Repor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1920"/>
            <a:ext cx="2590920" cy="685800"/>
          </a:xfrm>
          <a:prstGeom prst="rect">
            <a:avLst/>
          </a:prstGeom>
          <a:noFill/>
          <a:ln w="0">
            <a:noFill/>
          </a:ln>
        </p:spPr>
        <p:txBody>
          <a:bodyPr lIns="90000" rIns="90000" tIns="46800" bIns="46800" anchor="ctr">
            <a:noAutofit/>
          </a:bodyPr>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WG</a:t>
            </a:r>
            <a:endParaRPr b="0" lang="en-US" sz="2800" spc="-1" strike="noStrike">
              <a:solidFill>
                <a:srgbClr val="ffffff"/>
              </a:solidFill>
              <a:latin typeface="Arial"/>
            </a:endParaRPr>
          </a:p>
        </p:txBody>
      </p:sp>
      <p:sp>
        <p:nvSpPr>
          <p:cNvPr id="177" name="PlaceHolder 2"/>
          <p:cNvSpPr>
            <a:spLocks noGrp="1"/>
          </p:cNvSpPr>
          <p:nvPr>
            <p:ph/>
          </p:nvPr>
        </p:nvSpPr>
        <p:spPr>
          <a:xfrm>
            <a:off x="228240" y="762120"/>
            <a:ext cx="8458200" cy="548640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Renewable Generation (DRG) Load Profiles built (LPGRR027, PRR736, PRR755 withdrawn and PRR756, LPGRR030, LPGRR031 approve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 2 sample load research meters installed by July 31,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Use Language revised (LPGRR029 and PRR756)</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FE 2007 Report and Hurricane UFE discussion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report of Hurricane Ike and Edouar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lement Accuracy Analysi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Validation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90 Load Profile ID Annual Validation Change Request</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89 Removal of Grey Box Language</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GRR032 to support 15-minute interim solution for settlement with advanced met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ee R. Starr</cp:lastModifiedBy>
  <dcterms:modified xsi:type="dcterms:W3CDTF">2008-12-22T22:17:29Z</dcterms:modified>
  <cp:revision>33</cp:revision>
  <dc:subject/>
  <dc:title>Slide 1</dc:title>
</cp:coreProperties>
</file>