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9FE269-0F9D-4F90-9619-EB6D6975E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07F8B0-5FF6-477C-AC37-416435439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BC7C5D-F3E2-4BB5-A265-78A2A6B17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97ACCF-B026-4BDA-96B7-A7204F113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08A551-044E-4455-964C-51EA767F8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E4009D-8AF3-4FB1-866A-67688BCA3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3A2FBD-317F-48DB-BFCC-C0B89E570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52D489-CF6E-4B22-8BEC-A98AE5EA7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7E0529-FA3F-4E35-A334-EAF2CB5E4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72E2E0-9947-4FE0-AF49-45BEC8EEC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412A10-506F-4B6C-96A3-FC993D372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0EA3E8-A982-4909-A85B-E50809575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0F1DA-6DA3-4D66-8546-D04257461C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24816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D730F-4AE8-4B39-A61F-A595DEDF70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dt" idx="3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1295280" cy="5191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333520" y="1905120"/>
            <a:ext cx="647712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2333160" y="5466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2333520" y="5067360"/>
            <a:ext cx="289584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33520" y="1904760"/>
            <a:ext cx="6019920" cy="123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PMO Update to PRS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343240" y="3580920"/>
            <a:ext cx="6495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Troy Anderson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ERCOT Program Management Office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December 18, 2008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PMO Update  -  YTD 2008 Project Implementations (cont’d)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17080" indent="-217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ugust 2008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170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-60015_01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ebel Data Model Assess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170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-80035_0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anet Assessment HR &amp; Communic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170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-70054_0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lade Refres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0">
              <a:spcBef>
                <a:spcPts val="400"/>
              </a:spcBef>
              <a:buNone/>
              <a:tabLst>
                <a:tab algn="l" pos="0"/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7080" indent="-217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tember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170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-40066_04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destar 4.7 Upgra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170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-50070_0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nit Testing Automation and Electronic Submittal – Phase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0">
              <a:spcBef>
                <a:spcPts val="400"/>
              </a:spcBef>
              <a:buNone/>
              <a:tabLst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7080" indent="-217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ctober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170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-80023_01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rewall Replac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170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-60094_0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hysical Access Control Upgra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170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-50015_0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wson Procurement Process Flo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170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-60020_0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wson 9x Upgra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0">
              <a:spcBef>
                <a:spcPts val="400"/>
              </a:spcBef>
              <a:buNone/>
              <a:tabLst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0461B5-EA56-4704-B9E3-408DC6F8E80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304920" y="1066680"/>
            <a:ext cx="8534160" cy="1828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PMO Update  -  YTD 2008 Project Implementations (cont’d)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vember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-80037_0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er Phasor Monitoring System (SPM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-70006_0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bsite Enhancements for ERCOT Outage Notificatio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ase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-70057_0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IT Study for Long Term Settlement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8CD535-EB70-4957-930D-8FD381463F9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PMO Update - Agenda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33160" y="762120"/>
            <a:ext cx="73911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08 Project Spending Upd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09 Project Reforecast Upd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$250k budget adjustment to the CO 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Q Unfunded Projects Upd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ent Project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vember 20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D9CAB3-9564-4454-A6BF-616ACF4372C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2008 Project Spending Update – 12/15/2008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304920" y="838080"/>
          <a:ext cx="8305560" cy="3936960"/>
        </p:xfrm>
        <a:graphic>
          <a:graphicData uri="http://schemas.openxmlformats.org/drawingml/2006/table">
            <a:tbl>
              <a:tblPr/>
              <a:tblGrid>
                <a:gridCol w="2036520"/>
                <a:gridCol w="1890720"/>
                <a:gridCol w="2113200"/>
                <a:gridCol w="2265120"/>
              </a:tblGrid>
              <a:tr h="380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itial Budge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rrent Budge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ending Foreca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a5"/>
                    </a:solidFill>
                  </a:tcPr>
                </a:tc>
              </a:tr>
              <a:tr h="419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8,45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5,676,7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5,444,6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9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6,40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8,031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7,362,8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9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1,20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1,394,9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1,273,67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9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6,10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3,635,09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2,791,3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9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   5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1,071,795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  904,15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dal / Zonal Interdepend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5,314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6,715,1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6,715,1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eased but Not Realloca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        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  989,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        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3f9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27,514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3f9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27,514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3f9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24,491,8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3f9a5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5" name=""/>
          <p:cNvGraphicFramePr/>
          <p:nvPr/>
        </p:nvGraphicFramePr>
        <p:xfrm>
          <a:off x="304920" y="4952880"/>
          <a:ext cx="8305560" cy="381240"/>
        </p:xfrm>
        <a:graphic>
          <a:graphicData uri="http://schemas.openxmlformats.org/drawingml/2006/table">
            <a:tbl>
              <a:tblPr/>
              <a:tblGrid>
                <a:gridCol w="2038320"/>
                <a:gridCol w="1887480"/>
                <a:gridCol w="2114640"/>
                <a:gridCol w="2265120"/>
              </a:tblGrid>
              <a:tr h="38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 – Met Center 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        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6,232,8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1,234,47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6" name=""/>
          <p:cNvSpPr/>
          <p:nvPr/>
        </p:nvSpPr>
        <p:spPr>
          <a:xfrm>
            <a:off x="838080" y="5562720"/>
            <a:ext cx="7391520" cy="3045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28600" indent="-22860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*  Met Center project is not funded by initial project budget allo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267080" y="388620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400800" y="1295280"/>
            <a:ext cx="228600" cy="2286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400800" y="1676520"/>
            <a:ext cx="228600" cy="2286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400800" y="259092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400800" y="4419720"/>
            <a:ext cx="228600" cy="2286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267080" y="1676520"/>
            <a:ext cx="228600" cy="2286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267080" y="1295280"/>
            <a:ext cx="228600" cy="2286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400800" y="502920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38080" y="5867280"/>
            <a:ext cx="7391520" cy="304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28600" indent="-22860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Arrows indicate trend since last report (October 2008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400800" y="213372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400800" y="2971800"/>
            <a:ext cx="228600" cy="2286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267080" y="259092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FABF8A-C74A-4DB3-AC37-E3DEE2464B3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2009 Project Reforecast –Schedule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28600" y="762120"/>
            <a:ext cx="8763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1924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5149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09 Project Prioritization Schedule - Overview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8640" indent="-2192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5149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1 20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5149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9 Initiative Lists drafted, revised and approved for inclusion in ERCOT budget requ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8640" indent="-2192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5149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ptember 20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5149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RTs revise 2009 Initiative Lists to prepare for market re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8640" indent="-2192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5149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ctober 20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5149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l review by market subcommitte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5149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 list approved by COPS, RO list approved by 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8640" indent="-2192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5149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vember 20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5149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view by TA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November 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5149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itional input from ROS, WM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November 13 / November 19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5149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S approval of all CART list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November 2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8640" indent="-219240">
              <a:spcBef>
                <a:spcPts val="499"/>
              </a:spcBef>
              <a:buClr>
                <a:srgbClr val="0000cc"/>
              </a:buClr>
              <a:buFont typeface="Arial"/>
              <a:buChar char="–"/>
              <a:tabLst>
                <a:tab algn="l" pos="1143000"/>
                <a:tab algn="l" pos="2514600"/>
                <a:tab algn="l" pos="5149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cc"/>
                </a:solidFill>
                <a:uFillTx/>
                <a:latin typeface="Arial"/>
              </a:rPr>
              <a:t>December 20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5149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view by TA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December 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5149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action taken because ERCOT will not be submitting their 2009 budget until Janu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C4AC58-9F91-4BFD-8B95-763B199072E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2009 Project Reforecast – Recent Activity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685440"/>
            <a:ext cx="86868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9 Project Approval Status by Program Are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 (Corporate Operatio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7 projects able to initiate due to approval of $1.2M “capability” fund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$250k increase to Taylor Reconfigu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O (IT Operatio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 changes since Executive Team review on 10/13/200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 (Market Operatio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dified and approved by COPS on 10/14/200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 (Retail Operatio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dified and approved by RMS on 10/15/200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 (System Operatio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S and WMS reviews resulted in the following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ition of an SO placeholder of $500k to fund efforts being considered as a result of the Nodal Go-Live dela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amples: PRR675, PRR601, PRR409, SCR720, SCR7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itional PPL line item for PRR776 discuss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nding the results of the Impact Analysis currently in prog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ternative language to PRR776 also being conside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w budget estimate = $12.95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A8C12D-2522-4698-8C91-7588752DBCA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2009 Project Reforecast – Summary by CAR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241200" y="4724280"/>
          <a:ext cx="8457840" cy="381240"/>
        </p:xfrm>
        <a:graphic>
          <a:graphicData uri="http://schemas.openxmlformats.org/drawingml/2006/table">
            <a:tbl>
              <a:tblPr/>
              <a:tblGrid>
                <a:gridCol w="2075760"/>
                <a:gridCol w="1922040"/>
                <a:gridCol w="2153520"/>
                <a:gridCol w="23065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* CO – Met Cent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20,40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20,40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        0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5" name=""/>
          <p:cNvSpPr/>
          <p:nvPr/>
        </p:nvSpPr>
        <p:spPr>
          <a:xfrm>
            <a:off x="228600" y="5410080"/>
            <a:ext cx="5410080" cy="5335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200880" indent="-2008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*    Revised 2009 project budget is $12.95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00880" indent="-2008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**  Met Center project is funded by a separate budget line it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228600" y="1066680"/>
          <a:ext cx="8458200" cy="3202200"/>
        </p:xfrm>
        <a:graphic>
          <a:graphicData uri="http://schemas.openxmlformats.org/drawingml/2006/table">
            <a:tbl>
              <a:tblPr/>
              <a:tblGrid>
                <a:gridCol w="2075040"/>
                <a:gridCol w="1923840"/>
                <a:gridCol w="2152800"/>
                <a:gridCol w="2306520"/>
              </a:tblGrid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itial 2009 Budge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vised Draft 2009 Budge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an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a5"/>
                    </a:solidFill>
                  </a:tcPr>
                </a:tc>
              </a:tr>
              <a:tr h="420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3,55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2,025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($  1,525,00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8,35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5,525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($  2,825,00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4,30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  55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($  3,750,00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3,50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3,45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($     50,00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7,50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1,400,000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($  6,100,00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3f9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27,20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3f9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* $ 12,95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($ 14,250,00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3f9a5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A8F941-DAB0-45A4-BDA1-887E71BFCE7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PMO Update  -  Unfunded Project Lis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104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funded Project List – Quarterly Updat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spcBef>
                <a:spcPts val="300"/>
              </a:spcBef>
              <a:buNone/>
              <a:tabLst>
                <a:tab algn="l" pos="0"/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 are not any unfunded projects at this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change since last re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201"/>
              </a:spcBef>
              <a:buNone/>
              <a:tabLst>
                <a:tab algn="l" pos="0"/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Not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Reassessment of several previously approved (but not implemented) PRRs and SCRs is underw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R601, PRR675, PRR409, SCR720, SCR7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spcBef>
                <a:spcPts val="201"/>
              </a:spcBef>
              <a:buNone/>
              <a:tabLst>
                <a:tab algn="l" pos="0"/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spcBef>
                <a:spcPts val="201"/>
              </a:spcBef>
              <a:buNone/>
              <a:tabLst>
                <a:tab algn="l" pos="0"/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47A695-0BA1-4445-ABE0-A6EEC1FB3D2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PMO Update  -  YTD 2008 Project Implementation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80520" y="83772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anuary 2008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-70050_01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IS ETL Tool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Februar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2008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-70044_0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T Center Facility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-70005_01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 SAS70 Procedures Optimiz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O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-70012_0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yber Security Project #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O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-70037_0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C-3 Microwave Replac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-70035_01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07 REC Program Modific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Marc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2008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O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-60055_0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terprise Service Manag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O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-60013_0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hanced Digital Certificate Progra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-70038_0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COT.com Infrastructure Enhancemen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349"/>
              </a:spcBef>
              <a:buNone/>
              <a:tabLst>
                <a:tab algn="l" pos="0"/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Collage Infrastructure Redesig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-70013_0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rporate Document Manag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-70041_0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ylor Control Room Display System Replac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Apri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2008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No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EA9E55-2778-46A6-A3A5-3E6C8175546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PMO Update  -  YTD 2008 Project Implementations (cont’d)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80520" y="106668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y 2008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-70048_01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V90xi System Upgra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-70053_0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ideo Teleconferenc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-70055_0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itional Production SAN Capac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June 2008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MO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PR-60077_01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ERCOT.com Registered Are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IO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PR-70030_01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Tellabs DCCS System Replac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IO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PR-80022_01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Additional SAN Capacity for Projec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July 2008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RO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PR-60008_01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Terms and Conditions &amp; Performance Measu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PR-70023_01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CyberSecurity Project #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PR-70047_01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Corporate Application Environment True-U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PR-80010_01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Ruby Standardiz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PR-60073_01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eRecrui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3CF025-12C7-4AD3-A143-A81A91A7F67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/>
  <dc:description/>
  <dc:language>en-US</dc:language>
  <cp:lastModifiedBy>Troy Anderson</cp:lastModifiedBy>
  <dcterms:modified xsi:type="dcterms:W3CDTF">2008-12-17T04:57:05Z</dcterms:modified>
  <cp:revision>306</cp:revision>
  <dc:subject/>
  <dc:title>Instructions</dc:title>
</cp:coreProperties>
</file>