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A17-8E2A-4551-9165-E17E1B47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4AB-072D-4FA0-8110-0DB28BA4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7177-48DC-4E0D-8842-4232D5C7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CA78-8CB0-41D7-9888-B7029AA0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1816-6E37-4BE5-9A2E-DD84D494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8A76-23E5-4AFF-A365-4630DDFB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7256-0BB7-40FD-A3AD-FA849FA0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CD7C-3E1C-491D-9C07-0413D730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694F-9385-4307-AA60-A4685490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A7A5-AE94-486B-90A7-F665F847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592C-40F2-4E45-A9C7-8A3B36B2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FB9F-F70E-4296-98FC-9E219182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4980-9F88-4CE5-95EF-44F65668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4C66-5DDE-49A7-902A-032E95B0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4F0B-B401-4128-A024-7EFEBE0C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BFE8-6BE4-46A0-BB82-86B0BA28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4B34-ABC7-48B7-A68C-D7F6C225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6E2-AB45-4DA7-A8F4-699975D5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B0B-34C6-457C-AA20-55DB30D5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F02-E398-4096-BA9D-849A92A3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95B-307A-45F4-A1AA-25AABD85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C938-B8AA-4D68-AA72-74735543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DCD1-3A11-402D-AF13-18FC0982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A35-93D4-4937-8C90-522F32E7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DA0C-3A60-4832-BA98-93DD3CB0D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7C50-0BCE-4750-92B0-7AB0938CD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ember 4, 2008 TAC Mee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 for RO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647960"/>
            <a:ext cx="2286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ul Ro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ROS-Sponsored Voting Item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RR 214 -  Hotline Changes for QSEs representing multiple entities (ROS November meeting) – Approved by T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R 780 – Extending Black Start Timeline from one year to two years – ROS-sponsored PRR was approved by PRS and submitted for TAC approval – Approved by T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New Assignments from TAC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07120" cy="46483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PRR 777 (WGR QSE Metric Correction) and provide recommendation to TAC (at Februrary TAC mee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Status of TAC goals assigned to ROS (at January TAC mee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OR recommendation to form CIPWG under ROS approved – ROS to submit proposed Charter and proposed NERC CIPC representatives for TAC approval (at January TAC mee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ther Highlight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07120" cy="46483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proposed Regional Planning Group Charter was 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8:52:30Z</dcterms:created>
  <dc:creator>Randy Jones</dc:creator>
  <dc:description/>
  <dc:language>en-US</dc:language>
  <cp:lastModifiedBy>00010966</cp:lastModifiedBy>
  <dcterms:modified xsi:type="dcterms:W3CDTF">2008-12-08T14:23:25Z</dcterms:modified>
  <cp:revision>92</cp:revision>
  <dc:subject/>
  <dc:title>ROS’ Action Plan – Following Up on 2/26 EECP &amp; Wind Workshop Issues</dc:title>
</cp:coreProperties>
</file>