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CB6-F890-4EEC-A1E6-D6004BD4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553-1125-4169-98C5-81573E07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3A2-C5C8-4379-90ED-5FAECBCF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0E5-50C9-43E0-ACE9-3E41CDF4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F35-5C49-4FAE-A4B6-3FA2649D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1C7-7E9E-4D84-A35B-608BB476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304-23AE-492C-A8F4-2F3CBC34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DF8-66F4-4E17-81C2-7A735A38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FB1-EDAA-4142-965E-CB754794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D48-863C-49BB-99B9-BACD7E4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FB5-C1DF-4C7E-B573-2B7E1A86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0A7-5C92-4626-BA28-838E7DB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EEDE-F83D-4AA7-93EA-ED5C5F7CD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TF question for Dec ROS v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TF asks ROS to consider whether the interpretation of Protocol 6.5.7.1 dated Nov. 13, 2008, is accurate (i.e., the “rectangle” – constant MVar -- vs. the “cone” – constant p.f.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TF is concerned the interpretation rendered by ERCOT will adversely impact both wind generators and conventional generator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ROS believes only wind units will be adversely impacted by the interpretation, then the WOTF will consider development of a PRR for wind unit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ROS believes all generators may be adversely impacted by the interpretation, then the issue should be addressed by a task force the ROS design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2:26:55Z</dcterms:created>
  <dc:creator>mgarrett</dc:creator>
  <dc:description/>
  <dc:language>en-US</dc:language>
  <cp:lastModifiedBy>mgarrett</cp:lastModifiedBy>
  <dcterms:modified xsi:type="dcterms:W3CDTF">2008-12-02T22:28:36Z</dcterms:modified>
  <cp:revision>1</cp:revision>
  <dc:subject/>
  <dc:title>WOTF question for Dec ROS vote:</dc:title>
</cp:coreProperties>
</file>