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80D77-B605-4BDC-A62C-B62CF341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11ACF-5A72-45D7-A6B4-48668673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CAFAF-9D31-4509-ACDF-257100FB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249E2-8F37-4905-A5BC-83D08FDE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CCF0-0772-47EC-95EF-C7144307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01D2-0827-4509-AE53-0D64C642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1B53-3334-42A8-9933-74AA51B8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6DC3-37B1-4BF9-8543-0A5CFF53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A90D-B73C-4ADC-8268-5C17C6DD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6CD5-38C0-4B72-AC0A-3430D7DC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E21F-0B28-436E-B7B8-E26DD5D1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9BF6E-DFB4-4CD3-B5E4-BA3B6084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70C1-259C-4F94-AD3E-E020F32C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E352-9A77-4A70-8276-38EEBAA4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5874-039A-4D85-9E90-BD7C6CD3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958B-DA0E-41DA-A82B-DEE0B8E6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3D50-5B91-4978-9875-E0A4ECDB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5C464-712A-47F5-B143-7CB60B63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ED2E5-C07D-4C32-B08A-070B868C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B0EFF-24A9-403D-A9C2-2DF664D4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D7BCF-76C5-40BD-9BD3-FBE75067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86FB9-5725-46D5-A76C-C11F9E4C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5890-7CD7-4505-A832-040EF811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E6FA0-C701-4C6A-89FF-BD463A71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407C-26DB-47C9-B86D-968EF1BAA8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0499-188A-417E-A64F-2EEAED5CB5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C Goals for 2008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addition to the individual goals of the TAC Subcommittees, TAC identified the following goals for 2008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oversight and policy guidance on Nodal implement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duct a review of the TAC organizational structure and func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form alignment of ERCOT Protocols and procedures with NERC terminolo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pare for compliance with PUC rules on implementation of advanced metering technolo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khobbs 112108</cp:lastModifiedBy>
  <dcterms:modified xsi:type="dcterms:W3CDTF">2008-12-03T16:52:14Z</dcterms:modified>
  <cp:revision>207</cp:revision>
  <dc:subject/>
  <dc:title>Protocol Revision Subcommittee</dc:title>
</cp:coreProperties>
</file>