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454A-62C8-406D-BB29-B16693F4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8561-54CE-4291-94A7-2C2F1D06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87C3-9198-4FE4-A38D-489B658B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FA7D-3300-4062-8D5C-1941EB744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F2A1-7B5B-455B-BD78-88CB2866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DD82-CA92-49D4-82B7-01178945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4848-B712-4057-B35B-9899A76C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8BBF-4E78-4D86-80E1-573536FB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BCA9-81B7-4B47-A6C2-BD0F576E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99A5-CCC0-4314-A023-4304C04C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024-C0F4-4DAF-A833-DA7BAE1D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6AEA-096F-4319-8CE1-DC5FFA6F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CA52-8FB2-4D25-9D56-B6A4F96AA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13012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el Mill and Governor Dead Band Impact on CPS1 and CPS2 Sc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DCW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cember 11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bgreen\Desktop\Nov 2008 CPS1 Trend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3657600" y="380880"/>
            <a:ext cx="2514600" cy="58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RC CPS1 for October  2008 =132.4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6248520" y="380880"/>
            <a:ext cx="2514600" cy="58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RC CPS1 for November  2008 =146.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990720" y="380880"/>
            <a:ext cx="2590560" cy="58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RC CPS1 for September  2008 =119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095880" y="1066680"/>
            <a:ext cx="2667240" cy="824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RC Twelve Month rolling Average CPS1 = 124.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"/>
          <p:cNvSpPr/>
          <p:nvPr/>
        </p:nvSpPr>
        <p:spPr>
          <a:xfrm>
            <a:off x="6934320" y="0"/>
            <a:ext cx="16192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304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RCOT as a single control area is exempt from CPS2.  These scores are For Informat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:\Documents and Settings\bgreen\Desktop\steel mill and CPS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237960" y="0"/>
            <a:ext cx="866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5:13:32Z</dcterms:created>
  <dc:creator>Green, Bob</dc:creator>
  <dc:description/>
  <dc:language>en-US</dc:language>
  <cp:lastModifiedBy>Green, Bob</cp:lastModifiedBy>
  <dcterms:modified xsi:type="dcterms:W3CDTF">2008-12-09T21:57:47Z</dcterms:modified>
  <cp:revision>14</cp:revision>
  <dc:subject/>
  <dc:title>Steel Mill and Governor Dead Band Impact on CPS1 Scores</dc:title>
</cp:coreProperties>
</file>