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418261E-44C0-4F0A-99D2-83D4B74DBA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1B7B1DA-B298-4BA4-A832-6C3D319DB9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D30E230-71F4-4B6D-A658-3E90289B2D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3418B43-B4D5-450F-8B1F-7C13CD1D01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8762CC6-5451-4F05-8ECA-DC5F3A073D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C1FA955-34EA-4AF1-8CBF-8210A5B016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51536BA-71F1-4843-9E77-439B9835ED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DDF112A-D032-4466-8344-01DE960E32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026FCB1-ECFF-48BA-850A-310E3B408D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E39F0BA-E691-410B-ADD7-66686EDB56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BFB85CA-6B1E-4F3F-92F3-477A7C7DDB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0F17322-6384-4144-86E3-98FDFFA319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24F0CC6-1170-49CE-84A7-C623DAD49C1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mickey@ercot.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rcot.com/committees/board/tac/tpt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hyperlink" Target="http://www.ercot.com/calendar/2008/10/20081013-TPT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BBDD96E-A5BA-4CF6-94F6-183EE9E49B6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9a2"/>
                </a:solidFill>
                <a:latin typeface="Arial Black"/>
              </a:rPr>
              <a:t>TPTF Update f</a:t>
            </a:r>
            <a:r>
              <a:rPr b="0" lang="en-GB" sz="2400" spc="-1" strike="noStrike">
                <a:solidFill>
                  <a:srgbClr val="5469a2"/>
                </a:solidFill>
                <a:latin typeface="Arial Black"/>
              </a:rPr>
              <a:t>or TAC</a:t>
            </a:r>
            <a:r>
              <a:rPr b="0" lang="en-GB" sz="3600" spc="-1" strike="noStrike">
                <a:solidFill>
                  <a:srgbClr val="5469a2"/>
                </a:solidFill>
                <a:latin typeface="Arial Black"/>
              </a:rPr>
              <a:t> </a:t>
            </a:r>
            <a:br>
              <a:rPr sz="2000"/>
            </a:br>
            <a:r>
              <a:rPr b="0" i="1" lang="en-GB" sz="2000" spc="-1" strike="noStrike">
                <a:solidFill>
                  <a:srgbClr val="5469a2"/>
                </a:solidFill>
                <a:latin typeface="Arial Black"/>
              </a:rPr>
              <a:t>December 4, 2008</a:t>
            </a:r>
            <a:br>
              <a:rPr sz="2000"/>
            </a:br>
            <a:br>
              <a:rPr sz="2800"/>
            </a:br>
            <a:r>
              <a:rPr b="0" lang="en-GB" sz="1600" spc="-1" strike="noStrike">
                <a:solidFill>
                  <a:srgbClr val="5469a2"/>
                </a:solidFill>
                <a:latin typeface="Arial"/>
              </a:rPr>
              <a:t>Joel Mickey</a:t>
            </a:r>
            <a:br>
              <a:rPr sz="1600"/>
            </a:br>
            <a:r>
              <a:rPr b="0" lang="en-GB" sz="1600" spc="-1" strike="noStrike" u="sng">
                <a:solidFill>
                  <a:srgbClr val="009999"/>
                </a:solidFill>
                <a:uFillTx/>
                <a:latin typeface="Arial"/>
                <a:hlinkClick r:id="rId1"/>
              </a:rPr>
              <a:t>jmickey@ercot.com</a:t>
            </a:r>
            <a:endParaRPr b="0" lang="en-US" sz="1600" spc="-1" strike="noStrike">
              <a:solidFill>
                <a:srgbClr val="ffffff"/>
              </a:solidFill>
              <a:latin typeface="Arial Black"/>
            </a:endParaRPr>
          </a:p>
        </p:txBody>
      </p:sp>
      <p:pic>
        <p:nvPicPr>
          <p:cNvPr id="55" name="Picture 5" descr="logo"/>
          <p:cNvPicPr/>
          <p:nvPr/>
        </p:nvPicPr>
        <p:blipFill>
          <a:blip r:embed="rId2"/>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November 10-11, 2008</a:t>
            </a:r>
            <a:endParaRPr b="0" lang="en-US" sz="1800" spc="-1" strike="noStrike">
              <a:solidFill>
                <a:srgbClr val="000000"/>
              </a:solidFill>
              <a:latin typeface="Arial"/>
            </a:endParaRPr>
          </a:p>
        </p:txBody>
      </p:sp>
      <p:sp>
        <p:nvSpPr>
          <p:cNvPr id="83"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is summary are available for pick-up from the November 10-11 TPTF Meeting Page.</a:t>
            </a:r>
            <a:endParaRPr b="0" lang="en-US" sz="1400" spc="-1" strike="noStrike">
              <a:solidFill>
                <a:srgbClr val="000000"/>
              </a:solidFill>
              <a:latin typeface="Arial"/>
            </a:endParaRPr>
          </a:p>
        </p:txBody>
      </p:sp>
      <p:sp>
        <p:nvSpPr>
          <p:cNvPr id="8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3BF57FA-3879-49BE-A037-E0B8BC49C6D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5" name=""/>
          <p:cNvGraphicFramePr/>
          <p:nvPr/>
        </p:nvGraphicFramePr>
        <p:xfrm>
          <a:off x="304920" y="914400"/>
          <a:ext cx="8610480" cy="22845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November 11, TPTF endorsed forwarding comments to PRS for NPRR162, Change the Sign Convention for Load Resources, as revised by TPTF on November 10, 2008, and to recognize NPRR162 as "Needed for Go-Live."</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P Corpora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Reliant, 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6" name=""/>
          <p:cNvGraphicFramePr/>
          <p:nvPr/>
        </p:nvGraphicFramePr>
        <p:xfrm>
          <a:off x="304920" y="3352680"/>
          <a:ext cx="8610480" cy="21337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November 11, TPTF endorsed TPTF comments for SCR751, Nodal – Power Balance Shadow Price Cap, as discussed by TPTF November 11,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B04C01D-F3CF-46C3-BECA-5545CAB584A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89" name="Text Box 6"/>
          <p:cNvSpPr/>
          <p:nvPr/>
        </p:nvSpPr>
        <p:spPr>
          <a:xfrm>
            <a:off x="380880" y="792000"/>
            <a:ext cx="8610840" cy="1149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Meeting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5 – 16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2 – 13, 2009 (Tentat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26 – 28, 2009 (Tentative)</a:t>
            </a:r>
            <a:endParaRPr b="0" lang="en-US" sz="1600" spc="-1" strike="noStrike">
              <a:solidFill>
                <a:srgbClr val="000000"/>
              </a:solidFill>
              <a:latin typeface="Arial"/>
            </a:endParaRPr>
          </a:p>
        </p:txBody>
      </p:sp>
      <p:sp>
        <p:nvSpPr>
          <p:cNvPr id="9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8"/>
          <p:cNvSpPr/>
          <p:nvPr/>
        </p:nvSpPr>
        <p:spPr>
          <a:xfrm>
            <a:off x="683280" y="2057400"/>
            <a:ext cx="332028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a:t>
            </a:r>
            <a:r>
              <a:rPr b="0" lang="en-US" sz="1600" spc="-1" strike="noStrike" u="sng">
                <a:solidFill>
                  <a:srgbClr val="009999"/>
                </a:solidFill>
                <a:uFillTx/>
                <a:latin typeface="Arial"/>
                <a:hlinkClick r:id="rId1"/>
              </a:rPr>
              <a:t>2008 TPTF Calend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40BD186-4E92-45C0-A51F-429F58EC392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95" name="Text Box 6"/>
          <p:cNvSpPr/>
          <p:nvPr/>
        </p:nvSpPr>
        <p:spPr>
          <a:xfrm>
            <a:off x="380880" y="765000"/>
            <a:ext cx="8763120" cy="1685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December 15 – 16 TPTF meeting, likely topics include:</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Status Update</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Organizational Chart</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a:t>
            </a:r>
            <a:endParaRPr b="0" lang="en-US" sz="1600" spc="-1" strike="noStrike">
              <a:solidFill>
                <a:srgbClr val="000000"/>
              </a:solidFill>
              <a:latin typeface="Arial"/>
            </a:endParaRPr>
          </a:p>
        </p:txBody>
      </p:sp>
      <p:sp>
        <p:nvSpPr>
          <p:cNvPr id="9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C793A8B-C5E8-46DE-8FF0-5971C916E94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00"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9079011-3F89-4E12-9464-837C3BA79A7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942840"/>
          <a:ext cx="8763120" cy="1486080"/>
        </p:xfrm>
        <a:graphic>
          <a:graphicData uri="http://schemas.openxmlformats.org/drawingml/2006/table">
            <a:tbl>
              <a:tblPr/>
              <a:tblGrid>
                <a:gridCol w="2133720"/>
                <a:gridCol w="5410080"/>
                <a:gridCol w="121932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ote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Vot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Next Meeting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coming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pproval of Milestone</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3654800-580C-41FB-8182-55659528FE5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61" name="Text Box 6"/>
          <p:cNvSpPr/>
          <p:nvPr/>
        </p:nvSpPr>
        <p:spPr>
          <a:xfrm>
            <a:off x="380880" y="893880"/>
            <a:ext cx="8077320" cy="65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PTF met once since the previous TAC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rPr>
              <a:t>November 10-11</a:t>
            </a:r>
            <a:r>
              <a:rPr b="0" lang="en-US" sz="1600" spc="-1" strike="noStrike" u="sng">
                <a:solidFill>
                  <a:srgbClr val="009999"/>
                </a:solidFill>
                <a:uFillTx/>
                <a:latin typeface="Arial"/>
                <a:hlinkClick r:id="rId1"/>
              </a:rPr>
              <a:t>, 2008</a:t>
            </a:r>
            <a:r>
              <a:rPr b="0" lang="en-US" sz="1600" spc="-1" strike="noStrike" u="sng">
                <a:solidFill>
                  <a:srgbClr val="009999"/>
                </a:solidFill>
                <a:uFillTx/>
                <a:latin typeface="Arial"/>
                <a:hlinkClick r:id="rId2"/>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02FFC60-7F4C-4E3B-BC07-116C9F06987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64" name="Text Box 6"/>
          <p:cNvSpPr/>
          <p:nvPr/>
        </p:nvSpPr>
        <p:spPr>
          <a:xfrm>
            <a:off x="380880" y="914400"/>
            <a:ext cx="8534520" cy="5367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November 10-11,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m Martinez presented an update on nodal projects, including NMMS, Energy Management System (EMS), Market Management System (MMS), Outage Scheduler (OS), Congestion Revenue Rights (CRR), Commercial Systems (COMS), and Early Delivery Systems (EDS), and integr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s requested that ERCOT provide more information regarding the change request for the EMS Market Analyst Interface Requirements, that ERCOT distribute the MMS Detailed User Interface (UI) Design for a formal TPTF Review, that ERCOT identify how additional user-experience feedback will be incorporated into the MMS Detailed UI Design, and that ERCOT verify whether the defects recently reported for CRR have been resolve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Integrated Release Approach And Updat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 Mereness defined the integration testing levels and discussed the current state of nodal integration in EDS. He noted that the upcoming activities for Focused Input Testing (FIT) will be accommodated during business hours for the remainder of the year. </a:t>
            </a:r>
            <a:endParaRPr b="0" lang="en-US" sz="16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DFB4057-3267-4AB5-8599-FBF4C83D92C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67" name="Text Box 6"/>
          <p:cNvSpPr/>
          <p:nvPr/>
        </p:nvSpPr>
        <p:spPr>
          <a:xfrm>
            <a:off x="380880" y="914400"/>
            <a:ext cx="8534520" cy="517428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Metrics Updat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rray Nixon provided an update on transition activities related to the ERCOT Business Process Model, procedures, training, and readiness metrics. Regarding readiness metrics, Ms. Nixon noted that ERCOT was recommending that measurement for the majority of readiness metrics be postponed until after the new integrated nodal program schedule is approved.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rPr>
              <a:t>NPRR162</a:t>
            </a:r>
            <a:r>
              <a:rPr b="0" lang="en-US" sz="1600" spc="-1" strike="noStrike">
                <a:solidFill>
                  <a:srgbClr val="000000"/>
                </a:solidFill>
                <a:latin typeface="Arial"/>
              </a:rPr>
              <a:t>, Changing The Sign Convention For Load Resource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TPTF’s Role in the NPRR Review Proces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s discussed TPTF’s role in the NPRR review process, noting that the advent of the new integrated nodal program schedule had effectively relaxed the sense of urgency previously ascribed to NPRR approvals. As a result, Market Participants discussed whether the informal TPTF reviews typically conducted ahead of each initial PRS review were still adding value to the governance process. While some Market Participants expressed a preference for continuing to conduct the informal TPTF reviews ahead of PRS, others opined that the reviews had become outmoded in light of the new program schedule. It was suggested that TPTF should wait for PRS to exercise its prerogative to make initial language revisions to NPRRs and to take initial action per the process documented in ERCOT Protocols Section 21,</a:t>
            </a:r>
            <a:endParaRPr b="0" lang="en-US" sz="1600" spc="-1" strike="noStrike">
              <a:solidFill>
                <a:srgbClr val="000000"/>
              </a:solidFill>
              <a:latin typeface="Arial"/>
            </a:endParaRPr>
          </a:p>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D1E51B5-5925-4ABC-9F4B-FC8449EA260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70" name="Text Box 6"/>
          <p:cNvSpPr/>
          <p:nvPr/>
        </p:nvSpPr>
        <p:spPr>
          <a:xfrm>
            <a:off x="380880" y="914400"/>
            <a:ext cx="8534520" cy="5380920"/>
          </a:xfrm>
          <a:prstGeom prst="rect">
            <a:avLst/>
          </a:prstGeom>
          <a:noFill/>
          <a:ln w="0">
            <a:noFill/>
          </a:ln>
        </p:spPr>
        <p:style>
          <a:lnRef idx="0"/>
          <a:fillRef idx="0"/>
          <a:effectRef idx="0"/>
          <a:fontRef idx="minor"/>
        </p:style>
        <p:txBody>
          <a:bodyPr lIns="90000" rIns="90000" tIns="46800" bIns="46800" anchor="t">
            <a:spAutoFit/>
          </a:bodyPr>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ss for Protocol Revision, and that TPTF should comment collectively only on those NPRRs referred directly by PRS. Market Participants suggested that PRS be asked to comment upon any preferences it may have in this area.</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November 11, TPTF discuss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rPr>
              <a:t>NPRR160</a:t>
            </a:r>
            <a:r>
              <a:rPr b="0" lang="en-US" sz="1600" spc="-1" strike="noStrike">
                <a:solidFill>
                  <a:srgbClr val="009999"/>
                </a:solidFill>
                <a:latin typeface="Arial"/>
              </a:rPr>
              <a:t>,</a:t>
            </a:r>
            <a:r>
              <a:rPr b="0" lang="en-US" sz="1600" spc="-1" strike="noStrike">
                <a:solidFill>
                  <a:srgbClr val="000000"/>
                </a:solidFill>
                <a:latin typeface="Arial"/>
              </a:rPr>
              <a:t> Elimination of the Non-ERCOT Load Serving Entity Fe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rPr>
              <a:t>NPRR161</a:t>
            </a:r>
            <a:r>
              <a:rPr b="0" lang="en-US" sz="1400" spc="-1" strike="noStrike">
                <a:solidFill>
                  <a:srgbClr val="009999"/>
                </a:solidFill>
                <a:latin typeface="Arial"/>
              </a:rPr>
              <a:t>,</a:t>
            </a:r>
            <a:r>
              <a:rPr b="0" lang="en-US" sz="1400" spc="-1" strike="noStrike">
                <a:solidFill>
                  <a:srgbClr val="000000"/>
                </a:solidFill>
                <a:latin typeface="Arial"/>
              </a:rPr>
              <a:t> </a:t>
            </a:r>
            <a:r>
              <a:rPr b="0" lang="en-US" sz="1600" spc="-1" strike="noStrike">
                <a:solidFill>
                  <a:srgbClr val="000000"/>
                </a:solidFill>
                <a:latin typeface="Arial"/>
              </a:rPr>
              <a:t>Clarification of Establishing Decision Making Authority of Managed Capacit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rick Coon and Chad Seely discussed NPRR161. TPTF recommended clarifying the term “Resource Entity” as it is used in NPRR161 to specify whether the responsibility for submitting the subject attestation of decision-making authority lies with the Resource Entity that owns a Resource or the Resource Entity that controls it. TPTF also suggested that any clarifications to the term Resource Entity in NPRR161 should be consistent with Nodal Protocols Section 16.5, Registration of a Resource Entity. Market Participants noted that the attestation and the suggested clarifications for the term “Resource Entity” represent policy issues outside the TPTF purview that should be vetted through other stakeholder forums as deemed appropriate by PRS. TPTF did not endorse formal comments for NPRR161 or assign an essentiality status but requested that NPRR161 be re-circulated to TPTF for further discussion following PRS consideration.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1F2D29A-42A0-494C-ADEF-B8E4DF8DD17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73" name="Text Box 6"/>
          <p:cNvSpPr/>
          <p:nvPr/>
        </p:nvSpPr>
        <p:spPr>
          <a:xfrm>
            <a:off x="380880" y="914400"/>
            <a:ext cx="8534520" cy="494532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tt Middleton provided an update on registration activities, including the status of metrics MP10, Mapping of Resources to Resource Nodes and Resources to EPS Meters, and MP11, Market Participant Registration Activities. Regarding metric MP11, Mr. Middleton noted that the third full audit of Resource Asset Registration Forms (RARFs) would begin on November 19, 2008 and that production-quality targets for RARF data were already being surpassed—just 1% shy of the December 12, 2008 goal.  Currently, the remaining 3% of RARF errors are spread across approximately 40% of the RARFs. Resolving the quantity of RARFs containing minimal errors (most outstanding RARFs have fewer than five errors) constitutes the largest effort for cleaning up RARFs at this point in tim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Middleton noted that the Generation Site Topology Form will be re-absorbed into the RARF to establish a single artifact describing data related to generation sites. ERCOT is extending the audit report process to include transmission-asset data as well as Resource data and is planning to have a formal schedule in place by the end of the year to facilitate the extended audit process for transmission assets. Mr. Middleton noted that the audit process for Private Use Networks (PUNs) will be engaged at the beginning of 2009 and that more information on this topic will be provided during a future TPTF meeting.</a:t>
            </a:r>
            <a:endParaRPr b="0" lang="en-US" sz="1600" spc="-1" strike="noStrike">
              <a:solidFill>
                <a:srgbClr val="000000"/>
              </a:solidFill>
              <a:latin typeface="Arial"/>
            </a:endParaRPr>
          </a:p>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7DBB249-FD92-437A-8D71-DA25AB48D0B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76" name="Text Box 6"/>
          <p:cNvSpPr/>
          <p:nvPr/>
        </p:nvSpPr>
        <p:spPr>
          <a:xfrm>
            <a:off x="380880" y="914400"/>
            <a:ext cx="8534520" cy="447804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Resubmitting Ancillary Service Offers in Supplemental Ancillary Service Marke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ms Siddiqi discussed a draft NPRR on behalf of the Quick Response Working Group (QRWG) to propose revisions to existing rules for the resubmission of Ancillary Service (AS) offers in the Adjustment Period. Mr. Siddiqi made additional updates to the draft NPRR as recommended by TPTF.</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QRWG Active Issu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Spangler discussed QRWG objectives and deliverables for vetting Reliability Unit Commitment (RUC) issues with TPTF. He encouraged Market Participant to provide feedback regarding any SCRs that should be submitted or any RUC Operating Procedure Manual revisions that may be needed to assure that ERCOT Operators in the nodal market will be divested of opportunities to seek market solutions for any reliability concerns returned by RUC analyses. Mr. Spangler noted that additional QRWG conference calls will be coordinated to discuss RUC issues and that the QRWG hopes to provide formal feedback for the RUC Operating Procedure Manual by January 2009. </a:t>
            </a:r>
            <a:endParaRPr b="0" lang="en-US" sz="1600" spc="-1" strike="noStrike">
              <a:solidFill>
                <a:srgbClr val="000000"/>
              </a:solidFill>
              <a:latin typeface="Arial"/>
            </a:endParaRPr>
          </a:p>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November 10-11, 2008</a:t>
            </a:r>
            <a:endParaRPr b="0" lang="en-US" sz="1800" spc="-1" strike="noStrike">
              <a:solidFill>
                <a:srgbClr val="000000"/>
              </a:solidFill>
              <a:latin typeface="Arial"/>
            </a:endParaRPr>
          </a:p>
        </p:txBody>
      </p:sp>
      <p:graphicFrame>
        <p:nvGraphicFramePr>
          <p:cNvPr id="78" name=""/>
          <p:cNvGraphicFramePr/>
          <p:nvPr/>
        </p:nvGraphicFramePr>
        <p:xfrm>
          <a:off x="304920" y="914400"/>
          <a:ext cx="8610480" cy="23223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November 11, TPTF endorsed the draft NPRR, Resubmitting Ancillary Service Offers in SASM, to be submitted to PRS on behalf of TPTF and to recognize it as "Needed for Go-Live." TPTF requests that the draft NPRR be posted to the most immediate PRS agenda once it is processed by Market Rul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is summary are available for pick-up from the November 10-11 TPTF Meeting Page.</a:t>
            </a:r>
            <a:endParaRPr b="0" lang="en-US" sz="1400" spc="-1" strike="noStrike">
              <a:solidFill>
                <a:srgbClr val="000000"/>
              </a:solidFill>
              <a:latin typeface="Arial"/>
            </a:endParaRPr>
          </a:p>
        </p:txBody>
      </p:sp>
      <p:sp>
        <p:nvSpPr>
          <p:cNvPr id="8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B2CF9F7-3078-4134-BEFE-62762C75378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1" name=""/>
          <p:cNvGraphicFramePr/>
          <p:nvPr/>
        </p:nvGraphicFramePr>
        <p:xfrm>
          <a:off x="304920" y="3352680"/>
          <a:ext cx="8610480" cy="23716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November 11, TPTF endorsed NPRR160, Elimination of the Non-ERCOT LSE Fee, as posted by Market Rules. TPTF recognizes this NPRR to represent a policy issue that does not affect the nodal structure. If the companion PRR783 is approved, then TPTF considers the essentiality of NPRR160 to be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Joel Mickey</cp:lastModifiedBy>
  <dcterms:modified xsi:type="dcterms:W3CDTF">2008-11-25T21:46:09Z</dcterms:modified>
  <cp:revision>1342</cp:revision>
  <dc:subject/>
  <dc:title>TAC Update</dc:title>
</cp:coreProperties>
</file>