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8006-9B8B-42BB-B0F1-80E91204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D4BD-FA27-427D-BA88-3611FEC5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C3DB-90FF-4BCF-8D45-23CB6468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5D5E-714E-4E29-AD3D-C17FE160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DD62-A5ED-4AA0-B095-19EC643E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ACE9-3BFD-4869-9450-01579713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D7FE-DB94-4469-908C-E3966919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3EFB-3308-4F52-8207-CCAD1254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D8EF-4983-41B8-81F5-442B2FF1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5EA3-FB02-4729-A95E-D06844E0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AAF1-A394-4215-8C2F-B7539FDD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00A9-4757-44A3-AE5A-8A4ABCD3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C060-FBC1-4E65-84D1-AEAC39F4A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ember 10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c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on Test Day 38; Contingency period is being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1008 should complete before the Dec. 23 blackou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rak Testing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2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1/14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1/20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02/13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02/16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03/31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8-12-03T14:12:22Z</dcterms:modified>
  <cp:revision>108</cp:revision>
  <dc:subject/>
  <dc:title>Instructions</dc:title>
</cp:coreProperties>
</file>