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0586-1326-41BA-AD86-76A4C8927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61_01 Moved to ON Hold:  Freed up approx. $120k, however not recommended for release by C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FFBD-C2C5-43E0-A2A0-2E54C8E6B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8FD9-6F6F-44BF-ACE5-8B23D3A33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98CD-36AF-4769-8DCD-638C9245F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57D8-05F2-4D9D-8B8D-87E684BE1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EE49-8C50-42BD-8E9A-D47C55260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55A4-48D6-4CEB-ACD7-04D717931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378F-25F1-41BB-B310-C0CE0CCF2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FA7A-A13E-45D0-9473-50D1DFEA8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1853-E918-4B67-9396-D748DBA9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7622-865A-4498-AE15-9011ABE6F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6B4C-030D-4E31-A8CE-ECD9CFA9A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5306-18D0-469B-94C0-57983E9E7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9898-17F6-4A62-A8C2-F096D9E08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10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07D781-2401-4EC8-A20E-8D5B11CBB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December 10, 2008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97180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 Carry-Over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5562720"/>
            <a:ext cx="82296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60008_01:  Moved to “Clos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70007_01:  Release 3 Go-Live 12/13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86800" cy="48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B7DE-DE83-4C8B-8AF9-F88ED128AA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O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915400" cy="676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46280" y="4224240"/>
            <a:ext cx="771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42670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80028:  Go-Live scheduled for 12/13/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“Unplanned” Carry Over projects to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8915400" cy="22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DE91-25CC-4E09-966B-9A2A5BF58A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1/30/2008 (cont’d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280" y="762120"/>
          <a:ext cx="8763120" cy="53766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63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27M Released due to deferred projects (Originally $6.1M Approv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K Transferred to MO to cover the AMIT Study.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 to Transfer more funds to MO for the ILM (Information Lifecycle Management) in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2.71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9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ce attributed to projects deferred to future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05C7-190C-4B61-A1DD-150CEC45EA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152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- Planned Carry Ov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E8AD-A840-41F1-B26D-893B831A48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9 – Approved Projec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6840" y="990720"/>
            <a:ext cx="8950320" cy="2693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396252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/20/2008 – PRS Approved $3.45M funding request for 2009 RO P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8608-4094-41FC-8F9B-DAB8679BCD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O 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A34F-2D13-4C56-B6A4-3D8BEB0AF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satterfield</cp:lastModifiedBy>
  <dcterms:modified xsi:type="dcterms:W3CDTF">2008-12-09T13:46:53Z</dcterms:modified>
  <cp:revision>425</cp:revision>
  <dc:subject/>
  <dc:title>Role of Account Management at ERCOT</dc:title>
</cp:coreProperties>
</file>