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E344-F891-4DDD-AF35-3ED800B72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446-C5D2-4FF8-851E-A992AF3AC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5424-4BFD-4174-9696-AE11D544B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EB6-B3ED-4B3A-A542-DBD0EEBE9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8ED-307F-40D9-8CF5-6EB21E6BC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4B6C-5992-49BC-BE5C-99C1210AE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6320-8D1E-4468-9C19-392DAC741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578B-ED19-4CED-9ECE-605C96A80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EF4-5434-4FBE-9C5E-FE7AAB2E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3D7-4BD7-4517-BD7A-2DE8AC20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64E-6C2E-4C27-8171-F2103C12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7CE-2D69-4157-95A8-10F1D4CF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069A-77E9-4EF6-A172-B663D5F8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FBCF-C0A9-44BA-B80D-B470175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0F8D-A424-47BB-945A-750FCA8F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C506-7C1B-4A93-8BF8-19292E5C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4BF-88B6-4963-918C-6C9DFC3A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387-62DA-48BB-8508-AACC313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F289-B710-465D-9733-EE48966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82A-D8A8-4A17-98B8-AA1141B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A13-4EAB-4126-8E26-1239981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D054-039C-41AF-A3A3-809B924B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DFF-6A73-49DA-836D-59FFCAF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F2B-5CE7-416D-ADF8-0E526906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FC50-4F8D-4C4F-B631-0005B9F4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E39DC-84B0-41D9-9176-35809C18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B749C-F22C-43F8-AEB0-14EA87E5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FE25E-DFA9-42DA-9B89-45D2240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14E20-6CD8-41C5-9B05-75F60F7E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26A5E-CBE2-4134-835C-8DFC819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7E9-9656-4271-AE49-3EBD2DC3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6484-9D4F-4922-8BE4-422EEB4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5F6B2-CE73-4BC0-BB81-45A0AD8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AA290-1D6A-41D8-A862-72BFD1A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68702-683B-40B1-B183-D2DBA20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3CCDB-976A-4A60-89C8-DA7AE26D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2D4A0-4483-4E49-9B15-BF35687D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E609A-3FC2-4EDE-948F-A73DBADA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FDEC-88C5-4778-9539-A7024317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10F8-8A4D-41B9-A7C7-195E2E74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D1F6-AB86-46B0-9F62-4DA07946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C3F-0643-495D-9D7E-9A07589B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66C2-3972-4E9F-BF8C-81D7EA82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8688-26E6-4577-A39C-7AAF432A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7C88-CC65-4584-8D35-B8151346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D4E8A-A6DC-41F9-AA33-7D5A487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67EB-1DC6-440F-9F0B-11138C94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0E68-15D7-433F-A329-C151E30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A86E-3C99-4CE2-8C05-19CE07D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5A8D-25B8-4536-BFDA-32CF2C1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C7BF-A0A7-434A-A159-4A3481E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AE7B9-7D97-4D43-88F5-A69B9E7F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B3C-C166-4A75-B2EE-F382218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0A597-CD05-4A35-876F-823B9F0A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4FA42-0FC7-4EAB-87E5-1517F6C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F1FFE-02EF-418C-A020-F6012A2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6C376-810B-402D-ABCB-00B4F51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782A0-1EBF-49B0-8EBA-FDDFC4B5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6C1BC-F185-4C34-8E1C-0CDCA52E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EDFC6-1E03-430C-8C3D-C0E7BDE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A7BB3-2B04-4661-9168-6CB58E6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C5D04-8D9E-47AF-AFCD-DEB8851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EF041-FD51-49D1-BF4D-6E2FF142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7C8-6E72-4F13-97CF-E124CCC8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53D34-CD67-4E8A-9A91-42301A55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CA800-D034-4DED-9178-2A11A73B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C84C9-7073-4216-8F44-50F1B12D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B6694-76A9-4114-8440-73214B3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8FB47-E517-420A-BC83-E5655C80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F85C5-8682-4DF9-9E25-53E3269B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C078E-3E79-46E5-A455-D8E49D6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4726E-9480-489C-93DA-34F28D3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4B373-A19E-4A2F-8FC1-67E94A8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06CAD-9465-40F1-A721-6A110FA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657-1AA1-467A-B0E5-F681D63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5889C-2B29-495E-AC63-91718E59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03A3F-F382-4FF8-8E2A-D8C256AC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55D41-8C47-4452-887E-F3581432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4740C-9F65-4C2D-AB11-C90EBFFF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8E528-9F1E-4378-BF85-31224004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065B6-853D-4DC9-9DF4-F53AA79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EBE11-3037-4D2D-89E9-35F90FD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0677E-D59D-4549-A67D-778B1D8A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F6AAF-8746-414B-B1D5-01DBA9AA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4FEC2-0E31-48BC-959E-5539019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077-4A91-4523-AFA7-FC96442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DAECC-DB04-4606-8490-EEA62ED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561C9-8F0D-4270-9169-29BB8CA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862F4-9DB2-4097-A902-90C9BC2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906D5-3C7E-4899-B848-702799DD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6D5BA-939E-4D85-8621-D4FD06A6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9B0-E9A7-4021-BE71-5E947F9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668-017F-4E39-A5C8-3DAEEA894F6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F92B-2934-4CB6-B601-2611D33EEE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974-6788-4EAF-BF83-6638146CF8E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CD1-F7C2-4EA1-9D8F-197C93820B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CCB5-6B2E-4F40-A194-663773A0414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331-AB30-4FCD-99F8-C085C61840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AF6-54B6-42C7-A947-669EEF6FCD7F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FBF-D33A-478E-88B4-2A6EE8ACD0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D10A-521A-4392-92C4-8158437EBF5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C56-4A0F-4756-B0FB-0AEC62A9EC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92B2-019B-47CF-9488-2B21F623D02B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9FC-5813-4717-952D-4CDA09B5D8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113-1D89-4E87-82D3-464ECD546E7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D8EA-D36C-4974-A7EF-781F3BB5F1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ARS TASKFORCE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2008 ACCOMPLISHMENTS &amp;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2009 GOALS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RMS Update December 10, 2008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2ED-DDD9-40E0-BDA1-40716A615D9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ACCOMPLISHMENTS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pleted Review and Finalized 16 Use Ca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inalized and Approv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iness Requirements as defined by AM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sumptions and Definition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Enhanced LSE File Naming Conven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ARS received “Approval” from TDTWG on November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Drafted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Enhanced LSE File Definitions and Attribu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ist of Error/Reject Cod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 Record Exampl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8E89-C8AE-4AA5-A7F3-1F7CAFCE77C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ACCOMPLISHMENTS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1752120"/>
            <a:ext cx="7696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RS Taskforce Agre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Enhanced LSE files will contain between 10,000 and 50,000 data records and that the files will be zipped prior to PGP encryption and compression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combination of zipping and encrypting will result in a significant savings in internet bandwidth, decryption time, and storag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TP file format created by TDSPs for CRs  downloads will have the same format as the ERCOT Enhanced LSE fil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supporting documentation as feedback          to various action item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2CE-629C-4FEB-A001-0F627B960B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       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700"/>
            </a:b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ACCOMPLISHMENTS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t the November 1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RMS, MARS Taskforce received RM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blessing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” concerning all taskforce accomplishments achieved to date, which included any finalized and taskforce approved document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9AFC-07A5-4086-A684-823650ABE5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32c16"/>
                </a:solidFill>
                <a:latin typeface="Century Schoolbook"/>
              </a:rPr>
              <a:t>2009 GOAL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5998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Test Plan along with Test Scripts/Scena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and successfully complete test pl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the appropriate Data needed for extract reporti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Retail Market Guide Revision section that details process for AMS “Provisioned” meters , FTP and ERCOT Enhanced LSE fi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mit proposed RMGRR changes to RMS for Approval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e to complete and resolve open action items by providing timely feedba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7F2-CCAC-4ED6-9BA5-C1C8365B2A6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32c16"/>
                </a:solidFill>
                <a:latin typeface="Century Schoolbook"/>
              </a:rPr>
              <a:t>2009</a:t>
            </a:r>
            <a:r>
              <a:rPr b="1" i="1" lang="en-US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b32c16"/>
                </a:solidFill>
                <a:latin typeface="Century Schoolbook"/>
              </a:rPr>
              <a:t>GOALS</a:t>
            </a:r>
            <a:r>
              <a:rPr b="1" i="1" lang="en-US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inue to stay on target according to ERCOT’s Project Plan critical dates and mileston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Business Requirements -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12/02/2008*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ERCOT Enhanced LSE Design-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12/09/2008*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Conceptual Design -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01/07/2009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Detail Designs -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02/09/2009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Test Plan -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02/16/2009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Planning Complete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02/20/2009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ete and Implement Business Requirement BR-004 TDSP’s FTP site no later than Q2-20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ete and Implement the Market’s Interim Settlement Solution (MISS) no later than Q4- 2009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60F-0096-442B-8EFF-9909852C1B4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entury Schoolbook"/>
              </a:rPr>
              <a:t>MERRY CHRISTMAS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&amp;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HAPPY NEW YEAR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ROM MAR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E821-B7A1-4F74-9F79-F98F8D5C82B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C:\Program Files\Microsoft Office\MEDIA\CAGCAT10\j0183290.wmf"/>
          <p:cNvPicPr/>
          <p:nvPr/>
        </p:nvPicPr>
        <p:blipFill>
          <a:blip r:embed="rId1"/>
          <a:stretch/>
        </p:blipFill>
        <p:spPr>
          <a:xfrm>
            <a:off x="838080" y="1828800"/>
            <a:ext cx="312444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-681120" y="-182520"/>
            <a:ext cx="9744120" cy="72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08-12-02T21:17:33Z</dcterms:modified>
  <cp:revision>98</cp:revision>
  <dc:subject/>
  <dc:title>MARS Taskforce </dc:title>
</cp:coreProperties>
</file>