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45" name="PlaceHolder 1"/>
          <p:cNvSpPr>
            <a:spLocks noGrp="1"/>
          </p:cNvSpPr>
          <p:nvPr>
            <p:ph type="hdr"/>
          </p:nvPr>
        </p:nvSpPr>
        <p:spPr>
          <a:xfrm>
            <a:off x="-36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 name="PlaceHolder 2"/>
          <p:cNvSpPr>
            <a:spLocks noGrp="1"/>
          </p:cNvSpPr>
          <p:nvPr>
            <p:ph type="dt" idx="4"/>
          </p:nvPr>
        </p:nvSpPr>
        <p:spPr>
          <a:xfrm>
            <a:off x="3884400" y="0"/>
            <a:ext cx="2973240" cy="4586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 name="PlaceHolder 3"/>
          <p:cNvSpPr>
            <a:spLocks noGrp="1"/>
          </p:cNvSpPr>
          <p:nvPr>
            <p:ph type="sldImg"/>
          </p:nvPr>
        </p:nvSpPr>
        <p:spPr>
          <a:xfrm>
            <a:off x="1137960" y="687240"/>
            <a:ext cx="4592520" cy="3445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61040"/>
            <a:ext cx="5029200" cy="4132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721720"/>
            <a:ext cx="2973240" cy="458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6"/>
          <p:cNvSpPr>
            <a:spLocks noGrp="1"/>
          </p:cNvSpPr>
          <p:nvPr>
            <p:ph type="sldNum" idx="6"/>
          </p:nvPr>
        </p:nvSpPr>
        <p:spPr>
          <a:xfrm>
            <a:off x="3884400" y="8721720"/>
            <a:ext cx="2973240" cy="45864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18DD4C6-CD04-42D0-85BE-9844332F5A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38320" y="687240"/>
            <a:ext cx="4592520" cy="3445200"/>
          </a:xfrm>
          <a:prstGeom prst="rect">
            <a:avLst/>
          </a:prstGeom>
          <a:ln w="0">
            <a:noFill/>
          </a:ln>
        </p:spPr>
      </p:sp>
      <p:sp>
        <p:nvSpPr>
          <p:cNvPr id="81"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A0F22A8-D7DD-489D-A1CF-0422D204DC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38320" y="687240"/>
            <a:ext cx="4592520" cy="3445200"/>
          </a:xfrm>
          <a:prstGeom prst="rect">
            <a:avLst/>
          </a:prstGeom>
          <a:ln w="0">
            <a:noFill/>
          </a:ln>
        </p:spPr>
      </p:sp>
      <p:sp>
        <p:nvSpPr>
          <p:cNvPr id="108"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DD81258-1614-4999-9DA8-D112D14377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38320" y="687240"/>
            <a:ext cx="4592520" cy="3445200"/>
          </a:xfrm>
          <a:prstGeom prst="rect">
            <a:avLst/>
          </a:prstGeom>
          <a:ln w="0">
            <a:noFill/>
          </a:ln>
        </p:spPr>
      </p:sp>
      <p:sp>
        <p:nvSpPr>
          <p:cNvPr id="84"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A51716-D16B-42E6-AD45-9B624AE67B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38320" y="687240"/>
            <a:ext cx="4592520" cy="3445200"/>
          </a:xfrm>
          <a:prstGeom prst="rect">
            <a:avLst/>
          </a:prstGeom>
          <a:ln w="0">
            <a:noFill/>
          </a:ln>
        </p:spPr>
      </p:sp>
      <p:sp>
        <p:nvSpPr>
          <p:cNvPr id="87"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71770B3-3655-4EA4-88B7-454E9CE45B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38320" y="687240"/>
            <a:ext cx="4592520" cy="3445200"/>
          </a:xfrm>
          <a:prstGeom prst="rect">
            <a:avLst/>
          </a:prstGeom>
          <a:ln w="0">
            <a:noFill/>
          </a:ln>
        </p:spPr>
      </p:sp>
      <p:sp>
        <p:nvSpPr>
          <p:cNvPr id="90"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D18FD96-DA0B-4956-8942-2805FF8E9A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38320" y="687240"/>
            <a:ext cx="4592520" cy="3445200"/>
          </a:xfrm>
          <a:prstGeom prst="rect">
            <a:avLst/>
          </a:prstGeom>
          <a:ln w="0">
            <a:noFill/>
          </a:ln>
        </p:spPr>
      </p:sp>
      <p:sp>
        <p:nvSpPr>
          <p:cNvPr id="93"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EE4773D-351E-45EE-A8F3-9049BAAF2B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38320" y="687240"/>
            <a:ext cx="4592520" cy="3445200"/>
          </a:xfrm>
          <a:prstGeom prst="rect">
            <a:avLst/>
          </a:prstGeom>
          <a:ln w="0">
            <a:noFill/>
          </a:ln>
        </p:spPr>
      </p:sp>
      <p:sp>
        <p:nvSpPr>
          <p:cNvPr id="96"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2AFD4E-BD11-479D-93D6-B8385DFFA3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38320" y="687240"/>
            <a:ext cx="4592520" cy="3445200"/>
          </a:xfrm>
          <a:prstGeom prst="rect">
            <a:avLst/>
          </a:prstGeom>
          <a:ln w="0">
            <a:noFill/>
          </a:ln>
        </p:spPr>
      </p:sp>
      <p:sp>
        <p:nvSpPr>
          <p:cNvPr id="99"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8BEC7DD-D269-44BD-9F86-B9B415E153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38320" y="687240"/>
            <a:ext cx="4592520" cy="3445200"/>
          </a:xfrm>
          <a:prstGeom prst="rect">
            <a:avLst/>
          </a:prstGeom>
          <a:ln w="0">
            <a:noFill/>
          </a:ln>
        </p:spPr>
      </p:sp>
      <p:sp>
        <p:nvSpPr>
          <p:cNvPr id="102"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DDD2BD7-B1CE-497D-B607-DEBC66D368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38320" y="687240"/>
            <a:ext cx="4592520" cy="3445200"/>
          </a:xfrm>
          <a:prstGeom prst="rect">
            <a:avLst/>
          </a:prstGeom>
          <a:ln w="0">
            <a:noFill/>
          </a:ln>
        </p:spPr>
      </p:sp>
      <p:sp>
        <p:nvSpPr>
          <p:cNvPr id="105" name="PlaceHolder 2"/>
          <p:cNvSpPr>
            <a:spLocks noGrp="1"/>
          </p:cNvSpPr>
          <p:nvPr>
            <p:ph type="body"/>
          </p:nvPr>
        </p:nvSpPr>
        <p:spPr>
          <a:xfrm>
            <a:off x="914400" y="4361040"/>
            <a:ext cx="502920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84760" y="8721720"/>
            <a:ext cx="2973240" cy="458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6BBCB7A-64CA-4CE3-96B2-24C59D9B35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6C6A6-EB87-495C-9596-9743B4371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6F69-598A-4B64-B245-C5E1EB97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7599A-2AD0-479D-B1B2-8E1776B9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119C9-9593-422E-B3BE-CF99DC76C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2D937-FA00-431E-8502-E2A8B7FEC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1284-A777-42C3-8BEF-98D5C183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E1D9-3F43-4617-BE8D-C807BE269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7A19-137E-483B-80FF-FBA008110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79BD3-E62C-492E-8681-D83C3096A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285B-178D-469C-871C-B3610A2D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4F591-FF96-4C13-A336-5034C74E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2B51-2204-4455-90A2-D71B7015F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AE5E-A52D-4BC0-93DB-8699BD5EE2F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9" descr="Copy of Ercot Logo"/>
          <p:cNvPicPr/>
          <p:nvPr/>
        </p:nvPicPr>
        <p:blipFill>
          <a:blip r:embed="rId2"/>
          <a:stretch/>
        </p:blipFill>
        <p:spPr>
          <a:xfrm>
            <a:off x="7086600" y="152280"/>
            <a:ext cx="1828800" cy="982800"/>
          </a:xfrm>
          <a:prstGeom prst="rect">
            <a:avLst/>
          </a:prstGeom>
          <a:ln w="0">
            <a:noFill/>
          </a:ln>
        </p:spPr>
      </p:pic>
      <p:sp>
        <p:nvSpPr>
          <p:cNvPr id="6" name="Rectangle 10"/>
          <p:cNvSpPr/>
          <p:nvPr/>
        </p:nvSpPr>
        <p:spPr>
          <a:xfrm>
            <a:off x="380880" y="1219320"/>
            <a:ext cx="8305920" cy="7596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000" bIns="3600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p:txBody>
      </p:sp>
      <p:sp>
        <p:nvSpPr>
          <p:cNvPr id="7" name="WordArt 12"/>
          <p:cNvSpPr txBox="1"/>
          <p:nvPr/>
        </p:nvSpPr>
        <p:spPr>
          <a:xfrm>
            <a:off x="228600" y="38088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8000"/>
                  </a:solidFill>
                  <a:miter/>
                </a:ln>
                <a:solidFill>
                  <a:srgbClr val="33cccc"/>
                </a:solidFill>
                <a:effectLst>
                  <a:outerShdw dist="17819" dir="2700000" blurRad="0" rotWithShape="0">
                    <a:srgbClr val="990000"/>
                  </a:outerShdw>
                </a:effectLst>
                <a:latin typeface="Impact"/>
              </a:rPr>
              <a:t>TDTWG</a:t>
            </a:r>
            <a:endParaRPr b="1" lang="en-US" sz="1800" spc="1" strike="noStrike">
              <a:ln w="19080">
                <a:solidFill>
                  <a:srgbClr val="008000"/>
                </a:solidFill>
                <a:miter/>
              </a:ln>
              <a:solidFill>
                <a:srgbClr val="33cc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6AC7-93A8-4E64-8086-781DD631FDA1}"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60948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DTWG </a:t>
            </a:r>
            <a:br>
              <a:rPr sz="4400"/>
            </a:br>
            <a:r>
              <a:rPr b="1" lang="en-US" sz="4400" spc="-1" strike="noStrike">
                <a:solidFill>
                  <a:srgbClr val="000000"/>
                </a:solidFill>
                <a:latin typeface="Arial"/>
              </a:rPr>
              <a:t>Update to RMS</a:t>
            </a:r>
            <a:endParaRPr b="0" lang="en-US" sz="4400" spc="-1" strike="noStrike">
              <a:solidFill>
                <a:srgbClr val="000000"/>
              </a:solidFill>
              <a:latin typeface="Arial"/>
            </a:endParaRPr>
          </a:p>
        </p:txBody>
      </p:sp>
      <p:sp>
        <p:nvSpPr>
          <p:cNvPr id="53" name="Text Box 4"/>
          <p:cNvSpPr/>
          <p:nvPr/>
        </p:nvSpPr>
        <p:spPr>
          <a:xfrm>
            <a:off x="5105520" y="5789520"/>
            <a:ext cx="350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t>
            </a:r>
            <a:endParaRPr b="1"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10, 2008</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62D7-D5E5-46C0-81BE-4C2F45EEF8A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9" name="PlaceHolder 1"/>
          <p:cNvSpPr>
            <a:spLocks noGrp="1"/>
          </p:cNvSpPr>
          <p:nvPr>
            <p:ph type="title"/>
          </p:nvPr>
        </p:nvSpPr>
        <p:spPr>
          <a:xfrm>
            <a:off x="457200" y="3504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ank You</a:t>
            </a:r>
            <a:br>
              <a:rPr sz="4000"/>
            </a:br>
            <a:br>
              <a:rPr sz="4000"/>
            </a:br>
            <a:br>
              <a:rPr sz="4000"/>
            </a:br>
            <a:br>
              <a:rPr sz="2000"/>
            </a:br>
            <a:br>
              <a:rPr sz="2000"/>
            </a:br>
            <a:endParaRPr b="0" lang="en-US" sz="40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3E47-0224-4E64-BA56-F9A41EA67974}"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Activities</a:t>
            </a:r>
            <a:endParaRPr b="0" lang="en-US" sz="2800" spc="-1" strike="noStrike">
              <a:solidFill>
                <a:srgbClr val="000000"/>
              </a:solidFill>
              <a:latin typeface="Arial"/>
            </a:endParaRPr>
          </a:p>
        </p:txBody>
      </p:sp>
      <p:sp>
        <p:nvSpPr>
          <p:cNvPr id="56" name="PlaceHolder 2"/>
          <p:cNvSpPr>
            <a:spLocks noGrp="1"/>
          </p:cNvSpPr>
          <p:nvPr>
            <p:ph/>
          </p:nvPr>
        </p:nvSpPr>
        <p:spPr>
          <a:xfrm>
            <a:off x="380520" y="1294920"/>
            <a:ext cx="8610840" cy="495324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ERCOT System Outages and failure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current status of SCR745 and SCR748</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ed proposed changes to the </a:t>
            </a:r>
            <a:r>
              <a:rPr b="1" lang="en-US" sz="2000" spc="-1" strike="noStrike" u="sng">
                <a:solidFill>
                  <a:srgbClr val="000000"/>
                </a:solidFill>
                <a:uFillTx/>
                <a:latin typeface="Arial"/>
              </a:rPr>
              <a:t>TDTWG NAESB EDM v 1.6 Implementation Guide</a:t>
            </a:r>
            <a:r>
              <a:rPr b="1" lang="en-US" sz="2000" spc="-1" strike="noStrike">
                <a:solidFill>
                  <a:srgbClr val="000000"/>
                </a:solidFill>
                <a:latin typeface="Arial"/>
              </a:rPr>
              <a:t> to add the file naming conventions for Transport of .LSE file from TDSPs to ERCOT</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SCR750 and feedback</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possible review of Qrtly Market Metrics reports at TDTWG depending on MMWG recommendation to RM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d list of 2008 Acomplishments for RM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F9D4-AD6C-4D5D-88D1-17EB76D54F3D}"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10480" cy="4876920"/>
          </a:xfrm>
          <a:prstGeom prst="rect">
            <a:avLst/>
          </a:prstGeom>
          <a:noFill/>
          <a:ln w="0">
            <a:noFill/>
          </a:ln>
        </p:spPr>
        <p:txBody>
          <a:bodyPr anchor="t">
            <a:normAutofit/>
          </a:bodyPr>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ontinued working with the ERCOT Manager of Operations to address each system incident. </a:t>
            </a:r>
            <a:endParaRPr b="0" lang="en-US" sz="32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 Brennan reviewed the summary and detail pages of the incident log. No significant questions were raised.</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 indicated that a full test of the Disaster Recovery system is scheduled to be tested in 2009 (related to incident of 10/30/08).</a:t>
            </a:r>
            <a:endParaRPr b="0" lang="en-US" sz="2800" spc="-1" strike="noStrike">
              <a:solidFill>
                <a:srgbClr val="000000"/>
              </a:solidFill>
              <a:latin typeface="Arial"/>
            </a:endParaRPr>
          </a:p>
        </p:txBody>
      </p:sp>
      <p:sp>
        <p:nvSpPr>
          <p:cNvPr id="60" name="Text Box 4"/>
          <p:cNvSpPr/>
          <p:nvPr/>
        </p:nvSpPr>
        <p:spPr>
          <a:xfrm>
            <a:off x="3048120" y="441360"/>
            <a:ext cx="2743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endParaRPr b="1" lang="en-US" sz="4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2" name=""/>
          <p:cNvSpPr txBox="1"/>
          <p:nvPr/>
        </p:nvSpPr>
        <p:spPr>
          <a:xfrm>
            <a:off x="457200" y="1523880"/>
            <a:ext cx="8229600" cy="4525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view current status of SCR745 and SCR748</a:t>
            </a:r>
            <a:r>
              <a:rPr b="1" lang="en-US" sz="2400" spc="-1" strike="noStrike">
                <a:solidFill>
                  <a:srgbClr val="000000"/>
                </a:solidFill>
                <a:latin typeface="Arial"/>
              </a:rPr>
              <a:t>.</a:t>
            </a:r>
            <a:endParaRPr b="0" lang="en-US" sz="24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osing of SCR745 project was discussed. Based on significant reduction of outages since part of the project was implemented and that the remaining software item to be addressed would not occur due to probable replacement by newer technology, TDTWG concurred that the project should be closed. Because closing of project will need to be approved by the ERCOT board, Jesse Cline will draft comments recommending the closing of SCR745 project. (also see slide 9 for ERCOT summary of why project should be closed)</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vin Tanner reported that SCR748 project went live November 13 and stabilization is complete. A issue with automated emails notifying the market of unplanned outages was resolved. Automated emails will occur for next unplanned outage.</a:t>
            </a:r>
            <a:endParaRPr b="0" lang="en-US" sz="18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6EAB-9789-4DD8-AFF2-BD706D17215C}"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800" spc="-1" strike="noStrike">
                <a:solidFill>
                  <a:srgbClr val="000000"/>
                </a:solidFill>
                <a:latin typeface="Arial"/>
              </a:rPr>
              <a:t>Reviewed proposed changes to the </a:t>
            </a:r>
            <a:r>
              <a:rPr b="1" lang="en-US" sz="2800" spc="-1" strike="noStrike" u="sng">
                <a:solidFill>
                  <a:srgbClr val="000000"/>
                </a:solidFill>
                <a:uFillTx/>
                <a:latin typeface="Arial"/>
              </a:rPr>
              <a:t>TDTWG NAESB EDM v 1.6 Implementation Guide</a:t>
            </a:r>
            <a:r>
              <a:rPr b="1" lang="en-US" sz="2800" spc="-1" strike="noStrike">
                <a:solidFill>
                  <a:srgbClr val="000000"/>
                </a:solidFill>
                <a:latin typeface="Arial"/>
              </a:rPr>
              <a:t> </a:t>
            </a:r>
            <a:r>
              <a:rPr b="1" lang="en-US" sz="2400" spc="-1" strike="noStrike">
                <a:solidFill>
                  <a:srgbClr val="000000"/>
                </a:solidFill>
                <a:latin typeface="Arial"/>
              </a:rPr>
              <a:t>for Transport of .LSE file from TDSPs to ERCOT.</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e Farley reviewed and discussed the updates to the GUIDE that he had prepared. A few suggestions were made that Dave will incorpora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MP with feedback should send those to TDTWG mail serve. The draft document update is posted on the TDTWG 12/3 meeting webpag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67DB-1CC5-4021-B5C3-84A9920EC1D7}"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862F-CDE4-4D40-BAC0-8BFDB0218C4F}"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9"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4. </a:t>
            </a:r>
            <a:r>
              <a:rPr b="1" lang="en-US" sz="2400" spc="-1" strike="noStrike">
                <a:solidFill>
                  <a:srgbClr val="000000"/>
                </a:solidFill>
                <a:latin typeface="Arial"/>
              </a:rPr>
              <a:t>Discuss Proposed changes to SCR750.</a:t>
            </a:r>
            <a:endParaRPr b="0" lang="en-US" sz="24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yle Miller indicated that although initial findings from Centerpoint’s testing of IE 7.n with ERCOT applications were successful; there were still some problems. So he recommended we proceed with SCR750.</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e Farley reminded attendees that ERCOT research of what browsers are being used to access ERCOT systems. By far is IE, 90+%, a few with FireFox, and very little else.</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e discussed with TDTWG attendees that identifying IE and a few (1-2 or 3) browers that 99% of MPs use and establishing a timeline (e.g. 6 months following final release of specified browsers) to make sure these work between ERCOT / MPs would be a better approach for SCR750 than indicating a specific version of IE. TDTWG concurred that this would be a better approach. Dave agreed to formulate a comment for SCR750 suggesting this approach.</a:t>
            </a:r>
            <a:endParaRPr b="0" lang="en-US" sz="20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7397-C910-4733-9024-43F52E53838E}"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72" name="PlaceHolder 2"/>
          <p:cNvSpPr>
            <a:spLocks noGrp="1"/>
          </p:cNvSpPr>
          <p:nvPr>
            <p:ph/>
          </p:nvPr>
        </p:nvSpPr>
        <p:spPr>
          <a:xfrm>
            <a:off x="228600" y="1447920"/>
            <a:ext cx="8686800" cy="49528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800" spc="-1" strike="noStrike">
                <a:solidFill>
                  <a:srgbClr val="000000"/>
                </a:solidFill>
                <a:latin typeface="Arial"/>
              </a:rPr>
              <a:t>5. </a:t>
            </a:r>
            <a:r>
              <a:rPr b="1" lang="en-US" sz="2400" spc="-1" strike="noStrike">
                <a:solidFill>
                  <a:srgbClr val="000000"/>
                </a:solidFill>
                <a:latin typeface="Arial"/>
              </a:rPr>
              <a:t>Discussed possible review of Qrtly Market Metrics reports at TDTWG depending on MMWG recommendation to RM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WG is due to meet on 12/9 and on their agenda is the issue of “sunsetting” MMWG. If this occurred, the RMS chair requested that TDTWG consider adding the  Market Metric Quarterly Review at a TDTWG mtg.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TWG didn’t have any significant objections to add this agenda item on a quarterly basis. One alternate suggestion was that the MM Qtrly Review occur at the RMS Planning Call on a quarterly basis. TDTWG will wait from recommendation from MMWG to RMS and the final decision.</a:t>
            </a:r>
            <a:endParaRPr b="0" lang="en-US" sz="2000" spc="-1" strike="noStrike">
              <a:solidFill>
                <a:srgbClr val="000000"/>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a:t>
            </a:r>
            <a:r>
              <a:rPr b="1" lang="en-US" sz="3200" spc="-1" strike="noStrike">
                <a:solidFill>
                  <a:srgbClr val="000000"/>
                </a:solidFill>
                <a:latin typeface="Arial"/>
              </a:rPr>
              <a:t>Created list of 2008 Acomplishments for 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e separate document: TDTWG_2008-goals-Accomplishment.pp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DE84-8B19-4FD6-807A-F365DD14438A}"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457200" y="1294920"/>
            <a:ext cx="82296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400"/>
            </a:br>
            <a:br>
              <a:rPr sz="2400"/>
            </a:br>
            <a:endParaRPr b="0" lang="en-US" sz="3200" spc="-1" strike="noStrike">
              <a:solidFill>
                <a:srgbClr val="000000"/>
              </a:solidFill>
              <a:latin typeface="Arial"/>
            </a:endParaRPr>
          </a:p>
        </p:txBody>
      </p:sp>
      <p:sp>
        <p:nvSpPr>
          <p:cNvPr id="77" name="Rectangle 5"/>
          <p:cNvSpPr/>
          <p:nvPr/>
        </p:nvSpPr>
        <p:spPr>
          <a:xfrm>
            <a:off x="457200" y="1295280"/>
            <a:ext cx="82296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RCOT Status and Recommendation:</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Status</a:t>
            </a:r>
            <a:r>
              <a:rPr b="1" lang="en-US" sz="1200" spc="-1" strike="noStrike">
                <a:solidFill>
                  <a:srgbClr val="000000"/>
                </a:solidFill>
                <a:latin typeface="Arial"/>
              </a:rPr>
              <a:t> - ERCOT received and reviewed recommendations from HP for Performance improvements necessary for the Polyserve File Clustering Solution.  These recommendations require architectural changes, server rebuilds, and testing which is difficult to deliver in 2009 due to resource and environment constraints from Nodal and Zonal projects.</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Risks/Constraints for continuing in 2009:</a:t>
            </a:r>
            <a:endParaRPr b="1"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Resource constraints from Nodal Delay</a:t>
            </a:r>
            <a:endParaRPr b="1"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ed Generation, Small Renewables – Code/Resources</a:t>
            </a:r>
            <a:endParaRPr b="1"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d Metering, Interim Solution – Code/Resources</a:t>
            </a:r>
            <a:endParaRPr b="1"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ng replacement of the Paperfree Application.  Why?</a:t>
            </a:r>
            <a:endParaRPr b="1"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1219320" indent="-304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more efficient products available such as: TIBCO, Inovus TLE, etc…</a:t>
            </a:r>
            <a:endParaRPr b="1" lang="en-US" sz="1200" spc="-1" strike="noStrike">
              <a:solidFill>
                <a:srgbClr val="000000"/>
              </a:solidFill>
              <a:latin typeface="Times New Roman"/>
            </a:endParaRPr>
          </a:p>
          <a:p>
            <a:pPr lvl="2" marL="1219320" indent="-304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d application architecture </a:t>
            </a:r>
            <a:endParaRPr b="1" lang="en-US" sz="1200" spc="-1" strike="noStrike">
              <a:solidFill>
                <a:srgbClr val="000000"/>
              </a:solidFill>
              <a:latin typeface="Times New Roman"/>
            </a:endParaRPr>
          </a:p>
          <a:p>
            <a:pPr lvl="2" marL="1219320" indent="-304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have optimal performance for future growth needs</a:t>
            </a:r>
            <a:endParaRPr b="1" lang="en-US" sz="1200" spc="-1" strike="noStrike">
              <a:solidFill>
                <a:srgbClr val="000000"/>
              </a:solidFill>
              <a:latin typeface="Times New Roman"/>
            </a:endParaRPr>
          </a:p>
          <a:p>
            <a:pPr lvl="2" marL="1219320" indent="-304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 has been experiencing issues in upgrading to new version in the development environment</a:t>
            </a:r>
            <a:endParaRPr b="1" lang="en-US" sz="1200" spc="-1" strike="noStrike">
              <a:solidFill>
                <a:srgbClr val="000000"/>
              </a:solidFill>
              <a:latin typeface="Times New Roman"/>
            </a:endParaRPr>
          </a:p>
          <a:p>
            <a:pPr lvl="1" marL="8002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Recommendation:</a:t>
            </a:r>
            <a:r>
              <a:rPr b="1" lang="en-US" sz="1200" spc="-1" strike="noStrike">
                <a:solidFill>
                  <a:srgbClr val="000000"/>
                </a:solidFill>
                <a:latin typeface="Arial"/>
              </a:rPr>
              <a:t>  ERCOT seeking TDTWG recommendation to close project based on:</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Reduction in overall outages due to previous efforts above.  (NAESB was the major contributor)</a:t>
            </a:r>
            <a:r>
              <a:rPr b="1" lang="en-US" sz="1200" spc="-1" strike="noStrike">
                <a:solidFill>
                  <a:srgbClr val="000000"/>
                </a:solidFill>
                <a:latin typeface="Arial"/>
              </a:rPr>
              <a:t>	</a:t>
            </a: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ERCOT evaluating replacement of Paperfree application under Retail Application Upgrade Project.  Analysis expected to start this year.</a:t>
            </a:r>
            <a:endParaRPr b="1" lang="en-US" sz="1200" spc="-1" strike="noStrike">
              <a:solidFill>
                <a:srgbClr val="000000"/>
              </a:solidFill>
              <a:latin typeface="Times New Roman"/>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jcline</cp:lastModifiedBy>
  <cp:lastPrinted>2002-09-24T18:27:58Z</cp:lastPrinted>
  <dcterms:modified xsi:type="dcterms:W3CDTF">2008-12-05T14:53:42Z</dcterms:modified>
  <cp:revision>546</cp:revision>
  <dc:subject/>
  <dc:title>PowerPoint Presentation</dc:title>
</cp:coreProperties>
</file>