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E49-2877-44BA-B038-AC9A5DF6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369-9CF8-41CD-AA2B-47B99475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098-F935-4D4E-820F-97193E07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301-FF1C-4564-B581-89879D10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8872-21C1-474C-BF2D-6E81E95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74E8-9FAE-47C6-BB7E-779E3D87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703B-25B6-42A3-A8D7-65745CD6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06F9-D788-45A9-9A21-C2475A5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64F5-2204-4F79-A1F9-1930D6E5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F7B7-E6A1-40E3-87D1-5214E9BE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652-6F71-418F-9E17-1216B8A2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CA4-D6B6-4E40-8801-F5BFFA4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5BD4-93D6-4FC2-9DA1-85B9395B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8A08-EE63-472B-9CF4-C5998A7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AF81-D16E-4D82-BF74-F39D175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1C43-233D-42D8-8C35-82AC4DDE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97C-ADC6-4D1E-B4CE-E7CB6C4A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E28-640C-486A-AC20-87D653F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3D1-30C9-4751-8E9E-DC4D999C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30F-A5F5-45BB-9B49-B39C108B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BB9-EA58-4FE2-AC41-C11DF48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3E0-F35D-496E-B2F0-C60A444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227-837D-4978-9976-812DFFE4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3C5-5980-40A1-9674-3B3645B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4EF-69AA-4AE3-9127-9F17BC48E7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0E9F-4A8F-40A5-BF34-8A10D6C4F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</a:t>
            </a: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R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ecember 10, 200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Highlights of Dec. 8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COPS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Lee Starr via phone, provided COPS an update regarding the December 4</a:t>
            </a:r>
            <a:r>
              <a:rPr b="0" lang="en-US" sz="2800" spc="-1" strike="noStrike" baseline="30000">
                <a:solidFill>
                  <a:srgbClr val="45c984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 TAC mee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S presentation to TAC filed with TAC meeting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C approved all PRS recommended PRRs &amp; NPR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topic of discussion was the Nodal Schedule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mplementation date December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Budget is $660 Mill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iscussion by Market Participants suggesting market “go live” with less functionally much sooner and not delay until Dec.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Kyle Patrick reviewed the RMS report to TAC noting the RMS presentation is available with the Dec. 4</a:t>
            </a:r>
            <a:r>
              <a:rPr b="0" lang="en-US" sz="2800" spc="-1" strike="noStrike" baseline="30000">
                <a:solidFill>
                  <a:srgbClr val="45c984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 TAC meeting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Continues developing nodal Sections in the COPM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ed draft of new Section 12, Renewable Energy Credits.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tion has been sent to Market Rules for revi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2008 Market Participant Survey (</a:t>
            </a:r>
            <a:r>
              <a:rPr b="0" i="1" lang="en-US" sz="2800" spc="-1" strike="noStrike">
                <a:solidFill>
                  <a:srgbClr val="45c984"/>
                </a:solidFill>
                <a:latin typeface="Times New Roman"/>
              </a:rPr>
              <a:t>Website satisfaction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a list of recommended improvements for the “ERCOT.com” website to assist ERCOT in understanding website satisfaction survey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WG will finalize the list of website recommendations at their December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site Improvement Recommendations listed with COPS 12.08.08 materials (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ges 2 &amp; 3 of rep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Normal report on ERCOT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light decline in number of issues, most recently centered around Lodestar Upgrade, though no major issu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Followed up on the ERCOT stabilization eff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dentified projects to watch for in 2009 that address common flaws in the current systems around reports and extracts that need to be maintained until Nodal replacement is implement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Worked with ERCOT to resolve EILS Settlement Iss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R786, submitted to target ERCOT to use the most recent Load Ratio Share (Final Settlement Version) and so a resettlement using the most current load (True-up Settlement Vers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Times New Roman"/>
              </a:rPr>
              <a:t>Following discussion and review, COPS voted unanimously to recommend support of PRR786 with changes suggested to P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d PWG 2008 Goal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ked by Target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868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18b. Distributive Generation load profiling implementation issu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nding AMR Rule, AMIT and DGT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. LPGRR being drafte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. LPGRR031 Profile Decision Tree Changes for DRG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pproved on 11/17/08 and Effective 1/01/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2. 2008 Annual Valid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On schedu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17. Advanced Metering Implementation LPG changes if need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. Pending AMR Rule, AMIT and DGTF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. Filed LPGRR032 Decision Tree Changes for Advanced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Meter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scussed Pros &amp; Cons to AMIT team use of “AMS” in the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meter type code of the profile ID assign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. IA for LPGRR032 to be reviewed at Dec. PWG me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5c984"/>
                </a:solidFill>
                <a:latin typeface="Times New Roman"/>
              </a:rPr>
              <a:t>Presented PWG Goals to COPS – All goals to be reviewed at Jan 09 COPS Meeting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Hope Parrish provided COPS the following Upd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MO Projects Financial Over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i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8 project Prioritiz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PUCT, Market &amp; ERCOT MO projects – Listing activity above and below the “cut lin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ied all projects committed to deliver in 2008 that were achiev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ed MO 2009 PPL approved by PRS (Current + 2008 carryover + projects deferred due to Nodal del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Nodal COMS Up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tlements &amp; Billing,  and Data Aggregation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istration and Disputes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 Monitoring and Mgmt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S Remaining Software Release Schedu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ercial Systems Extracts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iness Center Posting Location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WG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DA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1051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ts &amp; data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presentation and reports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hlse. &amp; Reta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requirements for data extracts and reports inclu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ccu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1972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COPS involvement in nodal financial settlement and data aggregatio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d market transition to new financial settlements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Financial Settlement System &amp; Data Aggregation System Design &amp;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s appropriate PRRs, NPRRs, &amp; SCRs, to address financial settlement &amp; data aggre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993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ttlements and Extracts Working Group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(SEW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settlements and Extracts Working Group (SEWG), reporting to the Commercial Operations Subcommittee (COPS), is intended to b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for ensuring COPS involvement in data extracts, data delivery, data presentation, and reports for financial settlement and data aggregation system design and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a forum to discuss issues addressing settlement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ing details and requirements of data extracts and rep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tract and report issues that are not settlements related may be directed to an “Ad Hoc” or “Special Task Force” as determined by the COPS Ch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(i.e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eb Services or Trai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ee R. Starr</cp:lastModifiedBy>
  <dcterms:modified xsi:type="dcterms:W3CDTF">2008-12-09T20:20:49Z</dcterms:modified>
  <cp:revision>27</cp:revision>
  <dc:subject/>
  <dc:title>Slide 1</dc:title>
</cp:coreProperties>
</file>