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6B1-742A-444A-8D8D-173E3ED9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B86-B030-4CD6-BCE6-A5365AA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ADA-5EB9-417F-B079-0B412C96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D5F-A1EF-4039-B7A7-A1A4B6B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4717-6D39-4E94-ACE3-0DA1F81D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724-567D-4AAC-845E-3B9AE13A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F66-5BF0-4E0C-8E6A-7E85514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BBB-F5A7-42FC-AE49-0881CC87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E127-3BAF-4878-8E7F-BEBD00D3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08F7-40D4-43DF-B907-C3E906A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890E-9B19-4613-9F16-E753DBA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9E2-0805-48F3-9666-C568552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2505-EB5F-40C9-95B6-CA86451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562F-1A24-49C4-9FB3-3A637CA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1088-CB2B-4904-86B6-822C67FC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C733-D6A0-41D2-94E8-155D793E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4AA9-1722-4732-8B97-EBEFAA4F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9FF-CE1F-4246-861B-675087B1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AF4-0FAE-45AD-B70D-34BBA3B2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E5C-7ACE-4EB8-A922-F3261772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4F9-C906-4EB6-84F4-338F6BC1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6EA-35FB-47DF-BCBC-E0DA340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11A-7613-4EE4-898A-C17A953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132-6292-4867-8FEF-F371AC1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278-F4EF-4E1A-9013-DDD2382028F5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cc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ffffc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igh Tower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D61B-1774-483E-B42B-58D1A36C809A}" type="slidenum">
              <a:rPr b="0" lang="en-US" sz="1000" spc="-1" strike="noStrike">
                <a:solidFill>
                  <a:srgbClr val="ffffff"/>
                </a:solidFill>
                <a:latin typeface="High Tower Tex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High Tower Text"/>
              </a:rPr>
              <a:t>RMS Update to TAC</a:t>
            </a:r>
            <a:endParaRPr b="1" lang="en-US" sz="5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895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December 4, 2008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Voting Item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RMGRR065-Disconnect and Reconnect for Non-Pay Updates and Correction</a:t>
            </a: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his RMGRR will update the Retail Market Guide to provide corrections and clarification of the current TDSP processes for system and field operations for disconnect and reconnect for non-payment request. 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Discussion Item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gh Tower Text"/>
              </a:rPr>
              <a:t>RMS endorsed PRR782-</a:t>
            </a: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Clean-up and Corrections to Terminology and Transaction Timings in Protocol Section 15, Customer Registration 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This Protocol Revision Request (PRR) corrects and clarifies the transaction timing descriptions to make them consistent with current processes and Appendix D, Transaction Timing Matrix, in the Retail Market Guide.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High Tower Text"/>
              </a:rPr>
              <a:t>Working Group Updates</a:t>
            </a:r>
            <a:endParaRPr b="1" lang="en-US" sz="40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Presented Acquisition Task Force Long Term and Short Term solution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Short Term: Allow for acquisitions during a mass transition to occur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Long Term: Add acquisition procedures similar to the mass transition procedures.  This will require a TEXAS SET change to accomplish.  However, this will not be the reason for a TEXAS SET release.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Texas Data Transport Working Group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ERCOT presented more detail on the 10/30 incident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Task Force Updates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gh Tower Text"/>
              </a:rPr>
              <a:t>MarkeTrak Task Force</a:t>
            </a:r>
            <a:endParaRPr b="0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Completed Final Review of the MarkeTrak User Guide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MarkeTrak migrates to production on December 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High Tower Text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Task Force Updates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MARS Task Force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Completed review of and finalized all 16 use cases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Finalized and Approved</a:t>
            </a:r>
            <a:endParaRPr b="0" lang="en-US" sz="24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Business Requirement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Assumptions and Definition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ERCOT LSE File Naming Convention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ERCOT enhanced LSE File and Definitions and Attribut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List of Error/Reject Cod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Data Record Examples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igh Tower Text"/>
              </a:rPr>
              <a:t>Agreed that ERCOT enhanced LSE Files will have between 10,000 to 50,000 data records per file</a:t>
            </a:r>
            <a:endParaRPr b="0" lang="en-US" sz="20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737320"/>
            <a:ext cx="8382240" cy="970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>
                  <a:alpha val="5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igh Tower Text"/>
              </a:rPr>
              <a:t>RMS gave a positive review of MARS Accomplishments for 2008.  RMS suggested similar direction for MARS for the remainder of its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High Tower Text"/>
              </a:rPr>
              <a:t>Questions?</a:t>
            </a:r>
            <a:endParaRPr b="1" lang="en-US" sz="4400" spc="-1" strike="noStrike">
              <a:solidFill>
                <a:srgbClr val="eaeaea"/>
              </a:solidFill>
              <a:latin typeface="High Tower Tex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1:28:43Z</dcterms:created>
  <dc:creator>AEP</dc:creator>
  <dc:description/>
  <dc:language>en-US</dc:language>
  <cp:lastModifiedBy>Windows XP ver. 2.2</cp:lastModifiedBy>
  <dcterms:modified xsi:type="dcterms:W3CDTF">2008-12-01T22:58:55Z</dcterms:modified>
  <cp:revision>78</cp:revision>
  <dc:subject/>
  <dc:title>RMS Update to TAC</dc:title>
</cp:coreProperties>
</file>