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E880-92CE-457D-AC5E-A72B80833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A9D2-5522-49C8-BD7D-DC0510554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BA09-7E04-4FB0-A63E-F3384EF50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D32-A03A-4D16-92AD-31F3F7EF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309-82C4-4BF6-A1CA-08B4E4A9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777-30C1-4D62-A24A-EBE7E16E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D58-3BE0-4C70-AC46-850A74CA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44E2-A4E8-4288-9742-0FD980DA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F4C0-5E5F-4B68-A359-8E49D1D5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BEE9-82FC-4E05-82B0-1F3A83A9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6220-8B87-4F13-A1C8-D2E25969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129F-8CB3-498C-B13A-081B09F5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A53D-93ED-445B-8B57-B9A97BC8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02DE-1911-421C-A203-CB1AE191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4F7-64D1-42F2-A5FD-A7A8CEBC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0CB3-A96B-407A-8873-371E89F3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3631-6D43-4C76-B4EC-81B004D0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D4E8-9F3B-4C26-A247-586581CC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6D61-56AC-453C-9D16-F5DBEC1A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8231-61DC-4C51-A9F5-FB87BACE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D8C63-7974-449C-B055-5574ACD7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03489-108C-49B8-91FA-DD708129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F63AE-0841-4BDC-BD6B-0D967D2C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86478-0064-4932-8BDF-52E6A1F9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C4EC8-A8DD-47A4-BE89-2FB025D5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A2C-B79E-4C79-BD3A-82A41D67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55BF7-D140-4769-AD48-7AFED35C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2D414-2457-4832-AA3D-5A9DFFC3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7FE9D-E4FE-4B7E-A65D-2C4E0B46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BF014-53A3-47E3-B55D-8206CC56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2D28F-15FD-4B01-A7C9-97EC883D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2A091-56EB-4311-AF87-910A9A1A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3B728-3171-4D42-8C06-83A21196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B705C-7BF8-4C36-BFED-F901A91A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2F823-516E-4670-849E-0F514D43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C34C4-7246-4D4F-B407-5F45FBDA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71E-951C-4E3D-B7BA-BE671EB2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B69B2-1309-4208-8114-AE785507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F3E64-0647-4949-BEE4-FF4CD67F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8DC2A-6B33-4B58-A66A-FA726802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1B0D5-906D-4BE6-A20C-A9E95AC7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E8118-8F94-4F33-AE0D-C893DF73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84437-DB5F-47B8-9B27-31279533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CD99E-F52F-4982-B2E8-0BA2647B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19E5E-5C55-4CA5-B9C8-9C2BC60B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93298-1E8C-4843-AC7D-B6A33C56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962DE-71BF-4601-BEED-7EE423C0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FEC-7992-42FE-8D07-02F447D5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EEC08-5258-4925-AC23-4DC09CB2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99202-E4D5-4823-B578-F24BA9EC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4ED30-C82D-4510-95BC-2168B357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69FE3-CEE9-43AD-B134-A71099D0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7676B-95AF-4655-8E2C-F2DAB4BA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38D30-EEBE-46FB-96E3-92D087DA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E5EEC-18A9-419A-B021-DB7E4932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6B5EE-89FA-435B-9254-BA64FE88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2904A-69BA-46F0-9762-5FFE9D6E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2CD06-4BC3-4A61-8487-463F4164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792-C5CA-48B9-8300-4C944913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5548D-AE4F-41A2-98B2-0C2B01B1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888A8-C3B6-4EF0-8BAC-47747934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E3ED3-4457-4AB6-9B9A-D7348A88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92C57-19DF-42AB-87E0-15EDB4F2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0ABD2-3457-4CBB-9EAC-C98B33CB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6A891-0555-4B81-BFB3-010A8FC0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1EF25-BCBE-46F0-8908-2C7B09CF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9F9A4-4B8D-4625-9433-19A30513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F7E1B-4BEC-4240-B16D-C7CAB5F4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EEF3C-756B-430E-B692-9F0F45B1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D22-1A67-4E15-98CC-B5C9A62B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3D64E-CCFE-4BBD-89E9-8CDBCE77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97E32-8EFC-439A-A4E4-6A1C2AF8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AA975-BA49-48C0-9805-C6D57A11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FEEDA-5F6C-49B8-BFD9-53226C0C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505A4-AB2A-4274-835C-C9E097A3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6D77E-6A76-4CC3-8A2C-DA4AFCDD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23864-ABF9-462F-81D9-164605D9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D6DBA-8EAD-48DC-B13B-3C43A78D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7663D-7D12-4814-8786-BA7C954B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50085-5CB5-498F-8507-96422B0C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D0B6-A129-4978-9115-08DE69A8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32230-1444-46E2-AC49-FCD1BBE5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BCD7E-37B0-4E99-9A4B-0483565C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9C6EA-45F4-4245-AC08-0B31D11F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FF191-771F-4221-9B2F-A348D1A7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474A2-597C-4A5F-BC1F-411EBC94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E3398-25AD-4BCC-B09A-1C5F2EBE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A801A-BAA8-4FFD-9045-19431EF6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33921-EB24-4508-A070-C5AD63EA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7E81E-4AE0-49D9-9AEE-2D755AEE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44E09-7A54-4D8F-9E2A-4A932434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C21-8F63-4A9B-BB6C-8E28C7A5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48664-4968-46CF-8896-752D06F6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9F7A5-1613-4B98-B827-AD41941B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7FBF6-3366-45AE-B3EE-67E4B1D8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3661A-8E55-4352-AB1D-9293650D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93723-AF4A-4F4E-ABC0-1DD3A1AB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2B2AC-05FB-4A92-AB28-0B06FC99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26AA8-1A33-4314-AD9B-64BC375C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A199-1D76-4183-8895-1B6C6C0D7F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6BCA-19E0-416C-B099-0FA7F3508B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BCF6-B94F-482A-B4FC-195B246D04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9B16-A945-4C94-AE34-76657143E4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CD88-25B6-4BAC-B573-F1C2523965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6342-F67A-4BC0-BFB3-E4860DD7D7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63C6-2D7C-4C6E-A51D-73FCCB1536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6858-326A-4D64-83C8-23C13D7071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training/Retail_Market_Participant_Workshop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lient_svcs/mktrk_info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663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Lucida Sans Unicode"/>
              </a:rPr>
              <a:t>Update to R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Lucida Sans Unicode"/>
              </a:rPr>
              <a:t>December 10, 2008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304920" y="990720"/>
            <a:ext cx="8534160" cy="51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7000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45720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Lucida Sans Unicode"/>
                <a:ea typeface="Lucida Sans Unicode"/>
              </a:rPr>
              <a:t>MarkeTrak</a:t>
            </a:r>
            <a:r>
              <a:rPr b="1" lang="en-US" sz="3600" spc="-1" strike="noStrike">
                <a:solidFill>
                  <a:srgbClr val="1f497d"/>
                </a:solidFill>
                <a:latin typeface="Lucida Sans Unicode"/>
                <a:ea typeface="Lucida Sans Unicode"/>
              </a:rPr>
              <a:t> – </a:t>
            </a:r>
            <a:r>
              <a:rPr b="1" lang="en-US" sz="3200" spc="-1" strike="noStrike">
                <a:solidFill>
                  <a:srgbClr val="1f497d"/>
                </a:solidFill>
                <a:latin typeface="Lucida Sans Unicode"/>
                <a:ea typeface="Lucida Sans Unicode"/>
              </a:rPr>
              <a:t>Release</a:t>
            </a:r>
            <a:r>
              <a:rPr b="1" lang="en-US" sz="3600" spc="-1" strike="noStrike">
                <a:solidFill>
                  <a:srgbClr val="1f497d"/>
                </a:solidFill>
                <a:latin typeface="Lucida Sans Unicode"/>
                <a:ea typeface="Lucida Sans Unicode"/>
              </a:rPr>
              <a:t> 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457200" y="762120"/>
            <a:ext cx="78487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 your calendar – key d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arkeTrak Training Workshop – November 2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- </a:t>
            </a:r>
            <a:r>
              <a:rPr b="0" lang="en-US" sz="1400" spc="-1" strike="noStrike">
                <a:solidFill>
                  <a:srgbClr val="0070c0"/>
                </a:solidFill>
                <a:latin typeface="Verdana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corporates Release 3 changes in the train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ertification Testing – December 1 - December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th   - </a:t>
            </a:r>
            <a:r>
              <a:rPr b="0" lang="en-US" sz="2000" spc="-1" strike="noStrike" baseline="30000">
                <a:solidFill>
                  <a:srgbClr val="0070c0"/>
                </a:solidFill>
                <a:latin typeface="Verdana"/>
                <a:ea typeface="Arial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igrate to Production – December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nference Call – December 17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elease 3 Stabilization period – Dec 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thru Jan 19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990720"/>
            <a:ext cx="8229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RCOT will use this time to perform the PR70007_01 MarkeTrak Release 3 migration to Production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MT Implementation start December 1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7p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iebel and TIBCO Implement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roduction Verific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 Unicode"/>
              </a:rPr>
              <a:t>Do Not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submit anything during this outage even if you can access MarkeTrak production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lease do not wait until Friday to submit and update issues.   MarkeTrak Taskforce is highly recommending all MP’s to have issues submitted and any updates completed by 5:00 pm on Friday, December 12th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249120" y="237960"/>
            <a:ext cx="844416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91440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MarkeTrak Escalation contacts -  All MarkeTrak Admin’s should review and update all escalation contacts with correct DUNS and email addres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Conduct in house training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ff"/>
                </a:solidFill>
                <a:uFillTx/>
                <a:latin typeface="Lucida Sans Unicode"/>
                <a:hlinkClick r:id="rId1"/>
              </a:rPr>
              <a:t>http://www.ercot.com/services/training/Retail_Market_Participant_Workshop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</a:rPr>
              <a:t>Key Document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arkeTrak - ERCOT Retail Workshop - November 2008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11/24/08, .pdf, 18 MB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2"/>
          <a:stretch/>
        </p:blipFill>
        <p:spPr>
          <a:xfrm>
            <a:off x="225360" y="195120"/>
            <a:ext cx="84679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066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Lucida Sans Unicode"/>
                <a:hlinkClick r:id="rId1"/>
              </a:rPr>
              <a:t>http://www.ercot.com/services/client_svcs/mktrk_info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ser Gui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lk Insert Templa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Workflow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Tips and Trick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lso direct link from MarkeTrak t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2"/>
          <a:stretch/>
        </p:blipFill>
        <p:spPr>
          <a:xfrm>
            <a:off x="195120" y="219240"/>
            <a:ext cx="849816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MCj04042630000[1]"/>
          <p:cNvPicPr/>
          <p:nvPr/>
        </p:nvPicPr>
        <p:blipFill>
          <a:blip r:embed="rId1"/>
          <a:stretch/>
        </p:blipFill>
        <p:spPr>
          <a:xfrm>
            <a:off x="1752480" y="1371600"/>
            <a:ext cx="5943600" cy="4724280"/>
          </a:xfrm>
          <a:prstGeom prst="rect">
            <a:avLst/>
          </a:prstGeom>
          <a:ln w="0">
            <a:noFill/>
          </a:ln>
        </p:spPr>
      </p:pic>
      <p:pic>
        <p:nvPicPr>
          <p:cNvPr id="389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00017167</cp:lastModifiedBy>
  <dcterms:modified xsi:type="dcterms:W3CDTF">2008-12-08T23:06:45Z</dcterms:modified>
  <cp:revision>214</cp:revision>
  <dc:subject/>
  <dc:title>MarkeTrak Task Force</dc:title>
</cp:coreProperties>
</file>