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EA1A2C8-AB2A-4AA2-80D0-73E0F2AAC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DC2C6EA-A936-484C-B4E7-39C7829EF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6C2A052-C649-413E-9CDA-8B168B83F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2DC-3896-4F25-B545-3441BCB9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F10-0A12-4B9F-8AFC-CC9CE45F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543-4616-4F99-8A3E-8B120DC1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876-1B24-4696-BCD5-F8BE8052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7A8-4182-43F1-AE86-2D480553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97F-778F-43B4-A278-7ACE6E75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26C-09E1-4F92-9B8E-EA0F637E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431-6353-4E1F-8006-D66BAEFB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C87-732C-4479-8C22-FEB0E4D4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E22-5A39-4034-9490-53BFB06D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9BC-7F66-4912-ACD3-7E9E50AD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0E4B-7966-4294-8B87-49DF1350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695C-9A1D-4CE1-AA07-89C2C2A51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opy of Ercot Logo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EB35-08AA-40F8-AAE2-1EC58EDAD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itional materials for RMS 12/08/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llow up on 10/30/08 Event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B75C-0213-400E-A85E-27C62AD57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228600" y="13716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RT DESCRIP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 ERCOT experienced an internal system processing issue Thursday, October 30, 2008, from 3:18 PM through 9:31 PM.  As a result, duplicated transactions or possibly bad/invalid data was forwarded to Market Participa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NDED AUDIENC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s and TDS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Y AFFECTED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 Thursday, October 30, 2008 from 3:18 PM through 9:31 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NG DESCRIPTION: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experienced an internal system processing issue on October 30, 2008, from 3:18 PM through 9:31 PM.  As a result, duplicated transactions or possibly bad/invalid data was forwarded to Market Participants.  ERCOT determined that there were 1,033,762 transactions in 71,270 files that were sent out in err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ot Cause:  ERCOT was in the process of setting up a separate disaster recovery environment.  The NAESB application was configured to function as Production in the event of a disaster.  At 3:18 PM on October 30, 2008, the application was started in error which caused all test transactions in the environment to be sent outbound to the market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-A103008 – Retail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rak Issues / Market Imp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97F4-B531-45F1-9712-EA5663D2A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 of MarkeTrak issues opened – 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# of issues marked resolved – 6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# of issues in progress – 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# of issues not acknowledged by MPs –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ail Client Services contacted MPs on 11/10/08 and again on 12/01/08 requesting they review the iss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 of out of synch (reported through MarkeTrak) – none re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 of cancels requested by ERCOT – 1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up efforts required by many MPs is 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as of 12/02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Taken by ERC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2677-7DDA-4049-ADE7-1A13BFC35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ion of Disaster Recovery (DR) environment test was committed to the Board b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tr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continues to develop the DR environment and has made several changes in light of this incid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entative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ST/DR environment has been fenced off from access to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ST/DR NAESB has been completely disab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itors are in place and personnel have been trained to identify the al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investigation identified human error leading up to inc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ective action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of Market Testing procedures to clean up outbound transactions in Itest after each rele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farley</cp:lastModifiedBy>
  <cp:lastPrinted>2002-09-24T18:27:58Z</cp:lastPrinted>
  <dcterms:modified xsi:type="dcterms:W3CDTF">2008-12-02T22:48:23Z</dcterms:modified>
  <cp:revision>914</cp:revision>
  <dc:subject/>
  <dc:title>PowerPoint Presentation</dc:title>
</cp:coreProperties>
</file>