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29D-936D-424F-976A-757E1C9B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35D-7FBD-46D2-B870-8FF782F6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DB7-B408-4DE9-B847-677A60BD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E61-AE9A-4C02-9712-9453FD62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2C29-6604-42C5-9DC9-CA351B262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94D5-19D7-4508-AF96-DA70290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522C-A1E7-42FB-89AC-37987031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6383-DF27-4915-89A5-6217847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0C87-7EEA-4E28-9CE4-8DDA6630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F70F-0C4D-43A6-B61C-8A3DDB45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94A8-CD5F-4755-A26A-EC9FEF9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DD4-B8CC-4C31-BAB8-01437F12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B4A4-53A4-4066-956E-C06FD230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9212-E9A9-4B1E-BBB4-DBE55E0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E3FE-2FCC-4962-AFD9-7972537F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E12-FFD4-47E5-B80F-85E6DA3B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9CA9-D689-42B2-A12F-C3795565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FDF-FE68-4E3B-A8C2-0069165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61D0-F2E5-4D8D-A049-B647048D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485-BE66-4747-BEEE-37E17F15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D67-6D1E-40D4-B160-E7EF91B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D91-E625-437E-A01D-92E22598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59D-8ED0-4A75-88E6-663C85D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8AB-3228-4D9C-AE56-9B78ED7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F29-776B-4CAB-83F8-9F458ACB7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4468-DB2A-4592-BA84-8A200C927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8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2008 Market Participant Survey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ebsite Satisf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Discussed and developed list of recommended improvements for the ERCOT.com website to assist ERCOT in understanding website satisfaction survey indicators and improve future survey resul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 CCWG will finalize the list of website recommendations at their December meeting. 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Market Participants encouraged to make suggestions to add to the lis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1DF3-03E1-43A0-AEB1-A4D7E6491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8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ebsite Improvement Recommend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s should be archived after a period of time, so older documents are not returned as a result of a search.  Also, consider including a search selectivity to include or not include ‘Archived’ docu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es should return the newest materials first, e.g. in chronological or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articipant training should be available for the website to improve response time and satisfaction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website training should be an internet based tutorial to orient Market Participants on how the site is organized and how to find information on th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website training should be accessible from the ERCOT.com home p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D66B-1AD3-43A1-8DC9-A8E559C0E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8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ebsite Improvement Recommend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RCOT has agreed to revisit the website tutorial that was originally used when the new website was roll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arch return should include information, if found, from Section 2 of the Protocols, Acronyms and Defin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inks on the website, as opposed to documents, should be the first priority return from a search (Show preference to relevant pag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the Protocols and return any Section or Subsection Headings relevant to the 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should consider implementing the upgrade to the search engine prior to the implementation of the Nodal Mar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2E8-05CE-4306-9567-887F23EC7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November 18th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tinue to Develop COPMG for Nod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eviewed draft of new Section 12, Renewable Energy Credits.  This Section has been sent to Market Rules for re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CWG may have a special meeting, conference call, to review Market Rules comments of Section 1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CWG continues to work on other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54F-515C-4242-961A-4558B9F51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mber 16, 2008 via Conference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view of Market Rules comments for    Section 12, Renewable Energy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5D0E-67BD-496F-9DDE-4CFBABF09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8-12-01T14:05:12Z</dcterms:modified>
  <cp:revision>100</cp:revision>
  <dc:subject/>
  <dc:title>CCWG 2006 Accomplishments</dc:title>
</cp:coreProperties>
</file>