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A80EDC1-0ED0-43D4-99D8-DD6C6E046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8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eports/si/kd/mock_dam_settlement_examples.zip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dal.ercot.com/about/news/2008/0118a.html" TargetMode="External"/><Relationship Id="rId2" Type="http://schemas.openxmlformats.org/officeDocument/2006/relationships/hyperlink" Target="http://nodal.ercot.com/readiness/reports/index.html" TargetMode="External"/><Relationship Id="rId3" Type="http://schemas.openxmlformats.org/officeDocument/2006/relationships/hyperlink" Target="http://nodal.ercot.com/readiness/reports/index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Nodal COMS Updat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December 8, 2008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Hope Parrish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ERCOT - 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Line 3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C0058FF-95E5-467B-B8C7-E57B45EC9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eadiness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Standard &amp; Mock Statements and Invoic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990720"/>
          <a:ext cx="8229600" cy="4600440"/>
        </p:xfrm>
        <a:graphic>
          <a:graphicData uri="http://schemas.openxmlformats.org/drawingml/2006/table">
            <a:tbl>
              <a:tblPr/>
              <a:tblGrid>
                <a:gridCol w="2971800"/>
                <a:gridCol w="52578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CARD Invoice and Ex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card_invoices_and_extract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CRR Balancing Account Invo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mock_crr_balancing_account_invoice_exampl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DAM Late Fee Invo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dam_late_fee_invoic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Invo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Draft%20Invoic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Settlement State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http://nodal.ercot.com/readiness/reports/si/kd/draft_settlement_statement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ck DAM Settlement Examp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http://nodal.ercot.com/readiness/reports/si/kd/mock_dam_settlement_examples.z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8 Settlement Postings (Statements, Invoices, Extracts, Reports, Notic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(http://nodal.ercot.com/readiness/eds4/documents/index.ht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3425686-5629-4026-A224-8C762E86F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219320" y="236232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6B6FF2B-7606-4D27-82E5-211D36A3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lements &amp; Billing, and Data Aggregation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and Dispute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monitoring and mgmt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S Remaining Software Release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Systems Extract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iness Center Posting Location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49FF732-EB76-4251-93B5-193C6F83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S&amp;B and Data Aggreg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6104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&amp;B and Data Aggre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&amp;B/Data Agg: Completed 100% of core nodal coding and functionally verified by business (Bundle migrated to i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standing code (to date):  S&amp;B/Data Aggregation source reports (not extracts), Memory workaround, additional error handling and performance tu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I: Completed over 210 of 222 of Lodestar Bill Determinants and verified by busi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standing code (to date):  Long Day/Short Day, remaining BDs, MMS4P6 and MMS5 refacto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ed CORE Lodestar and CSI 5.4 and 6.1 releases to iTEST on 11/11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smoke test of DAM event data from MMS to Lodestar core via Commercial System Integration 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e at this point.  We continue to manage the need for a synchronized dataset and have identified a workaround for the Lodestar product memory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1A9F43E-D15C-403D-BC07-5D2AD2B57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Registration and Disput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028520"/>
            <a:ext cx="8547120" cy="50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ration and Dispute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Phase 5 - Siebel Refactoring Changes (MMS, MPIM, Dispute API and Other Integration Interfac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tion 4 Relea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Test compl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gration scheduled 12/13/08; Verification 12/14/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tion 4 Release includ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endar for Dispute Timeliness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lk Upload process for RE/JOU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ice Disp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Development of Dispute API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To Lodestar (REG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NB) interface repla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for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 lead time for API certification te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ion procedures posted for COPS revie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S Disputes API Certificaton Process DRAFT.d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92BCC67-96EC-4833-B6C1-FF4BA88CF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Credit Monitoring and Mgm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 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External Reports as part of NPRR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 Management of the internal Interface and application (screens, workflows, parameter adjustm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standing code to date – Internal reports (4.2) and upgrade to latest software version of ROME5.0 (4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 3.1 FAT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Functionality (Calculations, ACL, and ACL file pos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M3.1 Integration Testing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interface testing with CMM will be completed with CSI 6.1 and 6.3 test cy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or and ERCOT Turnover resulted in delays to finalization of detailed analysis and designs of the internal custom management functions – scheduled for completion by 12/19/200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57200" y="1066680"/>
          <a:ext cx="8229600" cy="4238640"/>
        </p:xfrm>
        <a:graphic>
          <a:graphicData uri="http://schemas.openxmlformats.org/drawingml/2006/table">
            <a:tbl>
              <a:tblPr/>
              <a:tblGrid>
                <a:gridCol w="762120"/>
                <a:gridCol w="1143000"/>
                <a:gridCol w="5029200"/>
                <a:gridCol w="129528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/DI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4/DISP2:  Migration to Production – Stage in current production environ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06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/DIS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 REG5/DISP3:  Refactoring and Disputes API – iTEST Comple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17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gg Core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destar Bundle for Data Aggregation Re-Write (Initial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19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Integration with S&amp;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3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6.3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Integration with CM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3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B and Data Ag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Systems Reports - Inter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17 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&amp;B and Data Ag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Systems Reports - Exter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I7.0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rcial Systems Integration Refactoring - MMS 5 S&amp;B/CMM Long Day-Short D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7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hedule Information for COMS Onl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k Remaining – COMS 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1271681-58EB-473B-9AAC-CD8AEDDB1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457200" y="923760"/>
          <a:ext cx="8229600" cy="1557360"/>
        </p:xfrm>
        <a:graphic>
          <a:graphicData uri="http://schemas.openxmlformats.org/drawingml/2006/table">
            <a:tbl>
              <a:tblPr/>
              <a:tblGrid>
                <a:gridCol w="762120"/>
                <a:gridCol w="1143000"/>
                <a:gridCol w="5029200"/>
                <a:gridCol w="12952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4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Reports / Custom Manageme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31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4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Reports / Bug 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4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M4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grade 5.0 / Bug Fi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2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TG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26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Financial Transfer G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9 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chedule Information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ork Remaining – COMS – 2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473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Nodal Program Schedule Review will be conducted at the 12/10/2008 TPTF Webex and the 12/15/2008 TPTF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C991857-2F2F-4D53-A3BA-C4B700A1A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6C0D81B-D14F-4A70-B242-762355BE2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S Project: Extracts &amp; Reports Statu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686800" cy="49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S shadow settlements extracts have completed integration testing with limited stubbed data sets. Extracts will be retested when full functionality of all business process components are availa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M Code and Mode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M Code and Mode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Referenc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Input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is currently integration testing the following COMS extracts with limited datasets provided by internal business tea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Participant Dispute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 Calendar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s Late Fee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ID Service History &amp; Usage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IID Web Services – Provide Public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ct code will be regression tested with any future updates to meta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F316340-C190-450C-859F-62FFB002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eadiness Cente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Reports, DDLs, and XSD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192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49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Reports Readiness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Nodal Data Services Master List (NDSML) is updated each Friday with the latest information.  It is located at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about/news/2008/0118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 site will be updated each Friday with the latest extract &amp; report specifications and DDLs and XSDs.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odal.ercot.com/readiness/reports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>jhall</dc:creator>
  <dc:description/>
  <dc:language>en-US</dc:language>
  <cp:lastModifiedBy>hsatterfield</cp:lastModifiedBy>
  <dcterms:modified xsi:type="dcterms:W3CDTF">2008-12-07T23:50:49Z</dcterms:modified>
  <cp:revision>546</cp:revision>
  <dc:subject/>
  <dc:title>Texas Nodal Detailled Market Trials Planning Process 30 January 2007</dc:title>
</cp:coreProperties>
</file>