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2451-4219-4634-B966-A602A4E814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76BC-1D38-44C9-B6B0-695DDCC82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BB18-CCF0-4110-889B-CFF894F085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B7AC-70E1-4FB3-9565-F443B0C2D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5CA8-961E-4911-9A26-5EE896CDA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38A45-AA3E-4E06-8400-920B4C4A7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C7A2-738A-45AA-8D80-C6A895CBC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B2B9-9CAE-4954-A555-786F990AA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4D11-9D25-462A-9589-3763868CE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93369-F8BF-4369-94C3-D262DD30E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6646-89CF-417B-914F-9A8A21952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F9B7-A650-45EA-A399-D97C2E888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B5DD-FD79-4E72-85F5-ADB09DAA2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5CD8-FE88-4380-8857-7270B8B48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5B5-9479-44D8-98AD-8EDA16F2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8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mber 8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70F73B-1B90-4824-8610-C8ED453C5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December 8, 2008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8 MO PP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Rectangle 4144"/>
          <p:cNvSpPr/>
          <p:nvPr/>
        </p:nvSpPr>
        <p:spPr>
          <a:xfrm>
            <a:off x="1676520" y="5562720"/>
            <a:ext cx="2286000" cy="609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O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ange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145"/>
          <p:cNvSpPr/>
          <p:nvPr/>
        </p:nvSpPr>
        <p:spPr>
          <a:xfrm>
            <a:off x="4648320" y="5562720"/>
            <a:ext cx="2286000" cy="60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Capability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Yellow Shaded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 Project Health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1204920"/>
          <a:ext cx="8686800" cy="4967280"/>
        </p:xfrm>
        <a:graphic>
          <a:graphicData uri="http://schemas.openxmlformats.org/drawingml/2006/table">
            <a:tbl>
              <a:tblPr/>
              <a:tblGrid>
                <a:gridCol w="1104840"/>
                <a:gridCol w="2152440"/>
                <a:gridCol w="1241640"/>
                <a:gridCol w="1063440"/>
                <a:gridCol w="914400"/>
                <a:gridCol w="2210040"/>
              </a:tblGrid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#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-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Schedu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 Bud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66_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destar 4.7 Upgr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/27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was put on hold to avoid impacts from IO projects and release of L*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024_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hancements to SCR727-Market Enhan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01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s due to resource constraints with Nodal and extended stabilization requ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37_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estro Replacement - Phas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/14/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77_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COT COM Registered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6/20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s due to cross dependency on for Google search tools under Nodal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38_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lage Infrastructure Redesig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/14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48_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V90xi System Upgr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/09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057_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IT Study for Long-Term Settlement So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/21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 to Closing 12/15/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730080"/>
            <a:ext cx="838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projects committed to deliver in 2008 were achie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 as of 12/21/2007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762120"/>
          <a:ext cx="8229600" cy="5116320"/>
        </p:xfrm>
        <a:graphic>
          <a:graphicData uri="http://schemas.openxmlformats.org/drawingml/2006/table">
            <a:tbl>
              <a:tblPr/>
              <a:tblGrid>
                <a:gridCol w="2468520"/>
                <a:gridCol w="973080"/>
                <a:gridCol w="4788000"/>
              </a:tblGrid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M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3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approved MO funding al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ates where the capability line f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0K transferred from RO to MO to cover the AMIT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27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current expectations for remaining accruals and closing activ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$52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 is difference between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Capability Line Budget Funding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O 2009 PPL approved by P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e Par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r, MOD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6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hsatterfield</cp:lastModifiedBy>
  <dcterms:modified xsi:type="dcterms:W3CDTF">2008-12-08T01:28:24Z</dcterms:modified>
  <cp:revision>410</cp:revision>
  <dc:subject/>
  <dc:title>Role of Account Management at ERCOT</dc:title>
</cp:coreProperties>
</file>