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2E2-636B-4155-897F-82152AD2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2672-E5E8-41C5-A9C2-050079C6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D60-025A-4E5D-AC55-5998905A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57E-BF9A-4FF9-9751-CBD6E7A9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DDE8-D4A1-4004-BF4C-8D76E34B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739A-9282-44C3-8773-75A916B3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0A94-9020-4C23-889A-C07E4937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FE95-D94F-4521-9D04-33B692E1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B763-DDBB-47A7-AA5B-75CD40B8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58AA-15E5-40C5-8166-899E2DBD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4D33-C85A-4A75-86CF-1CF495F5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72C-5CFF-44D1-8DD1-3F1206B4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07D6-5F9D-4405-BA2D-804674D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FAF7-6DB5-47E0-B0C9-3461DB5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A900-CF99-4353-B7F3-04B7D039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A53-A5FB-41E9-8939-D7EE46C0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F878-3535-4186-A5CF-061ED5571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2898-B510-4842-AC44-760681D8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8F22-F2BA-4AB7-A013-5668F8B2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B6D9-FF9E-4D0D-9B0C-3C77136D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53F2-0FB0-4BDD-9E86-0054F96C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079-81AF-4D82-8670-7C17B9AB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9D5-BD66-4120-884F-09459AD4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CEFF-A946-41CB-BC3E-52A6E4C5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C211-0F5D-4F09-B8C9-FEADC6355C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177B-21CF-4C8C-8B65-F0A937D874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DEWG Meeting Summar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12/08/200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date DEWG Meeting 11/17/200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Upd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ed the Data Extracts and Reports Issue Events for October and Nove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have subsided after the Lodestar upgrade and the trend remains on dec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ssue is current recently surfaced on a 5.5 hour lag in posting extracts reported on December 4, will investigate fur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date DEWG Meeting 11/17/200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Stabilization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followed up with an updated project list to itemize the projects that will assist in stabilizing the Extracts and Reports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s will be focusing on stor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WG and SDAWG concerns remain around the maintenance of current systems as Nodal has been delay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date DEWG Meeting 11/17/200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LS Settlement Iss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around the language and interpretation of the settlement cost allocation of E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centers around which Load Ratio Share version to use at sett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sensus around using the most recent cut or channel 4 cut as opposed to using channel 1 cut for better load accurac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d the follow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ew PRR will be drafted to address using the most current lo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 need to incorporate into current PRR on self provision as current language allows for entity to dispu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RCOT intends to settle next contract period with most recent L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RCOT staff to draft new PRR language for consider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pdate DEWG Meeting 11/17/2008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R 786 created to make the appropriate changes to the EILS Settlement methodology as agreed upon by DEWG/SDAW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s of the PR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ttlement for the contract period will be based on Final Settlement load for the contract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ttlement will be conducted utilizing the True-up Settlement load for the contract peri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ettlement period ERCOT will settle according to this method, concerns by market participants related to the EILS settlement may be disputed until PRR 786 is implement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ture Topics for next ye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WG/SDAWG will not meet in Dec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WG/SDAWG will continue to follow issues related to Extracts and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Nodal ramps back up, DEWG/SDAWG will be extremely active in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WG/SDAWG will be providing “refresher” type presentations on Nodal Extracts and Reports and Settlement issues to ensure market participants are engaged in the Nodal chang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8-12-07T21:54:03Z</dcterms:modified>
  <cp:revision>28</cp:revision>
  <dc:subject/>
  <dc:title>DEWG Meeting Summary</dc:title>
</cp:coreProperties>
</file>