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FDE2-C342-4FA7-A408-E3D72C40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5D95-3AC5-4B51-BE8D-B9C4588D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D040-D9FB-4E5B-AE5B-ACF0E2B3F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D44A-E950-49CA-BE31-0AC4BC0F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C550-A975-4994-8800-5AF14DAB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7CD9-5750-40DD-9434-C38A814D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F0B9-AA05-423F-923C-76096E23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6AC1-6B3E-45B5-819D-63A2A8D2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8F1F-A910-4765-A3D7-CEB6C9FF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9BC1-147B-4C9C-97CE-89548402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122C-87DF-43C6-98FD-26E81C2B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75C7-3AE2-4E98-91FE-BB357DE8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0BDD-C304-4CDF-933F-6CA30917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7A71-514E-4E7F-9EAE-3683389E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505E-483C-4661-B17B-FD9108E5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002C-CE22-47C9-A853-44E801525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165B-78B9-4FD5-B63E-836B4C85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6388-2B46-4D69-92B4-D9DB111A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4EE9-31DE-4F98-B355-6C15AD20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4712-CF61-4EFE-8CE5-8D83897E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B069-08DF-4552-8C7B-784DEE53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F2C1-F7AA-4E0D-B0FD-BBEB33EE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BCB1-8541-47C4-BA1D-398C672E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15AB-7923-4085-BE0C-E9E21CF6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030F-C353-45D7-8E09-F0C75BDC7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82B3-1EB5-488A-B61A-70E80DAAEF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62120" y="914400"/>
            <a:ext cx="784836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mmercial Operations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ub-Committee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Update to TAC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ecember 4,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Highlights from November 11</a:t>
            </a:r>
            <a:r>
              <a:rPr b="0" i="1" lang="en-US" sz="3200" spc="-1" strike="noStrike" u="sng" baseline="30000">
                <a:solidFill>
                  <a:srgbClr val="ffff00"/>
                </a:solidFill>
                <a:uFillTx/>
                <a:latin typeface="Times New Roman"/>
              </a:rPr>
              <a:t>th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52280" y="609480"/>
            <a:ext cx="82296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5c984"/>
                </a:solidFill>
                <a:latin typeface="Times New Roman"/>
              </a:rPr>
              <a:t>Discussed problem with initial settlement of EILS payment</a:t>
            </a:r>
            <a:r>
              <a:rPr b="0" lang="en-US" sz="2400" spc="-1" strike="noStrike">
                <a:solidFill>
                  <a:srgbClr val="45c984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EILS period ending May 3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settled using “Initials” for applying Load Ratio Shares of EILS cost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RCOT Staff and COPS suggest changes (new PRR) be crafted to correct this probl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RCOT noted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EILS period ending Sept. 3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will use Final (R4’s) for applying LR Share of cos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Period to incorporate Final and True-up statements in determining LRS of EILS cos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WG/SDAWG to work with ERCOT Staff and submit new PRR to correct probl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Times New Roman"/>
              </a:rPr>
              <a:t>Update from ERCOT regarding recent mismatched schedu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RCOT noted this is an IT issue and staff is working to determine cause and corrective process to resolve issu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DEWG / SDAWG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6108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5c984"/>
                </a:solidFill>
                <a:latin typeface="Times New Roman"/>
              </a:rPr>
              <a:t>Worked with ERCOT to resolve EILS Settlement Issu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R786, submitted to target ERCOT to use the most recent Load Ratio Share (Final Settlement Version) and so a resettlement using the most current load (True-up Settlement Vers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5c984"/>
                </a:solidFill>
                <a:latin typeface="Times New Roman"/>
              </a:rPr>
              <a:t>Normal report on ERCOT issu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light decline in number of issues, most recently centered around Lodestar Upgrade, though no major issu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5c984"/>
                </a:solidFill>
                <a:latin typeface="Times New Roman"/>
              </a:rPr>
              <a:t>Followed up on the ERCOT stabilization effor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dentified projects to watch for in 2009 that address common flaws in the current systems around reports and extracts that need to be maintained until Nodal replacement is implemen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CWG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WG met on 11-18-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ed wish list of improvements for the “ERCOT.com” website to assist ERCOT in understanding website satisfaction survey indicat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ewed draft of new Renewable Energy Credit Section of COPM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e to work on other sections of the COPMG in anticipation of Nod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PW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85345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Times New Roman"/>
              </a:rPr>
              <a:t>LPGRR032 – Profile Decision Tree Changes for Advanced Meters was recommended unanimous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A to be reviewed at next PWG meeting (12/18/0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Times New Roman"/>
              </a:rPr>
              <a:t>Working on Draft PRRs for Section 18 Protocol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 remove “grey boxes” for unfunded project # PIP106 linked to PRR385 and PRR478 for DL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arify language on procedure if a Hurricane or other natural disaster like IKE causes delay in completion of Annual Validation of Profile Id Assignments</a:t>
            </a:r>
            <a:r>
              <a:rPr b="0" lang="en-US" sz="2000" spc="-1" strike="noStrike">
                <a:solidFill>
                  <a:srgbClr val="45c984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Times New Roman"/>
              </a:rPr>
              <a:t>On schedu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ual Validation proces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ound 2 Load Research data for recalibration of current load profiles (December 201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5c984"/>
                </a:solidFill>
                <a:latin typeface="Times New Roman"/>
              </a:rPr>
              <a:t>2009 PWG goals developed to present to COPS at 12/08/08 mee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AC Assignment –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rket Participant Surv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5c984"/>
                </a:solidFill>
                <a:latin typeface="Times New Roman"/>
              </a:rPr>
              <a:t>Dispute Resolu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PS agrees with ERCOT Action Pl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ggests that MPs need to better understand disput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view ADR process – Survey results most likely the result of ADR iss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5c984"/>
                </a:solidFill>
                <a:latin typeface="Times New Roman"/>
              </a:rPr>
              <a:t>Format of Settlement Stateme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tements remain unchanged since last survey – COPS unsure as to reason for change from last surv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PS agrees with ERCOT Action Plan and suggest MPs will now have to shadow from extracts upon implementation of Nod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5c984"/>
                </a:solidFill>
                <a:latin typeface="Times New Roman"/>
              </a:rPr>
              <a:t>Data Extracts and Repor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PS agrees with ERCOT Action Plan &amp; agrees new Extract SLA will improve awareness and understanding of Extract and Report Expect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5c984"/>
                </a:solidFill>
                <a:latin typeface="Times New Roman"/>
              </a:rPr>
              <a:t>Website Satisfa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CWG agrees with ERCOT action plan &amp; has developed a list of improvements for the “ERCOT.com” website to assist ERCOT in understanding website satisfaction survey indicator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447920" y="16765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Questions 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17:58Z</dcterms:created>
  <dc:creator>lstarr</dc:creator>
  <dc:description/>
  <dc:language>en-US</dc:language>
  <cp:lastModifiedBy>Lee R. Starr</cp:lastModifiedBy>
  <dcterms:modified xsi:type="dcterms:W3CDTF">2008-11-24T21:47:19Z</dcterms:modified>
  <cp:revision>21</cp:revision>
  <dc:subject/>
  <dc:title>Slide 1</dc:title>
</cp:coreProperties>
</file>