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98DC-5D79-407F-B059-E382F2ED99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AAB41-A7B8-4A24-B116-FD7C30A7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8FF3-EF46-47F8-8389-866DE208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B8BB-6509-4D6B-A4D9-15ADAA7640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165A-0E4F-428D-91E4-55DE462B94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69B-244F-4491-B3DB-74AC238CAA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3510-EBCF-4C4C-938B-5F3304B265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9EC9-7B5F-40C1-ABC5-739E1603FB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D50-B0E2-4C6C-A725-3FB6C471F1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836-A706-45D0-A8BE-7369EB4308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0B3-C1E6-485D-84B9-E5A6EC062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A31B-DB11-4400-9068-338A549E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F28-1DD7-48A1-BC5E-0F11A74F2B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BF7-2DCE-4AC4-B71E-D609DFBC0D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8D93-2418-4F96-9F14-5B2DDA1C11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312-7D56-4956-B37E-DE9E41EDF8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013-EFD7-4281-9CAF-C74F1E8383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536E4-CEE5-4BB9-85BD-E6F169CBB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95B8C-235C-4588-93A8-4D865920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7304-3159-47BA-936A-4A97DF7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A7A70-2C21-48F5-AA09-D4E7179C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EDFF7-EE9D-47EF-8BB3-0D12F3B3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957A-449D-485A-B120-50355A48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26204-589D-4D7C-A031-8BB896C8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1FAFD-43C8-4196-AA69-1F2CAF80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A080E-35B1-45C3-9C78-38A4DC7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237F3-5D21-46D6-9294-68140500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518A2-3F85-48E5-B02C-B8F60E36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59302-139E-468B-A431-9BCDD3BB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7B589-C296-4B4E-8688-26468223F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7D17-B1D0-4D6A-810A-6B50B7BB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162D-5066-42EA-B55B-80E375ED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AD78-5607-4EC5-9452-9EDF984F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EE52-E7A0-4B2D-90C4-BF25E03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B0E7-5F8F-4C43-8BF6-2660E224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DC16-AE29-43E0-ADE6-B07C17E5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B492-F921-4619-AB0E-3E40C8EE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3899-71BC-4C27-9AB9-02AC5CAFB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8663-CC34-40B0-9E97-752130C51C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cember 8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1604-07F3-489C-9D00-7062CF131E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219320"/>
            <a:ext cx="845820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Updated PWG 2008 Go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Verdana"/>
              </a:rPr>
              <a:t>(ranked by Target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3B26-CC48-4C48-AF8C-93D4810C9F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b. Distributive Generation load profiling implementation issu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Pending AMR Rule, AMIT and DGT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LPGRR being draf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GRR031 Profile Decision Tree Changes for DRG Passed COPS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. Approved on 11/17/2008 and Effective 1/1/200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. 2008 Annual Valid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n Schedule for 11/30/2008 comple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7. Advanced Metering Implementation LPG changes if need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Pending AMR Rule, AMIT and DGT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LPGRR032 Profile Decision Tree Changes for Advanced Meters was fil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Discussed and provided Pro and Con to the AMIT team for use of “AMS” in the meter type code of the Profile ID assignment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. LPGRR032 IA shall be reviewed at the Dec. PWG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tiv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AF3F-9AEC-40FF-BBCC-FC2AF13EB2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2209680"/>
            <a:ext cx="78483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IDR Analysis – 2 issues outstanding from original analys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mber PWG agenda item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. Pertains to the minimum IDR requirement final recommendations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additional study using load research da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. AMR Rule, AMIT and DGTF may affect scop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hall move to 2009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3716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p-coming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B191F-F0D6-42CC-A4F2-6FBC4C32C3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1371600"/>
            <a:ext cx="769608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LPGRR and PRR Drafts in prog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PRR to remove PRR478 and PRR385 gray boxes from Protocal and LPG Language has been reviewed by PWG and shall be filed by the Chair on the PWG behal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 PRR on providing Annual Validation timeline flexible language for Hurricane Season impacts to milestone target da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44EAC-FF9E-42BF-9336-BF51551A3E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32920" cy="3797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the COPS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D2A87-A90B-4A65-9AA5-32EAFDFFAD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8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. 18 and perhaps the fourth Wednesday of the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CF38-2A8E-40E3-BDA9-860783D910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8-11-26T20:58:31Z</dcterms:modified>
  <cp:revision>328</cp:revision>
  <dc:subject/>
  <dc:title>PowerPoint Presentation</dc:title>
</cp:coreProperties>
</file>