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A5E8-3011-445E-A782-CB289C168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5C9A-9C17-4E02-B422-9C7AAF96D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36D3-0388-4F63-8152-B17200325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740D-2A9B-40ED-9E38-3C545B321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8959-07B5-45CB-B72D-1A2D6C7A8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178F-13F1-4F66-AFB3-B3C9ECE17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7925-938B-48BF-9651-BB00293B5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6675-0BC4-4AD6-BB5E-EAFCF490E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85A7-8AE0-4C24-AA65-BF3C5F5FA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F345-1C34-4E91-906F-E5AA9A9DB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9F10-5889-4117-B1A4-0F33BDB0B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F472-A04A-45C6-940C-F0B1BB382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2C2F4-489A-4447-AF25-69020904FC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ff"/>
                </a:solidFill>
                <a:latin typeface="Arial"/>
              </a:rPr>
              <a:t>      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DEWG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SDAW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4038840" cy="510516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tracts &amp; data deli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ata presentation and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view requirements for data extracts and reports inclu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ata Deli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ata Accur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ime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livery Mechanis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le Forma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495320" y="1218960"/>
            <a:ext cx="4419720" cy="510516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sure COPS involvement in nodal financial settlement and data aggregatio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id market transition to new financial settlements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view Financial Settlement System &amp; Data Aggregation System Design &amp;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view as appropriate PRRs, NPRRs, &amp; SCRs, to address financial settlement &amp; data aggreg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ettlements and Extracts Working Group-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 (SEW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04920" y="1219320"/>
            <a:ext cx="8534160" cy="54100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The settlements and Extracts Working Group (SEWG), reporting to the Commercial Operations Subcommittee (COPS), is intended to b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sponsible for ensuring COPS involvement in data extracts, data delivery, data presentation, and reports for financial settlement and data aggregation system design and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vide a forum to discuss issues addressing settlements,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viewing details and requirements of data extracts and repor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Extract and report issues that are not settlements related may be directed to an “Ad Hoc” or “Special Task Force” as determined by the COPS Chai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 (i.e.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eb Services or Trainin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5T20:32:04Z</dcterms:created>
  <dc:creator>Lee R. Starr</dc:creator>
  <dc:description/>
  <dc:language>en-US</dc:language>
  <cp:lastModifiedBy>Lee R. Starr</cp:lastModifiedBy>
  <dcterms:modified xsi:type="dcterms:W3CDTF">2008-12-05T21:16:27Z</dcterms:modified>
  <cp:revision>2</cp:revision>
  <dc:subject/>
  <dc:title>Slide 1</dc:title>
</cp:coreProperties>
</file>