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A098A-9665-402F-97B0-2114CE281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23CB2-4187-4804-8488-8F6DADCCB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3E425-AB2E-41F7-B6CD-3555212B4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99152-566C-445C-B6E8-74278BBAB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F80DE-C0C9-4540-8459-1B4B4E0A7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82304-4C68-4CCC-A70E-332E235C3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846EA-9184-4656-853C-57C8754FB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15BA3-1C26-4397-8141-D9D6125C9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937FA-CD3A-4098-B88C-036B81669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CB3F5-61D3-4BF2-AD1E-FEDA4FA25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73F5A-2F93-4E8F-8D96-29359C0F8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BD635-ED42-45F0-97EE-894EEB889A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A0163-BFC4-4B1A-854C-1AEE7074D2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TASOR TF</a:t>
            </a:r>
            <a:br>
              <a:rPr sz="4400"/>
            </a:br>
            <a:r>
              <a:rPr b="0" lang="en-US" sz="4400" spc="-1" strike="noStrike">
                <a:solidFill>
                  <a:srgbClr val="000099"/>
                </a:solidFill>
                <a:latin typeface="Arial"/>
              </a:rPr>
              <a:t>Report to TAC</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Dec. 4,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Overview</a:t>
            </a:r>
            <a:endParaRPr b="0" lang="en-US" sz="3600" spc="-1" strike="noStrike">
              <a:solidFill>
                <a:srgbClr val="000000"/>
              </a:solidFill>
              <a:latin typeface="Arial"/>
            </a:endParaRPr>
          </a:p>
        </p:txBody>
      </p:sp>
      <p:sp>
        <p:nvSpPr>
          <p:cNvPr id="44"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IPWG recommendation (possible vote)</a:t>
            </a:r>
            <a:endParaRPr b="0"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Review Bylaws Section 5.4 (possible vote)</a:t>
            </a:r>
            <a:endParaRPr b="0"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Review closed items</a:t>
            </a:r>
            <a:endParaRPr b="0"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Review open item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13E2BAC-A20E-4DA7-9D6E-D64FD180F0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CIPWG recommendation</a:t>
            </a:r>
            <a:endParaRPr b="0" lang="en-US" sz="3600" spc="-1" strike="noStrike">
              <a:solidFill>
                <a:srgbClr val="000000"/>
              </a:solidFill>
              <a:latin typeface="Arial"/>
            </a:endParaRPr>
          </a:p>
        </p:txBody>
      </p:sp>
      <p:sp>
        <p:nvSpPr>
          <p:cNvPr id="46" name="PlaceHolder 2"/>
          <p:cNvSpPr>
            <a:spLocks noGrp="1"/>
          </p:cNvSpPr>
          <p:nvPr>
            <p:ph/>
          </p:nvPr>
        </p:nvSpPr>
        <p:spPr>
          <a:xfrm>
            <a:off x="457200" y="914040"/>
            <a:ext cx="8229600" cy="5334120"/>
          </a:xfrm>
          <a:prstGeom prst="rect">
            <a:avLst/>
          </a:prstGeom>
          <a:noFill/>
          <a:ln w="0">
            <a:noFill/>
          </a:ln>
        </p:spPr>
        <p:txBody>
          <a:bodyPr lIns="90000" rIns="90000" tIns="46800" bIns="46800"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ritical Infrastructure Protection Advisory Group (CIP AG) serves as an advisory committee to ERCOT and stakeholders on cyber security, physical security, and CIP standards</a:t>
            </a:r>
            <a:endParaRPr b="0" lang="en-US" sz="2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IP AG is not part of TAC structure and does not conform to TAC procedures, voting rules, etc.</a:t>
            </a:r>
            <a:endParaRPr b="0" lang="en-US" sz="2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rough discussion of CIP AG interaction with NERC CIPC, it appears TAC has not met requirements of ERCOT Bylaws Sec. 5.4</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674C18B-412A-4C5A-A286-E60EE44FCF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CIPWG recommendation</a:t>
            </a:r>
            <a:endParaRPr b="0" lang="en-US" sz="3600" spc="-1" strike="noStrike">
              <a:solidFill>
                <a:srgbClr val="000000"/>
              </a:solidFill>
              <a:latin typeface="Arial"/>
            </a:endParaRPr>
          </a:p>
        </p:txBody>
      </p:sp>
      <p:sp>
        <p:nvSpPr>
          <p:cNvPr id="48" name="PlaceHolder 2"/>
          <p:cNvSpPr>
            <a:spLocks noGrp="1"/>
          </p:cNvSpPr>
          <p:nvPr>
            <p:ph/>
          </p:nvPr>
        </p:nvSpPr>
        <p:spPr>
          <a:xfrm>
            <a:off x="457200" y="1066320"/>
            <a:ext cx="8229600" cy="5334120"/>
          </a:xfrm>
          <a:prstGeom prst="rect">
            <a:avLst/>
          </a:prstGeom>
          <a:noFill/>
          <a:ln w="0">
            <a:noFill/>
          </a:ln>
        </p:spPr>
        <p:txBody>
          <a:bodyPr lIns="90000" rIns="90000" tIns="46800" bIns="46800"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ASOR TF recommends TAC direct ROS to create a CIPWG to improve stakeholder communication and action on critical infrastructure protection standards, advisories, and best practices</a:t>
            </a:r>
            <a:endParaRPr b="0" lang="en-US" sz="2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CIPWG should be allowed to develop closed meeting procedures similar to PDCWG when circumstances require discussion of sensitive critical infrastructure vulnerabilities or security procedures</a:t>
            </a:r>
            <a:endParaRPr b="0" lang="en-US" sz="2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rst assignment of CIPWG should be to review ERCOT Protocols, guides, practices, and procedures to ensure compliance with applicable NERC standards and industry best practic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9C3A372-384B-455A-87B6-EC128FA84E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Review Bylaws Section 5.4</a:t>
            </a:r>
            <a:endParaRPr b="0" lang="en-US" sz="3600" spc="-1" strike="noStrike">
              <a:solidFill>
                <a:srgbClr val="000000"/>
              </a:solidFill>
              <a:latin typeface="Arial"/>
            </a:endParaRPr>
          </a:p>
        </p:txBody>
      </p:sp>
      <p:sp>
        <p:nvSpPr>
          <p:cNvPr id="50" name="PlaceHolder 2"/>
          <p:cNvSpPr>
            <a:spLocks noGrp="1"/>
          </p:cNvSpPr>
          <p:nvPr>
            <p:ph/>
          </p:nvPr>
        </p:nvSpPr>
        <p:spPr>
          <a:xfrm>
            <a:off x="457200" y="1066320"/>
            <a:ext cx="8229600" cy="53341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Arial"/>
              </a:rPr>
              <a:t>Section 5.4 Other Appointments</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f requested by NERC, TAC shall elect representatives to the various NERC committees and associated subcommittees, task forces, and working groups. The selection of TAC representatives to NERC shall require an act of TAC as set forth in Section 5.1(c). If more than one representative is requested, TAC should consider selecting representatives from different Segmen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3885488-20EA-4334-BEE7-E54A9E93ED84}"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03:38:08Z</dcterms:created>
  <dc:creator>Mark Bruce, FPL Energy</dc:creator>
  <dc:description/>
  <dc:language>en-US</dc:language>
  <cp:lastModifiedBy>Mark Bruce, FPL Energy</cp:lastModifiedBy>
  <dcterms:modified xsi:type="dcterms:W3CDTF">2008-12-02T17:09:18Z</dcterms:modified>
  <cp:revision>10</cp:revision>
  <dc:subject/>
  <dc:title>Mark’s ppt template</dc:title>
</cp:coreProperties>
</file>