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D4A3-6F0A-4237-AB89-B5B8CD45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2D15-C666-4C65-A095-71DFC438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62DC-5DE1-4585-BF2B-856ED74F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ACA4-3D97-4DED-BDB2-F417690D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9034-E7D8-4183-AF78-A6A40D15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A371-1444-4BA2-9DDD-ED24AE45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4A8-7890-464A-8E81-8712EFAE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801E-9F4A-4597-9F6B-BA0E1BE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883-E60D-48CA-96C9-A5F9EA2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C18-AD08-431E-B7C4-EE7DA547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BEB2-9710-436E-AF47-68E167A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97C4-9ED1-438D-9A55-1DD36BEC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6B1-8539-490A-AFD9-5718048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5EA4-682D-4E10-9A34-4C32B3D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056F-475F-4037-A4E8-3441499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BCAC-52CA-4C96-95D2-E34B003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163C-4689-4890-ACA0-2F31C5CA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DA6F-9E93-4C14-AE9D-717AA5AE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B689-DCEF-40DD-A9E0-F2C115D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A3FC-6F0E-48AE-BBAD-6FC247B3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47C7-D86F-4ED6-BDA0-2F4B6155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FE6D-FF67-447C-8589-6770FFF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CBEC-5295-4B1F-BA47-3B17F2DE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FBBC-381D-45AC-B804-E09E662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D82-39A7-41B4-8A47-620FFB7890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ABC-9610-42E7-A5AE-B8CEB776D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ember 4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42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EECP Media Appeal Chang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conflicting language in Nodal Protocols; language reflects that approved by the ERCOT Board in PRR 769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iminates conflicting languag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42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EECP Media Appeal Chang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52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Reference Section 22 Attach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600200"/>
          <a:ext cx="8229600" cy="3949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references in attachments to Section 2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referenc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as amended by ERCOT; all Market Segments except the Cooperative Segment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52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Reference Section 22 Attach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55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Clarification of Authorized Representativ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371600"/>
          <a:ext cx="8229600" cy="4192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EP Texas,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anion to approved PRR 778. Codifies “Authorized Representative” in Protocols and clarifies the need to designate an Authorized Representativ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s do not currently define “Authorized Representative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as amended by Luminant comments; all Market Segments except for the Cooperative Segment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NPRR 155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– Clarification of Authorized Represent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59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Resource Category Start-up Offer Generic Cap for Wind Resourc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1600200"/>
          <a:ext cx="8229600" cy="40654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rifiable Cost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PRR revises Resource Category Start-up Offer Generic Cap for Wind Resources to $0 from $7200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verall savings to market and consistent with the intent of verifiable costs in the nodal mark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as amended by TPTF comments; all Market Segments except the Cooperative Segment were presen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59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Resource Category Start-up Offer Generic Cap for Wind Resour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6680" y="48006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NPRR 162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– Change the Sign Convention of Net Real Power Consumption, LPC, and MPC of Load Resources (formerly, Change the Sign Convention for Load Resources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0766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nges the sign convention for Load Resources such that the low reasonability limit, Low Sustained Limit, telemetered values, High Sustained Limit and high reasonability limit are all positive numb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iminates changes to EMS &amp; M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as amended by TPTF comment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NPRR 162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– Change the Sign Convention of Net Real Power Consumption, LPC, and MPC of Load Resources (formerly, Change the Sign Convention for Load Resources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 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evision Requests With Comments to TAC or Non-Unanimously Recommended for Approval with/without Impact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79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Transparency for PSS and Full Interconnection Studi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1752480"/>
          <a:ext cx="8076960" cy="421488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SEG Texas, I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transparency to status of Power System Stabilizer (PSS) equipment and interconnection reques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ll assist in updating cases for stability limit studies and provide insights into types and locations being considered for new generation for modeling purpo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access to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as amended by Oncor comments &amp; PRS with 1 opposed from Consumer Market Segment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bruar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79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Transparency for PSS and Full Interconnection Studi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54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Corrections of Entities Able to Bid for PTP Obligations in the Day-Ahead Marke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57200" y="1600200"/>
          <a:ext cx="8229600" cy="3949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that only QSEs may bid for PTP Obligations in the Day-Ahead Mark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duces risk of future disput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acts MMS &amp; E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st $100K - $25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abstention from Consumer Market Segment; all Market Segments except the Cooperative Segment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154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– Corrections of Entities Able to Bid for PTP Obligations in the Day-Ahead Marke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25909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$100K - $250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581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s to MMS, E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004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vision Requests Unanimously Recommended for Approval with No Impa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RR 778 – Clarification of Authorized Representativ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RR 780 – Extending Black Start Service Bid Timelin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RR 781 – EILS Self-Provision Formula Correction &amp; Clarifica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44 – EECP Media Appeal Chang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52 – Reference Section 22 Attachmen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55 – Clarification of Authorized Representativ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59 – Resource Category Start-up Offer Generic Cap for Wind Resourc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62 – Change the Sign Convention of Net Real Power Consumption, LPC and MPC of Load Resources (formerly, Change the Sign Convention of Load Resources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vision Requests with Comments to TAC or Non-Unanimously Recommended for Approval with/without Impa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PRR 779 – Transparency for PSS and Full Interconnection Stud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PRR 154 – Corrections of Entities Able to Bid for PTP Obligations in the Day-Ahead Marke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evision Requests Unanimously Recommended for Approval with No Impact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78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Clarification of Authorized Representati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076960" cy="397044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difies “Authorized Representative” in Protocols and clarifies the need to designate an Authorized Representativ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s do not currently define “Authorized Representative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as amended by Luminant comment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bruar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78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Clarification of Authorized Representati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80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Extending Black Start Service Bid Timeli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1752480"/>
          <a:ext cx="8076960" cy="366408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nges Black Start Service bids from a 1 year period to a 2 year perio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market participants more time to prepare and train their system operato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bruar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8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Extending Black Start Service Bi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81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EILS Self-Provision Formula Correction &amp; Clarification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752480"/>
          <a:ext cx="8076960" cy="397044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settlement equation terms to ensure that formulae are consistent with EILS intent; clarifies EILS Self-Provision option where less than 1000 MW has been offer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vides certainty in settlement for QSEs/EILS Resources offering into EILS through self-provis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bruary 1, 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R 781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EILS Self-Provision Formula Correction &amp; Clarification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8-12-03T20:47:28Z</dcterms:modified>
  <cp:revision>291</cp:revision>
  <dc:subject/>
  <dc:title>Protocol Revision Subcommittee</dc:title>
</cp:coreProperties>
</file>