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7B8-6184-4101-8B81-A9F8B966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B72-F417-4A43-8A3C-0316D00E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422-169A-47CF-B808-AFD95BBA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898-B40A-46BA-81BA-AD926626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CE05-EE9F-4BF6-A724-A3139C6E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ACCC-94E8-41B3-B407-FEA373D6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73DC-6582-4AE3-ADD3-F15A3687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2AA7-E445-4E52-A347-1881154A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E866-8161-4869-9618-C1C27704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7379-D24A-47CF-9860-A774A1FB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0B76-4B4D-459A-AAC9-E1247447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A67-972E-4C65-947C-3FB80CD8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976B-BDCD-4314-A01E-F2FC111F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ED07-8EE4-451D-A69F-C8B8EFD7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C1BA-49DD-4888-AB5D-F0D6EE14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F8E2-3A67-485D-A69C-462939E5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AABF-DC39-40AC-8233-B7D1ECB7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437-1F8E-4AE2-B925-6B5169A7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B40-D963-45D7-953A-20809127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BCA-E621-4596-A043-EA74C80C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92E-D121-404F-9377-B80D9463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020-E125-4C9D-8F9B-10AE7BA1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4A3-1855-4357-80AD-9104FE18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152-CA5E-423F-86B7-311F898A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2F95-496E-4EF6-986A-F52C39450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A248-76B4-4BD6-A167-5BB7C50C7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 Repor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ember 4, 2008 TAC Meeting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47960"/>
            <a:ext cx="2286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l Ro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AC Voting Items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approved at ROS November meeting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GRR214 (URGENT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line Changes for QSEs Representing Multiple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6483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RR16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Unit Telemetry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man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DCWG for furth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RR1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enerating Facility Model Validation for Conformance with NERC Field Tes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j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RR203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rming Changes to Address Current NERC Terminology and the Texas Regional Entity (TRE)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 Vo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ithdrawn by ERCOT on November 5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6483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WG (Renewable Technologies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S Liai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ark Garrett (Direct Ener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TF (Wind Operations Task Fo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ossible increase in ancillary services requirements during periods of higher risk (Issue 3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vey to RPW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raining based on best practices (Issue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2009 PPL (Project Priority 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guidance on the priority of System Operations (SO) “2007 shelved projects” and SO 2008 Cart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AR Study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6483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rricane Ik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report for December ROS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PWG (Critical Infrastructure Protection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Charter for December ROS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CIPC member nominations for December ROS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-003 Standards Drafting Team Membe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to ERCOT Waiver to R2 of BAL-001-0 CPS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ard Illian (Energy Mark) added to S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00005401</cp:lastModifiedBy>
  <dcterms:modified xsi:type="dcterms:W3CDTF">2008-11-21T21:37:18Z</dcterms:modified>
  <cp:revision>99</cp:revision>
  <dc:subject/>
  <dc:title>ROS’ Action Plan – Following Up on 2/26 EECP &amp; Wind Workshop Issues</dc:title>
</cp:coreProperties>
</file>