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5942-A13D-4E6F-82A3-826E3D1A7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23A3-DFEA-4510-82F8-83DCD504D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6712-15FB-46F3-9084-52F16D1D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F405B-2AB3-4777-AA9F-DD9E7558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8DC8-10FF-4614-B37C-E04E1826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9E65E-4590-48D4-98AC-4C37FFEC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FE8D-A4B8-4548-A632-9E6A5581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EB888-79EC-4187-9E77-10B834ED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F388-2391-403C-A7CF-D8C9E661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14B7-7005-4F4A-98A2-46055350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553E8-21A6-4C0D-8A5D-6E1A8A68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C7706-E3DE-4417-8B9B-2657FB52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952C-3D2F-4D98-B28E-88924A1E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AB48C-1E1A-4B26-ADBA-263D6F02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8CAD-5E0C-444E-8624-447FBE3C3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81948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3935520" y="6381720"/>
            <a:ext cx="161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8DEB-4FDF-43AC-A7CD-339D5D812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1143000" y="6400800"/>
            <a:ext cx="2550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mickey@erco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62120" y="1981080"/>
            <a:ext cx="7696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RKET/OPERATIONS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Joel Mic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irector, Market Operation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mickey@erco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12-248-3925     (off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12-639-0224     (ce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kt/Ops Support Organiz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3BE3-3A06-4026-93A8-39826DBF37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December 0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299"/>
          <p:cNvSpPr/>
          <p:nvPr/>
        </p:nvSpPr>
        <p:spPr>
          <a:xfrm>
            <a:off x="7562880" y="4064040"/>
            <a:ext cx="0" cy="3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98"/>
          <p:cNvSpPr/>
          <p:nvPr/>
        </p:nvSpPr>
        <p:spPr>
          <a:xfrm>
            <a:off x="4751280" y="4065480"/>
            <a:ext cx="0" cy="3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97"/>
          <p:cNvSpPr/>
          <p:nvPr/>
        </p:nvSpPr>
        <p:spPr>
          <a:xfrm>
            <a:off x="6143760" y="3870360"/>
            <a:ext cx="0" cy="3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95"/>
          <p:cNvSpPr/>
          <p:nvPr/>
        </p:nvSpPr>
        <p:spPr>
          <a:xfrm>
            <a:off x="7718400" y="30448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93"/>
          <p:cNvSpPr/>
          <p:nvPr/>
        </p:nvSpPr>
        <p:spPr>
          <a:xfrm>
            <a:off x="4508640" y="302256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94"/>
          <p:cNvSpPr/>
          <p:nvPr/>
        </p:nvSpPr>
        <p:spPr>
          <a:xfrm>
            <a:off x="6126120" y="3040200"/>
            <a:ext cx="0" cy="26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rganizational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Rectangle 267"/>
          <p:cNvSpPr/>
          <p:nvPr/>
        </p:nvSpPr>
        <p:spPr>
          <a:xfrm>
            <a:off x="7221600" y="2494080"/>
            <a:ext cx="996840" cy="57780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PLANNING &amp;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68"/>
          <p:cNvSpPr/>
          <p:nvPr/>
        </p:nvSpPr>
        <p:spPr>
          <a:xfrm>
            <a:off x="1328760" y="2222640"/>
            <a:ext cx="639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69"/>
          <p:cNvSpPr/>
          <p:nvPr/>
        </p:nvSpPr>
        <p:spPr>
          <a:xfrm>
            <a:off x="4025880" y="20574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62"/>
          <p:cNvSpPr/>
          <p:nvPr/>
        </p:nvSpPr>
        <p:spPr>
          <a:xfrm>
            <a:off x="3328920" y="1360440"/>
            <a:ext cx="1379520" cy="6969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ip Dogget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r. VP &amp; CO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70"/>
          <p:cNvSpPr/>
          <p:nvPr/>
        </p:nvSpPr>
        <p:spPr>
          <a:xfrm>
            <a:off x="1325520" y="22273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63"/>
          <p:cNvSpPr/>
          <p:nvPr/>
        </p:nvSpPr>
        <p:spPr>
          <a:xfrm>
            <a:off x="860400" y="2440080"/>
            <a:ext cx="996840" cy="57780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71"/>
          <p:cNvSpPr/>
          <p:nvPr/>
        </p:nvSpPr>
        <p:spPr>
          <a:xfrm>
            <a:off x="2955960" y="22255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64"/>
          <p:cNvSpPr/>
          <p:nvPr/>
        </p:nvSpPr>
        <p:spPr>
          <a:xfrm>
            <a:off x="2448000" y="2438280"/>
            <a:ext cx="996840" cy="57780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72"/>
          <p:cNvSpPr/>
          <p:nvPr/>
        </p:nvSpPr>
        <p:spPr>
          <a:xfrm>
            <a:off x="4516560" y="22240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65"/>
          <p:cNvSpPr/>
          <p:nvPr/>
        </p:nvSpPr>
        <p:spPr>
          <a:xfrm>
            <a:off x="4025880" y="2451240"/>
            <a:ext cx="996840" cy="57780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73"/>
          <p:cNvSpPr/>
          <p:nvPr/>
        </p:nvSpPr>
        <p:spPr>
          <a:xfrm>
            <a:off x="6140520" y="2222640"/>
            <a:ext cx="0" cy="26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66"/>
          <p:cNvSpPr/>
          <p:nvPr/>
        </p:nvSpPr>
        <p:spPr>
          <a:xfrm>
            <a:off x="5641920" y="2489040"/>
            <a:ext cx="996840" cy="57816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KET/OPS 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74"/>
          <p:cNvSpPr/>
          <p:nvPr/>
        </p:nvSpPr>
        <p:spPr>
          <a:xfrm>
            <a:off x="7719840" y="22273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76"/>
          <p:cNvSpPr/>
          <p:nvPr/>
        </p:nvSpPr>
        <p:spPr>
          <a:xfrm>
            <a:off x="1324080" y="3025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75"/>
          <p:cNvSpPr/>
          <p:nvPr/>
        </p:nvSpPr>
        <p:spPr>
          <a:xfrm>
            <a:off x="655560" y="3295800"/>
            <a:ext cx="1316160" cy="577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ef Compliance Offi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77"/>
          <p:cNvSpPr/>
          <p:nvPr/>
        </p:nvSpPr>
        <p:spPr>
          <a:xfrm>
            <a:off x="708120" y="3505320"/>
            <a:ext cx="99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78"/>
          <p:cNvSpPr/>
          <p:nvPr/>
        </p:nvSpPr>
        <p:spPr>
          <a:xfrm>
            <a:off x="2324160" y="3300480"/>
            <a:ext cx="1231920" cy="577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ty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rector,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79"/>
          <p:cNvSpPr/>
          <p:nvPr/>
        </p:nvSpPr>
        <p:spPr>
          <a:xfrm>
            <a:off x="2452680" y="3522600"/>
            <a:ext cx="99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80"/>
          <p:cNvSpPr/>
          <p:nvPr/>
        </p:nvSpPr>
        <p:spPr>
          <a:xfrm>
            <a:off x="3789360" y="3305160"/>
            <a:ext cx="1465200" cy="577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le Good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rector, Cli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81"/>
          <p:cNvSpPr/>
          <p:nvPr/>
        </p:nvSpPr>
        <p:spPr>
          <a:xfrm>
            <a:off x="4019400" y="3527280"/>
            <a:ext cx="99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82"/>
          <p:cNvSpPr/>
          <p:nvPr/>
        </p:nvSpPr>
        <p:spPr>
          <a:xfrm>
            <a:off x="5394240" y="3309840"/>
            <a:ext cx="1465200" cy="577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el Mick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rector, Market Operations 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83"/>
          <p:cNvSpPr/>
          <p:nvPr/>
        </p:nvSpPr>
        <p:spPr>
          <a:xfrm>
            <a:off x="5599080" y="3519360"/>
            <a:ext cx="99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84"/>
          <p:cNvSpPr/>
          <p:nvPr/>
        </p:nvSpPr>
        <p:spPr>
          <a:xfrm>
            <a:off x="6999120" y="3314880"/>
            <a:ext cx="1465560" cy="577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nt Saatho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P System Planning and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5"/>
          <p:cNvSpPr/>
          <p:nvPr/>
        </p:nvSpPr>
        <p:spPr>
          <a:xfrm>
            <a:off x="7229520" y="3537000"/>
            <a:ext cx="99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86"/>
          <p:cNvSpPr/>
          <p:nvPr/>
        </p:nvSpPr>
        <p:spPr>
          <a:xfrm>
            <a:off x="4157640" y="4270320"/>
            <a:ext cx="1231920" cy="577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Jackie Ashbaug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Integrity and Admini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88"/>
          <p:cNvSpPr/>
          <p:nvPr/>
        </p:nvSpPr>
        <p:spPr>
          <a:xfrm>
            <a:off x="5521320" y="4262400"/>
            <a:ext cx="1231920" cy="577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m Ba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90"/>
          <p:cNvSpPr/>
          <p:nvPr/>
        </p:nvSpPr>
        <p:spPr>
          <a:xfrm>
            <a:off x="6935760" y="4267080"/>
            <a:ext cx="1231920" cy="577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dam Martine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b Pres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92"/>
          <p:cNvSpPr/>
          <p:nvPr/>
        </p:nvSpPr>
        <p:spPr>
          <a:xfrm>
            <a:off x="2954160" y="30304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96"/>
          <p:cNvSpPr/>
          <p:nvPr/>
        </p:nvSpPr>
        <p:spPr>
          <a:xfrm>
            <a:off x="4751280" y="4068720"/>
            <a:ext cx="280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kt/Ops Support Organiz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8078-A08F-40B4-A4B6-16C35E3F73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December 0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partments &amp; Core Func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933480"/>
          <a:ext cx="8229600" cy="5192280"/>
        </p:xfrm>
        <a:graphic>
          <a:graphicData uri="http://schemas.openxmlformats.org/drawingml/2006/table">
            <a:tbl>
              <a:tblPr/>
              <a:tblGrid>
                <a:gridCol w="2743200"/>
                <a:gridCol w="2908440"/>
                <a:gridCol w="2577960"/>
              </a:tblGrid>
              <a:tr h="6087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Integrity and Administ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ackie Ashbaug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m Bau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Pres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dam Martine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83520">
                <a:tc>
                  <a:txBody>
                    <a:bodyPr lIns="0" rIns="0" tIns="0" bIns="0" anchor="t">
                      <a:noAutofit/>
                    </a:bodyPr>
                    <a:p>
                      <a:pPr marL="225360" indent="-1126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1126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S Data Integrity Assu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1126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S Business Intelligence, Extracts, &amp; Repo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1126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IID Consumption Data Loa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1126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S Systems &amp; ISM Data Synchron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1126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lement system health checks &amp; problem identification, work flow exception clearing &amp; reprocessing valid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1126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Process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1126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Lifecycle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1126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Intellig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1126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e in projects and SIRs as nee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1126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support for Market Participants, PUCT and ERCOT sta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1126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transition activities for COMS, EDW, MIS, ILM, B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1126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mt &amp; Admin, including SAS 70 and other aud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5360" indent="-112680">
                        <a:lnSpc>
                          <a:spcPct val="13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112680">
                        <a:lnSpc>
                          <a:spcPct val="13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all Project and SIR Maintenance Testing for the Retail and Wholesale Commercial Systems, and Enterprise Information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112680">
                        <a:lnSpc>
                          <a:spcPct val="13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selected Project and SIR Maintenance Testing for Corporate Operations, IT Infrastructure Operations, and System Ope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112680">
                        <a:lnSpc>
                          <a:spcPct val="13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Liaison to Texas Market Test Plan Team (TTP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112680">
                        <a:lnSpc>
                          <a:spcPct val="13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 Market Participant Testing through Flight Testing Administration: Test and Certify new C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112680">
                        <a:lnSpc>
                          <a:spcPct val="13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Nodal Testing for all Business Systems including system Integ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112680">
                        <a:lnSpc>
                          <a:spcPct val="13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’s “Home Team” for long term Testing support for all Integrated Business Syst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5360" indent="-1126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1126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 strategy and vision for external websi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1126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ownership of external websites and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76360" indent="-1191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.c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76360" indent="-1191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76360" indent="-1191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76360" indent="-1191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hbo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1126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content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76360" indent="-1191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76360" indent="-1191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76360" indent="-1191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1126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s and guidelines for consistent user interface “look and feel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1126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on with market participants regarding ERCOT websites and content deliv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kt/Ops Support Organiz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0E4AA-5866-48A1-B858-88441BD0C97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December 0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r" pos="84009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ata Integrity and Administratio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rategic Focus</a:t>
            </a: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Jackie Ashbaugh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746280"/>
            <a:ext cx="8229600" cy="54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ercial Operations Data Integrity &amp; Synchron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286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rket Participant account &amp; relationship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286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SIID account &amp; relationship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286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sumption data load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286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RCOT &amp; Market Participants (e.g. data extracts, MarkeTrak issues, etc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286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tail transaction data used in data aggregation and settl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ercial Operations Market Data Transpar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286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 repl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286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siness Intellig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286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tracts, reports and web servi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ercial Operations postings on TML,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rcot.com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, M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ject suppo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286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UCT Project 34610 Advanced Metering – Settlements Interim &amp; Long Term Solu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286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formation Lifecycle Management (ILM) - Enterprise strategy and implementation of ILM for source systems, file servers and archiving syste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286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dal project and transition activities for COMS, EDW, ILM, MIS, BP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S – registration, batch processing, integration of retail, zonal and nodal activ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DSML management, as well as, extract, report &amp; data web services specific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IS landing pages &amp; data arrangement &amp; availabi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formation Lifecycle Management across systems and fileserv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siness Process Management  including data management and contr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Lifecycle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Market Participants and market grou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kt/Ops Support Organiz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FC899-146D-4D67-9ACB-D21EC7E0687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December 0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ing Mission Stat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ffectively and efficiently produce accurate and timely information needed to assess the quality of integrated applications as defined by our business customer’s requirements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ilitate Zonal testing for Commercial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ilitate three PUCT-mandated Texas SET Flights to certify new CRs in ERCOT’s Retail Mar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Nodal Testing for all business systems including system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’s “Home Team” for long-term testing support for all integrated business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r" pos="84009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ing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rategic Focus</a:t>
            </a: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Tom Bau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kt/Ops Support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188C2-F69B-4E0E-8BED-3235CCE90C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December 0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al Implementation – support for MIS portal project, Enterprise Data Warehouse, and Current Day Reporting (CDR) reporting projects, PMO commun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ments to public website content management and delive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search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er updates of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d improvements to content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 of high-value services to M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mless experience / consistent look and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hbo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project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Process 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Market Participants and market 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r" pos="84009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eb Pres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rategic Focus</a:t>
            </a: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Adam Martinez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kt/Ops Support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B308D-16F5-4094-958F-1377ABEE13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December 0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3" name="Picture 4" descr="j0434859"/>
          <p:cNvPicPr/>
          <p:nvPr/>
        </p:nvPicPr>
        <p:blipFill>
          <a:blip r:embed="rId1"/>
          <a:stretch/>
        </p:blipFill>
        <p:spPr>
          <a:xfrm>
            <a:off x="3352680" y="228600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kt/Ops Support Organiz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A1E45-D578-45C0-932E-5CDAFB2578A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December 0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J. Mickey</dc:creator>
  <dc:description/>
  <dc:language>en-US</dc:language>
  <cp:lastModifiedBy>Joel Mickey</cp:lastModifiedBy>
  <dcterms:modified xsi:type="dcterms:W3CDTF">2008-11-24T19:10:09Z</dcterms:modified>
  <cp:revision>75</cp:revision>
  <dc:subject>TAC Update</dc:subject>
  <dc:title>Mkt_Ops Support Organization</dc:title>
</cp:coreProperties>
</file>