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C175-33D1-4C96-B1D8-7194825E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D4EE-00CF-496A-9C38-7C45A478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C22-1504-40D1-9A25-D2277E51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D1C-245F-4D17-B75D-475D718B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1ABE-8972-4A63-A0E8-FA1EBE14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1A8E-1749-4FC0-A5FB-7878C955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5482-CF4C-4CFF-BB25-64340E59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0F57-F109-4FF8-B18F-FE045F88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4EA1-EAB6-4ABB-A2A1-0073C09A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C3E3-5C18-429B-BA3F-84B778E0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3B1B-E025-4E20-9C5A-9C6EF00D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BBB0-DC1A-4DAF-AF5C-4B954EF6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2C69-E8B8-411D-8113-E14CBA4B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0C13-25F7-4C05-BE5A-3B3AEC2D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3B4A-696C-4683-AAA7-3A2DA2FF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9A58-255A-4D1D-9FDE-50469CAE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7F96-E635-4321-8AFD-8C914664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02E7-6967-4A95-83E7-A183362D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CD62-8714-4331-8CE2-30CCB44A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022-6C8A-4328-81C2-C2F6F0C3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AB81-2197-40B0-9F50-D26FBE10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FF60-EA0C-44F8-B5F6-BEED711E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DA7-5299-4917-AE70-84FC8E0A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8DA-AF77-40C3-8B2C-310E7BEC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ffffcc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ffffc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High Tower Text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High Tower Tex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igh Tower Tex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High Tower Tex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igh Tower Text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High Tower Tex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0CCD-3732-4221-BB89-1C0AF858842C}" type="slidenum">
              <a:rPr b="0" lang="en-US" sz="1000" spc="-1" strike="noStrike">
                <a:solidFill>
                  <a:srgbClr val="ffffff"/>
                </a:solidFill>
                <a:latin typeface="High Tower Tex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ffffc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High Tower Text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High Tower Tex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igh Tower Tex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High Tower Tex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igh Tower Text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High Tower Tex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A305-B16B-40D3-A01A-21E7B7715DEE}" type="slidenum">
              <a:rPr b="0" lang="en-US" sz="1000" spc="-1" strike="noStrike">
                <a:solidFill>
                  <a:srgbClr val="ffffff"/>
                </a:solidFill>
                <a:latin typeface="High Tower Tex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High Tower Tex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21337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High Tower Text"/>
              </a:rPr>
              <a:t>RMS Update to TAC</a:t>
            </a:r>
            <a:endParaRPr b="1" lang="en-US" sz="5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28954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December 4, 2008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High Tower Text"/>
              </a:rPr>
              <a:t>Voting Items</a:t>
            </a:r>
            <a:endParaRPr b="1" lang="en-US" sz="40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RMGRR065-Disconnect and Reconnect for Non-Pay Updates and Correction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This RMGRR will update the Retail Market Guide to provide corrections and clarification of the current TDSP processes for system and field operations for disconnect and reconnect for non-payment request. 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High Tower Text"/>
              </a:rPr>
              <a:t>Discussion Items</a:t>
            </a:r>
            <a:endParaRPr b="1" lang="en-US" sz="40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RMS endorsed PRR782-</a:t>
            </a: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Clean-up and Corrections to Terminology and Transaction Timings in Protocol Section 15, Customer Registration 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This Protocol Revision Request (PRR) corrects and clarifies the transaction timing descriptions to make them consistent with current processes and Appendix D, Transaction Timing Matrix, in the Retail Market Guide. 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High Tower Text"/>
              </a:rPr>
              <a:t>Working Group Updates</a:t>
            </a:r>
            <a:endParaRPr b="1" lang="en-US" sz="40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TEXAS SET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Presented Acquisition Task Force Long Term and Short Term solutions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Short Term: Allow for acquisitions during a mass transition to occur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Long Term: Add acquisition procedures similar to the mass transition procedures.  This will require a TEXAS SET change to accomplish.  However, this will not be the reason for a TEXAS SET release.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Texas Data Transport Working Group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ERCOT presented more detail on the 10/30 incident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High Tower Text"/>
              </a:rPr>
              <a:t>Task Force Updates</a:t>
            </a: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MarkeTrak Task Force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Completed Final Review of the MarkeTrak User Guide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MarkeTrak migrates to production on December 1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High Tower Text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High Tower Text"/>
              </a:rPr>
              <a:t>Task Force Updates</a:t>
            </a: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MARS Task Force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Completed review of and finalized all 16 use cases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Finalized and Approved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Business Requirements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Assumptions and Definitions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ERCOT LSE File Naming Convention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ERCOT enhanced LSE File and Definitions and Attributes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List of Error/Reject Codes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Data Record Examples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Agreed that ERCOT enhanced LSE Files will have between 10,000 to 50,000 data records per file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5737320"/>
            <a:ext cx="8382240" cy="970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>
                  <a:alpha val="5137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RMS gave a positive review of MARS Accomplishments for 2008.  RMS suggested similar direction for MARS for the remainder of its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High Tower Text"/>
              </a:rPr>
              <a:t>Questions?</a:t>
            </a: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4076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21:28:43Z</dcterms:created>
  <dc:creator>AEP</dc:creator>
  <dc:description/>
  <dc:language>en-US</dc:language>
  <cp:lastModifiedBy>Windows XP ver. 2.2</cp:lastModifiedBy>
  <dcterms:modified xsi:type="dcterms:W3CDTF">2008-12-01T22:58:55Z</dcterms:modified>
  <cp:revision>78</cp:revision>
  <dc:subject/>
  <dc:title>RMS Update to TAC</dc:title>
</cp:coreProperties>
</file>