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9A2D5F-67CE-4975-97D6-5D2A700F5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BD476A-DB74-46D1-B032-329268C51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90FA9B-4220-46D4-A364-818BB8DDE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BC2B45-728D-4EF6-8F96-A8A3E13C1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F3E91F-7E21-4A8A-BAA8-9AFB475C9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BFB874-6D27-4178-8B3D-F134FC18D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771D82-E3DD-494B-9EC7-AF8345DFD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B81930-2F8F-4FBA-A8E5-90FE3C940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927B71-54E4-4D84-902C-CA4268CE4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125E96-A220-447F-B8D2-0559C1F55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3B599D-08ED-4F4D-AC13-C308E8AA3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6618BB-0F45-41A2-8864-A39538E2E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D764F-7F0E-4443-9813-CEC9041A3E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24816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FF3DB-D2DC-4B55-9789-D2D7AE4576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dt" idx="3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1295280" cy="5191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333520" y="1905120"/>
            <a:ext cx="647712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2333160" y="5466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2333520" y="5067360"/>
            <a:ext cx="289584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33520" y="1904760"/>
            <a:ext cx="6019920" cy="123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2009 Project Reforecas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343240" y="3580920"/>
            <a:ext cx="6495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Troy Anderson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ERCOT Program Management Office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December 4, 2008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Agenda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990720"/>
            <a:ext cx="87631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spcBef>
                <a:spcPts val="601"/>
              </a:spcBef>
              <a:buNone/>
              <a:tabLst>
                <a:tab algn="l" pos="0"/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09 Project Reforec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spcBef>
                <a:spcPts val="601"/>
              </a:spcBef>
              <a:buNone/>
              <a:tabLst>
                <a:tab algn="l" pos="0"/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4E9E38-2251-4770-A45A-79B85CEDAB5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2009 Project Reforecast –Schedule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762120"/>
            <a:ext cx="8763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392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5149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09 Project Prioritization Schedule - Overview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01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5149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1 20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5149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9 Initiative Lists drafted, revised and approved for inclusion in ERCOT budget requ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1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5149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ptember 20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5149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RTs revise 2009 Initiative Lists to prepare for market re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1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5149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ctober 20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5149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l review by market subcommitte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5149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roved by COPS and 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1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5149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vember 20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5149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view by TA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November 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5149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le for F&amp;A and Board revie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November 1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5149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itional reviews by ROS, WM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November 13 / November 19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5149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, IO, MO, RO, SO – PR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November 2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160" indent="-22392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–"/>
              <a:tabLst>
                <a:tab algn="l" pos="1143000"/>
                <a:tab algn="l" pos="2514600"/>
                <a:tab algn="l" pos="5149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cc"/>
                </a:solidFill>
                <a:uFillTx/>
                <a:latin typeface="Arial"/>
              </a:rPr>
              <a:t>December 20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5149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view by TA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December 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5149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le for F&amp;A and Board revie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December 9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143000"/>
                <a:tab algn="l" pos="2514600"/>
                <a:tab algn="l" pos="5149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978ADA-5893-4304-A9D3-329BF676066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2009 Project Reforecast – Recent Activity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28600" y="685440"/>
            <a:ext cx="86868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009 Project Approval Status by Program Are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 (Corporate Operation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7 projects able to initiate due to approval of $1.2M “capability” fund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O (IT Operation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changes since Executive Team review on 10/13/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 (Market Operation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ified and approved by COPS on 10/14/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 (Retail Operation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ified and approved by RMS on 10/15/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 (System Operation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review by ROS on 11/13/2008 and WMS on 11/19/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OS agreed with the addition of an SO placeholder of $500k to fund efforts being considered as a result of the Nodal Go-Live del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: PRR675, PRR601, PRR409, SCR720, SCR72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cisions not to be made until new Nodal Go-Live date is announc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OS approved the addition of PRR675, PRR601 and PRR409 to the list of previously approved items that will get a refresh of their Impact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MS asked that an additional PPL line item for PRR776 be add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COT will add the line item upon completion of the Impact Analysis currently in progress and approval by the Boa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S reviewed and approved the combined project lists on 11/20/200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w budget estimate = $12.7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686542-EFBD-4556-8859-15EBF717B00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2009 Project Reforecast – Summary by CAR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41200" y="4724280"/>
          <a:ext cx="8457840" cy="381240"/>
        </p:xfrm>
        <a:graphic>
          <a:graphicData uri="http://schemas.openxmlformats.org/drawingml/2006/table">
            <a:tbl>
              <a:tblPr/>
              <a:tblGrid>
                <a:gridCol w="2075760"/>
                <a:gridCol w="1922040"/>
                <a:gridCol w="2153520"/>
                <a:gridCol w="23065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* CO – Met Cent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20,40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20,40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        0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"/>
          <p:cNvSpPr/>
          <p:nvPr/>
        </p:nvSpPr>
        <p:spPr>
          <a:xfrm>
            <a:off x="228600" y="5410080"/>
            <a:ext cx="5410080" cy="5335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200880" indent="-2008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*    Revised 2009 project budget is $12.7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00880" indent="-2008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**  Met Center project is funded by a separate budget line it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228600" y="1066680"/>
          <a:ext cx="8458200" cy="3202200"/>
        </p:xfrm>
        <a:graphic>
          <a:graphicData uri="http://schemas.openxmlformats.org/drawingml/2006/table">
            <a:tbl>
              <a:tblPr/>
              <a:tblGrid>
                <a:gridCol w="2075040"/>
                <a:gridCol w="1923840"/>
                <a:gridCol w="2152800"/>
                <a:gridCol w="2306520"/>
              </a:tblGrid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itial 2009 Budge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vised Draft 2009 Budge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an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a5"/>
                    </a:solidFill>
                  </a:tcPr>
                </a:tc>
              </a:tr>
              <a:tr h="420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3,55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1,775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($  1,775,000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8,35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5,525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($  2,825,00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4,30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  55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($  3,750,00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3,50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3,45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($     50,00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7,50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1,400,000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($  6,100,00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3f9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27,20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3f9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* $ 12,70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($ 14,500,00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3f9a5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379118-3951-4AF3-B4BF-7EFC097A4AD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/>
  <dc:description/>
  <dc:language>en-US</dc:language>
  <cp:lastModifiedBy>Troy Anderson</cp:lastModifiedBy>
  <dcterms:modified xsi:type="dcterms:W3CDTF">2008-11-25T22:02:19Z</dcterms:modified>
  <cp:revision>298</cp:revision>
  <dc:subject/>
  <dc:title>Instructions</dc:title>
</cp:coreProperties>
</file>