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2F82-751D-4BD4-AAAC-A1FA97B3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0F67-B841-423F-9B31-846E173A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F005-E1F9-40C4-BC5B-B0D0AAF2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C5D0-43BA-483F-A8F1-741E1EC0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0EB3-EC4D-43DD-A98A-3FDEAF28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5862-0722-4737-8613-0A18DE8E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139A-33DF-4A54-9CEF-FB8F7D29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9CC4-2676-4467-BF55-84F9972A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F380-0994-4D30-8095-9C3DDEF6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75EE-4B36-452E-BC04-857C0A70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6E75-68FC-481A-8E59-DBE1CCF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FEAD-B9E2-4DD3-9045-002F01D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8DA4-ADA5-4C6B-8F61-87B07C580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6463-EA8D-4BB0-9E3E-15343ABA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Regional Planning Group Charter and Procedure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2/04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Charter was written in 2003 to define procedures and responsi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 to procedures was made in 2004, but not incorporated into Charte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now has significant practical experience implementing these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hings work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hings 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ssues aren’t currently add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T has made achieving appropriate level of ERCOT review a requirement for transmission projects in CCN and rate case fi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has spent about a year (off and on) preparing, and developing consensus around, this revised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04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oals of Modific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 to conform with current evolution of planning activities, including Five-Year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/modify project “tiers” and review process associated with each ti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economic planning process and criteria approved by TAC in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detailed requirements that are already included elsewhere in Protocols, Operating Guides, PUCT Rules, NERC Standards, generation interconnection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n informative voice, but eliminate sections that are solely for general educational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04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Tiers and Review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8040" y="1066680"/>
            <a:ext cx="792648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04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Regional Plann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dited reviews for projects that are included in Five-Year Pl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r of project can be raised by ERCOT, based on stakeholder comments rece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process for determining which projects identified in generation interconnection studies need RPG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d process for revising projects that have already received ERCOT Endors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04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2/04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RPG Comments</cp:lastModifiedBy>
  <dcterms:modified xsi:type="dcterms:W3CDTF">2008-11-25T20:14:50Z</dcterms:modified>
  <cp:revision>91</cp:revision>
  <dc:subject/>
  <dc:title>Instructions</dc:title>
</cp:coreProperties>
</file>