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8F463-999A-4AA5-81E6-AEC2C260D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92DA8-FC23-450A-B8BD-9536BEB01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52510-86C4-415D-B26A-17111C4F3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BEA6E-6E9C-45D2-841F-626F4A952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38E2E-2306-490B-A5B7-85B5F14A6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61948-A100-4CD8-8B2F-CE84AFA2E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7832B-2B79-415E-9319-C0CB30D23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39C6E-1F06-479E-A6AE-F7B7BDA63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F3966-D091-48D2-904D-84F69DDDD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ACB5F-143F-4049-B9F4-8DA934373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15786-02DC-4585-ADAC-78651A1FD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CD084-C36F-4537-95D4-0A478BBA6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16E7A-0C18-4492-B376-3077B5C4D6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newable Technology Working Group (RTWG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ort to TA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ember 4, 20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nry Durrwach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15634-5F08-4EC7-BAE1-B2F8BA8F5F1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TWG Mee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 on November 21 at ERC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tendanc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20 to 2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S and WMS Representatives Design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S: Mark Garrett (Direct Energ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MS: Jennifer Troutman (AEP Energy Partn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CA8BC-E64F-4863-AF3E-AC3E6D72838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TWG Mee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ussion Item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COT Stability Study RFP (Dan Woodfin – ERCO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anularity of input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me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wer factor issues related to wind farms when acting as a load (i.e., not generating) (Ken Donohoo – Onco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Protection Schemes (SPS) – Issues with triggering and TRE concerns (Ken Donohoo – Onco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 Workshop III (John Dumas – ERCO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-Day Training, Operator focu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ntatively planned for early Mar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9B87A-7BD7-404C-B6C5-9ABEB8B5753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TWG Mee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ed work on Issues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eted review of Market Design, System Planning and Workshop/Training 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 30 issues identified thus f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cial meeting in early January 2009 to complete review of 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924FD-724D-44E3-B110-EC00BEA5369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 of Issues Li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200160" y="1828800"/>
          <a:ext cx="8686800" cy="27846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00160" y="1828800"/>
                    <a:ext cx="8686800" cy="27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EF6CA-31FC-4141-88A6-F652443F640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TWG Work Plan – 1</a:t>
            </a:r>
            <a:r>
              <a:rPr b="0" lang="en-US" sz="40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Qtr. 200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Issues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 “whitepaper” for each new issue to be assigned to either ROS or W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 with ERCOT to develop quarterly report to PUCT (pursuant to Final Order in Docket No. 3367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78DFD-5091-4C83-8AE1-CEE661CAECD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1T20:12:09Z</dcterms:created>
  <dc:creator>Henry Durrwachter</dc:creator>
  <dc:description/>
  <dc:language>en-US</dc:language>
  <cp:lastModifiedBy>Henry Durrwachter</cp:lastModifiedBy>
  <dcterms:modified xsi:type="dcterms:W3CDTF">2008-11-25T17:29:03Z</dcterms:modified>
  <cp:revision>17</cp:revision>
  <dc:subject/>
  <dc:title>Renewable Technology Working Group (RTWG)</dc:title>
</cp:coreProperties>
</file>