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007B1-8DC5-4B67-9FFF-B7029B75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BEF9-CFC2-41E1-9BBE-E6B89827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314FD-E16F-4B82-A1CE-7E866D8F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D0030-E93E-40A1-83B4-B8B1BA93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4A8F-5509-4569-A66D-840ECF1E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1BF9-9BC0-41C2-B5E2-7FE4D07F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CB32-B36F-4B7D-8F9E-E074871A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393D-B25A-49F2-AC6C-9FA2CCA1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D436-ED26-464D-9321-6FAC9B0C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DE0E-E18D-4A3A-B79F-5EDC5555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7F97-67F5-456B-8774-06D9DBD3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ADE7-471A-4F08-A458-7B8CC004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2115-F0AC-4681-B7DE-C1CC2C26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B786-D2D5-40BB-9610-BC53A70B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1340-2DE0-4EFD-91DB-31259ACB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F6AF-EE7D-4AE1-9A06-0D69C7CD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3AD3-5DB5-4EB3-AA80-B98DA9F4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68FF-8D7B-4346-BBE6-F587BCF4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CE52-C6C0-42F4-BD8C-CF24CF01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929F-51B5-4207-BC07-C317767E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435A-0316-4616-86BE-2FD57F0E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DDC3B-E5E6-41FB-959C-3D4E30E3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603BB-E218-406A-A9C9-BABA9580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4AAD-010D-4528-AC41-A4F71A0B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3122-75AB-4FEE-BCD1-D7E7350453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6D78-47AC-4940-B6A2-61C1B88069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C Goals for 2008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ddition to the individual goals of the TAC Subcommittees, TAC identified the following goals for 2008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oversight and policy guidance on Nodal implement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duct a review of the TAC organizational structure and func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form alignment of ERCOT Protocols and procedures with NERC terminolo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pare for compliance with PUC rules on implementation of advanced metering technolo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khobbs 112108</cp:lastModifiedBy>
  <dcterms:modified xsi:type="dcterms:W3CDTF">2008-12-03T16:52:14Z</dcterms:modified>
  <cp:revision>207</cp:revision>
  <dc:subject/>
  <dc:title>Protocol Revision Subcommittee</dc:title>
</cp:coreProperties>
</file>