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674-66C7-41DA-8C32-947B758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F8F-5BF0-41CB-891A-B71801F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5C6-7271-497E-BC51-0D92A3E0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3E9-4738-4D6A-B864-67C3E0BB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A52-138E-4DC2-89F0-E3D1587D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E1B-A44F-4263-BAC7-7FB6EE9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A8E-1A9D-4351-8C6F-CFAB98A6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1EB8-3BC3-4B31-9D66-D775ABCF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8893-5713-40B4-ABB2-34CD02D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A87C-57B9-4831-AE9E-3396A50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6CA-C429-41E4-8500-4AEA2B2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3D3-96A8-45B1-BA67-59FE314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9BC-489D-4A8A-B679-F28376C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F42-73C8-4A22-BBAD-FCB22A0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30C-5411-4818-9E53-591A1CC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5D5-2442-4061-A2C8-FE4A0EB1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62C6-C978-42F6-BD1F-4B222479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954-66D8-44B4-855A-A2EA40F7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4FB-739B-48B6-A67E-BEC6E65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017-C998-4A5B-92BA-C4E3CB4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49E-BF2F-4A10-B276-6FC4CB2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C7F-226F-4839-B0F7-0476C06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BD0-5798-4B4E-B9D0-E068858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816-3577-41F1-8F93-9563372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713-5AAA-402B-8886-EB4D5DA10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71C-7915-477A-B38B-FB052524F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ember 4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from November 11</a:t>
            </a:r>
            <a:r>
              <a:rPr b="0" i="1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2280" y="6094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iscussed problem with initial settlement of EILS payment</a:t>
            </a: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ILS period ending May 3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settled using “Initials” for applying Load Ratio Shares of EILS cos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Staff and COPS suggest changes (new PRR) be crafted to correct this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note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ILS period ending Sept. 3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ll use Final (R4’s) for applying LR Share of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eriod to incorporate Final and True-up statements in determining LRS of EILS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WG/SDAWG to work with ERCOT Staff and submit new PRR to correct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Update from ERCOT regarding recent mismatched sched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noted this is an IT issue and staff is working to determine cause and corrective process to resolve issu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Worked with ERCOT to resolve EILS Settlement Iss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R786, submitted to target ERCOT to use the most recent Load Ratio Share (Final Settlement Version) and so a resettlement using the most current load (True-up Settlement Ver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Normal report on ERCOT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light decline in number of issues, most recently centered around Lodestar Upgrade, though no major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Followed up on the ERCOT stabilization eff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ied projects to watch for in 2009 that address common flaws in the current systems around reports and extracts that need to be maintained until Nodal replacement is impleme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met on 11-18-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wish list of improvements for the “ERCOT.com” website to assist ERCOT in understanding website satisfaction survey indic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draft of new Renewable Energy Credit Section of COPM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to work on other sections of the COPMG in anticipation of Nod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LPGRR032 – Profile Decision Tree Changes for Advanced Meters was recommended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A to be reviewed at next PWG meeting (12/18/0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Working on Draft PRRs for Section 18 Protoc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remove “grey boxes” for unfunded project # PIP106 linked to PRR385 and PRR478 for DL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rify language on procedure if a Hurricane or other natural disaster like IKE causes delay in completion of Annual Validation of Profile Id Assignments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On schedu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Validation pro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nd 2 Load Research data for recalibration of current load profiles (December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2009 PWG goals developed to present to COPS at 12/08/08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AC Assignment –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rket Participant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ispute Re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ggests that MPs need to better understand disput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 ADR process – Survey results most likely the result of ADR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Format of Settlement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s remain unchanged since last survey – COPS unsure as to reason for change from last 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 and suggest MPs will now have to shadow from extracts upon implementation of Nod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ata Extracts and Rep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 &amp; agrees new Extract SLA will improve awareness and understanding of Extract and Report Expec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Website Satisf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WG agrees with ERCOT action plan &amp; has developed a list of improvements for the “ERCOT.com” website to assist ERCOT in understanding website satisfaction survey indicator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ee R. Starr</cp:lastModifiedBy>
  <dcterms:modified xsi:type="dcterms:W3CDTF">2008-11-24T21:47:19Z</dcterms:modified>
  <cp:revision>21</cp:revision>
  <dc:subject/>
  <dc:title>Slide 1</dc:title>
</cp:coreProperties>
</file>