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7EECA2-9604-4152-9941-3C5B3F130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5840" y="698400"/>
            <a:ext cx="4656240" cy="3492720"/>
          </a:xfrm>
          <a:prstGeom prst="rect">
            <a:avLst/>
          </a:prstGeom>
          <a:ln w="0">
            <a:noFill/>
          </a:ln>
        </p:spPr>
      </p:sp>
      <p:sp>
        <p:nvSpPr>
          <p:cNvPr id="13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had nothing to add to the work done by ERCOT on the Market Participant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ifer Troutman to be the WMS representative to the Renewable Technologies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5840" y="698400"/>
            <a:ext cx="4656240" cy="3492720"/>
          </a:xfrm>
          <a:prstGeom prst="rect">
            <a:avLst/>
          </a:prstGeom>
          <a:ln w="0">
            <a:noFill/>
          </a:ln>
        </p:spPr>
      </p:sp>
      <p:sp>
        <p:nvSpPr>
          <p:cNvPr id="13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had nothing to add to the work done by ERCOT on the Market Participant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ifer Troutman to be the WMS representative to the Renewable Technologies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5840" y="698400"/>
            <a:ext cx="4656240" cy="3492720"/>
          </a:xfrm>
          <a:prstGeom prst="rect">
            <a:avLst/>
          </a:prstGeom>
          <a:ln w="0">
            <a:noFill/>
          </a:ln>
        </p:spPr>
      </p:sp>
      <p:sp>
        <p:nvSpPr>
          <p:cNvPr id="13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 Assignment for PRR776: Automatic MCPE Adjustment During Intervals of NSRS Deployment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this includes a repealing of 650, TAC tabled for one month, wanted comments from WMS on this, but reserved right to act whether we provide comments or not.  Gurley lead discussion group to try to gather comments.  If we can get to a position that WMS can vote on and provide direction, fine, if not we have the potential to have a special meeting of WMS to get comment, but we do not control this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provided review of PRR776 Alternatives – discussion group, not a task force.  Came up with four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776 from PR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 this came to TAC, has passed PRS, tabled at TAC, still may act on it.  In our discussion group, this got the lea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 Sub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facilities offering non-spin, they shall offer that capacity into 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Scott Wardle had an proposed amendment t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 Option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nte Pric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ot the m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it is deployed a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 this would replace the current repricing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Wardle added that there would be a floor applied which would be the addition to BES Substitution.  If you accept the Wardle amendment – sets a price floor when traditional non-spin is deployed, MCPE shall be no lower than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IMM proposal was a good start – 3 groups – off line that are 30 min responsive, those that are responsive in BE market, and those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tle – is the Wardle option more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if that option is adopted then the floo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propose changing 3rd bullet to 18 times F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 Substitution above except that when actual 30 minute NSRS is deployed, a floor price for MCPE will be established similar to option 3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an offer floor of 18 times F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 the Jones amendment to the Wardle amendment to the Jones bill (haha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approved at PRS actually assumes a marginal cost for all non-spin bids, other methods allow to extent possible non-spin providers to actually provide bids into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is the impact on MP systems been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som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Walter Reid/Facilities talking at me – missed discussion&gt;&gt;&gt;&gt;&gt;&gt;&gt;&gt;&gt;&gt;&gt;&gt;&g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ham – we were striving to come up with a way of doing something that will in some sense occur in nodal.  You still need something to address the 30 minute resources, purpose of 776 was to find a way to put them in the bidstack, Wardle accomplishes that to some extent.  We are very interested in getting something done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TAC has given WMS opportunity to comment on comments before them.  776 as it was passed by PRS.  Do we know enough to endorse one of thes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elman – believe that Option 4 is improvement on PRR at TAC, would prefer to see this pass over what was taken to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if we love this right here, will be difficult to write PRR language between now and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ham – someone has to do it, that is the difficulty.  One is protocol language for next TAC meeting and second is how long this takes.  This is a more elegant proposal than what we took to TAC, but what do we do in the interim while this is being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ff – you are providing non-spin from an online unit, but getting non-spin from ERCOT so would not be a syste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is there something incongruous about taking this onto 776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ham – you could do 776 change now, it is a cut, and then implement this as quickly as you can, think estimate was 5 months, do think there will be strong interest in interim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tle – implementing 776 and then something else is not appealing, we have reputation for acting too quickly, don’t want staged implementation, would like to reduce the number of changes we make to our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ubert – would like WMS commenting to TAC the changes recommended by IMM earlier, this has many good ideas, but need that piece as well to address shortage or scarcity pricing.  This is good piece, but will leave the market in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this occurs all hours now, not just when non-spin is struck.  Important to note.  This sits in the BE stack at all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time is of the essence in getting a fix here.  Going with 776 as interim and implement this as soon as possible.  Need to take immediat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hley – concern with current 650 to bid in down balancing, if get struck while this is getting hit, will get behind handed to you financially, unless you bid obscenely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minus the offline 30 minutes, most of the non-spin bids are not going to be in overlap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hley – we should consider fixing what ails us all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nonspin is in the bidstack today at 2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ley – strong view here that what we are doing is depr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this proposal offers incentive to increase non-spin participation by Loads.  Huge 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ones – we are encouraged by this proposal, we implemented 650 to avoid depressing BE prices, this has potential to add WM, thereby again depressing prices, this is an elegant approach to fix the pricing, but has to be coupled with scarcity pricing piece to make sense.  We need to have scarcity pricing when we have scarcity conditions.  Just as badly as 650 manage prices, this promises to give normal prices in scarcity conditions.  We think that message should get to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prepared to do that concep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ones – believe Loads already have people crafting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berg – do not agree that this alleviates the problem Kristy mentioned.  Seems that a lot of these nonS interval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gelman – upon examination of the issues around PRR 776 WMS finds that BES Substitution and NSRS Deployment floor methodology proposal is a better alternative than PRR776, in addition WMS recommends that the ERCOT market move forward expeditiously with shortage pricing mechanism similar to that proposed by IMM.  WMS has concerns that are not resolved regarding the implementation of this proposed solution in relation to 776.  If the IA for this alternative estimates a lengthy implementation period, a temporary alternative may be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mith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e are damaging the market by leaving in 6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ones – add another bullet to this that says that scarcity pricing mechanism will addressed as soon as practi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ham – I believe what is proposed here today will take several months, possibility that scarcity pricing would catch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recommend they pass 776 as is, with a 6 month sunset, gives us time to work this 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elman – don’t think this is good path.  Think broad agreement that this is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anything that we could do outside of PRR language to get some sort of minimal system change impact and faster implementation?  Staff input in time for TAC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 expect to try to do IA once something is solid, will do best to have information before TAC for their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tle – will vote for this, uncomfortable, but think better than version approved by PRS.  Also strongly believe that a shortage pricing mech is needed in this market, glad it is in th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tman – think 776 will be put in if this doesn’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elman – don’t think 776 will pass TAC, this says that if TAC likes this, there may be a g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tman – feels like we’re urging them to pass 7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e are urging them to do this while acknowledging that is may take a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ff – and TAC will have IA by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berg – what was rational for including pric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elman – added in at very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dle – the rational was that you would not know how many MW of offline 30 min NS is being depl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tle Gurley Lindberg Greer op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hley Emery Torrent Troutman ab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5840" y="698400"/>
            <a:ext cx="4656240" cy="3492720"/>
          </a:xfrm>
          <a:prstGeom prst="rect">
            <a:avLst/>
          </a:prstGeom>
          <a:ln w="0">
            <a:noFill/>
          </a:ln>
        </p:spPr>
      </p:sp>
      <p:sp>
        <p:nvSpPr>
          <p:cNvPr id="11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M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MWG</a:t>
            </a:r>
            <a:br>
              <a:rPr sz="700"/>
            </a:br>
            <a:r>
              <a:rPr b="0" lang="en-US" sz="700" spc="-1" strike="noStrike">
                <a:solidFill>
                  <a:srgbClr val="000000"/>
                </a:solidFill>
                <a:latin typeface="Arial"/>
              </a:rPr>
              <a:t>VC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st Allocation Task For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PL Replanin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Shadow Price Ca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onsider 776</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Participant Survey</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med a new Task force to work on the IMM recommendation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5840" y="698400"/>
            <a:ext cx="4656240" cy="3492720"/>
          </a:xfrm>
          <a:prstGeom prst="rect">
            <a:avLst/>
          </a:prstGeom>
          <a:ln w="0">
            <a:noFill/>
          </a:ln>
        </p:spPr>
      </p:sp>
      <p:sp>
        <p:nvSpPr>
          <p:cNvPr id="12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oncludes that the most logical design for the long-haul is XML format as being deployed for Nod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plan is to provide the forecast on the TML Report Explor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should issue an XML Schema Definitions (XSD) document for thi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transition period where email is maintained along with XML is request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wind forecast from TRUEWIND is of questionable quality.  This is mostly in ERCOT’s court with business relation being between ERCOT and Truewind. There is discussion still on who is supposed to be providing MET data and how to translate the Nodal performance metrics to the Zonal protocols.  This will be back at WMS in December.   Will probably result in a request to include forecast error in TAC operational report.</a:t>
            </a:r>
            <a:endParaRPr b="0" lang="en-US" sz="11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multiple deployments during a 24 hour period be handl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down time may affect a generator from meeting oblig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Participant will propose PRR langu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SCR proposed by Austin Energy for review.  This is a known issue in SPD.  ERCOT follows a portfolio ramp rate versus unit ramp ra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change would be the right way to address it.  AE to compile data for future meet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5840" y="698400"/>
            <a:ext cx="4656240" cy="3492720"/>
          </a:xfrm>
          <a:prstGeom prst="rect">
            <a:avLst/>
          </a:prstGeom>
          <a:ln w="0">
            <a:noFill/>
          </a:ln>
        </p:spPr>
      </p:sp>
      <p:sp>
        <p:nvSpPr>
          <p:cNvPr id="12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to work with ERCOT to develop refined methodology to propose to CMW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mport and export sides of a constraint be subject to same threshold for passing competitive te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pecific assumptions should be used in mod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at CMWG are revealing conflicts between incentives for early and timely outage scheduling.  WMS has been hounding them for “Low Hanging Fruit” which has been a very tough challenge.  While there is more to do, there is evidenc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on’t reflect whol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conducts limited high level economic outag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egularly coordinates with TOs and asks them to move out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s submitted early can then look like they were requested much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by both ERCOT and TOs to coordinate outages to benefit of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propose metrics for use in 2009 outage sched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ransparency through more consistent posting of the 12 month forward outage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ify existing ERCOT economic evaluation in OG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5840" y="698400"/>
            <a:ext cx="4656240" cy="3492720"/>
          </a:xfrm>
          <a:prstGeom prst="rect">
            <a:avLst/>
          </a:prstGeom>
          <a:ln w="0">
            <a:noFill/>
          </a:ln>
        </p:spPr>
      </p:sp>
      <p:sp>
        <p:nvSpPr>
          <p:cNvPr id="12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recovery due to cancellation of RUC instructions should be treated like the Forced outage of a RUC Unit.</a:t>
            </a:r>
            <a:endParaRPr b="0" lang="en-US" sz="12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will be drafting a NPRR to address cost recovery of RUC Cancel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will be drafting a NPRR that will provide for an adder to Fuel for RUC units so that its more reflective of intraday gas prices procured for RUC un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to allow Resources the option of submitting V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to allow for capture of fuel from breaker close to LSL and Breaker open to shutdow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5840" y="698400"/>
            <a:ext cx="4656240" cy="3492720"/>
          </a:xfrm>
          <a:prstGeom prst="rect">
            <a:avLst/>
          </a:prstGeom>
          <a:ln w="0">
            <a:noFill/>
          </a:ln>
        </p:spPr>
      </p:sp>
      <p:sp>
        <p:nvSpPr>
          <p:cNvPr id="12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quest came out of the new ancillary services and the connection between the need for more Non-Spin and the wind.  There was intrest from several levels to look into more directly assigning this cost to wind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nefit of this would be to more accurately reflect the cost of wind resources and to get more optimal decision making regarding what people put in their portfoli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tougher assignment than it sounded like.  There is an overlap between ancillary services and what causes ERCOT to have to acquire them.  The cost of the new non-spin is very small when compared to other decision drivers and also small when compared to things you don’t get to make decisions on like CREZ transmission cos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resisted scope expansion – but once you slip into direct assignment of ancillaries, everything hits the table and the potential efficiency gain appears very small compared to the cost.  Furthermore, there is not a “right” way to do it – just lots of opin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MS asked the TF to boil a couple days worth of discussion into a slide explaining why it would be wise to stay with the status quo of allocating costs to loa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5840" y="698400"/>
            <a:ext cx="4656240" cy="3492720"/>
          </a:xfrm>
          <a:prstGeom prst="rect">
            <a:avLst/>
          </a:prstGeom>
          <a:ln w="0">
            <a:noFill/>
          </a:ln>
        </p:spPr>
      </p:sp>
      <p:sp>
        <p:nvSpPr>
          <p:cNvPr id="12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you’ve never been able to accomplish much for 500K (hahahaha)  If 601 and 776 should have their own line items, and ROS bucket should remain empty until we review.  Shame to create a contingency fund that is pre-sp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 you’re not looking at what it takes for MPs to do on thei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 SCR720 and SCR728 – we are looking for permission to redo IAs, will not slow down other 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r -  approve with acknowledgement that 776 is in SO 40 line once ap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ith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 - 776 is in the 500K bucket.  Want to show (500K) that there are needs out there and that is the starting poi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5840" y="698400"/>
            <a:ext cx="4656240" cy="3492720"/>
          </a:xfrm>
          <a:prstGeom prst="rect">
            <a:avLst/>
          </a:prstGeom>
          <a:ln w="0">
            <a:noFill/>
          </a:ln>
        </p:spPr>
      </p:sp>
      <p:sp>
        <p:nvSpPr>
          <p:cNvPr id="13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as a little more lively discussion that was anticipated because of dramatic mischaracterization by the Senate Commerce and Buisness Cmty of a vote cast by WMS on a subject with a similar nam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NOT a policy call.  This SCR represents the capability to enter a curve which will enable future policy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would like to have this 6 months before Go-Live so its impacts can be seen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get this into the works quicker, WMS also asked ERCOT to send the IA directly to TAC and not w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staff is asking that TAC vote this issue ou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5840" y="698400"/>
            <a:ext cx="4656240" cy="3492720"/>
          </a:xfrm>
          <a:prstGeom prst="rect">
            <a:avLst/>
          </a:prstGeom>
          <a:ln w="0">
            <a:noFill/>
          </a:ln>
        </p:spPr>
      </p:sp>
      <p:sp>
        <p:nvSpPr>
          <p:cNvPr id="13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Jones reviewed 2007 ERCOT SOM Report Recommendations which included a short list of projects that he thought should probably be added to our existing zonal design.  WMS has created yet another TF to compile the recommendations made in Dan’s report into a table that they will report progress on every month at WMS.  Some of the topics are not new and the first work of the TF is simply to pull together existing stuf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AACE-2299-4E11-9068-789B0959A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52263-9EB9-4DD6-89D3-E83A9EBB2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04572-1C86-49DF-AFB3-711626B6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4B74-C4EF-4A3A-B45C-3EE406C3E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3DE0A-5899-4263-9E34-3535660D8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42A26-2731-4504-9BAC-32B71420B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F0F6A-81C4-470E-A0F3-2CBD80B82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76F34-63D0-4A1F-85A5-32E9D7886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D86F1-BE5B-4840-9450-048737A9D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D351A-BCB6-4C89-875D-980202D9D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9F8B-55AA-4442-B166-21957605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26B54-2CB2-4F4A-B041-5E29C307B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E2399-26A1-4AD3-84FA-8ABDBA82C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AF60F-A7DF-4B0D-9EC1-BC952CAA9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3250C-4832-40C4-9800-58D3D5696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4AEF1-A6F4-4892-9EB0-4F7F5B20B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4EE01-F3B8-4462-A866-DBF55766C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0660C-CD9F-4E31-8AEC-3E00119A0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91174-DF41-40F3-8E13-FD7765523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01EA2-971C-4B31-AF0F-E999E6DA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70689-B938-4264-9A21-1E27A175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BDA5-A193-49B4-A48C-6873007F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C191-65F7-45F6-B05A-60488A024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8E66-EED3-4A5D-809E-D09D5A39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F361-127E-4111-BD06-76953C96BB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C588-EAA0-47D1-9856-2103EECC67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cember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ADAA64D7-4859-4A3C-8694-0B7437A65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 State of the Market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C Assignment on Market Participant Surve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representative to the RTW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nsider PRR77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3A7CCFE-CB79-481F-9752-F714B79CE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 State of the Market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 on Market Participant Surve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representative to the RTW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nsider PRR776</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DBEBDA3-3E00-40E5-A33D-485B38760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 State of the Market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 on Market Participant Surve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representative to the RTW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consider PRR776</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FEF1C44-60E8-4546-B9F9-C305F35F8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ffff"/>
                </a:solidFill>
                <a:uFillTx/>
                <a:latin typeface="Tahoma"/>
              </a:rPr>
              <a:t>BES Substitution &amp; NSRS Deployment Floor</a:t>
            </a:r>
            <a:endParaRPr b="0" lang="en-US" sz="2800" spc="-1" strike="noStrike">
              <a:solidFill>
                <a:srgbClr val="e5ffff"/>
              </a:solidFill>
              <a:latin typeface="Tahoma"/>
            </a:endParaRPr>
          </a:p>
        </p:txBody>
      </p:sp>
      <p:sp>
        <p:nvSpPr>
          <p:cNvPr id="114"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dify NSRS deployment procedures such that NSRS scheduled from units that are (1) online; or (2) offline and qualified to provide UBES have an obligation to offer such NSRS capacity in the UBES market.</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ffline resources providing NSRS that are not qualified to provide UBES will continue to be deployed via instruction from ERCOT.</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offer floor of $FIP * 18 will be applied to the quantity of NSRS obligation from online resources that is offered as UBES in each zone. </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R 650 would be repealed and no further price corrections would be applied. </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S Substitution above except that when actual 30 minute NSRS is deployed,</a:t>
            </a:r>
            <a:r>
              <a:rPr b="0" lang="en-US" sz="2400" spc="-1" strike="noStrike">
                <a:solidFill>
                  <a:srgbClr val="ffffff"/>
                </a:solidFill>
                <a:latin typeface="Tahoma"/>
              </a:rPr>
              <a:t> </a:t>
            </a:r>
            <a:r>
              <a:rPr b="1" lang="en-US" sz="2400" spc="-1" strike="noStrike">
                <a:solidFill>
                  <a:srgbClr val="ffffff"/>
                </a:solidFill>
                <a:latin typeface="Tahoma"/>
              </a:rPr>
              <a:t>a floor price for MCPE will be established equal to 120 + 15 * FI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9DA4C74-3DA4-44F6-9E99-4F41DAFBD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609480"/>
            <a:ext cx="822960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pon examination of the issues around PRR 776 WMS finds that the BES Substitution &amp; NSRS Deployment Floor Methodology proposal is a better alternative than PRR776 and endorses i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addition WMS recommends that the ERCOT market move forward expeditiously with shortage pricing mechanism similar to that proposed by Independent Market Monitor (IM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MS has concerns that are not resolved regarding the timely implementation of this proposed solution in relation to PRR776.    If the Impact Analysis for this alternative estimates a lengthy implementation period, a temporary alternative may be needed.</a:t>
            </a: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04430EE-7C0B-423C-8CBB-8750C43964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62BBB1D-C3F5-46DD-85B7-6F2A3B496B0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C Assign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port from the IM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43E3F09-FEDA-4B84-87BA-9850D8A29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GRPP Forecast process improvements</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GRPP Forecast accuracy</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Non-spin deployments from off line units</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amp rate constraints of a QSE when ERCOT ends an OOME instruction</a:t>
            </a:r>
            <a:endParaRPr b="0" lang="en-US" sz="30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68870D2A-8B5E-415F-889E-39991D6CF4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 for Nod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ical Outages Known vs. in TCR Mode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Evaluation Improvement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53CC171-63C9-4392-B42A-9C44754D0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VC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t Recovery due to cancellation of RU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uel Costs in RU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o submits (QSE vs. Resourc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ral Corrections to VC</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1D9E512-88A6-4C30-A15E-F37948E8E6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r>
              <a:rPr b="1" lang="en-US" sz="4000" spc="-1" strike="noStrike">
                <a:solidFill>
                  <a:srgbClr val="e5ffff"/>
                </a:solidFill>
                <a:latin typeface="Tahoma"/>
              </a:rPr>
              <a:t>	</a:t>
            </a:r>
            <a:br>
              <a:rPr sz="4000"/>
            </a:br>
            <a:r>
              <a:rPr b="1" lang="en-US" sz="4000" spc="-1" strike="noStrike">
                <a:solidFill>
                  <a:srgbClr val="e5ffff"/>
                </a:solidFill>
                <a:latin typeface="Tahoma"/>
              </a:rPr>
              <a:t>Cost Allocation</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C request to look into Ancillary Service Cost Allocation with a report back in January 200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ope control issu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egance of current solu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2C05373-8F01-4C6F-A62A-1AECDC108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PL Plan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751, Nodal Shadow Price Cap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87AA384-30BA-4BD9-AC7D-5A17E097A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PL Plan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R751, Nodal Shadow Price Ca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7CD24A6-108B-4C6A-90F2-329AB4889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M State of the Market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 on Market Participant Surve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representative to the RTW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nsider PRR77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35EA8CF-CEC8-4A58-8B0A-C799A8E3A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12-03T20:12:13Z</dcterms:modified>
  <cp:revision>124</cp:revision>
  <dc:subject/>
  <dc:title>WMS Report TO TAC</dc:title>
</cp:coreProperties>
</file>