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C2AD-D950-4724-9FEC-AFF557D6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C96C-F54C-4815-AFF9-318F663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129A-DA1D-40B3-AE3E-5D0418C3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6B20-51EC-4B45-A0FD-8437786B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2322-F9B4-474D-87F8-474CE733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EF59-61B0-472E-AEB1-BE12BAFA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95C-D126-437C-A555-5D5376A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AADD-C557-4F49-BD47-C9CE69B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F4F3-134B-47B1-87E6-2350E22A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D993-579C-4AE9-BE94-CBBD700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00AD-F4C2-47BC-ADF0-68AD97D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30D6-8D7F-454E-9A14-1A3E7FA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667-8361-4BFE-9725-64E8056B9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4326-1D9F-4D39-856E-9A10305A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vember 20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Re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127E-75F3-4F8A-BA44-9053285EE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Initiative Lists drafted, revised and approved for inclusion in ERCOT budge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 to prepare for marke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COPS and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reviews by 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3 / November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ember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ember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44D4-13D4-4527-8FB8-5BC38DD6C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Recent Activ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 Project Approval Status by Program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(Corporate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projects able to initiate due to approval of $1.2M “capability”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(IT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hanges since Executive Team review on 10/13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(Market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and approved by COPS on 10/14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(Retail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and approved by RMS on 10/15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(System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review by ROS on 11/13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agreed with the addition of an SO placeholder of $500k to fund efforts being considered as a result of the Nodal Go-Live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PRR776, PRR675, PRR601, PRR4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not to be made until new Nodal Go-Live date is annou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approved the addition of PRR675, PRR601 and PRR409 to the list of previously approved items that will get a refresh of their Impact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PPL line item for PRR776 discu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prefers to see the results of the Impact Analysis currently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review by WMS on 11/19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budget estimate = $12.7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A40B-9155-40B2-9516-137D3DC57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project budget is $12.7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1,775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 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1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5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F37A-92AF-4226-964A-DE528D08F4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0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ETL Too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Center Fac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0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SAS70 Procedures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2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 Security Project #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7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 Microwave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REC Program 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igital Certificat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8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Infrastructure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age Infrastructure Rede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1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ylor Control Room Display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564A-6808-4BB0-BFB4-033A03EEC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8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90xi System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Tele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roduction SA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ne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COT.com Register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3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llabs DCCS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22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itional SAN Capacity for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08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rms and Conditions &amp;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2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yberSecurity Project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4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porate Application Environment True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1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uby Standard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ecru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148B-94B7-4C85-86E1-18340427C2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9880"/>
            <a:ext cx="830556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Data Mode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3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net Assessment HR &amp;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de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40066_0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4.7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070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Testing Automation and Electronic Submittal – Phas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23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wall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9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Access Control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015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on Procurement Proces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20_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on 9x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08E2-FB6C-45AD-808D-37C18DE75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11-17T02:28:38Z</dcterms:modified>
  <cp:revision>296</cp:revision>
  <dc:subject/>
  <dc:title>Instructions</dc:title>
</cp:coreProperties>
</file>