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B64491B-66AA-4EA3-8A7B-09820AEA27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3704F59-DB25-4A26-97AF-2D658BE45B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D830940-2BFC-42A0-A39E-26759CAC9E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45C8299-5D41-41CE-B82B-5054A715BF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4F6F352-80FA-45EA-A668-6AAC442C53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19BA2E2-0BE4-407F-A8E1-DBFE141D55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108F45D-A50D-4B00-BA12-4A862480E1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F75B98E-C58A-4CCA-A33B-6EA66B5E1C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851BF23-459A-4AC2-9DC6-F69CF358D1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87277CA-E7B2-4D60-999C-171F4F86AE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DF5771B-D7AE-4637-AC9C-F3DF3144D6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CE8C879-1C8E-4273-AE8F-8C2EA56B5C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E007E36-C81C-438E-B05E-80248F3353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75E8166-4CBD-4A30-94C7-488999F606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69DC53E-C321-412C-B6AB-FF644A6485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AADF31C-6799-4485-9355-E3F5B64E75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372B571-49D1-41C2-8CE6-E1C6E45B600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rcot.com/calendar/2008/10/20081027-TPT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ercot.com/calendar/2008/10/20081027-TPT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rcot.com/committees/board/tac/tptf/"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hyperlink" Target="http://www.ercot.com/calendar/2008/10/20081027-TPTF"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nodal.ercot.com/protocols/nprr/151-175/156/index.html" TargetMode="External"/><Relationship Id="rId2" Type="http://schemas.openxmlformats.org/officeDocument/2006/relationships/hyperlink" Target="http://nodal.ercot.com/protocols/nprr/126-150/145/index.html" TargetMode="External"/><Relationship Id="rId3" Type="http://schemas.openxmlformats.org/officeDocument/2006/relationships/hyperlink" Target="http://nodal.ercot.com/protocols/nprr/151-175/158/index.html" TargetMode="External"/><Relationship Id="rId4" Type="http://schemas.openxmlformats.org/officeDocument/2006/relationships/hyperlink" Target="http://nodal.ercot.com/protocols/nprr/151-175/159/index.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rcot.com/mktrules/issues/scr/750-774/750/index" TargetMode="External"/><Relationship Id="rId2" Type="http://schemas.openxmlformats.org/officeDocument/2006/relationships/hyperlink" Target="http://nodal.ercot.com/protocols/nprr/151-175/155/index.html" TargetMode="External"/><Relationship Id="rId3" Type="http://schemas.openxmlformats.org/officeDocument/2006/relationships/hyperlink" Target="http://www.ercot.com/mktrules/issues/prr/775-799/778/index" TargetMode="External"/><Relationship Id="rId4" Type="http://schemas.openxmlformats.org/officeDocument/2006/relationships/hyperlink" Target="http://nodal.ercot.com/protocols/nprr/151-175/151/index.html"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rcot.com/mktrules/issues/prr/725-749/743/index" TargetMode="External"/><Relationship Id="rId2" Type="http://schemas.openxmlformats.org/officeDocument/2006/relationships/hyperlink" Target="http://www.ercot.com/mktrules/issues/prr/675-699/697/index"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nodal.ercot.com/protocols/nprr/151-175/151/index.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FC1628A-2523-48C9-BBA1-04CE4F6889D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68580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9a2"/>
                </a:solidFill>
                <a:latin typeface="Arial Black"/>
              </a:rPr>
              <a:t>TPTF Update f</a:t>
            </a:r>
            <a:r>
              <a:rPr b="0" lang="en-GB" sz="2400" spc="-1" strike="noStrike">
                <a:solidFill>
                  <a:srgbClr val="5469a2"/>
                </a:solidFill>
                <a:latin typeface="Arial Black"/>
              </a:rPr>
              <a:t>or ROS</a:t>
            </a:r>
            <a:r>
              <a:rPr b="0" lang="en-GB" sz="3600" spc="-1" strike="noStrike">
                <a:solidFill>
                  <a:srgbClr val="5469a2"/>
                </a:solidFill>
                <a:latin typeface="Arial Black"/>
              </a:rPr>
              <a:t> </a:t>
            </a:r>
            <a:br>
              <a:rPr sz="2000"/>
            </a:br>
            <a:r>
              <a:rPr b="0" i="1" lang="en-GB" sz="2000" spc="-1" strike="noStrike">
                <a:solidFill>
                  <a:srgbClr val="5469a2"/>
                </a:solidFill>
                <a:latin typeface="Arial Black"/>
              </a:rPr>
              <a:t>November 13, 2008</a:t>
            </a:r>
            <a:br>
              <a:rPr sz="2000"/>
            </a:br>
            <a:br>
              <a:rPr sz="2800"/>
            </a:br>
            <a:r>
              <a:rPr b="0" lang="en-GB" sz="1600" spc="-1" strike="noStrike">
                <a:solidFill>
                  <a:srgbClr val="5469a2"/>
                </a:solidFill>
                <a:latin typeface="Arial"/>
              </a:rPr>
              <a:t>Stacy Bridges</a:t>
            </a:r>
            <a:br>
              <a:rPr sz="1600"/>
            </a:br>
            <a:r>
              <a:rPr b="0" lang="en-GB" sz="1600" spc="-1" strike="noStrike">
                <a:solidFill>
                  <a:srgbClr val="5469a2"/>
                </a:solidFill>
                <a:latin typeface="Arial"/>
              </a:rPr>
              <a:t>sbridges@ercot.com</a:t>
            </a:r>
            <a:endParaRPr b="0" lang="en-US" sz="1600" spc="-1" strike="noStrike">
              <a:solidFill>
                <a:srgbClr val="ffffff"/>
              </a:solidFill>
              <a:latin typeface="Arial Black"/>
            </a:endParaRPr>
          </a:p>
        </p:txBody>
      </p:sp>
      <p:pic>
        <p:nvPicPr>
          <p:cNvPr id="55" name="Picture 5" descr="logo"/>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13 – 14, 2008</a:t>
            </a:r>
            <a:endParaRPr b="0" lang="en-US" sz="1800" spc="-1" strike="noStrike">
              <a:solidFill>
                <a:srgbClr val="000000"/>
              </a:solidFill>
              <a:latin typeface="Arial"/>
            </a:endParaRPr>
          </a:p>
        </p:txBody>
      </p:sp>
      <p:graphicFrame>
        <p:nvGraphicFramePr>
          <p:cNvPr id="87" name=""/>
          <p:cNvGraphicFramePr/>
          <p:nvPr/>
        </p:nvGraphicFramePr>
        <p:xfrm>
          <a:off x="304920" y="990720"/>
          <a:ext cx="8610480" cy="2324160"/>
        </p:xfrm>
        <a:graphic>
          <a:graphicData uri="http://schemas.openxmlformats.org/drawingml/2006/table">
            <a:tbl>
              <a:tblPr/>
              <a:tblGrid>
                <a:gridCol w="2514600"/>
                <a:gridCol w="2666880"/>
                <a:gridCol w="685800"/>
                <a:gridCol w="762120"/>
                <a:gridCol w="1981080"/>
              </a:tblGrid>
              <a:tr h="289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4, 2008, TPTF endorsed the System Implementation Group (SIG) paper SIG0002 Private Use Networks v0.27.</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CRA</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48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 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 Westar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7DB7DCB-7B00-4460-8CFF-61D6E382F3C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13-14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27 – 28, 2008</a:t>
            </a:r>
            <a:endParaRPr b="0" lang="en-US" sz="1800" spc="-1" strike="noStrike">
              <a:solidFill>
                <a:srgbClr val="000000"/>
              </a:solidFill>
              <a:latin typeface="Arial"/>
            </a:endParaRPr>
          </a:p>
        </p:txBody>
      </p:sp>
      <p:graphicFrame>
        <p:nvGraphicFramePr>
          <p:cNvPr id="91"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27, 2008, TPTF endorsed draft SCR, Allow QSEs to Enter Outages for all Assets, to be submitted on behalf of TPTF and requested that the feasibility study will be conducted within 60 days.</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D1FFD41-091C-4A23-AF58-AD94DA9123A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3" name=""/>
          <p:cNvGraphicFramePr/>
          <p:nvPr/>
        </p:nvGraphicFramePr>
        <p:xfrm>
          <a:off x="304920" y="35053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27, 2008, TPTF endorsed the COMS Nodal Verifiable Cost Implementation Plan v.18 as submitted to TPTF.</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27- 2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27 – 28, 2008</a:t>
            </a:r>
            <a:endParaRPr b="0" lang="en-US" sz="1800" spc="-1" strike="noStrike">
              <a:solidFill>
                <a:srgbClr val="000000"/>
              </a:solidFill>
              <a:latin typeface="Arial"/>
            </a:endParaRPr>
          </a:p>
        </p:txBody>
      </p:sp>
      <p:graphicFrame>
        <p:nvGraphicFramePr>
          <p:cNvPr id="96" name=""/>
          <p:cNvGraphicFramePr/>
          <p:nvPr/>
        </p:nvGraphicFramePr>
        <p:xfrm>
          <a:off x="304920" y="990720"/>
          <a:ext cx="8610480" cy="23191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28, 2008, TPTF approved the Texas Nodal Process Timeline v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1497FB6-C419-49DB-A684-09B53C78801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8"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27- 2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92ADB25-2A92-4D56-B16F-9AC0AAFB7A3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01" name="Text Box 6"/>
          <p:cNvSpPr/>
          <p:nvPr/>
        </p:nvSpPr>
        <p:spPr>
          <a:xfrm>
            <a:off x="380880" y="792000"/>
            <a:ext cx="8610840" cy="866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Meeting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0 – 11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5 – 16 </a:t>
            </a:r>
            <a:endParaRPr b="0" lang="en-US" sz="1600" spc="-1" strike="noStrike">
              <a:solidFill>
                <a:srgbClr val="000000"/>
              </a:solidFill>
              <a:latin typeface="Arial"/>
            </a:endParaRPr>
          </a:p>
        </p:txBody>
      </p:sp>
      <p:sp>
        <p:nvSpPr>
          <p:cNvPr id="10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Rectangle 8"/>
          <p:cNvSpPr/>
          <p:nvPr/>
        </p:nvSpPr>
        <p:spPr>
          <a:xfrm>
            <a:off x="683280" y="2057400"/>
            <a:ext cx="332028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a:t>
            </a:r>
            <a:r>
              <a:rPr b="0" lang="en-US" sz="1600" spc="-1" strike="noStrike" u="sng">
                <a:solidFill>
                  <a:srgbClr val="009999"/>
                </a:solidFill>
                <a:uFillTx/>
                <a:latin typeface="Arial"/>
                <a:hlinkClick r:id="rId1"/>
              </a:rPr>
              <a:t>2008 TPTF Calendar</a:t>
            </a:r>
            <a:endParaRPr b="0" lang="en-US" sz="1600" spc="-1" strike="noStrike">
              <a:solidFill>
                <a:srgbClr val="000000"/>
              </a:solidFill>
              <a:latin typeface="Arial"/>
            </a:endParaRPr>
          </a:p>
        </p:txBody>
      </p:sp>
      <p:sp>
        <p:nvSpPr>
          <p:cNvPr id="105"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08E513E-B6E6-4CC8-B69A-18E46C56384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08" name="Text Box 6"/>
          <p:cNvSpPr/>
          <p:nvPr/>
        </p:nvSpPr>
        <p:spPr>
          <a:xfrm>
            <a:off x="380880" y="765000"/>
            <a:ext cx="8763120" cy="486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November 10 – 11 TPTF meeting, likely topics include:</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Status Update</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Organizational Chart</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60, Elimination of the Non-ERCOT LSE Fee</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comments from the TPTF Review (Oct 22 – Nov 5)</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61, Clarification of Establishing Decision-Making Authority of Managed Capacity</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comments from the TPTF Review (Oct 22 – Nov 5)</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RWG Issues:</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M Re-submittal of AS Offers by Resources submitting linked AS and 3 part offers in the DAM</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C commitment issues for Resources and potential RUC Process solutions</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1, Clarify Definition of a Generator Output Breaker in the Outage Scheduler</a:t>
            </a:r>
            <a:endParaRPr b="0" lang="en-US" sz="1600" spc="-1" strike="noStrike">
              <a:solidFill>
                <a:srgbClr val="000000"/>
              </a:solidFill>
              <a:latin typeface="Arial"/>
            </a:endParaRPr>
          </a:p>
        </p:txBody>
      </p:sp>
      <p:sp>
        <p:nvSpPr>
          <p:cNvPr id="109"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8C805EC-ED7F-4429-B92B-2D91B32C06B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14"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8B74087-EAD4-409D-BFEC-5C90836D2C7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8" name="Text Box 6"/>
          <p:cNvSpPr/>
          <p:nvPr/>
        </p:nvSpPr>
        <p:spPr>
          <a:xfrm>
            <a:off x="380880" y="893880"/>
            <a:ext cx="8077320" cy="94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PTF met twice in October 2008:</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October 13 – 14, 2008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October 27 – 28,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3481E1C-C7A5-4AE4-9366-5FDB4A5E748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13 – 14, 2008:   </a:t>
            </a:r>
            <a:endParaRPr b="0" lang="en-US" sz="1800" spc="-1" strike="noStrike">
              <a:solidFill>
                <a:srgbClr val="000000"/>
              </a:solidFill>
              <a:latin typeface="Arial"/>
            </a:endParaRPr>
          </a:p>
        </p:txBody>
      </p:sp>
      <p:sp>
        <p:nvSpPr>
          <p:cNvPr id="61" name="Text Box 6"/>
          <p:cNvSpPr/>
          <p:nvPr/>
        </p:nvSpPr>
        <p:spPr>
          <a:xfrm>
            <a:off x="380880" y="914400"/>
            <a:ext cx="8534520" cy="6144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13,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ntrols Updat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56</a:t>
            </a:r>
            <a:r>
              <a:rPr b="0" lang="en-US" sz="1600" spc="-1" strike="noStrike">
                <a:solidFill>
                  <a:srgbClr val="000000"/>
                </a:solidFill>
                <a:latin typeface="Arial"/>
              </a:rPr>
              <a:t>, Transparency for PSS and Full Interconnection Studie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for NPRR156 to be submitted to PRS and recognized the essentiality status of NPRR156 to be “Nodal Approved Post Go-L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5</a:t>
            </a:r>
            <a:r>
              <a:rPr b="0" lang="en-US" sz="1600" spc="-1" strike="noStrike">
                <a:solidFill>
                  <a:srgbClr val="000000"/>
                </a:solidFill>
                <a:latin typeface="Arial"/>
              </a:rPr>
              <a:t>, PPAs as Resource-Specific Verifiable Costs Docu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the essentiality status of NPRR145 for nodal go-live and determined it to be “Needed for Go-L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on revised specifications for MIS Dashboard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58</a:t>
            </a:r>
            <a:r>
              <a:rPr b="0" lang="en-US" sz="1600" spc="-1" strike="noStrike">
                <a:solidFill>
                  <a:srgbClr val="000000"/>
                </a:solidFill>
                <a:latin typeface="Arial"/>
              </a:rPr>
              <a:t>, EILS Self-Provision Formula Correction and Clarification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ussion of NPRR158 was deferred to a future TPTF meeting</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NPRR159</a:t>
            </a:r>
            <a:r>
              <a:rPr b="0" lang="en-US" sz="1600" spc="-1" strike="noStrike">
                <a:solidFill>
                  <a:srgbClr val="000000"/>
                </a:solidFill>
                <a:latin typeface="Arial"/>
              </a:rPr>
              <a:t>, Resource Category Startup Offer Generic Cap for Wind Resource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for NPRR159 to be submitted to PRS and recognized the essentiality status of NPRR156 to be “Needed for Go-L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RCOT Process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rom the Aug 14-28 TPTF Review of the DAM Desk Operating Procedure Manual and Wholesale Market and DAM Process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A31000F-77E9-4360-A8EA-1F9B5389BB9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13 – 14, 2008:   </a:t>
            </a:r>
            <a:endParaRPr b="0" lang="en-US" sz="1800" spc="-1" strike="noStrike">
              <a:solidFill>
                <a:srgbClr val="000000"/>
              </a:solidFill>
              <a:latin typeface="Arial"/>
            </a:endParaRPr>
          </a:p>
        </p:txBody>
      </p:sp>
      <p:sp>
        <p:nvSpPr>
          <p:cNvPr id="64" name="Text Box 6"/>
          <p:cNvSpPr/>
          <p:nvPr/>
        </p:nvSpPr>
        <p:spPr>
          <a:xfrm>
            <a:off x="380880" y="914400"/>
            <a:ext cx="8534520" cy="5349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14,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Process Updat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SCR750</a:t>
            </a:r>
            <a:r>
              <a:rPr b="0" lang="en-US" sz="1600" spc="-1" strike="noStrike">
                <a:solidFill>
                  <a:srgbClr val="000000"/>
                </a:solidFill>
                <a:latin typeface="Arial"/>
              </a:rPr>
              <a:t>, Upgrade ERCOT’s Systems so Users Can Upgrade to Internet Explorer 7.0 and Beyon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SCR750 and recommended revisiting the SCR to consider any nodal-specific implications following the Oct. 23 PRS discussion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Implementation Group (SIG)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updates to the SIG0002 Private Use Network (PUN) paper v0.27 to incorporate the TPTF-endorsed approach for Ramp Rate submissions, which recommends submitting the net Ramp Rates for PUNs as a function of gross MW output and the Ramp Rates for all other units as a function of net MW output</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55</a:t>
            </a:r>
            <a:r>
              <a:rPr b="0" lang="en-US" sz="1600" spc="-1" strike="noStrike">
                <a:solidFill>
                  <a:srgbClr val="000000"/>
                </a:solidFill>
                <a:latin typeface="Arial"/>
              </a:rPr>
              <a:t>, Clarification of Authorized Representativ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its discussion of NPRR155 to follow ERCOT Board action on the companion </a:t>
            </a:r>
            <a:r>
              <a:rPr b="0" lang="en-US" sz="1600" spc="-1" strike="noStrike" u="sng">
                <a:solidFill>
                  <a:srgbClr val="009999"/>
                </a:solidFill>
                <a:uFillTx/>
                <a:latin typeface="Arial"/>
                <a:hlinkClick r:id="rId3"/>
              </a:rPr>
              <a:t>PRR778</a:t>
            </a:r>
            <a:r>
              <a:rPr b="0" lang="en-US" sz="1600" spc="-1" strike="noStrike">
                <a:solidFill>
                  <a:srgbClr val="000000"/>
                </a:solidFill>
                <a:latin typeface="Arial"/>
              </a:rPr>
              <a:t>, Clarification of Authorized Representat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NPRR151</a:t>
            </a:r>
            <a:r>
              <a:rPr b="0" lang="en-US" sz="1600" spc="-1" strike="noStrike">
                <a:solidFill>
                  <a:srgbClr val="000000"/>
                </a:solidFill>
                <a:latin typeface="Arial"/>
              </a:rPr>
              <a:t>, Clarify Definition of a Generator Output Breaker in the Outage Scheduler: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Sept. 24, PRS referred NPRR151 to TPTF to review market com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ct 14, TPTF referred NPRR151 to the Quick Response Work Group (QRWG) and will resume its discussion following the QRWG repor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recent updates to the EIP External Interfaces Specification v1.16 </a:t>
            </a:r>
            <a:endParaRPr b="0" lang="en-US" sz="1600" spc="-1" strike="noStrike">
              <a:solidFill>
                <a:srgbClr val="000000"/>
              </a:solidFill>
              <a:latin typeface="Arial"/>
            </a:endParaRPr>
          </a:p>
        </p:txBody>
      </p:sp>
      <p:sp>
        <p:nvSpPr>
          <p:cNvPr id="65"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9275F12-8C85-4DDF-BA26-593CA421047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Text Box 6"/>
          <p:cNvSpPr/>
          <p:nvPr/>
        </p:nvSpPr>
        <p:spPr>
          <a:xfrm>
            <a:off x="380880" y="914400"/>
            <a:ext cx="8534520" cy="5708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27,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Program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on Business Requirement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approach to approving revisions for Business Requirements as they become updated to incorporate post-Baseline 2 NPRR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Readiness Updat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SCR, Allow QSEs to Enter Outages for all Asset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ctober 27, 2008, TPTF endorsed draft SCR, Allow QSEs to Enter Outages for all Assets, to be submitted on behalf of TPTF and requested that the feasibility study will be conducted within 60 day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roll-call vote with 100% in favor and one abstention from the Independent Power Marketer Market Segment (CitiGroup Energy, Inc.). The Consumer Market Segment was not represented for the vo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able Cost Implementation Plan: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ctober 27, 2008, TPTF endorsed the COMS Nodal Verifiable Cost Implementation Plan v.18 as submitted to TPTF</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unanimous roll-call vote. The Consumer Market Segment was not represented for the vo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7 – 28, 200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662FC49-A956-40DC-AEC5-760748103BE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6"/>
          <p:cNvSpPr/>
          <p:nvPr/>
        </p:nvSpPr>
        <p:spPr>
          <a:xfrm>
            <a:off x="380880" y="914400"/>
            <a:ext cx="8534520" cy="4935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28,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Process Flow</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R to CRR Transition Plan</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cent revisions synchronizing the TCR to CRR Transition Plan with </a:t>
            </a:r>
            <a:r>
              <a:rPr b="0" lang="en-US" sz="1600" spc="-1" strike="noStrike" u="sng">
                <a:solidFill>
                  <a:srgbClr val="009999"/>
                </a:solidFill>
                <a:uFillTx/>
                <a:latin typeface="Arial"/>
                <a:hlinkClick r:id="rId1"/>
              </a:rPr>
              <a:t>PRR743</a:t>
            </a:r>
            <a:r>
              <a:rPr b="0" lang="en-US" sz="1600" spc="-1" strike="noStrike">
                <a:solidFill>
                  <a:srgbClr val="000000"/>
                </a:solidFill>
                <a:latin typeface="Arial"/>
              </a:rPr>
              <a:t>, TCR to CRR Transition Plan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ICCP Communication Handbook Revisions – Initial Review:</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ewed recent proposed updates for the Nodal ICCP Communication Handbook and corresponding Protocol changes in the proposed Draft NPRR, Removal of Settlement Point LMPs from ICCP Telemetry Requirement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Wide Offer Cap Process and Timelin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current implementation, process, and timeline for System-Wide Offer Cap</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Nodal Process Timelin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updates for the Texas Nodal Process Timelin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aft NPRR to synchronize Nodal Protocols Section 1, Overview, with </a:t>
            </a:r>
            <a:r>
              <a:rPr b="0" lang="en-US" sz="1600" spc="-1" strike="noStrike" u="sng">
                <a:solidFill>
                  <a:srgbClr val="009999"/>
                </a:solidFill>
                <a:uFillTx/>
                <a:latin typeface="Arial"/>
                <a:hlinkClick r:id="rId2"/>
              </a:rPr>
              <a:t>PRR697</a:t>
            </a:r>
            <a:r>
              <a:rPr b="0" lang="en-US" sz="1600" spc="-1" strike="noStrike">
                <a:solidFill>
                  <a:srgbClr val="000000"/>
                </a:solidFill>
                <a:latin typeface="Arial"/>
              </a:rPr>
              <a:t>, Posting Requirement Change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aft NPRR, Change Sign Convention for Load Resource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ERCOT comments for NPRR157, Extending Black Start Service Bid Timeline</a:t>
            </a:r>
            <a:endParaRPr b="0" lang="en-US" sz="1600" spc="-1" strike="noStrike">
              <a:solidFill>
                <a:srgbClr val="000000"/>
              </a:solidFill>
              <a:latin typeface="Arial"/>
            </a:endParaRPr>
          </a:p>
        </p:txBody>
      </p:sp>
      <p:sp>
        <p:nvSpPr>
          <p:cNvPr id="7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7 – 28, 200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DD45123-F2A6-469C-B093-8FB1C8DA533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Text Box 6"/>
          <p:cNvSpPr/>
          <p:nvPr/>
        </p:nvSpPr>
        <p:spPr>
          <a:xfrm>
            <a:off x="380880" y="914400"/>
            <a:ext cx="8534520" cy="2618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28,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Response Work Group (QRWG) Issu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outcome of the September 15th QRWG WebEx meeting on RUC commitment issue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ctive issue: SASM Re-submittal of AS Offers by Resources submitting linked AS and 3 part offers in the DAM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entry issues related to </a:t>
            </a:r>
            <a:r>
              <a:rPr b="0" lang="en-US" sz="1600" spc="-1" strike="noStrike" u="sng">
                <a:solidFill>
                  <a:srgbClr val="009999"/>
                </a:solidFill>
                <a:uFillTx/>
                <a:latin typeface="Arial"/>
                <a:hlinkClick r:id="rId1"/>
              </a:rPr>
              <a:t>NPRR151</a:t>
            </a:r>
            <a:r>
              <a:rPr b="0" lang="en-US" sz="1600" spc="-1" strike="noStrike">
                <a:solidFill>
                  <a:srgbClr val="000000"/>
                </a:solidFill>
                <a:latin typeface="Arial"/>
              </a:rPr>
              <a:t>, Clarify Definition of a Generator Output Breaker in the Outage Scheduler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7 – 28, 2008:   </a:t>
            </a:r>
            <a:endParaRPr b="0" lang="en-US" sz="1800" spc="-1" strike="noStrike">
              <a:solidFill>
                <a:srgbClr val="000000"/>
              </a:solidFill>
              <a:latin typeface="Arial"/>
            </a:endParaRPr>
          </a:p>
        </p:txBody>
      </p:sp>
      <p:sp>
        <p:nvSpPr>
          <p:cNvPr id="75"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13 – 14, 2008</a:t>
            </a:r>
            <a:endParaRPr b="0" lang="en-US" sz="1800" spc="-1" strike="noStrike">
              <a:solidFill>
                <a:srgbClr val="000000"/>
              </a:solidFill>
              <a:latin typeface="Arial"/>
            </a:endParaRPr>
          </a:p>
        </p:txBody>
      </p:sp>
      <p:graphicFrame>
        <p:nvGraphicFramePr>
          <p:cNvPr id="77" name=""/>
          <p:cNvGraphicFramePr/>
          <p:nvPr/>
        </p:nvGraphicFramePr>
        <p:xfrm>
          <a:off x="304920" y="3581280"/>
          <a:ext cx="8610480" cy="22035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3, 2008, TPTF recognized NPRR156 as "Nodal Approved Post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P, Luminant, 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 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13-14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79"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3, 2008, TPTF endorsed forwarding TPTF comments to PRS for NPRR156, Transparency for PSS and Full Interconnection Studi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S Energy San Antonio</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P, 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C4B767F-4B83-4D37-A35F-94A1DB7C8B8D}"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13 – 14, 2008</a:t>
            </a:r>
            <a:endParaRPr b="0" lang="en-US" sz="1800" spc="-1" strike="noStrike">
              <a:solidFill>
                <a:srgbClr val="000000"/>
              </a:solidFill>
              <a:latin typeface="Arial"/>
            </a:endParaRPr>
          </a:p>
        </p:txBody>
      </p:sp>
      <p:graphicFrame>
        <p:nvGraphicFramePr>
          <p:cNvPr id="82" name=""/>
          <p:cNvGraphicFramePr/>
          <p:nvPr/>
        </p:nvGraphicFramePr>
        <p:xfrm>
          <a:off x="304920" y="990720"/>
          <a:ext cx="8610480" cy="23191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3, 2008, TPTF recognized NPRR145, PPAs as Resource-Specific Verifiable Costs Documentation, as "Needed for Go-Live."</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4359101-A636-4AEC-821F-7C1D718FA52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13-14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85" name=""/>
          <p:cNvGraphicFramePr/>
          <p:nvPr/>
        </p:nvGraphicFramePr>
        <p:xfrm>
          <a:off x="304920" y="3581280"/>
          <a:ext cx="8610480" cy="216864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3, 2008, TPTF endorsed forwarding TPTF comments to PRS for NPRR159, Resource Category Startup Offer Generic Cap for Wind Resources. TPTF recognized NPRR159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ERCOT Staff - scb</cp:lastModifiedBy>
  <dcterms:modified xsi:type="dcterms:W3CDTF">2008-10-30T16:49:49Z</dcterms:modified>
  <cp:revision>1338</cp:revision>
  <dc:subject/>
  <dc:title>TAC Update</dc:title>
</cp:coreProperties>
</file>