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1EC24-2C2C-4133-AB7B-DA5EA9668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B6F0A-B89D-4FB6-BD56-DEC08BB4F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B4C3F-A084-40AE-8B24-660F80841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CC38A-F9E6-454B-8FD3-954C86C03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04597-CDA8-4D38-B4E8-EC232891C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4707A-1679-4665-AA0B-133CC803F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91557-EF56-4F53-9B1E-92D34C1E4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D5DFF-DDC8-4051-A86B-C1D1816D3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792C5-C046-4CE7-B03F-0051C7C5A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6A7E8-45CC-4248-9C4D-A73FAC848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A67E9-787B-4AEC-BAD4-9D23EB34D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30800-5E11-4719-BF6C-4CE8ECD4D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D1FA-7F97-49A2-B4F2-92702C6F75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WG RRS/LaaRs STUD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SUMMAR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13/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atus Summar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2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Study Progress Highlights</a:t>
            </a:r>
            <a:endParaRPr b="0" lang="en-US" sz="3600" spc="-1" strike="noStrike">
              <a:solidFill>
                <a:srgbClr val="000000"/>
              </a:solidFill>
              <a:latin typeface="Arial"/>
            </a:endParaRPr>
          </a:p>
          <a:p>
            <a:pPr marL="343080" indent="-343080">
              <a:lnSpc>
                <a:spcPct val="2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Remaining Work</a:t>
            </a:r>
            <a:endParaRPr b="0" lang="en-US" sz="36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a:t>
            </a:r>
            <a:endParaRPr b="0" lang="en-US" sz="36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 of the total study tasks have been completed.</a:t>
            </a:r>
            <a:endParaRPr b="0" lang="en-US" sz="3200" spc="-1" strike="noStrike">
              <a:solidFill>
                <a:srgbClr val="000000"/>
              </a:solidFill>
              <a:latin typeface="Arial"/>
            </a:endParaRPr>
          </a:p>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11/13/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atus Summar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y Progress Highlights</a:t>
            </a:r>
            <a:endParaRPr b="0" lang="en-US" sz="36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maining Work</a:t>
            </a:r>
            <a:endParaRPr b="0" lang="en-US" sz="36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11/13/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udy Progress Highlight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d Initial Flat Starts for Peak and Off-Peak Ca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d Network Data Preparation for Peak and Off-Peak Ca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on of generating units for participation in 2800 MW R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blocks of spinning reserves between 25% and 100% of 2800 MW RRS in 5% increments.  Detailed modeling of combined cycle trains made this much less of a straight-forward process in comparison to previous studies without such model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ispatch participating units per defined schedules, maintaining case load and generation bala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rovision of benchmarking, repeated the process for the 2300 MW RRS scenari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1/13/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udy Progress Highlight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Dynamic Data Preparation Complimentary to Network Data Prepa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Base Dynamic Data Preparation for Modeling of Various Percentages of Laa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Tuning of Generic Governor Models for Use With the Participating Generator Uni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EMS data from two actual eve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network cases to model pre-disturbance and post-disturbance periods for each of the two eve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wo governor models, one for simple cycle machines and the other is the new combined cycle governor mode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ed governor model parameters to obtain simulation frequency response approximate to actual event frequency respons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 is two generic governor models to be used with RRS participating units, aggregate response of which is a conservative representation of actual system respons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11/13/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udy Progress Highlight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9/11/08, several rounds of simulations have been completed for the 59.7 Hz tier.  Through careful planning and setup of these simulations, the results have afforded substantial headway towards the objective of identifying an acceptable LaaRs percentage at the 59.7 Hz ti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expected, frequency overshoot during light load conditions is the limiting factor in identifying acceptable LaaRs percenta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e anticipated, the volume of simulations is large due to the amount of variables involved.  A variable of particular interest is the LaaRs relay frequency setpoints.  Practical LaaRs frequency settings can range from 59.70-59.79 Hz in 0.01 Hz increments.  The impact of relatively small changes in these settings is more significant than predicted.  This unforeseen result has steered the simulations into more of an iterative process than plann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1/13/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udy Progress Highlight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10/16/08, simulations have been completed for geographical lumping of Laa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on the draft study report is under way.</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11/13/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udy Progress Highlight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11/13/08, all of the simulations the DWG has planned for the 59.7 Hz tier have been completed and preliminarily analyz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has been made on the draft study repor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1/13/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atus Summar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2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Study Progress Highlights</a:t>
            </a:r>
            <a:endParaRPr b="0" lang="en-US" sz="36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maining Work</a:t>
            </a:r>
            <a:endParaRPr b="0" lang="en-US" sz="36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11/13/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Remaining Work</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 simulations at the 59.8 (and 59.9 Hz ??) tier(s).  This process is expected to go much faster than that for the 59.7 Hz ti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interpretation of results, complete the draft report.  To be done by the DW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ize report after review period.  To be done by the DW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1/13/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3T14:31:11Z</dcterms:created>
  <dc:creator>BTS</dc:creator>
  <dc:description/>
  <dc:language>en-US</dc:language>
  <cp:lastModifiedBy>BTS</cp:lastModifiedBy>
  <dcterms:modified xsi:type="dcterms:W3CDTF">2008-11-11T23:07:27Z</dcterms:modified>
  <cp:revision>11</cp:revision>
  <dc:subject/>
  <dc:title>DWG RRS/LaaRs S</dc:title>
</cp:coreProperties>
</file>