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14A-9176-4C74-B39C-B44F3A46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742-9760-4E2A-A4C9-366FF474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DB7-EC47-4233-9743-35128785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836-827C-427F-BF33-A3BA9BB3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63FE-3ADF-401A-83B2-2B0EC81C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199B-DB4F-4B35-B603-50C1BCDD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B6EB-C1F1-43D0-B713-7B48B48E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2653-03E0-48E5-B219-988175DC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7CEF-4AB9-4FD2-8F6E-3A2AC2A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BA03-7B8B-40A1-8D48-ED7F3CE1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3D29-C135-4049-9B20-A86DFEA3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834-6E31-4837-9541-12914C5B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3A3C-7354-4803-8478-1E622D0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950E-F400-438D-AC70-2768BE30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CAEB-9A86-4B9B-8E11-34129F26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A845-46CA-48F1-8D20-11D55AA9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8EF6-9CAE-4A55-82C6-505AC284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F9A-F7AC-4BBB-8D48-8CBC93A9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1CD-4D19-42BD-9C4A-3037D857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D90-6DF8-42EA-9362-DD9523DE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823-3F3A-4818-ABEB-09FF8E4A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FB1-DC80-4127-8401-122A11D1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913-30A3-4616-AAB7-C5CE0CFC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BB1-588A-4D2D-96DB-8B8E5D66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8C77-B133-4097-9540-27F243CC7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18C2-AF9F-4655-B6D3-C2B837465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vember 6, 2008 TAC Mee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for RO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2286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l Ro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ROS-Sponsored Voting Item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771 -  ROS version approved at Sept PRS mtg; modified version approved at Oct PRS mtg; modified version approved by TAC – new PRR to be submitted in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RR 208 – ROS version previously approved by TAC (at Oct meeting) with appeal pending Nov 17 Board review; modified OGRR 208 proposal endorsed by TAC (at Nov me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new proposals for TAC review were submitted by 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-Related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6483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WG Charter Approved; ROS and WMS directed to delegate liason to RT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2009 PPL (Project Priority 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TASOR recommendation for ROS to direct formation of CIPWG and submit ERCOT CIPC members nominations for TAC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TAC assignment to ROS related to optimal procurement of Ancillary Services transferred to WMS, with possible ROS review of proposals for reliability impact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Participant Survey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00010966</cp:lastModifiedBy>
  <dcterms:modified xsi:type="dcterms:W3CDTF">2008-11-07T17:19:54Z</dcterms:modified>
  <cp:revision>89</cp:revision>
  <dc:subject/>
  <dc:title>ROS’ Action Plan – Following Up on 2/26 EECP &amp; Wind Workshop Issues</dc:title>
</cp:coreProperties>
</file>