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728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728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4907-41F2-4551-9E44-65FC040E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728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08E-F1F9-4730-BCFF-B7FE25D8A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728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0A43-5885-463F-B0C1-B8BE043A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staffing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T efforts have been redistributed to Murray Nixon, the project manager of Market Systems. In her new role, Nixon will structure a team to address nodal business processes and procedures.  Nixon will retain her leadership role over the Market Management System (MMS), the Outage Scheduler (OS), and Independent Market Monitoring (IMM)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 Robinson will take on more day-to-day project management activities for the MM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kara “Krish” Krishnaswamy, formerly Enterprise Data Warehouse (EDW) Project Manager, is moving into the Outage Scheduler PM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Jirasek is transitioning into the EDW PM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yl Cote will be leaving the nodal program on Oct. 31. Matt Mereness will replace him as Early Delivery System (EDS) PM, with Richard Howard responsible for system environment read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err will be leaving the nodal program on Oct. 31, to be replaced by Brian Brandaw as PM for the Enterprise Integration Project (E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Joyce Statz joined the nodal program on Oct. 28 as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s for Sept / O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-0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-0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mployee Hr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9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93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4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ractor Hr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3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mployee F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ractor F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3A48-02B2-495E-BFC4-22310568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32AB-58E4-410B-AEE4-CF4C84A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27AF-D4E8-496A-B9CC-F6DF8ACC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D6A8-26AF-44D3-BA6A-E6CCCC84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4AB1-0241-4A24-B9AF-FE41174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4B5B-C66C-41BA-A33C-1A72BF0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8720-96FE-4BB0-B993-EA40A128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653B-F018-42C3-9181-87E7394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F78E-AAAE-4D5A-A2D3-F5605A5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3C62-E4ED-4EEB-8F56-5BACC0D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32D6-D6F3-488B-857B-17396F0C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18E4-C20C-456A-9228-7635667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F5C-F6FD-478A-9E87-3EF985E6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638320" y="645804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6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6B90-BAEE-4B3A-8BB0-F2D7A814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06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odal.ercot.com/docs/po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3160" y="1904760"/>
            <a:ext cx="66582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as Nodal Program Implementatio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n Hinsle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46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2666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98D5-F6E2-45FB-BB4E-D42F065B7D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alth Indicator Measur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914400"/>
          <a:ext cx="8229600" cy="5000760"/>
        </p:xfrm>
        <a:graphic>
          <a:graphicData uri="http://schemas.openxmlformats.org/drawingml/2006/table">
            <a:tbl>
              <a:tblPr/>
              <a:tblGrid>
                <a:gridCol w="1522440"/>
                <a:gridCol w="2135160"/>
                <a:gridCol w="2286000"/>
                <a:gridCol w="2286000"/>
              </a:tblGrid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h core indicators are 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core indicator is amber, but none are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core indicator is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activities on the critical path are complete, or are expected to be complete, on or ahead of the planned 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dates have been missed, but one or more critical path activities is forecasted to complete l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critical path deliverable has missed its due date. Project implementation date is in jeopar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get (h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forecasted to complete within the baselined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forecasted to complete up to 5% over the baselined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forecasted to complete more than 5% over the baselined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Requirements approved; no unplanned scope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 approvals for Requirements; no unplanned scope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pproved Requirements and/or unplanned scope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key resource positions are filled and no schedule delays are exp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 or two key positions are not staffed and the schedule may be adversely impa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two key positions are not staffed and the schedule will be impa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project risks have a Risk Score =&l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project risk has a Risk Score =&gt; 5 and =&l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project risk has an Risk Score =&gt;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ssues are being resolved by the required due 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issues are remaining open past the required due dates but none are of “critical” priority (Impact = 3 or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one “critical” priority issue (Impact = 3 or 4) is open past the 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ct metrics meet all of the followin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1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2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 #. Days to Close Sev 1 and Sev 2 Defects &lt; 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eopen Defects &lt;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ct metrics meet at least one of the followin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1 = 1 to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2 = 1 to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 # Days to Close Sev 1 and Sev 2 Defects =&gt; 45 and =&lt; 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eopen =&gt; 15 and =&lt;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ct metrics meet at least one of the followin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1 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Severity 2 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 # Days to Close Sev 1 and Sev 2 Defects &gt;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eopen &gt;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A538-D84F-4723-86AA-94EE405DC5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46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048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3B2D-FCFA-4FBC-B35D-71D6FF8FE0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79520" y="109548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Path through Feb.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Risks /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2AB2-7E22-41E2-9280-706B6B29D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alth Indica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914400"/>
          <a:ext cx="8381880" cy="4295880"/>
        </p:xfrm>
        <a:graphic>
          <a:graphicData uri="http://schemas.openxmlformats.org/drawingml/2006/table">
            <a:tbl>
              <a:tblPr/>
              <a:tblGrid>
                <a:gridCol w="3133800"/>
                <a:gridCol w="1252440"/>
                <a:gridCol w="39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status remains red, driven by schedule and budget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remains red until the integrated schedule is 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mains red until new budget is finalized and 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review still unde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y of projects reporting amber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dressing risks detailed on subsequent sl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dressing issues detailed on subsequent sl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driven by number of Sev 1 and 2 defects and lengthy defect turn-around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quo until the schedule is rel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quo until the schedule is rel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7200" y="5334120"/>
            <a:ext cx="426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ealth indicator measures are located in the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0E3A-730E-4E5E-B844-C446AABB1B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gram is now posting a weekly status report to the nodal website: 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docs/po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tasks on the program critical path are currently behind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S CIM Importer has completed Pre-FAT and started FAT.  All critical defects have been resolved.  FAT is scheduled to complete by Nov. 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lized nodal program schedule will not include additional time for future unforeseen changes that might affect the program’s schedule. Instead, any program changes that arise will be addressed on a case-by-case 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severity 1, 2, and 3 active defects has remained relatively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xpect a significant increase in numbers as more components enter i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2000-F6C6-4FF2-8062-6966D91EA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lights – Nodal Reporting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296120" y="259092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81520" y="258120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24880" y="3884760"/>
            <a:ext cx="0" cy="90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3720" y="25909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34200" y="3884760"/>
            <a:ext cx="0" cy="90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4880" y="3876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6520" y="38862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48200" y="3876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14560" y="3876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62200" y="3876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343040" y="1209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71680" y="2581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86240" y="280980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Mgmt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8920" y="280980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rly Deliver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ystems/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P 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t Mere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22880" y="281952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CO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ray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11240" y="280980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rastructure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For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828720"/>
            <a:ext cx="1428840" cy="7621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ive Sponso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885960"/>
            <a:ext cx="1828800" cy="64764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lity Assurance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yce Statz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sting Czari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leen H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PTF Chai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Joel Mic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T Gover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" y="2581200"/>
            <a:ext cx="651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5908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4880" y="4029120"/>
            <a:ext cx="914400" cy="6094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twork Model Mgmt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da Clar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09960" y="402912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gestion Revenue Rights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helle Z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6960" y="4029120"/>
            <a:ext cx="96192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ergy Management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uel Atanac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57360" y="479124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S Portal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tt Econom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91000" y="479124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Day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resh Chund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05000" y="479124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erprise Data Whse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wna Jiras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1743120"/>
            <a:ext cx="1371600" cy="68580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ive Program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71440" y="3876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2080" y="38768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7680" y="403848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ket Systems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ray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3360" y="280044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Program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r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w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" y="2581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81000" y="866880"/>
            <a:ext cx="17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Accountable for program schedule and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67400" y="4791240"/>
            <a:ext cx="914400" cy="13366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ff Robin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kara Krishnaswam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71680" y="38768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86360" y="403848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ercial System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amp; C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96080" y="4791240"/>
            <a:ext cx="914400" cy="13366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&amp;B and C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llis Encin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/Dispu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Katsk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86760" y="4038480"/>
            <a:ext cx="914400" cy="61272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dal Integration 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Bian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43840" y="4791240"/>
            <a:ext cx="1218960" cy="1336680"/>
          </a:xfrm>
          <a:prstGeom prst="rect">
            <a:avLst/>
          </a:prstGeom>
          <a:solidFill>
            <a:srgbClr val="b8c9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Sv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an Branda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erational Read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2E Integration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n Kaspar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BF96-52C4-4EBA-8B2D-C6128C1AE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lights – Staff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914400"/>
            <a:ext cx="74678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ing for nodal continues to trend down for contractors while holding fairly steady for ERCO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00100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01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3A3B-C86B-4126-B08D-C16C795B9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itical Path through Feb.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914400"/>
            <a:ext cx="74678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activities to deliver a validated CIM XML file are the critical path activities from now through early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000" t="16878" r="3000" b="44070"/>
          <a:stretch/>
        </p:blipFill>
        <p:spPr>
          <a:xfrm>
            <a:off x="152280" y="1862280"/>
            <a:ext cx="884556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2D0D-C795-400E-BE8E-8F05C9452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Risks /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773280"/>
          <a:ext cx="8839440" cy="5337000"/>
        </p:xfrm>
        <a:graphic>
          <a:graphicData uri="http://schemas.openxmlformats.org/drawingml/2006/table">
            <a:tbl>
              <a:tblPr/>
              <a:tblGrid>
                <a:gridCol w="3886200"/>
                <a:gridCol w="495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Lifecycle Management (ILM) strategy for ERCOT is behind schedule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: Current processes do not adequately address archival and storage requirements for Nodal; Existing Data Center constraints limit new storage grow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ILM in place and executed, the nodal program go-live date could be delayed because of insufficient stor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gning a PM to manage a project to develop an ILM strategy and implement the strateg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funds have been identifi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o be managed by Business, IT and Nod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business process work is incomplete.  Without the business process foundation in place, requirements traceability, functional testing, nodal procedures, and training work cannot be complet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ray Nixon has been assigned as the PM to lead this effort.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168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needs and an associated budget have been develop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168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chedule development is in progr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agreed with strategy to review top level business processes for clarity and transparency; will leverage work performed in 2006-2008 for as starting poi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ability between protocols and requirements is largely manual; not all requirements documentation has been updated to reflect NPRR changes and re-approved by TPT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review in process to review all project requirements documentation, approvals, and incorporation of NPR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168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input provided on Oct. 27; requested that backlog for Requirements and Conceptual Design Document approvals be packaged for proces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1680" indent="-228600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will implement quarterly cycle for TPTF reviews/approva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6D93-626E-405F-987E-6F7BFB310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st: Elemen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914400"/>
            <a:ext cx="74678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integrated schedule has been finalized and the financial impact determined we will incorporate this into an updated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380880" y="1523880"/>
            <a:ext cx="8000640" cy="4562640"/>
            <a:chOff x="380880" y="1523880"/>
            <a:chExt cx="8000640" cy="4562640"/>
          </a:xfrm>
        </p:grpSpPr>
        <p:sp>
          <p:nvSpPr>
            <p:cNvPr id="159" name="AutoShape 8"/>
            <p:cNvSpPr/>
            <p:nvPr/>
          </p:nvSpPr>
          <p:spPr>
            <a:xfrm>
              <a:off x="380880" y="1523880"/>
              <a:ext cx="7710480" cy="45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7245360" y="31334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7070040" y="335412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ver)/u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96440" y="3574800"/>
              <a:ext cx="113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 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4070520" y="357480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5701680" y="357480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5"/>
            <p:cNvSpPr/>
            <p:nvPr/>
          </p:nvSpPr>
          <p:spPr>
            <a:xfrm>
              <a:off x="7318080" y="357480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687600" y="3898800"/>
              <a:ext cx="120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al Lab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7"/>
            <p:cNvSpPr/>
            <p:nvPr/>
          </p:nvSpPr>
          <p:spPr>
            <a:xfrm>
              <a:off x="3840840" y="3898800"/>
              <a:ext cx="95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  42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5428800" y="38988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  42.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9"/>
            <p:cNvSpPr/>
            <p:nvPr/>
          </p:nvSpPr>
          <p:spPr>
            <a:xfrm>
              <a:off x="7013880" y="3898800"/>
              <a:ext cx="107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    (0.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0"/>
            <p:cNvSpPr/>
            <p:nvPr/>
          </p:nvSpPr>
          <p:spPr>
            <a:xfrm>
              <a:off x="687600" y="4170240"/>
              <a:ext cx="126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ternal Lab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3841200" y="4170240"/>
              <a:ext cx="95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2"/>
            <p:cNvSpPr/>
            <p:nvPr/>
          </p:nvSpPr>
          <p:spPr>
            <a:xfrm>
              <a:off x="5429520" y="4170240"/>
              <a:ext cx="95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3"/>
            <p:cNvSpPr/>
            <p:nvPr/>
          </p:nvSpPr>
          <p:spPr>
            <a:xfrm>
              <a:off x="7013160" y="4170240"/>
              <a:ext cx="117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0.0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687240" y="4495680"/>
              <a:ext cx="172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 / Softwa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3911040" y="4419360"/>
              <a:ext cx="114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0"/>
            <p:cNvSpPr/>
            <p:nvPr/>
          </p:nvSpPr>
          <p:spPr>
            <a:xfrm>
              <a:off x="5471640" y="4419360"/>
              <a:ext cx="90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7023600" y="4419360"/>
              <a:ext cx="13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.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687240" y="4724280"/>
              <a:ext cx="14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vel and Other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3"/>
            <p:cNvSpPr/>
            <p:nvPr/>
          </p:nvSpPr>
          <p:spPr>
            <a:xfrm>
              <a:off x="3902400" y="4647960"/>
              <a:ext cx="95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.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5470920" y="4647960"/>
              <a:ext cx="90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5"/>
            <p:cNvSpPr/>
            <p:nvPr/>
          </p:nvSpPr>
          <p:spPr>
            <a:xfrm>
              <a:off x="7049160" y="4647960"/>
              <a:ext cx="104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6"/>
            <p:cNvSpPr/>
            <p:nvPr/>
          </p:nvSpPr>
          <p:spPr>
            <a:xfrm>
              <a:off x="687960" y="510516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3904560" y="495288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28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5437080" y="4952880"/>
              <a:ext cx="122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288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9"/>
            <p:cNvSpPr/>
            <p:nvPr/>
          </p:nvSpPr>
          <p:spPr>
            <a:xfrm>
              <a:off x="7039800" y="4952880"/>
              <a:ext cx="112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     (7.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0"/>
            <p:cNvSpPr/>
            <p:nvPr/>
          </p:nvSpPr>
          <p:spPr>
            <a:xfrm>
              <a:off x="688320" y="5530680"/>
              <a:ext cx="136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ance Char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1"/>
            <p:cNvSpPr/>
            <p:nvPr/>
          </p:nvSpPr>
          <p:spPr>
            <a:xfrm>
              <a:off x="3839400" y="5530680"/>
              <a:ext cx="95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2"/>
            <p:cNvSpPr/>
            <p:nvPr/>
          </p:nvSpPr>
          <p:spPr>
            <a:xfrm>
              <a:off x="5428800" y="5530680"/>
              <a:ext cx="95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7012800" y="553068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.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4"/>
            <p:cNvSpPr/>
            <p:nvPr/>
          </p:nvSpPr>
          <p:spPr>
            <a:xfrm>
              <a:off x="688320" y="5803920"/>
              <a:ext cx="74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5"/>
            <p:cNvSpPr/>
            <p:nvPr/>
          </p:nvSpPr>
          <p:spPr>
            <a:xfrm>
              <a:off x="3841920" y="5803920"/>
              <a:ext cx="94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29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6"/>
            <p:cNvSpPr/>
            <p:nvPr/>
          </p:nvSpPr>
          <p:spPr>
            <a:xfrm>
              <a:off x="5430240" y="5803920"/>
              <a:ext cx="94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299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7"/>
            <p:cNvSpPr/>
            <p:nvPr/>
          </p:nvSpPr>
          <p:spPr>
            <a:xfrm>
              <a:off x="7013520" y="5803920"/>
              <a:ext cx="112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            (8.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3753000" y="167616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odal Progra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3123000" y="1958760"/>
              <a:ext cx="242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st Element Summa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0"/>
            <p:cNvSpPr/>
            <p:nvPr/>
          </p:nvSpPr>
          <p:spPr>
            <a:xfrm>
              <a:off x="4011480" y="2246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$ Millio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1"/>
            <p:cNvSpPr/>
            <p:nvPr/>
          </p:nvSpPr>
          <p:spPr>
            <a:xfrm>
              <a:off x="5139720" y="2913120"/>
              <a:ext cx="213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rough September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2"/>
            <p:cNvSpPr/>
            <p:nvPr/>
          </p:nvSpPr>
          <p:spPr>
            <a:xfrm>
              <a:off x="652680" y="3771720"/>
              <a:ext cx="278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652680" y="3771720"/>
              <a:ext cx="27874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>
              <a:off x="3810600" y="3771720"/>
              <a:ext cx="121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5"/>
            <p:cNvSpPr/>
            <p:nvPr/>
          </p:nvSpPr>
          <p:spPr>
            <a:xfrm>
              <a:off x="3810600" y="377172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5397120" y="3771720"/>
              <a:ext cx="121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7"/>
            <p:cNvSpPr/>
            <p:nvPr/>
          </p:nvSpPr>
          <p:spPr>
            <a:xfrm>
              <a:off x="5397120" y="377172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3810600" y="5235480"/>
              <a:ext cx="121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9"/>
            <p:cNvSpPr/>
            <p:nvPr/>
          </p:nvSpPr>
          <p:spPr>
            <a:xfrm>
              <a:off x="3832560" y="495288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5397120" y="5235480"/>
              <a:ext cx="121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1"/>
            <p:cNvSpPr/>
            <p:nvPr/>
          </p:nvSpPr>
          <p:spPr>
            <a:xfrm>
              <a:off x="5400720" y="495288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3810600" y="5779800"/>
              <a:ext cx="121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3"/>
            <p:cNvSpPr/>
            <p:nvPr/>
          </p:nvSpPr>
          <p:spPr>
            <a:xfrm>
              <a:off x="3810600" y="577980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4"/>
            <p:cNvSpPr/>
            <p:nvPr/>
          </p:nvSpPr>
          <p:spPr>
            <a:xfrm>
              <a:off x="5397120" y="5779800"/>
              <a:ext cx="121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5"/>
            <p:cNvSpPr/>
            <p:nvPr/>
          </p:nvSpPr>
          <p:spPr>
            <a:xfrm>
              <a:off x="5397120" y="577980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6"/>
            <p:cNvSpPr/>
            <p:nvPr/>
          </p:nvSpPr>
          <p:spPr>
            <a:xfrm>
              <a:off x="3810600" y="603396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7"/>
            <p:cNvSpPr/>
            <p:nvPr/>
          </p:nvSpPr>
          <p:spPr>
            <a:xfrm>
              <a:off x="3810600" y="606888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8"/>
            <p:cNvSpPr/>
            <p:nvPr/>
          </p:nvSpPr>
          <p:spPr>
            <a:xfrm>
              <a:off x="5397120" y="603396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9"/>
            <p:cNvSpPr/>
            <p:nvPr/>
          </p:nvSpPr>
          <p:spPr>
            <a:xfrm>
              <a:off x="5397120" y="6068880"/>
              <a:ext cx="1217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0"/>
            <p:cNvSpPr/>
            <p:nvPr/>
          </p:nvSpPr>
          <p:spPr>
            <a:xfrm>
              <a:off x="3810600" y="3109680"/>
              <a:ext cx="4536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1"/>
            <p:cNvSpPr/>
            <p:nvPr/>
          </p:nvSpPr>
          <p:spPr>
            <a:xfrm>
              <a:off x="3810600" y="3109680"/>
              <a:ext cx="45360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2"/>
            <p:cNvSpPr/>
            <p:nvPr/>
          </p:nvSpPr>
          <p:spPr>
            <a:xfrm>
              <a:off x="6985080" y="3771720"/>
              <a:ext cx="136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3"/>
            <p:cNvSpPr/>
            <p:nvPr/>
          </p:nvSpPr>
          <p:spPr>
            <a:xfrm>
              <a:off x="6985080" y="3771720"/>
              <a:ext cx="13618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4"/>
            <p:cNvSpPr/>
            <p:nvPr/>
          </p:nvSpPr>
          <p:spPr>
            <a:xfrm>
              <a:off x="6985080" y="5235480"/>
              <a:ext cx="136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5"/>
            <p:cNvSpPr/>
            <p:nvPr/>
          </p:nvSpPr>
          <p:spPr>
            <a:xfrm>
              <a:off x="6970320" y="4952880"/>
              <a:ext cx="13618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76"/>
            <p:cNvSpPr/>
            <p:nvPr/>
          </p:nvSpPr>
          <p:spPr>
            <a:xfrm>
              <a:off x="6985080" y="5779800"/>
              <a:ext cx="136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7"/>
            <p:cNvSpPr/>
            <p:nvPr/>
          </p:nvSpPr>
          <p:spPr>
            <a:xfrm>
              <a:off x="6985080" y="5779800"/>
              <a:ext cx="13618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8"/>
            <p:cNvSpPr/>
            <p:nvPr/>
          </p:nvSpPr>
          <p:spPr>
            <a:xfrm>
              <a:off x="6985080" y="6033960"/>
              <a:ext cx="13618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9"/>
            <p:cNvSpPr/>
            <p:nvPr/>
          </p:nvSpPr>
          <p:spPr>
            <a:xfrm>
              <a:off x="6985080" y="6068880"/>
              <a:ext cx="13618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5EA0-0F0C-44F6-9B83-6B53302E2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MO Communications</dc:creator>
  <dc:description/>
  <dc:language>en-US</dc:language>
  <cp:lastModifiedBy>amartinez</cp:lastModifiedBy>
  <dcterms:modified xsi:type="dcterms:W3CDTF">2008-10-31T20:22:38Z</dcterms:modified>
  <cp:revision>1214</cp:revision>
  <dc:subject>TAC Presentation 11_07_2008</dc:subject>
  <dc:title>Nodal Program Update</dc:title>
</cp:coreProperties>
</file>