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751-A4FF-4931-A1D0-B3C21DFA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AF4-3CB0-4C45-BF61-91BD3363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77C-59ED-4F42-9B82-76626CB1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55C-1EA6-46CE-9803-5B33916F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D1D6-C81C-4D93-808C-DEC3E3B8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4A8B-D591-468E-A8C5-AC46110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885B-564B-416F-B1C2-CCC1F60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C2C7-4A46-48A4-882F-3C15A1E2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200-869A-4BBA-A092-C0EE345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236-3499-44C6-BF36-959A4417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E93C-0E74-4280-8832-E3F7648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0DF-6BED-4540-AC95-BB79BF5D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504F-988D-4456-B314-CDC0B66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3C10-A91B-42AE-9998-5B69566A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7E5A-1BFA-466B-8B58-07DF5CE1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0D10-8D19-4DAA-926C-6B9A3147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927E-BC81-48BF-BEAE-46E84414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D20-DE58-4DDB-ACAA-440D8C33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1EB-BEFE-4DFA-BC28-151BB373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48C-24C1-4FC5-AD5D-54D0C19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D0B-C858-4BFB-A764-AE22E027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DFA-EE6C-4D26-824B-168146D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6C8-7E80-4DBD-AC7A-91E0AC48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27D-309C-4F73-88A2-4B5C1C06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BC4D-3776-400A-B7FD-71EF30E04848}" type="slidenum"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6B4C-7E47-4A82-841A-E94ACFEEA6FE}" type="slidenum"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prr/750-774/766/index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High Tower Text"/>
              </a:rPr>
              <a:t>RMS Update to TAC</a:t>
            </a:r>
            <a:endParaRPr b="1" lang="en-US" sz="48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November 6, 2008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Agenda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Request TAC Affirmation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RMGRR066-Safety Net Move-In Process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Approved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RMGRR068-Out-flow Power from Distributed Renewable Generation Facility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Approved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Agenda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RMGRR065-Disconnect and Reconnect for Non-Pay Updates and Correction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Remanded back to TEXAS SET for further review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Reviewed and Submitted Recommendations 2008 Market Participant Survey Action Plan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ERCOT 2009 PPL Update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Approved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ERCOT 2009 SLA Update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MARS TF Update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ERCOT 2009 SLA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Includes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Expanded maintenance windows from 12 to 15 hours on weekend 1 and 2 (reduced from proposed 18 hrs.)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Move Release window from week 2 to week 4 based on less market transaction activity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4 months each year have 5 weekends so add a 12 hour maintenance window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Adding TML and MarkeTrak measurement components 2Q09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Approved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High Tower Text"/>
              </a:rPr>
              <a:t>MARS Task Force</a:t>
            </a:r>
            <a:endParaRPr b="1" lang="en-US" sz="48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Scope: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MARS Taskforce will accommodate market stakeholders in review of the Advanced Metering Implementation Team (AMIT) interim solution (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High Tower Text"/>
                <a:hlinkClick r:id="rId1"/>
              </a:rPr>
              <a:t>PRR 766</a:t>
            </a: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) documentation, which includes Distributed Generation premises with provisioned advanced meters,  and the taskforce will conduct subsequent meetings to discuss any outstanding questions or business requirement issues as they are identified. 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Objectives:</a:t>
            </a:r>
            <a:r>
              <a:rPr b="1" lang="en-US" sz="2400" spc="-1" strike="noStrike">
                <a:solidFill>
                  <a:srgbClr val="ffffff"/>
                </a:solidFill>
                <a:latin typeface="High Tower Tex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MARS Taskforce will provide input into the detailed business requirements and assumptions. 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MARS Taskforce will facilitate the resolution of all issues related to business requirements of the interim solution.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igh Tower Tex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MARS TF…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igh Tower Text"/>
              </a:rPr>
              <a:t>Reviewed: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305280" indent="-205560"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igh Tower Text"/>
              </a:rPr>
              <a:t>4 of Currently 13 Use Cases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2" marL="1050840" indent="-646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igh Tower Text"/>
              </a:rPr>
              <a:t>Use Case #1 – </a:t>
            </a: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NAESB Acknowledgement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2" marL="1050840" indent="-646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igh Tower Text"/>
              </a:rPr>
              <a:t>Use Case #5 – </a:t>
            </a: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Later Timestamp overwrites Earlier Timestamp 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2" marL="1050840" indent="-646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igh Tower Text"/>
              </a:rPr>
              <a:t>Use Case #6 - </a:t>
            </a: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Data available to CRs through web services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2" marL="1050840" indent="-646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igh Tower Tex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igh Tower Text"/>
              </a:rPr>
              <a:t>Use Case #13- </a:t>
            </a: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No change to be made to retail transaction processing - Retail market NIDR 867_03F stop date vs. IDR 867_03F stop date used to complete a service order.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MARS TF…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igh Tower Text"/>
              </a:rPr>
              <a:t>MARS Task Force</a:t>
            </a:r>
            <a:endParaRPr b="0" lang="en-US" sz="29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Next Meeting is November 10</a:t>
            </a:r>
            <a:endParaRPr b="0" lang="en-US" sz="26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igh Tower Text"/>
              </a:rPr>
              <a:t>Agenda for these meetings: </a:t>
            </a:r>
            <a:endParaRPr b="0" lang="en-US" sz="29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ontinue to review and finalize use cases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ontinue to better define requirements and resolve issues and/or gaps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ontinue to complete and resolve action items by providing timely feedback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Questions?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Windows XP ver. 2.2</cp:lastModifiedBy>
  <dcterms:modified xsi:type="dcterms:W3CDTF">2008-10-29T18:31:05Z</dcterms:modified>
  <cp:revision>72</cp:revision>
  <dc:subject/>
  <dc:title>RMS Update to TAC</dc:title>
</cp:coreProperties>
</file>