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9A40D9-2A3C-4E7C-A771-6155E4804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d a task force to look at allocation of costs related to ancillary servic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GRPP Forecast Process Improvement – did commit to not use email anymore, but have not committed a resource for it.  Brian from ERCOT was on the phone with an update.  A contract resource started this week, and is ramping up.  A full time resource will start on this on November 10 and it will take about three weeks for development and unit testing.  That puts the holiday week in the middle of the development effort.  QA will therefore be on December 1.  Once there is a QA resource available, they will have a production date.  It may go as late as January for deployment.  He will be working with John for a more formal requirements docu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 balancing qualification testing for wind only QSEs.  Metric development discussion with no vote.  There needs to be consistent metric that is meaningful.  QSEWG will draft a first PR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R777     WMS voted to endorse PRR with QMWG comments as amended by WMS with an amendment to delete Overall Market Impact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SRS from Offline Units – just a reminder that if you have a non-spin unit that is brought on line, you need to change the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was a discussion of market participant counterparty scheduling.  There will be an optional document that defines the time that the seller should designate the relevant congestion zone to the buy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S Scheduling Period Timeline – worked through the timeline at the working grou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and Side Working Group – met back in September, several speakers came.  They continue to make progress on their 2008 goals.  There was a lot of discussion on AS markets and are closing the wind study AS item close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Load Resource Issue  - three issues – NPRR to get nodal protocols synced with protocols with restrictions and qualifications and testing for LaaRs.  Also, under current nodal protocols there are 20 MW current LaaRs that won’t be able to provide some AS in nodal.  Of those these are spread over five QSEs.  DSG is working on two different fixes to this.  They could allow aggregation of small resources, or they could remove the one MW minimum requirement to provide AS.  The third issue is RUC capacity sort charge.  RUC charges will be based on meter loa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Response Report There was a LaaR event where ffrequency fell low enough so ERCOT deployed LaaR.  A VDI was issued.  1125 MW tripped off line, 1150 MW was to be provided by LaaRs.  Loads did a good job managing their obligations.  The notice to recall was sent at 1755 and three hours later the LaaRs were back on line.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Shadow Price Caps (Vote) – nodal protocols require an approved shadow price cap.  They came up with a recommendation (Margarite read from the Potomac paper) about preventing inefficient dispatch while being reliable.  CMWG supports Potomac’s recommendation.  WMS voted to endorse the shadow price cap paper written by Potomac.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age Coordination – WMS input on Cost Evaluation (Possible Vote) – Areas of general agreement over market needs better advance information on the state of the transmission system, efficient operation of the system by MP and ERCOT benefits consumers, better communication channel for coordination between resources and TSPs would be helpful.  There is agreement in how to achieve these goals.  Looking for guidance from WMS on polic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henson – move that CMWG prioritize longer lead times and metrics for transmission outag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outman secon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henson and Troutman reject amendments to include West Texas action and extension of metrics, etc. to resour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 the West Texas piece needs to be in i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r – don’t think there is discrimination issue here.  Would like to get something out as a pilo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henson offered to amend to direct work to start with West Texas issu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outman accepted amendment – CMWG prioritized transmission outage leadtimes and metrics, starting in west zon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nclear on if ever voted 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ion on Scope of W-N Stability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alls back into the study horsepower issu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Fuel Analysi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WG Report –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Recovery due to cancellation of RUC</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cellation Prior  to firing of Unit</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Imbalance Fees assigned due to change in Gas Schedul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l Price Variance – Purchase vs. Sale price for Fuel</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ission Cos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cellation during firing of the unit.</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 on RARF – Startup time needed (hot, cold, warm)</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Imbalance Fe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amp; M </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enance Service hours may be affected</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l Price Varianc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ission Cost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looked at application of duct firing, exceptional events, and fuel analysis.  Russell Lovelace from Shell came to WMS and presented on fuel in RU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Belk – charge to VCWG to define low hanging fruit of exceptional ev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ussell Lovelace from Shell came to WMS and presented on fuel in RUC.  If someone is RUCed, the day-ahead gas market has already closed so it’s hard to plan.  Same-day-gas economics (where are you getting the gas and how is it priced).  When it closes, all gas is placed, it’s either in storage or sold.  Because of that, variances in production and consumption make up the same-day-gas market.  For that reason, it is not a liquid market.  There’s two players you can buy from, someone who is long of someone who has storage.  Economics on this are very different than the day-ahead market.  You will almost always pay more in the same day market, so any assumption that some days you will pay less does not pan out.  FIP won’t come close to covering actual fuel costs.  In Texas, there are interstate and intrastate pipelines.  Interstate costs there are two people to buy from, so you are likely to have to buy from storage.  You will look at NYMEX costs to value, then add the basis difference from where delivering to NYMEX, plus withdraw costs.  Then you take out the carrying costs.  That’s if you have to buy a lot of gas out of storag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also had prepared but did not present an interstate example.  NRG had a proposal to use FIP, plus at TPTF they are looking at …  the solution needs to figure out when RUC is done and gas purchases occur.  They all need to come together.  Does this need to go to VCWG, TPTF,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CWG is probably the right place to tackle this issue.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adder and multiplier variables (A and M) that will be used to calculate the additional credit requirement for awarded Point-To-Point (PTP) Obligations and (ongo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arameters (X and Y) that will be used to determine the Auction Clearing Price Exposure (ACPE) as described in 16.11.4.5, Determination of the Counter-Party Future Credit Exposure (FCE), (2) (au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r - move to approve these valu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1.5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 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 $1.0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 $1.5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Jones seco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uk Stephenson and Troutman absta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RR147, DAM Short Pay Changes (Possible Vote) – Clayton spoke to his proposal, and Kenan Ogelman proposed a method of collection for each CRR that would be escrowed until there is a default then used for the default.  His goal was to have those participating in the DAM be the ones who bear the risk for default.  There was a motion to endorse the PRR as written. – WMS voted to support the original NPRR.</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henson – move that WMS endorse PRR147 as currently writ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r – seco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ckson and Ogelman oppo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rrent and Munoz absta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 Energy Comments Presentation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d on what other markets are do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9A430-3A13-487B-8B4D-E02B37DC7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E7836-57CD-48BD-8CCA-D0D94371F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949FE-117E-40C5-92CF-CA11F0FAA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1F87C-AA57-49D4-BCEA-E4FC76A81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7C9F7-BCC3-4182-AF98-6EF9F01D8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5D708-5D59-4039-8AB3-A45E31978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A9D2E-8F46-4B65-A4B1-D15F38185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FA10E-DD25-47E9-AFCC-B0D2190B5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D5BC9-2E34-4389-AA58-F9A549D84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ECC72-48E3-4537-9E38-4568387D1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CEEF8-1428-43CF-86F2-832444F71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2C84D-5311-4370-BBC6-66FDD6EEA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AEB0D-6B6A-4A4D-9D04-3FADCD478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64EE0-09ED-454E-BD09-D285F1534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63871-17FB-4D78-A2E9-EB8930B4E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417D1-43EC-43D9-9674-E637EEA5F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53D24-DE5A-419B-9629-C7EF4192D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3436-F933-4F74-9309-D15E1CFD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414A-8DE6-4AE2-B58A-660122809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A27B-5FD5-4F88-AF45-C209D85C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3417B-693F-4C63-92D0-5F99072F7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7735-7D39-4871-BD32-8EC18EF6D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8A22-4A1C-4715-9F31-2FF7D44F9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46F5-28B9-4AEC-B18B-44BA04F0C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0144-AAE6-4645-86EF-411725711B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FCAB-D708-48AB-ACE8-B8959870A1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vember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63A32482-BD67-438B-98C5-325B11A80F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Procurement Impact on Market – Assignments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med Task Force – Seth Cochran chair</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t on November 4</a:t>
            </a:r>
            <a:r>
              <a:rPr b="1" lang="en-US" sz="2800" spc="-1" strike="noStrike" baseline="30000">
                <a:solidFill>
                  <a:srgbClr val="ffffff"/>
                </a:solidFill>
                <a:latin typeface="Tahoma"/>
              </a:rPr>
              <a:t>th</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1E6D374-0E06-4984-A592-862465D97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3D9CDDB9-4333-41AE-98EB-85C9D390BCD3}"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Staff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WM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C6D1B36-CC52-416C-94C5-48CA1483DB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GRPP Forecast Process Improvemen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GR only QSE Scheduling Metric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777, WGR QSE Metric Correc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SRS from Offline Unit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S Scheduling Period Timelin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FCC7715-BD1E-4CA0-ACC4-7A2F510B95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dal Load Resource Issu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oad Response Repor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FBE53CA-C366-41B8-B172-EE9E4453D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dal Shadow Price Ca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tage Coordin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cope of W-N Stability Study</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E61D76-1B44-4687-8520-55C7046554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Nodal Shadow Price Cap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straints:</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1</a:t>
            </a:r>
            <a:endParaRPr b="0" lang="en-US" sz="2400" spc="-1" strike="noStrike">
              <a:solidFill>
                <a:srgbClr val="ffffff"/>
              </a:solidFill>
              <a:latin typeface="Tahoma"/>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45 kV:  $4,500/MW</a:t>
            </a:r>
            <a:endParaRPr b="0" lang="en-US" sz="2000" spc="-1" strike="noStrike">
              <a:solidFill>
                <a:srgbClr val="ffffff"/>
              </a:solidFill>
              <a:latin typeface="Tahoma"/>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8 kV:  $3,500/MW</a:t>
            </a:r>
            <a:endParaRPr b="0" lang="en-US" sz="2000" spc="-1" strike="noStrike">
              <a:solidFill>
                <a:srgbClr val="ffffff"/>
              </a:solidFill>
              <a:latin typeface="Tahoma"/>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9 kV:  $2,800/MW</a:t>
            </a:r>
            <a:endParaRPr b="0" lang="en-US" sz="20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wer Balance:</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01/MWh</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COT submitted Change Request to develop the power balance penalty factor as a curve instead of a single valu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DBF85BE-52C6-443C-A8D7-880F8C6B34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VCWG</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st Recovery due to Cancellation of RUC</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or to and during the firing of the unit</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xceptional events, and fuel analysi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UC and “same day” gas issues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145CF00-0924-4F80-A05A-FBA7818991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Credit Policy</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PRR140, Revision to CRR Obligation Margin Adder (Possible Vot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PRR147, DAM Short Pay Chang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CA22DE-FBCE-4926-B7B2-75E095F372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09 PPL Re-Planning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cussion of demand for PRRs that were never implemented because nodal was to be implemented</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sed TCR to CRR Transition Plan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oted to approve</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C7A768D-57DC-4A97-975D-CC62456C1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11-05T22:30:22Z</dcterms:modified>
  <cp:revision>129</cp:revision>
  <dc:subject/>
  <dc:title>WMS Report TO TAC</dc:title>
</cp:coreProperties>
</file>