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C75-5169-4E3C-8A19-BEC8581E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6D8-8AEA-422B-B99E-FFD6FF30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46B-43E4-479F-BF40-89F5E83F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EB0-D713-4B83-BB4F-08425EAC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66E-B214-486D-9D2B-5056DC3D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1E9-F39B-4D66-98D6-C59B53F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83F-65C8-4074-B7AB-122B9978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7E6-E7C2-449F-947B-C9FA5A1E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AC6-B253-4AC8-9DEC-20953554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FB5-404B-4E06-9E45-D7680233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AFC-03AE-4BA6-9FAB-3610534C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C9B-6CD6-4266-960C-61C1D30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4FF5-66B6-415C-B23E-9758F6A1D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914400"/>
          <a:ext cx="678168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7816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33520" y="770040"/>
          <a:ext cx="807696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70040"/>
                    <a:ext cx="807696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55360" y="1890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33520" y="609480"/>
          <a:ext cx="8134200" cy="586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813420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959920" y="11268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34880" y="1066680"/>
          <a:ext cx="827568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066680"/>
                    <a:ext cx="82756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975760" y="38088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5080" y="469800"/>
            <a:ext cx="867384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2440" y="38088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 NSRS Deploymen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1320" y="5851440"/>
            <a:ext cx="473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Note: Post PRR650 Implementation (07/01/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3520" y="838080"/>
          <a:ext cx="8076600" cy="4876560"/>
        </p:xfrm>
        <a:graphic>
          <a:graphicData uri="http://schemas.openxmlformats.org/drawingml/2006/table">
            <a:tbl>
              <a:tblPr/>
              <a:tblGrid>
                <a:gridCol w="776520"/>
                <a:gridCol w="1036080"/>
                <a:gridCol w="1084680"/>
                <a:gridCol w="1650600"/>
                <a:gridCol w="1359720"/>
                <a:gridCol w="216900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 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Av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1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lo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15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lo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16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lo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17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lo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18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lo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26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lo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9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 RRS &lt; 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3520" y="762120"/>
          <a:ext cx="807696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8076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79640" y="1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7000" y="2286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3520" y="685800"/>
          <a:ext cx="8076960" cy="581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85800"/>
                    <a:ext cx="807696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052080" y="2286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3520" y="914400"/>
          <a:ext cx="807696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0769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128400" y="38088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34880" y="1143000"/>
          <a:ext cx="827568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143000"/>
                    <a:ext cx="8275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823480" y="4572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9800" y="838080"/>
          <a:ext cx="7664400" cy="55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838080"/>
                    <a:ext cx="766440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899800" y="3049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5800" y="1066680"/>
          <a:ext cx="78487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848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052080" y="38088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3520" y="762120"/>
          <a:ext cx="807696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807696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036240" y="1890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NSRS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0:51:16Z</dcterms:created>
  <dc:creator>sjacobs</dc:creator>
  <dc:description/>
  <dc:language>en-US</dc:language>
  <cp:lastModifiedBy>mpatterson</cp:lastModifiedBy>
  <dcterms:modified xsi:type="dcterms:W3CDTF">2008-11-05T16:00:24Z</dcterms:modified>
  <cp:revision>5</cp:revision>
  <dc:subject/>
  <dc:title>Slide 1</dc:title>
</cp:coreProperties>
</file>