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8D6D7-BBF3-42DD-8892-D492B1B94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5B6CA-F95A-4B70-A205-4615E0CCB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5319C-797C-4D0E-B4B3-0C46C5670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4570D-3106-4D53-A442-F75685968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0198C-C6C9-4880-A0BB-E2C1C664C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15D4C-0045-497D-BF6A-9E89DB2E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8914D-BD49-4B8E-AA10-0D55E2323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DE989-C7BD-4728-96F5-65EB803FD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7C1C3-253F-4D9D-85EB-D7FB165DE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AB22-9686-4ABB-A8A2-CE146514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43C4-3150-4D44-B33D-DC567097A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9D7DB-7A0B-491D-809C-1D4661F18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0E03-F5EC-47E5-A543-62597E6D43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ASOR TF</a:t>
            </a:r>
            <a:br>
              <a:rPr sz="4400"/>
            </a:br>
            <a:r>
              <a:rPr b="0" lang="en-US" sz="4400" spc="-1" strike="noStrike">
                <a:solidFill>
                  <a:srgbClr val="000099"/>
                </a:solidFill>
                <a:latin typeface="Arial"/>
              </a:rPr>
              <a:t>Report to TA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v. 6,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a:t>
            </a:r>
            <a:endParaRPr b="0" lang="en-US" sz="3600" spc="-1" strike="noStrike">
              <a:solidFill>
                <a:srgbClr val="000000"/>
              </a:solidFill>
              <a:latin typeface="Arial"/>
            </a:endParaRPr>
          </a:p>
        </p:txBody>
      </p:sp>
      <p:sp>
        <p:nvSpPr>
          <p:cNvPr id="4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CWG recommendation (possible vo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IPWG recommend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MS and COPS recommend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S and COPS voting  rules recommend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1670EB-5663-4BB4-89FF-C1334E3174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CWG recommendation</a:t>
            </a:r>
            <a:endParaRPr b="0" lang="en-US" sz="3600" spc="-1" strike="noStrike">
              <a:solidFill>
                <a:srgbClr val="000000"/>
              </a:solidFill>
              <a:latin typeface="Arial"/>
            </a:endParaRPr>
          </a:p>
        </p:txBody>
      </p:sp>
      <p:sp>
        <p:nvSpPr>
          <p:cNvPr id="4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urrent Credit Work Group membership is restricted to credit professional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eed Market Credit Work Group with broader market expertise to evaluate potential market impacts of credit polic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WG and MCWG are not redundant but serve different roles</a:t>
            </a:r>
            <a:endParaRPr b="0" lang="en-US" sz="24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WG advises Board F&amp;A, focus on ERCOT, Inc.</a:t>
            </a:r>
            <a:endParaRPr b="0" lang="en-US" sz="20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CWG advises WMS, focus on ERCOT market design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19A681E-89A0-4652-9E16-89E3AD9140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CWG recommendation</a:t>
            </a:r>
            <a:endParaRPr b="0" lang="en-US" sz="3600" spc="-1" strike="noStrike">
              <a:solidFill>
                <a:srgbClr val="000000"/>
              </a:solidFill>
              <a:latin typeface="Arial"/>
            </a:endParaRPr>
          </a:p>
        </p:txBody>
      </p:sp>
      <p:sp>
        <p:nvSpPr>
          <p:cNvPr id="48"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ASOR TF recommends TAC direct WMS to form the Market Credit Work Group (MCW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CWG charter should include the following elements:</a:t>
            </a:r>
            <a:endParaRPr b="0" lang="en-US" sz="24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rticipation open to all stakeholders</a:t>
            </a:r>
            <a:endParaRPr b="0" lang="en-US" sz="20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view relevant PRRs/NPRRs for market credit impacts</a:t>
            </a:r>
            <a:endParaRPr b="0" lang="en-US" sz="20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view credit policies and models for market credit impacts</a:t>
            </a:r>
            <a:endParaRPr b="0" lang="en-US" sz="20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ppoint liaison to CWG</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CWG charter should also specify:</a:t>
            </a:r>
            <a:endParaRPr b="0" lang="en-US" sz="24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CWG does not perform the oversight function currently performed by ERCOT Staff</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AA10228-A5A6-4ED8-900A-2A67862117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IPWG recommendation</a:t>
            </a:r>
            <a:endParaRPr b="0" lang="en-US" sz="3600" spc="-1" strike="noStrike">
              <a:solidFill>
                <a:srgbClr val="000000"/>
              </a:solidFill>
              <a:latin typeface="Arial"/>
            </a:endParaRPr>
          </a:p>
        </p:txBody>
      </p:sp>
      <p:sp>
        <p:nvSpPr>
          <p:cNvPr id="50" name="PlaceHolder 2"/>
          <p:cNvSpPr>
            <a:spLocks noGrp="1"/>
          </p:cNvSpPr>
          <p:nvPr>
            <p:ph/>
          </p:nvPr>
        </p:nvSpPr>
        <p:spPr>
          <a:xfrm>
            <a:off x="457200" y="914040"/>
            <a:ext cx="8229600" cy="5334120"/>
          </a:xfrm>
          <a:prstGeom prst="rect">
            <a:avLst/>
          </a:prstGeom>
          <a:noFill/>
          <a:ln w="0">
            <a:noFill/>
          </a:ln>
        </p:spPr>
        <p:txBody>
          <a:bodyPr lIns="90000" rIns="90000" tIns="46800" bIns="46800" anchor="t">
            <a:normAutofit fontScale="92000"/>
          </a:bodyPr>
          <a:p>
            <a:pPr marL="315360" indent="-31536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ritical Infrastructure Protection Advisory Group (CIP AG) serves as an advisory committee to ERCOT and stakeholders on cyber security, physical security, and CIP standards</a:t>
            </a:r>
            <a:endParaRPr b="0" lang="en-US" sz="2400" spc="-1" strike="noStrike">
              <a:solidFill>
                <a:srgbClr val="000000"/>
              </a:solidFill>
              <a:latin typeface="Arial"/>
            </a:endParaRPr>
          </a:p>
          <a:p>
            <a:pPr marL="3153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IP AG is not part of TAC structure and does not conform to TAC procedures, voting rules, etc.</a:t>
            </a:r>
            <a:endParaRPr b="0" lang="en-US" sz="2400" spc="-1" strike="noStrike">
              <a:solidFill>
                <a:srgbClr val="000000"/>
              </a:solidFill>
              <a:latin typeface="Arial"/>
            </a:endParaRPr>
          </a:p>
          <a:p>
            <a:pPr marL="315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rough discussion of CIP AG interaction with NERC CIPC, it appears TAC has not met requirements of ERCOT Bylaws Sec. 5.4</a:t>
            </a:r>
            <a:endParaRPr b="0" lang="en-US" sz="2400" spc="-1" strike="noStrike">
              <a:solidFill>
                <a:srgbClr val="000000"/>
              </a:solidFill>
              <a:latin typeface="Arial"/>
            </a:endParaRPr>
          </a:p>
          <a:p>
            <a:pPr lvl="1" marL="683280" indent="-2628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ection 5.4 Other Appointments</a:t>
            </a:r>
            <a:r>
              <a:rPr b="0" lang="en-US" sz="1800" spc="-1" strike="noStrike">
                <a:solidFill>
                  <a:srgbClr val="000099"/>
                </a:solidFill>
                <a:latin typeface="Arial"/>
              </a:rPr>
              <a:t>. If requested by NERC, TAC shall elect representatives to the various NERC committees and associated subcommittees, task forces, and working groups. The selection of TAC representatives to NERC shall require an act of TAC as set forth in Section 5.1(c). If more than one representative is requested, TAC should consider selecting representatives from different Segments.</a:t>
            </a:r>
            <a:r>
              <a:rPr b="0" lang="en-US" sz="1800" spc="-1" strike="noStrike">
                <a:solidFill>
                  <a:srgbClr val="000000"/>
                </a:solidFill>
                <a:latin typeface="Arial"/>
              </a:rPr>
              <a:t> </a:t>
            </a:r>
            <a:endParaRPr b="0" lang="en-US" sz="1800" spc="-1" strike="noStrike">
              <a:solidFill>
                <a:srgbClr val="000000"/>
              </a:solidFill>
              <a:latin typeface="Arial"/>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6E7252D-D6E7-4A36-BF6E-704F5A89D5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IPWG recommendation</a:t>
            </a:r>
            <a:endParaRPr b="0" lang="en-US" sz="3600" spc="-1" strike="noStrike">
              <a:solidFill>
                <a:srgbClr val="000000"/>
              </a:solidFill>
              <a:latin typeface="Arial"/>
            </a:endParaRPr>
          </a:p>
        </p:txBody>
      </p:sp>
      <p:sp>
        <p:nvSpPr>
          <p:cNvPr id="52"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fontScale="96000"/>
          </a:bodyPr>
          <a:p>
            <a:pPr marL="329040" indent="-329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ASOR TF recommends TAC direct ROS to create a CIPWG to improve stakeholder communication and action on critical infrastructure protection standards, advisories, and best practices</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CIPWG should be allowed to develop closed meeting procedures similar to PDCWG when circumstances require discussion of sensitive critical infrastructure vulnerabilities or security procedures</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rst assignment of CIPWG should be to review ERCOT Protocols, guides, practices, and procedures to ensure compliance with applicable NERC standards and industry best practi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6C42CA-3AC3-4E44-9D10-2C4615CC49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Keep RMS and COPS separate</a:t>
            </a:r>
            <a:endParaRPr b="0" lang="en-US" sz="3600" spc="-1" strike="noStrike">
              <a:solidFill>
                <a:srgbClr val="000000"/>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Question raised whether RMS and COPS have enough issue overlap that the subcommittees could be combin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though some overlap or common issues exist, the two groups have distinct focus and perform distinct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commend no change to COPS or RMS at this tim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AF6147-C32E-477A-A9B9-9765E1A4B4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PRS and COPS voting rules recommendation</a:t>
            </a:r>
            <a:endParaRPr b="0" lang="en-US" sz="3000" spc="-1" strike="noStrike">
              <a:solidFill>
                <a:srgbClr val="000000"/>
              </a:solidFill>
              <a:latin typeface="Arial"/>
            </a:endParaRPr>
          </a:p>
        </p:txBody>
      </p:sp>
      <p:sp>
        <p:nvSpPr>
          <p:cNvPr id="56"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Voting rules differ amongst TAC subgroups</a:t>
            </a:r>
            <a:endParaRPr b="0" lang="en-US" sz="24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MS, ROS, and WMS representative voting</a:t>
            </a:r>
            <a:endParaRPr b="0" lang="en-US" sz="20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S and COPS have weighted segment voting by all corporate members</a:t>
            </a:r>
            <a:endParaRPr b="0" lang="en-US" sz="20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PTF has unique voting rules adopted by TAC</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ack of uniform voting rules across committees sometimes causes confusion</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o change to voting rules recommended</a:t>
            </a:r>
            <a:endParaRPr b="0" lang="en-US" sz="24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ll ERCOT members should have a voice in market rules and settlement issues at PRS and COPS.</a:t>
            </a:r>
            <a:endParaRPr b="0" lang="en-US" sz="20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presentative voting is appropriate for other subcommittees</a:t>
            </a:r>
            <a:endParaRPr b="0" lang="en-US" sz="20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PTF rules were specifically crafted for its task</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3E77120-27C6-4801-99B6-993A0E5906EC}"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3:38:08Z</dcterms:created>
  <dc:creator>Mark Bruce, FPL Energy</dc:creator>
  <dc:description/>
  <dc:language>en-US</dc:language>
  <cp:lastModifiedBy>Mark Bruce, FPL Energy</cp:lastModifiedBy>
  <dcterms:modified xsi:type="dcterms:W3CDTF">2008-11-05T20:16:24Z</dcterms:modified>
  <cp:revision>6</cp:revision>
  <dc:subject/>
  <dc:title>Mark’s ppt template</dc:title>
</cp:coreProperties>
</file>