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3DAF665-D107-4929-BDB2-0446DEDA10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F21AF2F-FEE8-4807-AB84-4B9DE9ECE0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52A18F-59B9-43FF-BE14-48ED06D8B2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DB22898-9F47-47F3-9B7A-4927A49B31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3B02F53-AA40-4DDD-B2BC-BB38B259C0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C4464CA-C96C-4050-8D2A-56F07894BC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654FCC9-11C4-4B8B-8D03-75D0DBFACD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D16265D-4673-455E-A5D3-9DAA507575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FF11AFE-61A4-4A15-A255-01D17F179C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82AEDCF-8713-4E91-9B66-96F0DF815C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F9F90FB-7C71-4375-AB49-D3FA6D9B3C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16FACE3-08B5-4489-A3A1-FB57B173DA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C119B0F-B3A7-4F43-8D5F-268719CDD9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64BA1CF-D296-4DEE-B65A-D285846B88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4354733-FA43-4257-96E3-4EEB9A0AA2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D59CFF9-6266-460F-A848-41C2D2F096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308DAE8-145B-4BC5-B3D4-2D4BC44797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D95271C-8E5A-4ED0-BF86-839BC811E00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mickey@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rcot.com/calendar/2008/10/20081027-TPT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10/20081027-TPTF"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hyperlink" Target="http://www.ercot.com/calendar/2008/10/20081027-TPT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51-175/156/index.html" TargetMode="External"/><Relationship Id="rId2" Type="http://schemas.openxmlformats.org/officeDocument/2006/relationships/hyperlink" Target="http://nodal.ercot.com/protocols/nprr/126-150/145/index.html" TargetMode="External"/><Relationship Id="rId3" Type="http://schemas.openxmlformats.org/officeDocument/2006/relationships/hyperlink" Target="http://nodal.ercot.com/protocols/nprr/151-175/158/index.html" TargetMode="External"/><Relationship Id="rId4" Type="http://schemas.openxmlformats.org/officeDocument/2006/relationships/hyperlink" Target="http://nodal.ercot.com/protocols/nprr/151-175/159/index.html"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mktrules/issues/scr/750-774/750/index" TargetMode="External"/><Relationship Id="rId2" Type="http://schemas.openxmlformats.org/officeDocument/2006/relationships/hyperlink" Target="http://nodal.ercot.com/protocols/nprr/151-175/155/index.html" TargetMode="External"/><Relationship Id="rId3" Type="http://schemas.openxmlformats.org/officeDocument/2006/relationships/hyperlink" Target="http://www.ercot.com/mktrules/issues/prr/775-799/778/index" TargetMode="External"/><Relationship Id="rId4" Type="http://schemas.openxmlformats.org/officeDocument/2006/relationships/hyperlink" Target="http://nodal.ercot.com/protocols/nprr/151-175/151/index.html"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mktrules/issues/prr/725-749/743/index"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nodal.ercot.com/protocols/nprr/151-175/151/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A29BD12-27AB-4766-A90C-7275959F26C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November 6, 2008</a:t>
            </a:r>
            <a:br>
              <a:rPr sz="2000"/>
            </a:br>
            <a:br>
              <a:rPr sz="2800"/>
            </a:br>
            <a:r>
              <a:rPr b="0" lang="en-GB" sz="1600" spc="-1" strike="noStrike">
                <a:solidFill>
                  <a:srgbClr val="5469a2"/>
                </a:solidFill>
                <a:latin typeface="Arial"/>
              </a:rPr>
              <a:t>Joel Mickey</a:t>
            </a:r>
            <a:br>
              <a:rPr sz="1600"/>
            </a:br>
            <a:r>
              <a:rPr b="0" lang="en-GB" sz="1600" spc="-1" strike="noStrike" u="sng">
                <a:solidFill>
                  <a:srgbClr val="009999"/>
                </a:solidFill>
                <a:uFillTx/>
                <a:latin typeface="Arial"/>
                <a:hlinkClick r:id="rId1"/>
              </a:rPr>
              <a:t>jmickey@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85"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recognized NPRR145, PPAs as Resource-Specific Verifiable Costs Documentation, as "Needed for Go-Live."</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151933E-8332-4F8C-9A47-206EE679910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88" name=""/>
          <p:cNvGraphicFramePr/>
          <p:nvPr/>
        </p:nvGraphicFramePr>
        <p:xfrm>
          <a:off x="304920" y="3581280"/>
          <a:ext cx="8610480" cy="21686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endorsed forwarding TPTF comments to PRS for NPRR159, Resource Category Startup Offer Generic Cap for Wind Resources. TPTF recognized NPRR159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90"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89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4, 2008, TPTF endorsed the System Implementation Group (SIG) paper SIG0002 Private Use Networks v0.27.</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0EA3663-C2CC-4659-B842-5D1EC436C12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27 – 28, 2008</a:t>
            </a:r>
            <a:endParaRPr b="0" lang="en-US" sz="1800" spc="-1" strike="noStrike">
              <a:solidFill>
                <a:srgbClr val="000000"/>
              </a:solidFill>
              <a:latin typeface="Arial"/>
            </a:endParaRPr>
          </a:p>
        </p:txBody>
      </p:sp>
      <p:graphicFrame>
        <p:nvGraphicFramePr>
          <p:cNvPr id="94"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7, 2008, TPTF endorsed draft SCR, Allow QSEs to Enter Outages for all Assets, to be submitted on behalf of TPTF and requested that the feasibility study will be conducted within 60 days.</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D8F5194-B16A-4667-A225-48CFBE8CC23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6" name=""/>
          <p:cNvGraphicFramePr/>
          <p:nvPr/>
        </p:nvGraphicFramePr>
        <p:xfrm>
          <a:off x="304920" y="35053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7, 2008, TPTF endorsed the COMS Nodal Verifiable Cost Implementation Plan v.18 as submitted to TPTF.</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27- 2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27 – 28, 2008</a:t>
            </a:r>
            <a:endParaRPr b="0" lang="en-US" sz="1800" spc="-1" strike="noStrike">
              <a:solidFill>
                <a:srgbClr val="000000"/>
              </a:solidFill>
              <a:latin typeface="Arial"/>
            </a:endParaRPr>
          </a:p>
        </p:txBody>
      </p:sp>
      <p:graphicFrame>
        <p:nvGraphicFramePr>
          <p:cNvPr id="99"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8, 2008, TPTF approved the Texas Nodal Process Timeline v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39E17AF-010F-4CA7-8E65-039DA3D8E3C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27- 2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D7F04F3-3329-415C-8F81-2B5DF064DD0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4" name="Text Box 6"/>
          <p:cNvSpPr/>
          <p:nvPr/>
        </p:nvSpPr>
        <p:spPr>
          <a:xfrm>
            <a:off x="380880" y="792000"/>
            <a:ext cx="8610840" cy="1149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0 – 11</a:t>
            </a:r>
            <a:endParaRPr b="0" lang="en-US" sz="1600" spc="-1" strike="noStrike">
              <a:solidFill>
                <a:srgbClr val="000000"/>
              </a:solidFill>
              <a:latin typeface="Arial"/>
            </a:endParaRPr>
          </a:p>
          <a:p>
            <a:pPr lvl="1" marL="685800" indent="-228600">
              <a:lnSpc>
                <a:spcPct val="8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November 24 - 26 Cancelled</a:t>
            </a:r>
            <a:r>
              <a:rPr b="0"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p:txBody>
      </p:sp>
      <p:sp>
        <p:nvSpPr>
          <p:cNvPr id="105"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8"/>
          <p:cNvSpPr/>
          <p:nvPr/>
        </p:nvSpPr>
        <p:spPr>
          <a:xfrm>
            <a:off x="683280" y="205740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1"/>
              </a:rPr>
              <a:t>2008 TPTF Calendar</a:t>
            </a:r>
            <a:endParaRPr b="0" lang="en-US" sz="1600" spc="-1" strike="noStrike">
              <a:solidFill>
                <a:srgbClr val="000000"/>
              </a:solidFill>
              <a:latin typeface="Arial"/>
            </a:endParaRPr>
          </a:p>
        </p:txBody>
      </p:sp>
      <p:sp>
        <p:nvSpPr>
          <p:cNvPr id="108"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DC64E32-56D6-404C-B4C2-E670A0F8F8A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1" name="Text Box 6"/>
          <p:cNvSpPr/>
          <p:nvPr/>
        </p:nvSpPr>
        <p:spPr>
          <a:xfrm>
            <a:off x="380880" y="765000"/>
            <a:ext cx="8763120" cy="486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November 10 – 11 TPTF meeting, likely topics includ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Status Updat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rganizational Cha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0, Elimination of the Non-ERCOT LSE Fe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mments from the TPTF Review (Oct 22 – Nov 5)</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61, Clarification of Establishing Decision-Making Authority of Managed Capacity</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mments from the TPTF Review (Oct 22 – Nov 5)</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RWG Issues:</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M Re-submittal of AS Offers by Resources submitting linked AS and 3 part offers in the DAM</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C commitment issues for Resources and potential RUC Process solutions</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1, Clarify Definition of a Generator Output Breaker in the Outage Scheduler</a:t>
            </a:r>
            <a:endParaRPr b="0" lang="en-US" sz="1600" spc="-1" strike="noStrike">
              <a:solidFill>
                <a:srgbClr val="000000"/>
              </a:solidFill>
              <a:latin typeface="Arial"/>
            </a:endParaRPr>
          </a:p>
        </p:txBody>
      </p:sp>
      <p:sp>
        <p:nvSpPr>
          <p:cNvPr id="11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0A796EE-B49D-4AD7-A9E1-9001845900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17"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4656C4B-041E-4050-9A95-43C61AD279B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942840"/>
          <a:ext cx="8763120" cy="174168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Next Meeting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644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pproval of Milestone</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50CEAAA-C48A-478C-AC69-C60C6B60F1E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1" name="Text Box 6"/>
          <p:cNvSpPr/>
          <p:nvPr/>
        </p:nvSpPr>
        <p:spPr>
          <a:xfrm>
            <a:off x="380880" y="89388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o times since the previous TAC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October 13 – 14,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October 27 – 28,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43646A0-15AF-428E-9E97-690F8A96186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13 – 14, 2008:   </a:t>
            </a:r>
            <a:endParaRPr b="0" lang="en-US" sz="1800" spc="-1" strike="noStrike">
              <a:solidFill>
                <a:srgbClr val="000000"/>
              </a:solidFill>
              <a:latin typeface="Arial"/>
            </a:endParaRPr>
          </a:p>
        </p:txBody>
      </p:sp>
      <p:sp>
        <p:nvSpPr>
          <p:cNvPr id="64" name="Text Box 6"/>
          <p:cNvSpPr/>
          <p:nvPr/>
        </p:nvSpPr>
        <p:spPr>
          <a:xfrm>
            <a:off x="380880" y="914400"/>
            <a:ext cx="8534520" cy="614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13,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trols Updat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6</a:t>
            </a:r>
            <a:r>
              <a:rPr b="0" lang="en-US" sz="1600" spc="-1" strike="noStrike">
                <a:solidFill>
                  <a:srgbClr val="000000"/>
                </a:solidFill>
                <a:latin typeface="Arial"/>
              </a:rPr>
              <a:t>, Transparency for PSS and Full Interconnection Studi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56 to be submitted to PRS and recognized the essentiality status of NPRR156 to be “Nodal Approved Post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5</a:t>
            </a:r>
            <a:r>
              <a:rPr b="0" lang="en-US" sz="1600" spc="-1" strike="noStrike">
                <a:solidFill>
                  <a:srgbClr val="000000"/>
                </a:solidFill>
                <a:latin typeface="Arial"/>
              </a:rPr>
              <a:t>,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essentiality status of NPRR145 for nodal go-live and determined it to be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on revised specifications for MIS Dashboard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58</a:t>
            </a:r>
            <a:r>
              <a:rPr b="0" lang="en-US" sz="1600" spc="-1" strike="noStrike">
                <a:solidFill>
                  <a:srgbClr val="000000"/>
                </a:solidFill>
                <a:latin typeface="Arial"/>
              </a:rPr>
              <a:t>, EILS Self-Provision Formula Correction and Clarification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ussion of NPRR158 was deferred to a future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59</a:t>
            </a:r>
            <a:r>
              <a:rPr b="0" lang="en-US" sz="1600" spc="-1" strike="noStrike">
                <a:solidFill>
                  <a:srgbClr val="000000"/>
                </a:solidFill>
                <a:latin typeface="Arial"/>
              </a:rPr>
              <a:t>, Resource Category Startup Offer Generic Cap for Wind Resourc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59 to be submitted to PRS and recognized the essentiality status of NPRR156 to be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RCOT Process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rom the Aug 14-28 TPTF Review of the DAM Desk Operating Procedure Manual and Wholesale Market and DAM Process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79B8BBC-5501-4A38-AB93-9111B455A80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13 – 14, 2008:   </a:t>
            </a:r>
            <a:endParaRPr b="0" lang="en-US" sz="1800" spc="-1" strike="noStrike">
              <a:solidFill>
                <a:srgbClr val="000000"/>
              </a:solidFill>
              <a:latin typeface="Arial"/>
            </a:endParaRPr>
          </a:p>
        </p:txBody>
      </p:sp>
      <p:sp>
        <p:nvSpPr>
          <p:cNvPr id="67" name="Text Box 6"/>
          <p:cNvSpPr/>
          <p:nvPr/>
        </p:nvSpPr>
        <p:spPr>
          <a:xfrm>
            <a:off x="380880" y="914400"/>
            <a:ext cx="8534520" cy="5349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14,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Process Updat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CR750</a:t>
            </a:r>
            <a:r>
              <a:rPr b="0" lang="en-US" sz="1600" spc="-1" strike="noStrike">
                <a:solidFill>
                  <a:srgbClr val="000000"/>
                </a:solidFill>
                <a:latin typeface="Arial"/>
              </a:rPr>
              <a:t>, Upgrade ERCOT’s Systems so Users Can Upgrade to Internet Explorer 7.0 and Beyon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SCR750 and recommended revisiting the SCR to consider any nodal-specific implications following the Oct. 23 PRS discussion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updates to the SIG0002 Private Use Network (PUN) paper v0.27 to incorporate the TPTF-endorsed approach for Ramp Rate submissions, which recommends submitting the net Ramp Rates for PUNs as a function of gross MW output and the Ramp Rates for all other units as a function of net MW output</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5</a:t>
            </a:r>
            <a:r>
              <a:rPr b="0" lang="en-US" sz="1600" spc="-1" strike="noStrike">
                <a:solidFill>
                  <a:srgbClr val="000000"/>
                </a:solidFill>
                <a:latin typeface="Arial"/>
              </a:rPr>
              <a:t>, Clarification of Authorized Representat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its discussion of NPRR155 to follow ERCOT Board action on the companion </a:t>
            </a:r>
            <a:r>
              <a:rPr b="0" lang="en-US" sz="1600" spc="-1" strike="noStrike" u="sng">
                <a:solidFill>
                  <a:srgbClr val="009999"/>
                </a:solidFill>
                <a:uFillTx/>
                <a:latin typeface="Arial"/>
                <a:hlinkClick r:id="rId3"/>
              </a:rPr>
              <a:t>PRR778</a:t>
            </a:r>
            <a:r>
              <a:rPr b="0" lang="en-US" sz="1600" spc="-1" strike="noStrike">
                <a:solidFill>
                  <a:srgbClr val="000000"/>
                </a:solidFill>
                <a:latin typeface="Arial"/>
              </a:rPr>
              <a:t>, Clarification of Authorized Representat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51</a:t>
            </a:r>
            <a:r>
              <a:rPr b="0" lang="en-US" sz="1600" spc="-1" strike="noStrike">
                <a:solidFill>
                  <a:srgbClr val="000000"/>
                </a:solidFill>
                <a:latin typeface="Arial"/>
              </a:rPr>
              <a:t>, Clarify Definition of a Generator Output Breaker in the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ept. 24, PRS referred NPRR151 to TPTF to review market com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 14, TPTF referred NPRR151 to the Quick Response Work Group (QRWG) and will resume its discussion following the QRWG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recent updates to the EIP External Interfaces Specification v1.16 </a:t>
            </a:r>
            <a:endParaRPr b="0" lang="en-US" sz="1600" spc="-1" strike="noStrike">
              <a:solidFill>
                <a:srgbClr val="000000"/>
              </a:solidFill>
              <a:latin typeface="Arial"/>
            </a:endParaRPr>
          </a:p>
        </p:txBody>
      </p:sp>
      <p:sp>
        <p:nvSpPr>
          <p:cNvPr id="68"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41426E-D655-4197-9439-EAE14FE471D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6"/>
          <p:cNvSpPr/>
          <p:nvPr/>
        </p:nvSpPr>
        <p:spPr>
          <a:xfrm>
            <a:off x="380880" y="914400"/>
            <a:ext cx="8534520" cy="570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7,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Program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on Business Requiremen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pproach to approving revisions for Business Requirements as they become updated to incorporate post-Baseline 2 NPRR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Updat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SCR, Allow QSEs to Enter Outages for all Asse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ober 27, 2008, TPTF endorsed draft SCR, Allow QSEs to Enter Outages for all Assets, to be submitted on behalf of TPTF and requested that the feasibility study will be conducted within 60 day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one abstention from the Independent Power Marketer Market Segment (CitiGroup Energy, Inc.). The Consumer Market Segment was not represented for the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 Implementation Plan: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ctober 27, 2008, TPTF endorsed the COMS Nodal Verifiable Cost Implementation Plan v.18 as submitted to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unanimous roll-call vote. The Consumer Market Segment was not represented for the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A5C8E96-F7C6-43EB-8A44-544E36453EF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Process Flow</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R to CRR Transition Plan</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cent revisions synchronizing the TCR to CRR Transition Plan with </a:t>
            </a:r>
            <a:r>
              <a:rPr b="0" lang="en-US" sz="1600" spc="-1" strike="noStrike" u="sng">
                <a:solidFill>
                  <a:srgbClr val="009999"/>
                </a:solidFill>
                <a:uFillTx/>
                <a:latin typeface="Arial"/>
                <a:hlinkClick r:id="rId1"/>
              </a:rPr>
              <a:t>PRR743</a:t>
            </a:r>
            <a:r>
              <a:rPr b="0" lang="en-US" sz="1600" spc="-1" strike="noStrike">
                <a:solidFill>
                  <a:srgbClr val="000000"/>
                </a:solidFill>
                <a:latin typeface="Arial"/>
              </a:rPr>
              <a:t>, TCR to CRR Transition Plan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ICCP Communication Handbook Revisions – Initial Revie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ewed recent proposed updates for the Nodal ICCP Communication Handbook and corresponding Protocol changes in the proposed Draft NPRR, Removal of Settlement Point LMPs from ICCP Telemetry Requiremen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Wide Offer Cap Process and Timelin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current implementation, process, and timeline for System-Wide Offer Cap</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Process Timelin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updates for the Texas Nodal Process Timelin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NPRR to synchronize Nodal Protocols Section 1, Overview, with PRR697, Posting Requirement Chang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NPRR, Change Sign Convention for Load Resourc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ERCOT comments for NPRR157, Extending Black Start Service Bid Timeline</a:t>
            </a:r>
            <a:endParaRPr b="0" lang="en-US" sz="1600" spc="-1" strike="noStrike">
              <a:solidFill>
                <a:srgbClr val="000000"/>
              </a:solidFill>
              <a:latin typeface="Arial"/>
            </a:endParaRPr>
          </a:p>
        </p:txBody>
      </p:sp>
      <p:sp>
        <p:nvSpPr>
          <p:cNvPr id="7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4E85DB-618A-4967-BD59-B0E1689F755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Text Box 6"/>
          <p:cNvSpPr/>
          <p:nvPr/>
        </p:nvSpPr>
        <p:spPr>
          <a:xfrm>
            <a:off x="380880" y="914400"/>
            <a:ext cx="8534520" cy="2618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ctober 2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Response Work Group (QRWG) Issu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outcome of the September 15th QRWG WebEx meeting on RUC commitment issu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ctive issue: SASM Re-submittal of AS Offers by Resources submitting linked AS and 3 part offers in the DAM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entry issues related to </a:t>
            </a:r>
            <a:r>
              <a:rPr b="0" lang="en-US" sz="1600" spc="-1" strike="noStrike" u="sng">
                <a:solidFill>
                  <a:srgbClr val="009999"/>
                </a:solidFill>
                <a:uFillTx/>
                <a:latin typeface="Arial"/>
                <a:hlinkClick r:id="rId1"/>
              </a:rPr>
              <a:t>NPRR151</a:t>
            </a:r>
            <a:r>
              <a:rPr b="0" lang="en-US" sz="1600" spc="-1" strike="noStrike">
                <a:solidFill>
                  <a:srgbClr val="000000"/>
                </a:solidFill>
                <a:latin typeface="Arial"/>
              </a:rPr>
              <a:t>, Clarify Definition of a Generator Output Breaker in the Outage Scheduler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October 27 – 28, 2008:   </a:t>
            </a:r>
            <a:endParaRPr b="0" lang="en-US" sz="1800" spc="-1" strike="noStrike">
              <a:solidFill>
                <a:srgbClr val="000000"/>
              </a:solidFill>
              <a:latin typeface="Arial"/>
            </a:endParaRPr>
          </a:p>
        </p:txBody>
      </p:sp>
      <p:sp>
        <p:nvSpPr>
          <p:cNvPr id="78"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October 13 – 14, 2008</a:t>
            </a:r>
            <a:endParaRPr b="0" lang="en-US" sz="1800" spc="-1" strike="noStrike">
              <a:solidFill>
                <a:srgbClr val="000000"/>
              </a:solidFill>
              <a:latin typeface="Arial"/>
            </a:endParaRPr>
          </a:p>
        </p:txBody>
      </p:sp>
      <p:graphicFrame>
        <p:nvGraphicFramePr>
          <p:cNvPr id="80" name=""/>
          <p:cNvGraphicFramePr/>
          <p:nvPr/>
        </p:nvGraphicFramePr>
        <p:xfrm>
          <a:off x="304920" y="3581280"/>
          <a:ext cx="8610480" cy="22035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recognized NPRR156 as "Nodal Approved Post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Oct. 13-14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82"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3, 2008, TPTF endorsed forwarding TPTF comments to PRS for NPRR156, Transparency for PSS and Full Interconnection Stud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Energy San Antoni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A02899D-51D1-4DAF-8E6E-01B04E1BC80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Joel Mickey</cp:lastModifiedBy>
  <dcterms:modified xsi:type="dcterms:W3CDTF">2008-10-30T15:56:25Z</dcterms:modified>
  <cp:revision>1337</cp:revision>
  <dc:subject/>
  <dc:title>TAC Update</dc:title>
</cp:coreProperties>
</file>