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64E-3251-48AA-AD7D-D1E362F4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7F1-062C-4D3E-881F-564C3A1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D60-0A83-4DCD-8025-FA97B05C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9CA-EEBD-4549-8EA0-FB11E90E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EA52-D3D9-4860-B97E-28ED8FFA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A4C7-3388-4CC1-B840-DB9F1A9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1A7D-8812-4F9C-9000-1892B631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64CA-7910-46F8-A9B9-C303272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21BC-3818-4078-BB47-AC45E88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8BB-8F3F-4796-A1FE-201FBEF5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25D3-F428-480F-9E85-DA0FB194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C67-C461-465D-AFF4-60712EDE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48D9-252F-4A2C-9BFE-B113BE0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32EA-F7C1-4175-B4EF-C23F6975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0081-CF1C-4BF4-A727-386AEB63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15A2-76F5-4A8A-BB86-43734885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C71C-B2F6-40B5-AFDA-83EE84A0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A84-6A97-4F47-92F4-FEC8F90D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B5D-BFE0-4AB1-AEE4-E20DDEC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1C8-F8A6-49F9-9689-1C305C47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C1F-BB39-4AE4-814B-FC07BACD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1CB-5E5D-45F1-833A-4FE8A9A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70E-84B6-490B-9B80-EFB5E91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AB4-424D-46FA-A5E2-830CB74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DDC7-CFD5-444D-9A47-73299D8FC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DBA9-C9BC-4074-98F0-373CDF0C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November 6, 2008 TAC Meetin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approved at ROS October meeting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CIP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2009 PPL (Project Priority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expressed that some needed Zonal projects were not pursued as Nodal was to go live – and, now don’t know when Nodal will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expressed transferring the Operator Training Simulator to Nodal will result in all costs being borne by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Market Participant Survey Action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SCR750 – Upgrade ERCOT’s Systems so Users Can Upgrade to Internet Explorer 7.0 and Bey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Draft OGRR ‘Generation Resource Response Time Requiremen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GRTF and OWG  to pursue through normal OGG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AR Study Update – “On Schedu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WG Procedures – Proposed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ppendix J for modeling of the Mexico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email vote conducted after the ROS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10966</cp:lastModifiedBy>
  <dcterms:modified xsi:type="dcterms:W3CDTF">2008-10-30T17:26:02Z</dcterms:modified>
  <cp:revision>85</cp:revision>
  <dc:subject/>
  <dc:title>ROS’ Action Plan – Following Up on 2/26 EECP &amp; Wind Workshop Issues</dc:title>
</cp:coreProperties>
</file>