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5CB0-A38A-4AD0-9445-5927CA66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03B-70A4-4BB7-9F29-10533B6C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BCD-1B8D-4FE1-BDE5-92F165CE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57C-726C-4B8E-B61A-8BFD8400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E93-E053-482D-8CD7-6FE3E5D5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C9C-5B59-485D-8CED-2D5697B9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2DF-851F-43CE-AD45-08CAB9FC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C69-F55D-4BB5-B51A-75DE89C3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3E5-DB43-42CC-81C6-42A219C0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A9B-4CDF-45A3-8F4B-2CE04E87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576-65CC-454F-9E82-7570EDA0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BC5-878B-4706-B4D7-6C54CAB4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99E4-0C3E-425F-88E7-117B2FEFA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able Technology Working Group (RTW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to 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6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Durrwa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7DA-5C28-42CB-A10E-01039AF10E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WG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meeting held 10-24-2008 at ERCOT Austin off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0 to 35 (including several on the phone) representing generators, loads, wind developers, wires companies, ERCOT, OPUC and the I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TASOR TF Recommendation to TAC regarding RT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an development of issues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meeting scheduled for November 21 at ERCOT Austin off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86E-DF9F-4179-AEA5-789732E1D9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WG Recommended Change to RTWG Char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Charter wo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quarterly reports to TAC to support the ERCOT process to provide quarterly reports to the PU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arding CREZ imple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PUCT Final Order in Docket No. 33672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ward that goal, the Commission directs ERCOT, through any committee or task force as designated by ERCOT, to report to the Commission on a quarterly bas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arding reli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ssues being studi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changing RTWG charter to comport with PUCT Final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quarterly reports to TAC to support the ERCOT process to provide quarterly reports to the PU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arding reliability and  integ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ssues related to renewable resource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884-B9E5-4593-9962-516DF10F49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better facilitate the role of the RTWG, it is recommended that WMS and ROS each designate a representative to serve as a liaison between RTWG and WMS or 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MS or ROS representative wou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d RTWG meeting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tatus reports to RTWG on activities underway in the working groups and task forces of WMS and ROS related to integration of renewable resources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issues assigned by the RTWG to WMS or ROS for assignment to the appropriate WMS or ROS working group or task force for resolution and/or recommenda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02B-4BBE-4556-AE86-71FBF93184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20:12:09Z</dcterms:created>
  <dc:creator>Henry Durrwachter</dc:creator>
  <dc:description/>
  <dc:language>en-US</dc:language>
  <cp:lastModifiedBy>Henry Durrwachter</cp:lastModifiedBy>
  <dcterms:modified xsi:type="dcterms:W3CDTF">2008-10-30T14:23:24Z</dcterms:modified>
  <cp:revision>8</cp:revision>
  <dc:subject/>
  <dc:title>Renewable Technology Working Group (RTWG)</dc:title>
</cp:coreProperties>
</file>