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A5B-245A-4056-BF1B-10A2C8D5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C05-B1BE-47C3-BEC8-2AA7A8A8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FD0-D295-4340-A724-DFAC35E6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6A4-E761-4837-9F17-EADF39E3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4B13-7492-450C-8D27-71F3AA0E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332C-9BFE-4490-A6C9-B4A2130C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A0F4-76D4-474E-B1EC-AA94D8E7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6F45-B776-4DC3-8C9A-C34F3DCE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BBEF-08CE-46DF-B8AF-C045280F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0EC5-4D93-44D1-91B5-2E6B1954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7F1F-1D89-40FE-A544-D28EEC4A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83E-6B4B-447C-B4DE-5E22A19A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4259-31D5-4FF0-A42B-000F6051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03B1-126F-4289-86B7-F4247E75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E740-9CAC-4420-9E13-1E02014D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66D7-5712-4C57-941B-DF522848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0D02-5FBA-4073-BB51-9018B9C0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854-1FAD-4BDC-B0A8-7BADD19B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682-BE5B-4661-81AB-E083636E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B5A-7E01-4DCB-A894-38304E2A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F16-5F54-4D27-B03D-5AB1B862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E4C-4E02-400B-B058-3A1D1B7E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D19-31C5-4B77-BD75-8AE8F2DB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DD6-0D0E-4DD2-BA6A-7A663970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A634-38BA-49C2-A2BC-6EDE9A93AA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31A8-A56E-4E3A-98F4-3C5DBE0AA7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ub-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November 6, 200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ighlights of Oct. 14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COPS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yle Miller provided an overview of Hurricane Ike restoration eff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ck Moore COPS Vice Chair provided COPS members with an update regarding the TAC August 2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tr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S discussed SCR750 - proposed Upgrade of ERCOT’s Systems to Internet Explorer 7.0 and beyo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general consensus was that the matter be reviewed carefully, and any migration to New versions of “Explorer” and/or other “web products” be considered carefull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haps consider supporting other common browsers and not just Explor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ed the 2009 PPL Re-plann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ing discussion and consideration of clarifying language, COPS  voted unanimously to approve the 2009 MO PP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C Assignment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Participant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discussion of survey responses as they relat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pute Re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ly response of information reque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ificant number of ADR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ter understanding of disput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mat of Settlement Stat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ments have remain mostly unchanged since last 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al statements are a significant improv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et participants will have to “Shadow” from extr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ta Extracts and Repo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onses most likely the result of recent system fail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S members to submit comments for ERCOT consid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52280" y="-534168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522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WG / SDAWG Joint meeting 10/20/0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ussed EILS settlement issues, agreeing to work with ERCOT Staff to develop language that will clarify the settlement proc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keholders concerned about how load ratio share may swing for the contract period (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ILS period settled using initial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believes they can proceed moving forward using the Final Load (channel 4, or 59 day settled load) for remaining EILS contract period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reviewed stabilization efforts of current zonal 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rned the delay of Nodal market and impact upon reliability of current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ed expansion capability of existing systems &amp; history of data 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with RMS - perhaps combining the Retail and Data Extract Service Level Agre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many aspects of each SLA that relate to each ot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C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developing nodal Sections in the COPM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ed COPMGRR for  a new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ction 3, Organizational Stru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PMGRR00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ed COPMGRR for an updat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ppendix A, with Data Extracts and Reports Service Level Agre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PMGRR00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llowing discussion COPS voted to recomme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pproval of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OPMGRR007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&amp;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OPMGRR008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o TAC – motion carried unanimously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d PWG 2008 Goals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ked by Target 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6440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572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W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PGRR03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file Decision Tree changes for Distributed Renewable Gene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COPS appro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discuss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S voted unanimously to recommend to TAC approval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PGRR0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9840" y="75960"/>
            <a:ext cx="53341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5c984"/>
                </a:solidFill>
                <a:uFillTx/>
                <a:latin typeface="Arial"/>
              </a:rPr>
              <a:t>Voting I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PMGRR00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dds a new Section 3, “Organizational Structure” to Market 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PMGRR00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updates Appendix A, to include “Data Extracts and Reports Service Level Agreemen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5c984"/>
                </a:solidFill>
                <a:uFillTx/>
                <a:latin typeface="Arial"/>
              </a:rPr>
              <a:t>Vo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PGRR03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rofile Decision Tree changes for Distributed Renewable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5c984"/>
                </a:solidFill>
                <a:uFillTx/>
                <a:latin typeface="Arial"/>
              </a:rPr>
              <a:t>Vo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Lee R. Starr</cp:lastModifiedBy>
  <dcterms:modified xsi:type="dcterms:W3CDTF">2008-10-29T20:43:17Z</dcterms:modified>
  <cp:revision>30</cp:revision>
  <dc:subject/>
  <dc:title>Slide 1</dc:title>
</cp:coreProperties>
</file>