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FD67-08ED-4B32-8440-A5DAAFCB5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D42B-D5F7-43F5-8137-9AF19C60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9A68-CE47-4FC7-B230-F2C1F14C3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C84B-A923-4F24-BF68-B07EE1A2C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4B13-9EF1-4378-A656-2F35DB88B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4250-2029-4532-862C-5DD38635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323E-9B01-4834-8864-5FC64C0C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B618-EF24-4580-A1C0-4CEDDCB0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3299-CE49-4B2B-8BF7-9967CBB2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6D6F-666B-4226-B70D-E6C5CAC9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3897-084A-467F-8CEA-F0899E5B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A316-23C2-497A-9E79-057EA6BA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9BCB-D892-4C69-9CF7-7500A060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508F-CE30-4E34-9AC8-D542FB87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EE7D-FC3D-4183-A346-CB867088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B2B8-688B-4CE5-8109-63E284D1D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9521-5663-4CCA-AC0C-9E66AA33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16A8-CA7C-414F-AD77-0160D7C6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31D0-3736-4C83-A0BC-7DC81D4D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ED90-1E2E-4A1E-8ED7-7C14A16F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1994-72C3-4A38-ADF2-77993785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6B10-67D9-4B87-9FBE-806FE203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AC83-01D1-4B56-889A-1B2D4002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A907-7D3F-49C1-9A38-E7DEFE38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C37D-8711-46A3-BED7-1D049117D73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E688-BA22-450D-B34C-3CE18D03DD4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RR 776 in the Context 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f the ERCOT Market Desig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1640" y="2927520"/>
            <a:ext cx="43434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ric S. Schubert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Regulatory Affairs Adviso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BP Energy Compan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358A-CDAC-46ED-91F8-BC8E23FA85B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erns about PRR 776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R 776 could undermine successful ERCOT energy-only market desig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intended consequences of propos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R 776 could be problematic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ncillary service procuremen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al-time reliabili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ng-term resource adequac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mand-response justification likely undermined by the consequences of parameters in PRR 776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aste makes was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ery little debate and review of proposal relative to market impac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DF proposal was significantly improved by being remand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2D91-79C6-44FA-B838-B4FF8E1B64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ricing in the ERCOT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lancing Energy Marke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mited debate over PRR 776 has shown some potential misunderstandin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ot market prices always settle at short-run marginal costs in other U.S. markets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gh offers by generators that cause high MCPEs in ERCOT are inappropriate”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ed to put market offers and clearing prices in ERCOT into larger perspec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28FE-A103-4BA5-872D-9081C5B4CE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source Adequacy in Non-ERCOT Markets in the United Stat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oads: Mandatory contracting to cover spot market exposu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Arial"/>
              </a:rPr>
              <a:t>Centralized capacity auction (PJM, ISO-NE; 3-5 years ahead)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Arial"/>
              </a:rPr>
              <a:t>Bilateral capacity contracts (MISO: 30 days or more ahead)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enerators: Mandatory participation in spot mark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Arial"/>
              </a:rPr>
              <a:t>Earn revenues above their marginal costs outside the spot market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Arial"/>
              </a:rPr>
              <a:t>Accept a “must-offer” requirement into spot market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oads cover investment risk of generators in exchange for limited price risk associated with real-time redispatc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ERC has recognized the need for shortage pricing to mainta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Arial"/>
              </a:rPr>
              <a:t>Reliability in real-time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Arial"/>
              </a:rPr>
              <a:t>Resource adequacy in the long run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4341-5C79-45FA-A3FA-C30ED09947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source Adequacy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 the ERCOT Marke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source adequacy mechanism in PUCT Substantive Rules 25.504 and 25.505 is unique within the U.S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Allows retail and wholesale markets flexibility in contracting by placing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vestment risk on generator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ice risk on load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Addresses system-wide market power through “small fish swim free”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uring the rulemaking process, the PUCT was told b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Retailers and industrial loads that they would accept price risk to avoid capacity payments seen in PJM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Generators would accept investment risk if they were allowed to make offers above short-run marginal costs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source adequacy in ERCOT functions when investment risk for generators and price risk for loads are in rough balan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mall fish swim free” approach was approach chosen by PUCT to balance investment risk and price ris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499E-6EEF-47BD-9197-11A1A6A912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nintended Consequences of PRR 776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rupts balance between price risk and investment ris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rtificially lowers spot pr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source Adequacy impact: Reduces ability of generators to cover their fixed cos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liability impact: Increases demand and lowers supply for real-time energ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ces ERCOT to procure more RP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rease uplift to loads because of a lack of direct assignment of RPRS procurement cos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oads that short the market will have other loads pay for starting generation that was out of the mone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A40A-A244-417D-A080-A255BDA6BA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mand Side Fallac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ginning Nov. 1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NSRS has been procured for all interv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$175 cap could serve as a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de fact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hard price cap for the real-time mark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RCOT will procure RPRS or OOMC to cover the shortfa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RPRS or OOMC is procured, real-time price for energy often falls and undermines the price signal needed for demand respon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9962-9194-4E17-8168-41C8783343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RR 776 Could Endanger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RCOT Energy-Only Marke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RCOT is uniqu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lows loads to prudently manage their contracts up to real-ti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signed to work with successful ERCOT retail mark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re is no free lunch for loads that want to chronically short the mark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reatly upsets the balance between supply and demand, price risk and investment ris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ternatives to current market design would greatly reduce the ability of loads to manage risk through voluntary bilateral contract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F01C-9EC2-41C1-8C55-053AA4B172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quested Action by TA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mand PRR 776 to WMS on a timeline to address iss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view tradeoffs in ancillary service pricing, uplift, reliability, and long-term resource adequa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k with ERCOT staff and ERCOT IMM to determine software capabilities and parameter estima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87EE-95C3-4068-A0A6-FD093211A5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0:26:49Z</dcterms:created>
  <dc:creator>BP - Judy Briscoe</dc:creator>
  <dc:description/>
  <dc:language>en-US</dc:language>
  <cp:lastModifiedBy>BPPassPort User</cp:lastModifiedBy>
  <dcterms:modified xsi:type="dcterms:W3CDTF">2008-11-05T19:33:11Z</dcterms:modified>
  <cp:revision>39</cp:revision>
  <dc:subject/>
  <dc:title>PRR 776 Discussion</dc:title>
</cp:coreProperties>
</file>