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A51A55-E60C-4DCA-BBEB-329B651D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1FAD2B-10E9-4741-8E4B-8A3DD7FE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FA0EEF-13F3-4F20-B874-1175CC7B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DAF0-37ED-4F9B-A6F2-21E9084EA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6144-5255-4C06-882A-195060574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A26D-8EBC-4D28-A90F-FCA9B8596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5EDF-1E8B-42DB-A46F-0FEE6CFB0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7BA4-DD4A-4DAA-A3E2-95A40B930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24B2-F505-4CF8-88C2-743A878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08CC-647A-4095-9CF9-4E7199E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1D0-57D4-4274-9361-B7B4DF8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5DEB-3C37-4D94-A506-0704984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6DC-1D03-4BBC-9A7A-E279773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2FC8-9062-40E1-B878-E439CF5CDD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68D7-FE7D-48FC-9679-9F4BFF08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A5E-29A8-49E3-92B9-01D78FB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799-340F-402C-B52A-2839C00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830-46B8-461D-A393-EE9CAC06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742-C4CF-4549-846A-A9DA0B7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B93-7DD6-492E-ABBF-AEAA5D50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8DE-E5D9-4CB7-8435-22B1A801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EFE5-3558-4B80-84CA-08D3C2AED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3403-EDF6-417A-BC86-16A6D378B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C8A0-7B95-4206-B7FA-926CC6E8F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F837-77EE-4B50-9A3D-E671CBF35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7190-C73D-4522-AADC-DC7E5ED6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1C0E-4320-45C4-A28A-6B71D64C7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0FC8-A38C-498A-84AA-DD9D8756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85B-6246-4AE8-81A9-B4B90216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28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chelle Z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D41-0F48-462E-A7E8-015E3B028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47712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CR-CRR Transition Pla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xas Nodal Program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0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otal refund of auction revenues to a TCR/PCR owner of record is calculated as follow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RRAM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= -1 * (TCRM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TCR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TCR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shall refund each TCR owner of record of its awarded monthly TCRs that are no longer effective for the month of Texas Nodal Market Implementation, calculated as follow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RM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MAU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MR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shall refund each TCR/PCR owner of record of its awarded annual TCRs/PCRs that are no longer effective for the month of Texas Nodal Market Implementation, calculated as follow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RA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AU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* (MEnerg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/ (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ll 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erg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 * MR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shall refund each TCR owner of record of any remaining annual TCRs/PCRs for all months following the month of the Texas Nodal Market Implementation, calculated as follow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R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= AAU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* (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&gt;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erg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/ (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ll 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erg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fund of Monthly and Annual TCR Auction Revenu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718B-6B6B-49BE-AFE5-43984BB5B6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ariab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0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914400"/>
          <a:ext cx="7848720" cy="5049720"/>
        </p:xfrm>
        <a:graphic>
          <a:graphicData uri="http://schemas.openxmlformats.org/drawingml/2006/table">
            <a:tbl>
              <a:tblPr/>
              <a:tblGrid>
                <a:gridCol w="1557360"/>
                <a:gridCol w="6291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RAM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/PCR Refund Amount per TCR/PCR owner of reco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M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 Monthly Refund amount per TCR owner of record for the month of Texas Nodal Market Implement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/PCR Annual Refund amount per TCR/PCR owner of record for the month of Texas Nodal Market Implement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R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R/PCR Annual Remaining Refund amount per TCR/PCR owner of record for the months following Texas Nodal Market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ly Refund Percentage calculated as the number of days remaining in the month divided by the total number of days in all months for whic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CRs/PCRs were pre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rgy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ly Energy Foreca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UC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ly TCR Auction Revenue for the months in which TCRs/PCRs were presol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U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TCR/PCR Auction Revenue for the month of the Texas Nodal Market Implementa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h of Texas Nodal Market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R/PCR owner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BE2B-6827-43FE-83CF-5106ACD26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onthly TCR Refund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shall refund each TCR owner of record of its awarded monthly TCRs that are no longer effective for the month of Texas Nodal Market Implementation, calculated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RM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AUC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* M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R owner’s portion of the MONTHLY TCR auction x  the MR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nthly Refund 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RP is calculated by the # days remaining in the month % the total # days  in the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-live: September 1st  :  MRPP = 30/30 = 1.0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-live: September 19th:  MRP = 12/30 = .4 (4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0,000 September  Monthly Auction Obl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Live September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$20,000 refu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Live September 1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$8,000 refu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0B0-75DA-41F7-887A-0F2B3A6592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1st of the Month Go-Live Refund Exampl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st of the month refund (September 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for a TCR owner of record with the following inform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00,000 Annual Auction Oblig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0,000 September Monthly Auction Oblig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 days to Refund are 30 out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’s Annual Energy Forecast = 2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- December’s Annual Energy Forecast = 7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Energy Forecast = 32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otal refund of auction revenues to a TCR/PCR owner of record is calculated as follow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 TCR Refund for the month of Texas Nodal Market Implement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M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= M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* 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M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$20,000 * (1) = $20,000 for the month of Texas Nodal Market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Refund for the month of Texas Nodal Market Implement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A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= A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* (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/ (Σ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All Months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) * 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A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$100,000 * (20,000 GWh / 320,000 GWh) * (1) = $6,25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TCR Refund for all months following the Texas Nodal Market Implemetn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R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= A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* (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808080"/>
                </a:solidFill>
                <a:latin typeface="Arial"/>
              </a:rPr>
              <a:t>n&gt;m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/ (Σ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All Months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R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= $100,000 * (70,000 GWh  / 320,000 GWh) = $21,875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RRAM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= -1 * ($20,000 + $6,250.00 + $21,875.00) = ($48,12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329D-C63B-4D35-8761-1BDA3E135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d-Month Go-Live Refund Exampl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-month refund (September 19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for a TCR owner of record with the following inform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00,000 Annual Auction Oblig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20,000 September Monthly Auction Oblig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 days to Refund are 12 out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ember’s Annual Energy Forecast = 2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- December’s Annual Energy Forecast = 7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ual Energy Forecast = 320,000 GW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otal refund of auction revenues to a TCR/PCR owner of record is calculated as follow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 TCR Refund for the month of Texas Nodal Market Implement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M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= M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* 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M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$20,000 * (12/30) = $8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Refund for the month of Texas Nodal Market Implement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A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= A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* (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/ (Σ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All Months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) * 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A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$100,000 * (20,000 GWh / 320,000 GWh) * (12/30) = $2,5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ual TCR Refund for all months following the Texas Nodal Market Implemetnatio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CRR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= AAUCR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* (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808080"/>
                </a:solidFill>
                <a:latin typeface="Arial"/>
              </a:rPr>
              <a:t>n&gt;m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 / (Σ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All Months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MEnergy</a:t>
            </a:r>
            <a:r>
              <a:rPr b="0" lang="en-US" sz="1600" spc="-1" strike="noStrike" baseline="-25000">
                <a:solidFill>
                  <a:srgbClr val="80808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R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= $100,000 * (70,000 GWh  / 320,000 GWh) = $21,875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RRAM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= -1 * ($8,000 + $2,500.00 + $21,875.00) = ($32,37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082C-96B2-4133-93BA-1AF2426434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PTF 102808</cp:lastModifiedBy>
  <dcterms:modified xsi:type="dcterms:W3CDTF">2008-10-28T15:38:47Z</dcterms:modified>
  <cp:revision>339</cp:revision>
  <dc:subject>Change Control Overview</dc:subject>
  <dc:title>Texas Nodal Market Implementation </dc:title>
</cp:coreProperties>
</file>