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514-0D00-468F-BEB9-0A541FC6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093-7C33-4BBC-8ADB-9BFD6DFA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3C0-5A78-492F-BD56-6E8E9B8A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4D5-A65F-4B65-A26C-D987D890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DA8F-D793-42FF-A693-6EE276A7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2E1-751F-4512-819F-BA45106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0D7-24EC-403F-9E91-29DE230E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3A71-C0F5-438E-B3F6-7A1E84A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5934-FCE9-497B-927A-8A44C78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DF3-5D44-450D-8A60-6FC4EB74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6F56-5ABA-46A6-9C5E-D413781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334-CB6B-40A5-BE61-FA50844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7194-EBC1-4FA5-8116-4BF178C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259B-E15A-4326-8B8B-0E58190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E82-5960-4E23-9C21-BD8762D2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54D-6837-4F80-AF30-2F5C57EF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E5C0-75C5-4FFE-97C0-F3EA0B55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981-30E0-44DB-8908-76CA50D5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0AB-CEEC-4DFD-BDB9-726AA1B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4BE-74CB-42B7-A06D-4FCC661D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AF3-0D6A-46F5-AD7C-85A159B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515-2C73-4FB0-BE75-465DABD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6C3-8736-4CDB-98CF-5EA5769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D43-EC47-4FDA-A1AA-C502194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017-3C76-4FF2-8072-174C6AAD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D90-0C02-4DD8-A325-F54BE5D9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October, 200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October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vid Detelich - Chair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 for WGR only QSE’s cont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wn-balancing qualification testing for wind-only QSEs – John Dumas to review test proced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development – What KPI’s are applic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stency of submitting resource pl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uracy of schedules at end of adjustment peri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hn Dumas to provide accuracy analysis of WGRP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ents on PRR777 for WMS spons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MWG – Future Agenda I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Operations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GR only QSE Scheduling Met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ERCOT timeline and accuracy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rics development for WGR only QSE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PR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Meeting: November 7, 2008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Managers Working Group 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COT Operations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GRPP Forecast process improv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spin deployments from off lin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ssion of market participant counterparty scheduling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trics for WGR only QSE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 plan update timing requirements of 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revisions to the down-balancing qualification testing for wind-only Q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ness of metrics for Wind QSE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recent SCE scores and 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ric development – What KPI’s are applic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GRPP Forecast process improve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requests transition from email delivery to more reliable and secure form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lan is to provide the forecast on the TML Report Explo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imate is 3 weeks after resource is allocated plus testing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 should stay the same as the current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IT up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questions answ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on-spin deployments from off line uni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SE’s need to update resource plans to show unit on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ffects SPD and balancing deploy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to issue a market not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scussion of market participant counterparty schedul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P’s continue to have problems with some not swapping positions on Sellers choi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an ERCOT issue but this was a good forum to discu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EI should contain a document defining Sellers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defines the time that the Seller should designate the relevant Congestion Zone to Buy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to provide analysis of mismatch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rics for WGR only QSE’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 plan update timing requirements of ERC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RCOT operators manually enter an offset for Wind QSE Schedule Control Err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D enters an offset for difference in resource plans and schedu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GR QSE’s inconsistent updating of resource plans and schedules hinders ERCOT control effo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to synch up resource plan with schedule time l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y Ahead Timeli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733920"/>
            <a:ext cx="70866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GRPP email at 1410 and 15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81916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31240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8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RP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 RPRS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dules and Resource Plans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3809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justment Period RPRS Timel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733920"/>
            <a:ext cx="4419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GRPP email at 8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1916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10516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8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9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6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7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un RP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 RPRS Res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572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dules and Resource Plans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19520" y="39625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3733920"/>
            <a:ext cx="17528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 for RP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6386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Need to include WGRPP forecast in the ERCOT Protocol timel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ES Scheduling Period Timeli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733920"/>
            <a:ext cx="75438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365760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set by ERCOT opera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30481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962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8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9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9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8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D Runs for IE 09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648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ose of adjustment period for HE10 - Schedules locked Resource Plan should mat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752480" y="3809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 for RP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320" y="30481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CPS Energy</cp:lastModifiedBy>
  <dcterms:modified xsi:type="dcterms:W3CDTF">2008-10-15T20:55:43Z</dcterms:modified>
  <cp:revision>39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