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D8192A1-2674-40BC-BBAB-A641C614A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FBAD-7220-4872-9CB1-0A259070F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CE7C-7185-4BE2-A06B-E99A89A4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379F-D24E-4F53-BF5F-C42C24436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7AD6-1F60-4129-A5D4-02249F68C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5667-F3DD-4FD8-8AB1-207BBA94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A844-B23F-4230-AF7D-58E46951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18A9-E6E4-4003-82FF-7D5FB42F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F7A1-CC9C-4D32-A1BE-7FB9BC19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838188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EC52-B43D-4583-9BD3-B1A674E5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042A-7E3A-4B0C-A597-F1C1C3BF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ADA9-7608-4B05-90BD-BBCE0336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218D-3F38-4BAB-984A-10F276DD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B274-E6E8-4134-A45B-A12A83AB8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gestion Management Work Group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to WMS October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guerite Wagner, PSEG T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 Dynamic Stability Limit ?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re a single dynamic stability mod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we correctly mode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 technologies on the syst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System Stabilizers as they are opera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Power System Stabilizers properly tu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effects of load and wind output on the Stability Lim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the transfer limit be if all thermal units in the West Zone had Power System Stabiliz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impact do other units located outside of the West Zone have on the W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Dynamic Stability Lim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ing for updating stability stud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etitive Constraint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COT reviewed their evaluation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ing CSCs did not pass the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ST-NORTH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ham - Parker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ST-NORTH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ham - Benbrook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-NORTH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dow Switch - Tem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-HOUSTN Jewett - TH Wharton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WG questions about ERCOT process/case assu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COT to develop description of case assumptions – CMWG will Review/Discu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8 Goal Tracking…Significant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itiveness Constraint Tes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al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dow Price Cap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Cs for 200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s Added along th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R 764…2008 CRE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age Evaluation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ndary Gener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coming Meetings: 10/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ptember Work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 9/29,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9/15 mtg cancelled –Hurricane Ike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 Cap Issues for Nod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age Evaluation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st – North Stability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itive Constraint Test for Nod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 WMS Action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 Cap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 on Outage Evalu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dal SP Cap Recommen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al Protocols 6.5.7.1.11 require ERCOT to “establish a maximum Shadow Price for each constraint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ontingency used in SCED must have a max SP c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 &amp; CMWG discussed SP Caps – Late 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 Developed Proposal/CMWG Comment/Discussion -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WG Recommends Endorsing SP Cap Paper and requests that WMS forward to TAC for consi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dal SP Cap Recommen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 in establishing …penalty factor values is to provide an appropriate balance between ensuring reliable system operations, preventing inefficient redispatch, ensuring efficient pricing outcomes during locational or system-wide scarcity conditions, and observing the applicable system-wide offer cap levels” [From Potomac Economics Work Paper: “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posal for Initial Nodal Constraint Shadow Price Cap and Power Balance Penalty Factor Values”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 WMS Consideration Today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dal SP Cap Recommen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WG endorses IMM SP Cap Recommend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er being forwarded to WMS for consi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ai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5 kV:  $4,500/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8 kV:  $3,500/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9 kV:  $2,800/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 Bal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3,001/MW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submitted Change Request to develop the power balance penalty factor as a curve instead of a singl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s should be used in nodal testing and results of tested values should be discus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dal SP Cap Recommen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00200" y="2514600"/>
            <a:ext cx="1219320" cy="2209680"/>
          </a:xfrm>
          <a:prstGeom prst="upArrow">
            <a:avLst>
              <a:gd name="adj1" fmla="val 50000"/>
              <a:gd name="adj2" fmla="val 453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2133720"/>
            <a:ext cx="1600200" cy="1371600"/>
          </a:xfrm>
          <a:prstGeom prst="up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4114800"/>
            <a:ext cx="32763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41008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age Evaluatio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s of General CMWG Agre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needs better advance information on the state of the transmission system for TCR/CRR a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operation of the system by Market Participants &amp; ERCOT benefits consu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communication channel for coordination between Resources and TSPs might be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s of disagreement about how to achieve the above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age Evaluatio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WG recommends that WMS vote to make policy cuts about whether CMWG should evalu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age reporting requirements outlined in the Protocols?  Should earlier submission of outages be requi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current Protocol requirements sufficient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ERCOT estimate the cost of potentially significant transmission outag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reshold of significant cos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necessary precision of the cost estim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what time horiz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outage metrics be develope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age Evaluatio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00200" y="2514600"/>
            <a:ext cx="1219320" cy="2209680"/>
          </a:xfrm>
          <a:prstGeom prst="upArrow">
            <a:avLst>
              <a:gd name="adj1" fmla="val 50000"/>
              <a:gd name="adj2" fmla="val 453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2133720"/>
            <a:ext cx="1600200" cy="1371600"/>
          </a:xfrm>
          <a:prstGeom prst="up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4114800"/>
            <a:ext cx="32763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41008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14:19:45Z</dcterms:created>
  <dc:creator>Reliant-mw</dc:creator>
  <dc:description/>
  <dc:language>en-US</dc:language>
  <cp:lastModifiedBy>PSEG</cp:lastModifiedBy>
  <dcterms:modified xsi:type="dcterms:W3CDTF">2008-10-17T23:34:43Z</dcterms:modified>
  <cp:revision>55</cp:revision>
  <dc:subject/>
  <dc:title>Congestion Management Work Group Update</dc:title>
</cp:coreProperties>
</file>