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D9A-7BE2-4725-9E92-DB58D996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988-0A84-45D3-A72D-6ECD898F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B9C-1AB0-45BD-B988-A76CD84D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DD6-C427-419C-B7E1-DB5FD7C5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F18C-3E14-40D5-B9B3-57DD66D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C38-C4EA-4601-ADAE-895FA307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7ABD-FE01-449E-97F3-4C3A0EEF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6C1-4E71-45AF-9FA3-452C264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99F-48BF-4A01-B8A7-00985A42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2EA1-A319-453E-8670-CDB82C6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1C00-2247-4868-9060-11E2220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75D-F07B-4CDD-8C20-8BFDE26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EC5F-0D7F-40F9-B674-88C84C9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5705-ACAB-4B87-8E27-86F6F16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F9D2-BE35-4DB4-86AE-436DE20A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739B-E7D0-40D1-851E-C5C8CFDC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BB5-2483-4BF3-BCD3-4658A1F7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8D1-1807-42A5-8C73-10F62FB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139-E6B7-4A8D-9D8A-6E29230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C13-AE10-4336-BE34-BB2C914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01E-9CC8-4592-B033-C7F4382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FEB-FD43-40BF-BDF5-6ABF409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97A-2F8E-4DA4-9E49-3E77B4A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587-6C1D-4A34-803A-1E1E908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62D-FDFB-447C-88A6-03A353DCA5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43DF-DB37-4EDF-9379-A7DB54FB4D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CRR Credit Policy Task Forc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Report October 22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NPRR 140 CRR Credit Adder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cussion last month left confusion as to what the variables me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llowing charts attempt to graphically explain the capabilities of the auction engine and the ongoing calcu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variables ar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ction engine – A = adder, M = multipli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going engine – X = adder, Y = point where credit is allow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Auction Credit Capability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1532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ic assumes:  A = $10/MW-hr, M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A increases or decreases, the curve moves vertically up or dow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M increases or decreases the line angles increase or decre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43000" y="838080"/>
          <a:ext cx="662940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629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41972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72000" y="2437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553080" y="1752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2057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going Credit Capabil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 assumes:  X = $10/MW-hr, Y = $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X increases or decreases, the curve moves vertically up or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Y increases or decreases, the point where credit is allowed moves horizont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838080"/>
          <a:ext cx="6934320" cy="42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69343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41972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2742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86692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rmination of Val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sized” credit requirements have entities post sufficient credit to cover the risk created by their position, but not excessivel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ufficient credit posting could mean risk of uplift to the market if an entity defa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ive credit requirements could shrink the market, depreciating CRR auction revenues which is a form of uplift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C Energy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PRR 14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S has asked WMS to take another look at the allocation of a defaulted party in the D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ally, they wanted us to look at a proposal provided by Reli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liant proposal lacked specifics, but would  apply any credit default to entities based on their activity in both the DAM and RT on a total dollar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51:15Z</dcterms:created>
  <dc:creator>greerc</dc:creator>
  <dc:description/>
  <dc:language>en-US</dc:language>
  <cp:lastModifiedBy>greerc</cp:lastModifiedBy>
  <dcterms:modified xsi:type="dcterms:W3CDTF">2008-10-14T16:37:14Z</dcterms:modified>
  <cp:revision>11</cp:revision>
  <dc:subject/>
  <dc:title>CRR Credit Policy Task 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qminfo">
    <vt:r8>2</vt:r8>
  </property>
  <property fmtid="{D5CDD505-2E9C-101B-9397-08002B2CF9AE}" pid="3" name="lqmsess">
    <vt:lpwstr>6e712732-1f26-4a33-86fe-4b58a16a330f</vt:lpwstr>
  </property>
</Properties>
</file>