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FF97-7632-4F94-AAA5-FB46F9D5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05C74-DDA4-4E15-BFB8-8082C203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39D20-824C-4989-A295-B119671A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2AD1-0E92-41C6-BC96-55C4282E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C9B5-EC83-4B0A-8FE8-98590382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BB71-B390-494F-92BE-3D7F85EB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6902-3F82-4C18-BD7C-B5747EF9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D540-65BA-43DB-AF4B-C03AA6D8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8E62-5079-4085-80C9-4BE50C07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44E3-971E-45F9-9C42-E5C1A651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26F7-A6B0-4BB5-971A-CBC6629F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9F46-6D8B-4D7B-AF2A-0BEF10BC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9F57-C6BB-4243-BE92-5996040D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3B48-A8DB-4ED2-A38C-204863B8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8CF6-C995-427B-A466-1D8E907D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5736-7634-49CB-B5D5-6D6FC65A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1F74-72DE-43F4-8AA8-CDE57595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DE6CB-3BD6-4146-A83A-1C7DC328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1FC3-FC76-40C3-A873-B5D9F21F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D820-1AE9-4593-9F10-CA340D2A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6B370-0A3B-4492-9C55-795B4CD4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61C3-E264-43B1-8454-1B85A09E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B8A4-838D-46D5-9D76-E1DD3970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9F83D-4371-48F0-B05E-5AB6CD89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1523-E722-494C-909C-05D1E1310C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AA0D-5E7C-4078-A5AB-C8A95B089F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Verifiable Cost  Working Group (VCWG) 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Updat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44197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Wholesale Market Sub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tober 22,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4EA6-DD73-4861-A8F1-3DEB00A1F00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CWG Meeting 10/06/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. Cost Recover due to cancellation of RU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23520" indent="-248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ancellation Prior  to firing of Uni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948680" indent="-248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as Imbalance Fees assigned due to change in Gas Schedu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948680" indent="-248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uel Price Variance – Purchase vs. Sale price for Fu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948680" indent="-248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mission Co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23520" indent="-248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ancellation during firing of the uni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948680" indent="-248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ase on RARF – Startup time needed (hot, cold, warm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948680" indent="-248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as Imbalance Fe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948680" indent="-248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O &amp; M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948680" indent="-248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aintenance Service hours may be affec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948680" indent="-248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uel Price Varianc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948680" indent="-248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mission Co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948680" indent="-248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Other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D643-6CBA-4243-A1A5-F93AAD07E65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.  Application of Duct f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. ERCOT takes into account Duct Firing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. Exceptional Ev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. Discussion led that excessive costs  may be the trigger to exceptional events instead of specific eve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. Possible % of cost exceeding the VC would trigger the exceptional eve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.  May be resolved through the FIP/FOP discussion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. Fuel Analysis presented by Russell Lovelace with Shel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. QSE vs. Resources submitting VC Cost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413F-D69A-4E6B-999D-70DD06EC57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S Meeting Sept 24, 2008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.   NPRR 144 – 5 RUC Deployments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.     NPRR 145 - PPA’s As Resource Specific V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AC Meeting OCT 4, 200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.  NPRR 144 – 5 RUC Deploymen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. Approved by TAC under recommendation of PRS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PTF Meeting Oct 13, 200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.  NPRR 145 – PPA’s As Resource Specific V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. Voted essential for go Liv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.  NPRR 159 – Resource Category Startup Offer Generic Cap for Wind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.  Motioned to endorse and send to PRS with comment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2. Voted essential for go Liv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2D5D4-1358-4488-993A-461D3E78E31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Future Meetin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PRR 159 will be presented to PRS on 11/23/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PRR 145 will go back to PRS on 11/23/08 for Impact Analys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CWG will meet on 11/12/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1FDB-2255-4C86-8B97-0AA5BD2F7B70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hlookado</cp:lastModifiedBy>
  <dcterms:modified xsi:type="dcterms:W3CDTF">2008-10-17T20:28:10Z</dcterms:modified>
  <cp:revision>255</cp:revision>
  <dc:subject/>
  <dc:title>Protocol Revision Subcommittee</dc:title>
</cp:coreProperties>
</file>