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D717D-E35E-4338-87A5-97B7B1FE3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31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30B5A-7E20-485B-B349-1A895F607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E448A-23FF-44B9-B19F-64B0CB78B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3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3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3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2212C-75CF-435A-BB2C-1B7B26987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DE535-B863-4E7D-AC6F-9C062E4E2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731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731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73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73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73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B9176-7B16-4234-AC15-6661E4B5E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559AA-3D7C-40CF-BB67-AFC950C5D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9FDAA-4509-4C8C-BDDC-A8086316C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152B0-F555-47C2-B8B0-23B367010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C0B49-DB9D-4A00-B7A2-660959AF8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ADFBD-37E2-4770-8E24-32DEF95CA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A0E31-96B9-4A27-8CD3-B690EB062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BAB68-528E-4DF4-B3D1-29C1856E6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105A8-1A0C-43F7-86B2-0C47C25A5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7731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F7108-1072-468E-9D76-992E38215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7731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CBE93-4A9D-4144-83FF-1C3442378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276CB-EB1F-4006-8DFC-4A46B718F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773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773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773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75224-D302-44D5-BD96-932927CCC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0D2C6-FDB5-459B-93A5-1398B71C8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731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731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73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73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73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CF63A-AFDF-493F-963B-539B46CCC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8EDFE-54CD-4F3A-8DD9-3308211C8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77BF4-7E04-4EB7-9FC2-11D9EAA93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90A22-174D-43CE-A0C0-BD861755B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31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AE023-A6FB-4804-8574-F16C5BF74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6040A-3DA4-4DFF-8C26-E2171D8A8A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6378480"/>
            <a:ext cx="85392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324120" y="6477120"/>
            <a:ext cx="2514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BA892-6624-483A-92C2-DC8E17798A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dt" idx="3"/>
          </p:nvPr>
        </p:nvSpPr>
        <p:spPr>
          <a:xfrm>
            <a:off x="1142640" y="640080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31E99-D217-48EB-B460-C708BA2307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7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dt" idx="8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dt" idx="9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ftr" idx="10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990720" y="2641680"/>
            <a:ext cx="716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2009 PPL Re-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October 6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9 Project Planning Update - Background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2009 ERCOT fee case has been withdrawn due to the Nodal Go-Live date change.  This creates a need to reforecast the 2009 PPL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dal deferred projects cannot be executed as originally plann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ation of the Nodal project has resource implications for projects on the 2009 PP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System Administration Fee will remain flat in 200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mits our project fu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al project budget = $27.2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sed project budget = $12.2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BF1BE-7346-420D-94DB-8BF823E6120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October 6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9 Project Planning Update – Re-planning Effor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POs asked to update 2009 PPL with the following consider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planning purposes, assume Nodal is not delivering in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Nodal schedule is released we will revisit the revised 2009 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won’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 required since Nodal is delay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wi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 required to keep Zonal systems “running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ryover funding needs of currently executing projec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itical nature of ne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funding (and other resources) requires us to limit our project activity to the most critical ite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rve funding for key market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ep 2009 Non-Nodal Projects to a minimu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ish what is sta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start “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ssenti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2009, we will address additional urgent needs as they ari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C5875-47A0-4A1F-A989-E7D086F8ADC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October 6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9 Project Planning Update – Approval Schedule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838080" y="685800"/>
          <a:ext cx="8153640" cy="5557680"/>
        </p:xfrm>
        <a:graphic>
          <a:graphicData uri="http://schemas.openxmlformats.org/drawingml/2006/table">
            <a:tbl>
              <a:tblPr/>
              <a:tblGrid>
                <a:gridCol w="720720"/>
                <a:gridCol w="352440"/>
                <a:gridCol w="2318040"/>
                <a:gridCol w="3427200"/>
                <a:gridCol w="133524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tivity / Ev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pected Outcome / Deliverabl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wnershi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311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ctob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nalize 2009 Project Lis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vised 2009 Initiatives Lists from CAR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PO Manager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/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itial review of all Initiatives Lis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ders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/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ecutive Tea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itial review of all Initiatives Lis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oxte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/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P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view and approval of MO Initiatives Lis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derson / Parr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/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view and approval of RO Initiatives Lis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derson / Parr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/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nal Initiatives Lists due to PM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SO exempt due to ROS and WMS meeting timing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PO Manager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/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view and approval of SO Initiatives Lis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derson / Low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ct./Nov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adership Approval Pha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pproved 2009 Initiatives Lis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PO Mgrs / Anders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/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nal review and approval of all Initiatives Lis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ders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/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ecutive Tea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nal review and approval of all Initiatives Lis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oxte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/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nance &amp; Audit Committe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itial review of 2009 prioritization proces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oxte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/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view and approval of SO Initiatives Lis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derson / Low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/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nal review and approval of complete Initiatives Lis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PO Mgrs / Anders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/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view of market subcommittee approval results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ders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/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ecutive Tea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view of market subcommittee approval results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oxte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/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nal review and approval of all Initiatives Lis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ders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/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nance &amp; Audit Committe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nal review and approval of all Initiatives Lis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oxte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/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oard of Director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nal review and approval of all Initiatives Lis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arnei / Troxte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9E390-A414-4702-87DD-BA57930DAE51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October 6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9 Project Planning Update – Top Risks/Constraint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ource Contention with Nod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duced Capital Project Budge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mited Data Center Capac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ready at full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relief until MET Center Disposition Project delivers more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ly not until 4Q2010 or 1Q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s we potentially can’t “plug-in” another server until relief is real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B6529-E32A-4AB7-AF0C-6C2C11DA5F5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October 6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9 Project Planning Update – DRAFT Summary by CAR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241200" y="4724280"/>
          <a:ext cx="8457840" cy="381240"/>
        </p:xfrm>
        <a:graphic>
          <a:graphicData uri="http://schemas.openxmlformats.org/drawingml/2006/table">
            <a:tbl>
              <a:tblPr/>
              <a:tblGrid>
                <a:gridCol w="2075760"/>
                <a:gridCol w="1922040"/>
                <a:gridCol w="2153520"/>
                <a:gridCol w="23065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 CO – Met Cen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20,4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20,4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      0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0" name=""/>
          <p:cNvSpPr/>
          <p:nvPr/>
        </p:nvSpPr>
        <p:spPr>
          <a:xfrm>
            <a:off x="228600" y="5410080"/>
            <a:ext cx="5410080" cy="5335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200880" indent="-200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*    Revised 2009 budget is $12.2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0880" indent="-200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**  Met Center project is funded by a separate budget line i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228600" y="1066680"/>
          <a:ext cx="8458200" cy="3202200"/>
        </p:xfrm>
        <a:graphic>
          <a:graphicData uri="http://schemas.openxmlformats.org/drawingml/2006/table">
            <a:tbl>
              <a:tblPr/>
              <a:tblGrid>
                <a:gridCol w="2075040"/>
                <a:gridCol w="1923840"/>
                <a:gridCol w="2152800"/>
                <a:gridCol w="230652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l 2009 Bu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sed Draft 2009 Bu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3,55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2,75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$    800,000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8,35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5,525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$  2,825,0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4,3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575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$  3,725,0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3,5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2,95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$    550,0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7,5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900,0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$  6,600,0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27,2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* $ 12,7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$ 14,500,0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24CA2-2032-45E2-B21F-80147B43FC33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October 6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9T12:55:16Z</dcterms:created>
  <dc:creator>Rob Connell</dc:creator>
  <dc:description/>
  <dc:language>en-US</dc:language>
  <cp:lastModifiedBy>Troy Anderson</cp:lastModifiedBy>
  <dcterms:modified xsi:type="dcterms:W3CDTF">2008-10-07T22:39:26Z</dcterms:modified>
  <cp:revision>94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