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nd Operations Task Forc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tatus update for ROS 16 Oct 2008 mtg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jor accomplishments since last ROS meet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reviewed and modified a draft OGRR on 24/7 communications / resource response time requirements, and has forwarded it to OGRTF.  This completes #2a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ot much progress by staff on issues #1abc (survey of existing reactive capability) &amp; #1d (voltage control proposal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is brainstorming on issues #4 (training) &amp; new #5 (high frequency response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ith CMWG at an impasse, WOTF has no starting point for issue #3e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4:25:02Z</dcterms:created>
  <dc:creator>mgarrett</dc:creator>
  <dc:description/>
  <dc:language>en-US</dc:language>
  <cp:lastModifiedBy>mgarrett</cp:lastModifiedBy>
  <dcterms:modified xsi:type="dcterms:W3CDTF">2008-10-15T15:14:00Z</dcterms:modified>
  <cp:revision>18</cp:revision>
  <dc:subject/>
  <dc:title>Wind Operations Task Force</dc:title>
</cp:coreProperties>
</file>