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r ROS vote, 16 Oct 2008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ssue #2a – 24/7 Communications for TSPs to reach Wind Generato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ackground: The WOTF has developed a draft OGRR titled “Generation Resource Response Time Requirements”, and discussed it at the last mtg.  The WOTF participants have framed three issues that need further vett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ivision of responsibilities between Generation Resource and Q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time limits to be established for certain a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adlines for Complian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issue of opening a breaker to disconnect a resource was left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unresolved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WOTF has forwarded the draft OGRR to the OGRTF, and asks for ROS to confirm completion of WOTF work on this issue.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The WOTF recommends ROS endorsement that the WOTF has concluded work on Issue #2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10-14T21:02:55Z</dcterms:modified>
  <cp:revision>19</cp:revision>
  <dc:subject/>
  <dc:title>Wind Operations Task Force</dc:title>
</cp:coreProperties>
</file>