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88584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360" y="8686800"/>
            <a:ext cx="2971800" cy="457200"/>
          </a:xfrm>
          <a:prstGeom prst="rect">
            <a:avLst/>
          </a:prstGeom>
          <a:noFill/>
          <a:ln w="0">
            <a:noFill/>
          </a:ln>
        </p:spPr>
        <p:txBody>
          <a:bodyPr lIns="89640" rIns="89640" tIns="45000" bIns="45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885840" y="868680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GB"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4AF553C-B7D7-4EBF-9482-875890306C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FAE1EED-9CEA-4429-BDF8-AAC7ABDD28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0F56603-F405-4BA7-8D5E-C1B17A0E92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9881E86-BB94-4415-9E46-7CE2ADA91F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40C00D9-D0BC-4EE2-9BD9-3F8AF42559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42C725A-EF01-48DE-A0A7-21EB86D033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7E77A04-5C9B-4AF8-AFC9-D7C0940553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B14E391-2BF7-47EE-9F0B-4A2086A770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93FE6C6-A116-4B20-956A-8FE96D71B6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24171D3-4596-4582-98E4-B3E5A59E69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DA0A565-C78B-42AC-8476-4604D2D016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3FD9F19-8D7D-468A-BA65-7C92A949C8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0E60D59-C31F-42D2-97DA-C7947CCC26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B2FC342-7C79-42E0-95DC-AAC22A8FB7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5160FEB-62F5-4ACE-A2F5-A20594E589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9E71E3F-5CDB-4C01-BA53-94D0F5B92B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E39CEFE-691F-4022-A469-55B8356664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EE0CB74-B9FB-4078-B5D4-D850420062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6B4FE41-5749-433D-95D2-D36E1C42AD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CEB631C-8863-49DE-B87A-0F0943F9D1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55AFE4F-2C17-4D28-B561-C771490E6F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7E7C43F-87DA-43B6-A919-6AC2F8B890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22F4ED8-57F7-4E83-87DE-F3B945EE9C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3504396-F6BA-474D-9838-E7E7796AF2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A3A6CD1-B4DA-49A5-9B12-29569D7792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EF7DF21-86E4-4CE2-B4E0-3B8EA918E8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B0A385F-7E44-40FC-B88A-328A95ADEA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F1B5936-2E40-4C00-8905-2476E6CF08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DD1F88B-6E5E-4E76-B0AF-84D461E352E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sbridges@ercot.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odal.ercot.com/protocols/nprr/151-175/152/index.html" TargetMode="External"/><Relationship Id="rId2" Type="http://schemas.openxmlformats.org/officeDocument/2006/relationships/hyperlink" Target="http://nodal.ercot.com/protocols/nprr/126-150/140/index.html"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nodal.ercot.com/protocols/nprr/126-150/140/index.html" TargetMode="External"/><Relationship Id="rId2" Type="http://schemas.openxmlformats.org/officeDocument/2006/relationships/hyperlink" Target="http://www.ercot.com/mktrules/issues/prr/725-749/743/index"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rcot.com/calendar/2008/10/20081015-TPTFQRWG"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hyperlink" Target="http://www.ercot.com/calendar/2008/09/20080922-TPTF"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rcot.com/calendar/2008/09/20080922-TPTF"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rcot.com/calendar/2008/09/20080922-TPTF"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ercot.com/calendar/2008/09/20080922-TPTF"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ercot.com/calendar/2008/10/20081013-TPTF" TargetMode="External"/><Relationship Id="rId2" Type="http://schemas.openxmlformats.org/officeDocument/2006/relationships/hyperlink" Target="http://www.ercot.com/committees/board/tac/tptf/"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nodal.ercot.com/protocols/nprr/151-175/156/index.html" TargetMode="External"/><Relationship Id="rId2" Type="http://schemas.openxmlformats.org/officeDocument/2006/relationships/hyperlink" Target="http://nodal.ercot.com/protocols/nprr/126-150/145/index.html"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nodal.ercot.com/protocols/nprr/126-150/146/index.html" TargetMode="External"/><Relationship Id="rId2" Type="http://schemas.openxmlformats.org/officeDocument/2006/relationships/hyperlink" Target="http://nodal.ercot.com/protocols/nprr/126-150/148/index.html" TargetMode="External"/><Relationship Id="rId3" Type="http://schemas.openxmlformats.org/officeDocument/2006/relationships/hyperlink" Target="http://nodal.ercot.com/protocols/nprr/126-150/143/index.html"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nodal.ercot.com/protocols/nprr/126-150/140/index.html" TargetMode="External"/><Relationship Id="rId2" Type="http://schemas.openxmlformats.org/officeDocument/2006/relationships/hyperlink" Target="http://nodal.ercot.com/protocols/nprr/126-150/149/index.html" TargetMode="External"/><Relationship Id="rId3" Type="http://schemas.openxmlformats.org/officeDocument/2006/relationships/hyperlink" Target="http://www.ercot.com/mktrules/issues/prr/775-799/775/index"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nodal.ercot.com/protocols/nprr/126-150/136/index.html" TargetMode="External"/><Relationship Id="rId2" Type="http://schemas.openxmlformats.org/officeDocument/2006/relationships/hyperlink" Target="http://nodal.ercot.com/protocols/nprr/126-150/150/index.html"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nodal.ercot.com/protocols/nprr/151-175/151/index.html"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7B8A9CB-C478-4C27-B15F-92A5D6AC6D0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69a2"/>
                </a:solidFill>
                <a:latin typeface="Arial Black"/>
              </a:rPr>
              <a:t>TPTF Update f</a:t>
            </a:r>
            <a:r>
              <a:rPr b="0" lang="en-GB" sz="2400" spc="-1" strike="noStrike">
                <a:solidFill>
                  <a:srgbClr val="5469a2"/>
                </a:solidFill>
                <a:latin typeface="Arial Black"/>
              </a:rPr>
              <a:t>or ROS</a:t>
            </a:r>
            <a:r>
              <a:rPr b="0" lang="en-GB" sz="3600" spc="-1" strike="noStrike">
                <a:solidFill>
                  <a:srgbClr val="5469a2"/>
                </a:solidFill>
                <a:latin typeface="Arial Black"/>
              </a:rPr>
              <a:t> </a:t>
            </a:r>
            <a:br>
              <a:rPr sz="2000"/>
            </a:br>
            <a:r>
              <a:rPr b="0" i="1" lang="en-GB" sz="2000" spc="-1" strike="noStrike">
                <a:solidFill>
                  <a:srgbClr val="5469a2"/>
                </a:solidFill>
                <a:latin typeface="Arial Black"/>
              </a:rPr>
              <a:t>October 16, 2008</a:t>
            </a:r>
            <a:br>
              <a:rPr sz="2000"/>
            </a:br>
            <a:br>
              <a:rPr sz="2800"/>
            </a:br>
            <a:r>
              <a:rPr b="0" lang="en-GB" sz="1600" spc="-1" strike="noStrike">
                <a:solidFill>
                  <a:srgbClr val="5469a2"/>
                </a:solidFill>
                <a:latin typeface="Arial"/>
              </a:rPr>
              <a:t>Stacy Bridges</a:t>
            </a:r>
            <a:br>
              <a:rPr sz="1600"/>
            </a:br>
            <a:r>
              <a:rPr b="0" lang="en-GB" sz="1600" spc="-1" strike="noStrike" u="sng">
                <a:solidFill>
                  <a:srgbClr val="009999"/>
                </a:solidFill>
                <a:uFillTx/>
                <a:latin typeface="Arial"/>
                <a:hlinkClick r:id="rId1"/>
              </a:rPr>
              <a:t>sbridges@ercot.com</a:t>
            </a:r>
            <a:endParaRPr b="0" lang="en-US" sz="1600" spc="-1" strike="noStrike">
              <a:solidFill>
                <a:srgbClr val="ffffff"/>
              </a:solidFill>
              <a:latin typeface="Arial Black"/>
            </a:endParaRPr>
          </a:p>
        </p:txBody>
      </p:sp>
      <p:pic>
        <p:nvPicPr>
          <p:cNvPr id="55" name="Picture 5" descr="logo"/>
          <p:cNvPicPr/>
          <p:nvPr/>
        </p:nvPicPr>
        <p:blipFill>
          <a:blip r:embed="rId2"/>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A475D6C-BF02-4C54-85CF-A185330E5A6B}"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2 – 23:   </a:t>
            </a:r>
            <a:endParaRPr b="0" lang="en-US" sz="1800" spc="-1" strike="noStrike">
              <a:solidFill>
                <a:srgbClr val="000000"/>
              </a:solidFill>
              <a:latin typeface="Arial"/>
            </a:endParaRPr>
          </a:p>
        </p:txBody>
      </p:sp>
      <p:pic>
        <p:nvPicPr>
          <p:cNvPr id="83" name="" descr=""/>
          <p:cNvPicPr/>
          <p:nvPr/>
        </p:nvPicPr>
        <p:blipFill>
          <a:blip r:embed="rId1"/>
          <a:stretch/>
        </p:blipFill>
        <p:spPr>
          <a:xfrm>
            <a:off x="2803680" y="838080"/>
            <a:ext cx="5883120" cy="5257800"/>
          </a:xfrm>
          <a:prstGeom prst="rect">
            <a:avLst/>
          </a:prstGeom>
          <a:ln w="0">
            <a:noFill/>
          </a:ln>
        </p:spPr>
      </p:pic>
      <p:sp>
        <p:nvSpPr>
          <p:cNvPr id="84" name=""/>
          <p:cNvSpPr/>
          <p:nvPr/>
        </p:nvSpPr>
        <p:spPr>
          <a:xfrm>
            <a:off x="380880" y="1066680"/>
            <a:ext cx="2362320" cy="1067400"/>
          </a:xfrm>
          <a:prstGeom prst="rect">
            <a:avLst/>
          </a:prstGeom>
          <a:noFill/>
          <a:ln w="0">
            <a:noFill/>
          </a:ln>
        </p:spPr>
        <p:style>
          <a:lnRef idx="0"/>
          <a:fillRef idx="0"/>
          <a:effectRef idx="0"/>
          <a:fontRef idx="minor"/>
        </p:style>
        <p:txBody>
          <a:bodyPr lIns="90000" rIns="90000" tIns="46800" bIns="46800" anchor="t">
            <a:spAutoFit/>
          </a:bodyPr>
          <a:p>
            <a:pPr marL="4680" indent="-4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October 2, 2008, TAC approved metric MP21 as revised by TPTF</a:t>
            </a:r>
            <a:endParaRPr b="0" lang="en-US" sz="1600" spc="-1" strike="noStrike">
              <a:solidFill>
                <a:srgbClr val="000000"/>
              </a:solidFill>
              <a:latin typeface="Arial"/>
            </a:endParaRPr>
          </a:p>
        </p:txBody>
      </p:sp>
      <p:sp>
        <p:nvSpPr>
          <p:cNvPr id="85" name=""/>
          <p:cNvSpPr/>
          <p:nvPr/>
        </p:nvSpPr>
        <p:spPr>
          <a:xfrm>
            <a:off x="533520" y="2286000"/>
            <a:ext cx="1066680" cy="239760"/>
          </a:xfrm>
          <a:prstGeom prst="rightArrow">
            <a:avLst>
              <a:gd name="adj1" fmla="val 50000"/>
              <a:gd name="adj2" fmla="val 111224"/>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5B52A5E-CE03-466B-8AF5-BE28EC2FE80E}"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2 – 23:   </a:t>
            </a:r>
            <a:endParaRPr b="0" lang="en-US" sz="1800" spc="-1" strike="noStrike">
              <a:solidFill>
                <a:srgbClr val="000000"/>
              </a:solidFill>
              <a:latin typeface="Arial"/>
            </a:endParaRPr>
          </a:p>
        </p:txBody>
      </p:sp>
      <p:sp>
        <p:nvSpPr>
          <p:cNvPr id="88" name="Text Box 6"/>
          <p:cNvSpPr/>
          <p:nvPr/>
        </p:nvSpPr>
        <p:spPr>
          <a:xfrm>
            <a:off x="380880" y="914400"/>
            <a:ext cx="8534520" cy="5349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22,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for Readiness Metric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the approach that should be used to recognize completion for Readiness Metrics, including the types of information and documentation that TPTF will need to effectively evaluate comple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quested a general discussion be provided on a future TPTF agenda to consider the best approach to evaluating completion for readiness metric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al to introduce a new Market Participant Readiness Metric</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a proposal to introduce a new metric MP23, Outage Scheduler Trials Participation, to ensure that QSEs with Resources and Transmission Service Providers (TSPs) are engaged in EDS 4 Outage Scheduler trial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w Readiness Metric will be distributed to TPTF Review at a future tim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has been reviewing ERCOT Business Processes and Procedure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September 22, TPTF discussed the Adjustment Period Supplemental Ancillary Services Market (SASM) Proces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iously, TPTF reviewed the DAM Process; TPTF will discuss market comments received for the DAM Process during a future TPTF meeting</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the RUC Procedure is posted for TPTF Review through Oct 10</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ing up, the Real-Time Process Flow and Business Procedure will be posted for TPTF Revie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84A2214-3C91-4E9F-8BB0-C797FB2EC1E2}"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2 – 23:   </a:t>
            </a:r>
            <a:endParaRPr b="0" lang="en-US" sz="1800" spc="-1" strike="noStrike">
              <a:solidFill>
                <a:srgbClr val="000000"/>
              </a:solidFill>
              <a:latin typeface="Arial"/>
            </a:endParaRPr>
          </a:p>
        </p:txBody>
      </p:sp>
      <p:sp>
        <p:nvSpPr>
          <p:cNvPr id="91" name="Text Box 6"/>
          <p:cNvSpPr/>
          <p:nvPr/>
        </p:nvSpPr>
        <p:spPr>
          <a:xfrm>
            <a:off x="380880" y="914400"/>
            <a:ext cx="8534520" cy="3804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23, TPTF discussed:</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52</a:t>
            </a:r>
            <a:r>
              <a:rPr b="0" lang="en-US" sz="1600" spc="-1" strike="noStrike">
                <a:solidFill>
                  <a:srgbClr val="000000"/>
                </a:solidFill>
                <a:latin typeface="Arial"/>
              </a:rPr>
              <a:t>, References to Section 22 Attachment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NPRR152 and did not recommend any additional chang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NPRR152 as posted by Market Rules and recognized it as “Needed for Go-Live”</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40</a:t>
            </a:r>
            <a:r>
              <a:rPr b="0" lang="en-US" sz="1600" spc="-1" strike="noStrike">
                <a:solidFill>
                  <a:srgbClr val="000000"/>
                </a:solidFill>
                <a:latin typeface="Arial"/>
              </a:rPr>
              <a:t>, Revision to CRR Obligation Margin Adder</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follow-up discussion carried from the Sept 8-9 TPTF meeting, TPTF discussed NPRR140, including the ERCOT staff comments posted by Market Rules to address market comments (LCRA)</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warding formal TPTF comments for NPRR140 to PRS and requested that WMS, or another subcommittee deemed to be appropriate, would determine the initial values for the equation variables identified in NPRR14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NPRR140 as "Needed for Go-Liv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9DBB04C-3201-46E3-82EA-3D1C656D6B57}"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2 – 23:   </a:t>
            </a:r>
            <a:endParaRPr b="0" lang="en-US" sz="1800" spc="-1" strike="noStrike">
              <a:solidFill>
                <a:srgbClr val="000000"/>
              </a:solidFill>
              <a:latin typeface="Arial"/>
            </a:endParaRPr>
          </a:p>
        </p:txBody>
      </p:sp>
      <p:sp>
        <p:nvSpPr>
          <p:cNvPr id="94" name="Text Box 6"/>
          <p:cNvSpPr/>
          <p:nvPr/>
        </p:nvSpPr>
        <p:spPr>
          <a:xfrm>
            <a:off x="380880" y="914400"/>
            <a:ext cx="8534520" cy="5592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23,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R Conceptual System Design (CSD)</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recent updates for the CRR CSD to reflect the current CRR system implement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R Business Requirements, also recently updated, will be distributed along with the CRR CSD to TPTF Review following PRS action on </a:t>
            </a:r>
            <a:r>
              <a:rPr b="0" lang="en-US" sz="1600" spc="-1" strike="noStrike" u="sng">
                <a:solidFill>
                  <a:srgbClr val="009999"/>
                </a:solidFill>
                <a:uFillTx/>
                <a:latin typeface="Arial"/>
                <a:hlinkClick r:id="rId1"/>
              </a:rPr>
              <a:t>NPRR140</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ssion Congestion Right (TCR) to CRR Transition Pla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recent changes to the TCR to CRR Transition Plan as updated to reflect ERCOT Board of Directors (hereafter, The Board) approval for </a:t>
            </a:r>
            <a:r>
              <a:rPr b="0" lang="en-US" sz="1600" spc="-1" strike="noStrike" u="sng">
                <a:solidFill>
                  <a:srgbClr val="009999"/>
                </a:solidFill>
                <a:uFillTx/>
                <a:latin typeface="Arial"/>
                <a:hlinkClick r:id="rId2"/>
              </a:rPr>
              <a:t>PRR743</a:t>
            </a:r>
            <a:r>
              <a:rPr b="0" lang="en-US" sz="1600" spc="-1" strike="noStrike">
                <a:solidFill>
                  <a:srgbClr val="000000"/>
                </a:solidFill>
                <a:latin typeface="Arial"/>
              </a:rPr>
              <a:t>, TCR Transition to CRR</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noted that the TCR to CRR Transition Plan will be distributed for an additional round of TPTF Review prior to being noticed for possible vote during the WMS and TPTF meetings in October 2008</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CRR Readiness Metric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whether to close the following CRR Readiness Metric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R2, Develop TCR to CRR Transition Plan</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R3, Operation of Monthly CRR Auction and Allocation</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R5, Operation of Annual CRR Auction and Alloc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noted that closing the CRR metrics at this time may be premature and that the general approach to closing Readiness Metrics, including those for CRR, will be discussed during the Oct 13-14 TPTF meeting</a:t>
            </a:r>
            <a:endParaRPr b="0" lang="en-US" sz="16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77C9128-4862-4C1F-954A-98A7F28AEED0}"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2 – 23:   </a:t>
            </a:r>
            <a:endParaRPr b="0" lang="en-US" sz="1800" spc="-1" strike="noStrike">
              <a:solidFill>
                <a:srgbClr val="000000"/>
              </a:solidFill>
              <a:latin typeface="Arial"/>
            </a:endParaRPr>
          </a:p>
        </p:txBody>
      </p:sp>
      <p:sp>
        <p:nvSpPr>
          <p:cNvPr id="97" name="Text Box 6"/>
          <p:cNvSpPr/>
          <p:nvPr/>
        </p:nvSpPr>
        <p:spPr>
          <a:xfrm>
            <a:off x="380880" y="914400"/>
            <a:ext cx="8534520" cy="28789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23,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RWG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eived an update from the QRWG regarding its Sept 19</a:t>
            </a:r>
            <a:r>
              <a:rPr b="0" lang="en-US" sz="1600" spc="-1" strike="noStrike" baseline="30000">
                <a:solidFill>
                  <a:srgbClr val="000000"/>
                </a:solidFill>
                <a:latin typeface="Arial"/>
              </a:rPr>
              <a:t>th</a:t>
            </a:r>
            <a:r>
              <a:rPr b="0" lang="en-US" sz="1600" spc="-1" strike="noStrike">
                <a:solidFill>
                  <a:srgbClr val="000000"/>
                </a:solidFill>
                <a:latin typeface="Arial"/>
              </a:rPr>
              <a:t> conference call to discuss RUC-commitment issues affecting Quick Start Generation Resource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RWG will hold additional discussion on this topic on </a:t>
            </a:r>
            <a:r>
              <a:rPr b="0" lang="en-US" sz="1600" spc="-1" strike="noStrike" u="sng">
                <a:solidFill>
                  <a:srgbClr val="009999"/>
                </a:solidFill>
                <a:uFillTx/>
                <a:latin typeface="Arial"/>
                <a:hlinkClick r:id="rId1"/>
              </a:rPr>
              <a:t>October 15, 2008</a:t>
            </a:r>
            <a:r>
              <a:rPr b="0" lang="en-US" sz="1600" spc="-1" strike="noStrike">
                <a:solidFill>
                  <a:srgbClr val="000000"/>
                </a:solidFill>
                <a:latin typeface="Arial"/>
              </a:rPr>
              <a:t> and will report the results back to TPTF</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requested that ERCOT provide additional review of the ERCOT RUC Procedure through TPTF Review following the October 2008 QRWG meeting so that interested Market Participants will have the opportunity to comment on how the ERCOT RUC Procedure might be updated to address RUC-commitment issues affecting all Generation Resour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4103729-6685-4C0B-A167-9C831E3BC644}"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2 – 23:   </a:t>
            </a:r>
            <a:endParaRPr b="0" lang="en-US" sz="1800" spc="-1" strike="noStrike">
              <a:solidFill>
                <a:srgbClr val="000000"/>
              </a:solidFill>
              <a:latin typeface="Arial"/>
            </a:endParaRPr>
          </a:p>
        </p:txBody>
      </p:sp>
      <p:sp>
        <p:nvSpPr>
          <p:cNvPr id="100" name="Text Box 6"/>
          <p:cNvSpPr/>
          <p:nvPr/>
        </p:nvSpPr>
        <p:spPr>
          <a:xfrm>
            <a:off x="380880" y="914400"/>
            <a:ext cx="8534520" cy="5066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23,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SIG paper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20 Rounding of MW Values paper:</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this paper as updated to reflect recent vendor discussions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v5.3 of this paper as submitted to TPTF on Sept 23</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02 PUNs paper:</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how to revise this paper to incorporate a new option describing how Ramp Rates should be submitted to ERCOT; TPTF endorsed an option whereby: </a:t>
            </a:r>
            <a:endParaRPr b="0" lang="en-US" sz="1600" spc="-1" strike="noStrike">
              <a:solidFill>
                <a:srgbClr val="000000"/>
              </a:solidFill>
              <a:latin typeface="Arial"/>
            </a:endParaRPr>
          </a:p>
          <a:p>
            <a:pPr lvl="4" marL="2057400" indent="-228600">
              <a:lnSpc>
                <a:spcPct val="85000"/>
              </a:lnSpc>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t Ramp Rates submitted for PUN units shall be a function of gross MW output</a:t>
            </a:r>
            <a:endParaRPr b="0" lang="en-US" sz="1600" spc="-1" strike="noStrike">
              <a:solidFill>
                <a:srgbClr val="000000"/>
              </a:solidFill>
              <a:latin typeface="Arial"/>
            </a:endParaRPr>
          </a:p>
          <a:p>
            <a:pPr lvl="4" marL="2057400" indent="-228600">
              <a:lnSpc>
                <a:spcPct val="85000"/>
              </a:lnSpc>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ther units shall be submitted as a function of net MW output</a:t>
            </a:r>
            <a:endParaRPr b="0" lang="en-US" sz="1600" spc="-1" strike="noStrike">
              <a:solidFill>
                <a:srgbClr val="000000"/>
              </a:solidFill>
              <a:latin typeface="Arial"/>
            </a:endParaRPr>
          </a:p>
          <a:p>
            <a:pPr lvl="4" marL="2057400" indent="-228600">
              <a:lnSpc>
                <a:spcPct val="85000"/>
              </a:lnSpc>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N flag from Common Information Model (CIM) is used as the indicator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the SIG0002 PUN paper v0.26 with the caveat that it will be updated to reflect the TPTF-endorsed option for how Ramp Rates should be submitted to ERCOT</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noted that an Impact Analysis will be conducted to determine the costs of implementing the TPTF-endorsed option and that the IA and updates will be discussed at a future TPTF meeting</a:t>
            </a:r>
            <a:endParaRPr b="0" lang="en-US" sz="1600" spc="-1" strike="noStrike">
              <a:solidFill>
                <a:srgbClr val="000000"/>
              </a:solidFill>
              <a:latin typeface="Arial"/>
            </a:endParaRPr>
          </a:p>
        </p:txBody>
      </p:sp>
      <p:sp>
        <p:nvSpPr>
          <p:cNvPr id="101"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8 – 9, 2008</a:t>
            </a:r>
            <a:endParaRPr b="0" lang="en-US" sz="1800" spc="-1" strike="noStrike">
              <a:solidFill>
                <a:srgbClr val="000000"/>
              </a:solidFill>
              <a:latin typeface="Arial"/>
            </a:endParaRPr>
          </a:p>
        </p:txBody>
      </p:sp>
      <p:graphicFrame>
        <p:nvGraphicFramePr>
          <p:cNvPr id="103" name=""/>
          <p:cNvGraphicFramePr/>
          <p:nvPr/>
        </p:nvGraphicFramePr>
        <p:xfrm>
          <a:off x="304920" y="3581280"/>
          <a:ext cx="8610480" cy="214020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8, 2008, TPTF endorsed</a:t>
                      </a:r>
                      <a:r>
                        <a:rPr b="1" lang="en-US" sz="1200" spc="-1" strike="noStrike">
                          <a:solidFill>
                            <a:srgbClr val="000000"/>
                          </a:solidFill>
                          <a:latin typeface="Arial"/>
                        </a:rPr>
                        <a:t> </a:t>
                      </a:r>
                      <a:r>
                        <a:rPr b="0" lang="en-US" sz="1200" spc="-1" strike="noStrike">
                          <a:solidFill>
                            <a:srgbClr val="000000"/>
                          </a:solidFill>
                          <a:latin typeface="Arial"/>
                        </a:rPr>
                        <a:t>the draft NPRR "Corrections of entities able to bid for PTP Obligations in DAM" as revised by TPTF on September 8, 2008 and agreed to submit it to PRS on behalf of TPTF. TPTF recognized this draft NPRR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8 - 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05" name=""/>
          <p:cNvGraphicFramePr/>
          <p:nvPr/>
        </p:nvGraphicFramePr>
        <p:xfrm>
          <a:off x="304920" y="990720"/>
          <a:ext cx="8610480" cy="232416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9, 2008, TPTF endorsed the draft NPRR Generation Resource Fixed Quantity Block Offer as discussed by TPTF on September 9, 2008, to be submitted to PRS on behalf of TPTF and recognized the essentiality of this NPRR as "Nodal Approved Post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 Westar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660A754-4AD5-43B1-8BFE-2E6732C44A42}"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8 – 9, 2008</a:t>
            </a:r>
            <a:endParaRPr b="0" lang="en-US" sz="1800" spc="-1" strike="noStrike">
              <a:solidFill>
                <a:srgbClr val="000000"/>
              </a:solidFill>
              <a:latin typeface="Arial"/>
            </a:endParaRPr>
          </a:p>
        </p:txBody>
      </p:sp>
      <p:graphicFrame>
        <p:nvGraphicFramePr>
          <p:cNvPr id="108" name=""/>
          <p:cNvGraphicFramePr/>
          <p:nvPr/>
        </p:nvGraphicFramePr>
        <p:xfrm>
          <a:off x="304920" y="990720"/>
          <a:ext cx="8610480" cy="217476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8, 2008, TPTF endorsed ERCOT comments (dated September 8, 2008) for NPRR136, Interim Solution for 15-Minute Settlement of Advanced Meters, as submitted to TPTF and to recognize the essentiality status of NPRR136 as "Deferred Projec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560E922-58C5-4F72-8461-5C79F65D989C}"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8 - 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8 – 9, 2008</a:t>
            </a:r>
            <a:endParaRPr b="0" lang="en-US" sz="1800" spc="-1" strike="noStrike">
              <a:solidFill>
                <a:srgbClr val="000000"/>
              </a:solidFill>
              <a:latin typeface="Arial"/>
            </a:endParaRPr>
          </a:p>
        </p:txBody>
      </p:sp>
      <p:graphicFrame>
        <p:nvGraphicFramePr>
          <p:cNvPr id="112" name=""/>
          <p:cNvGraphicFramePr/>
          <p:nvPr/>
        </p:nvGraphicFramePr>
        <p:xfrm>
          <a:off x="304920" y="990720"/>
          <a:ext cx="8610480" cy="21682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8, 2008, TPTF endorsed NPRR143, "Section 9.9.1, Invoice Recipient Payment to ERCOT for the CRR Auction, Clean-up" as submitted to TPTF on September 8, 2008 and recognized it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6A3F750-3800-4DF6-9507-43D32F957DE0}"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4"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8 - 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8 – 9, 2008</a:t>
            </a:r>
            <a:endParaRPr b="0" lang="en-US" sz="1800" spc="-1" strike="noStrike">
              <a:solidFill>
                <a:srgbClr val="000000"/>
              </a:solidFill>
              <a:latin typeface="Arial"/>
            </a:endParaRPr>
          </a:p>
        </p:txBody>
      </p:sp>
      <p:graphicFrame>
        <p:nvGraphicFramePr>
          <p:cNvPr id="116" name=""/>
          <p:cNvGraphicFramePr/>
          <p:nvPr/>
        </p:nvGraphicFramePr>
        <p:xfrm>
          <a:off x="304920" y="990720"/>
          <a:ext cx="8610480" cy="23191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8, 2008, TPTF recognized NPRR146,  ICCP Telemetry Information Submittals,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Eastland, City of Alle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815695E-E4D2-43C2-A258-1469EAE988B7}"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18" name=""/>
          <p:cNvGraphicFramePr/>
          <p:nvPr/>
        </p:nvGraphicFramePr>
        <p:xfrm>
          <a:off x="304920" y="3505320"/>
          <a:ext cx="8610480" cy="2357280"/>
        </p:xfrm>
        <a:graphic>
          <a:graphicData uri="http://schemas.openxmlformats.org/drawingml/2006/table">
            <a:tbl>
              <a:tblPr/>
              <a:tblGrid>
                <a:gridCol w="2514600"/>
                <a:gridCol w="2666880"/>
                <a:gridCol w="685800"/>
                <a:gridCol w="762120"/>
                <a:gridCol w="1981080"/>
              </a:tblGrid>
              <a:tr h="3520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9, 2008, TPTF endorsed the offer floor proposed by NPRR150, Responsive Reserve Service Offer Floor. TPTF made no comment regarding the value of the offer floor and deferred this issue to WMS and PRS. TPTF recognized NPRR150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inant, AEP Cor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6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 Westar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8 - 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3E126EF-8AB3-4B7C-BCB3-F16095B0BA3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58" name="Text Box 6"/>
          <p:cNvSpPr/>
          <p:nvPr/>
        </p:nvSpPr>
        <p:spPr>
          <a:xfrm>
            <a:off x="380880" y="770040"/>
            <a:ext cx="8077320" cy="942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PTF met twice in September:</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September 8 – 9, 2008</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September 22 – 23,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8 – 9, 2008</a:t>
            </a:r>
            <a:endParaRPr b="0" lang="en-US" sz="1800" spc="-1" strike="noStrike">
              <a:solidFill>
                <a:srgbClr val="000000"/>
              </a:solidFill>
              <a:latin typeface="Arial"/>
            </a:endParaRPr>
          </a:p>
        </p:txBody>
      </p:sp>
      <p:graphicFrame>
        <p:nvGraphicFramePr>
          <p:cNvPr id="121" name=""/>
          <p:cNvGraphicFramePr/>
          <p:nvPr/>
        </p:nvGraphicFramePr>
        <p:xfrm>
          <a:off x="304920" y="990720"/>
          <a:ext cx="8610480" cy="232416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9, 2008, TPTF endorsed NPRR151, Clarify Definition of a Generator Output Breaker in the Outage Scheduler, as submitted to TPTF on September 9, 2008. TPTF recognized NPRR151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Exelon, CitiGroup Energy Inc, Westar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A9897F3-0CC1-4C82-916E-292731BDCE96}"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3" name="Text Box 160"/>
          <p:cNvSpPr/>
          <p:nvPr/>
        </p:nvSpPr>
        <p:spPr>
          <a:xfrm>
            <a:off x="380880" y="594360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8 - 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24" name=""/>
          <p:cNvGraphicFramePr/>
          <p:nvPr/>
        </p:nvGraphicFramePr>
        <p:xfrm>
          <a:off x="304920" y="3463920"/>
          <a:ext cx="8610480" cy="247500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9, 2008, TPTF declined to endorse the white paper SIG0002, Private Use Networks v0.26, as modified and presented to TPTF on September 9, 20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in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Point, AEP Cor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pine</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StarTex, Strategic, Accent, Cirro, Green Mountain, Integry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Tenaska, Westa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228600" y="1028880"/>
          <a:ext cx="8547120" cy="3801960"/>
        </p:xfrm>
        <a:graphic>
          <a:graphicData uri="http://schemas.openxmlformats.org/drawingml/2006/table">
            <a:tbl>
              <a:tblPr/>
              <a:tblGrid>
                <a:gridCol w="3809880"/>
                <a:gridCol w="2057400"/>
                <a:gridCol w="533520"/>
                <a:gridCol w="914400"/>
                <a:gridCol w="1231920"/>
              </a:tblGrid>
              <a:tr h="5079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8404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9, 2008, TPTF endorsed the following SIG White Papers as modified and presented to TPTF on September 9, 2008: </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03 Combined Cycle Plants v4.0</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04 Digital Certificates for Counter Parties v3.0</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05 Load Resource Topology Modeling v2.0</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06 Flowgate Modeling v2.0</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07 Block Load Transfer v4.0</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08 Non-Modeled Generation v4.0</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09 Resource Node Location v3.0</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11 Net Generation v5.0</a:t>
                      </a:r>
                      <a:endParaRPr b="0" lang="en-US" sz="1200" spc="-1" strike="noStrike">
                        <a:solidFill>
                          <a:srgbClr val="000000"/>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22 TCM for RT CCP Dispatch v3.0</a:t>
                      </a:r>
                      <a:r>
                        <a:rPr b="1"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2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7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8 – 9, 2008</a:t>
            </a:r>
            <a:endParaRPr b="0" lang="en-US" sz="1800" spc="-1" strike="noStrike">
              <a:solidFill>
                <a:srgbClr val="000000"/>
              </a:solidFill>
              <a:latin typeface="Arial"/>
            </a:endParaRPr>
          </a:p>
        </p:txBody>
      </p:sp>
      <p:sp>
        <p:nvSpPr>
          <p:cNvPr id="12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9414B9F-D07D-4D00-82C8-FB6BB636D0DC}"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8" name="Text Box 160"/>
          <p:cNvSpPr/>
          <p:nvPr/>
        </p:nvSpPr>
        <p:spPr>
          <a:xfrm>
            <a:off x="380880" y="594360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8 - 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 8 – 9, 2008</a:t>
            </a:r>
            <a:endParaRPr b="0" lang="en-US" sz="1800" spc="-1" strike="noStrike">
              <a:solidFill>
                <a:srgbClr val="000000"/>
              </a:solidFill>
              <a:latin typeface="Arial"/>
            </a:endParaRPr>
          </a:p>
        </p:txBody>
      </p:sp>
      <p:graphicFrame>
        <p:nvGraphicFramePr>
          <p:cNvPr id="130"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8, 2008, TPTF recognized NPRR148, Treatment of Financial Information as Confidential,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B7491B3-FF29-43F1-B866-6F3EDE57D30F}"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2" name="Text Box 160"/>
          <p:cNvSpPr/>
          <p:nvPr/>
        </p:nvSpPr>
        <p:spPr>
          <a:xfrm>
            <a:off x="380880" y="594360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8 - 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22 – 23, 2008</a:t>
            </a:r>
            <a:endParaRPr b="0" lang="en-US" sz="1800" spc="-1" strike="noStrike">
              <a:solidFill>
                <a:srgbClr val="000000"/>
              </a:solidFill>
              <a:latin typeface="Arial"/>
            </a:endParaRPr>
          </a:p>
        </p:txBody>
      </p:sp>
      <p:graphicFrame>
        <p:nvGraphicFramePr>
          <p:cNvPr id="134" name=""/>
          <p:cNvGraphicFramePr/>
          <p:nvPr/>
        </p:nvGraphicFramePr>
        <p:xfrm>
          <a:off x="304920" y="990720"/>
          <a:ext cx="8610480" cy="21682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22, 2008, TPTF endorsed ERCOT moving forward with Readiness Metric MP21, Wind Generation Resources ICCP Telemetry, as revised by TPTF on September 22, 2008.</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S San Antonio</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3499245-90C7-4B7E-BBBD-0F0723791356}"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Text Box 160"/>
          <p:cNvSpPr/>
          <p:nvPr/>
        </p:nvSpPr>
        <p:spPr>
          <a:xfrm>
            <a:off x="304920" y="5867280"/>
            <a:ext cx="853416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22-23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37" name=""/>
          <p:cNvGraphicFramePr/>
          <p:nvPr/>
        </p:nvGraphicFramePr>
        <p:xfrm>
          <a:off x="304920" y="3429000"/>
          <a:ext cx="8610480" cy="232416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22, 2008, TPTF endorsed forwarding formal TPTF comments for NPRR140, Revision to CRR Obligation Margin Adder, to PRS as discussed by TPTF on September 23, 2008 and to recognize NPRR140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in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P Cor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 Westa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22 – 23, 2008</a:t>
            </a:r>
            <a:endParaRPr b="0" lang="en-US" sz="1800" spc="-1" strike="noStrike">
              <a:solidFill>
                <a:srgbClr val="000000"/>
              </a:solidFill>
              <a:latin typeface="Arial"/>
            </a:endParaRPr>
          </a:p>
        </p:txBody>
      </p:sp>
      <p:sp>
        <p:nvSpPr>
          <p:cNvPr id="13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FEDA282-85EC-417B-AFCE-5066D61D4821}"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40" name=""/>
          <p:cNvGraphicFramePr/>
          <p:nvPr/>
        </p:nvGraphicFramePr>
        <p:xfrm>
          <a:off x="304920" y="990720"/>
          <a:ext cx="8610480" cy="21682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23, 2008, TPTF endorsed NPRR152, References to Section 22 Attachments, as posted by Market Rules and submitted to TPTF on September 23, 2008 and recognized NPRR152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U</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Exel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Text Box 160"/>
          <p:cNvSpPr/>
          <p:nvPr/>
        </p:nvSpPr>
        <p:spPr>
          <a:xfrm>
            <a:off x="304920" y="5867280"/>
            <a:ext cx="853416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22-23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42" name=""/>
          <p:cNvGraphicFramePr/>
          <p:nvPr/>
        </p:nvGraphicFramePr>
        <p:xfrm>
          <a:off x="304920" y="3421080"/>
          <a:ext cx="8610480" cy="21412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23, 2008, TPTF endorse the white paper SIG0020 Rounding of MW Values v5.3 as submitted to TPTF on September 23, 20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22 – 23, 2008</a:t>
            </a:r>
            <a:endParaRPr b="0" lang="en-US" sz="1800" spc="-1" strike="noStrike">
              <a:solidFill>
                <a:srgbClr val="000000"/>
              </a:solidFill>
              <a:latin typeface="Arial"/>
            </a:endParaRPr>
          </a:p>
        </p:txBody>
      </p:sp>
      <p:sp>
        <p:nvSpPr>
          <p:cNvPr id="14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FB62599-F3D2-4230-B95A-3C96C693C20A}"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45" name=""/>
          <p:cNvGraphicFramePr/>
          <p:nvPr/>
        </p:nvGraphicFramePr>
        <p:xfrm>
          <a:off x="304920" y="1066680"/>
          <a:ext cx="8547120" cy="2617920"/>
        </p:xfrm>
        <a:graphic>
          <a:graphicData uri="http://schemas.openxmlformats.org/drawingml/2006/table">
            <a:tbl>
              <a:tblPr/>
              <a:tblGrid>
                <a:gridCol w="2495520"/>
                <a:gridCol w="2647800"/>
                <a:gridCol w="681120"/>
                <a:gridCol w="755640"/>
                <a:gridCol w="1967040"/>
              </a:tblGrid>
              <a:tr h="344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23, 2008, TPTF endorse SIG0002 Private Use Networks (PUN) v0.26, except to reflect the following: </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 Ramp Rates submitted for PUN units shall be a function of gross MW output</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units shall be submitted as a function of net MW output</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N flag from CIM is used as the indicat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U</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 name="Text Box 160"/>
          <p:cNvSpPr/>
          <p:nvPr/>
        </p:nvSpPr>
        <p:spPr>
          <a:xfrm>
            <a:off x="304920" y="5867280"/>
            <a:ext cx="853416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22-23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3349EB7-4827-4F11-8022-E2F98984E80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49" name="Text Box 6"/>
          <p:cNvSpPr/>
          <p:nvPr/>
        </p:nvSpPr>
        <p:spPr>
          <a:xfrm>
            <a:off x="380880" y="792000"/>
            <a:ext cx="8610840" cy="1715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t Meetings:</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October 13 – 14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 27 – 29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 10 – 11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 24 – 26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5 – 16 </a:t>
            </a:r>
            <a:endParaRPr b="0" lang="en-US" sz="1600" spc="-1" strike="noStrike">
              <a:solidFill>
                <a:srgbClr val="000000"/>
              </a:solidFill>
              <a:latin typeface="Arial"/>
            </a:endParaRPr>
          </a:p>
        </p:txBody>
      </p:sp>
      <p:sp>
        <p:nvSpPr>
          <p:cNvPr id="150"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Rectangle 8"/>
          <p:cNvSpPr/>
          <p:nvPr/>
        </p:nvSpPr>
        <p:spPr>
          <a:xfrm>
            <a:off x="683280" y="3124080"/>
            <a:ext cx="3320280" cy="33732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 the </a:t>
            </a:r>
            <a:r>
              <a:rPr b="0" lang="en-US" sz="1600" spc="-1" strike="noStrike" u="sng">
                <a:solidFill>
                  <a:srgbClr val="009999"/>
                </a:solidFill>
                <a:uFillTx/>
                <a:latin typeface="Arial"/>
                <a:hlinkClick r:id="rId2"/>
              </a:rPr>
              <a:t>2008 TPTF Calendar</a:t>
            </a:r>
            <a:endParaRPr b="0" lang="en-US" sz="1600" spc="-1" strike="noStrike">
              <a:solidFill>
                <a:srgbClr val="000000"/>
              </a:solidFill>
              <a:latin typeface="Arial"/>
            </a:endParaRPr>
          </a:p>
        </p:txBody>
      </p:sp>
      <p:sp>
        <p:nvSpPr>
          <p:cNvPr id="153"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902B636-5A95-446E-8D3C-9C92CAD3204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56" name="Text Box 6"/>
          <p:cNvSpPr/>
          <p:nvPr/>
        </p:nvSpPr>
        <p:spPr>
          <a:xfrm>
            <a:off x="380880" y="765000"/>
            <a:ext cx="8763120" cy="5524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uring the October 13 – 14 TPTF meeting, topics includ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Report</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56</a:t>
            </a:r>
            <a:r>
              <a:rPr b="0" lang="en-US" sz="1600" spc="-1" strike="noStrike">
                <a:solidFill>
                  <a:srgbClr val="000000"/>
                </a:solidFill>
                <a:latin typeface="Arial"/>
              </a:rPr>
              <a:t>, Transparency for PSS and Full Interconnection Studies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Market Information System (MIS) Dashboards </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45</a:t>
            </a:r>
            <a:r>
              <a:rPr b="0" lang="en-US" sz="1600" spc="-1" strike="noStrike">
                <a:solidFill>
                  <a:srgbClr val="000000"/>
                </a:solidFill>
                <a:latin typeface="Arial"/>
              </a:rPr>
              <a:t>, PPAs as Resource-Specific Verifiable Costs Document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 essentiality status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58, EILS Self-Provision Formula Correction and Clarifications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59, Resource Category Startup Offer Generic Cap for Wind Resources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ERCOT Business Process draft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review of the Real-Time Process Flow</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market comments for Wholesale Market and DAM Process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market comments DAM Desk Operating Procedure Manual</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the System Change Request (SCR) Proces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750, Upgrade ERCOT’s Systems so Users Can Upgrade to Internet Explorer 7.0 and Beyond Registration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recent updates for the paper SIG0002 Private Use Network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55, Clarification of Authorized Representativ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market comments for NPRR151, Clarify Definition of a Generator Output Breaker in the Outage Scheduler, as remanded by PR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market comments for EIP External Interfaces Specification v1.16 </a:t>
            </a:r>
            <a:endParaRPr b="0" lang="en-US" sz="1600" spc="-1" strike="noStrike">
              <a:solidFill>
                <a:srgbClr val="000000"/>
              </a:solidFill>
              <a:latin typeface="Arial"/>
            </a:endParaRPr>
          </a:p>
        </p:txBody>
      </p:sp>
      <p:sp>
        <p:nvSpPr>
          <p:cNvPr id="157"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8992348-2113-4E7C-BCF6-AABD5278710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62" name="Text Box 6"/>
          <p:cNvSpPr/>
          <p:nvPr/>
        </p:nvSpPr>
        <p:spPr>
          <a:xfrm>
            <a:off x="380880" y="765000"/>
            <a:ext cx="8763120" cy="4599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uring the October 27 – 29 TPTF meeting, likely topics includ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Report</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review of draft NPRR for changes in Section 1, Overview</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57, Extending Black Start Service Bid Timelin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market comments for the draft SCR, Allow QSEs to Enter Outages for all Asset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ess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the types of information and/or artifacts that TPTF will need to review when evaluating completion for nodal Readiness metric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updates and market comments for:</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trol Center Communication Protocol (ICCP) Handbook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NPRR, Removal of Settlement Point LMPs from ICCP telemetry Requirement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R to CRR Transition Pla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as Nodal Process Timeline</a:t>
            </a:r>
            <a:endParaRPr b="0" lang="en-US" sz="1600" spc="-1" strike="noStrike">
              <a:solidFill>
                <a:srgbClr val="000000"/>
              </a:solidFill>
              <a:latin typeface="Arial"/>
            </a:endParaRPr>
          </a:p>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AB3B4EF-BE16-4789-B856-BF096B40991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68"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63F1CB3-113C-4751-BE9C-992B542F448C}"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8 – 9:   </a:t>
            </a:r>
            <a:endParaRPr b="0" lang="en-US" sz="1800" spc="-1" strike="noStrike">
              <a:solidFill>
                <a:srgbClr val="000000"/>
              </a:solidFill>
              <a:latin typeface="Arial"/>
            </a:endParaRPr>
          </a:p>
        </p:txBody>
      </p:sp>
      <p:sp>
        <p:nvSpPr>
          <p:cNvPr id="61" name="Text Box 6"/>
          <p:cNvSpPr/>
          <p:nvPr/>
        </p:nvSpPr>
        <p:spPr>
          <a:xfrm>
            <a:off x="380880" y="914400"/>
            <a:ext cx="8534520" cy="5861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8,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Update</a:t>
            </a:r>
            <a:r>
              <a:rPr b="0" i="1" lang="en-US" sz="1600" spc="-1" strike="noStrike">
                <a:solidFill>
                  <a:srgbClr val="000000"/>
                </a:solidFill>
                <a:latin typeface="Arial"/>
              </a:rPr>
              <a: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Nodal Projects Status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Protocol Revision Request (NPRR) Essentiality Statu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sited two previously endorsed NPRR to determine their essentiality for nodal go-live: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a:t>
            </a:r>
            <a:r>
              <a:rPr b="0" lang="en-US" sz="1600" spc="-1" strike="noStrike" u="sng">
                <a:solidFill>
                  <a:srgbClr val="009999"/>
                </a:solidFill>
                <a:uFillTx/>
                <a:latin typeface="Arial"/>
                <a:hlinkClick r:id="rId1"/>
              </a:rPr>
              <a:t>NPRR146</a:t>
            </a:r>
            <a:r>
              <a:rPr b="0" lang="en-US" sz="1600" spc="-1" strike="noStrike">
                <a:solidFill>
                  <a:srgbClr val="000000"/>
                </a:solidFill>
                <a:latin typeface="Arial"/>
              </a:rPr>
              <a:t>, ICCP Telemetry Information Submittals, as “Needed for Go-Live”</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a:t>
            </a:r>
            <a:r>
              <a:rPr b="0" lang="en-US" sz="1600" spc="-1" strike="noStrike" u="sng">
                <a:solidFill>
                  <a:srgbClr val="009999"/>
                </a:solidFill>
                <a:uFillTx/>
                <a:latin typeface="Arial"/>
                <a:hlinkClick r:id="rId2"/>
              </a:rPr>
              <a:t>NPRR148</a:t>
            </a:r>
            <a:r>
              <a:rPr b="0" lang="en-US" sz="1600" spc="-1" strike="noStrike">
                <a:solidFill>
                  <a:srgbClr val="000000"/>
                </a:solidFill>
                <a:latin typeface="Arial"/>
              </a:rPr>
              <a:t>, Treatment of Financial Information as Confidential, as “Needed for Go-Liv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NPRR, Corrections of Entities Able to Bid for Point-To-Point (PTP) Obligations in Day-Ahead Market (DAM):</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this draft NPRR to be submitted to PRS on behalf of TPTF</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this draft NPRR as "Needed for Go-Live“</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NPRR143</a:t>
            </a:r>
            <a:r>
              <a:rPr b="0" lang="en-US" sz="1600" spc="-1" strike="noStrike">
                <a:solidFill>
                  <a:srgbClr val="000000"/>
                </a:solidFill>
                <a:latin typeface="Arial"/>
              </a:rPr>
              <a:t>, Section 9.9.1, Invoice Recipient Payment to ERCOT for the Congestion Revenue Rights (CRR) Auction, Clean-up:</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NPRR143 and recommended no further chang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NPRR143 as posted by Market Rul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NPRR143 to be "Needed for Go-Live"</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EC05571-4D7D-4310-B6FC-CB5E51BFB16C}"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8 – 9:   </a:t>
            </a:r>
            <a:endParaRPr b="0" lang="en-US" sz="1800" spc="-1" strike="noStrike">
              <a:solidFill>
                <a:srgbClr val="000000"/>
              </a:solidFill>
              <a:latin typeface="Arial"/>
            </a:endParaRPr>
          </a:p>
        </p:txBody>
      </p:sp>
      <p:sp>
        <p:nvSpPr>
          <p:cNvPr id="64" name="Text Box 6"/>
          <p:cNvSpPr/>
          <p:nvPr/>
        </p:nvSpPr>
        <p:spPr>
          <a:xfrm>
            <a:off x="380880" y="914400"/>
            <a:ext cx="8534520" cy="53269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8, TPTF discussed (continued):</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40</a:t>
            </a:r>
            <a:r>
              <a:rPr b="0" lang="en-US" sz="1600" spc="-1" strike="noStrike">
                <a:solidFill>
                  <a:srgbClr val="000000"/>
                </a:solidFill>
                <a:latin typeface="Arial"/>
              </a:rPr>
              <a:t>, Revision to CRR Obligation Margin Adder</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NPRR language proposed by ERCOT to help synchronize posted comments with the current CRR system implement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tabled NPRR140 and requested that interested Market Participants work offline with the CRR team to fine tune the proposed NPRR language for further discussion during the Sept 22 – 24, 2008 TPTF meeting</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ck Credit Exposure Reports Spreadsheet</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request of TPTF, ERCOT provided a Question-and-Answer session for the Mock Credit Exposure Reports spreadsheet (as originally posted to the May 28, 2008 CWG meeting)</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49</a:t>
            </a:r>
            <a:r>
              <a:rPr b="0" lang="en-US" sz="1600" spc="-1" strike="noStrike">
                <a:solidFill>
                  <a:srgbClr val="000000"/>
                </a:solidFill>
                <a:latin typeface="Arial"/>
              </a:rPr>
              <a:t>, Change the name of Emergency Electric Curtailment Plan (EECP) to Energy Emergency Alert (EEA)</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NPRR149 and its purpose for synchronizing the Nodal Protocols with North American Reliability Corporation (NERC) terminology as incorporated by the companion </a:t>
            </a:r>
            <a:r>
              <a:rPr b="0" lang="en-US" sz="1600" spc="-1" strike="noStrike" u="sng">
                <a:solidFill>
                  <a:srgbClr val="009999"/>
                </a:solidFill>
                <a:uFillTx/>
                <a:latin typeface="Arial"/>
                <a:hlinkClick r:id="rId3"/>
              </a:rPr>
              <a:t>PRR775</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noted that the term "Energy Emergency Alert" might be confused with the term “Alert” as used elsewhere in Nodal Protocols, so it was suggested that a follow-up NPRR may need to be submitted to replace the term “Alert” with a suitable alternativ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discussion of NPRR149 until after PRS considers the companion PRR7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0F2D190-05CD-4715-A173-1470206A7EE1}"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8 – 9:   </a:t>
            </a:r>
            <a:endParaRPr b="0" lang="en-US" sz="1800" spc="-1" strike="noStrike">
              <a:solidFill>
                <a:srgbClr val="000000"/>
              </a:solidFill>
              <a:latin typeface="Arial"/>
            </a:endParaRPr>
          </a:p>
        </p:txBody>
      </p:sp>
      <p:sp>
        <p:nvSpPr>
          <p:cNvPr id="67" name="Text Box 6"/>
          <p:cNvSpPr/>
          <p:nvPr/>
        </p:nvSpPr>
        <p:spPr>
          <a:xfrm>
            <a:off x="380880" y="914400"/>
            <a:ext cx="8534520" cy="4935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8, TPTF discussed (continued):</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36</a:t>
            </a:r>
            <a:r>
              <a:rPr b="0" lang="en-US" sz="1600" spc="-1" strike="noStrike">
                <a:solidFill>
                  <a:srgbClr val="000000"/>
                </a:solidFill>
                <a:latin typeface="Arial"/>
              </a:rPr>
              <a:t>, Interim Solution for 15-Minute Settlement of Advanced Meter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ERCOT comments for NPRR136 and endorsed them as posted by ERCOT Market Rul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termined the essentiality of NPRR136 to be "Deferred Projects“</a:t>
            </a:r>
            <a:endParaRPr b="0" lang="en-US" sz="1600" spc="-1" strike="noStrike">
              <a:solidFill>
                <a:srgbClr val="000000"/>
              </a:solidFill>
              <a:latin typeface="Arial"/>
            </a:endParaRPr>
          </a:p>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9, TPTF discussed:</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50</a:t>
            </a:r>
            <a:r>
              <a:rPr b="0" lang="en-US" sz="1600" spc="-1" strike="noStrike">
                <a:solidFill>
                  <a:srgbClr val="000000"/>
                </a:solidFill>
                <a:latin typeface="Arial"/>
              </a:rPr>
              <a:t>, Responsive Reserve Service (RRS) Offer Floor</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NPRR150, which was submitted by the DSWG on behalf of WMS to establish an offer floor for Responsive Reserve Service to help reduce credit exposur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the technical concept of implementing a RRS Offer Floor to reduce credit exposure for nodal go-liv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noted that the solution described by NPRR150 does not represent an optimal long-term solu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made no comment regarding the value of the offer floor and recommended that the value of the floor be discussed further by WMS and PR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NPRR150 as "Needed for Go-Live"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9C88B92-11F4-4028-94B9-4AD996672F61}"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8 – 9:   </a:t>
            </a:r>
            <a:endParaRPr b="0" lang="en-US" sz="1800" spc="-1" strike="noStrike">
              <a:solidFill>
                <a:srgbClr val="000000"/>
              </a:solidFill>
              <a:latin typeface="Arial"/>
            </a:endParaRPr>
          </a:p>
        </p:txBody>
      </p:sp>
      <p:sp>
        <p:nvSpPr>
          <p:cNvPr id="70" name="Text Box 6"/>
          <p:cNvSpPr/>
          <p:nvPr/>
        </p:nvSpPr>
        <p:spPr>
          <a:xfrm>
            <a:off x="380880" y="914400"/>
            <a:ext cx="8534520" cy="5578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9,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the following System Implementation Group (SIG) White Paper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03 Combined Cycle Plants (CCP) v4.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04 Digital Certificates for Counter Parties v3.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05 Load Resource Topology Modeling v2.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a:rPr>
              <a:t>SIG0006 Flowgate Modeling v2.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a:rPr>
              <a:t>SIG0007 Block Load Transfer v4.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a:rPr>
              <a:t>SIG0008 Non-Modeled Generation v4.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G0009 Resource Node Location  v3.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a:rPr>
              <a:t>SIG0011 Net Generation v5.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a:rPr>
              <a:t>SIG0022 Transmission Constraint Model for Real-Time CCP Dispatch v3.0</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issues for the paper SIG0002 Private Use Networks (PUN) v0.26, including options for submitting Ramp Rates to ERCOT as either a function of gross or net Megawatt (MW) output</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otion to endorse the paper SIG0002 PUN v0.26 failed by roll-call vo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additional discussion of the paper to the September 22 – 24, 2008 TPTF meeting</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discussion of the paper SIG0020 Rounding of MW Values to the September 22 – 24, 2008 TPTF meeting to await vendor input regarding technical issues related to the rounding and truncating of MW value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9E7E3F8-8908-4AE4-A684-2D5E10B8246B}"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8 – 9:   </a:t>
            </a:r>
            <a:endParaRPr b="0" lang="en-US" sz="1800" spc="-1" strike="noStrike">
              <a:solidFill>
                <a:srgbClr val="000000"/>
              </a:solidFill>
              <a:latin typeface="Arial"/>
            </a:endParaRPr>
          </a:p>
        </p:txBody>
      </p:sp>
      <p:sp>
        <p:nvSpPr>
          <p:cNvPr id="73" name="Text Box 6"/>
          <p:cNvSpPr/>
          <p:nvPr/>
        </p:nvSpPr>
        <p:spPr>
          <a:xfrm>
            <a:off x="380880" y="914400"/>
            <a:ext cx="8534520" cy="4653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9,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 Response Work Group (QRWG)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NPRR Generation Resource Fixed Quantity Block Offer</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this draft NPRR, which proposes making revisions to Nodal Protocol Section 4.4.7.2.1, Ancillary Service (AS) Offer Criteria, to revise existing AS Offer criteria to make it similar to that for Load Resources by providing for offers of Non-Spin in fixed quantity and time blocks from off-line Generation Resource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this draft NPRR to be submitted to PRS on behalf of TPTF</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this draft NPRR as “Nodal Approved Post Go-Live”</a:t>
            </a:r>
            <a:endParaRPr b="0" lang="en-US" sz="1600" spc="-1" strike="noStrike">
              <a:solidFill>
                <a:srgbClr val="000000"/>
              </a:solidFill>
              <a:latin typeface="Arial"/>
            </a:endParaRPr>
          </a:p>
          <a:p>
            <a:pPr lvl="2" marL="1143000" indent="-228600">
              <a:lnSpc>
                <a:spcPct val="85000"/>
              </a:lnSpc>
              <a:spcBef>
                <a:spcPts val="60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51</a:t>
            </a:r>
            <a:r>
              <a:rPr b="0" lang="en-US" sz="1600" spc="-1" strike="noStrike">
                <a:solidFill>
                  <a:srgbClr val="000000"/>
                </a:solidFill>
                <a:latin typeface="Arial"/>
              </a:rPr>
              <a:t>, Clarify Definition of Generator Output Breaker in the Outage Scheduler</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NPRR151 and it as posted by Market Rule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clared NPRR151 to be “Needed for Go-Liv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Reliability Unit Commitment (RUC) issues for Quick Start Resource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quested that this topic be vetted further by the QRWG and revisited during a future TPTF meeting</a:t>
            </a:r>
            <a:endParaRPr b="0" lang="en-US" sz="1600" spc="-1" strike="noStrike">
              <a:solidFill>
                <a:srgbClr val="000000"/>
              </a:solidFill>
              <a:latin typeface="Arial"/>
            </a:endParaRPr>
          </a:p>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D53A4B7-D8B3-4005-9963-28B7DEF722AA}"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2 – 23:   </a:t>
            </a:r>
            <a:endParaRPr b="0" lang="en-US" sz="1800" spc="-1" strike="noStrike">
              <a:solidFill>
                <a:srgbClr val="000000"/>
              </a:solidFill>
              <a:latin typeface="Arial"/>
            </a:endParaRPr>
          </a:p>
        </p:txBody>
      </p:sp>
      <p:sp>
        <p:nvSpPr>
          <p:cNvPr id="77" name="Text Box 6"/>
          <p:cNvSpPr/>
          <p:nvPr/>
        </p:nvSpPr>
        <p:spPr>
          <a:xfrm>
            <a:off x="380880" y="914400"/>
            <a:ext cx="8534520" cy="4010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22,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Report</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Core Projects Status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ge Scheduler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issues affecting the nodal Outage Scheduler, including:</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ity previously requested to allow Market Participants to enter values for deratings on a cumulative basi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ity previously requested to allow Qualified Scheduling Entities (QSEs), Resources, and PUNS to perform their own Outage entries for any transmission equipment they own</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noted that TPTF will need additional time to evaluate how to address the issues in a System Change Request (SCR), to be submitted to the Change-Control Board (CCB) on behalf of TPTF according to the current SCR proces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taff agreed to work offline with TPTF members to draft initial language the SC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E63BF94-A36D-4D37-BB37-93B7C1B02534}"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2 – 23:   </a:t>
            </a:r>
            <a:endParaRPr b="0" lang="en-US" sz="1800" spc="-1" strike="noStrike">
              <a:solidFill>
                <a:srgbClr val="000000"/>
              </a:solidFill>
              <a:latin typeface="Arial"/>
            </a:endParaRPr>
          </a:p>
        </p:txBody>
      </p:sp>
      <p:sp>
        <p:nvSpPr>
          <p:cNvPr id="80" name="Text Box 6"/>
          <p:cNvSpPr/>
          <p:nvPr/>
        </p:nvSpPr>
        <p:spPr>
          <a:xfrm>
            <a:off x="380880" y="914400"/>
            <a:ext cx="8534520" cy="52729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22,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Delivery Systems (ED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the status of EDS, including recent State Estimator convergence statistics, upcoming Focused Input Testing planned for State Estimator and Security Constrained Economic Dispatch (SCED), and progress made to date for resolving telemetry issues indicated on the EDS dashboard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noted that over the next four months, no changes are planned for the EDS environment, and the only new activity will be Focused Input Testing</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ocused Input Test II WebEx</a:t>
            </a:r>
            <a:r>
              <a:rPr b="0" lang="en-US" sz="1600" spc="-1" strike="noStrike" baseline="30000">
                <a:solidFill>
                  <a:srgbClr val="000000"/>
                </a:solidFill>
                <a:latin typeface="Arial"/>
              </a:rPr>
              <a:t>TM</a:t>
            </a:r>
            <a:r>
              <a:rPr b="0" lang="en-US" sz="1600" spc="-1" strike="noStrike">
                <a:solidFill>
                  <a:srgbClr val="000000"/>
                </a:solidFill>
                <a:latin typeface="Arial"/>
              </a:rPr>
              <a:t> kick-off meeting was held October 1</a:t>
            </a:r>
            <a:r>
              <a:rPr b="0" lang="en-US" sz="1600" spc="-1" strike="noStrike" baseline="30000">
                <a:solidFill>
                  <a:srgbClr val="000000"/>
                </a:solidFill>
                <a:latin typeface="Arial"/>
              </a:rPr>
              <a:t>st</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odal Resource Registration Data Deep-Dive WebEx</a:t>
            </a:r>
            <a:r>
              <a:rPr b="0" lang="en-US" sz="1600" spc="-1" strike="noStrike" baseline="30000">
                <a:solidFill>
                  <a:srgbClr val="000000"/>
                </a:solidFill>
                <a:latin typeface="Arial"/>
              </a:rPr>
              <a:t>TM</a:t>
            </a:r>
            <a:r>
              <a:rPr b="0" lang="en-US" sz="1600" spc="-1" strike="noStrike">
                <a:solidFill>
                  <a:srgbClr val="000000"/>
                </a:solidFill>
                <a:latin typeface="Arial"/>
              </a:rPr>
              <a:t> meeting was held September 25</a:t>
            </a:r>
            <a:r>
              <a:rPr b="0" lang="en-US" sz="1600" spc="-1" strike="noStrike" baseline="30000">
                <a:solidFill>
                  <a:srgbClr val="000000"/>
                </a:solidFill>
                <a:latin typeface="Arial"/>
              </a:rPr>
              <a:t>th</a:t>
            </a:r>
            <a:r>
              <a:rPr b="0" lang="en-US" sz="1600" spc="-1" strike="noStrike">
                <a:solidFill>
                  <a:srgbClr val="000000"/>
                </a:solidFill>
                <a:latin typeface="Arial"/>
              </a:rPr>
              <a:t> to cover registration-related topics, including the ongoing process for Resource Asset Registration Forms (RARF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es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staffing and Readiness Metrics, including the current status of ERCOT and Market Participant Readines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ess Metric MP21, Wind Generation Resources ICCP Telemetry</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MP21 to address concerns as remanded by TAC on September 4, 2008</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how metric MP21 will be reported on the Readiness Scorecard</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mmended revisions to MP21 and endorsed ERCOT moving forward with it as revised by TPTF (see revisions on next sl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Joel Mickey</dc:creator>
  <dc:description/>
  <dc:language>en-US</dc:language>
  <cp:lastModifiedBy>ERCOT Staff - scb</cp:lastModifiedBy>
  <dcterms:modified xsi:type="dcterms:W3CDTF">2008-10-09T16:44:22Z</dcterms:modified>
  <cp:revision>1330</cp:revision>
  <dc:subject/>
  <dc:title>TAC Update</dc:title>
</cp:coreProperties>
</file>