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665-2C82-4726-9571-F3C1F981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Reliability Aspects of Wind Generation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356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Victor Bar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Director of Compli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, Reliability, Reliability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’s primary concern is the reliability of the B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’s parallel responsibility is compliance with Protocols, Operating Guides and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C delegation agreement places Situational Awareness requirement on Texas 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has no financial interest in any market participant/registered ent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requirement to assess and balance risk with reasonable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Wind Generation Strategy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follows the wind initiatives/goals defined by the State of Texa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on diversity leads to a more robust portfolio long 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ewable generation is critical to the future success of the ERCOT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Wind Generation Challenges in ERCO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 generation growth has been exceptionally rap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installed base and concentration of wind generation is a new phenomena with inadequate operating history leading to uncertain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s have not kept up with the potential impact of wind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 do not address the operational issues placing the burden back on the ERCOT reg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knowing the full impact of this new paradigm creates friction with respect to the impact on reli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pecific Concern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tage ride through (low and hi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cy ride through (low and hi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ized voltag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ized VAR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m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follow dir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S re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In a perfect world…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ould have greater clarity of r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e application of technology is employed to improve reliability and ability to absorb more renewable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, state of the art generation and contro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s are updated to address technical and operational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active vs. reactiv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ission adequ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mitig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Wind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6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identify the real reliability issues with the new paradig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next year, long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ys can we improve the culture of compliance besides violations and fin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ERCOT region move to the next lev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or retrofit, transmission upgrades,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Victor Barry</cp:lastModifiedBy>
  <dcterms:modified xsi:type="dcterms:W3CDTF">2008-10-14T21:07:03Z</dcterms:modified>
  <cp:revision>58</cp:revision>
  <dc:subject/>
  <dc:title>Texas Regional Entity Presentation</dc:title>
</cp:coreProperties>
</file>