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939-D853-4C67-87E5-1C15E577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6E6-12CA-41B3-8A35-6117C199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4D4-A61A-4BC7-BDEB-B66C245B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FF9-7DC6-4D52-AF79-E53573CC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0CC4-3BEA-40AC-86EE-E77E0766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AD00-A4CF-4395-9B72-9F2FBFC3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AD76-4BFC-4F59-A41C-C6A039CD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BB8D-85D9-4565-8EAE-924E0DB5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4AA9-D210-43C8-8F1C-63F6569D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2E21-458E-49E5-BE13-B6C9DA68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38CC-2C61-4AD6-A033-905EFEB4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685-319C-41CE-8926-2E002F0E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98C4-438C-4ECD-8465-620EDCEC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AAD5-78D5-4DDD-9029-576880A1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F045-91A5-41BC-9420-2B4F7D4C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26DE-5DCD-4ED5-A0F1-C82A4C52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335A-104C-4EAF-8BC7-3E54BCFE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460-3E7C-4473-AA91-C38623CC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5C2-A3A0-4256-A29E-208A3499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6AE-9C9B-4675-AC7C-91FFB520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AB5-08BB-4FBA-B0F3-016F4ABA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FA5-E7B0-4F07-8DC6-BA5E9A1A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F68-3511-4650-8A70-8D3B12A1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0F9-3A5D-4E09-B4C4-BFD337CF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780B-3210-4C31-ACE4-04B9DDED9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5434-1DFA-4604-9993-8535FF9DF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ctober 2, 2008 TAC Meeting Summary For Oct. 16 ROS Meeting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647960"/>
            <a:ext cx="2286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ul Ro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AC Voting Item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GRR2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tage Ride-Through (VRT) Require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roved by 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Sept ROS Meeting Summary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07120" cy="41911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R 771 (Wind Ramp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ved PRR language to change Black Start selection cycle from one year to two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rsed ERCOT proposed Ancillary Service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rsed EECP Event Investigatio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CWG completed Wind Workshop Assignment relating to Iner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AR Study Update – Refer to DWG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ROS-Related Issu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newable Technologie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rricane 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C Chair requested that ROS report to TAC on the event, including recommended ERCOT Protocol or Operating Guide revisions based on lessons learned, if 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8:52:30Z</dcterms:created>
  <dc:creator>Randy Jones</dc:creator>
  <dc:description/>
  <dc:language>en-US</dc:language>
  <cp:lastModifiedBy>00010966</cp:lastModifiedBy>
  <dcterms:modified xsi:type="dcterms:W3CDTF">2008-10-08T21:10:57Z</dcterms:modified>
  <cp:revision>87</cp:revision>
  <dc:subject/>
  <dc:title>ROS’ Action Plan – Following Up on 2/26 EECP &amp; Wind Workshop Issues</dc:title>
</cp:coreProperties>
</file>