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4CD-347D-4C6A-9850-9585B5C2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807-7FF0-46B8-9779-8C3D5591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CA2-488E-4DB5-9414-F0BDCFCA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887-6666-4C4A-AD53-4E5DDC82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487-1124-42C6-89E9-91690ED2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860-E10D-49C4-A711-F626E47E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925-BA69-438F-8A55-FCC5171F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56B-52FD-4F26-BEC2-01618EC9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B1D-D8FF-4759-8D98-5A51F28E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E99-6ADF-4260-9AFB-2149D1C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115-CF47-4DFB-9D6A-CB035B8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AF5-E8AC-4C26-97AF-88948CE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FCC4-5532-4126-AE0F-B6E596C0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16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10040" cy="6477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80880" y="457200"/>
            <a:ext cx="2835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Performance to the Proposed New Balancing Authority ACE Limi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1 minute averages o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RCOT: FreqTrigLow=59.932 Hz FreqTrigHigh=60.068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inute: Event            5 minutes in a row: Alarm 30 min in a row: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962520" y="152280"/>
            <a:ext cx="2286000" cy="6477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066680" y="4419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rricane Ike made landfall at 02:10 am Saturday, Sept.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3200400" y="3429000"/>
            <a:ext cx="8380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04760" y="200160"/>
            <a:ext cx="893448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0080" y="195120"/>
            <a:ext cx="894384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250920"/>
            <a:ext cx="9144000" cy="6356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553080" y="685800"/>
            <a:ext cx="1981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, Sept 16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day, Sept 1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8001000" y="12952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8229600" y="9144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bgreen\Desktop\govDB illustration.gif"/>
          <p:cNvPicPr/>
          <p:nvPr/>
        </p:nvPicPr>
        <p:blipFill>
          <a:blip r:embed="rId1"/>
          <a:stretch/>
        </p:blipFill>
        <p:spPr>
          <a:xfrm>
            <a:off x="152280" y="990720"/>
            <a:ext cx="8991720" cy="5562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Governor dead bands can create resource MW output 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bgreen\Desktop\20080811govDB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October 14 and 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has been working with the TRE to develop SAR-003, the CPS2 Waiver (BAL-001 Regional Varian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mpleted analysis of Wind Generator inertia and governor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iscuss Nodal market expected control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November 11 and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85800" y="380880"/>
            <a:ext cx="259092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 September  2008 =119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638680" y="380880"/>
            <a:ext cx="26672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0.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867280" y="9216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9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9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3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art 6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Green, Bob</cp:lastModifiedBy>
  <dcterms:modified xsi:type="dcterms:W3CDTF">2008-10-13T15:38:47Z</dcterms:modified>
  <cp:revision>102</cp:revision>
  <dc:subject/>
  <dc:title>ROS Report</dc:title>
</cp:coreProperties>
</file>