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DBE-A352-4BA1-8958-92E588FE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C4E-5CCE-4EAE-B28A-29F7B2A4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B31-52EF-403D-A5A9-AECA1A83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8D2-2214-4BF1-BDCA-5CEBCC72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E4F-746E-425C-BAE1-57E62BB1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977-7F34-4470-B5E9-7CEACEEC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8FE-B90A-4E15-9D45-CCD545DD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35B-587A-4171-9F73-62CF9B70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CBB-763F-45A4-8841-7D63253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6D5-30AB-4489-A8A8-882D8F58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898-4736-41D6-8649-56153CA5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175-B5F4-4E09-911E-C862C27D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DE7C-5758-4B2F-B8C2-BC890BFE9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391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 Generator Inertia and Governor Response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CWG Assignment in response to EECP Step #2 on February 26, 2008- ROS Action Plan Item 1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bgreen\Desktop\Seimens 1.4.gif"/>
          <p:cNvPicPr/>
          <p:nvPr/>
        </p:nvPicPr>
        <p:blipFill>
          <a:blip r:embed="rId1"/>
          <a:stretch/>
        </p:blipFill>
        <p:spPr>
          <a:xfrm>
            <a:off x="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7620120" y="358128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pper 2.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bgreen\Desktop\GE 2.5 MW.gif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7620120" y="3809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 2.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ding Thou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 Turbines do not have classical governors, but newer units with pitch control could “back down” under steady-state conditions and pick up generation when frequency is low to help with recovery from a major unit tr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er AC-DC-AC units do not supply additional MW from rotating inertia like shaft driven generators, but by rectifier/inverter variations.  They may simulate inertia effects by electronic controls just like governor response could be simul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ECP Step 2 occurred on February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arch 11, the PDCWG presented a report to ROS with analysis and recommend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ommendations w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should try to improve the Short Term Load Forecast to improve load/resource bal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 only QSEs should be more effective in updating Resource Plans to improve load/resource balanc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next TAC meeting, TAC directeded ROS and the PDCWG to study Wind Generator Inertia and Governor Respo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 of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ility to control versus willingness to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 on ERCOT bulk power inter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 of Wind Generator design to prov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power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tage Control Cap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voltage and frequency disturbance ride through cap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inertia parameters but there are technical designs for variable inertia Wind Gen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1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2"/>
          <p:cNvSpPr/>
          <p:nvPr/>
        </p:nvSpPr>
        <p:spPr>
          <a:xfrm>
            <a:off x="0" y="22860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Month Average Wind-Only SCPS2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bgreen\Desktop\GE 1.5 MW.gif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7391520" y="388620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 1.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,000 i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bgreen\Desktop\AC-DC-AC.gif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7238880" y="3505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WT-2.3-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2:25:49Z</dcterms:created>
  <dc:creator>Green, Bob</dc:creator>
  <dc:description/>
  <dc:language>en-US</dc:language>
  <cp:lastModifiedBy>Green, Bob</cp:lastModifiedBy>
  <dcterms:modified xsi:type="dcterms:W3CDTF">2008-10-12T22:46:05Z</dcterms:modified>
  <cp:revision>20</cp:revision>
  <dc:subject/>
  <dc:title>Slide 1</dc:title>
</cp:coreProperties>
</file>