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4FDF-9FE7-4593-8F07-AE0F5E7C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980C-EB17-485F-AA16-5EF36941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1693-7CA8-4951-A285-860D6790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7DFA-5C63-4C0E-ABF8-1A2E2076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5BC5-43EB-4E81-83CF-CC4D6F77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1B69-065E-436B-A6D5-F747442A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23E9-B601-4168-B232-6CF060C8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CB81-2FE3-4E7A-93C7-A156DC45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50A5-D962-4E77-9F9A-65123B79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864D-E982-4CEB-80DD-C2F6EA3A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9932-DF35-4DA1-B3B9-ACA02751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5748-1E25-4752-8A4E-E9447A81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1C03-0CC4-4260-BF97-98214F8F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0C4C-C27B-47BE-A71E-C6E62C6A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82C4-1150-43A1-BD92-E759FCA2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30BF-68C0-4C58-94A5-DDF020BB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2BB9-2A37-4C52-960F-70688A62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3416-4720-43E5-857F-63CBA3B6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792E-21F7-40BA-A2D6-683BE906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BCC6-581B-4FA7-8492-C6E268CE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D2B4-9A22-42BB-A714-25C84674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DCF5-99EA-40C5-98D3-A2C21538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D20E-4517-4712-BB65-DBB0EDBA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66D0-C3C0-41EF-9909-6FE5F5A3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A1E4-AF15-4528-815C-1DCB6E5E7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378480"/>
            <a:ext cx="85392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324120" y="6477120"/>
            <a:ext cx="2514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FAD5-043C-4510-BF9B-205B502DB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0080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0C70-E737-45FF-BB42-9C43E5DFF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dt" idx="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9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0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26416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2009 PPL Re-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- Backgrou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2009 ERCOT fee case has been withdrawn due to the Nodal Go-Live date change.  This creates a need to reforecast the 2009 PP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al deferred projects cannot be executed as originally plan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tion of the Nodal project has resource implications for projects on the 2009 P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ystem Administration Fee will remain flat in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mits our project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project budget = $27.2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d project budget = $12.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0E33-3771-4E01-8B23-EDE9125D65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– Re-planning Effo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POs asked to update 2009 PPL with the following consider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lanning purposes, assume Nodal is not delivering in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Nodal schedule is released we will revisit the revised 2009 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on’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required since Nodal is de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required to keep Zonal systems “run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over funding needs of currently executing proj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nature of n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funding (and other resources) requires us to limit our project activity to the most critical i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 funding for key marke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2009 Non-Nodal Projects to a minim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 what is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tart “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ssent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2009, we will address additional urgent needs as they ar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F448-6D99-4C6B-86A5-78FCD066604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– Approval Schedule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685800"/>
          <a:ext cx="8153640" cy="5557680"/>
        </p:xfrm>
        <a:graphic>
          <a:graphicData uri="http://schemas.openxmlformats.org/drawingml/2006/table">
            <a:tbl>
              <a:tblPr/>
              <a:tblGrid>
                <a:gridCol w="720720"/>
                <a:gridCol w="352440"/>
                <a:gridCol w="2318040"/>
                <a:gridCol w="3427200"/>
                <a:gridCol w="13352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ty / E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ed Outcome / Deliverab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wner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ob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ize 2009 Project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sed 2009 Initiatives Lists from CA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O Manag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review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ive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review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and approval of MO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 / Parr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and approval of RO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 / Parr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Initiatives Lists due to P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O exempt due to ROS and WMS meeting tim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O Manag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and approval of SO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 / Low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./Nov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dership Approval Pha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d 2009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O Mgrs / 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ive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ce &amp; Audit Committe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review of 2009 prioritization pro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and approval of SO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 / Low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complete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O Mgrs / 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of market subcommittee approval result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ive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of market subcommittee approval result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ce &amp; Audit Committe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ard of Directo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rnei / 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E23A-A815-4BBC-AF14-FA66E2CE93E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– Top Risks/Constrai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Contention with Nod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d Capital Project Budg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ed Data Center Capac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ready at full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lief until MET Center Disposition Project delivers mor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ly not until 4Q2010 or 1Q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 we potentially can’t “plug-in” another server until relief is re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DCD4-3FE0-434C-BEF4-B4B30F9C1C7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– DRAFT Summary by CA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41200" y="4724280"/>
          <a:ext cx="8457840" cy="381240"/>
        </p:xfrm>
        <a:graphic>
          <a:graphicData uri="http://schemas.openxmlformats.org/drawingml/2006/table">
            <a:tbl>
              <a:tblPr/>
              <a:tblGrid>
                <a:gridCol w="2075760"/>
                <a:gridCol w="1922040"/>
                <a:gridCol w="2153520"/>
                <a:gridCol w="230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 CO – Met 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228600" y="5410080"/>
            <a:ext cx="5410080" cy="533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   Revised 2009 budget is $12.2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*  Met Center project is funded by a separate budget line i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1066680"/>
          <a:ext cx="8458200" cy="3202200"/>
        </p:xfrm>
        <a:graphic>
          <a:graphicData uri="http://schemas.openxmlformats.org/drawingml/2006/table">
            <a:tbl>
              <a:tblPr/>
              <a:tblGrid>
                <a:gridCol w="2075040"/>
                <a:gridCol w="1923840"/>
                <a:gridCol w="2152800"/>
                <a:gridCol w="23065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2009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Draft 2009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7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 800,00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3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5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2,825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7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3,725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9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 55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90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6,60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7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 $ 12,7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14,50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F591-0774-48C5-9346-5204D01A5CE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roy Anderson</cp:lastModifiedBy>
  <dcterms:modified xsi:type="dcterms:W3CDTF">2008-10-07T22:39:26Z</dcterms:modified>
  <cp:revision>94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