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FDB969-5A10-4E55-9FAB-0EE9A8F58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5859B0-27DD-4B57-95F3-FEA14B06A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0B7680-0B3A-46B7-86DB-CDC122E42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B40A82-4FCA-474D-BD31-069A2AA9B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38CDA6-7F61-4AFB-923E-DD6025D47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D15DF1-BCE2-4584-9F0E-DFB95BA71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77AACD-DA99-4C93-A08D-78DB8C193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359C10-D0F5-48AC-94DC-8D3304FA6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E57642-FFA0-443D-8212-53A0D52CB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EA5A5A-4F29-46E7-BCF2-DD02E8B21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6AD3FB-6B21-48FC-9C4B-1F82417B1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4158B2-D713-4AEB-B83B-B13E2D5DA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EF6D5-1CF8-4A57-83FA-E57DA00D11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tail Market Sub Committ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dt" idx="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ctober 15, 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333520" y="1905120"/>
            <a:ext cx="647712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2333520" y="5466960"/>
            <a:ext cx="2619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October 15, 200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2333160" y="5067360"/>
            <a:ext cx="604836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etail Market Subcommittee Mee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Flight Testing Update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RMS Updat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08/09/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90440" y="195120"/>
            <a:ext cx="7932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Flight 1008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1" name=""/>
          <p:cNvSpPr/>
          <p:nvPr/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9480" y="1219320"/>
            <a:ext cx="82296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33520" y="1219320"/>
            <a:ext cx="82296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tai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ight Kick-Off Conference Call will be 10/17/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ight scheduled to begin with Day 1 transactions flowing on 10/20/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ketrak Testing scheduled to begin on 12/01/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ight 1008 scheduled to conclude on 12/02/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ingency Testing scheduled to conclude on 12/23/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MS Updat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08/09/2006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90440" y="195120"/>
            <a:ext cx="7932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Flight 1008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5" name=""/>
          <p:cNvSpPr/>
          <p:nvPr/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09480" y="1219320"/>
            <a:ext cx="82296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33520" y="1066680"/>
            <a:ext cx="82296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light Manif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TDS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1 New CRs – 45 New Relationships; 7 Existing C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Existing CRs testing Bank 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Existing CR testing Change of Service Provider (Established S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CRs adding new territories (6 new relationship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277 Total Task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 CRs and 4 TDSPs testing Marketr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MS Updat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08/09/2006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gres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nectivity status – ERCOT 100%; Point to Point 95%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NP requested and was granted a waiver from participating in transaction testing during Flight 1008.  CNP is focusing all resources on the restoration efforts related to Hurricane Ike.  Once a CR completes testing with another TDSP, CNP will consider them to be certified in their territory as well.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title"/>
          </p:nvPr>
        </p:nvSpPr>
        <p:spPr>
          <a:xfrm>
            <a:off x="1090440" y="195120"/>
            <a:ext cx="7932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Flight 1008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MS Upda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08/09/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/>
  <dc:description/>
  <dc:language>en-US</dc:language>
  <cp:lastModifiedBy>gcervenka</cp:lastModifiedBy>
  <dcterms:modified xsi:type="dcterms:W3CDTF">2008-10-08T12:58:19Z</dcterms:modified>
  <cp:revision>98</cp:revision>
  <dc:subject/>
  <dc:title>Instructions</dc:title>
</cp:coreProperties>
</file>