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9CD1-DE3E-48D1-A3AD-0AA9F58C9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6577-B4D5-4795-AD03-30D18BD1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6AFA-2B61-48C2-A199-96E155E18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4D7A-6ACE-4992-B64A-606A8D183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1797-ECE3-4FD2-81D6-8796C422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CC54-C09D-4698-B9C3-4736D054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F33E-867B-40A8-959C-0626F47B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CF2A-D30D-444A-ABD2-A5F64639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1BBC-1E0F-4BD4-A3CF-A3281062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9692-55A7-498B-9A41-840D2828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955D-8DBC-4A3F-A461-CBD05293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0E71-8362-4D5A-9FAD-DE5E0994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61DC-225F-42FF-9C5B-3616EDE8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818D-E828-47A4-818E-012A2B03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7421-2855-4E36-811F-5C40F0E3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F566-0A7E-4654-9460-36634ECC1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9C95-5A41-4EB5-BA7A-0F621FA0C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63EA-C75B-419F-ABF2-398B29CB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EFAD-4F00-4F96-B4FE-7CBDFED2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E126-F607-437D-8FFE-CED43144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219F-8C55-4EE3-9023-38F369DF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8670-BDAF-4BD1-8F0F-DB3ADBDE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0670-2C75-4CD4-9709-27ED8996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9D65-5FC9-4A04-BA85-57B12A6A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E5C8-40E1-405A-A1F1-66FF79BFCC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9C46-6068-43A2-85D3-FAD3B18C34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62120" y="914400"/>
            <a:ext cx="784836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mmercial Operations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ub-Committee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Update to TAC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ctober 2,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PS did not meet in Septemb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WG – Sept. 2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eting rescheduled for Oct.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WG / SDAWG Joint meeting Sept. 1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ancell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tponed reports and updates on Nodal, awaiting the Nodal Calendar Update and a new timeline for EDS4 tes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WG – Sept. 2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mmended LPGRR031 – “Profile Decision Tree Changes for Distributed Renewable Generation” for COPS consid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ewed Advanced Metering Draft LPGRR – Interim Solution 15 minute Settlem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PS Oct. 14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Meeting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ew and consider a Load Profile Guide revision to “Decision Tree Changes for Distributed Generation” – LPGRR03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et Participant Survey – TAC assigned performance are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ispute Re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ormat of Settlement Stat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ata Extracts &amp;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ew assessment of EILS Contract Pay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447920" y="16765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Questions 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5:17:58Z</dcterms:created>
  <dc:creator>lstarr</dc:creator>
  <dc:description/>
  <dc:language>en-US</dc:language>
  <cp:lastModifiedBy>lstarr</cp:lastModifiedBy>
  <dcterms:modified xsi:type="dcterms:W3CDTF">2008-09-22T18:58:38Z</dcterms:modified>
  <cp:revision>30</cp:revision>
  <dc:subject/>
  <dc:title>Slide 1</dc:title>
</cp:coreProperties>
</file>