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031BE-9977-49B0-A2B2-53FE6A8FDD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80EE1-C322-4336-8273-CA6BD5ACC5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0EB9E-326D-4C6F-826B-08349B8A08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15706-4074-4B62-89B8-D45E1EB2AA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02A44-4ECD-4D3D-94E6-1DBFDEE834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D1ED3-DCD9-42E3-8B6F-7D05AB0DD5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2838A-4736-47C4-AF03-29B2296FC1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949CD-857B-4B12-A805-80B5DB15A5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A44FA-82CE-4068-A875-42D0C9103C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D7DA4-CA4D-40DA-857B-E9E3E48D34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89A27-A17A-41AF-9C8D-4EF24688DD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42F64-98E1-4FF6-8D0B-2246771A92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A378-D27B-4562-ACD4-359F3AB55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BE34-80E0-4B99-97C0-187385CE0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2666880"/>
            <a:ext cx="72867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RCOT Advanced Metering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Advanced Metering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077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7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CT Project 34610 – Implementation of Advanced Mete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990720" y="1676520"/>
          <a:ext cx="6933960" cy="3265200"/>
        </p:xfrm>
        <a:graphic>
          <a:graphicData uri="http://schemas.openxmlformats.org/drawingml/2006/table">
            <a:tbl>
              <a:tblPr/>
              <a:tblGrid>
                <a:gridCol w="2971800"/>
                <a:gridCol w="396216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CT 34610 Sub-Pro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sponding ERCOT Pro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Interim Pro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Web Portal Pro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ERCOT Settlement Pro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70057_0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MIT Study for Long Term Settlement Solu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80027_0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dvanced Metering - Market Changes for PUCT 34610 (Interim settlement solut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Home Area Network (HA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Retail Interface Pro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Customer Edu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70057_01 AMIT Study for Long Term Settlement Solu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ka ERCOT System Throughput for ID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op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te the volume of IDR data that ERCOT systems could support with enhancements to the current systems and without system degradation.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OMPLETED 05/19 – results on next sl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 or modify existing ERCOT systems to increase capacity for IDR data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moved from scope at Market’s reques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 a design document (“blueprint”) that provides the future vision for ERCOT systems necessary to support up to 7 million IDR ESI IDs.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DS in partnership with Black &amp; Veatch were selected to deliver this “blueprint” – i.e., the “AMIT Study for Long Term Settlement Solution”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dget Overview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8 PPL Budg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00 – 250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ed*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250 – 500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udget revised as a result of scope changes noted above and addition of outside vend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Advanced Metering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Advanced Metering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1681200"/>
          <a:ext cx="8182080" cy="525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81200"/>
                    <a:ext cx="8182080" cy="525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304920" y="762120"/>
            <a:ext cx="80769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65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70057_01 AMIT Study for Long Term Settlement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165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IDR Threshold – Preliminary Estimates (scope item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Advanced Metering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2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70057_01 AMIT Study for Long Term Settlement Sol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UCT Advanced Metering Implementation Team (AMIT) requested that ERCOT procure a  third party vendor to conduct a “study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rpose of the study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 and provide possible long-term solutions for ERCOT systems to accommodate full settlement of the Texas electric market using 15-minute interval data from Advanced Metering Systems (AM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udy Outpu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s and benefits associated with possible long-term solutions as well as the associated timelines for implement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Advanced Metering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70057_01 AMIT Study for Long Term Settlement Sol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Level Sche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209320" y="466416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5248440"/>
            <a:ext cx="7621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ickoff 09/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17683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/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17683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/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17683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/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17683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/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17683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/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29400" y="17683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/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17683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/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17683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/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5273640"/>
            <a:ext cx="426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IT Study Kickof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9/29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IT Study Comple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/2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427120" y="2019240"/>
            <a:ext cx="6107400" cy="278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"/>
          <p:cNvGraphicFramePr/>
          <p:nvPr/>
        </p:nvGraphicFramePr>
        <p:xfrm>
          <a:off x="228600" y="2362320"/>
          <a:ext cx="2209680" cy="2276280"/>
        </p:xfrm>
        <a:graphic>
          <a:graphicData uri="http://schemas.openxmlformats.org/drawingml/2006/table">
            <a:tbl>
              <a:tblPr/>
              <a:tblGrid>
                <a:gridCol w="2209680"/>
              </a:tblGrid>
              <a:tr h="328320">
                <a:tc>
                  <a:txBody>
                    <a:bodyPr lIns="90000" rIns="90000" tIns="4680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Current St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90000" rIns="90000" tIns="4680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tIns="4680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Tech Compon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Long Term Solu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Ongoing Support Pla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Implementation/Migration Pla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AMIT Presen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Advanced Metering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80027_01 Advanced Metering_ Market Changes for PUCT 346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nterim Settlement Solutio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op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ify ERCOT systems to provide for the settlement of 15-min data received from advanced meters including small distributed renewable generators.   Source: PRR766, PRR75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dul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33520" y="3276720"/>
          <a:ext cx="6400800" cy="1761840"/>
        </p:xfrm>
        <a:graphic>
          <a:graphicData uri="http://schemas.openxmlformats.org/drawingml/2006/table">
            <a:tbl>
              <a:tblPr/>
              <a:tblGrid>
                <a:gridCol w="4037040"/>
                <a:gridCol w="2363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 Phase Beg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/29/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iness Requirements Comple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02/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ptual Design Comple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/07/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il Designs Comple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9/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 Comple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20/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533520" y="5181480"/>
            <a:ext cx="472428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dg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8 PPL Budget   $500k - $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Heather Day</cp:lastModifiedBy>
  <dcterms:modified xsi:type="dcterms:W3CDTF">2008-10-09T13:42:11Z</dcterms:modified>
  <cp:revision>36</cp:revision>
  <dc:subject/>
  <dc:title>Instructions</dc:title>
</cp:coreProperties>
</file>