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FA1-079F-47A6-A976-86052376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A53-E223-45A8-B968-24BAD0F1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EF1-1F7C-4FEE-948B-1E2ECE3A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CA8-BEB2-4AE5-BF30-34AA98B5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1BB24-30E8-4085-BE05-24A75715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A536-0AF4-4CCB-8F28-7F1D6A8E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9926E-1187-4213-99BB-7BBFF40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65922-E289-48C9-872A-0DF6F56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75397-6E37-418A-9888-E54FD9A7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B9A27-FB88-44AC-BE2F-AF410D0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D025-13D2-460D-BB3B-AA12B15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28A-1549-4DD1-99FA-06982A22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9E638-7AC8-40B2-8D69-2871196E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097D4-004E-40B3-8440-37FF97E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8C66-4E5A-410A-9CBF-8F779B09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E6FD2-2CF4-41F3-A17F-98E8CFF5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96438-E495-46F9-8631-40C95704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92B-4D68-451F-8FE4-BFAE115B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5E0-3FB6-4720-A4BE-A8FE6FE9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BA4-D153-466F-BE08-97B9927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706-F2D2-413C-8424-B32DAE9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3EC-4A68-46E8-A9FD-CF27BEEB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0DB-D4C7-45C4-AFDF-2A7D6153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70F-8915-43F1-80D0-10B17834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831E-83C0-4994-BB0B-E87F1FA5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66E-C893-4B58-9DC8-45D64CE64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557A-6B30-4E86-91E6-543133A56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ctober 15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C98-4CE6-4CBE-BF17-FF37D09E37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quisition Task Force Short Term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62120" y="1600200"/>
            <a:ext cx="76197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REP leaving the Market and selling customers to another R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 the event the selling CR is exiting the Texas market either by a default or to prevent a default, TX SET believes that the current process for Mass Transition could be used to transfer some (with remainder going to POLR) or all of a REP’s ESI IDs to an acquiring/designated CR as a short term option.  (ERCOT received PUC permission to do this for a specific portion of ESI IDs during a recent Mass Transition to POL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his would utilize the existing Mass Transition Code (TS). TDSPs have indicated this will terminate relationships in their syste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tentially conflicts with recently approved RMGRR for Mass Tr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EDB-1253-4DC2-B0B5-52E54A804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quisition Task Force Short Term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62120" y="1600200"/>
            <a:ext cx="761976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REP selling customers to another REP but 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not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leaving the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 the event the selling CR will continue to operate in the Texas Market and does not terminate their Standard Form Agreement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ith ERCOT, the buying CR will need to submit switches to gain the custom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 the event the selling CR is unable to confirm that they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re the REP of Record (via SCR 740, 727 or the Siebel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Order Extract), ERCOT can validate ROR for the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ist of ESI ID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28B9-F82A-439D-BC00-40EE8340E4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quisition Task Force Long Term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838080" y="1600200"/>
            <a:ext cx="75438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Option 1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Leverage the Current Mass Transition Proces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This would utilize the 814_14 and 814_11   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transa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A new code would be created to identify these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transactions as separate from Mass Transition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transac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ules for pending transactions would be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reevaluated for potential chang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This would require a TX SET Relea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04D-8327-4329-8A99-6FFFF63BF1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quisition Task Force Long Term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2120" y="1523880"/>
            <a:ext cx="761976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Option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RCOT to create off-cycle swi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RCOT initiates Switches based on list of ESI 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Rs would need to be able to accept 814_05 transactions for Switches when they did not initiate the Switc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equested Switch date in 814_03 transaction could be as early as 2 business days in the fu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ules for pending transactions would be reevaluated for potential cha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DSPs could estimate reads if volumes were hi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s would require a TX SET Rel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526-FC44-4003-AE87-5196292BAE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will be Oct. 21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st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&amp; 2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t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Green Mountain Energy Co.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Downtown Austin  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3C3F-FC50-47A4-9D3F-D2F38E2020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075 –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SA-By Pass flag is being used by CRs when they do not have a CSA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nguage in the 814_24 Move-out guide st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The owner of CSA could use the code to de-energize a premise (Only if the CSA REP is also the REP of Record at the time of the Move-Out effective date)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ssue I075 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CDF2-F4A9-46CF-B4B2-63BB8CAF0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71600" y="2666880"/>
          <a:ext cx="6477120" cy="1752840"/>
        </p:xfrm>
        <a:graphic>
          <a:graphicData uri="http://schemas.openxmlformats.org/drawingml/2006/table">
            <a:tbl>
              <a:tblPr/>
              <a:tblGrid>
                <a:gridCol w="1114560"/>
                <a:gridCol w="1112760"/>
                <a:gridCol w="1114200"/>
                <a:gridCol w="1113120"/>
                <a:gridCol w="1011240"/>
                <a:gridCol w="1011240"/>
              </a:tblGrid>
              <a:tr h="303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01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29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7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1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6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30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3deff"/>
                    </a:solidFill>
                  </a:tcPr>
                </a:tc>
              </a:tr>
              <a:tr h="3045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8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5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0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4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8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1144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e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5"/>
          <p:cNvSpPr/>
          <p:nvPr/>
        </p:nvSpPr>
        <p:spPr>
          <a:xfrm>
            <a:off x="1600200" y="1523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 of MVOs sent with the CSA By-Pass Flag from a CR that does not own the C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600200" y="4800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has been closed but ERCOT will continue to monitor volumes and will report spikes to TX SE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5AA3-7E18-4611-8C3A-DB3F41A07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077 –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add an identifier to certain transactions to indicate the presence of a provisioned Advanced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In pro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080 – Add a new SAC04 code in the 810_02 for the Energy Efficiency Cost Recovery Factor described in PUC Subst. R. 25.1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In pro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Tahoma"/>
              </a:rPr>
              <a:t>RMGRR Activity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RMGRR063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Mass Transition Revisions Resulting from June 2008 Lessons Learned Workshop -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Urgent Tim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Approved, became effective Oct.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RMGRR064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Correcting Retail Market Guide for Leapfrog processes to synch up with ERCOT’s system logic -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Urgent Tim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Approved, became effective Oct.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A6B-EA2F-4D68-89F7-90231613D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Tahoma"/>
              </a:rPr>
              <a:t>RMGRR Activity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RMGRR065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Disconnect and Reconnect for Non-Payment Updates and Cor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Normal Timeline (TAC in Nov., effective Dec. 1</a:t>
            </a:r>
            <a:r>
              <a:rPr b="0" i="1" lang="en-US" sz="2400" spc="-1" strike="noStrike" baseline="30000">
                <a:solidFill>
                  <a:srgbClr val="c00000"/>
                </a:solidFill>
                <a:latin typeface="Tahoma"/>
              </a:rPr>
              <a:t>st</a:t>
            </a: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RMGRR066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Safety-Net Move-In Process Updat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Normal Timeline (TAC in Nov., effective Dec. 1</a:t>
            </a:r>
            <a:r>
              <a:rPr b="0" i="1" lang="en-US" sz="2400" spc="-1" strike="noStrike" baseline="30000">
                <a:solidFill>
                  <a:srgbClr val="c00000"/>
                </a:solidFill>
                <a:latin typeface="Tahoma"/>
              </a:rPr>
              <a:t>st</a:t>
            </a: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3AF-8A83-4272-A067-4766BC08C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Tahoma"/>
              </a:rPr>
              <a:t>RMGRR Activity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RMGRR068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Out-Flow Power from Distributed Renewable Generation Facil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URGENT Timeline (RMS in Oct, TAC in Nov, BOD in Dec, effective Jan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RMGRR069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Updates and Corrections to the Transaction Timing Matrix, LOA for Historical Usage, and Estimated Meter Rea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Normal Tim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185F-367F-4E38-B326-3476A25E6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R Activ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PRR78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– Revisions to Ch. 15 to correct oversights in transaction processing and timings to synch up to actual processing agreed to for TX SET Version 3.0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814_03, 814_05, 814_17, 814_21, 814_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Add explanation of the 48-hour retry queue for Date Change and Cancel trans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rmal Timeline – going to P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8C9-1D63-4D4D-B1A6-18CC0D8023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dvanced Metering Sub-Te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ub-team met on Oct. 6 &amp; 7 and discussed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dding “AMS” Meter Type to relevant TX SET transactions (ESI ID Create/Maintain, Enrollment Responses and Us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isplaying the “AMS” Meter Type on the TML and in the TDSP ESI ID ex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otential PRRs, SCRs and RMGR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lications of “Real-time Switch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A76A-F1D0-40BC-A58C-23ABB5BCA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ob.bevill</cp:lastModifiedBy>
  <dcterms:modified xsi:type="dcterms:W3CDTF">2008-10-13T17:44:45Z</dcterms:modified>
  <cp:revision>250</cp:revision>
  <dc:subject/>
  <dc:title>TX SET  Update to RMS</dc:title>
</cp:coreProperties>
</file>