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C6755A2-8882-4A17-AD58-7DD6CA10FD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8320" y="687240"/>
            <a:ext cx="4592520" cy="3445200"/>
          </a:xfrm>
          <a:prstGeom prst="rect">
            <a:avLst/>
          </a:prstGeom>
          <a:ln w="0">
            <a:noFill/>
          </a:ln>
        </p:spPr>
      </p:sp>
      <p:sp>
        <p:nvSpPr>
          <p:cNvPr id="7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CE387A-4501-419E-8720-EA41692297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FB778F-F4C9-4FE9-ACF7-6D8771C2AE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77F6FF3-B1F9-4D76-A6FB-BB697BA766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2C4F48A-E37F-421D-93E4-AE67A7FCD5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9D313D-2A6F-4477-AE53-D36853E321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2C0334C-46A2-448D-BFEB-65F8DDB0DA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A4E74D-1BFE-4C27-BD92-DD8F7BCB42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8320" y="687240"/>
            <a:ext cx="4592520" cy="3445200"/>
          </a:xfrm>
          <a:prstGeom prst="rect">
            <a:avLst/>
          </a:prstGeom>
          <a:ln w="0">
            <a:noFill/>
          </a:ln>
        </p:spPr>
      </p:sp>
      <p:sp>
        <p:nvSpPr>
          <p:cNvPr id="9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21DC33-D10D-4C2C-A607-E5552E4061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38320" y="687240"/>
            <a:ext cx="4592520" cy="3445200"/>
          </a:xfrm>
          <a:prstGeom prst="rect">
            <a:avLst/>
          </a:prstGeom>
          <a:ln w="0">
            <a:noFill/>
          </a:ln>
        </p:spPr>
      </p:sp>
      <p:sp>
        <p:nvSpPr>
          <p:cNvPr id="1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4AB521-75D6-4925-98A3-AB53850655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B27AF-F9ED-4F29-B60C-D26625D60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1DC31-CBC3-46B4-A968-548E9C64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A665E-E869-49D9-9373-DCAFB3D32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55A9F-235C-4709-95DC-81832F6CB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5CF2F-15A2-4210-BB50-D7832ED3A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7620-E3DF-4BF5-9668-4B7465737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05C7-59C6-40A9-9D4C-1AD51F04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A205C-4916-4042-B635-6D88C5B12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395C-BB04-4EA5-ACD7-4CCDEE10B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C4C3-3317-4A74-8A82-7D707CB1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575F-0D65-4CD8-877C-C3CE0B3AA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A3A7-A231-48E8-A6A9-12628D7A7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5872-3710-47A8-80A1-8FD9E36ED9B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3101-61F2-4F08-AFCD-367E1162B5F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10,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89EE-3324-49F1-A7FA-1796CD50BF1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4920"/>
            <a:ext cx="8610840" cy="495324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ERCOT System Outages and failures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urrent status of SCR745 and SCR748</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SLA Revision Proposals for 2009</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rak task force updat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SCR to get ERCOT up on Internet Explorer version 7.</a:t>
            </a: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171F-FD0E-44B7-9C32-B3C47E6B0D1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ontinue working with the ERCOT Manager of Operations to address each system incident. </a:t>
            </a:r>
            <a:endParaRPr b="0" lang="en-US" sz="28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y Felton reviewed the outage report, TML  unplanned outage of 33 minutes was discussed. There were questions about metrics and outages and root cause issues.  Trey is to follow up with Christian Brennen and get back to the group.</a:t>
            </a:r>
            <a:endParaRPr b="0" lang="en-US" sz="24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questions about footnoting the SLA exceptions to show detail of what the it was for. Final solutions is to link the outage Notice to the exception report.</a:t>
            </a:r>
            <a:endParaRPr b="0" lang="en-US" sz="24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view current status of SCR745 and SCR748</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changes or update to SCR745.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vin Tanner reviewed his presentation on SCR748, PR 70006_02</a:t>
            </a:r>
            <a:r>
              <a:rPr b="0" lang="en-US" sz="2400" spc="-1" strike="noStrike">
                <a:solidFill>
                  <a:srgbClr val="000000"/>
                </a:solidFill>
                <a:latin typeface="Arial"/>
              </a:rPr>
              <a:t> </a:t>
            </a:r>
            <a:r>
              <a:rPr b="1" lang="en-US" sz="2400" spc="-1" strike="noStrike">
                <a:solidFill>
                  <a:srgbClr val="000000"/>
                </a:solidFill>
                <a:latin typeface="Arial"/>
              </a:rPr>
              <a:t>Website Enhancements for ERCOT Outage Notification Phase II (SCR 74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is 90% complete and scheduled to move to test the week of 10/06/08. Project is on schedule for December 18, 2008 production implementation.</a:t>
            </a:r>
            <a:endParaRPr b="0" lang="en-US" sz="24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1EE8-B4B6-4578-B7B1-010629D79B1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Reviewed SLA Revision Proposals for 2009</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y Felton reviewed the proposal for the SLA changes. There were no comments submitted to the proposed changes so TDTWG approved.  There was much discussion about tracking of degradation for MarkeTrac and some wording was drafted for the document.  Several e-mail requests were made during and after the meeting for similar wording for TML so Trey is working on that.</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F3DC-BD23-43B6-8B15-7426B532339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9293-A422-45D3-87EC-AF1A6E15D59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9"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4. </a:t>
            </a:r>
            <a:r>
              <a:rPr b="1" lang="en-US" sz="2400" spc="-1" strike="noStrike">
                <a:solidFill>
                  <a:srgbClr val="000000"/>
                </a:solidFill>
                <a:latin typeface="Arial"/>
              </a:rPr>
              <a:t>MarkeTrak task force updat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en Malkey gave an update on work the MarkeTrak Task Force is doing and their interface with Trey Felton and proposals to the SLA.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as kind of a continuation of the SLA discussions.</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D80A-EF30-4818-B532-0A36CA42FF1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2"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5. </a:t>
            </a:r>
            <a:r>
              <a:rPr b="1" lang="en-US" sz="2400" spc="-1" strike="noStrike">
                <a:solidFill>
                  <a:srgbClr val="000000"/>
                </a:solidFill>
                <a:latin typeface="Arial"/>
              </a:rPr>
              <a:t>Draft SCR to get ERCOT up on Internet Explorer version 7.</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yle Miller had submitted SCR750 to get ERCOT too bring Internet Explorer 7.?? into us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as a lot of discussion regarding what version to use and  if the SCR should include the  beta version 8.0.  Kyle is going to revise SCR750 with specific wording for versions 7 &amp; 8 and submit the final document to ERCOT.</a:t>
            </a:r>
            <a:endParaRPr b="0" lang="en-US" sz="24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81BA-6314-47CC-9AA9-9CEDD78C080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89512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Just a reminder all documents can be reviewed on the ERCOT Calendar for TDTWG Meeting of 10/01/08.</a:t>
            </a:r>
            <a:br>
              <a:rPr sz="4000"/>
            </a:br>
            <a:br>
              <a:rPr sz="2000"/>
            </a:br>
            <a:br>
              <a:rPr sz="2000"/>
            </a:br>
            <a:endParaRPr b="0" lang="en-US" sz="4000" spc="-1" strike="noStrike">
              <a:solidFill>
                <a:srgbClr val="0000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ECCA-596B-48D5-8595-96F66200261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br>
              <a:rPr sz="4000"/>
            </a:br>
            <a:br>
              <a:rPr sz="4000"/>
            </a:br>
            <a:br>
              <a:rPr sz="4000"/>
            </a:br>
            <a:br>
              <a:rPr sz="2000"/>
            </a:br>
            <a:br>
              <a:rPr sz="2000"/>
            </a:br>
            <a:endParaRPr b="0" lang="en-US" sz="40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10-13T15:29:32Z</dcterms:modified>
  <cp:revision>532</cp:revision>
  <dc:subject/>
  <dc:title>PowerPoint Presentation</dc:title>
</cp:coreProperties>
</file>