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11.wmf" ContentType="image/x-wmf"/>
  <Override PartName="/ppt/media/image12.png" ContentType="image/png"/>
  <Override PartName="/ppt/media/image9.png" ContentType="image/pn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66F0-3087-435D-BA15-89BEE079C9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B1CD-7177-48B5-86BF-91F4BB98D3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5E31-50A3-4C59-9BAE-C673C5D0FF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3766-F84C-4FEB-A7B4-6E6C3E1902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CE77-10F0-45CF-A001-E035E44D87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1FC0-E1CA-4E33-97ED-B890F9B3B7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8505-7894-4DB3-88D3-7F6A3B47D7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17BD2-6DB0-4482-89FC-3B2F1E4B7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EB61-B5EA-4044-B8A7-862979A87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BBB35-A2DA-4A3B-83FF-154C90299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AF938-F31F-4204-837D-FC959C4ED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59A71-D83C-40A4-97EB-CA59007AD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AFF44-376F-4AE3-A6C9-9F17E7223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12C61-267B-477D-BB75-FEFD462B3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A9B2C-A35E-4067-9EC8-D0F21A838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0F493-D001-41AB-BF7A-6EC044112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822BF-AA23-4D23-8FA5-B1C3F43A2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37DF8-6363-477D-AECC-4C29D23C5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AE68A-5626-4A1B-92C8-4E2A05F25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562A2-40EE-4A9A-BF47-487CF2ABD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0A61B-7AC1-4DCF-B4CB-18ABD6637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AB847-5161-432B-99C0-5FC8445A6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54D92-CFD6-4723-BF3A-FE4AEFD2C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799BA-EE41-4166-96DF-D8DEF8AC7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9B8389-C7BD-4429-AF87-22C7D830BD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D5368-231C-4CCC-ACA3-BBC4EA688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40A9F-E082-4E47-9AA2-82C0E4A65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168C9E-A501-417E-8421-F83B4F7E0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1E80F0-4013-4725-ACB2-12BDD09D03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8F127-955C-41C7-A169-A6353EECF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5477B-5F13-4CFA-BB5F-2A750DCCD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73444-E7D9-4718-AA30-0D4045A21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99BCE-B18D-4453-BC0F-3A4BE741B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4CBB0-2A0C-4C95-889B-67225064A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CB143-695E-4A7E-9CA2-AAFAFA060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01DE63-7B41-4543-BAE4-9CDDB6E34D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0A51CC-D73C-4954-9A20-51F1CFB6FA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E22074-089C-4DE6-8AA1-0307D2DD02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58C639-8BB7-4CE1-90A0-6702EB8AA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5D703-A525-40C7-8AAB-5D2044CE4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629DC-0BF2-4781-8CF6-91DF6BF0D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0C6F9-7715-4A59-9F3E-5263583CD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86F031-5DE2-4420-BC4C-AB71EC81D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CC2EA-3CEE-4D06-9C4E-0012C8C53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B1038F-6CA6-499E-A19D-88B6C63EF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6E38E1-D81D-4E4F-88AC-9C8B9F604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B8253-5D41-430D-87A8-CD98CDC4B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F07CD-4A28-4AD9-B29F-E68B37F0B6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A27F4C-06D1-4850-971F-1CF4E1C239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FA8EE-FDB2-4421-93DB-DD694FDD29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671593-DF06-4C90-BB76-25B3F1078D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ED713-11DC-469E-B4D7-C5ECCF14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E287ED-96AD-491B-A025-1FF22C824E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CC51E-C1B3-41C1-8505-2F2EA08AA5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7C5862-319E-44B9-9D10-6513A9032E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35123B-C634-4E27-8325-3B3418BF5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7AE7A-7A6F-4CC9-8D60-7C0A50DFAF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D4882-C373-4C5E-9ECB-0F8E52ADE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27389-4531-454F-920E-D16D61B8F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A57D1-A6D5-4F7F-845F-E59582C57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E4CA1A-26FC-485B-AB27-7A6500AC41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B2843C-AE56-4433-9746-8B744B243F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1839A-230A-481B-9317-F6A9BEC4E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F429E1-1DC8-42D8-8FBB-A2CC9917D5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EFE312-6692-4219-BAD8-E97B2D9616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E1DB33-B55F-48B4-96DA-FA31F9604D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E3DAD7-76CF-4085-A1E0-B09DB36A7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A26CC-CFAF-434D-ABED-44D448E467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A8C75-F799-4ABC-B093-2BE5DBA7C6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4D05C-493D-4EBD-BF53-7D892BADC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FEDBE-B449-4CFA-AB21-D10D6ACBB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625AD-48D3-4832-9156-B544C295CA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04577-8C3D-48A3-BCD4-77896349C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F316-034F-4685-900D-5E0100CEE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60F1E-BC98-4407-BBA8-D420B72434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D48B4F-6B0B-4F19-A299-69B2427AF7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AD57A1-5382-426E-A2EB-D57FE4B070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8BBA8B-CDB5-410E-9791-0F8B8039EB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60CF0C-DEDA-4811-BFD9-1C4E575BA6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DA19D-6C39-4798-A4E0-C6B57F549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70ED3-19E1-478D-BCBB-AE5CD9C0EC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9F7CA-0580-43B2-A503-C4FC842084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1E86FB-D524-40C3-8308-73D57F956A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AE96A-98EE-4E68-889D-D4FACC4129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A9AB-67AD-441F-A850-B156A9C64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99A00-A888-46B7-8CB8-FC0511772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2F3D83-F7E0-411A-B647-57964D430B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97657F-35C4-4567-B089-D6D0A9429B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7D21C2-C696-4BFC-8A96-7FF1C4C612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147A74-C2F2-446A-9AB7-FDD3A4B743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588F0A-1DDD-4C40-8E40-221FAFA469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14F21E-4BF3-418D-96B7-35D9D50418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CF27A0-2434-4AD3-A34E-EF75399C4B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F331B8-9E17-4927-8E5C-DF74CC6C7C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6575D-B868-44C6-B442-24CDB65C1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DF6A-14D4-4C5B-A197-E3AF52B20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0AFFD-4B3F-4BCE-8459-C2082051A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BA3488-1DFD-4C5C-AE3C-BE9C47499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39117-63CC-444C-9442-CE44692FC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8EF260-E9D3-4107-91FD-B29A22F16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1EF858-10A9-4ACC-96CD-E33775929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5C4E6C-1D29-4AB8-BBD0-401E5F5E35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C672A8-796D-4312-B437-DB176A2CA9A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C691-118F-4B6F-92A8-33FBFC4C66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61CB-77A0-4E32-B231-F1CAA2ADC28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0784-621C-4212-9D04-2EC0237F94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56B6-F60C-41EA-B10A-92ECC107D6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3610-B69B-4835-96B3-8DE810A1A4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0917-279F-4CAC-B62B-6B69EB80E9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2ACD-2A0C-47AC-AC51-243B398D17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D4C4-7A81-4FCC-AD66-310C03CB0B7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2560" y="1749600"/>
            <a:ext cx="82663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Update to RMS</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October 15, 2008</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endParaRPr b="0" lang="en-US" sz="2400" spc="-1" strike="noStrike">
              <a:solidFill>
                <a:srgbClr val="000000"/>
              </a:solidFill>
              <a:latin typeface="Lucida Sans Unicod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00200"/>
            <a:ext cx="8229600" cy="4114800"/>
          </a:xfrm>
          <a:prstGeom prst="rect">
            <a:avLst/>
          </a:prstGeom>
          <a:noFill/>
          <a:ln w="0">
            <a:noFill/>
          </a:ln>
        </p:spPr>
        <p:txBody>
          <a:bodyPr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etback – Hurricane IKE</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askforce meetings on September 11</a:t>
            </a:r>
            <a:r>
              <a:rPr b="1" lang="en-US" sz="2400" spc="-1" strike="noStrike" baseline="30000">
                <a:solidFill>
                  <a:srgbClr val="000000"/>
                </a:solidFill>
                <a:latin typeface="Lucida Sans Unicode"/>
              </a:rPr>
              <a:t>th</a:t>
            </a:r>
            <a:r>
              <a:rPr b="1" lang="en-US" sz="2400" spc="-1" strike="noStrike">
                <a:solidFill>
                  <a:srgbClr val="000000"/>
                </a:solidFill>
                <a:latin typeface="Lucida Sans Unicode"/>
              </a:rPr>
              <a:t> and 25</a:t>
            </a:r>
            <a:r>
              <a:rPr b="1" lang="en-US" sz="2400" spc="-1" strike="noStrike" baseline="30000">
                <a:solidFill>
                  <a:srgbClr val="000000"/>
                </a:solidFill>
                <a:latin typeface="Lucida Sans Unicode"/>
              </a:rPr>
              <a:t>th</a:t>
            </a:r>
            <a:r>
              <a:rPr b="1" lang="en-US" sz="2400" spc="-1" strike="noStrike">
                <a:solidFill>
                  <a:srgbClr val="000000"/>
                </a:solidFill>
                <a:latin typeface="Lucida Sans Unicode"/>
              </a:rPr>
              <a:t> were cancelled.</a:t>
            </a:r>
            <a:endParaRPr b="0" lang="en-US" sz="24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Recovery – We will succeed</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Taskforce resumed on Thursday, October 9</a:t>
            </a:r>
            <a:r>
              <a:rPr b="1" lang="en-US" sz="2400" spc="-1" strike="noStrike" baseline="30000">
                <a:solidFill>
                  <a:srgbClr val="000000"/>
                </a:solidFill>
                <a:latin typeface="Lucida Sans Unicode"/>
              </a:rPr>
              <a:t>th</a:t>
            </a:r>
            <a:r>
              <a:rPr b="1"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0" name="Rectangle 2" descr=""/>
          <p:cNvPicPr/>
          <p:nvPr/>
        </p:nvPicPr>
        <p:blipFill>
          <a:blip r:embed="rId1"/>
          <a:stretch/>
        </p:blipFill>
        <p:spPr>
          <a:xfrm>
            <a:off x="450720" y="274680"/>
            <a:ext cx="8242560" cy="1334880"/>
          </a:xfrm>
          <a:prstGeom prst="rect">
            <a:avLst/>
          </a:prstGeom>
          <a:ln w="0">
            <a:noFill/>
          </a:ln>
        </p:spPr>
      </p:pic>
      <p:sp>
        <p:nvSpPr>
          <p:cNvPr id="381" name="TextBox 5"/>
          <p:cNvSpPr/>
          <p:nvPr/>
        </p:nvSpPr>
        <p:spPr>
          <a:xfrm>
            <a:off x="978120" y="914400"/>
            <a:ext cx="649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MarkeTrak Phase II  - Release 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990720"/>
            <a:ext cx="8229600" cy="5140080"/>
          </a:xfrm>
          <a:prstGeom prst="rect">
            <a:avLst/>
          </a:prstGeom>
          <a:noFill/>
          <a:ln w="0">
            <a:noFill/>
          </a:ln>
        </p:spPr>
        <p:txBody>
          <a:bodyPr anchor="t">
            <a:normAutofit/>
          </a:bodyPr>
          <a:p>
            <a:pPr lvl="1" marL="620640" indent="-228600">
              <a:spcBef>
                <a:spcPts val="326"/>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Accomplishments:</a:t>
            </a:r>
            <a:endParaRPr b="0" lang="en-US" sz="23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pproved notes from our last meeting held on August 21st </a:t>
            </a:r>
            <a:endParaRPr b="0" lang="en-US" sz="21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LA for MarkeTrak – presented the recommendation from TDTWG to the Taskforce.  Everyone agreed to the SLA language.</a:t>
            </a:r>
            <a:endParaRPr b="0" lang="en-US" sz="21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pdated calendar for MarkeTrak schedule of activities and events. Added meetings for October 23rd, 30</a:t>
            </a:r>
            <a:r>
              <a:rPr b="0" lang="en-US" sz="2100" spc="-1" strike="noStrike" baseline="30000">
                <a:solidFill>
                  <a:srgbClr val="000000"/>
                </a:solidFill>
                <a:latin typeface="Lucida Sans Unicode"/>
              </a:rPr>
              <a:t>th</a:t>
            </a:r>
            <a:r>
              <a:rPr b="0" lang="en-US" sz="2100" spc="-1" strike="noStrike">
                <a:solidFill>
                  <a:srgbClr val="000000"/>
                </a:solidFill>
                <a:latin typeface="Lucida Sans Unicode"/>
              </a:rPr>
              <a:t> and for November 6th</a:t>
            </a:r>
            <a:endParaRPr b="0" lang="en-US" sz="21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Technical Review of Release 3 changes was presented by ERCOT. </a:t>
            </a:r>
            <a:endParaRPr b="0" lang="en-US" sz="21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view of current User Guide sections for updates from release 2 and new changes for release 3</a:t>
            </a:r>
            <a:endParaRPr b="0" lang="en-US" sz="21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3" name="Rectangle 2" descr=""/>
          <p:cNvPicPr/>
          <p:nvPr/>
        </p:nvPicPr>
        <p:blipFill>
          <a:blip r:embed="rId1"/>
          <a:stretch/>
        </p:blipFill>
        <p:spPr>
          <a:xfrm>
            <a:off x="189000" y="212760"/>
            <a:ext cx="8504280" cy="7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990720"/>
            <a:ext cx="8229600" cy="5140080"/>
          </a:xfrm>
          <a:prstGeom prst="rect">
            <a:avLst/>
          </a:prstGeom>
          <a:noFill/>
          <a:ln w="0">
            <a:noFill/>
          </a:ln>
        </p:spPr>
        <p:txBody>
          <a:bodyPr anchor="t">
            <a:normAutofit/>
          </a:bodyPr>
          <a:p>
            <a:pPr lvl="1" marL="620640" indent="-228600">
              <a:spcBef>
                <a:spcPts val="326"/>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Discussion Items:</a:t>
            </a:r>
            <a:endParaRPr b="0" lang="en-US" sz="23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V LSE-  We would like everyone to take back to their companies the idea of removing all SCR 727 fields from DEV LSE issues. This would reduce the amount of invalid issues from those MPs that have not utilized this extract.   Market Participants stated they still needed the Add Time as part of the issue. ERCOT will take the suggestions back for review.</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rkeTrak Escalation contacts -  All MarkeTrak Admin’s should review and update all escalation contacts with correct DUNS and email address.  </a:t>
            </a:r>
            <a:endParaRPr b="0" lang="en-US" sz="2100" spc="-1" strike="noStrike">
              <a:solidFill>
                <a:srgbClr val="000000"/>
              </a:solidFill>
              <a:latin typeface="Lucida Sans Unicode"/>
            </a:endParaRPr>
          </a:p>
        </p:txBody>
      </p:sp>
      <p:pic>
        <p:nvPicPr>
          <p:cNvPr id="385" name="Rectangle 2" descr=""/>
          <p:cNvPicPr/>
          <p:nvPr/>
        </p:nvPicPr>
        <p:blipFill>
          <a:blip r:embed="rId1"/>
          <a:stretch/>
        </p:blipFill>
        <p:spPr>
          <a:xfrm>
            <a:off x="189000" y="212760"/>
            <a:ext cx="8504280" cy="70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304920" y="990720"/>
            <a:ext cx="8534160" cy="5140080"/>
          </a:xfrm>
          <a:prstGeom prst="rect">
            <a:avLst/>
          </a:prstGeom>
          <a:noFill/>
          <a:ln w="0">
            <a:noFill/>
          </a:ln>
        </p:spPr>
        <p:style>
          <a:lnRef idx="0"/>
          <a:fillRef idx="0"/>
          <a:effectRef idx="0"/>
          <a:fontRef idx="minor"/>
        </p:style>
        <p:txBody>
          <a:bodyPr lIns="90000" rIns="90000" tIns="46800" bIns="46800" anchor="t">
            <a:noAutofit/>
          </a:bodyPr>
          <a:p>
            <a:pPr lvl="2" marL="1170000" indent="-255600">
              <a:lnSpc>
                <a:spcPct val="80000"/>
              </a:lnSpc>
              <a:spcBef>
                <a:spcPts val="400"/>
              </a:spcBef>
              <a:buClr>
                <a:srgbClr val="4f81bd"/>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560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7" name="Rectangle 3"/>
          <p:cNvSpPr/>
          <p:nvPr/>
        </p:nvSpPr>
        <p:spPr>
          <a:xfrm>
            <a:off x="457200" y="2286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Lucida Sans Unicode"/>
              </a:rPr>
              <a:t>MarkeTrak</a:t>
            </a:r>
            <a:r>
              <a:rPr b="1" lang="en-US" sz="3600" spc="-1" strike="noStrike">
                <a:solidFill>
                  <a:srgbClr val="1f497d"/>
                </a:solidFill>
                <a:latin typeface="Lucida Sans Unicode"/>
                <a:ea typeface="Lucida Sans Unicode"/>
              </a:rPr>
              <a:t> – </a:t>
            </a:r>
            <a:r>
              <a:rPr b="1" lang="en-US" sz="3200" spc="-1" strike="noStrike">
                <a:solidFill>
                  <a:srgbClr val="1f497d"/>
                </a:solidFill>
                <a:latin typeface="Lucida Sans Unicode"/>
                <a:ea typeface="Lucida Sans Unicode"/>
              </a:rPr>
              <a:t>Release</a:t>
            </a:r>
            <a:r>
              <a:rPr b="1" lang="en-US" sz="3600" spc="-1" strike="noStrike">
                <a:solidFill>
                  <a:srgbClr val="1f497d"/>
                </a:solidFill>
                <a:latin typeface="Lucida Sans Unicode"/>
                <a:ea typeface="Lucida Sans Unicode"/>
              </a:rPr>
              <a:t> 3</a:t>
            </a:r>
            <a:endParaRPr b="0" lang="en-US" sz="3600" spc="-1" strike="noStrike">
              <a:solidFill>
                <a:srgbClr val="000000"/>
              </a:solidFill>
              <a:latin typeface="Verdana"/>
            </a:endParaRPr>
          </a:p>
        </p:txBody>
      </p:sp>
      <p:sp>
        <p:nvSpPr>
          <p:cNvPr id="388" name="Rectangle 3"/>
          <p:cNvSpPr/>
          <p:nvPr/>
        </p:nvSpPr>
        <p:spPr>
          <a:xfrm>
            <a:off x="457200" y="762120"/>
            <a:ext cx="7848720" cy="53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k your calendar – key dates</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Release 3 – migrated to Cert Environment – Sandbox available Monday, October 13</a:t>
            </a:r>
            <a:r>
              <a:rPr b="0" lang="en-US" sz="2000" spc="-1" strike="noStrike" baseline="30000">
                <a:solidFill>
                  <a:srgbClr val="000000"/>
                </a:solidFill>
                <a:latin typeface="Verdana"/>
                <a:ea typeface="Arial"/>
              </a:rPr>
              <a:t>th</a:t>
            </a:r>
            <a:r>
              <a:rPr b="0" lang="en-US" sz="2000" spc="-1" strike="noStrike">
                <a:solidFill>
                  <a:srgbClr val="000000"/>
                </a:solidFill>
                <a:latin typeface="Verdana"/>
                <a:ea typeface="Arial"/>
              </a:rPr>
              <a:t>.</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UAT Testing -  October 13</a:t>
            </a: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MarkeTrak Taskforce meetings – Oct. 23</a:t>
            </a:r>
            <a:r>
              <a:rPr b="0" lang="en-US" sz="2000" spc="-1" strike="noStrike" baseline="30000">
                <a:solidFill>
                  <a:srgbClr val="000000"/>
                </a:solidFill>
                <a:latin typeface="Verdana"/>
                <a:ea typeface="Arial"/>
              </a:rPr>
              <a:t>rd</a:t>
            </a:r>
            <a:r>
              <a:rPr b="0" lang="en-US" sz="2000" spc="-1" strike="noStrike">
                <a:solidFill>
                  <a:srgbClr val="000000"/>
                </a:solidFill>
                <a:latin typeface="Verdana"/>
                <a:ea typeface="Arial"/>
              </a:rPr>
              <a:t>, 30</a:t>
            </a:r>
            <a:r>
              <a:rPr b="0" lang="en-US" sz="2000" spc="-1" strike="noStrike" baseline="30000">
                <a:solidFill>
                  <a:srgbClr val="000000"/>
                </a:solidFill>
                <a:latin typeface="Verdana"/>
                <a:ea typeface="Arial"/>
              </a:rPr>
              <a:t>th</a:t>
            </a:r>
            <a:r>
              <a:rPr b="0" lang="en-US" sz="2000" spc="-1" strike="noStrike">
                <a:solidFill>
                  <a:srgbClr val="000000"/>
                </a:solidFill>
                <a:latin typeface="Verdana"/>
                <a:ea typeface="Arial"/>
              </a:rPr>
              <a:t> and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Nov. 6th</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rak Training Workshop – November 21</a:t>
            </a: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Incorporates Release 3 changes in the training </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ertification Testing – December 1 - December 5</a:t>
            </a:r>
            <a:r>
              <a:rPr b="0" lang="en-US" sz="2000" spc="-1" strike="noStrike" baseline="30000">
                <a:solidFill>
                  <a:srgbClr val="000000"/>
                </a:solidFill>
                <a:latin typeface="Verdana"/>
                <a:ea typeface="Arial"/>
              </a:rPr>
              <a:t>th</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igrate to Production – December 13th</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2" descr=""/>
          <p:cNvPicPr/>
          <p:nvPr/>
        </p:nvPicPr>
        <p:blipFill>
          <a:blip r:embed="rId1"/>
          <a:stretch/>
        </p:blipFill>
        <p:spPr>
          <a:xfrm>
            <a:off x="219240" y="85680"/>
            <a:ext cx="8474040" cy="914400"/>
          </a:xfrm>
          <a:prstGeom prst="rect">
            <a:avLst/>
          </a:prstGeom>
          <a:ln w="0">
            <a:noFill/>
          </a:ln>
        </p:spPr>
      </p:pic>
      <p:sp>
        <p:nvSpPr>
          <p:cNvPr id="390" name="PlaceHolder 1"/>
          <p:cNvSpPr>
            <a:spLocks noGrp="1"/>
          </p:cNvSpPr>
          <p:nvPr>
            <p:ph/>
          </p:nvPr>
        </p:nvSpPr>
        <p:spPr>
          <a:xfrm>
            <a:off x="533520" y="990360"/>
            <a:ext cx="8229600" cy="5181480"/>
          </a:xfrm>
          <a:prstGeom prst="rect">
            <a:avLst/>
          </a:prstGeom>
          <a:noFill/>
          <a:ln w="0">
            <a:noFill/>
          </a:ln>
        </p:spPr>
        <p:txBody>
          <a:bodyPr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pdates from RMS meeting held on October 15</a:t>
            </a:r>
            <a:r>
              <a:rPr b="0" lang="en-US" sz="2000" spc="-1" strike="noStrike" baseline="30000">
                <a:solidFill>
                  <a:srgbClr val="000000"/>
                </a:solidFill>
                <a:latin typeface="Lucida Sans Unicode"/>
              </a:rPr>
              <a:t>th</a:t>
            </a: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 LSE-  We would like everyone to take back to their companies the idea of removing all SCR 727 fields from DEV LSE issues. This would reduce the amount of invalid issues from those MPs that have not utilized this extract.  Follow up by ERCOT from MP suggestions</a:t>
            </a: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view User Guide sections for IAG and DEV</a:t>
            </a: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itial Review of New Sections to User Guide</a:t>
            </a:r>
            <a:endParaRPr b="0" lang="en-US" sz="20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Premise Type</a:t>
            </a:r>
            <a:endParaRPr b="0" lang="en-US" sz="18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Service Address</a:t>
            </a:r>
            <a:endParaRPr b="0" lang="en-US" sz="18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Service Order </a:t>
            </a:r>
            <a:endParaRPr b="0" lang="en-US" sz="18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Move Out with Meter Removal</a:t>
            </a:r>
            <a:endParaRPr b="0" lang="en-US" sz="18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Safety Net</a:t>
            </a:r>
            <a:endParaRPr b="0" lang="en-US" sz="18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porting</a:t>
            </a:r>
            <a:endParaRPr b="0" lang="en-US" sz="18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4" descr="MCj04042630000[1]"/>
          <p:cNvPicPr/>
          <p:nvPr/>
        </p:nvPicPr>
        <p:blipFill>
          <a:blip r:embed="rId1"/>
          <a:stretch/>
        </p:blipFill>
        <p:spPr>
          <a:xfrm>
            <a:off x="1752480" y="1371600"/>
            <a:ext cx="5943600" cy="4724280"/>
          </a:xfrm>
          <a:prstGeom prst="rect">
            <a:avLst/>
          </a:prstGeom>
          <a:ln w="0">
            <a:noFill/>
          </a:ln>
        </p:spPr>
      </p:pic>
      <p:pic>
        <p:nvPicPr>
          <p:cNvPr id="392" name="Rectang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9:55:41Z</dcterms:created>
  <dc:creator>00015621</dc:creator>
  <dc:description/>
  <dc:language>en-US</dc:language>
  <cp:lastModifiedBy>00017167</cp:lastModifiedBy>
  <dcterms:modified xsi:type="dcterms:W3CDTF">2008-10-12T02:21:08Z</dcterms:modified>
  <cp:revision>193</cp:revision>
  <dc:subject/>
  <dc:title>MarkeTrak Task Force</dc:title>
</cp:coreProperties>
</file>