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760E-5FC9-451B-9738-F7ADFD9FD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2CEB-A55D-42A7-8FF3-3B2A5C0A0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4DBD-F34A-475E-B5C9-CC05D9BB8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/o SLA 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= 98.64%, TML = 98.4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/O SLA Exception, Retail = 98.52%, TML = 95.3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323D-BE48-4506-BC3F-358135036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8415-4449-41DD-83B7-4C1F5A307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21E4-ADF6-4039-90D1-845F8EB56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AC82-0512-4703-B922-6FCA5B759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7E70-6F00-428B-811A-8F9DD7412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8868-9046-42F0-838E-FBFD241E5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D478-46D5-41CD-B41A-C0A2D3DC1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0DCD-CC55-473A-B3FF-140721F86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ED8C-249A-4A4E-ADB6-36904C81E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F7D2-82EF-44B2-B5E8-0A7720263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B8804-44C6-4611-B6FE-E16F93027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9880B-5A90-46D1-BA97-B8A9DE3E7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EA99-D893-46BF-91DB-D8008D18E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08D1-73AB-42EF-9F21-A5E7CE7E56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43240" y="32000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October 200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2438280" y="487692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y Fel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ccount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 and Comment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and Wholesale Systems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Transaction Process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year to date performance continues to be below the service level target; however for the month of September, system availability was at 100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ML, MarkeTrak, TML Report Explorer, and Retail AP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year to date performance continues to be above the service level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lesa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September system performance was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881840" cy="515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619360" y="2133720"/>
          <a:ext cx="2265480" cy="318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9360" y="2133720"/>
                    <a:ext cx="2265480" cy="31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276720" y="2143080"/>
          <a:ext cx="2265120" cy="318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2143080"/>
                    <a:ext cx="2265120" cy="31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3295800" y="3048120"/>
            <a:ext cx="53316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685800"/>
          <a:ext cx="304920" cy="272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85800"/>
                    <a:ext cx="304920" cy="2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28600" y="666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LA 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ptember 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15280" cy="482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2496960" y="2352600"/>
          <a:ext cx="53208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96960" y="2352600"/>
                    <a:ext cx="5320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514600" y="2514600"/>
            <a:ext cx="53352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191040" y="2362320"/>
          <a:ext cx="531720" cy="2809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91040" y="2362320"/>
                    <a:ext cx="53172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200400" y="2781360"/>
            <a:ext cx="53352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685800"/>
          <a:ext cx="304920" cy="272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85800"/>
                    <a:ext cx="304920" cy="2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28600" y="666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LA 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36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2514600" y="2705040"/>
          <a:ext cx="617400" cy="312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2705040"/>
                    <a:ext cx="6174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105000" y="2457360"/>
          <a:ext cx="4913640" cy="54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05000" y="2457360"/>
                    <a:ext cx="49136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720720" y="838080"/>
            <a:ext cx="7889760" cy="530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2327400" y="1905120"/>
          <a:ext cx="2606400" cy="39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27400" y="1905120"/>
                    <a:ext cx="2606400" cy="39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943360" y="2590920"/>
          <a:ext cx="4913280" cy="54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43360" y="2590920"/>
                    <a:ext cx="49132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933640" y="2124000"/>
          <a:ext cx="4837320" cy="542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33640" y="2124000"/>
                    <a:ext cx="48373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952720" y="3124080"/>
            <a:ext cx="46483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70904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Report Explorer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 October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420840" y="838080"/>
            <a:ext cx="8302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API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514440" y="838080"/>
            <a:ext cx="8115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felton</cp:lastModifiedBy>
  <dcterms:modified xsi:type="dcterms:W3CDTF">2008-10-08T13:34:37Z</dcterms:modified>
  <cp:revision>158</cp:revision>
  <dc:subject/>
  <dc:title>Instructions</dc:title>
</cp:coreProperties>
</file>