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C69A-EB80-4812-9B0F-CA3E18D5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15D9-F2A6-42BA-AA83-164C27AB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0A3A-C730-4466-843F-22DDC29E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681A-66EC-4DF5-9BF3-D4228CFB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2DCE-D276-4711-B127-F8913F39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EFDF-5EED-480C-9380-B19A6A24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3127-C9DB-4375-AA03-A4F4BDED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C50D-9853-420C-97B1-87E32430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5D22-04C9-4458-A1C4-221ED708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852E-A16C-4166-9A54-0EA58C5C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ED9B-204D-4032-B6FB-3871DD97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B1D8-FE66-4150-B948-7BC6E708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F667-E476-4937-885F-D21F5182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E1B0-0BBE-4948-83A2-7C43B1C6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82E0-954C-4D70-9058-423CB8AE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7515-497A-458A-BC2B-DBC4D490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9091-ECB8-4507-A30A-16F49A05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6BC2-0742-44FE-8F6A-5F797025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CDB5-9821-4D95-86FF-548C589F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A761-4936-4F64-B486-4F6B0CBD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57D1-8172-4A41-B02C-4A29439D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3B6C-6A54-468B-B4A8-53EA4D37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F27B-F01C-4921-BC77-3B46995D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8A51-D303-4649-9D24-12E63EF8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E920-1F22-4920-8543-9671573E7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378480"/>
            <a:ext cx="85392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324120" y="64771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2C0F-B68C-46B3-811F-F78ACCCBF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008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/15/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FE1F-20DB-4388-BF61-CD0FB2351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9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0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26416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2009 PPL Re-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tail Market Subcommit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- 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2009 ERCOT fee case has been withdrawn due to the Nodal Go-Live date change.  This creates a need to reforecast the 2009 PP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deferred projects cannot be executed as originally plan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tion of the Nodal project has resource implications for projects on the 2009 P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ystem Administration Fee will remain flat in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mits our project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roject budget = $27.2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 project budget = $12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2475-ED54-4C1F-968F-324469E2C7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Re-planning Effo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Os asked to update 2009 PPL with the following consider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lanning purposes, assume Nodal is not delivering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odal schedule is released we will revisit the revised 2009 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o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quired since Nodal is de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quired to keep Zonal systems “run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over funding needs of currently executing pro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nature of n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funding (and other resources) requires us to limit our project activity to the most critical i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 funding for key marke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2009 Non-Nodal Projects to a minim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what is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tart 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ssent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09, we will address additional urgent needs as they ar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E188-AD2B-4AAF-8B12-0F1CCE7684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Approval Schedule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685800"/>
          <a:ext cx="8153640" cy="5557680"/>
        </p:xfrm>
        <a:graphic>
          <a:graphicData uri="http://schemas.openxmlformats.org/drawingml/2006/table">
            <a:tbl>
              <a:tblPr/>
              <a:tblGrid>
                <a:gridCol w="720720"/>
                <a:gridCol w="352440"/>
                <a:gridCol w="2318040"/>
                <a:gridCol w="3427200"/>
                <a:gridCol w="13352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y / E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Outcome / Deliverab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wner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o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ize 2009 Project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sed 2009 Initiatives Lists from CA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anag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ive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M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Parr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R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Parr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Initiatives Lists due to P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O exempt due to ROS and WMS meeting tim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anag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S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Low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./Nov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ership Approval Pha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d 2009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grs / 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ive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e &amp; Audit Committ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of 2009 prioritization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S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Low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complete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grs / 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of market subcommittee approval result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ive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of market subcommittee approval result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e &amp; Audit Committ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ard of Direc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rnei / 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BE50-09AA-4393-B11E-BD6BA251BF9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Top Risks/Constrai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Contention with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d Capital Project Budg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ed Data Center Capac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at full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lief until MET Center Disposition Project delivers mor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ly not until 4Q2010 or 1Q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we potentially can’t “plug-in” another server until relief is re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136D-1550-47F7-B93A-7FB4F97357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DRAFT Summary by C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41200" y="4724280"/>
          <a:ext cx="8457840" cy="381240"/>
        </p:xfrm>
        <a:graphic>
          <a:graphicData uri="http://schemas.openxmlformats.org/drawingml/2006/table">
            <a:tbl>
              <a:tblPr/>
              <a:tblGrid>
                <a:gridCol w="2075760"/>
                <a:gridCol w="1922040"/>
                <a:gridCol w="2153520"/>
                <a:gridCol w="230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 CO – Met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228600" y="5410080"/>
            <a:ext cx="5410080" cy="533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   Revised 2009 budget is $12.2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*  Met Center project is funded by a separate budget line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1066680"/>
          <a:ext cx="8458200" cy="3202200"/>
        </p:xfrm>
        <a:graphic>
          <a:graphicData uri="http://schemas.openxmlformats.org/drawingml/2006/table">
            <a:tbl>
              <a:tblPr/>
              <a:tblGrid>
                <a:gridCol w="2075040"/>
                <a:gridCol w="1923840"/>
                <a:gridCol w="2152800"/>
                <a:gridCol w="2306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Draft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 800,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5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2,825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7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3,725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9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 5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0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6,6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 $ 12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14,5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ECB7-18C6-4EAF-A59F-BC64439B399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hsatterfield</cp:lastModifiedBy>
  <dcterms:modified xsi:type="dcterms:W3CDTF">2008-10-08T22:53:01Z</dcterms:modified>
  <cp:revision>95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