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ACA955-7FD3-421D-9280-48F6D2777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E3E44B-7AAC-4E7C-BE6C-0379B010D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33EEDB5-E740-4278-9705-7876E8480C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DC27E5-8ECD-4B62-80B2-691C53499F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763DFD-FE33-41BB-9FC0-B312632CE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EF8FC1-2E9A-4A99-BCBE-478D1CB6F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0C0633-5D85-4AE3-A6A0-92770BB4A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E57BB4-205F-4B5C-B65C-0FD4A841A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751F24-FAC4-4400-B77E-198A827EC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DD0854-8A16-45F2-BF2F-A00524018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3565AC-C490-4D61-89E4-D515EF337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048473-4A9D-4261-8AA9-09A2179A39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D316-37AD-440E-8BC9-420CEE140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BFB7-6444-4C88-9EA3-FF58CE3C6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2008 Market Participant Survey Action Plan</a:t>
            </a:r>
            <a:br>
              <a:rPr sz="2400"/>
            </a:br>
            <a:endParaRPr b="0" lang="en-US" sz="2400" spc="-1" strike="noStrike">
              <a:solidFill>
                <a:srgbClr val="ffffff"/>
              </a:solidFill>
              <a:latin typeface="Arial Black"/>
            </a:endParaRPr>
          </a:p>
        </p:txBody>
      </p:sp>
      <p:sp>
        <p:nvSpPr>
          <p:cNvPr id="90"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Market Services</a:t>
            </a: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8"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and SCR Proces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nds to benefit from efforts to educate the market on the importance of the process involving the committee structure in developing and revising market rul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feedback from market to clarify this issue to gain definition of the Market Participant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ddress the process in education module improvements in training cours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assign to subcommittee or task force to determine if the survey segment of Market Participant staff members who raised issue has knowledge of process or if knowledge is required.</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Issu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nd Reports Expect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in application of data extract Protocols and/or market guides and should ERCOT investigate expectations compared to actual delivery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it understands the issue and has been working to improve delivery by developing SLAs in the market proces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solicit COPS to define expectations and define substance of extract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nd Define Introduction of new Protocol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lso requests TAC to assign any non-COPS type issues to the TASOR Task Force for placement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ining and Seminar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ay wish to increase outreach to Market Participant staff members regarding availability and benefits of ERCOT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lans to enhance and improve LM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lore webina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view communication of training session announcements and opportun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current level of on-site train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examine requirements post-Nod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begin to share “end-of-class” survey results on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future training and education outreaches and assist in defining future scop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what we are doing well and suggest any changes that would enhance service</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14"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il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requests for assistance from TAC as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to areas TAC makes assignments as requi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address improvement areas intern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ll recommendations/feedback from TAC and begin to develop improvement effor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BOD on Action Planning effor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200400" y="2590920"/>
            <a:ext cx="2362320" cy="2361960"/>
          </a:xfrm>
          <a:prstGeom prst="rect">
            <a:avLst/>
          </a:prstGeom>
          <a:ln w="0">
            <a:noFill/>
          </a:ln>
        </p:spPr>
      </p:pic>
      <p:sp>
        <p:nvSpPr>
          <p:cNvPr id="116" name=""/>
          <p:cNvSpPr/>
          <p:nvPr/>
        </p:nvSpPr>
        <p:spPr>
          <a:xfrm>
            <a:off x="2666880" y="1752480"/>
            <a:ext cx="3353040" cy="427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MP Survey Action Plan</a:t>
            </a:r>
          </a:p>
        </p:txBody>
      </p:sp>
      <p:sp>
        <p:nvSpPr>
          <p:cNvPr id="3" name="PlaceHolder 2"/>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irection</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nducted a Market Participant Survey to gain a perspective from the market as to the level in which ERCOT was meeting its responsibiliti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indicated several areas where ERCOT could improv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ne 17, 2008 ERCOT Board of Directors meeting, the Directors instructed ERCOT to develop an action plan to address areas of performance identified in the surve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velopment of the action plan to meet the Board’s directive, ERCOT is requesting the TAC to assist in several areas in order to gain a greater clarity and perspective of the Market Participant concerns identified in the survey.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4"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nding Prioriti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concerned with equity, cost effectiveness, and focus of ERCOT spending practic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the communication process when seeking the market’s input on the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 better job in educating the market on spending priorities and the process used to reallocate funding via the SR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to the market earlier in decisions affecting market projects </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provide more clarification on issue to meet stakeholders nee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 ERCOT in determining which market groups require greater levels of education and communication as a focu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6"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Satisfac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less satisfied with look, search functionality, ease of finding document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value of resource to Market Participant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dal Market redesign should address many of the issues sited in the surve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what stakeholders want and need as compared to their use of the 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begun plans to replace the tool used to post to the web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rolled out Registered Access which should be an improvement</a:t>
            </a:r>
            <a:endParaRPr b="0" lang="en-US" sz="16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the TASOR Task Force to be involved in order to solicit and gain input on the appropriate stakeholder forum to gain consensus on needed website improvement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if the issues are business or technical regarding improvements</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8"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echnical HelpDes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desk perceived as not being knowledgeable and simply an answering servic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duct a user survey based on users filing tickets and solicit direct feedbac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udy ways to implement improved Helpdesk procedures and processes for assisting stakeholder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 Helpdesk employee suggestions for handling day to day stakeholder concer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LA for Helpdesk</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 to gain clarity on issues for user requirements and needs assessmen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want more consistency in resolution respons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satisfied with Timeliness in processing dispute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ull data on similar disputes and compare consistency of response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racks Timeliness of dispute responses and is within protocols 99.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spot survey ADRs vs. initial dispute respons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COPS to gain clarity on issu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r>
              <a:rPr b="1"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02"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Commun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messages are negatively perceived due to lack of guidance or instructions contained within communication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erform outreach to stakeholders to clarify the issu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the instructional and guidance aspect of communications as part of the checklist in communication prepar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and SLA’s over wide range of topic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s to gain clarity on issue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Managers</a:t>
            </a:r>
            <a:endParaRPr b="1" lang="en-US" sz="20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 Staff members audience of the survey are not familiar with assigned Account Manager and the assistance structure availabl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 in survey ranking due to perceived reduction in attitude/willingness, accuracy and timeliness of response, industry knowledge, and overall expectation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target primary and secondary contacts to promote awareness of Account Manager assignments to stakeholder staff level</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increased site-visits to introduce account management team</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EO/COO will stress importance of stakeholder awareness at new employee orientation</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industry knowledge and expertise in hiring/development</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ress importance of timely interaction and respons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d a significant turnover in 2007 Account Manager assignments and has brought on board several new Account Managers with high skill and industry expertise level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feedback from subcommittees on issue and will ask for quarterly survey responses on account management staff</a:t>
            </a:r>
            <a:endParaRPr b="0" lang="en-US" sz="1600" spc="-1" strike="noStrike">
              <a:solidFill>
                <a:srgbClr val="000000"/>
              </a:solidFill>
              <a:latin typeface="Arial"/>
            </a:endParaRPr>
          </a:p>
          <a:p>
            <a:pPr lvl="2" marL="10285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 </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ettlement Stat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of settlement statements received a very poor rating and should be explored to increase valu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the Nodal Project changes to format will address concern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the market to gain clarity on current statement format</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vs. Detail of Statement</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COPS to give feedback on the current format and any comments on the Nodal design</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8-07-30T13:03:12Z</dcterms:modified>
  <cp:revision>90</cp:revision>
  <dc:subject/>
  <dc:title>Instructions</dc:title>
</cp:coreProperties>
</file>