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51DE-6271-46FB-A1F4-195ACE8611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538F-EEB1-4185-B143-3E215E21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907BD-B411-4DC9-9E7C-4EA5E5D9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C026-0874-496E-844C-20D4DB5A53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614-FAC4-4688-B521-BC09985A97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711-EBE2-4EF8-8AC1-7124F57021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F02-7BD7-4D63-96AF-4F5A1D3E76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F72-1A33-497F-A0C1-07F6376303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060-64E9-49EF-A72F-E70492BB70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CA1-5627-4602-AB66-21DF65981D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143-CA6D-47FE-A159-02774D584B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0157E-70E6-4213-B7B0-91DD8358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9D2-E8CA-4022-B0A3-8EB2CFC326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2A6-65E8-4098-BA83-EF1BCAFBE4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A10-8E31-4BF5-90F4-A781F406AE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2DF-01E7-4F14-8FBB-0224CFE56A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BEF-BB6D-43E9-8B52-BC517F87D1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8D223-9C6E-4BAF-93B1-85139BEFB5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5FDE8-6914-4CEC-956C-EEF003CE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7BF8B-3EC2-49EF-A8AC-DEECACBB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5F99E-4CF1-4250-BA38-9F9D9324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DD880-AC28-481E-80CC-367341AE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1054-771F-48BA-BAC7-AE2D77E7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7EF40-8546-4481-9A93-C3E5725B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12A2C-880C-4256-82E4-FAE10720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56826-210D-4320-AAC7-2B9D4B23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5A7BB-5B1E-4E5F-B0C4-DDBEB5D9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7DB25-0FB6-4C93-A600-E07F2FD5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7A991-BDF2-4248-98B1-6FDBF40E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D1A87-8878-4C9E-B925-56C880850E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0335D-860E-4591-8611-C5DE9A6C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7337-2FC9-4C16-8CDF-96FBE4AE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E855-CE4A-4D80-97FB-03D74A06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6E1B-DED7-49BA-A35B-B73415B9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AA498-3B2E-49EB-A7BA-3F150259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B67E-59E9-473E-B1DB-24133BC2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7E75-6687-4320-985A-3C4545C9C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03CD-1E84-4FBC-B719-D23AAFBE1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B7A3-B19A-415D-8CBC-4624E38F42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 B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irro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Vice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ctober 1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0CB9-D7CD-446F-A73B-32BD306CBF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1371600"/>
            <a:ext cx="769608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PGRR0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le Decision Tree Changes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Renewable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Verdana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WG requests the following mo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at COPS recommend to the TAC approval of LPGRR031 with Urg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PS passed by email vote Urgent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ttp://www.ercot.com/mktrules/issues/lpgrr/025-049/031/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0892-73B6-475A-96E5-88EE5CC588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876920" cy="259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9480" y="4495680"/>
            <a:ext cx="8001000" cy="10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08 meeting da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. 22, Nov. 21 and Dec.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DE73-9E47-4F69-AA1A-7619E5910F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1219320"/>
            <a:ext cx="84582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Updated PWG 2008 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(ranked by Target 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1040" y="2023920"/>
            <a:ext cx="7983360" cy="430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B9EBB-DA31-4C52-8EB2-DE8ECE19DE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b. Distributive Generation load profiling implementation issu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Pending AMR Rule, AMIT and DGT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LPGRR being draf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PGRR031 Profile Decision Tree Changes for DRG (Urgen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. 2008 Annual Valid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n schedu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7. Advanced Metering Implementation LPG changes if need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Pending AMR Rule, AMIT and DGT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PGRR being drafted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13716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tiv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B92F-5F03-462D-A0F4-01D7D81D18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8483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IDR Analysis – 2 issues outstanding from original analys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vember PWG agenda item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Pertains to the minimum IDR requirement final recommendations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additional study using load research dat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AMR Rule, AMIT and DGTF may affect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13716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p-coming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27F1-00FA-4FF9-8B96-FE869828DD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057040"/>
            <a:ext cx="7848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Examine ways to accommodate extreme events in Settlement 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MR Rule, AMIT and DGTF may affect scope and life of load profil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PWG on September 24 proactively discussed how to deal with Hurricane Ike in settlement and arrived at a consensus recommendation to be presented at TAC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quirement for TAC action superseded by PUCT Order 36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13716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ked Projects Y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E0D56-625A-42CB-8B0E-2A6C58325E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1523880"/>
            <a:ext cx="822960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WG was proactive with discussions about Hurricane IKE and UFE at the September 2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ussion points on options we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the shape across the meter read period to better allocate usage by altering backcasted load profiles for affected d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move-out transactions so that no usage would be applied to the affected day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split meter readings to isolate outage periods, e.g., submit a read for 09/13/08 thru 0925/08 with 0 us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ERCOT Data Aggregation process to settle by sub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different usage factors in the ERCOT Data Aggregation process to lower allocation of usage to the affected d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all of the UFE to the Coast weather z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E510-510D-42A5-B06A-620FAB57E9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57280" y="1628640"/>
            <a:ext cx="6229440" cy="44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7CAE-B684-4629-B39A-A239AA42B4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1393920"/>
            <a:ext cx="86104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 Drafts in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o the decision tree the valid profile ID combinations to comply wit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R766 and NPRR136, Interim Solution for 15-Minute Settlement of Advanced Meters for weather sensitive IDR profiles for Resident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On September 24 the PWG completed the draft. Final revisions are being made and shall be filled by the PWG Chair when comple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Expect a voting item for COPS in Dece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C61D-9117-45C5-816E-30BA03AD6D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91540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A943A-33DD-4AEC-9F16-756D53995D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8-10-01T15:01:43Z</dcterms:modified>
  <cp:revision>325</cp:revision>
  <dc:subject/>
  <dc:title>PowerPoint Presentation</dc:title>
</cp:coreProperties>
</file>