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515-C102-473A-B824-5B9AFBA6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148-0824-4478-AD19-3C4870CF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8D4D-5DA9-458F-984B-302BF43D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030-043E-4E27-A958-1CDD3DC6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0D8C-B95D-4CC1-BF26-FCE7289B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807D-60C5-4A31-91E7-DE8C423A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B840-67F8-4127-81FF-EE248B40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48BF-5CD4-42B1-98D1-F3150B54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4ACB-D0DC-4296-9C0A-5759BC3E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20AA-849F-4026-8CC9-7DD8C7F5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6EBB-960E-443C-BA7F-DE4CE9C1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D64-165D-4619-B0C0-CD4B7482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DFA8-1471-4CF2-85B9-F163EDBB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B85E-AFE5-4587-A1DE-DE19EBDA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ACA0-7F21-4E94-8F47-089EFCF3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5915-8A78-4004-83D2-298D3016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1686-62DA-4E74-A036-F9F6F83E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763-45FB-46AD-89F8-5F239BD3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346-A09E-4882-AC99-E542BDEF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0E4-6ACB-49AC-A424-A2914C76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6B3-A4F0-455C-B089-AD40EFE7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602-BCB5-47E0-9586-7F3ADEF8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B9F-E612-4BA3-B656-BCEA8754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1A4-5BEB-45AF-9A4E-B1177BBC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067E-F5EA-4EBF-B139-465CA9321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EBE9-F094-4336-8412-F6BDE9C68B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PMG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ugust 14, 2008 and August 15, 2008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eviewed and Updated COPMG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Updated the COPMG Work Plan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eviewed and Updated Section 8, Sett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s and Inv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iscussed the Development of Several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051D-9E2D-4F9B-AA84-A59538261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October 1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tinue to Develop COPMG for Nod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ith Nodal delayed, CCWG will continue to work on the COPMG and will queue up Sections that are likely to change for a later COPS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ction 8, Settlement Statement and Detail, and Section 12, Renewable Energy Credits, will be reviewed by CCWG October 21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CWG continues to work on other S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B955-103F-4D22-8BEC-AFDD018A2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VO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PMGRR007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, Creating Section 3, Organizational Structur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mpact Analysis – Shows no Impac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PMGRR008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, Alignment of Appendix A with Data Extracts and Reports Service Level Agree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mpact Analysis – Shows no Impac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4303-19E6-4029-9627-749C9413B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21, 2008 at ERC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00am – 3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tion of COPM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555D-0789-42E5-A1A3-5D6D88AD2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08-10-13T20:32:24Z</dcterms:modified>
  <cp:revision>93</cp:revision>
  <dc:subject/>
  <dc:title>CCWG 2006 Accomplishments</dc:title>
</cp:coreProperties>
</file>