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7D396-FC5A-40F3-8345-7346BCB5A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31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3F4CD-26D2-4C05-BBAE-1148A6D78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DE913-F2BE-421A-99DC-97403DAD5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3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3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3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C6F45-278C-4A59-A256-5EFC3A60C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B21FB-41B4-459F-B47B-281988403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731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731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73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73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73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E27E1-B267-4204-A0E1-EC1E0047C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FA1AA-0FBB-4B57-B6A3-98767E8A3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039CB-FD82-4A58-A8D1-6B3F843FF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93979-08CC-4EEA-A5BB-725F7066A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C3DF9-F4B5-47E2-BA9D-7564EB8AF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0703B-AC8B-49B6-8F2B-909EBE3E0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BA35B-CC72-47F1-BF00-3A5174D61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CE96C-3DF9-4F28-BFF3-AF1FAE98E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0AEB9-32CD-4B57-886B-9513F2CA2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7731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58F89-D4A7-4D8D-9D93-444686694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7731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6FBAB-7665-4C63-AA8C-55CDE3726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014AB-36F3-4D8F-850F-E9B7D0395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773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773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773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3D159-6BD4-4C97-A8C1-8760F46A2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326EB-0A57-4681-AB5E-CC43C1E87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731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731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73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73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73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BD167-5366-4719-98F1-0DF13950E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ED0EF-ACDE-41DA-B095-59BCF5246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C1404-220F-468A-926C-4A5548CA3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4BE88-3B14-4278-978C-5F53A1B3D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31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5B063-1FE3-4B5C-BD0D-E00EA9526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4F0DB-8FA5-48AE-9B3B-63FE10672A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6378480"/>
            <a:ext cx="85392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324120" y="6477120"/>
            <a:ext cx="2514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90314-1EF4-4981-B7D4-F1DD23769E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dt" idx="3"/>
          </p:nvPr>
        </p:nvSpPr>
        <p:spPr>
          <a:xfrm>
            <a:off x="1142640" y="640080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D5886-6E45-466D-9077-3823CFD297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7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dt" idx="8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dt" idx="9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ftr" idx="10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990720" y="2641680"/>
            <a:ext cx="716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2009 PPL Re-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October 6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9 Project Planning Update - Background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2009 ERCOT fee case has been withdrawn due to the Nodal Go-Live date change.  This creates a need to reforecast the 2009 PPL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dal deferred projects cannot be executed as originally plann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ation of the Nodal project has resource implications for projects on the 2009 PP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System Administration Fee will remain flat in 200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mits our project fu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al project budget = $27.2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sed project budget = $12.2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DFA61-935B-4F8C-829F-477F453050C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October 6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9 Project Planning Update – Re-planning Effor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POs asked to update 2009 PPL with the following consider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planning purposes, assume Nodal is not delivering in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Nodal schedule is released we will revisit the revised 2009 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won’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 required since Nodal is delay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wi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 required to keep Zonal systems “running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ryover funding needs of currently executing projec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itical nature of ne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funding (and other resources) requires us to limit our project activity to the most critical ite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rve funding for key market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ep 2009 Non-Nodal Projects to a minimu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ish what is sta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start “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ssenti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2009, we will address additional urgent needs as they ari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1E462-FC92-4376-A60D-5368A290D38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October 6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9 Project Planning Update – Approval Schedule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838080" y="685800"/>
          <a:ext cx="8153640" cy="5557680"/>
        </p:xfrm>
        <a:graphic>
          <a:graphicData uri="http://schemas.openxmlformats.org/drawingml/2006/table">
            <a:tbl>
              <a:tblPr/>
              <a:tblGrid>
                <a:gridCol w="720720"/>
                <a:gridCol w="352440"/>
                <a:gridCol w="2318040"/>
                <a:gridCol w="3427200"/>
                <a:gridCol w="133524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tivity / Ev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pected Outcome / Deliverabl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wnershi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311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ctob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nalize 2009 Project Lis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vised 2009 Initiatives Lists from CAR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PO Manager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/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itial review of all Initiatives Lis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ders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/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ecutive Tea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itial review of all Initiatives Lis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oxte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/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P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view and approval of MO Initiatives Lis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derson / Parr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/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view and approval of RO Initiatives Lis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derson / Parr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/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nal Initiatives Lists due to PM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SO exempt due to ROS and WMS meeting timing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PO Manager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/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view and approval of SO Initiatives Lis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derson / Low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ct./Nov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adership Approval Pha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pproved 2009 Initiatives Lis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PO Mgrs / Anders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/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nal review and approval of all Initiatives Lis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ders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/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ecutive Tea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nal review and approval of all Initiatives Lis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oxte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/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nance &amp; Audit Committe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itial review of 2009 prioritization proces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oxte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/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view and approval of SO Initiatives Lis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derson / Low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/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nal review and approval of complete Initiatives Lis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PO Mgrs / Anders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/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view of market subcommittee approval results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ders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/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ecutive Tea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view of market subcommittee approval results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oxte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/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nal review and approval of all Initiatives Lis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ders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/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nance &amp; Audit Committe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nal review and approval of all Initiatives Lis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oxte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/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oard of Director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nal review and approval of all Initiatives Lis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arnei / Troxte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7057C-2EB2-43BC-A1DC-9B5619FE791E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October 6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9 Project Planning Update – Top Risks/Constraint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ource Contention with Nod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duced Capital Project Budge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mited Data Center Capac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ready at full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relief until MET Center Disposition Project delivers more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ly not until 4Q2010 or 1Q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s we potentially can’t “plug-in” another server until relief is real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CD9A2-EBFD-4331-814B-C78C67DBAF1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October 6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9 Project Planning Update – DRAFT Summary by CAR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241200" y="4724280"/>
          <a:ext cx="8457840" cy="381240"/>
        </p:xfrm>
        <a:graphic>
          <a:graphicData uri="http://schemas.openxmlformats.org/drawingml/2006/table">
            <a:tbl>
              <a:tblPr/>
              <a:tblGrid>
                <a:gridCol w="2075760"/>
                <a:gridCol w="1922040"/>
                <a:gridCol w="2153520"/>
                <a:gridCol w="23065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 CO – Met Cen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20,4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20,4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      0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0" name=""/>
          <p:cNvSpPr/>
          <p:nvPr/>
        </p:nvSpPr>
        <p:spPr>
          <a:xfrm>
            <a:off x="228600" y="5410080"/>
            <a:ext cx="5410080" cy="5335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200880" indent="-200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*    Revised 2009 budget is $12.2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0880" indent="-200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**  Met Center project is funded by a separate budget line i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228600" y="1066680"/>
          <a:ext cx="8458200" cy="3202200"/>
        </p:xfrm>
        <a:graphic>
          <a:graphicData uri="http://schemas.openxmlformats.org/drawingml/2006/table">
            <a:tbl>
              <a:tblPr/>
              <a:tblGrid>
                <a:gridCol w="2075040"/>
                <a:gridCol w="1923840"/>
                <a:gridCol w="2152800"/>
                <a:gridCol w="230652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l 2009 Bu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sed Draft 2009 Bu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3,55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2,75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$    800,000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8,35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5,525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$  2,825,0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4,3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575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$  3,725,0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3,5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2,95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$    550,0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7,5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900,0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$  6,600,0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27,2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* $ 12,7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$ 14,500,0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E07FD-E4AF-4432-9F4E-5090C584E454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October 6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9T12:55:16Z</dcterms:created>
  <dc:creator>Rob Connell</dc:creator>
  <dc:description/>
  <dc:language>en-US</dc:language>
  <cp:lastModifiedBy>Troy Anderson</cp:lastModifiedBy>
  <dcterms:modified xsi:type="dcterms:W3CDTF">2008-10-07T22:39:26Z</dcterms:modified>
  <cp:revision>94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