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AEF-1D0E-408A-B0F6-DFE538A2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160-9330-4675-B9BB-3159844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5C7-2F84-4FBF-8B19-1A05EA75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91A-9039-48F3-9D7B-60B2EADC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C8B-BF8E-4821-B7B0-F368BA66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764-6D51-4716-A1E8-BA7CBD5F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18A4-A184-4FC6-AA91-BFE5AA2F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07DF-71F9-405E-818A-A852A75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352-FEA1-4AAD-91FA-BBA08C3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3545-B11F-4F6C-A39E-811851D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7A3-B1CE-4737-98C9-A1C1402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36A-7097-40B7-AA18-A9805F9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99F-729F-4DB7-A136-1E58D65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D99D-5BE4-4D7C-9EA7-2D8927E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B48-2D17-4915-9622-77B59B6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0B6F-00C9-435A-9DE1-11561658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0798-78D4-4442-AE3D-68AAE712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CF6-B231-4331-92E5-1F6105A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899-891D-41C9-B3F2-B9A5CD46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6B9-5DBB-4E83-956A-EE48DE4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3D2-440F-4E47-8BA0-2E8078A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A1D-BBF3-4F18-9BEC-F706B162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92C-6E7F-4D0B-8548-C7BB1E6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567-A922-4622-A204-DC45965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8BA-ED79-4862-AFD2-7B4CA96A07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377-CC3F-491A-8034-7A872195A1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914400"/>
            <a:ext cx="7848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ugust 22</a:t>
            </a:r>
            <a:r>
              <a:rPr b="0" lang="en-US" sz="5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TAC and Subcommittee Leadership Retr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ctober 14,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odal Program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 Hinsley gave Nodal Program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integrate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only had separate plans, therefore could not identify critical path 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esting and releases are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hanges (NPRR) will now be approved by 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view detailed list of issues at Aug 28 closed session B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date will be provided with many caveats and a date range; TPTF Sep 8; TAC: Oct 2; BOD: Oct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 since TAC Retre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CT is updating the cost-benefit study by year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ll expected to be 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CT directed ERCOT to stop working on timeline until CB comple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dates on hold.  Will develop new dates in January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MP Surv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conducted a survey to gain a perspective from the market as to the level in which ERCOT was meeting its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 instructed ERCOT to develop an action plan to address areas of performance identified in the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ill collect all recommendations/feedback from TAC and begin to develop improvement effo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 will parse out action items to appropriate subcommittee -COPS assign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ispute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ormat of Settlemen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ata Extracts &amp;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ill update BOD on action planning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AS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t WG gover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onize subcommittee vot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MP and observer participation more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Ex or broadcasting mee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Working Group on Wind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to TAC, with WMS and ROS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for TAC Chair to get big picture to report to BOD and PU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C wants quarterly reports; Board wants updates; Legislature in town in Jan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huck Moore</cp:lastModifiedBy>
  <dcterms:modified xsi:type="dcterms:W3CDTF">2008-10-06T15:14:14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4325368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