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53DFC-C8C6-4C5D-BCC1-D07E36CC1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FE3B9-3CA3-4B1E-8DC2-D6EC71225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6B869-587C-4C14-935B-F97D2D6A7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99A10-9428-4BE3-A290-9F44FDEED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3AC12-E101-44E0-B72D-9DE106A96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8C19B-C2F8-4C30-8AEF-33581D1EA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4894F-C486-465A-B03D-91287D2FB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3F474-FEF0-47B7-A0B1-1EECA20D9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C97C3-CEC4-4CC7-A6BB-D7C427926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84094-BDE8-4B6D-9012-CC51B26FA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6ACE5-98BD-4697-946F-58C0418B7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29AAC-C20D-41DC-9EF8-5767B533E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C2289-1256-4474-885C-25AB69CF5A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ail Market Sub Committ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tober 15,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2333520" y="5466960"/>
            <a:ext cx="2619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ctober 15, 2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2333160" y="5067360"/>
            <a:ext cx="60483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tail Market Subcommittee Me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Flight Testing Updat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RMS Upda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08/09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90440" y="195120"/>
            <a:ext cx="7932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light 1008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" name=""/>
          <p:cNvSpPr/>
          <p:nvPr/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9480" y="1219320"/>
            <a:ext cx="82296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33520" y="1219320"/>
            <a:ext cx="82296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ta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ght Kick-Off Conference Call will be 10/17/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ght scheduled to begin with Day 1 transactions flowing on 10/20/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etrak Testing scheduled to begin on 12/01/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ght 1008 scheduled to conclude on 12/02/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ngency Testing scheduled to conclude on 12/23/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MS Upda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8/09/2006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90440" y="195120"/>
            <a:ext cx="7932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light 1008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" name=""/>
          <p:cNvSpPr/>
          <p:nvPr/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09480" y="1219320"/>
            <a:ext cx="82296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33520" y="1066680"/>
            <a:ext cx="8229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light Manif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TDS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 New CRs – 45 New Relationships; 7 Existing C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Existing CRs testing Bank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Existing CR testing Change of Service Provider (Established S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CRs adding new territories (6 new relationshi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277 Total Task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 CRs and 4 TDSPs testing Marketr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MS Upda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8/09/2006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gres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nectivity status – ERCOT 100%; Point to Point 95%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NP requested and was granted a waiver from participating in transaction testing during Flight 1008.  CNP is focusing all resources on the restoration efforts related to Hurricane Ike.  Once a CR completes testing with another TDSP, CNP will consider them to be certified in their territory as well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1090440" y="195120"/>
            <a:ext cx="7932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light 1008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MS Upda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8/09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gcervenka</cp:lastModifiedBy>
  <dcterms:modified xsi:type="dcterms:W3CDTF">2008-10-08T12:58:19Z</dcterms:modified>
  <cp:revision>98</cp:revision>
  <dc:subject/>
  <dc:title>Instructions</dc:title>
</cp:coreProperties>
</file>