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1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4C0B-D93D-494F-AA62-1344142A9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3447-BBBD-4A8E-8CC0-AC96755C8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6F47-572C-4622-BE88-C7FDEF1B7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/o SLA Exc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= 98.64%, TML = 98.4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/O SLA Exception, Retail = 98.52%, TML = 95.3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61D56-6101-410E-A163-1D63887870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5888A-E3BF-440F-8468-ADB02EAD2D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47899-4CC1-461C-9051-E95426E19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9FDBD-1705-447C-8B17-26A256B9F1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BD92B-0F52-4483-BED5-C03F680434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510F6-D48B-4E92-988A-53FE5E902C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6E137-8BDF-45B4-94CA-DB3F3E05EA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E947F-CB32-4A26-97F5-9FB6D68996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168F6-A679-4BA9-8FF4-8F37FEA286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BCA31-9E2B-425D-B0D3-32D204571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BEED5-7F3D-402A-AB36-EDAFD56DA3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C7A7E-C656-40A3-B04E-FF9ED35808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2A86-6981-4405-9901-D34524B20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657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3A4A-F88D-4026-A49D-31CB78A9F6E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formation Technolog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rvice Availability Metr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43240" y="320004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October 2008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2438280" y="487692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ey Fel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Account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 and Comment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ail and Wholesale Systems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ail Transaction Process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year to date performance continues to be below the service level target; however for the month of September, system availability was at 100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ML, MarkeTrak, TML Report Explorer, and Retail AP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year to date performance continues to be above the service level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lesa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September system performance was 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8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7881840" cy="515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2619360" y="2133720"/>
          <a:ext cx="2265480" cy="318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19360" y="2133720"/>
                    <a:ext cx="2265480" cy="31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276720" y="2143080"/>
          <a:ext cx="2265120" cy="318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76720" y="2143080"/>
                    <a:ext cx="2265120" cy="31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3295800" y="3048120"/>
            <a:ext cx="533160" cy="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685800"/>
          <a:ext cx="304920" cy="272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85800"/>
                    <a:ext cx="304920" cy="27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228600" y="666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LA Ex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ptember 2008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15280" cy="482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2496960" y="2352600"/>
          <a:ext cx="532080" cy="281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96960" y="2352600"/>
                    <a:ext cx="5320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514600" y="2514600"/>
            <a:ext cx="533520" cy="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191040" y="2362320"/>
          <a:ext cx="531720" cy="2809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91040" y="2362320"/>
                    <a:ext cx="531720" cy="28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3200400" y="2781360"/>
            <a:ext cx="533520" cy="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685800"/>
          <a:ext cx="304920" cy="272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85800"/>
                    <a:ext cx="304920" cy="27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228600" y="666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LA Ex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96080" cy="536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2514600" y="2705040"/>
          <a:ext cx="617400" cy="312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2705040"/>
                    <a:ext cx="61740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105000" y="2457360"/>
          <a:ext cx="4913640" cy="542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05000" y="2457360"/>
                    <a:ext cx="49136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720720" y="838080"/>
            <a:ext cx="7889760" cy="530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2327400" y="1905120"/>
          <a:ext cx="2606400" cy="394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27400" y="1905120"/>
                    <a:ext cx="2606400" cy="39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943360" y="2590920"/>
          <a:ext cx="4913280" cy="542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43360" y="2590920"/>
                    <a:ext cx="49132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2933640" y="2124000"/>
          <a:ext cx="4837320" cy="542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33640" y="2124000"/>
                    <a:ext cx="48373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2952720" y="3124080"/>
            <a:ext cx="46483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rak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70904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Report Explorer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 October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420840" y="838080"/>
            <a:ext cx="83023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API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514440" y="838080"/>
            <a:ext cx="8115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felton</cp:lastModifiedBy>
  <dcterms:modified xsi:type="dcterms:W3CDTF">2008-10-08T13:34:37Z</dcterms:modified>
  <cp:revision>158</cp:revision>
  <dc:subject/>
  <dc:title>Instructions</dc:title>
</cp:coreProperties>
</file>